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6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5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32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B13-6BA5-403D-A21E-3E74AEDE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751-444F-4D92-9390-F6483859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9A9-EBFC-45EF-B567-A0E35A43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F0E-F9F7-425B-BE82-21F74329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C19-8D3E-4318-BF31-FC36D146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BE6-CA91-47C0-817C-FD0F044E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D7E-5ADB-41C6-BED2-2381B27F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095-7FA8-4724-8186-5CC56FA5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D04-A315-459A-BAAD-B0371095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204-BC13-4F89-A563-EAB2A79A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2B5-B26F-4317-97AE-F93F585A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DCA-D997-4280-B022-271DCBC2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15B1-9EA1-41F8-96F7-AEFE1BA84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6002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PUTNU KLASES VISPĀRĪGS RAKSTUROJ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Ķermeņa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idošanai, nir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spārnu, astes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8380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Nervu sistē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smadzeņu lielās pusl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edzes da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smadzenī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aņu orgā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ba dzirde (īpaši pūcē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ba red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divkāršā akomod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nokulāra un monokulāra red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oža – vā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x" descr=""/>
          <p:cNvPicPr/>
          <p:nvPr/>
        </p:nvPicPr>
        <p:blipFill>
          <a:blip r:embed="rId1"/>
          <a:stretch/>
        </p:blipFill>
        <p:spPr>
          <a:xfrm>
            <a:off x="2475000" y="11811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66" name="pix" descr=""/>
          <p:cNvPicPr/>
          <p:nvPr/>
        </p:nvPicPr>
        <p:blipFill>
          <a:blip r:embed="rId2"/>
          <a:stretch/>
        </p:blipFill>
        <p:spPr>
          <a:xfrm>
            <a:off x="2475000" y="5311800"/>
            <a:ext cx="11160" cy="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52480" y="3962520"/>
          <a:ext cx="640080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62520"/>
                    <a:ext cx="640080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lvp_asiotu3" descr=""/>
          <p:cNvPicPr/>
          <p:nvPr/>
        </p:nvPicPr>
        <p:blipFill>
          <a:blip r:embed="rId3"/>
          <a:stretch/>
        </p:blipFill>
        <p:spPr>
          <a:xfrm>
            <a:off x="1143000" y="762120"/>
            <a:ext cx="2117880" cy="2819160"/>
          </a:xfrm>
          <a:prstGeom prst="rect">
            <a:avLst/>
          </a:prstGeom>
          <a:ln w="0">
            <a:noFill/>
          </a:ln>
        </p:spPr>
      </p:pic>
      <p:pic>
        <p:nvPicPr>
          <p:cNvPr id="70" name="lvp_embcit-T" descr=""/>
          <p:cNvPicPr/>
          <p:nvPr/>
        </p:nvPicPr>
        <p:blipFill>
          <a:blip r:embed="rId4"/>
          <a:stretch/>
        </p:blipFill>
        <p:spPr>
          <a:xfrm>
            <a:off x="3657600" y="1143000"/>
            <a:ext cx="2205000" cy="22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6248520" y="1447920"/>
          <a:ext cx="2600280" cy="156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447920"/>
                    <a:ext cx="260028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066680"/>
            <a:ext cx="61722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Spalvu tērps un tā funkc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ķermeņa form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ido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termoregulācij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maskē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uzmanības pievēr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(mātīte, tēviņš, baru put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876920" y="1371600"/>
          <a:ext cx="18097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371600"/>
                    <a:ext cx="18097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934320" y="380880"/>
          <a:ext cx="1866960" cy="591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380880"/>
                    <a:ext cx="186696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lvp_aytnyr-T-fly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8066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04920" y="380880"/>
          <a:ext cx="7086600" cy="541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708660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162920" y="2133720"/>
          <a:ext cx="154296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2133720"/>
                    <a:ext cx="15429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685800"/>
            <a:ext cx="4572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Pārvietošanās ve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idojuma veidi (aktīvā un pasīvā planēšana, barošanās lidojums, migrācijas u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ir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4805280"/>
          <a:ext cx="685800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805280"/>
                    <a:ext cx="68580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105520" y="304920"/>
          <a:ext cx="337032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920"/>
                    <a:ext cx="3370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28600" y="1600200"/>
          <a:ext cx="8593200" cy="34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59320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048120" y="2362320"/>
          <a:ext cx="281916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362320"/>
                    <a:ext cx="281916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590920" y="563868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17524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17524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5638680"/>
            <a:ext cx="381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581280" y="4724280"/>
          <a:ext cx="167652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724280"/>
                    <a:ext cx="16765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181480" y="5486400"/>
            <a:ext cx="381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6087960"/>
            <a:ext cx="304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2549520"/>
            <a:ext cx="9144000" cy="1738440"/>
            <a:chOff x="0" y="2549520"/>
            <a:chExt cx="9144000" cy="1738440"/>
          </a:xfrm>
        </p:grpSpPr>
        <p:sp>
          <p:nvSpPr>
            <p:cNvPr id="102" name=""/>
            <p:cNvSpPr/>
            <p:nvPr/>
          </p:nvSpPr>
          <p:spPr>
            <a:xfrm>
              <a:off x="0" y="2549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2549520"/>
              <a:ext cx="91440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0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foot02" descr=""/>
          <p:cNvPicPr/>
          <p:nvPr/>
        </p:nvPicPr>
        <p:blipFill>
          <a:blip r:embed="rId5"/>
          <a:stretch/>
        </p:blipFill>
        <p:spPr>
          <a:xfrm>
            <a:off x="685800" y="3808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2549520"/>
            <a:ext cx="9144000" cy="1738440"/>
            <a:chOff x="0" y="2549520"/>
            <a:chExt cx="9144000" cy="1738440"/>
          </a:xfrm>
        </p:grpSpPr>
        <p:sp>
          <p:nvSpPr>
            <p:cNvPr id="107" name=""/>
            <p:cNvSpPr/>
            <p:nvPr/>
          </p:nvSpPr>
          <p:spPr>
            <a:xfrm>
              <a:off x="0" y="2549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549520"/>
              <a:ext cx="91440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0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foot03" descr=""/>
          <p:cNvPicPr/>
          <p:nvPr/>
        </p:nvPicPr>
        <p:blipFill>
          <a:blip r:embed="rId6"/>
          <a:stretch/>
        </p:blipFill>
        <p:spPr>
          <a:xfrm>
            <a:off x="3733920" y="3049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2549520"/>
            <a:ext cx="9144000" cy="1738440"/>
            <a:chOff x="0" y="2549520"/>
            <a:chExt cx="9144000" cy="1738440"/>
          </a:xfrm>
        </p:grpSpPr>
        <p:sp>
          <p:nvSpPr>
            <p:cNvPr id="112" name=""/>
            <p:cNvSpPr/>
            <p:nvPr/>
          </p:nvSpPr>
          <p:spPr>
            <a:xfrm>
              <a:off x="0" y="2549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2549520"/>
              <a:ext cx="91440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0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foot05" descr=""/>
          <p:cNvPicPr/>
          <p:nvPr/>
        </p:nvPicPr>
        <p:blipFill>
          <a:blip r:embed="rId7"/>
          <a:stretch/>
        </p:blipFill>
        <p:spPr>
          <a:xfrm>
            <a:off x="6781680" y="45720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2549520"/>
            <a:ext cx="9144000" cy="1738440"/>
            <a:chOff x="0" y="2549520"/>
            <a:chExt cx="9144000" cy="1738440"/>
          </a:xfrm>
        </p:grpSpPr>
        <p:sp>
          <p:nvSpPr>
            <p:cNvPr id="117" name=""/>
            <p:cNvSpPr/>
            <p:nvPr/>
          </p:nvSpPr>
          <p:spPr>
            <a:xfrm>
              <a:off x="0" y="2549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2549520"/>
              <a:ext cx="91440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0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foot06" descr=""/>
          <p:cNvPicPr/>
          <p:nvPr/>
        </p:nvPicPr>
        <p:blipFill>
          <a:blip r:embed="rId8"/>
          <a:stretch/>
        </p:blipFill>
        <p:spPr>
          <a:xfrm>
            <a:off x="609480" y="457200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2549520"/>
            <a:ext cx="9144000" cy="1738440"/>
            <a:chOff x="0" y="2549520"/>
            <a:chExt cx="9144000" cy="1738440"/>
          </a:xfrm>
        </p:grpSpPr>
        <p:sp>
          <p:nvSpPr>
            <p:cNvPr id="122" name=""/>
            <p:cNvSpPr/>
            <p:nvPr/>
          </p:nvSpPr>
          <p:spPr>
            <a:xfrm>
              <a:off x="0" y="2549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2549520"/>
              <a:ext cx="91440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0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foot08" descr=""/>
          <p:cNvPicPr/>
          <p:nvPr/>
        </p:nvPicPr>
        <p:blipFill>
          <a:blip r:embed="rId9"/>
          <a:stretch/>
        </p:blipFill>
        <p:spPr>
          <a:xfrm>
            <a:off x="6629400" y="46483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352680" y="6019920"/>
            <a:ext cx="609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685800"/>
            <a:ext cx="4343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Fizioloģiskās īpatn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ļoti intensīva vielumaiņ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termoregulācijas īpatn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tauku uzkrāšanās migrāciju, ziemas laik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838080" y="193680"/>
            <a:ext cx="80010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PUTNU EVOLŪ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aleozoja ēras Permas 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- diapsīdie rāpuļ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Mezozoja ēras Triasa 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arhozauri, t.sk. Pseidozuh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Triasa beigās vai Juras perioda                             sākumā (pirms 190-170 milj. ga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- put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1)pastāvīga ķermeņa temperatūra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2)uzvedības attīst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495680" y="685800"/>
          <a:ext cx="441972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685800"/>
                    <a:ext cx="441972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762120"/>
            <a:ext cx="38862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Ligzdotā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omet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lejotā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ceļotāji, daļēji ceļotā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Caurceļotā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Ziemas vi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aldu vi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838080"/>
            <a:ext cx="4038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Uzvedības īpatn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āri, teritor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ūpes par mazuļ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228600"/>
            <a:ext cx="72388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Sezonālās izmaiņas putnu dzīvē – vides sezonālo izmaiņu atspoguļoju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oteicošais faktors - bar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erio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migrāc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vairošan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teritorijas aizņemšana, riests, ligzdas,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mazuļu attīstī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ēcligzdoš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spalvu maiņ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5791320" y="3429000"/>
          <a:ext cx="292392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429000"/>
                    <a:ext cx="292392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-228600" y="457200"/>
            <a:ext cx="54864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Vairošanās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igzdošanas lai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Teritorijas aizņemšana un tās nozī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iests un tā bioloģiskā nozī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Monogāmija un poligām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-display" descr=""/>
          <p:cNvPicPr/>
          <p:nvPr/>
        </p:nvPicPr>
        <p:blipFill>
          <a:blip r:embed="rId1"/>
          <a:stretch/>
        </p:blipFill>
        <p:spPr>
          <a:xfrm>
            <a:off x="6058080" y="3809880"/>
            <a:ext cx="2489040" cy="2656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2280" y="533520"/>
            <a:ext cx="5867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igzdas un 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Mazuļu attīstība, ligzdguļi un ligzdbēgļ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ieaugušo putnu rūpes par jaunaj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Dējumu un perējumu bojāeja, jauno putnu mirst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rwbb5" descr="rwbb5.jpg (13065 bytes)"/>
          <p:cNvPicPr/>
          <p:nvPr/>
        </p:nvPicPr>
        <p:blipFill>
          <a:blip r:embed="rId2"/>
          <a:stretch/>
        </p:blipFill>
        <p:spPr>
          <a:xfrm>
            <a:off x="5410080" y="380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609480"/>
            <a:ext cx="7620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iotopu izvē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utniem – faktoru su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ainava un relj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igzdošanas, dziedāšanas, novērošanas, barošanās un dzeršanas vi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ar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citi dzīvnieki, sociālais faktors daļ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Saistību ar biotopu pastiprina saistība ar izvēlēto vietu, īpaši pieaugušiem putn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85800"/>
            <a:ext cx="84582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Putni dažādās ekosistēmās, putnu ekoloģiskās gru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mež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agroainav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iekšējos ūdeņos un mitrzemē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jūr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arības sastā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au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dzīvnieki – bezmugurkaul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mugurkaul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609480"/>
            <a:ext cx="4647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ējuma lielums putn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determinēts vai nedeterminē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daudz olu dējumā vai vairākas perēšanas re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fizioloģiskās iespē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termoregul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lēsonības ietek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rwbb4" descr="rwbb4.jpg (17944 bytes)"/>
          <p:cNvPicPr/>
          <p:nvPr/>
        </p:nvPicPr>
        <p:blipFill>
          <a:blip r:embed="rId1"/>
          <a:stretch/>
        </p:blipFill>
        <p:spPr>
          <a:xfrm>
            <a:off x="5334120" y="3657600"/>
            <a:ext cx="3417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06668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Ligzdošanas sekme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var būt atkarīgas 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topa ve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topu teritoriālā sadalījuma un proporcij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lēsēju sugu klātbūt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opulācijas blīv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limatiskajiem apstākļ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68580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Putnu migrāc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āpēc putni migrē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Ietekmējošie fak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7621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2280" y="457200"/>
            <a:ext cx="41148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Skeleta īpatn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viegls, izturī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daudz saauguši ka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ustīgs kakla reģ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ūšu kaula ķī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riekšējo ekstremitāšu īpatn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esaauguši iegurņa ka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959280" y="0"/>
          <a:ext cx="518472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0"/>
                    <a:ext cx="518472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772400" y="8380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114300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1523880"/>
            <a:ext cx="1600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152388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533520"/>
            <a:ext cx="81532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Putnu pētīj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Uzska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Iezīm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Gredzenošan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ās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telemetr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migrāciju pētī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demogrāfijas pētī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opulāciju ekoloģijas pētīj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ring1c" descr="Rings"/>
          <p:cNvPicPr/>
          <p:nvPr/>
        </p:nvPicPr>
        <p:blipFill>
          <a:blip r:embed="rId1"/>
          <a:stretch/>
        </p:blipFill>
        <p:spPr>
          <a:xfrm>
            <a:off x="4343400" y="1752480"/>
            <a:ext cx="4419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380880"/>
            <a:ext cx="8076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Putnu aizsardz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nozīme Eiropā un pasaulē apdraudētu sugu aizsardzīb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Migrējošo un ziemojošo putnu aizsardz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vp_cicnig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4572000" cy="3040200"/>
          </a:xfrm>
          <a:prstGeom prst="rect">
            <a:avLst/>
          </a:prstGeom>
          <a:ln w="0">
            <a:noFill/>
          </a:ln>
        </p:spPr>
      </p:pic>
      <p:pic>
        <p:nvPicPr>
          <p:cNvPr id="146" name="lvp_denleu" descr=""/>
          <p:cNvPicPr/>
          <p:nvPr/>
        </p:nvPicPr>
        <p:blipFill>
          <a:blip r:embed="rId2"/>
          <a:stretch/>
        </p:blipFill>
        <p:spPr>
          <a:xfrm>
            <a:off x="5943600" y="2590920"/>
            <a:ext cx="25066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-228600" y="-228600"/>
          <a:ext cx="11810880" cy="714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-228600"/>
                    <a:ext cx="11810880" cy="71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143000" y="990720"/>
          <a:ext cx="701028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701028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14600"/>
            <a:ext cx="42670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uskulatū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vairāk diferencēta nekā rāpuļ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ūšu musku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zematslēgas musku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āju muskulatū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228600"/>
          <a:ext cx="32385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3238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800600" y="762120"/>
          <a:ext cx="419256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762120"/>
                    <a:ext cx="41925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41148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Gremošanas orgā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av zo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augēdājiem gu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dziedzerkuņģis, muskuļkuņģ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12-pirkstu zarna, resnā za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loā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arošanās īpatn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838080"/>
            <a:ext cx="3962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Elpošanas orgā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laušas + 9 gaisa ma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divkāršā elp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ap. balsene (syrinx) – skaņu av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838080"/>
            <a:ext cx="4343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sinsrites sistē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četrkambaru sirds – venozās un arteriālās asinis nesajau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pastāvīga un augsta ķermeņa temperatūra       (vid. 41-42</a:t>
            </a:r>
            <a:r>
              <a:rPr b="0" lang="lv-LV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daudz eritrocī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838080"/>
            <a:ext cx="4419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Izvadorgā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ļoti lielas ni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urīnvadi atveras kloākā (ūdens uzsūcas), urīns biezs, nav urīnpūšļ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av sviedru dziedz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4572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Vairošanās orgā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tēviņiem sēklinieki pie nierēm – izmēri mainās sezonā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mātītēm kreisā olnī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olu attīst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2:12:09Z</dcterms:created>
  <dc:creator>Ilze Vilks</dc:creator>
  <dc:description/>
  <dc:language>en-US</dc:language>
  <cp:lastModifiedBy>Ilze Vilks</cp:lastModifiedBy>
  <dcterms:modified xsi:type="dcterms:W3CDTF">2003-05-05T21:14:57Z</dcterms:modified>
  <cp:revision>66</cp:revision>
  <dc:subject/>
  <dc:title>PowerPoint Presentation</dc:title>
</cp:coreProperties>
</file>