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42492"/>
                </a:solidFill>
                <a:latin typeface="Tahoma"/>
              </a:rPr>
              <a:t>Click to move the slide</a:t>
            </a:r>
            <a:endParaRPr b="0" lang="en-US" sz="4400" spc="-1" strike="noStrike">
              <a:solidFill>
                <a:srgbClr val="242492"/>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C7EF0-A38F-46CC-A040-9EB2B3DFCF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arter slide.</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vite MS’s to make their technical interventions at the end of the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MS’s to raise to intervene as we go if they are having difficulties understanding the pres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ption C – what class the water body would receive under option C.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Not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should say why this option is only advisable if you want to make totally sure you do no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iss any zones of degradation. But the disadvantage is that you miss large zones where th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quality is actually very good.  </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ption D – splitt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Not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we are certain there is a change in status within a water body we might decide to split th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ter body up into small water bodie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ut first we’d need to be confident that there is a change of status not just for one qualit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lement but for two or more. And that the change is then constant. We don’t want to split water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odies that show: Good – Moderate – Good, we would only be interested where the change i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re definite; i.e. Good – Poor.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plitting water bodies leaves us with a technical challenge – how do we re-draw the catchmen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d do we need to review the typology, risk assessment and so on?</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hich option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purpose of this slide is to make it clear that each MS will chose option A, B or C depending upon a number of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the method for delineating water bodies, was water quality taken into accou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WFD monitoring strategy; MS may have decided to use one assessment station per water bod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 pre-WFD monitoring; evidence of variations in status will only be available if MSs have good historic monitoring programm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at ever the decision, we recommend that MS consider how much of a water body is allowed to fail GES. The UK will use a 15 per cent or 1.5km threshold.</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significant impact – a checking procedu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Not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he UK, whether we chose option A, B, C or D, we would also apply an extra step to check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haven’t mis-classified a water body where there is a small, but significant, zone showing a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terioration of statu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are thinking of setting some initial rul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more than 15 per cent or 1.5 km of a river water body has a lower class, we must report the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ter body using this lower clas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less than 15 per cent or 1.5 km, we would report the status based on the majority of the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ter body.</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ollowing on from last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extra rule would also help us, as regulators, to make decisions on future water quality scenar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 we see abov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can also apply this test to coastal and transitional water bodies as shown (from Dave Jowett).</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rou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plain why grouping is needed and how we’ve interpreted the language of the WFD (page 54, 1.3.2, selection of monitoring si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ve used this to help us target our finite monitor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k MS whether they have looked into grouping and whether they have succeed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rouping results. </a:t>
            </a:r>
            <a:r>
              <a:rPr b="0" lang="en-GB" sz="1200" spc="-1" strike="noStrike">
                <a:solidFill>
                  <a:srgbClr val="000000"/>
                </a:solidFill>
                <a:latin typeface="Arial"/>
              </a:rPr>
              <a:t>How we’ve grouped, at what level are we extrapolating status (EQR, QE, overall status) and how we are proposing to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rouping results. </a:t>
            </a:r>
            <a:r>
              <a:rPr b="0" lang="en-GB" sz="1200" spc="-1" strike="noStrike">
                <a:solidFill>
                  <a:srgbClr val="000000"/>
                </a:solidFill>
                <a:latin typeface="Arial"/>
              </a:rPr>
              <a:t>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voking discu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voking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patial variation. Why is this a problem for a regulat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ere is a water body. It is at good status – no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some point in the future a new factory is built. It applies for a permit to discharge its effluent into the ri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 a regulator we need to know if the water body will be  worse than goo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need to ask the following question – what is a significant spatial impa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nd this leads us on to a more general point – how do we account for variability within a water bod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ater bodies in the context of England and Wales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llows on from slide 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are lots of water bodies in E&amp;W where we have more than one assessment 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its size, E&amp;W has a high number of water bodies compared to other Member States. The UK has a comparatively high population density that results in significant variations in environmental pressures within catch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ven with a high number of water bodies, there is significant variation in status within them. We know this because of our comprehensive monitoring programmes that have been in place for 20-30 year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tting the scene. </a:t>
            </a:r>
            <a:r>
              <a:rPr b="0" lang="en-GB" sz="1200" spc="-1" strike="noStrike">
                <a:solidFill>
                  <a:srgbClr val="000000"/>
                </a:solidFill>
                <a:latin typeface="Arial"/>
              </a:rPr>
              <a:t>This slide will be used to help MS’s consider how they have treated water bodies. Have they decided that status within a water body is constant or have they considered spatial variation? Do they have sufficient monitoring in place to find these variations?).</a:t>
            </a:r>
            <a:r>
              <a:rPr b="1" lang="en-GB" sz="1200" spc="-1" strike="noStrike">
                <a:solidFill>
                  <a:srgbClr val="000000"/>
                </a:solidFill>
                <a:latin typeface="Arial"/>
              </a:rPr>
              <a:t> </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FD does not describe how to designate water bodies. Even within the UK there are differences in approach (between Scotland and E&amp;W). The method that each MS chose to delineate water bodies may be a reflection of regional population pressures and land us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England and Wales water bodies were designated using hydrological data on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means that we have many water bodies where there are known variations in ecological quality. This leaves us a problem – how do we account for the variations in a water body when we aggregate to water body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hat is the question</a:t>
            </a:r>
            <a:r>
              <a:rPr b="0" lang="en-GB" sz="1200" spc="-1" strike="noStrike">
                <a:solidFill>
                  <a:srgbClr val="000000"/>
                </a:solidFill>
                <a:latin typeface="Arial"/>
              </a:rPr>
              <a:t>: This slide will be used to provoke discussion and interventions on what answer we are looking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 We might want only to report an overall status – aggregating monitoring station results to water body statu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 We might want to report the status of the water body by using the results from the worst performing monitoring s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 We might set a spatial target, e.g. that if 15% of a water body is less than good status, we will classify using that compon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ich of three questions we are asking will depend upon what we want to do with the results. Do we want to identify every possible environmental problem in every water body? Do we want classification results to help prioritise programmes of meas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tting the local scene: </a:t>
            </a:r>
            <a:r>
              <a:rPr b="1" lang="en-GB" sz="1200" spc="-1" strike="noStrike" u="sng">
                <a:solidFill>
                  <a:srgbClr val="000000"/>
                </a:solidFill>
                <a:uFillTx/>
                <a:latin typeface="Arial"/>
              </a:rPr>
              <a:t>Will improve this map</a:t>
            </a:r>
            <a:r>
              <a:rPr b="1" lang="en-GB" sz="1200" spc="-1" strike="noStrike">
                <a:solidFill>
                  <a:srgbClr val="000000"/>
                </a:solidFill>
                <a:latin typeface="Arial"/>
              </a:rPr>
              <a:t>. </a:t>
            </a:r>
            <a:r>
              <a:rPr b="0" lang="en-GB" sz="1200" spc="-1" strike="noStrike">
                <a:solidFill>
                  <a:srgbClr val="000000"/>
                </a:solidFill>
                <a:latin typeface="Arial"/>
              </a:rPr>
              <a:t>This catchment shows a strong variation in qu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ater body we have chosen is at the bottom, it is over 30 km long. There is an obvious step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upstream part of the catchment has a mix of agricultural and recreational uses, the water body then flows south through London and into the Thames Estuary. The population density increases dramatically as you travel downstream. The downstream end of the water body is heavily polluted from point source (STWs) and is heavily modified. It is also going to be a politically sensitive catchment, the 2012 London Olympic site will be built on the river ban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ptions </a:t>
            </a:r>
            <a:r>
              <a:rPr b="0" lang="en-GB" sz="1200" spc="-1" strike="noStrike">
                <a:solidFill>
                  <a:srgbClr val="000000"/>
                </a:solidFill>
                <a:latin typeface="Arial"/>
              </a:rPr>
              <a:t>We should make it clear that we are putting some options on the table for discussion.  We could, if people are happy, say which one we are proposing – to stimulate a discu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pictures will help illustrate the step-change in environment as you go down the water bod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ption A – what class the water body would receive under option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first option is simply to chose one assessment 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You might want to chose the assessment point that is nearest to the downstream end, or the site with the most recent sample.</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ption B (i) –  simple, face value averag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Not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quick run through using real data (2000) shows how we would treat a large fluctuation i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atus, simply by taking a face value mean.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E8D0377-50B3-471B-B835-98DB1D6D7A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33C897-65ED-42A7-9C8B-60222C76E4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BEC7617-3BD3-4C29-BCB4-8F61A3F0D1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6AD7262-F4A9-43CF-8268-BA6DB77D24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092A3AF-DBD3-4F87-A1C9-2AFB0C407A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42492"/>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7075725-483B-40D1-8723-B91336F36A6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E034830-51F3-4D43-9BCE-479D87F854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7C273DA-8352-42CD-851D-E1BB602015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B2593AB-A0E0-4116-81E7-91AA052395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42492"/>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055016C-48AF-4FA9-8688-544CF75CDEC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45DDCBA-BC20-45A2-84A8-FE69957055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42492"/>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ADCDC7-300B-4C14-B079-0494B535CC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3101C77-0587-4D2A-A0C0-91B2C869F2D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2183A87-0B70-47E4-94D9-3364452769C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3925B5C-C7EB-4027-AA21-218EB8CF87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39D45D4-CD56-4C33-9F6D-C5A9D7DC1D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2632259-4E9E-498C-8D29-A3E4426D88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9CAD88-C462-4818-97C2-9FFF14EE12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DDF611-BAE1-4B4E-A61D-EE0D832F7E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AD7830-EEFD-4392-9882-871FF42B8B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42492"/>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A1D7AC-10BD-480F-A0B0-BE0084EFB9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5E5F12-5AFC-411F-992D-854D662EF8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437BD7-5EBD-4AA9-83C4-A9B336313F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21A139-1F22-4C25-89FC-6F030893B0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42492"/>
                </a:solidFill>
                <a:latin typeface="Tahoma"/>
              </a:rPr>
              <a:t>Click to edit the title text format</a:t>
            </a:r>
            <a:endParaRPr b="0" lang="en-US" sz="4400" spc="-1" strike="noStrike">
              <a:solidFill>
                <a:srgbClr val="242492"/>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B71B8-2C12-4BB4-A0A3-07E8A16252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0" y="6219720"/>
            <a:ext cx="2162160" cy="638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42492"/>
                </a:solidFill>
                <a:latin typeface="Tahoma"/>
              </a:rPr>
              <a:t>Click to edit the title text format</a:t>
            </a:r>
            <a:endParaRPr b="0" lang="en-US" sz="4400" spc="-1" strike="noStrike">
              <a:solidFill>
                <a:srgbClr val="242492"/>
              </a:solidFill>
              <a:latin typeface="Tahoma"/>
            </a:endParaRPr>
          </a:p>
        </p:txBody>
      </p:sp>
      <p:sp>
        <p:nvSpPr>
          <p:cNvPr id="42"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3"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AA7A2-31B2-4B37-9809-9D6C3A0452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4" name="" descr=""/>
          <p:cNvPicPr/>
          <p:nvPr/>
        </p:nvPicPr>
        <p:blipFill>
          <a:blip r:embed="rId2"/>
          <a:stretch/>
        </p:blipFill>
        <p:spPr>
          <a:xfrm>
            <a:off x="0" y="6219720"/>
            <a:ext cx="2162160" cy="638280"/>
          </a:xfrm>
          <a:prstGeom prst="rect">
            <a:avLst/>
          </a:prstGeom>
          <a:ln w="0">
            <a:noFill/>
          </a:ln>
        </p:spPr>
      </p:pic>
      <p:sp>
        <p:nvSpPr>
          <p:cNvPr id="45"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42492"/>
                </a:solidFill>
                <a:latin typeface="Tahoma"/>
              </a:rPr>
              <a:t>Click to edit the outline text format</a:t>
            </a:r>
            <a:endParaRPr b="0" lang="en-US" sz="3200" spc="-1" strike="noStrike">
              <a:solidFill>
                <a:srgbClr val="242492"/>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5b78d5"/>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242492"/>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5b78d5"/>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4.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520"/>
            <a:ext cx="8229600" cy="110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Arial"/>
              </a:rPr>
              <a:t>Accounting for spatial variability in classifications</a:t>
            </a:r>
            <a:endParaRPr b="0" lang="en-US" sz="4000" spc="-1" strike="noStrike">
              <a:solidFill>
                <a:srgbClr val="242492"/>
              </a:solidFill>
              <a:latin typeface="Tahoma"/>
            </a:endParaRPr>
          </a:p>
        </p:txBody>
      </p:sp>
      <p:sp>
        <p:nvSpPr>
          <p:cNvPr id="90" name="PlaceHolder 2"/>
          <p:cNvSpPr>
            <a:spLocks noGrp="1"/>
          </p:cNvSpPr>
          <p:nvPr>
            <p:ph/>
          </p:nvPr>
        </p:nvSpPr>
        <p:spPr>
          <a:xfrm>
            <a:off x="468000" y="2420640"/>
            <a:ext cx="8280360" cy="3529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100000"/>
              </a:lnSpc>
              <a:spcBef>
                <a:spcPts val="700"/>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Spatial variation</a:t>
            </a:r>
            <a:endParaRPr b="0" lang="en-US" sz="2800" spc="-1" strike="noStrike">
              <a:solidFill>
                <a:srgbClr val="000000"/>
              </a:solidFill>
              <a:latin typeface="Tahoma"/>
            </a:endParaRPr>
          </a:p>
          <a:p>
            <a:pPr lvl="1" marL="743040" indent="-285840">
              <a:lnSpc>
                <a:spcPct val="100000"/>
              </a:lnSpc>
              <a:spcBef>
                <a:spcPts val="700"/>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Grouping</a:t>
            </a:r>
            <a:endParaRPr b="0" lang="en-US" sz="2800" spc="-1" strike="noStrike">
              <a:solidFill>
                <a:srgbClr val="000000"/>
              </a:solidFill>
              <a:latin typeface="Tahoma"/>
            </a:endParaRPr>
          </a:p>
          <a:p>
            <a:pPr lvl="1" marL="743040" indent="-285840">
              <a:lnSpc>
                <a:spcPct val="100000"/>
              </a:lnSpc>
              <a:spcBef>
                <a:spcPts val="700"/>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Interventions</a:t>
            </a:r>
            <a:endParaRPr b="0" lang="en-US" sz="28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95280" y="2420640"/>
            <a:ext cx="8229600" cy="1103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c1c72"/>
                </a:solidFill>
                <a:latin typeface="Arial"/>
              </a:rPr>
              <a:t>C – Use worst class</a:t>
            </a:r>
            <a:endParaRPr b="0" lang="en-US" sz="4000" spc="-1" strike="noStrike">
              <a:solidFill>
                <a:srgbClr val="242492"/>
              </a:solidFill>
              <a:latin typeface="Tahoma"/>
            </a:endParaRPr>
          </a:p>
        </p:txBody>
      </p:sp>
      <p:pic>
        <p:nvPicPr>
          <p:cNvPr id="248" name="" descr=""/>
          <p:cNvPicPr/>
          <p:nvPr/>
        </p:nvPicPr>
        <p:blipFill>
          <a:blip r:embed="rId1"/>
          <a:srcRect l="35433" t="0" r="36238" b="0"/>
          <a:stretch/>
        </p:blipFill>
        <p:spPr>
          <a:xfrm>
            <a:off x="6300720" y="476280"/>
            <a:ext cx="2592360" cy="6048360"/>
          </a:xfrm>
          <a:prstGeom prst="rect">
            <a:avLst/>
          </a:prstGeom>
          <a:ln w="0">
            <a:noFill/>
          </a:ln>
        </p:spPr>
      </p:pic>
      <p:sp>
        <p:nvSpPr>
          <p:cNvPr id="249" name=""/>
          <p:cNvSpPr/>
          <p:nvPr/>
        </p:nvSpPr>
        <p:spPr>
          <a:xfrm>
            <a:off x="2411280" y="3645000"/>
            <a:ext cx="100836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D</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c1c72"/>
                </a:solidFill>
                <a:latin typeface="Arial"/>
              </a:rPr>
              <a:t>D. Splitting the water body</a:t>
            </a:r>
            <a:endParaRPr b="0" lang="en-US" sz="4400" spc="-1" strike="noStrike">
              <a:solidFill>
                <a:srgbClr val="242492"/>
              </a:solidFill>
              <a:latin typeface="Tahoma"/>
            </a:endParaRPr>
          </a:p>
        </p:txBody>
      </p:sp>
      <p:sp>
        <p:nvSpPr>
          <p:cNvPr id="251" name=""/>
          <p:cNvSpPr/>
          <p:nvPr/>
        </p:nvSpPr>
        <p:spPr>
          <a:xfrm rot="5400000">
            <a:off x="4777920" y="2501640"/>
            <a:ext cx="4680000" cy="2644560"/>
          </a:xfrm>
          <a:custGeom>
            <a:avLst/>
            <a:gdLst/>
            <a:ahLst/>
            <a:rect l="l" t="t" r="r" b="b"/>
            <a:pathLst>
              <a:path w="4144" h="2280">
                <a:moveTo>
                  <a:pt x="4120" y="1560"/>
                </a:moveTo>
                <a:cubicBezTo>
                  <a:pt x="4079" y="1546"/>
                  <a:pt x="4063" y="1505"/>
                  <a:pt x="4024" y="1488"/>
                </a:cubicBezTo>
                <a:cubicBezTo>
                  <a:pt x="3964" y="1461"/>
                  <a:pt x="3911" y="1437"/>
                  <a:pt x="3848" y="1416"/>
                </a:cubicBezTo>
                <a:cubicBezTo>
                  <a:pt x="3839" y="1413"/>
                  <a:pt x="3833" y="1403"/>
                  <a:pt x="3824" y="1400"/>
                </a:cubicBezTo>
                <a:cubicBezTo>
                  <a:pt x="3771" y="1380"/>
                  <a:pt x="3656" y="1376"/>
                  <a:pt x="3656" y="1376"/>
                </a:cubicBezTo>
                <a:cubicBezTo>
                  <a:pt x="3562" y="1383"/>
                  <a:pt x="3548" y="1385"/>
                  <a:pt x="3472" y="1360"/>
                </a:cubicBezTo>
                <a:cubicBezTo>
                  <a:pt x="3472" y="1360"/>
                  <a:pt x="3412" y="1320"/>
                  <a:pt x="3400" y="1312"/>
                </a:cubicBezTo>
                <a:cubicBezTo>
                  <a:pt x="3384" y="1301"/>
                  <a:pt x="3352" y="1280"/>
                  <a:pt x="3352" y="1280"/>
                </a:cubicBezTo>
                <a:cubicBezTo>
                  <a:pt x="3342" y="1251"/>
                  <a:pt x="3325" y="1229"/>
                  <a:pt x="3296" y="1216"/>
                </a:cubicBezTo>
                <a:cubicBezTo>
                  <a:pt x="3281" y="1209"/>
                  <a:pt x="3264" y="1205"/>
                  <a:pt x="3248" y="1200"/>
                </a:cubicBezTo>
                <a:cubicBezTo>
                  <a:pt x="3240" y="1197"/>
                  <a:pt x="3224" y="1192"/>
                  <a:pt x="3224" y="1192"/>
                </a:cubicBezTo>
                <a:cubicBezTo>
                  <a:pt x="3176" y="1195"/>
                  <a:pt x="3128" y="1196"/>
                  <a:pt x="3080" y="1200"/>
                </a:cubicBezTo>
                <a:cubicBezTo>
                  <a:pt x="3047" y="1203"/>
                  <a:pt x="3028" y="1219"/>
                  <a:pt x="3000" y="1232"/>
                </a:cubicBezTo>
                <a:cubicBezTo>
                  <a:pt x="2943" y="1258"/>
                  <a:pt x="2904" y="1258"/>
                  <a:pt x="2840" y="1264"/>
                </a:cubicBezTo>
                <a:cubicBezTo>
                  <a:pt x="2776" y="1285"/>
                  <a:pt x="2740" y="1386"/>
                  <a:pt x="2704" y="1440"/>
                </a:cubicBezTo>
                <a:cubicBezTo>
                  <a:pt x="2672" y="1488"/>
                  <a:pt x="2604" y="1499"/>
                  <a:pt x="2552" y="1512"/>
                </a:cubicBezTo>
                <a:cubicBezTo>
                  <a:pt x="2536" y="1509"/>
                  <a:pt x="2519" y="1511"/>
                  <a:pt x="2504" y="1504"/>
                </a:cubicBezTo>
                <a:cubicBezTo>
                  <a:pt x="2470" y="1489"/>
                  <a:pt x="2468" y="1437"/>
                  <a:pt x="2448" y="1408"/>
                </a:cubicBezTo>
                <a:cubicBezTo>
                  <a:pt x="2444" y="1390"/>
                  <a:pt x="2432" y="1340"/>
                  <a:pt x="2424" y="1328"/>
                </a:cubicBezTo>
                <a:cubicBezTo>
                  <a:pt x="2402" y="1295"/>
                  <a:pt x="2380" y="1269"/>
                  <a:pt x="2368" y="1232"/>
                </a:cubicBezTo>
                <a:cubicBezTo>
                  <a:pt x="2365" y="1200"/>
                  <a:pt x="2364" y="1168"/>
                  <a:pt x="2360" y="1136"/>
                </a:cubicBezTo>
                <a:cubicBezTo>
                  <a:pt x="2358" y="1122"/>
                  <a:pt x="2362" y="1106"/>
                  <a:pt x="2352" y="1096"/>
                </a:cubicBezTo>
                <a:cubicBezTo>
                  <a:pt x="2340" y="1084"/>
                  <a:pt x="2318" y="1089"/>
                  <a:pt x="2304" y="1080"/>
                </a:cubicBezTo>
                <a:cubicBezTo>
                  <a:pt x="2230" y="1030"/>
                  <a:pt x="2132" y="1040"/>
                  <a:pt x="2048" y="1016"/>
                </a:cubicBezTo>
                <a:cubicBezTo>
                  <a:pt x="2004" y="1003"/>
                  <a:pt x="1966" y="969"/>
                  <a:pt x="1928" y="944"/>
                </a:cubicBezTo>
                <a:cubicBezTo>
                  <a:pt x="1914" y="935"/>
                  <a:pt x="1880" y="928"/>
                  <a:pt x="1880" y="928"/>
                </a:cubicBezTo>
                <a:cubicBezTo>
                  <a:pt x="1846" y="894"/>
                  <a:pt x="1826" y="906"/>
                  <a:pt x="1792" y="872"/>
                </a:cubicBezTo>
                <a:cubicBezTo>
                  <a:pt x="1748" y="740"/>
                  <a:pt x="1783" y="600"/>
                  <a:pt x="1760" y="464"/>
                </a:cubicBezTo>
                <a:cubicBezTo>
                  <a:pt x="1766" y="380"/>
                  <a:pt x="1773" y="331"/>
                  <a:pt x="1792" y="256"/>
                </a:cubicBezTo>
                <a:cubicBezTo>
                  <a:pt x="1789" y="232"/>
                  <a:pt x="1792" y="207"/>
                  <a:pt x="1784" y="184"/>
                </a:cubicBezTo>
                <a:cubicBezTo>
                  <a:pt x="1780" y="173"/>
                  <a:pt x="1766" y="169"/>
                  <a:pt x="1760" y="160"/>
                </a:cubicBezTo>
                <a:cubicBezTo>
                  <a:pt x="1755" y="153"/>
                  <a:pt x="1757" y="143"/>
                  <a:pt x="1752" y="136"/>
                </a:cubicBezTo>
                <a:cubicBezTo>
                  <a:pt x="1727" y="105"/>
                  <a:pt x="1675" y="100"/>
                  <a:pt x="1640" y="88"/>
                </a:cubicBezTo>
                <a:cubicBezTo>
                  <a:pt x="1602" y="50"/>
                  <a:pt x="1589" y="36"/>
                  <a:pt x="1544" y="16"/>
                </a:cubicBezTo>
                <a:cubicBezTo>
                  <a:pt x="1529" y="9"/>
                  <a:pt x="1496" y="0"/>
                  <a:pt x="1496" y="0"/>
                </a:cubicBezTo>
                <a:cubicBezTo>
                  <a:pt x="1489" y="1"/>
                  <a:pt x="1398" y="11"/>
                  <a:pt x="1384" y="16"/>
                </a:cubicBezTo>
                <a:cubicBezTo>
                  <a:pt x="1367" y="22"/>
                  <a:pt x="1353" y="34"/>
                  <a:pt x="1336" y="40"/>
                </a:cubicBezTo>
                <a:cubicBezTo>
                  <a:pt x="1297" y="69"/>
                  <a:pt x="1273" y="103"/>
                  <a:pt x="1240" y="136"/>
                </a:cubicBezTo>
                <a:cubicBezTo>
                  <a:pt x="1199" y="258"/>
                  <a:pt x="1248" y="98"/>
                  <a:pt x="1216" y="352"/>
                </a:cubicBezTo>
                <a:cubicBezTo>
                  <a:pt x="1212" y="385"/>
                  <a:pt x="1111" y="430"/>
                  <a:pt x="1080" y="440"/>
                </a:cubicBezTo>
                <a:cubicBezTo>
                  <a:pt x="1062" y="454"/>
                  <a:pt x="1039" y="463"/>
                  <a:pt x="1024" y="480"/>
                </a:cubicBezTo>
                <a:cubicBezTo>
                  <a:pt x="1011" y="494"/>
                  <a:pt x="992" y="528"/>
                  <a:pt x="992" y="528"/>
                </a:cubicBezTo>
                <a:cubicBezTo>
                  <a:pt x="984" y="578"/>
                  <a:pt x="979" y="625"/>
                  <a:pt x="960" y="672"/>
                </a:cubicBezTo>
                <a:cubicBezTo>
                  <a:pt x="966" y="866"/>
                  <a:pt x="975" y="928"/>
                  <a:pt x="960" y="1104"/>
                </a:cubicBezTo>
                <a:cubicBezTo>
                  <a:pt x="957" y="1139"/>
                  <a:pt x="928" y="1178"/>
                  <a:pt x="896" y="1192"/>
                </a:cubicBezTo>
                <a:cubicBezTo>
                  <a:pt x="881" y="1199"/>
                  <a:pt x="848" y="1208"/>
                  <a:pt x="848" y="1208"/>
                </a:cubicBezTo>
                <a:cubicBezTo>
                  <a:pt x="791" y="1205"/>
                  <a:pt x="716" y="1221"/>
                  <a:pt x="664" y="1184"/>
                </a:cubicBezTo>
                <a:cubicBezTo>
                  <a:pt x="655" y="1177"/>
                  <a:pt x="650" y="1165"/>
                  <a:pt x="640" y="1160"/>
                </a:cubicBezTo>
                <a:cubicBezTo>
                  <a:pt x="620" y="1151"/>
                  <a:pt x="576" y="1144"/>
                  <a:pt x="576" y="1144"/>
                </a:cubicBezTo>
                <a:cubicBezTo>
                  <a:pt x="555" y="1146"/>
                  <a:pt x="489" y="1144"/>
                  <a:pt x="456" y="1160"/>
                </a:cubicBezTo>
                <a:cubicBezTo>
                  <a:pt x="405" y="1185"/>
                  <a:pt x="397" y="1212"/>
                  <a:pt x="336" y="1232"/>
                </a:cubicBezTo>
                <a:cubicBezTo>
                  <a:pt x="290" y="1247"/>
                  <a:pt x="240" y="1237"/>
                  <a:pt x="192" y="1240"/>
                </a:cubicBezTo>
                <a:cubicBezTo>
                  <a:pt x="163" y="1284"/>
                  <a:pt x="183" y="1246"/>
                  <a:pt x="168" y="1320"/>
                </a:cubicBezTo>
                <a:cubicBezTo>
                  <a:pt x="163" y="1347"/>
                  <a:pt x="145" y="1366"/>
                  <a:pt x="136" y="1392"/>
                </a:cubicBezTo>
                <a:cubicBezTo>
                  <a:pt x="133" y="1435"/>
                  <a:pt x="141" y="1479"/>
                  <a:pt x="128" y="1520"/>
                </a:cubicBezTo>
                <a:cubicBezTo>
                  <a:pt x="121" y="1542"/>
                  <a:pt x="80" y="1568"/>
                  <a:pt x="80" y="1568"/>
                </a:cubicBezTo>
                <a:cubicBezTo>
                  <a:pt x="77" y="1576"/>
                  <a:pt x="71" y="1584"/>
                  <a:pt x="72" y="1592"/>
                </a:cubicBezTo>
                <a:cubicBezTo>
                  <a:pt x="74" y="1609"/>
                  <a:pt x="88" y="1640"/>
                  <a:pt x="88" y="1640"/>
                </a:cubicBezTo>
                <a:cubicBezTo>
                  <a:pt x="85" y="1661"/>
                  <a:pt x="87" y="1684"/>
                  <a:pt x="80" y="1704"/>
                </a:cubicBezTo>
                <a:cubicBezTo>
                  <a:pt x="68" y="1739"/>
                  <a:pt x="28" y="1765"/>
                  <a:pt x="16" y="1800"/>
                </a:cubicBezTo>
                <a:cubicBezTo>
                  <a:pt x="3" y="1839"/>
                  <a:pt x="9" y="1816"/>
                  <a:pt x="0" y="1872"/>
                </a:cubicBezTo>
                <a:cubicBezTo>
                  <a:pt x="26" y="1949"/>
                  <a:pt x="24" y="1926"/>
                  <a:pt x="16" y="2040"/>
                </a:cubicBezTo>
                <a:cubicBezTo>
                  <a:pt x="30" y="2136"/>
                  <a:pt x="6" y="2070"/>
                  <a:pt x="48" y="2112"/>
                </a:cubicBezTo>
                <a:cubicBezTo>
                  <a:pt x="92" y="2156"/>
                  <a:pt x="19" y="2130"/>
                  <a:pt x="128" y="2144"/>
                </a:cubicBezTo>
                <a:cubicBezTo>
                  <a:pt x="196" y="2212"/>
                  <a:pt x="270" y="2250"/>
                  <a:pt x="360" y="2280"/>
                </a:cubicBezTo>
                <a:cubicBezTo>
                  <a:pt x="481" y="2270"/>
                  <a:pt x="546" y="2243"/>
                  <a:pt x="656" y="2216"/>
                </a:cubicBezTo>
                <a:cubicBezTo>
                  <a:pt x="730" y="2170"/>
                  <a:pt x="800" y="2120"/>
                  <a:pt x="872" y="2072"/>
                </a:cubicBezTo>
                <a:cubicBezTo>
                  <a:pt x="902" y="2052"/>
                  <a:pt x="944" y="2040"/>
                  <a:pt x="976" y="2024"/>
                </a:cubicBezTo>
                <a:cubicBezTo>
                  <a:pt x="1013" y="2005"/>
                  <a:pt x="1036" y="1964"/>
                  <a:pt x="1072" y="1944"/>
                </a:cubicBezTo>
                <a:cubicBezTo>
                  <a:pt x="1094" y="1932"/>
                  <a:pt x="1127" y="1927"/>
                  <a:pt x="1152" y="1920"/>
                </a:cubicBezTo>
                <a:cubicBezTo>
                  <a:pt x="1192" y="1908"/>
                  <a:pt x="1224" y="1896"/>
                  <a:pt x="1264" y="1888"/>
                </a:cubicBezTo>
                <a:cubicBezTo>
                  <a:pt x="1291" y="1891"/>
                  <a:pt x="1319" y="1888"/>
                  <a:pt x="1344" y="1896"/>
                </a:cubicBezTo>
                <a:cubicBezTo>
                  <a:pt x="1396" y="1913"/>
                  <a:pt x="1326" y="1986"/>
                  <a:pt x="1312" y="2000"/>
                </a:cubicBezTo>
                <a:cubicBezTo>
                  <a:pt x="1296" y="2048"/>
                  <a:pt x="1280" y="2044"/>
                  <a:pt x="1320" y="2064"/>
                </a:cubicBezTo>
                <a:cubicBezTo>
                  <a:pt x="1328" y="2068"/>
                  <a:pt x="1336" y="2069"/>
                  <a:pt x="1344" y="2072"/>
                </a:cubicBezTo>
                <a:cubicBezTo>
                  <a:pt x="1387" y="2068"/>
                  <a:pt x="1435" y="2078"/>
                  <a:pt x="1472" y="2056"/>
                </a:cubicBezTo>
                <a:cubicBezTo>
                  <a:pt x="1492" y="2045"/>
                  <a:pt x="1520" y="2008"/>
                  <a:pt x="1520" y="2008"/>
                </a:cubicBezTo>
                <a:cubicBezTo>
                  <a:pt x="1527" y="1969"/>
                  <a:pt x="1524" y="1915"/>
                  <a:pt x="1544" y="1880"/>
                </a:cubicBezTo>
                <a:cubicBezTo>
                  <a:pt x="1553" y="1863"/>
                  <a:pt x="1560" y="1843"/>
                  <a:pt x="1576" y="1832"/>
                </a:cubicBezTo>
                <a:cubicBezTo>
                  <a:pt x="1592" y="1821"/>
                  <a:pt x="1624" y="1800"/>
                  <a:pt x="1624" y="1800"/>
                </a:cubicBezTo>
                <a:cubicBezTo>
                  <a:pt x="1647" y="1765"/>
                  <a:pt x="1673" y="1738"/>
                  <a:pt x="1696" y="1704"/>
                </a:cubicBezTo>
                <a:cubicBezTo>
                  <a:pt x="1705" y="1652"/>
                  <a:pt x="1710" y="1644"/>
                  <a:pt x="1752" y="1616"/>
                </a:cubicBezTo>
                <a:cubicBezTo>
                  <a:pt x="1803" y="1626"/>
                  <a:pt x="1823" y="1638"/>
                  <a:pt x="1840" y="1688"/>
                </a:cubicBezTo>
                <a:cubicBezTo>
                  <a:pt x="1831" y="1762"/>
                  <a:pt x="1832" y="1745"/>
                  <a:pt x="1808" y="1800"/>
                </a:cubicBezTo>
                <a:cubicBezTo>
                  <a:pt x="1801" y="1815"/>
                  <a:pt x="1792" y="1848"/>
                  <a:pt x="1792" y="1848"/>
                </a:cubicBezTo>
                <a:cubicBezTo>
                  <a:pt x="1795" y="1856"/>
                  <a:pt x="1793" y="1867"/>
                  <a:pt x="1800" y="1872"/>
                </a:cubicBezTo>
                <a:cubicBezTo>
                  <a:pt x="1816" y="1884"/>
                  <a:pt x="1904" y="1909"/>
                  <a:pt x="1920" y="1912"/>
                </a:cubicBezTo>
                <a:cubicBezTo>
                  <a:pt x="1953" y="1961"/>
                  <a:pt x="1916" y="1913"/>
                  <a:pt x="1960" y="1952"/>
                </a:cubicBezTo>
                <a:cubicBezTo>
                  <a:pt x="2001" y="1988"/>
                  <a:pt x="2027" y="2022"/>
                  <a:pt x="2080" y="2040"/>
                </a:cubicBezTo>
                <a:cubicBezTo>
                  <a:pt x="2103" y="2063"/>
                  <a:pt x="2124" y="2088"/>
                  <a:pt x="2144" y="2112"/>
                </a:cubicBezTo>
                <a:cubicBezTo>
                  <a:pt x="2155" y="2126"/>
                  <a:pt x="2155" y="2147"/>
                  <a:pt x="2168" y="2160"/>
                </a:cubicBezTo>
                <a:cubicBezTo>
                  <a:pt x="2182" y="2174"/>
                  <a:pt x="2200" y="2181"/>
                  <a:pt x="2216" y="2192"/>
                </a:cubicBezTo>
                <a:cubicBezTo>
                  <a:pt x="2254" y="2217"/>
                  <a:pt x="2225" y="2215"/>
                  <a:pt x="2264" y="2232"/>
                </a:cubicBezTo>
                <a:cubicBezTo>
                  <a:pt x="2303" y="2250"/>
                  <a:pt x="2342" y="2257"/>
                  <a:pt x="2384" y="2264"/>
                </a:cubicBezTo>
                <a:cubicBezTo>
                  <a:pt x="2463" y="2256"/>
                  <a:pt x="2534" y="2236"/>
                  <a:pt x="2600" y="2192"/>
                </a:cubicBezTo>
                <a:cubicBezTo>
                  <a:pt x="2623" y="2158"/>
                  <a:pt x="2649" y="2131"/>
                  <a:pt x="2672" y="2096"/>
                </a:cubicBezTo>
                <a:cubicBezTo>
                  <a:pt x="2677" y="2089"/>
                  <a:pt x="2675" y="2079"/>
                  <a:pt x="2680" y="2072"/>
                </a:cubicBezTo>
                <a:cubicBezTo>
                  <a:pt x="2693" y="2056"/>
                  <a:pt x="2734" y="2028"/>
                  <a:pt x="2752" y="2016"/>
                </a:cubicBezTo>
                <a:cubicBezTo>
                  <a:pt x="2804" y="2022"/>
                  <a:pt x="2853" y="2027"/>
                  <a:pt x="2904" y="2040"/>
                </a:cubicBezTo>
                <a:cubicBezTo>
                  <a:pt x="2931" y="2037"/>
                  <a:pt x="2958" y="2038"/>
                  <a:pt x="2984" y="2032"/>
                </a:cubicBezTo>
                <a:cubicBezTo>
                  <a:pt x="3010" y="2026"/>
                  <a:pt x="3030" y="1983"/>
                  <a:pt x="3040" y="1968"/>
                </a:cubicBezTo>
                <a:cubicBezTo>
                  <a:pt x="3074" y="1917"/>
                  <a:pt x="3080" y="1872"/>
                  <a:pt x="3128" y="1824"/>
                </a:cubicBezTo>
                <a:cubicBezTo>
                  <a:pt x="3153" y="1799"/>
                  <a:pt x="3164" y="1809"/>
                  <a:pt x="3200" y="1800"/>
                </a:cubicBezTo>
                <a:cubicBezTo>
                  <a:pt x="3240" y="1790"/>
                  <a:pt x="3280" y="1778"/>
                  <a:pt x="3320" y="1768"/>
                </a:cubicBezTo>
                <a:cubicBezTo>
                  <a:pt x="3364" y="1739"/>
                  <a:pt x="3403" y="1701"/>
                  <a:pt x="3440" y="1664"/>
                </a:cubicBezTo>
                <a:cubicBezTo>
                  <a:pt x="3455" y="1649"/>
                  <a:pt x="3560" y="1630"/>
                  <a:pt x="3584" y="1624"/>
                </a:cubicBezTo>
                <a:cubicBezTo>
                  <a:pt x="3608" y="1627"/>
                  <a:pt x="3633" y="1624"/>
                  <a:pt x="3656" y="1632"/>
                </a:cubicBezTo>
                <a:cubicBezTo>
                  <a:pt x="3667" y="1636"/>
                  <a:pt x="3675" y="1646"/>
                  <a:pt x="3680" y="1656"/>
                </a:cubicBezTo>
                <a:cubicBezTo>
                  <a:pt x="3688" y="1671"/>
                  <a:pt x="3687" y="1690"/>
                  <a:pt x="3696" y="1704"/>
                </a:cubicBezTo>
                <a:cubicBezTo>
                  <a:pt x="3713" y="1730"/>
                  <a:pt x="3735" y="1750"/>
                  <a:pt x="3752" y="1776"/>
                </a:cubicBezTo>
                <a:cubicBezTo>
                  <a:pt x="3768" y="1839"/>
                  <a:pt x="3769" y="1878"/>
                  <a:pt x="3840" y="1896"/>
                </a:cubicBezTo>
                <a:cubicBezTo>
                  <a:pt x="3880" y="1893"/>
                  <a:pt x="3920" y="1893"/>
                  <a:pt x="3960" y="1888"/>
                </a:cubicBezTo>
                <a:cubicBezTo>
                  <a:pt x="3982" y="1885"/>
                  <a:pt x="4024" y="1872"/>
                  <a:pt x="4024" y="1872"/>
                </a:cubicBezTo>
                <a:cubicBezTo>
                  <a:pt x="4076" y="1833"/>
                  <a:pt x="4122" y="1801"/>
                  <a:pt x="4144" y="1736"/>
                </a:cubicBezTo>
                <a:cubicBezTo>
                  <a:pt x="4141" y="1709"/>
                  <a:pt x="4140" y="1682"/>
                  <a:pt x="4136" y="1656"/>
                </a:cubicBezTo>
                <a:cubicBezTo>
                  <a:pt x="4131" y="1623"/>
                  <a:pt x="4104" y="1591"/>
                  <a:pt x="4120" y="1560"/>
                </a:cubicBezTo>
                <a:close/>
              </a:path>
            </a:pathLst>
          </a:custGeom>
          <a:solidFill>
            <a:srgbClr val="c0c0c0"/>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2" name=""/>
          <p:cNvSpPr/>
          <p:nvPr/>
        </p:nvSpPr>
        <p:spPr>
          <a:xfrm rot="5400000">
            <a:off x="6167160" y="4764240"/>
            <a:ext cx="368280" cy="253800"/>
          </a:xfrm>
          <a:custGeom>
            <a:avLst/>
            <a:gdLst/>
            <a:ahLst/>
            <a:rect l="l" t="t" r="r" b="b"/>
            <a:pathLst>
              <a:path w="568" h="736">
                <a:moveTo>
                  <a:pt x="568" y="16"/>
                </a:moveTo>
                <a:cubicBezTo>
                  <a:pt x="560" y="16"/>
                  <a:pt x="552" y="16"/>
                  <a:pt x="520" y="16"/>
                </a:cubicBezTo>
                <a:cubicBezTo>
                  <a:pt x="488" y="16"/>
                  <a:pt x="416" y="0"/>
                  <a:pt x="376" y="16"/>
                </a:cubicBezTo>
                <a:cubicBezTo>
                  <a:pt x="336" y="32"/>
                  <a:pt x="296" y="64"/>
                  <a:pt x="280" y="112"/>
                </a:cubicBezTo>
                <a:cubicBezTo>
                  <a:pt x="264" y="160"/>
                  <a:pt x="320" y="256"/>
                  <a:pt x="280" y="304"/>
                </a:cubicBezTo>
                <a:cubicBezTo>
                  <a:pt x="240" y="352"/>
                  <a:pt x="80" y="360"/>
                  <a:pt x="40" y="400"/>
                </a:cubicBezTo>
                <a:cubicBezTo>
                  <a:pt x="0" y="440"/>
                  <a:pt x="32" y="488"/>
                  <a:pt x="40" y="544"/>
                </a:cubicBezTo>
                <a:cubicBezTo>
                  <a:pt x="48" y="600"/>
                  <a:pt x="68" y="668"/>
                  <a:pt x="88" y="736"/>
                </a:cubicBezTo>
              </a:path>
            </a:pathLst>
          </a:custGeom>
          <a:noFill/>
          <a:ln w="38160">
            <a:solidFill>
              <a:srgbClr val="ff66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rot="5400000">
            <a:off x="4618800" y="3631320"/>
            <a:ext cx="4022640" cy="735120"/>
          </a:xfrm>
          <a:custGeom>
            <a:avLst/>
            <a:gdLst/>
            <a:ahLst/>
            <a:rect l="l" t="t" r="r" b="b"/>
            <a:pathLst>
              <a:path w="6152" h="800">
                <a:moveTo>
                  <a:pt x="0" y="584"/>
                </a:moveTo>
                <a:cubicBezTo>
                  <a:pt x="28" y="600"/>
                  <a:pt x="56" y="616"/>
                  <a:pt x="96" y="632"/>
                </a:cubicBezTo>
                <a:cubicBezTo>
                  <a:pt x="136" y="648"/>
                  <a:pt x="200" y="688"/>
                  <a:pt x="240" y="680"/>
                </a:cubicBezTo>
                <a:cubicBezTo>
                  <a:pt x="280" y="672"/>
                  <a:pt x="304" y="608"/>
                  <a:pt x="336" y="584"/>
                </a:cubicBezTo>
                <a:cubicBezTo>
                  <a:pt x="368" y="560"/>
                  <a:pt x="384" y="536"/>
                  <a:pt x="432" y="536"/>
                </a:cubicBezTo>
                <a:cubicBezTo>
                  <a:pt x="480" y="536"/>
                  <a:pt x="544" y="576"/>
                  <a:pt x="624" y="584"/>
                </a:cubicBezTo>
                <a:cubicBezTo>
                  <a:pt x="704" y="592"/>
                  <a:pt x="840" y="616"/>
                  <a:pt x="912" y="584"/>
                </a:cubicBezTo>
                <a:cubicBezTo>
                  <a:pt x="984" y="552"/>
                  <a:pt x="992" y="456"/>
                  <a:pt x="1056" y="392"/>
                </a:cubicBezTo>
                <a:cubicBezTo>
                  <a:pt x="1120" y="328"/>
                  <a:pt x="1224" y="224"/>
                  <a:pt x="1296" y="200"/>
                </a:cubicBezTo>
                <a:cubicBezTo>
                  <a:pt x="1368" y="176"/>
                  <a:pt x="1432" y="216"/>
                  <a:pt x="1488" y="248"/>
                </a:cubicBezTo>
                <a:cubicBezTo>
                  <a:pt x="1544" y="280"/>
                  <a:pt x="1560" y="392"/>
                  <a:pt x="1632" y="392"/>
                </a:cubicBezTo>
                <a:cubicBezTo>
                  <a:pt x="1704" y="392"/>
                  <a:pt x="1856" y="304"/>
                  <a:pt x="1920" y="248"/>
                </a:cubicBezTo>
                <a:cubicBezTo>
                  <a:pt x="1984" y="192"/>
                  <a:pt x="1952" y="96"/>
                  <a:pt x="2016" y="56"/>
                </a:cubicBezTo>
                <a:cubicBezTo>
                  <a:pt x="2080" y="16"/>
                  <a:pt x="2240" y="0"/>
                  <a:pt x="2304" y="8"/>
                </a:cubicBezTo>
                <a:cubicBezTo>
                  <a:pt x="2368" y="16"/>
                  <a:pt x="2384" y="56"/>
                  <a:pt x="2400" y="104"/>
                </a:cubicBezTo>
                <a:cubicBezTo>
                  <a:pt x="2416" y="152"/>
                  <a:pt x="2384" y="248"/>
                  <a:pt x="2400" y="296"/>
                </a:cubicBezTo>
                <a:cubicBezTo>
                  <a:pt x="2416" y="344"/>
                  <a:pt x="2456" y="376"/>
                  <a:pt x="2496" y="392"/>
                </a:cubicBezTo>
                <a:cubicBezTo>
                  <a:pt x="2536" y="408"/>
                  <a:pt x="2576" y="432"/>
                  <a:pt x="2640" y="392"/>
                </a:cubicBezTo>
                <a:cubicBezTo>
                  <a:pt x="2704" y="352"/>
                  <a:pt x="2824" y="192"/>
                  <a:pt x="2880" y="152"/>
                </a:cubicBezTo>
                <a:cubicBezTo>
                  <a:pt x="2936" y="112"/>
                  <a:pt x="2960" y="136"/>
                  <a:pt x="2976" y="152"/>
                </a:cubicBezTo>
                <a:cubicBezTo>
                  <a:pt x="2992" y="168"/>
                  <a:pt x="2976" y="208"/>
                  <a:pt x="2976" y="248"/>
                </a:cubicBezTo>
                <a:cubicBezTo>
                  <a:pt x="2976" y="288"/>
                  <a:pt x="2944" y="384"/>
                  <a:pt x="2976" y="392"/>
                </a:cubicBezTo>
                <a:cubicBezTo>
                  <a:pt x="3008" y="400"/>
                  <a:pt x="3128" y="288"/>
                  <a:pt x="3168" y="296"/>
                </a:cubicBezTo>
                <a:cubicBezTo>
                  <a:pt x="3208" y="304"/>
                  <a:pt x="3232" y="392"/>
                  <a:pt x="3216" y="440"/>
                </a:cubicBezTo>
                <a:cubicBezTo>
                  <a:pt x="3200" y="488"/>
                  <a:pt x="3112" y="552"/>
                  <a:pt x="3072" y="584"/>
                </a:cubicBezTo>
                <a:cubicBezTo>
                  <a:pt x="3032" y="616"/>
                  <a:pt x="2992" y="600"/>
                  <a:pt x="2976" y="632"/>
                </a:cubicBezTo>
                <a:cubicBezTo>
                  <a:pt x="2960" y="664"/>
                  <a:pt x="2936" y="752"/>
                  <a:pt x="2976" y="776"/>
                </a:cubicBezTo>
                <a:cubicBezTo>
                  <a:pt x="3016" y="800"/>
                  <a:pt x="3144" y="792"/>
                  <a:pt x="3216" y="776"/>
                </a:cubicBezTo>
                <a:cubicBezTo>
                  <a:pt x="3288" y="760"/>
                  <a:pt x="3336" y="704"/>
                  <a:pt x="3408" y="680"/>
                </a:cubicBezTo>
                <a:cubicBezTo>
                  <a:pt x="3480" y="656"/>
                  <a:pt x="3568" y="640"/>
                  <a:pt x="3648" y="632"/>
                </a:cubicBezTo>
                <a:cubicBezTo>
                  <a:pt x="3728" y="624"/>
                  <a:pt x="3816" y="648"/>
                  <a:pt x="3888" y="632"/>
                </a:cubicBezTo>
                <a:cubicBezTo>
                  <a:pt x="3960" y="616"/>
                  <a:pt x="4032" y="584"/>
                  <a:pt x="4080" y="536"/>
                </a:cubicBezTo>
                <a:cubicBezTo>
                  <a:pt x="4128" y="488"/>
                  <a:pt x="4136" y="376"/>
                  <a:pt x="4176" y="344"/>
                </a:cubicBezTo>
                <a:cubicBezTo>
                  <a:pt x="4216" y="312"/>
                  <a:pt x="4288" y="328"/>
                  <a:pt x="4320" y="344"/>
                </a:cubicBezTo>
                <a:cubicBezTo>
                  <a:pt x="4352" y="360"/>
                  <a:pt x="4320" y="440"/>
                  <a:pt x="4368" y="440"/>
                </a:cubicBezTo>
                <a:cubicBezTo>
                  <a:pt x="4416" y="440"/>
                  <a:pt x="4552" y="344"/>
                  <a:pt x="4608" y="344"/>
                </a:cubicBezTo>
                <a:cubicBezTo>
                  <a:pt x="4664" y="344"/>
                  <a:pt x="4696" y="408"/>
                  <a:pt x="4704" y="440"/>
                </a:cubicBezTo>
                <a:cubicBezTo>
                  <a:pt x="4712" y="472"/>
                  <a:pt x="4648" y="512"/>
                  <a:pt x="4656" y="536"/>
                </a:cubicBezTo>
                <a:cubicBezTo>
                  <a:pt x="4664" y="560"/>
                  <a:pt x="4712" y="608"/>
                  <a:pt x="4752" y="584"/>
                </a:cubicBezTo>
                <a:cubicBezTo>
                  <a:pt x="4792" y="560"/>
                  <a:pt x="4832" y="440"/>
                  <a:pt x="4896" y="392"/>
                </a:cubicBezTo>
                <a:cubicBezTo>
                  <a:pt x="4960" y="344"/>
                  <a:pt x="5072" y="304"/>
                  <a:pt x="5136" y="296"/>
                </a:cubicBezTo>
                <a:cubicBezTo>
                  <a:pt x="5200" y="288"/>
                  <a:pt x="5232" y="328"/>
                  <a:pt x="5280" y="344"/>
                </a:cubicBezTo>
                <a:cubicBezTo>
                  <a:pt x="5328" y="360"/>
                  <a:pt x="5360" y="376"/>
                  <a:pt x="5424" y="392"/>
                </a:cubicBezTo>
                <a:cubicBezTo>
                  <a:pt x="5488" y="408"/>
                  <a:pt x="5600" y="400"/>
                  <a:pt x="5664" y="440"/>
                </a:cubicBezTo>
                <a:cubicBezTo>
                  <a:pt x="5728" y="480"/>
                  <a:pt x="5736" y="600"/>
                  <a:pt x="5808" y="632"/>
                </a:cubicBezTo>
                <a:cubicBezTo>
                  <a:pt x="5880" y="664"/>
                  <a:pt x="6040" y="640"/>
                  <a:pt x="6096" y="632"/>
                </a:cubicBezTo>
                <a:cubicBezTo>
                  <a:pt x="6152" y="624"/>
                  <a:pt x="6136" y="600"/>
                  <a:pt x="6144" y="584"/>
                </a:cubicBezTo>
                <a:cubicBezTo>
                  <a:pt x="6152" y="568"/>
                  <a:pt x="6148" y="552"/>
                  <a:pt x="6144" y="536"/>
                </a:cubicBezTo>
              </a:path>
            </a:pathLst>
          </a:custGeom>
          <a:noFill/>
          <a:ln w="38160">
            <a:solidFill>
              <a:srgbClr val="33cc3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rot="5400000">
            <a:off x="5842440" y="4041000"/>
            <a:ext cx="1474920" cy="631800"/>
          </a:xfrm>
          <a:custGeom>
            <a:avLst/>
            <a:gdLst/>
            <a:ahLst/>
            <a:rect l="l" t="t" r="r" b="b"/>
            <a:pathLst>
              <a:path w="929" h="398">
                <a:moveTo>
                  <a:pt x="0" y="162"/>
                </a:moveTo>
                <a:cubicBezTo>
                  <a:pt x="10" y="162"/>
                  <a:pt x="33" y="185"/>
                  <a:pt x="59" y="162"/>
                </a:cubicBezTo>
                <a:cubicBezTo>
                  <a:pt x="86" y="139"/>
                  <a:pt x="135" y="46"/>
                  <a:pt x="158" y="23"/>
                </a:cubicBezTo>
                <a:cubicBezTo>
                  <a:pt x="181" y="0"/>
                  <a:pt x="191" y="14"/>
                  <a:pt x="198" y="23"/>
                </a:cubicBezTo>
                <a:cubicBezTo>
                  <a:pt x="204" y="32"/>
                  <a:pt x="198" y="55"/>
                  <a:pt x="198" y="79"/>
                </a:cubicBezTo>
                <a:cubicBezTo>
                  <a:pt x="198" y="102"/>
                  <a:pt x="185" y="157"/>
                  <a:pt x="198" y="162"/>
                </a:cubicBezTo>
                <a:cubicBezTo>
                  <a:pt x="211" y="167"/>
                  <a:pt x="260" y="102"/>
                  <a:pt x="277" y="106"/>
                </a:cubicBezTo>
                <a:cubicBezTo>
                  <a:pt x="293" y="111"/>
                  <a:pt x="303" y="162"/>
                  <a:pt x="297" y="190"/>
                </a:cubicBezTo>
                <a:cubicBezTo>
                  <a:pt x="290" y="217"/>
                  <a:pt x="254" y="254"/>
                  <a:pt x="237" y="273"/>
                </a:cubicBezTo>
                <a:cubicBezTo>
                  <a:pt x="221" y="292"/>
                  <a:pt x="204" y="282"/>
                  <a:pt x="198" y="301"/>
                </a:cubicBezTo>
                <a:cubicBezTo>
                  <a:pt x="191" y="319"/>
                  <a:pt x="181" y="370"/>
                  <a:pt x="198" y="384"/>
                </a:cubicBezTo>
                <a:cubicBezTo>
                  <a:pt x="214" y="398"/>
                  <a:pt x="267" y="393"/>
                  <a:pt x="297" y="384"/>
                </a:cubicBezTo>
                <a:cubicBezTo>
                  <a:pt x="326" y="375"/>
                  <a:pt x="346" y="342"/>
                  <a:pt x="376" y="329"/>
                </a:cubicBezTo>
                <a:cubicBezTo>
                  <a:pt x="405" y="315"/>
                  <a:pt x="442" y="305"/>
                  <a:pt x="475" y="301"/>
                </a:cubicBezTo>
                <a:cubicBezTo>
                  <a:pt x="508" y="296"/>
                  <a:pt x="544" y="310"/>
                  <a:pt x="573" y="301"/>
                </a:cubicBezTo>
                <a:cubicBezTo>
                  <a:pt x="603" y="292"/>
                  <a:pt x="633" y="273"/>
                  <a:pt x="653" y="245"/>
                </a:cubicBezTo>
                <a:cubicBezTo>
                  <a:pt x="672" y="217"/>
                  <a:pt x="676" y="153"/>
                  <a:pt x="692" y="134"/>
                </a:cubicBezTo>
                <a:cubicBezTo>
                  <a:pt x="709" y="116"/>
                  <a:pt x="738" y="125"/>
                  <a:pt x="751" y="134"/>
                </a:cubicBezTo>
                <a:cubicBezTo>
                  <a:pt x="765" y="143"/>
                  <a:pt x="751" y="190"/>
                  <a:pt x="771" y="190"/>
                </a:cubicBezTo>
                <a:cubicBezTo>
                  <a:pt x="791" y="190"/>
                  <a:pt x="847" y="134"/>
                  <a:pt x="870" y="134"/>
                </a:cubicBezTo>
                <a:cubicBezTo>
                  <a:pt x="893" y="134"/>
                  <a:pt x="906" y="171"/>
                  <a:pt x="910" y="190"/>
                </a:cubicBezTo>
                <a:cubicBezTo>
                  <a:pt x="913" y="208"/>
                  <a:pt x="887" y="231"/>
                  <a:pt x="890" y="245"/>
                </a:cubicBezTo>
                <a:cubicBezTo>
                  <a:pt x="893" y="259"/>
                  <a:pt x="922" y="268"/>
                  <a:pt x="929" y="273"/>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rot="5400000">
            <a:off x="7101360" y="2628000"/>
            <a:ext cx="770040" cy="1076400"/>
          </a:xfrm>
          <a:custGeom>
            <a:avLst/>
            <a:gdLst/>
            <a:ahLst/>
            <a:rect l="l" t="t" r="r" b="b"/>
            <a:pathLst>
              <a:path w="608" h="1248">
                <a:moveTo>
                  <a:pt x="224" y="0"/>
                </a:moveTo>
                <a:cubicBezTo>
                  <a:pt x="268" y="28"/>
                  <a:pt x="312" y="56"/>
                  <a:pt x="320" y="96"/>
                </a:cubicBezTo>
                <a:cubicBezTo>
                  <a:pt x="328" y="136"/>
                  <a:pt x="304" y="208"/>
                  <a:pt x="272" y="240"/>
                </a:cubicBezTo>
                <a:cubicBezTo>
                  <a:pt x="240" y="272"/>
                  <a:pt x="152" y="264"/>
                  <a:pt x="128" y="288"/>
                </a:cubicBezTo>
                <a:cubicBezTo>
                  <a:pt x="104" y="312"/>
                  <a:pt x="96" y="352"/>
                  <a:pt x="128" y="384"/>
                </a:cubicBezTo>
                <a:cubicBezTo>
                  <a:pt x="160" y="416"/>
                  <a:pt x="304" y="440"/>
                  <a:pt x="320" y="480"/>
                </a:cubicBezTo>
                <a:cubicBezTo>
                  <a:pt x="336" y="520"/>
                  <a:pt x="272" y="592"/>
                  <a:pt x="224" y="624"/>
                </a:cubicBezTo>
                <a:cubicBezTo>
                  <a:pt x="176" y="656"/>
                  <a:pt x="64" y="648"/>
                  <a:pt x="32" y="672"/>
                </a:cubicBezTo>
                <a:cubicBezTo>
                  <a:pt x="0" y="696"/>
                  <a:pt x="16" y="744"/>
                  <a:pt x="32" y="768"/>
                </a:cubicBezTo>
                <a:cubicBezTo>
                  <a:pt x="48" y="792"/>
                  <a:pt x="120" y="792"/>
                  <a:pt x="128" y="816"/>
                </a:cubicBezTo>
                <a:cubicBezTo>
                  <a:pt x="136" y="840"/>
                  <a:pt x="64" y="896"/>
                  <a:pt x="80" y="912"/>
                </a:cubicBezTo>
                <a:cubicBezTo>
                  <a:pt x="96" y="928"/>
                  <a:pt x="184" y="904"/>
                  <a:pt x="224" y="912"/>
                </a:cubicBezTo>
                <a:cubicBezTo>
                  <a:pt x="264" y="920"/>
                  <a:pt x="296" y="928"/>
                  <a:pt x="320" y="960"/>
                </a:cubicBezTo>
                <a:cubicBezTo>
                  <a:pt x="344" y="992"/>
                  <a:pt x="320" y="1056"/>
                  <a:pt x="368" y="1104"/>
                </a:cubicBezTo>
                <a:cubicBezTo>
                  <a:pt x="416" y="1152"/>
                  <a:pt x="512" y="1200"/>
                  <a:pt x="608" y="1248"/>
                </a:cubicBezTo>
              </a:path>
            </a:pathLst>
          </a:custGeom>
          <a:noFill/>
          <a:ln w="12600">
            <a:solidFill>
              <a:srgbClr val="33cc3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3132000" y="3429000"/>
            <a:ext cx="2087640" cy="1152360"/>
          </a:xfrm>
          <a:prstGeom prst="rect">
            <a:avLst/>
          </a:prstGeom>
          <a:noFill/>
          <a:ln w="0">
            <a:noFill/>
          </a:ln>
        </p:spPr>
        <p:style>
          <a:lnRef idx="0"/>
          <a:fillRef idx="0"/>
          <a:effectRef idx="0"/>
          <a:fontRef idx="minor"/>
        </p:style>
        <p:txBody>
          <a:bodyPr lIns="90000" rIns="90000" tIns="46800" bIns="46800" anchor="t">
            <a:normAutofit fontScale="48000"/>
          </a:bodyPr>
          <a:p>
            <a:pPr marL="164520" indent="-164520">
              <a:lnSpc>
                <a:spcPct val="100000"/>
              </a:lnSpc>
              <a:spcBef>
                <a:spcPts val="799"/>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64520" indent="-164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99"/>
                </a:solidFill>
                <a:latin typeface="Arial"/>
              </a:rPr>
              <a:t>	</a:t>
            </a:r>
            <a:r>
              <a:rPr b="0" lang="en-GB" sz="3200" spc="-1" strike="noStrike">
                <a:solidFill>
                  <a:srgbClr val="990099"/>
                </a:solidFill>
                <a:latin typeface="Arial"/>
              </a:rPr>
              <a:t>Where?</a:t>
            </a:r>
            <a:endParaRPr b="0" lang="en-US" sz="3200" spc="-1" strike="noStrike">
              <a:solidFill>
                <a:srgbClr val="000000"/>
              </a:solidFill>
              <a:latin typeface="Arial"/>
            </a:endParaRPr>
          </a:p>
          <a:p>
            <a:pPr marL="164520" indent="-164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64520" indent="-164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81862"/>
                </a:solidFill>
                <a:latin typeface="Arial"/>
              </a:rPr>
              <a:t>   </a:t>
            </a:r>
            <a:endParaRPr b="0" lang="en-US" sz="2800" spc="-1" strike="noStrike">
              <a:solidFill>
                <a:srgbClr val="000000"/>
              </a:solidFill>
              <a:latin typeface="Arial"/>
            </a:endParaRPr>
          </a:p>
          <a:p>
            <a:pPr marL="164520" indent="-164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
          <p:cNvSpPr/>
          <p:nvPr/>
        </p:nvSpPr>
        <p:spPr>
          <a:xfrm>
            <a:off x="6372360" y="3500280"/>
            <a:ext cx="863640" cy="36036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6372360" y="5013360"/>
            <a:ext cx="647640" cy="21600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5292720" y="3645000"/>
            <a:ext cx="574560" cy="1368360"/>
          </a:xfrm>
          <a:custGeom>
            <a:avLst/>
            <a:gdLst>
              <a:gd name="textAreaLeft" fmla="*/ 367200 w 574560"/>
              <a:gd name="textAreaRight" fmla="*/ 574920 w 57456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6392880" y="5060880"/>
            <a:ext cx="339840" cy="952560"/>
          </a:xfrm>
          <a:custGeom>
            <a:avLst/>
            <a:gdLst/>
            <a:ahLst/>
            <a:rect l="l" t="t" r="r" b="b"/>
            <a:pathLst>
              <a:path w="214" h="600">
                <a:moveTo>
                  <a:pt x="65" y="596"/>
                </a:moveTo>
                <a:cubicBezTo>
                  <a:pt x="10" y="591"/>
                  <a:pt x="10" y="600"/>
                  <a:pt x="17" y="552"/>
                </a:cubicBezTo>
                <a:cubicBezTo>
                  <a:pt x="16" y="531"/>
                  <a:pt x="15" y="509"/>
                  <a:pt x="13" y="488"/>
                </a:cubicBezTo>
                <a:cubicBezTo>
                  <a:pt x="12" y="477"/>
                  <a:pt x="0" y="469"/>
                  <a:pt x="13" y="456"/>
                </a:cubicBezTo>
                <a:cubicBezTo>
                  <a:pt x="19" y="450"/>
                  <a:pt x="29" y="451"/>
                  <a:pt x="37" y="448"/>
                </a:cubicBezTo>
                <a:cubicBezTo>
                  <a:pt x="53" y="443"/>
                  <a:pt x="69" y="432"/>
                  <a:pt x="85" y="424"/>
                </a:cubicBezTo>
                <a:cubicBezTo>
                  <a:pt x="97" y="418"/>
                  <a:pt x="121" y="404"/>
                  <a:pt x="121" y="404"/>
                </a:cubicBezTo>
                <a:cubicBezTo>
                  <a:pt x="134" y="384"/>
                  <a:pt x="138" y="362"/>
                  <a:pt x="145" y="340"/>
                </a:cubicBezTo>
                <a:cubicBezTo>
                  <a:pt x="151" y="298"/>
                  <a:pt x="160" y="237"/>
                  <a:pt x="197" y="212"/>
                </a:cubicBezTo>
                <a:cubicBezTo>
                  <a:pt x="214" y="160"/>
                  <a:pt x="189" y="97"/>
                  <a:pt x="145" y="68"/>
                </a:cubicBezTo>
                <a:cubicBezTo>
                  <a:pt x="121" y="52"/>
                  <a:pt x="77" y="45"/>
                  <a:pt x="49" y="36"/>
                </a:cubicBezTo>
                <a:cubicBezTo>
                  <a:pt x="38" y="32"/>
                  <a:pt x="49" y="12"/>
                  <a:pt x="49" y="0"/>
                </a:cubicBezTo>
              </a:path>
            </a:pathLst>
          </a:custGeom>
          <a:noFill/>
          <a:ln w="3816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bad3"/>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80520"/>
            <a:ext cx="8229600" cy="110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66"/>
                </a:solidFill>
                <a:latin typeface="Arial"/>
              </a:rPr>
              <a:t>A, B, C or D?</a:t>
            </a:r>
            <a:endParaRPr b="0" lang="en-US" sz="4000" spc="-1" strike="noStrike">
              <a:solidFill>
                <a:srgbClr val="242492"/>
              </a:solidFill>
              <a:latin typeface="Tahoma"/>
            </a:endParaRPr>
          </a:p>
        </p:txBody>
      </p:sp>
      <p:sp>
        <p:nvSpPr>
          <p:cNvPr id="262" name="PlaceHolder 2"/>
          <p:cNvSpPr>
            <a:spLocks noGrp="1"/>
          </p:cNvSpPr>
          <p:nvPr>
            <p:ph/>
          </p:nvPr>
        </p:nvSpPr>
        <p:spPr>
          <a:xfrm>
            <a:off x="468000" y="1773360"/>
            <a:ext cx="8280360" cy="41767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ater body designation</a:t>
            </a:r>
            <a:endParaRPr b="0" lang="en-US" sz="2800" spc="-1" strike="noStrike">
              <a:solidFill>
                <a:srgbClr val="000000"/>
              </a:solidFill>
              <a:latin typeface="Tahoma"/>
            </a:endParaRPr>
          </a:p>
          <a:p>
            <a:pPr marL="343080" indent="-343080">
              <a:lnSpc>
                <a:spcPct val="100000"/>
              </a:lnSpc>
              <a:spcBef>
                <a:spcPts val="700"/>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Monitoring strategy</a:t>
            </a:r>
            <a:endParaRPr b="0" lang="en-US" sz="2800" spc="-1" strike="noStrike">
              <a:solidFill>
                <a:srgbClr val="000000"/>
              </a:solidFill>
              <a:latin typeface="Tahoma"/>
            </a:endParaRPr>
          </a:p>
          <a:p>
            <a:pPr marL="343080" indent="-343080">
              <a:lnSpc>
                <a:spcPct val="100000"/>
              </a:lnSpc>
              <a:spcBef>
                <a:spcPts val="700"/>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nformation about </a:t>
            </a:r>
            <a:r>
              <a:rPr b="0" lang="en-GB" sz="2800" spc="-1" strike="noStrike">
                <a:solidFill>
                  <a:srgbClr val="ff0000"/>
                </a:solidFill>
                <a:latin typeface="Arial"/>
              </a:rPr>
              <a:t>variability</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263" name=""/>
          <p:cNvGrpSpPr/>
          <p:nvPr/>
        </p:nvGrpSpPr>
        <p:grpSpPr>
          <a:xfrm>
            <a:off x="4500720" y="3933720"/>
            <a:ext cx="3598560" cy="1948680"/>
            <a:chOff x="4500720" y="3933720"/>
            <a:chExt cx="3598560" cy="1948680"/>
          </a:xfrm>
        </p:grpSpPr>
        <p:sp>
          <p:nvSpPr>
            <p:cNvPr id="264" name=""/>
            <p:cNvSpPr/>
            <p:nvPr/>
          </p:nvSpPr>
          <p:spPr>
            <a:xfrm>
              <a:off x="4500720" y="3933720"/>
              <a:ext cx="1150920" cy="79056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5580000" y="4508640"/>
              <a:ext cx="25192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How can we use this information?</a:t>
              </a:r>
              <a:endParaRPr b="0" lang="en-US" sz="2800" spc="-1" strike="noStrike">
                <a:solidFill>
                  <a:srgbClr val="000000"/>
                </a:solidFill>
                <a:latin typeface="Arial"/>
              </a:endParaRPr>
            </a:p>
          </p:txBody>
        </p:sp>
      </p:gr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c1c72"/>
                </a:solidFill>
                <a:latin typeface="Arial"/>
              </a:rPr>
              <a:t>Assessing significant impact</a:t>
            </a:r>
            <a:endParaRPr b="0" lang="en-US" sz="4400" spc="-1" strike="noStrike">
              <a:solidFill>
                <a:srgbClr val="242492"/>
              </a:solidFill>
              <a:latin typeface="Tahoma"/>
            </a:endParaRPr>
          </a:p>
        </p:txBody>
      </p:sp>
      <p:grpSp>
        <p:nvGrpSpPr>
          <p:cNvPr id="267" name=""/>
          <p:cNvGrpSpPr/>
          <p:nvPr/>
        </p:nvGrpSpPr>
        <p:grpSpPr>
          <a:xfrm>
            <a:off x="5796000" y="1484280"/>
            <a:ext cx="2644560" cy="4680000"/>
            <a:chOff x="5796000" y="1484280"/>
            <a:chExt cx="2644560" cy="4680000"/>
          </a:xfrm>
        </p:grpSpPr>
        <p:sp>
          <p:nvSpPr>
            <p:cNvPr id="268" name=""/>
            <p:cNvSpPr/>
            <p:nvPr/>
          </p:nvSpPr>
          <p:spPr>
            <a:xfrm rot="5400000">
              <a:off x="4777920" y="2501640"/>
              <a:ext cx="4680000" cy="2644560"/>
            </a:xfrm>
            <a:custGeom>
              <a:avLst/>
              <a:gdLst/>
              <a:ahLst/>
              <a:rect l="l" t="t" r="r" b="b"/>
              <a:pathLst>
                <a:path w="4144" h="2280">
                  <a:moveTo>
                    <a:pt x="4120" y="1560"/>
                  </a:moveTo>
                  <a:cubicBezTo>
                    <a:pt x="4079" y="1546"/>
                    <a:pt x="4063" y="1505"/>
                    <a:pt x="4024" y="1488"/>
                  </a:cubicBezTo>
                  <a:cubicBezTo>
                    <a:pt x="3964" y="1461"/>
                    <a:pt x="3911" y="1437"/>
                    <a:pt x="3848" y="1416"/>
                  </a:cubicBezTo>
                  <a:cubicBezTo>
                    <a:pt x="3839" y="1413"/>
                    <a:pt x="3833" y="1403"/>
                    <a:pt x="3824" y="1400"/>
                  </a:cubicBezTo>
                  <a:cubicBezTo>
                    <a:pt x="3771" y="1380"/>
                    <a:pt x="3656" y="1376"/>
                    <a:pt x="3656" y="1376"/>
                  </a:cubicBezTo>
                  <a:cubicBezTo>
                    <a:pt x="3562" y="1383"/>
                    <a:pt x="3548" y="1385"/>
                    <a:pt x="3472" y="1360"/>
                  </a:cubicBezTo>
                  <a:cubicBezTo>
                    <a:pt x="3472" y="1360"/>
                    <a:pt x="3412" y="1320"/>
                    <a:pt x="3400" y="1312"/>
                  </a:cubicBezTo>
                  <a:cubicBezTo>
                    <a:pt x="3384" y="1301"/>
                    <a:pt x="3352" y="1280"/>
                    <a:pt x="3352" y="1280"/>
                  </a:cubicBezTo>
                  <a:cubicBezTo>
                    <a:pt x="3342" y="1251"/>
                    <a:pt x="3325" y="1229"/>
                    <a:pt x="3296" y="1216"/>
                  </a:cubicBezTo>
                  <a:cubicBezTo>
                    <a:pt x="3281" y="1209"/>
                    <a:pt x="3264" y="1205"/>
                    <a:pt x="3248" y="1200"/>
                  </a:cubicBezTo>
                  <a:cubicBezTo>
                    <a:pt x="3240" y="1197"/>
                    <a:pt x="3224" y="1192"/>
                    <a:pt x="3224" y="1192"/>
                  </a:cubicBezTo>
                  <a:cubicBezTo>
                    <a:pt x="3176" y="1195"/>
                    <a:pt x="3128" y="1196"/>
                    <a:pt x="3080" y="1200"/>
                  </a:cubicBezTo>
                  <a:cubicBezTo>
                    <a:pt x="3047" y="1203"/>
                    <a:pt x="3028" y="1219"/>
                    <a:pt x="3000" y="1232"/>
                  </a:cubicBezTo>
                  <a:cubicBezTo>
                    <a:pt x="2943" y="1258"/>
                    <a:pt x="2904" y="1258"/>
                    <a:pt x="2840" y="1264"/>
                  </a:cubicBezTo>
                  <a:cubicBezTo>
                    <a:pt x="2776" y="1285"/>
                    <a:pt x="2740" y="1386"/>
                    <a:pt x="2704" y="1440"/>
                  </a:cubicBezTo>
                  <a:cubicBezTo>
                    <a:pt x="2672" y="1488"/>
                    <a:pt x="2604" y="1499"/>
                    <a:pt x="2552" y="1512"/>
                  </a:cubicBezTo>
                  <a:cubicBezTo>
                    <a:pt x="2536" y="1509"/>
                    <a:pt x="2519" y="1511"/>
                    <a:pt x="2504" y="1504"/>
                  </a:cubicBezTo>
                  <a:cubicBezTo>
                    <a:pt x="2470" y="1489"/>
                    <a:pt x="2468" y="1437"/>
                    <a:pt x="2448" y="1408"/>
                  </a:cubicBezTo>
                  <a:cubicBezTo>
                    <a:pt x="2444" y="1390"/>
                    <a:pt x="2432" y="1340"/>
                    <a:pt x="2424" y="1328"/>
                  </a:cubicBezTo>
                  <a:cubicBezTo>
                    <a:pt x="2402" y="1295"/>
                    <a:pt x="2380" y="1269"/>
                    <a:pt x="2368" y="1232"/>
                  </a:cubicBezTo>
                  <a:cubicBezTo>
                    <a:pt x="2365" y="1200"/>
                    <a:pt x="2364" y="1168"/>
                    <a:pt x="2360" y="1136"/>
                  </a:cubicBezTo>
                  <a:cubicBezTo>
                    <a:pt x="2358" y="1122"/>
                    <a:pt x="2362" y="1106"/>
                    <a:pt x="2352" y="1096"/>
                  </a:cubicBezTo>
                  <a:cubicBezTo>
                    <a:pt x="2340" y="1084"/>
                    <a:pt x="2318" y="1089"/>
                    <a:pt x="2304" y="1080"/>
                  </a:cubicBezTo>
                  <a:cubicBezTo>
                    <a:pt x="2230" y="1030"/>
                    <a:pt x="2132" y="1040"/>
                    <a:pt x="2048" y="1016"/>
                  </a:cubicBezTo>
                  <a:cubicBezTo>
                    <a:pt x="2004" y="1003"/>
                    <a:pt x="1966" y="969"/>
                    <a:pt x="1928" y="944"/>
                  </a:cubicBezTo>
                  <a:cubicBezTo>
                    <a:pt x="1914" y="935"/>
                    <a:pt x="1880" y="928"/>
                    <a:pt x="1880" y="928"/>
                  </a:cubicBezTo>
                  <a:cubicBezTo>
                    <a:pt x="1846" y="894"/>
                    <a:pt x="1826" y="906"/>
                    <a:pt x="1792" y="872"/>
                  </a:cubicBezTo>
                  <a:cubicBezTo>
                    <a:pt x="1748" y="740"/>
                    <a:pt x="1783" y="600"/>
                    <a:pt x="1760" y="464"/>
                  </a:cubicBezTo>
                  <a:cubicBezTo>
                    <a:pt x="1766" y="380"/>
                    <a:pt x="1773" y="331"/>
                    <a:pt x="1792" y="256"/>
                  </a:cubicBezTo>
                  <a:cubicBezTo>
                    <a:pt x="1789" y="232"/>
                    <a:pt x="1792" y="207"/>
                    <a:pt x="1784" y="184"/>
                  </a:cubicBezTo>
                  <a:cubicBezTo>
                    <a:pt x="1780" y="173"/>
                    <a:pt x="1766" y="169"/>
                    <a:pt x="1760" y="160"/>
                  </a:cubicBezTo>
                  <a:cubicBezTo>
                    <a:pt x="1755" y="153"/>
                    <a:pt x="1757" y="143"/>
                    <a:pt x="1752" y="136"/>
                  </a:cubicBezTo>
                  <a:cubicBezTo>
                    <a:pt x="1727" y="105"/>
                    <a:pt x="1675" y="100"/>
                    <a:pt x="1640" y="88"/>
                  </a:cubicBezTo>
                  <a:cubicBezTo>
                    <a:pt x="1602" y="50"/>
                    <a:pt x="1589" y="36"/>
                    <a:pt x="1544" y="16"/>
                  </a:cubicBezTo>
                  <a:cubicBezTo>
                    <a:pt x="1529" y="9"/>
                    <a:pt x="1496" y="0"/>
                    <a:pt x="1496" y="0"/>
                  </a:cubicBezTo>
                  <a:cubicBezTo>
                    <a:pt x="1489" y="1"/>
                    <a:pt x="1398" y="11"/>
                    <a:pt x="1384" y="16"/>
                  </a:cubicBezTo>
                  <a:cubicBezTo>
                    <a:pt x="1367" y="22"/>
                    <a:pt x="1353" y="34"/>
                    <a:pt x="1336" y="40"/>
                  </a:cubicBezTo>
                  <a:cubicBezTo>
                    <a:pt x="1297" y="69"/>
                    <a:pt x="1273" y="103"/>
                    <a:pt x="1240" y="136"/>
                  </a:cubicBezTo>
                  <a:cubicBezTo>
                    <a:pt x="1199" y="258"/>
                    <a:pt x="1248" y="98"/>
                    <a:pt x="1216" y="352"/>
                  </a:cubicBezTo>
                  <a:cubicBezTo>
                    <a:pt x="1212" y="385"/>
                    <a:pt x="1111" y="430"/>
                    <a:pt x="1080" y="440"/>
                  </a:cubicBezTo>
                  <a:cubicBezTo>
                    <a:pt x="1062" y="454"/>
                    <a:pt x="1039" y="463"/>
                    <a:pt x="1024" y="480"/>
                  </a:cubicBezTo>
                  <a:cubicBezTo>
                    <a:pt x="1011" y="494"/>
                    <a:pt x="992" y="528"/>
                    <a:pt x="992" y="528"/>
                  </a:cubicBezTo>
                  <a:cubicBezTo>
                    <a:pt x="984" y="578"/>
                    <a:pt x="979" y="625"/>
                    <a:pt x="960" y="672"/>
                  </a:cubicBezTo>
                  <a:cubicBezTo>
                    <a:pt x="966" y="866"/>
                    <a:pt x="975" y="928"/>
                    <a:pt x="960" y="1104"/>
                  </a:cubicBezTo>
                  <a:cubicBezTo>
                    <a:pt x="957" y="1139"/>
                    <a:pt x="928" y="1178"/>
                    <a:pt x="896" y="1192"/>
                  </a:cubicBezTo>
                  <a:cubicBezTo>
                    <a:pt x="881" y="1199"/>
                    <a:pt x="848" y="1208"/>
                    <a:pt x="848" y="1208"/>
                  </a:cubicBezTo>
                  <a:cubicBezTo>
                    <a:pt x="791" y="1205"/>
                    <a:pt x="716" y="1221"/>
                    <a:pt x="664" y="1184"/>
                  </a:cubicBezTo>
                  <a:cubicBezTo>
                    <a:pt x="655" y="1177"/>
                    <a:pt x="650" y="1165"/>
                    <a:pt x="640" y="1160"/>
                  </a:cubicBezTo>
                  <a:cubicBezTo>
                    <a:pt x="620" y="1151"/>
                    <a:pt x="576" y="1144"/>
                    <a:pt x="576" y="1144"/>
                  </a:cubicBezTo>
                  <a:cubicBezTo>
                    <a:pt x="555" y="1146"/>
                    <a:pt x="489" y="1144"/>
                    <a:pt x="456" y="1160"/>
                  </a:cubicBezTo>
                  <a:cubicBezTo>
                    <a:pt x="405" y="1185"/>
                    <a:pt x="397" y="1212"/>
                    <a:pt x="336" y="1232"/>
                  </a:cubicBezTo>
                  <a:cubicBezTo>
                    <a:pt x="290" y="1247"/>
                    <a:pt x="240" y="1237"/>
                    <a:pt x="192" y="1240"/>
                  </a:cubicBezTo>
                  <a:cubicBezTo>
                    <a:pt x="163" y="1284"/>
                    <a:pt x="183" y="1246"/>
                    <a:pt x="168" y="1320"/>
                  </a:cubicBezTo>
                  <a:cubicBezTo>
                    <a:pt x="163" y="1347"/>
                    <a:pt x="145" y="1366"/>
                    <a:pt x="136" y="1392"/>
                  </a:cubicBezTo>
                  <a:cubicBezTo>
                    <a:pt x="133" y="1435"/>
                    <a:pt x="141" y="1479"/>
                    <a:pt x="128" y="1520"/>
                  </a:cubicBezTo>
                  <a:cubicBezTo>
                    <a:pt x="121" y="1542"/>
                    <a:pt x="80" y="1568"/>
                    <a:pt x="80" y="1568"/>
                  </a:cubicBezTo>
                  <a:cubicBezTo>
                    <a:pt x="77" y="1576"/>
                    <a:pt x="71" y="1584"/>
                    <a:pt x="72" y="1592"/>
                  </a:cubicBezTo>
                  <a:cubicBezTo>
                    <a:pt x="74" y="1609"/>
                    <a:pt x="88" y="1640"/>
                    <a:pt x="88" y="1640"/>
                  </a:cubicBezTo>
                  <a:cubicBezTo>
                    <a:pt x="85" y="1661"/>
                    <a:pt x="87" y="1684"/>
                    <a:pt x="80" y="1704"/>
                  </a:cubicBezTo>
                  <a:cubicBezTo>
                    <a:pt x="68" y="1739"/>
                    <a:pt x="28" y="1765"/>
                    <a:pt x="16" y="1800"/>
                  </a:cubicBezTo>
                  <a:cubicBezTo>
                    <a:pt x="3" y="1839"/>
                    <a:pt x="9" y="1816"/>
                    <a:pt x="0" y="1872"/>
                  </a:cubicBezTo>
                  <a:cubicBezTo>
                    <a:pt x="26" y="1949"/>
                    <a:pt x="24" y="1926"/>
                    <a:pt x="16" y="2040"/>
                  </a:cubicBezTo>
                  <a:cubicBezTo>
                    <a:pt x="30" y="2136"/>
                    <a:pt x="6" y="2070"/>
                    <a:pt x="48" y="2112"/>
                  </a:cubicBezTo>
                  <a:cubicBezTo>
                    <a:pt x="92" y="2156"/>
                    <a:pt x="19" y="2130"/>
                    <a:pt x="128" y="2144"/>
                  </a:cubicBezTo>
                  <a:cubicBezTo>
                    <a:pt x="196" y="2212"/>
                    <a:pt x="270" y="2250"/>
                    <a:pt x="360" y="2280"/>
                  </a:cubicBezTo>
                  <a:cubicBezTo>
                    <a:pt x="481" y="2270"/>
                    <a:pt x="546" y="2243"/>
                    <a:pt x="656" y="2216"/>
                  </a:cubicBezTo>
                  <a:cubicBezTo>
                    <a:pt x="730" y="2170"/>
                    <a:pt x="800" y="2120"/>
                    <a:pt x="872" y="2072"/>
                  </a:cubicBezTo>
                  <a:cubicBezTo>
                    <a:pt x="902" y="2052"/>
                    <a:pt x="944" y="2040"/>
                    <a:pt x="976" y="2024"/>
                  </a:cubicBezTo>
                  <a:cubicBezTo>
                    <a:pt x="1013" y="2005"/>
                    <a:pt x="1036" y="1964"/>
                    <a:pt x="1072" y="1944"/>
                  </a:cubicBezTo>
                  <a:cubicBezTo>
                    <a:pt x="1094" y="1932"/>
                    <a:pt x="1127" y="1927"/>
                    <a:pt x="1152" y="1920"/>
                  </a:cubicBezTo>
                  <a:cubicBezTo>
                    <a:pt x="1192" y="1908"/>
                    <a:pt x="1224" y="1896"/>
                    <a:pt x="1264" y="1888"/>
                  </a:cubicBezTo>
                  <a:cubicBezTo>
                    <a:pt x="1291" y="1891"/>
                    <a:pt x="1319" y="1888"/>
                    <a:pt x="1344" y="1896"/>
                  </a:cubicBezTo>
                  <a:cubicBezTo>
                    <a:pt x="1396" y="1913"/>
                    <a:pt x="1326" y="1986"/>
                    <a:pt x="1312" y="2000"/>
                  </a:cubicBezTo>
                  <a:cubicBezTo>
                    <a:pt x="1296" y="2048"/>
                    <a:pt x="1280" y="2044"/>
                    <a:pt x="1320" y="2064"/>
                  </a:cubicBezTo>
                  <a:cubicBezTo>
                    <a:pt x="1328" y="2068"/>
                    <a:pt x="1336" y="2069"/>
                    <a:pt x="1344" y="2072"/>
                  </a:cubicBezTo>
                  <a:cubicBezTo>
                    <a:pt x="1387" y="2068"/>
                    <a:pt x="1435" y="2078"/>
                    <a:pt x="1472" y="2056"/>
                  </a:cubicBezTo>
                  <a:cubicBezTo>
                    <a:pt x="1492" y="2045"/>
                    <a:pt x="1520" y="2008"/>
                    <a:pt x="1520" y="2008"/>
                  </a:cubicBezTo>
                  <a:cubicBezTo>
                    <a:pt x="1527" y="1969"/>
                    <a:pt x="1524" y="1915"/>
                    <a:pt x="1544" y="1880"/>
                  </a:cubicBezTo>
                  <a:cubicBezTo>
                    <a:pt x="1553" y="1863"/>
                    <a:pt x="1560" y="1843"/>
                    <a:pt x="1576" y="1832"/>
                  </a:cubicBezTo>
                  <a:cubicBezTo>
                    <a:pt x="1592" y="1821"/>
                    <a:pt x="1624" y="1800"/>
                    <a:pt x="1624" y="1800"/>
                  </a:cubicBezTo>
                  <a:cubicBezTo>
                    <a:pt x="1647" y="1765"/>
                    <a:pt x="1673" y="1738"/>
                    <a:pt x="1696" y="1704"/>
                  </a:cubicBezTo>
                  <a:cubicBezTo>
                    <a:pt x="1705" y="1652"/>
                    <a:pt x="1710" y="1644"/>
                    <a:pt x="1752" y="1616"/>
                  </a:cubicBezTo>
                  <a:cubicBezTo>
                    <a:pt x="1803" y="1626"/>
                    <a:pt x="1823" y="1638"/>
                    <a:pt x="1840" y="1688"/>
                  </a:cubicBezTo>
                  <a:cubicBezTo>
                    <a:pt x="1831" y="1762"/>
                    <a:pt x="1832" y="1745"/>
                    <a:pt x="1808" y="1800"/>
                  </a:cubicBezTo>
                  <a:cubicBezTo>
                    <a:pt x="1801" y="1815"/>
                    <a:pt x="1792" y="1848"/>
                    <a:pt x="1792" y="1848"/>
                  </a:cubicBezTo>
                  <a:cubicBezTo>
                    <a:pt x="1795" y="1856"/>
                    <a:pt x="1793" y="1867"/>
                    <a:pt x="1800" y="1872"/>
                  </a:cubicBezTo>
                  <a:cubicBezTo>
                    <a:pt x="1816" y="1884"/>
                    <a:pt x="1904" y="1909"/>
                    <a:pt x="1920" y="1912"/>
                  </a:cubicBezTo>
                  <a:cubicBezTo>
                    <a:pt x="1953" y="1961"/>
                    <a:pt x="1916" y="1913"/>
                    <a:pt x="1960" y="1952"/>
                  </a:cubicBezTo>
                  <a:cubicBezTo>
                    <a:pt x="2001" y="1988"/>
                    <a:pt x="2027" y="2022"/>
                    <a:pt x="2080" y="2040"/>
                  </a:cubicBezTo>
                  <a:cubicBezTo>
                    <a:pt x="2103" y="2063"/>
                    <a:pt x="2124" y="2088"/>
                    <a:pt x="2144" y="2112"/>
                  </a:cubicBezTo>
                  <a:cubicBezTo>
                    <a:pt x="2155" y="2126"/>
                    <a:pt x="2155" y="2147"/>
                    <a:pt x="2168" y="2160"/>
                  </a:cubicBezTo>
                  <a:cubicBezTo>
                    <a:pt x="2182" y="2174"/>
                    <a:pt x="2200" y="2181"/>
                    <a:pt x="2216" y="2192"/>
                  </a:cubicBezTo>
                  <a:cubicBezTo>
                    <a:pt x="2254" y="2217"/>
                    <a:pt x="2225" y="2215"/>
                    <a:pt x="2264" y="2232"/>
                  </a:cubicBezTo>
                  <a:cubicBezTo>
                    <a:pt x="2303" y="2250"/>
                    <a:pt x="2342" y="2257"/>
                    <a:pt x="2384" y="2264"/>
                  </a:cubicBezTo>
                  <a:cubicBezTo>
                    <a:pt x="2463" y="2256"/>
                    <a:pt x="2534" y="2236"/>
                    <a:pt x="2600" y="2192"/>
                  </a:cubicBezTo>
                  <a:cubicBezTo>
                    <a:pt x="2623" y="2158"/>
                    <a:pt x="2649" y="2131"/>
                    <a:pt x="2672" y="2096"/>
                  </a:cubicBezTo>
                  <a:cubicBezTo>
                    <a:pt x="2677" y="2089"/>
                    <a:pt x="2675" y="2079"/>
                    <a:pt x="2680" y="2072"/>
                  </a:cubicBezTo>
                  <a:cubicBezTo>
                    <a:pt x="2693" y="2056"/>
                    <a:pt x="2734" y="2028"/>
                    <a:pt x="2752" y="2016"/>
                  </a:cubicBezTo>
                  <a:cubicBezTo>
                    <a:pt x="2804" y="2022"/>
                    <a:pt x="2853" y="2027"/>
                    <a:pt x="2904" y="2040"/>
                  </a:cubicBezTo>
                  <a:cubicBezTo>
                    <a:pt x="2931" y="2037"/>
                    <a:pt x="2958" y="2038"/>
                    <a:pt x="2984" y="2032"/>
                  </a:cubicBezTo>
                  <a:cubicBezTo>
                    <a:pt x="3010" y="2026"/>
                    <a:pt x="3030" y="1983"/>
                    <a:pt x="3040" y="1968"/>
                  </a:cubicBezTo>
                  <a:cubicBezTo>
                    <a:pt x="3074" y="1917"/>
                    <a:pt x="3080" y="1872"/>
                    <a:pt x="3128" y="1824"/>
                  </a:cubicBezTo>
                  <a:cubicBezTo>
                    <a:pt x="3153" y="1799"/>
                    <a:pt x="3164" y="1809"/>
                    <a:pt x="3200" y="1800"/>
                  </a:cubicBezTo>
                  <a:cubicBezTo>
                    <a:pt x="3240" y="1790"/>
                    <a:pt x="3280" y="1778"/>
                    <a:pt x="3320" y="1768"/>
                  </a:cubicBezTo>
                  <a:cubicBezTo>
                    <a:pt x="3364" y="1739"/>
                    <a:pt x="3403" y="1701"/>
                    <a:pt x="3440" y="1664"/>
                  </a:cubicBezTo>
                  <a:cubicBezTo>
                    <a:pt x="3455" y="1649"/>
                    <a:pt x="3560" y="1630"/>
                    <a:pt x="3584" y="1624"/>
                  </a:cubicBezTo>
                  <a:cubicBezTo>
                    <a:pt x="3608" y="1627"/>
                    <a:pt x="3633" y="1624"/>
                    <a:pt x="3656" y="1632"/>
                  </a:cubicBezTo>
                  <a:cubicBezTo>
                    <a:pt x="3667" y="1636"/>
                    <a:pt x="3675" y="1646"/>
                    <a:pt x="3680" y="1656"/>
                  </a:cubicBezTo>
                  <a:cubicBezTo>
                    <a:pt x="3688" y="1671"/>
                    <a:pt x="3687" y="1690"/>
                    <a:pt x="3696" y="1704"/>
                  </a:cubicBezTo>
                  <a:cubicBezTo>
                    <a:pt x="3713" y="1730"/>
                    <a:pt x="3735" y="1750"/>
                    <a:pt x="3752" y="1776"/>
                  </a:cubicBezTo>
                  <a:cubicBezTo>
                    <a:pt x="3768" y="1839"/>
                    <a:pt x="3769" y="1878"/>
                    <a:pt x="3840" y="1896"/>
                  </a:cubicBezTo>
                  <a:cubicBezTo>
                    <a:pt x="3880" y="1893"/>
                    <a:pt x="3920" y="1893"/>
                    <a:pt x="3960" y="1888"/>
                  </a:cubicBezTo>
                  <a:cubicBezTo>
                    <a:pt x="3982" y="1885"/>
                    <a:pt x="4024" y="1872"/>
                    <a:pt x="4024" y="1872"/>
                  </a:cubicBezTo>
                  <a:cubicBezTo>
                    <a:pt x="4076" y="1833"/>
                    <a:pt x="4122" y="1801"/>
                    <a:pt x="4144" y="1736"/>
                  </a:cubicBezTo>
                  <a:cubicBezTo>
                    <a:pt x="4141" y="1709"/>
                    <a:pt x="4140" y="1682"/>
                    <a:pt x="4136" y="1656"/>
                  </a:cubicBezTo>
                  <a:cubicBezTo>
                    <a:pt x="4131" y="1623"/>
                    <a:pt x="4104" y="1591"/>
                    <a:pt x="4120" y="1560"/>
                  </a:cubicBezTo>
                  <a:close/>
                </a:path>
              </a:pathLst>
            </a:custGeom>
            <a:solidFill>
              <a:srgbClr val="c0c0c0"/>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9" name=""/>
            <p:cNvSpPr/>
            <p:nvPr/>
          </p:nvSpPr>
          <p:spPr>
            <a:xfrm rot="5400000">
              <a:off x="6166800" y="4764240"/>
              <a:ext cx="368280" cy="253800"/>
            </a:xfrm>
            <a:custGeom>
              <a:avLst/>
              <a:gdLst/>
              <a:ahLst/>
              <a:rect l="l" t="t" r="r" b="b"/>
              <a:pathLst>
                <a:path w="568" h="736">
                  <a:moveTo>
                    <a:pt x="568" y="16"/>
                  </a:moveTo>
                  <a:cubicBezTo>
                    <a:pt x="560" y="16"/>
                    <a:pt x="552" y="16"/>
                    <a:pt x="520" y="16"/>
                  </a:cubicBezTo>
                  <a:cubicBezTo>
                    <a:pt x="488" y="16"/>
                    <a:pt x="416" y="0"/>
                    <a:pt x="376" y="16"/>
                  </a:cubicBezTo>
                  <a:cubicBezTo>
                    <a:pt x="336" y="32"/>
                    <a:pt x="296" y="64"/>
                    <a:pt x="280" y="112"/>
                  </a:cubicBezTo>
                  <a:cubicBezTo>
                    <a:pt x="264" y="160"/>
                    <a:pt x="320" y="256"/>
                    <a:pt x="280" y="304"/>
                  </a:cubicBezTo>
                  <a:cubicBezTo>
                    <a:pt x="240" y="352"/>
                    <a:pt x="80" y="360"/>
                    <a:pt x="40" y="400"/>
                  </a:cubicBezTo>
                  <a:cubicBezTo>
                    <a:pt x="0" y="440"/>
                    <a:pt x="32" y="488"/>
                    <a:pt x="40" y="544"/>
                  </a:cubicBezTo>
                  <a:cubicBezTo>
                    <a:pt x="48" y="600"/>
                    <a:pt x="68" y="668"/>
                    <a:pt x="88" y="736"/>
                  </a:cubicBezTo>
                </a:path>
              </a:pathLst>
            </a:custGeom>
            <a:noFill/>
            <a:ln w="12600">
              <a:solidFill>
                <a:srgbClr val="00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rot="5400000">
              <a:off x="4618080" y="3631320"/>
              <a:ext cx="4022640" cy="734760"/>
            </a:xfrm>
            <a:custGeom>
              <a:avLst/>
              <a:gdLst/>
              <a:ahLst/>
              <a:rect l="l" t="t" r="r" b="b"/>
              <a:pathLst>
                <a:path w="6152" h="800">
                  <a:moveTo>
                    <a:pt x="0" y="584"/>
                  </a:moveTo>
                  <a:cubicBezTo>
                    <a:pt x="28" y="600"/>
                    <a:pt x="56" y="616"/>
                    <a:pt x="96" y="632"/>
                  </a:cubicBezTo>
                  <a:cubicBezTo>
                    <a:pt x="136" y="648"/>
                    <a:pt x="200" y="688"/>
                    <a:pt x="240" y="680"/>
                  </a:cubicBezTo>
                  <a:cubicBezTo>
                    <a:pt x="280" y="672"/>
                    <a:pt x="304" y="608"/>
                    <a:pt x="336" y="584"/>
                  </a:cubicBezTo>
                  <a:cubicBezTo>
                    <a:pt x="368" y="560"/>
                    <a:pt x="384" y="536"/>
                    <a:pt x="432" y="536"/>
                  </a:cubicBezTo>
                  <a:cubicBezTo>
                    <a:pt x="480" y="536"/>
                    <a:pt x="544" y="576"/>
                    <a:pt x="624" y="584"/>
                  </a:cubicBezTo>
                  <a:cubicBezTo>
                    <a:pt x="704" y="592"/>
                    <a:pt x="840" y="616"/>
                    <a:pt x="912" y="584"/>
                  </a:cubicBezTo>
                  <a:cubicBezTo>
                    <a:pt x="984" y="552"/>
                    <a:pt x="992" y="456"/>
                    <a:pt x="1056" y="392"/>
                  </a:cubicBezTo>
                  <a:cubicBezTo>
                    <a:pt x="1120" y="328"/>
                    <a:pt x="1224" y="224"/>
                    <a:pt x="1296" y="200"/>
                  </a:cubicBezTo>
                  <a:cubicBezTo>
                    <a:pt x="1368" y="176"/>
                    <a:pt x="1432" y="216"/>
                    <a:pt x="1488" y="248"/>
                  </a:cubicBezTo>
                  <a:cubicBezTo>
                    <a:pt x="1544" y="280"/>
                    <a:pt x="1560" y="392"/>
                    <a:pt x="1632" y="392"/>
                  </a:cubicBezTo>
                  <a:cubicBezTo>
                    <a:pt x="1704" y="392"/>
                    <a:pt x="1856" y="304"/>
                    <a:pt x="1920" y="248"/>
                  </a:cubicBezTo>
                  <a:cubicBezTo>
                    <a:pt x="1984" y="192"/>
                    <a:pt x="1952" y="96"/>
                    <a:pt x="2016" y="56"/>
                  </a:cubicBezTo>
                  <a:cubicBezTo>
                    <a:pt x="2080" y="16"/>
                    <a:pt x="2240" y="0"/>
                    <a:pt x="2304" y="8"/>
                  </a:cubicBezTo>
                  <a:cubicBezTo>
                    <a:pt x="2368" y="16"/>
                    <a:pt x="2384" y="56"/>
                    <a:pt x="2400" y="104"/>
                  </a:cubicBezTo>
                  <a:cubicBezTo>
                    <a:pt x="2416" y="152"/>
                    <a:pt x="2384" y="248"/>
                    <a:pt x="2400" y="296"/>
                  </a:cubicBezTo>
                  <a:cubicBezTo>
                    <a:pt x="2416" y="344"/>
                    <a:pt x="2456" y="376"/>
                    <a:pt x="2496" y="392"/>
                  </a:cubicBezTo>
                  <a:cubicBezTo>
                    <a:pt x="2536" y="408"/>
                    <a:pt x="2576" y="432"/>
                    <a:pt x="2640" y="392"/>
                  </a:cubicBezTo>
                  <a:cubicBezTo>
                    <a:pt x="2704" y="352"/>
                    <a:pt x="2824" y="192"/>
                    <a:pt x="2880" y="152"/>
                  </a:cubicBezTo>
                  <a:cubicBezTo>
                    <a:pt x="2936" y="112"/>
                    <a:pt x="2960" y="136"/>
                    <a:pt x="2976" y="152"/>
                  </a:cubicBezTo>
                  <a:cubicBezTo>
                    <a:pt x="2992" y="168"/>
                    <a:pt x="2976" y="208"/>
                    <a:pt x="2976" y="248"/>
                  </a:cubicBezTo>
                  <a:cubicBezTo>
                    <a:pt x="2976" y="288"/>
                    <a:pt x="2944" y="384"/>
                    <a:pt x="2976" y="392"/>
                  </a:cubicBezTo>
                  <a:cubicBezTo>
                    <a:pt x="3008" y="400"/>
                    <a:pt x="3128" y="288"/>
                    <a:pt x="3168" y="296"/>
                  </a:cubicBezTo>
                  <a:cubicBezTo>
                    <a:pt x="3208" y="304"/>
                    <a:pt x="3232" y="392"/>
                    <a:pt x="3216" y="440"/>
                  </a:cubicBezTo>
                  <a:cubicBezTo>
                    <a:pt x="3200" y="488"/>
                    <a:pt x="3112" y="552"/>
                    <a:pt x="3072" y="584"/>
                  </a:cubicBezTo>
                  <a:cubicBezTo>
                    <a:pt x="3032" y="616"/>
                    <a:pt x="2992" y="600"/>
                    <a:pt x="2976" y="632"/>
                  </a:cubicBezTo>
                  <a:cubicBezTo>
                    <a:pt x="2960" y="664"/>
                    <a:pt x="2936" y="752"/>
                    <a:pt x="2976" y="776"/>
                  </a:cubicBezTo>
                  <a:cubicBezTo>
                    <a:pt x="3016" y="800"/>
                    <a:pt x="3144" y="792"/>
                    <a:pt x="3216" y="776"/>
                  </a:cubicBezTo>
                  <a:cubicBezTo>
                    <a:pt x="3288" y="760"/>
                    <a:pt x="3336" y="704"/>
                    <a:pt x="3408" y="680"/>
                  </a:cubicBezTo>
                  <a:cubicBezTo>
                    <a:pt x="3480" y="656"/>
                    <a:pt x="3568" y="640"/>
                    <a:pt x="3648" y="632"/>
                  </a:cubicBezTo>
                  <a:cubicBezTo>
                    <a:pt x="3728" y="624"/>
                    <a:pt x="3816" y="648"/>
                    <a:pt x="3888" y="632"/>
                  </a:cubicBezTo>
                  <a:cubicBezTo>
                    <a:pt x="3960" y="616"/>
                    <a:pt x="4032" y="584"/>
                    <a:pt x="4080" y="536"/>
                  </a:cubicBezTo>
                  <a:cubicBezTo>
                    <a:pt x="4128" y="488"/>
                    <a:pt x="4136" y="376"/>
                    <a:pt x="4176" y="344"/>
                  </a:cubicBezTo>
                  <a:cubicBezTo>
                    <a:pt x="4216" y="312"/>
                    <a:pt x="4288" y="328"/>
                    <a:pt x="4320" y="344"/>
                  </a:cubicBezTo>
                  <a:cubicBezTo>
                    <a:pt x="4352" y="360"/>
                    <a:pt x="4320" y="440"/>
                    <a:pt x="4368" y="440"/>
                  </a:cubicBezTo>
                  <a:cubicBezTo>
                    <a:pt x="4416" y="440"/>
                    <a:pt x="4552" y="344"/>
                    <a:pt x="4608" y="344"/>
                  </a:cubicBezTo>
                  <a:cubicBezTo>
                    <a:pt x="4664" y="344"/>
                    <a:pt x="4696" y="408"/>
                    <a:pt x="4704" y="440"/>
                  </a:cubicBezTo>
                  <a:cubicBezTo>
                    <a:pt x="4712" y="472"/>
                    <a:pt x="4648" y="512"/>
                    <a:pt x="4656" y="536"/>
                  </a:cubicBezTo>
                  <a:cubicBezTo>
                    <a:pt x="4664" y="560"/>
                    <a:pt x="4712" y="608"/>
                    <a:pt x="4752" y="584"/>
                  </a:cubicBezTo>
                  <a:cubicBezTo>
                    <a:pt x="4792" y="560"/>
                    <a:pt x="4832" y="440"/>
                    <a:pt x="4896" y="392"/>
                  </a:cubicBezTo>
                  <a:cubicBezTo>
                    <a:pt x="4960" y="344"/>
                    <a:pt x="5072" y="304"/>
                    <a:pt x="5136" y="296"/>
                  </a:cubicBezTo>
                  <a:cubicBezTo>
                    <a:pt x="5200" y="288"/>
                    <a:pt x="5232" y="328"/>
                    <a:pt x="5280" y="344"/>
                  </a:cubicBezTo>
                  <a:cubicBezTo>
                    <a:pt x="5328" y="360"/>
                    <a:pt x="5360" y="376"/>
                    <a:pt x="5424" y="392"/>
                  </a:cubicBezTo>
                  <a:cubicBezTo>
                    <a:pt x="5488" y="408"/>
                    <a:pt x="5600" y="400"/>
                    <a:pt x="5664" y="440"/>
                  </a:cubicBezTo>
                  <a:cubicBezTo>
                    <a:pt x="5728" y="480"/>
                    <a:pt x="5736" y="600"/>
                    <a:pt x="5808" y="632"/>
                  </a:cubicBezTo>
                  <a:cubicBezTo>
                    <a:pt x="5880" y="664"/>
                    <a:pt x="6040" y="640"/>
                    <a:pt x="6096" y="632"/>
                  </a:cubicBezTo>
                  <a:cubicBezTo>
                    <a:pt x="6152" y="624"/>
                    <a:pt x="6136" y="600"/>
                    <a:pt x="6144" y="584"/>
                  </a:cubicBezTo>
                  <a:cubicBezTo>
                    <a:pt x="6152" y="568"/>
                    <a:pt x="6148" y="552"/>
                    <a:pt x="6144" y="536"/>
                  </a:cubicBezTo>
                </a:path>
              </a:pathLst>
            </a:custGeom>
            <a:noFill/>
            <a:ln w="38160">
              <a:solidFill>
                <a:srgbClr val="33cc3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rot="5400000">
              <a:off x="5842080" y="4041000"/>
              <a:ext cx="1474920" cy="631440"/>
            </a:xfrm>
            <a:custGeom>
              <a:avLst/>
              <a:gdLst/>
              <a:ahLst/>
              <a:rect l="l" t="t" r="r" b="b"/>
              <a:pathLst>
                <a:path w="929" h="398">
                  <a:moveTo>
                    <a:pt x="0" y="162"/>
                  </a:moveTo>
                  <a:cubicBezTo>
                    <a:pt x="10" y="162"/>
                    <a:pt x="33" y="185"/>
                    <a:pt x="59" y="162"/>
                  </a:cubicBezTo>
                  <a:cubicBezTo>
                    <a:pt x="86" y="139"/>
                    <a:pt x="135" y="46"/>
                    <a:pt x="158" y="23"/>
                  </a:cubicBezTo>
                  <a:cubicBezTo>
                    <a:pt x="181" y="0"/>
                    <a:pt x="191" y="14"/>
                    <a:pt x="198" y="23"/>
                  </a:cubicBezTo>
                  <a:cubicBezTo>
                    <a:pt x="204" y="32"/>
                    <a:pt x="198" y="55"/>
                    <a:pt x="198" y="79"/>
                  </a:cubicBezTo>
                  <a:cubicBezTo>
                    <a:pt x="198" y="102"/>
                    <a:pt x="185" y="157"/>
                    <a:pt x="198" y="162"/>
                  </a:cubicBezTo>
                  <a:cubicBezTo>
                    <a:pt x="211" y="167"/>
                    <a:pt x="260" y="102"/>
                    <a:pt x="277" y="106"/>
                  </a:cubicBezTo>
                  <a:cubicBezTo>
                    <a:pt x="293" y="111"/>
                    <a:pt x="303" y="162"/>
                    <a:pt x="297" y="190"/>
                  </a:cubicBezTo>
                  <a:cubicBezTo>
                    <a:pt x="290" y="217"/>
                    <a:pt x="254" y="254"/>
                    <a:pt x="237" y="273"/>
                  </a:cubicBezTo>
                  <a:cubicBezTo>
                    <a:pt x="221" y="292"/>
                    <a:pt x="204" y="282"/>
                    <a:pt x="198" y="301"/>
                  </a:cubicBezTo>
                  <a:cubicBezTo>
                    <a:pt x="191" y="319"/>
                    <a:pt x="181" y="370"/>
                    <a:pt x="198" y="384"/>
                  </a:cubicBezTo>
                  <a:cubicBezTo>
                    <a:pt x="214" y="398"/>
                    <a:pt x="267" y="393"/>
                    <a:pt x="297" y="384"/>
                  </a:cubicBezTo>
                  <a:cubicBezTo>
                    <a:pt x="326" y="375"/>
                    <a:pt x="346" y="342"/>
                    <a:pt x="376" y="329"/>
                  </a:cubicBezTo>
                  <a:cubicBezTo>
                    <a:pt x="405" y="315"/>
                    <a:pt x="442" y="305"/>
                    <a:pt x="475" y="301"/>
                  </a:cubicBezTo>
                  <a:cubicBezTo>
                    <a:pt x="508" y="296"/>
                    <a:pt x="544" y="310"/>
                    <a:pt x="573" y="301"/>
                  </a:cubicBezTo>
                  <a:cubicBezTo>
                    <a:pt x="603" y="292"/>
                    <a:pt x="633" y="273"/>
                    <a:pt x="653" y="245"/>
                  </a:cubicBezTo>
                  <a:cubicBezTo>
                    <a:pt x="672" y="217"/>
                    <a:pt x="676" y="153"/>
                    <a:pt x="692" y="134"/>
                  </a:cubicBezTo>
                  <a:cubicBezTo>
                    <a:pt x="709" y="116"/>
                    <a:pt x="738" y="125"/>
                    <a:pt x="751" y="134"/>
                  </a:cubicBezTo>
                  <a:cubicBezTo>
                    <a:pt x="765" y="143"/>
                    <a:pt x="751" y="190"/>
                    <a:pt x="771" y="190"/>
                  </a:cubicBezTo>
                  <a:cubicBezTo>
                    <a:pt x="791" y="190"/>
                    <a:pt x="847" y="134"/>
                    <a:pt x="870" y="134"/>
                  </a:cubicBezTo>
                  <a:cubicBezTo>
                    <a:pt x="893" y="134"/>
                    <a:pt x="906" y="171"/>
                    <a:pt x="910" y="190"/>
                  </a:cubicBezTo>
                  <a:cubicBezTo>
                    <a:pt x="913" y="208"/>
                    <a:pt x="887" y="231"/>
                    <a:pt x="890" y="245"/>
                  </a:cubicBezTo>
                  <a:cubicBezTo>
                    <a:pt x="893" y="259"/>
                    <a:pt x="922" y="268"/>
                    <a:pt x="929" y="273"/>
                  </a:cubicBezTo>
                </a:path>
              </a:pathLst>
            </a:custGeom>
            <a:noFill/>
            <a:ln w="38160">
              <a:solidFill>
                <a:srgbClr val="33cc3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rot="5400000">
              <a:off x="6096960" y="5373720"/>
              <a:ext cx="925200" cy="347400"/>
            </a:xfrm>
            <a:custGeom>
              <a:avLst/>
              <a:gdLst/>
              <a:ahLst/>
              <a:rect l="l" t="t" r="r" b="b"/>
              <a:pathLst>
                <a:path w="583" h="219">
                  <a:moveTo>
                    <a:pt x="0" y="186"/>
                  </a:moveTo>
                  <a:cubicBezTo>
                    <a:pt x="11" y="165"/>
                    <a:pt x="40" y="90"/>
                    <a:pt x="67" y="60"/>
                  </a:cubicBezTo>
                  <a:cubicBezTo>
                    <a:pt x="94" y="30"/>
                    <a:pt x="137" y="8"/>
                    <a:pt x="163" y="4"/>
                  </a:cubicBezTo>
                  <a:cubicBezTo>
                    <a:pt x="189" y="0"/>
                    <a:pt x="202" y="27"/>
                    <a:pt x="223" y="36"/>
                  </a:cubicBezTo>
                  <a:cubicBezTo>
                    <a:pt x="244" y="45"/>
                    <a:pt x="261" y="50"/>
                    <a:pt x="289" y="60"/>
                  </a:cubicBezTo>
                  <a:cubicBezTo>
                    <a:pt x="317" y="70"/>
                    <a:pt x="367" y="75"/>
                    <a:pt x="391" y="96"/>
                  </a:cubicBezTo>
                  <a:cubicBezTo>
                    <a:pt x="415" y="117"/>
                    <a:pt x="416" y="168"/>
                    <a:pt x="431" y="188"/>
                  </a:cubicBezTo>
                  <a:cubicBezTo>
                    <a:pt x="446" y="208"/>
                    <a:pt x="462" y="213"/>
                    <a:pt x="479" y="216"/>
                  </a:cubicBezTo>
                  <a:cubicBezTo>
                    <a:pt x="496" y="219"/>
                    <a:pt x="515" y="209"/>
                    <a:pt x="531" y="204"/>
                  </a:cubicBezTo>
                  <a:cubicBezTo>
                    <a:pt x="547" y="199"/>
                    <a:pt x="565" y="195"/>
                    <a:pt x="574" y="186"/>
                  </a:cubicBezTo>
                  <a:cubicBezTo>
                    <a:pt x="583" y="177"/>
                    <a:pt x="581" y="156"/>
                    <a:pt x="583" y="148"/>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rot="5400000">
              <a:off x="7101000" y="2628360"/>
              <a:ext cx="770040" cy="1076040"/>
            </a:xfrm>
            <a:custGeom>
              <a:avLst/>
              <a:gdLst/>
              <a:ahLst/>
              <a:rect l="l" t="t" r="r" b="b"/>
              <a:pathLst>
                <a:path w="608" h="1248">
                  <a:moveTo>
                    <a:pt x="224" y="0"/>
                  </a:moveTo>
                  <a:cubicBezTo>
                    <a:pt x="268" y="28"/>
                    <a:pt x="312" y="56"/>
                    <a:pt x="320" y="96"/>
                  </a:cubicBezTo>
                  <a:cubicBezTo>
                    <a:pt x="328" y="136"/>
                    <a:pt x="304" y="208"/>
                    <a:pt x="272" y="240"/>
                  </a:cubicBezTo>
                  <a:cubicBezTo>
                    <a:pt x="240" y="272"/>
                    <a:pt x="152" y="264"/>
                    <a:pt x="128" y="288"/>
                  </a:cubicBezTo>
                  <a:cubicBezTo>
                    <a:pt x="104" y="312"/>
                    <a:pt x="96" y="352"/>
                    <a:pt x="128" y="384"/>
                  </a:cubicBezTo>
                  <a:cubicBezTo>
                    <a:pt x="160" y="416"/>
                    <a:pt x="304" y="440"/>
                    <a:pt x="320" y="480"/>
                  </a:cubicBezTo>
                  <a:cubicBezTo>
                    <a:pt x="336" y="520"/>
                    <a:pt x="272" y="592"/>
                    <a:pt x="224" y="624"/>
                  </a:cubicBezTo>
                  <a:cubicBezTo>
                    <a:pt x="176" y="656"/>
                    <a:pt x="64" y="648"/>
                    <a:pt x="32" y="672"/>
                  </a:cubicBezTo>
                  <a:cubicBezTo>
                    <a:pt x="0" y="696"/>
                    <a:pt x="16" y="744"/>
                    <a:pt x="32" y="768"/>
                  </a:cubicBezTo>
                  <a:cubicBezTo>
                    <a:pt x="48" y="792"/>
                    <a:pt x="120" y="792"/>
                    <a:pt x="128" y="816"/>
                  </a:cubicBezTo>
                  <a:cubicBezTo>
                    <a:pt x="136" y="840"/>
                    <a:pt x="64" y="896"/>
                    <a:pt x="80" y="912"/>
                  </a:cubicBezTo>
                  <a:cubicBezTo>
                    <a:pt x="96" y="928"/>
                    <a:pt x="184" y="904"/>
                    <a:pt x="224" y="912"/>
                  </a:cubicBezTo>
                  <a:cubicBezTo>
                    <a:pt x="264" y="920"/>
                    <a:pt x="296" y="928"/>
                    <a:pt x="320" y="960"/>
                  </a:cubicBezTo>
                  <a:cubicBezTo>
                    <a:pt x="344" y="992"/>
                    <a:pt x="320" y="1056"/>
                    <a:pt x="368" y="1104"/>
                  </a:cubicBezTo>
                  <a:cubicBezTo>
                    <a:pt x="416" y="1152"/>
                    <a:pt x="512" y="1200"/>
                    <a:pt x="608" y="1248"/>
                  </a:cubicBezTo>
                </a:path>
              </a:pathLst>
            </a:custGeom>
            <a:noFill/>
            <a:ln w="12600">
              <a:solidFill>
                <a:srgbClr val="33cc3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4" name=""/>
          <p:cNvSpPr/>
          <p:nvPr/>
        </p:nvSpPr>
        <p:spPr>
          <a:xfrm>
            <a:off x="179280" y="1700280"/>
            <a:ext cx="6481800" cy="259236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799"/>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81862"/>
                </a:solidFill>
                <a:latin typeface="Arial"/>
              </a:rPr>
              <a:t>	</a:t>
            </a:r>
            <a:r>
              <a:rPr b="0" lang="en-GB" sz="3200" spc="-1" strike="noStrike">
                <a:solidFill>
                  <a:srgbClr val="181862"/>
                </a:solidFill>
                <a:latin typeface="Arial"/>
              </a:rPr>
              <a:t>What is a significant impact?</a:t>
            </a:r>
            <a:endParaRPr b="0" lang="en-US" sz="3200" spc="-1" strike="noStrike">
              <a:solidFill>
                <a:srgbClr val="000000"/>
              </a:solidFill>
              <a:latin typeface="Arial"/>
            </a:endParaRPr>
          </a:p>
          <a:p>
            <a:pPr marL="308520" indent="-308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81862"/>
                </a:solidFill>
                <a:latin typeface="Arial"/>
              </a:rPr>
              <a:t>	</a:t>
            </a:r>
            <a:r>
              <a:rPr b="0" lang="en-GB" sz="3200" spc="-1" strike="noStrike">
                <a:solidFill>
                  <a:srgbClr val="181862"/>
                </a:solidFill>
                <a:latin typeface="Arial"/>
              </a:rPr>
              <a:t>15% or 1.5km?</a:t>
            </a:r>
            <a:endParaRPr b="0" lang="en-US" sz="3200" spc="-1" strike="noStrike">
              <a:solidFill>
                <a:srgbClr val="000000"/>
              </a:solidFill>
              <a:latin typeface="Arial"/>
            </a:endParaRPr>
          </a:p>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81862"/>
                </a:solidFill>
                <a:latin typeface="Arial"/>
              </a:rPr>
              <a:t>   </a:t>
            </a:r>
            <a:endParaRPr b="0" lang="en-US" sz="2800" spc="-1" strike="noStrike">
              <a:solidFill>
                <a:srgbClr val="000000"/>
              </a:solidFill>
              <a:latin typeface="Arial"/>
            </a:endParaRPr>
          </a:p>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468000" y="1773360"/>
            <a:ext cx="8280360" cy="41767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6" name=""/>
          <p:cNvSpPr/>
          <p:nvPr/>
        </p:nvSpPr>
        <p:spPr>
          <a:xfrm>
            <a:off x="1015920" y="2017800"/>
            <a:ext cx="6937560" cy="4281480"/>
          </a:xfrm>
          <a:custGeom>
            <a:avLst/>
            <a:gdLst/>
            <a:ahLst/>
            <a:rect l="l" t="t" r="r" b="b"/>
            <a:pathLst>
              <a:path w="4370" h="2697">
                <a:moveTo>
                  <a:pt x="0" y="0"/>
                </a:moveTo>
                <a:cubicBezTo>
                  <a:pt x="49" y="3"/>
                  <a:pt x="97" y="4"/>
                  <a:pt x="146" y="9"/>
                </a:cubicBezTo>
                <a:cubicBezTo>
                  <a:pt x="178" y="12"/>
                  <a:pt x="206" y="37"/>
                  <a:pt x="238" y="46"/>
                </a:cubicBezTo>
                <a:cubicBezTo>
                  <a:pt x="281" y="89"/>
                  <a:pt x="334" y="121"/>
                  <a:pt x="384" y="155"/>
                </a:cubicBezTo>
                <a:cubicBezTo>
                  <a:pt x="456" y="203"/>
                  <a:pt x="497" y="289"/>
                  <a:pt x="558" y="347"/>
                </a:cubicBezTo>
                <a:cubicBezTo>
                  <a:pt x="576" y="402"/>
                  <a:pt x="615" y="423"/>
                  <a:pt x="658" y="457"/>
                </a:cubicBezTo>
                <a:cubicBezTo>
                  <a:pt x="672" y="468"/>
                  <a:pt x="680" y="485"/>
                  <a:pt x="695" y="494"/>
                </a:cubicBezTo>
                <a:cubicBezTo>
                  <a:pt x="703" y="499"/>
                  <a:pt x="714" y="498"/>
                  <a:pt x="722" y="503"/>
                </a:cubicBezTo>
                <a:cubicBezTo>
                  <a:pt x="741" y="514"/>
                  <a:pt x="762" y="523"/>
                  <a:pt x="777" y="539"/>
                </a:cubicBezTo>
                <a:cubicBezTo>
                  <a:pt x="783" y="545"/>
                  <a:pt x="788" y="553"/>
                  <a:pt x="795" y="558"/>
                </a:cubicBezTo>
                <a:cubicBezTo>
                  <a:pt x="803" y="563"/>
                  <a:pt x="854" y="575"/>
                  <a:pt x="859" y="576"/>
                </a:cubicBezTo>
                <a:cubicBezTo>
                  <a:pt x="891" y="606"/>
                  <a:pt x="926" y="605"/>
                  <a:pt x="969" y="612"/>
                </a:cubicBezTo>
                <a:cubicBezTo>
                  <a:pt x="1002" y="623"/>
                  <a:pt x="1021" y="630"/>
                  <a:pt x="1051" y="640"/>
                </a:cubicBezTo>
                <a:cubicBezTo>
                  <a:pt x="1060" y="643"/>
                  <a:pt x="1079" y="649"/>
                  <a:pt x="1079" y="649"/>
                </a:cubicBezTo>
                <a:cubicBezTo>
                  <a:pt x="1141" y="690"/>
                  <a:pt x="1218" y="699"/>
                  <a:pt x="1289" y="713"/>
                </a:cubicBezTo>
                <a:cubicBezTo>
                  <a:pt x="1314" y="718"/>
                  <a:pt x="1362" y="731"/>
                  <a:pt x="1362" y="731"/>
                </a:cubicBezTo>
                <a:cubicBezTo>
                  <a:pt x="1444" y="787"/>
                  <a:pt x="1545" y="809"/>
                  <a:pt x="1627" y="868"/>
                </a:cubicBezTo>
                <a:cubicBezTo>
                  <a:pt x="1699" y="919"/>
                  <a:pt x="1740" y="999"/>
                  <a:pt x="1810" y="1051"/>
                </a:cubicBezTo>
                <a:cubicBezTo>
                  <a:pt x="1821" y="1086"/>
                  <a:pt x="1843" y="1104"/>
                  <a:pt x="1865" y="1134"/>
                </a:cubicBezTo>
                <a:cubicBezTo>
                  <a:pt x="1887" y="1199"/>
                  <a:pt x="1858" y="1127"/>
                  <a:pt x="1893" y="1179"/>
                </a:cubicBezTo>
                <a:cubicBezTo>
                  <a:pt x="1919" y="1218"/>
                  <a:pt x="1931" y="1255"/>
                  <a:pt x="1966" y="1289"/>
                </a:cubicBezTo>
                <a:cubicBezTo>
                  <a:pt x="1990" y="1338"/>
                  <a:pt x="2008" y="1359"/>
                  <a:pt x="2048" y="1399"/>
                </a:cubicBezTo>
                <a:cubicBezTo>
                  <a:pt x="2088" y="1439"/>
                  <a:pt x="2117" y="1486"/>
                  <a:pt x="2158" y="1527"/>
                </a:cubicBezTo>
                <a:cubicBezTo>
                  <a:pt x="2167" y="1536"/>
                  <a:pt x="2183" y="1537"/>
                  <a:pt x="2194" y="1545"/>
                </a:cubicBezTo>
                <a:cubicBezTo>
                  <a:pt x="2226" y="1568"/>
                  <a:pt x="2252" y="1588"/>
                  <a:pt x="2286" y="1609"/>
                </a:cubicBezTo>
                <a:cubicBezTo>
                  <a:pt x="2345" y="1646"/>
                  <a:pt x="2391" y="1696"/>
                  <a:pt x="2459" y="1719"/>
                </a:cubicBezTo>
                <a:cubicBezTo>
                  <a:pt x="2497" y="1755"/>
                  <a:pt x="2582" y="1766"/>
                  <a:pt x="2633" y="1783"/>
                </a:cubicBezTo>
                <a:cubicBezTo>
                  <a:pt x="2671" y="1795"/>
                  <a:pt x="2706" y="1815"/>
                  <a:pt x="2743" y="1828"/>
                </a:cubicBezTo>
                <a:cubicBezTo>
                  <a:pt x="2793" y="1845"/>
                  <a:pt x="2847" y="1850"/>
                  <a:pt x="2898" y="1856"/>
                </a:cubicBezTo>
                <a:cubicBezTo>
                  <a:pt x="3022" y="1886"/>
                  <a:pt x="3146" y="1907"/>
                  <a:pt x="3273" y="1920"/>
                </a:cubicBezTo>
                <a:cubicBezTo>
                  <a:pt x="3362" y="1942"/>
                  <a:pt x="3438" y="1993"/>
                  <a:pt x="3520" y="2030"/>
                </a:cubicBezTo>
                <a:cubicBezTo>
                  <a:pt x="3552" y="2044"/>
                  <a:pt x="3573" y="2048"/>
                  <a:pt x="3602" y="2066"/>
                </a:cubicBezTo>
                <a:cubicBezTo>
                  <a:pt x="3636" y="2087"/>
                  <a:pt x="3656" y="2109"/>
                  <a:pt x="3694" y="2121"/>
                </a:cubicBezTo>
                <a:cubicBezTo>
                  <a:pt x="3746" y="2174"/>
                  <a:pt x="3719" y="2160"/>
                  <a:pt x="3767" y="2176"/>
                </a:cubicBezTo>
                <a:cubicBezTo>
                  <a:pt x="3821" y="2230"/>
                  <a:pt x="3885" y="2271"/>
                  <a:pt x="3941" y="2322"/>
                </a:cubicBezTo>
                <a:cubicBezTo>
                  <a:pt x="3975" y="2352"/>
                  <a:pt x="3998" y="2393"/>
                  <a:pt x="4032" y="2423"/>
                </a:cubicBezTo>
                <a:cubicBezTo>
                  <a:pt x="4051" y="2440"/>
                  <a:pt x="4078" y="2450"/>
                  <a:pt x="4096" y="2468"/>
                </a:cubicBezTo>
                <a:cubicBezTo>
                  <a:pt x="4154" y="2526"/>
                  <a:pt x="4127" y="2498"/>
                  <a:pt x="4178" y="2551"/>
                </a:cubicBezTo>
                <a:cubicBezTo>
                  <a:pt x="4193" y="2567"/>
                  <a:pt x="4215" y="2575"/>
                  <a:pt x="4233" y="2587"/>
                </a:cubicBezTo>
                <a:cubicBezTo>
                  <a:pt x="4242" y="2593"/>
                  <a:pt x="4261" y="2606"/>
                  <a:pt x="4261" y="2606"/>
                </a:cubicBezTo>
                <a:cubicBezTo>
                  <a:pt x="4289" y="2648"/>
                  <a:pt x="4335" y="2662"/>
                  <a:pt x="4370" y="2697"/>
                </a:cubicBezTo>
              </a:path>
            </a:pathLst>
          </a:custGeom>
          <a:noFill/>
          <a:ln w="507960">
            <a:solidFill>
              <a:srgbClr val="00bab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rot="547200">
            <a:off x="2987640" y="620280"/>
            <a:ext cx="576360" cy="2673360"/>
          </a:xfrm>
          <a:custGeom>
            <a:avLst/>
            <a:gdLst/>
            <a:ahLst/>
            <a:rect l="l" t="t" r="r" b="b"/>
            <a:pathLst>
              <a:path w="807" h="2093">
                <a:moveTo>
                  <a:pt x="0" y="0"/>
                </a:moveTo>
                <a:cubicBezTo>
                  <a:pt x="50" y="10"/>
                  <a:pt x="99" y="24"/>
                  <a:pt x="146" y="45"/>
                </a:cubicBezTo>
                <a:cubicBezTo>
                  <a:pt x="200" y="69"/>
                  <a:pt x="244" y="103"/>
                  <a:pt x="301" y="119"/>
                </a:cubicBezTo>
                <a:cubicBezTo>
                  <a:pt x="370" y="164"/>
                  <a:pt x="412" y="194"/>
                  <a:pt x="457" y="265"/>
                </a:cubicBezTo>
                <a:cubicBezTo>
                  <a:pt x="464" y="293"/>
                  <a:pt x="483" y="318"/>
                  <a:pt x="484" y="347"/>
                </a:cubicBezTo>
                <a:cubicBezTo>
                  <a:pt x="490" y="512"/>
                  <a:pt x="457" y="635"/>
                  <a:pt x="420" y="786"/>
                </a:cubicBezTo>
                <a:cubicBezTo>
                  <a:pt x="423" y="820"/>
                  <a:pt x="421" y="854"/>
                  <a:pt x="429" y="887"/>
                </a:cubicBezTo>
                <a:cubicBezTo>
                  <a:pt x="439" y="931"/>
                  <a:pt x="482" y="1009"/>
                  <a:pt x="503" y="1051"/>
                </a:cubicBezTo>
                <a:cubicBezTo>
                  <a:pt x="508" y="1061"/>
                  <a:pt x="522" y="1062"/>
                  <a:pt x="530" y="1069"/>
                </a:cubicBezTo>
                <a:cubicBezTo>
                  <a:pt x="565" y="1100"/>
                  <a:pt x="595" y="1132"/>
                  <a:pt x="631" y="1161"/>
                </a:cubicBezTo>
                <a:cubicBezTo>
                  <a:pt x="694" y="1212"/>
                  <a:pt x="731" y="1287"/>
                  <a:pt x="759" y="1362"/>
                </a:cubicBezTo>
                <a:cubicBezTo>
                  <a:pt x="807" y="1653"/>
                  <a:pt x="795" y="1657"/>
                  <a:pt x="795" y="2093"/>
                </a:cubicBezTo>
              </a:path>
            </a:pathLst>
          </a:custGeom>
          <a:noFill/>
          <a:ln w="380880">
            <a:solidFill>
              <a:srgbClr val="00bab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250920" y="4941720"/>
            <a:ext cx="4508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Would it make the water body worse than good?</a:t>
            </a:r>
            <a:endParaRPr b="0" lang="en-US" sz="2800" spc="-1" strike="noStrike">
              <a:solidFill>
                <a:srgbClr val="000000"/>
              </a:solidFill>
              <a:latin typeface="Arial"/>
            </a:endParaRPr>
          </a:p>
        </p:txBody>
      </p:sp>
      <p:grpSp>
        <p:nvGrpSpPr>
          <p:cNvPr id="279" name=""/>
          <p:cNvGrpSpPr/>
          <p:nvPr/>
        </p:nvGrpSpPr>
        <p:grpSpPr>
          <a:xfrm>
            <a:off x="1587960" y="1431000"/>
            <a:ext cx="1880640" cy="2023560"/>
            <a:chOff x="1587960" y="1431000"/>
            <a:chExt cx="1880640" cy="2023560"/>
          </a:xfrm>
        </p:grpSpPr>
        <p:sp>
          <p:nvSpPr>
            <p:cNvPr id="280" name=""/>
            <p:cNvSpPr/>
            <p:nvPr/>
          </p:nvSpPr>
          <p:spPr>
            <a:xfrm rot="8929200">
              <a:off x="1618920" y="1628280"/>
              <a:ext cx="863640" cy="360360"/>
            </a:xfrm>
            <a:prstGeom prst="flowChartMagneticDrum">
              <a:avLst/>
            </a:prstGeom>
            <a:gradFill rotWithShape="0">
              <a:gsLst>
                <a:gs pos="0">
                  <a:srgbClr val="454545"/>
                </a:gs>
                <a:gs pos="50000">
                  <a:srgbClr val="969696"/>
                </a:gs>
                <a:gs pos="100000">
                  <a:srgbClr val="454545"/>
                </a:gs>
              </a:gsLst>
              <a:lin ang="18072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1765440" y="2006640"/>
              <a:ext cx="145800" cy="127080"/>
            </a:xfrm>
            <a:custGeom>
              <a:avLst/>
              <a:gdLst/>
              <a:ahLst/>
              <a:rect l="l" t="t" r="r" b="b"/>
              <a:pathLst>
                <a:path w="92" h="80">
                  <a:moveTo>
                    <a:pt x="0" y="80"/>
                  </a:moveTo>
                  <a:cubicBezTo>
                    <a:pt x="9" y="53"/>
                    <a:pt x="33" y="37"/>
                    <a:pt x="60" y="28"/>
                  </a:cubicBezTo>
                  <a:cubicBezTo>
                    <a:pt x="70" y="18"/>
                    <a:pt x="82" y="10"/>
                    <a:pt x="92" y="0"/>
                  </a:cubicBezTo>
                </a:path>
              </a:pathLst>
            </a:custGeom>
            <a:noFill/>
            <a:ln w="1908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2" name=""/>
            <p:cNvSpPr/>
            <p:nvPr/>
          </p:nvSpPr>
          <p:spPr>
            <a:xfrm>
              <a:off x="1743120" y="2090880"/>
              <a:ext cx="1725480" cy="1363680"/>
            </a:xfrm>
            <a:custGeom>
              <a:avLst/>
              <a:gdLst/>
              <a:ahLst/>
              <a:rect l="l" t="t" r="r" b="b"/>
              <a:pathLst>
                <a:path w="1087" h="859">
                  <a:moveTo>
                    <a:pt x="17" y="0"/>
                  </a:moveTo>
                  <a:cubicBezTo>
                    <a:pt x="32" y="112"/>
                    <a:pt x="51" y="170"/>
                    <a:pt x="118" y="256"/>
                  </a:cubicBezTo>
                  <a:cubicBezTo>
                    <a:pt x="138" y="282"/>
                    <a:pt x="141" y="306"/>
                    <a:pt x="164" y="329"/>
                  </a:cubicBezTo>
                  <a:cubicBezTo>
                    <a:pt x="176" y="365"/>
                    <a:pt x="182" y="381"/>
                    <a:pt x="219" y="393"/>
                  </a:cubicBezTo>
                  <a:cubicBezTo>
                    <a:pt x="280" y="434"/>
                    <a:pt x="312" y="507"/>
                    <a:pt x="374" y="548"/>
                  </a:cubicBezTo>
                  <a:cubicBezTo>
                    <a:pt x="400" y="588"/>
                    <a:pt x="429" y="634"/>
                    <a:pt x="475" y="649"/>
                  </a:cubicBezTo>
                  <a:cubicBezTo>
                    <a:pt x="512" y="674"/>
                    <a:pt x="551" y="671"/>
                    <a:pt x="593" y="685"/>
                  </a:cubicBezTo>
                  <a:cubicBezTo>
                    <a:pt x="602" y="691"/>
                    <a:pt x="611" y="699"/>
                    <a:pt x="621" y="704"/>
                  </a:cubicBezTo>
                  <a:cubicBezTo>
                    <a:pt x="629" y="708"/>
                    <a:pt x="640" y="708"/>
                    <a:pt x="648" y="713"/>
                  </a:cubicBezTo>
                  <a:cubicBezTo>
                    <a:pt x="670" y="726"/>
                    <a:pt x="689" y="757"/>
                    <a:pt x="712" y="768"/>
                  </a:cubicBezTo>
                  <a:cubicBezTo>
                    <a:pt x="746" y="785"/>
                    <a:pt x="793" y="795"/>
                    <a:pt x="831" y="804"/>
                  </a:cubicBezTo>
                  <a:cubicBezTo>
                    <a:pt x="858" y="821"/>
                    <a:pt x="878" y="841"/>
                    <a:pt x="904" y="859"/>
                  </a:cubicBezTo>
                  <a:cubicBezTo>
                    <a:pt x="967" y="838"/>
                    <a:pt x="946" y="855"/>
                    <a:pt x="977" y="822"/>
                  </a:cubicBezTo>
                  <a:cubicBezTo>
                    <a:pt x="988" y="793"/>
                    <a:pt x="986" y="746"/>
                    <a:pt x="1005" y="722"/>
                  </a:cubicBezTo>
                  <a:cubicBezTo>
                    <a:pt x="1012" y="714"/>
                    <a:pt x="1024" y="711"/>
                    <a:pt x="1032" y="704"/>
                  </a:cubicBezTo>
                  <a:cubicBezTo>
                    <a:pt x="1056" y="685"/>
                    <a:pt x="1087" y="630"/>
                    <a:pt x="1087" y="630"/>
                  </a:cubicBezTo>
                  <a:cubicBezTo>
                    <a:pt x="1075" y="593"/>
                    <a:pt x="1059" y="588"/>
                    <a:pt x="1023" y="576"/>
                  </a:cubicBezTo>
                  <a:cubicBezTo>
                    <a:pt x="938" y="486"/>
                    <a:pt x="627" y="513"/>
                    <a:pt x="584" y="512"/>
                  </a:cubicBezTo>
                  <a:cubicBezTo>
                    <a:pt x="491" y="477"/>
                    <a:pt x="395" y="451"/>
                    <a:pt x="301" y="420"/>
                  </a:cubicBezTo>
                  <a:cubicBezTo>
                    <a:pt x="258" y="356"/>
                    <a:pt x="282" y="377"/>
                    <a:pt x="237" y="347"/>
                  </a:cubicBezTo>
                  <a:cubicBezTo>
                    <a:pt x="222" y="324"/>
                    <a:pt x="201" y="293"/>
                    <a:pt x="182" y="274"/>
                  </a:cubicBezTo>
                  <a:cubicBezTo>
                    <a:pt x="168" y="260"/>
                    <a:pt x="150" y="251"/>
                    <a:pt x="136" y="237"/>
                  </a:cubicBezTo>
                  <a:cubicBezTo>
                    <a:pt x="124" y="202"/>
                    <a:pt x="107" y="162"/>
                    <a:pt x="81" y="137"/>
                  </a:cubicBezTo>
                  <a:cubicBezTo>
                    <a:pt x="64" y="83"/>
                    <a:pt x="86" y="132"/>
                    <a:pt x="45" y="91"/>
                  </a:cubicBezTo>
                  <a:cubicBezTo>
                    <a:pt x="0" y="46"/>
                    <a:pt x="52" y="77"/>
                    <a:pt x="8" y="54"/>
                  </a:cubicBezTo>
                </a:path>
              </a:pathLst>
            </a:custGeom>
            <a:gradFill rotWithShape="0">
              <a:gsLst>
                <a:gs pos="0">
                  <a:srgbClr val="00cc99"/>
                </a:gs>
                <a:gs pos="100000">
                  <a:srgbClr val="ff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3" name="" descr=""/>
            <p:cNvPicPr/>
            <p:nvPr/>
          </p:nvPicPr>
          <p:blipFill>
            <a:blip r:embed="rId1"/>
            <a:stretch/>
          </p:blipFill>
          <p:spPr>
            <a:xfrm>
              <a:off x="1979640" y="2781360"/>
              <a:ext cx="174600" cy="182520"/>
            </a:xfrm>
            <a:prstGeom prst="rect">
              <a:avLst/>
            </a:prstGeom>
            <a:ln w="0">
              <a:noFill/>
            </a:ln>
          </p:spPr>
        </p:pic>
        <p:pic>
          <p:nvPicPr>
            <p:cNvPr id="284" name="" descr=""/>
            <p:cNvPicPr/>
            <p:nvPr/>
          </p:nvPicPr>
          <p:blipFill>
            <a:blip r:embed="rId2"/>
            <a:stretch/>
          </p:blipFill>
          <p:spPr>
            <a:xfrm>
              <a:off x="2627280" y="3068640"/>
              <a:ext cx="243000" cy="254160"/>
            </a:xfrm>
            <a:prstGeom prst="rect">
              <a:avLst/>
            </a:prstGeom>
            <a:ln w="0">
              <a:noFill/>
            </a:ln>
          </p:spPr>
        </p:pic>
        <p:pic>
          <p:nvPicPr>
            <p:cNvPr id="285" name="" descr=""/>
            <p:cNvPicPr/>
            <p:nvPr/>
          </p:nvPicPr>
          <p:blipFill>
            <a:blip r:embed="rId3"/>
            <a:stretch/>
          </p:blipFill>
          <p:spPr>
            <a:xfrm>
              <a:off x="1692360" y="2421000"/>
              <a:ext cx="174600" cy="182520"/>
            </a:xfrm>
            <a:prstGeom prst="rect">
              <a:avLst/>
            </a:prstGeom>
            <a:ln w="0">
              <a:noFill/>
            </a:ln>
          </p:spPr>
        </p:pic>
      </p:grpSp>
      <p:grpSp>
        <p:nvGrpSpPr>
          <p:cNvPr id="286" name=""/>
          <p:cNvGrpSpPr/>
          <p:nvPr/>
        </p:nvGrpSpPr>
        <p:grpSpPr>
          <a:xfrm>
            <a:off x="1259280" y="1413000"/>
            <a:ext cx="7127640" cy="4143600"/>
            <a:chOff x="1259280" y="1413000"/>
            <a:chExt cx="7127640" cy="4143600"/>
          </a:xfrm>
        </p:grpSpPr>
        <p:grpSp>
          <p:nvGrpSpPr>
            <p:cNvPr id="287" name=""/>
            <p:cNvGrpSpPr/>
            <p:nvPr/>
          </p:nvGrpSpPr>
          <p:grpSpPr>
            <a:xfrm>
              <a:off x="1259280" y="1413000"/>
              <a:ext cx="7103520" cy="2315160"/>
              <a:chOff x="1259280" y="1413000"/>
              <a:chExt cx="7103520" cy="2315160"/>
            </a:xfrm>
          </p:grpSpPr>
          <p:grpSp>
            <p:nvGrpSpPr>
              <p:cNvPr id="288" name=""/>
              <p:cNvGrpSpPr/>
              <p:nvPr/>
            </p:nvGrpSpPr>
            <p:grpSpPr>
              <a:xfrm>
                <a:off x="1259280" y="1413000"/>
                <a:ext cx="7103520" cy="2315160"/>
                <a:chOff x="1259280" y="1413000"/>
                <a:chExt cx="7103520" cy="2315160"/>
              </a:xfrm>
            </p:grpSpPr>
            <p:sp>
              <p:nvSpPr>
                <p:cNvPr id="289" name=""/>
                <p:cNvSpPr/>
                <p:nvPr/>
              </p:nvSpPr>
              <p:spPr>
                <a:xfrm>
                  <a:off x="4189320" y="1413000"/>
                  <a:ext cx="4173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NO”</a:t>
                  </a:r>
                  <a:endParaRPr b="0" lang="en-US" sz="3200" spc="-1" strike="noStrike">
                    <a:solidFill>
                      <a:srgbClr val="000000"/>
                    </a:solidFill>
                    <a:latin typeface="Arial"/>
                  </a:endParaRPr>
                </a:p>
              </p:txBody>
            </p:sp>
            <p:sp>
              <p:nvSpPr>
                <p:cNvPr id="290" name=""/>
                <p:cNvSpPr/>
                <p:nvPr/>
              </p:nvSpPr>
              <p:spPr>
                <a:xfrm>
                  <a:off x="1259280" y="3329280"/>
                  <a:ext cx="88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500 m</a:t>
                  </a:r>
                  <a:endParaRPr b="0" lang="en-US" sz="2000" spc="-1" strike="noStrike">
                    <a:solidFill>
                      <a:srgbClr val="000000"/>
                    </a:solidFill>
                    <a:latin typeface="Arial"/>
                  </a:endParaRPr>
                </a:p>
              </p:txBody>
            </p:sp>
          </p:grpSp>
          <p:sp>
            <p:nvSpPr>
              <p:cNvPr id="291" name=""/>
              <p:cNvSpPr/>
              <p:nvPr/>
            </p:nvSpPr>
            <p:spPr>
              <a:xfrm rot="7354200">
                <a:off x="1869120" y="2459880"/>
                <a:ext cx="365040" cy="1439640"/>
              </a:xfrm>
              <a:custGeom>
                <a:avLst/>
                <a:gdLst>
                  <a:gd name="textAreaLeft" fmla="*/ 0 w 365040"/>
                  <a:gd name="textAreaRight" fmla="*/ 131760 w 36504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2" name=""/>
            <p:cNvSpPr/>
            <p:nvPr/>
          </p:nvSpPr>
          <p:spPr>
            <a:xfrm>
              <a:off x="7451640" y="5157720"/>
              <a:ext cx="935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10 km</a:t>
              </a:r>
              <a:endParaRPr b="0" lang="en-US" sz="2000" spc="-1" strike="noStrike">
                <a:solidFill>
                  <a:srgbClr val="000000"/>
                </a:solidFill>
                <a:latin typeface="Arial"/>
              </a:endParaRPr>
            </a:p>
          </p:txBody>
        </p:sp>
      </p:gr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279"/>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278"/>
                                        </p:tgtEl>
                                        <p:attrNameLst>
                                          <p:attrName>style.visibility</p:attrName>
                                        </p:attrNameLst>
                                      </p:cBhvr>
                                      <p:to>
                                        <p:strVal val="visible"/>
                                      </p:to>
                                    </p:set>
                                    <p:animEffect filter="dissolve" transition="in">
                                      <p:cBhvr additive="repl">
                                        <p:cTn id="66" dur="500"/>
                                        <p:tgtEl>
                                          <p:spTgt spid="278"/>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bad3"/>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80520"/>
            <a:ext cx="8229600" cy="110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c1c72"/>
                </a:solidFill>
                <a:latin typeface="Arial"/>
              </a:rPr>
              <a:t>Classifying TraC waters</a:t>
            </a:r>
            <a:endParaRPr b="0" lang="en-US" sz="4000" spc="-1" strike="noStrike">
              <a:solidFill>
                <a:srgbClr val="242492"/>
              </a:solidFill>
              <a:latin typeface="Tahoma"/>
            </a:endParaRPr>
          </a:p>
        </p:txBody>
      </p:sp>
      <p:sp>
        <p:nvSpPr>
          <p:cNvPr id="294" name="PlaceHolder 2"/>
          <p:cNvSpPr>
            <a:spLocks noGrp="1"/>
          </p:cNvSpPr>
          <p:nvPr>
            <p:ph/>
          </p:nvPr>
        </p:nvSpPr>
        <p:spPr>
          <a:xfrm>
            <a:off x="468360" y="1484280"/>
            <a:ext cx="4680000" cy="4176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91965"/>
                </a:solidFill>
                <a:latin typeface="Arial"/>
              </a:rPr>
              <a:t>1.5km</a:t>
            </a:r>
            <a:r>
              <a:rPr b="0" lang="en-GB" sz="2800" spc="-1" strike="noStrike" baseline="30000">
                <a:solidFill>
                  <a:srgbClr val="191965"/>
                </a:solidFill>
                <a:latin typeface="Arial"/>
              </a:rPr>
              <a:t>2</a:t>
            </a:r>
            <a:r>
              <a:rPr b="0" lang="en-GB" sz="2800" spc="-1" strike="noStrike">
                <a:solidFill>
                  <a:srgbClr val="191965"/>
                </a:solidFill>
                <a:latin typeface="Arial"/>
              </a:rPr>
              <a:t> or 15% of surface area of </a:t>
            </a:r>
            <a:r>
              <a:rPr b="0" lang="en-GB" sz="2800" spc="-1" strike="noStrike" u="sng">
                <a:solidFill>
                  <a:srgbClr val="191965"/>
                </a:solidFill>
                <a:uFillTx/>
                <a:latin typeface="Arial"/>
              </a:rPr>
              <a:t>habitat</a:t>
            </a:r>
            <a:r>
              <a:rPr b="0" lang="en-GB" sz="2800" spc="-1" strike="noStrike">
                <a:solidFill>
                  <a:srgbClr val="191965"/>
                </a:solidFill>
                <a:latin typeface="Arial"/>
              </a:rPr>
              <a:t> must fail GES</a:t>
            </a:r>
            <a:endParaRPr b="0" lang="en-US" sz="2800" spc="-1" strike="noStrike">
              <a:solidFill>
                <a:srgbClr val="000000"/>
              </a:solidFill>
              <a:latin typeface="Tahoma"/>
            </a:endParaRPr>
          </a:p>
          <a:p>
            <a:pPr marL="343080" indent="-343080">
              <a:lnSpc>
                <a:spcPct val="90000"/>
              </a:lnSpc>
              <a:spcBef>
                <a:spcPts val="700"/>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91965"/>
                </a:solidFill>
                <a:latin typeface="Arial"/>
              </a:rPr>
              <a:t>25 benthic invertebrate samples taken from soft sediment habitat</a:t>
            </a:r>
            <a:endParaRPr b="0" lang="en-US" sz="2800" spc="-1" strike="noStrike">
              <a:solidFill>
                <a:srgbClr val="000000"/>
              </a:solidFill>
              <a:latin typeface="Tahoma"/>
            </a:endParaRPr>
          </a:p>
          <a:p>
            <a:pPr marL="343080" indent="-343080">
              <a:lnSpc>
                <a:spcPct val="90000"/>
              </a:lnSpc>
              <a:spcBef>
                <a:spcPts val="700"/>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91965"/>
                </a:solidFill>
                <a:latin typeface="Arial"/>
              </a:rPr>
              <a:t>&gt;4 failures (15%) = less than good.</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95" name="" descr=""/>
          <p:cNvPicPr/>
          <p:nvPr/>
        </p:nvPicPr>
        <p:blipFill>
          <a:blip r:embed="rId1"/>
          <a:stretch/>
        </p:blipFill>
        <p:spPr>
          <a:xfrm>
            <a:off x="5003640" y="1916280"/>
            <a:ext cx="3873600" cy="3889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80520"/>
            <a:ext cx="8229600" cy="110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c1c72"/>
                </a:solidFill>
                <a:latin typeface="Arial"/>
              </a:rPr>
              <a:t>2. Grouping</a:t>
            </a:r>
            <a:endParaRPr b="0" lang="en-US" sz="4000" spc="-1" strike="noStrike">
              <a:solidFill>
                <a:srgbClr val="242492"/>
              </a:solidFill>
              <a:latin typeface="Tahoma"/>
            </a:endParaRPr>
          </a:p>
        </p:txBody>
      </p:sp>
      <p:sp>
        <p:nvSpPr>
          <p:cNvPr id="297" name="PlaceHolder 2"/>
          <p:cNvSpPr>
            <a:spLocks noGrp="1"/>
          </p:cNvSpPr>
          <p:nvPr>
            <p:ph/>
          </p:nvPr>
        </p:nvSpPr>
        <p:spPr>
          <a:xfrm>
            <a:off x="468000" y="1773360"/>
            <a:ext cx="8280360" cy="41767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91965"/>
                </a:solidFill>
                <a:latin typeface="Arial"/>
              </a:rPr>
              <a:t>“</a:t>
            </a:r>
            <a:r>
              <a:rPr b="0" lang="en-GB" sz="2800" spc="-1" strike="noStrike">
                <a:solidFill>
                  <a:srgbClr val="191965"/>
                </a:solidFill>
                <a:latin typeface="Arial"/>
              </a:rPr>
              <a:t>Sufficient monitoring points within a selection of</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91965"/>
                </a:solidFill>
                <a:latin typeface="Arial"/>
              </a:rPr>
              <a:t>the bodies in order to assess…diffuse pressures”</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80520"/>
            <a:ext cx="8229600" cy="110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c1c72"/>
                </a:solidFill>
                <a:latin typeface="Arial"/>
              </a:rPr>
              <a:t>Grouping</a:t>
            </a:r>
            <a:endParaRPr b="0" lang="en-US" sz="4000" spc="-1" strike="noStrike">
              <a:solidFill>
                <a:srgbClr val="242492"/>
              </a:solidFill>
              <a:latin typeface="Tahoma"/>
            </a:endParaRPr>
          </a:p>
        </p:txBody>
      </p:sp>
      <p:sp>
        <p:nvSpPr>
          <p:cNvPr id="299" name="PlaceHolder 2"/>
          <p:cNvSpPr>
            <a:spLocks noGrp="1"/>
          </p:cNvSpPr>
          <p:nvPr>
            <p:ph/>
          </p:nvPr>
        </p:nvSpPr>
        <p:spPr>
          <a:xfrm>
            <a:off x="468000" y="1197000"/>
            <a:ext cx="8280360" cy="4176720"/>
          </a:xfrm>
          <a:prstGeom prst="rect">
            <a:avLst/>
          </a:prstGeom>
          <a:noFill/>
          <a:ln w="0">
            <a:noFill/>
          </a:ln>
        </p:spPr>
        <p:txBody>
          <a:bodyPr lIns="90000" rIns="90000" tIns="46800" bIns="46800"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lnSpc>
                <a:spcPct val="100000"/>
              </a:lnSpc>
              <a:spcBef>
                <a:spcPts val="700"/>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91965"/>
                </a:solidFill>
                <a:latin typeface="Arial"/>
              </a:rPr>
              <a:t>Criteria</a:t>
            </a:r>
            <a:endParaRPr b="0" lang="en-US" sz="2800" spc="-1" strike="noStrike">
              <a:solidFill>
                <a:srgbClr val="000000"/>
              </a:solidFill>
              <a:latin typeface="Tahoma"/>
            </a:endParaRPr>
          </a:p>
          <a:p>
            <a:pPr lvl="1" marL="735480" indent="-282960">
              <a:lnSpc>
                <a:spcPct val="100000"/>
              </a:lnSpc>
              <a:spcBef>
                <a:spcPts val="601"/>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91965"/>
                </a:solidFill>
                <a:latin typeface="Arial"/>
              </a:rPr>
              <a:t>Typology</a:t>
            </a:r>
            <a:endParaRPr b="0" lang="en-US" sz="2400" spc="-1" strike="noStrike">
              <a:solidFill>
                <a:srgbClr val="000000"/>
              </a:solidFill>
              <a:latin typeface="Tahoma"/>
            </a:endParaRPr>
          </a:p>
          <a:p>
            <a:pPr lvl="1" marL="735480" indent="-282960">
              <a:lnSpc>
                <a:spcPct val="100000"/>
              </a:lnSpc>
              <a:spcBef>
                <a:spcPts val="601"/>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91965"/>
                </a:solidFill>
                <a:latin typeface="Arial"/>
              </a:rPr>
              <a:t>Risk Assessment</a:t>
            </a:r>
            <a:endParaRPr b="0" lang="en-US" sz="2400" spc="-1" strike="noStrike">
              <a:solidFill>
                <a:srgbClr val="000000"/>
              </a:solidFill>
              <a:latin typeface="Tahoma"/>
            </a:endParaRPr>
          </a:p>
          <a:p>
            <a:pPr lvl="1" marL="735480" indent="-282960">
              <a:lnSpc>
                <a:spcPct val="100000"/>
              </a:lnSpc>
              <a:spcBef>
                <a:spcPts val="601"/>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91965"/>
                </a:solidFill>
                <a:latin typeface="Arial"/>
              </a:rPr>
              <a:t>Proximity</a:t>
            </a:r>
            <a:endParaRPr b="0" lang="en-US" sz="2400" spc="-1" strike="noStrike">
              <a:solidFill>
                <a:srgbClr val="000000"/>
              </a:solidFill>
              <a:latin typeface="Tahoma"/>
            </a:endParaRPr>
          </a:p>
          <a:p>
            <a:pPr lvl="1" marL="735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100000"/>
              </a:lnSpc>
              <a:spcBef>
                <a:spcPts val="700"/>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91965"/>
                </a:solidFill>
                <a:latin typeface="Arial"/>
              </a:rPr>
              <a:t>Results</a:t>
            </a:r>
            <a:endParaRPr b="0" lang="en-US" sz="2800" spc="-1" strike="noStrike">
              <a:solidFill>
                <a:srgbClr val="000000"/>
              </a:solidFill>
              <a:latin typeface="Tahoma"/>
            </a:endParaRPr>
          </a:p>
          <a:p>
            <a:pPr lvl="1" marL="735480" indent="-282960">
              <a:lnSpc>
                <a:spcPct val="100000"/>
              </a:lnSpc>
              <a:spcBef>
                <a:spcPts val="601"/>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91965"/>
                </a:solidFill>
                <a:latin typeface="Arial"/>
              </a:rPr>
              <a:t>Group the QE status</a:t>
            </a:r>
            <a:endParaRPr b="0" lang="en-US" sz="2400" spc="-1" strike="noStrike">
              <a:solidFill>
                <a:srgbClr val="000000"/>
              </a:solidFill>
              <a:latin typeface="Tahoma"/>
            </a:endParaRPr>
          </a:p>
          <a:p>
            <a:pPr lvl="1" marL="735480" indent="-282960">
              <a:lnSpc>
                <a:spcPct val="100000"/>
              </a:lnSpc>
              <a:spcBef>
                <a:spcPts val="601"/>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91965"/>
                </a:solidFill>
                <a:latin typeface="Arial"/>
              </a:rPr>
              <a:t>Confidence based on expert judgement</a:t>
            </a:r>
            <a:endParaRPr b="0" lang="en-US" sz="2400" spc="-1" strike="noStrike">
              <a:solidFill>
                <a:srgbClr val="000000"/>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35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324000" y="404280"/>
            <a:ext cx="8229600" cy="1103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c1c72"/>
                </a:solidFill>
                <a:latin typeface="Arial"/>
              </a:rPr>
              <a:t>Example - diatoms</a:t>
            </a:r>
            <a:endParaRPr b="0" lang="en-US" sz="2800" spc="-1" strike="noStrike">
              <a:solidFill>
                <a:srgbClr val="242492"/>
              </a:solidFill>
              <a:latin typeface="Tahoma"/>
            </a:endParaRPr>
          </a:p>
        </p:txBody>
      </p:sp>
      <p:pic>
        <p:nvPicPr>
          <p:cNvPr id="301" name="" descr=""/>
          <p:cNvPicPr/>
          <p:nvPr/>
        </p:nvPicPr>
        <p:blipFill>
          <a:blip r:embed="rId1"/>
          <a:stretch/>
        </p:blipFill>
        <p:spPr>
          <a:xfrm>
            <a:off x="3851280" y="692280"/>
            <a:ext cx="4914720" cy="5762520"/>
          </a:xfrm>
          <a:prstGeom prst="rect">
            <a:avLst/>
          </a:prstGeom>
          <a:ln w="0">
            <a:noFill/>
          </a:ln>
        </p:spPr>
      </p:pic>
      <p:grpSp>
        <p:nvGrpSpPr>
          <p:cNvPr id="302" name=""/>
          <p:cNvGrpSpPr/>
          <p:nvPr/>
        </p:nvGrpSpPr>
        <p:grpSpPr>
          <a:xfrm>
            <a:off x="3924360" y="2205000"/>
            <a:ext cx="2160360" cy="708480"/>
            <a:chOff x="3924360" y="2205000"/>
            <a:chExt cx="2160360" cy="708480"/>
          </a:xfrm>
        </p:grpSpPr>
        <p:sp>
          <p:nvSpPr>
            <p:cNvPr id="303" name=""/>
            <p:cNvSpPr/>
            <p:nvPr/>
          </p:nvSpPr>
          <p:spPr>
            <a:xfrm>
              <a:off x="3924360" y="2637000"/>
              <a:ext cx="358560" cy="215640"/>
            </a:xfrm>
            <a:prstGeom prst="rect">
              <a:avLst/>
            </a:prstGeom>
            <a:solidFill>
              <a:srgbClr val="ffff00"/>
            </a:solidFill>
            <a:ln w="38160">
              <a:solidFill>
                <a:srgbClr val="33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3924360" y="2205000"/>
              <a:ext cx="358560" cy="216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4429080" y="2205000"/>
              <a:ext cx="136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data</a:t>
              </a:r>
              <a:endParaRPr b="0" lang="en-US" sz="1200" spc="-1" strike="noStrike">
                <a:solidFill>
                  <a:srgbClr val="000000"/>
                </a:solidFill>
                <a:latin typeface="Arial"/>
              </a:endParaRPr>
            </a:p>
          </p:txBody>
        </p:sp>
        <p:sp>
          <p:nvSpPr>
            <p:cNvPr id="306" name=""/>
            <p:cNvSpPr/>
            <p:nvPr/>
          </p:nvSpPr>
          <p:spPr>
            <a:xfrm>
              <a:off x="4356000" y="2637000"/>
              <a:ext cx="172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or group)</a:t>
              </a:r>
              <a:endParaRPr b="0" lang="en-US" sz="12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380520"/>
            <a:ext cx="8229600" cy="110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c1c72"/>
                </a:solidFill>
                <a:latin typeface="Arial"/>
              </a:rPr>
              <a:t>Conclusion</a:t>
            </a:r>
            <a:endParaRPr b="0" lang="en-US" sz="4400" spc="-1" strike="noStrike">
              <a:solidFill>
                <a:srgbClr val="242492"/>
              </a:solidFill>
              <a:latin typeface="Tahoma"/>
            </a:endParaRPr>
          </a:p>
        </p:txBody>
      </p:sp>
      <p:sp>
        <p:nvSpPr>
          <p:cNvPr id="308" name="PlaceHolder 2"/>
          <p:cNvSpPr>
            <a:spLocks noGrp="1"/>
          </p:cNvSpPr>
          <p:nvPr>
            <p:ph/>
          </p:nvPr>
        </p:nvSpPr>
        <p:spPr>
          <a:xfrm>
            <a:off x="468000" y="1773360"/>
            <a:ext cx="8280360" cy="41767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9" name=""/>
          <p:cNvSpPr/>
          <p:nvPr/>
        </p:nvSpPr>
        <p:spPr>
          <a:xfrm>
            <a:off x="684360" y="1989000"/>
            <a:ext cx="8280360" cy="4176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91965"/>
                </a:solidFill>
                <a:latin typeface="Arial"/>
              </a:rPr>
              <a:t>A reporting issue (“how?”)</a:t>
            </a:r>
            <a:endParaRPr b="0" lang="en-US" sz="2800" spc="-1" strike="noStrike">
              <a:solidFill>
                <a:srgbClr val="000000"/>
              </a:solidFill>
              <a:latin typeface="Arial"/>
            </a:endParaRPr>
          </a:p>
          <a:p>
            <a:pPr marL="343080" indent="-343080">
              <a:lnSpc>
                <a:spcPct val="100000"/>
              </a:lnSpc>
              <a:spcBef>
                <a:spcPts val="700"/>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91965"/>
                </a:solidFill>
                <a:latin typeface="Arial"/>
              </a:rPr>
              <a:t>But has consequence for planning decisions</a:t>
            </a:r>
            <a:endParaRPr b="0" lang="en-US" sz="2800" spc="-1" strike="noStrike">
              <a:solidFill>
                <a:srgbClr val="000000"/>
              </a:solidFill>
              <a:latin typeface="Arial"/>
            </a:endParaRPr>
          </a:p>
          <a:p>
            <a:pPr marL="343080" indent="-343080">
              <a:lnSpc>
                <a:spcPct val="100000"/>
              </a:lnSpc>
              <a:spcBef>
                <a:spcPts val="700"/>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91965"/>
                </a:solidFill>
                <a:latin typeface="Arial"/>
              </a:rPr>
              <a:t>Questionnaires and discussions</a:t>
            </a:r>
            <a:endParaRPr b="0" lang="en-US" sz="2800" spc="-1" strike="noStrike">
              <a:solidFill>
                <a:srgbClr val="000000"/>
              </a:solidFill>
              <a:latin typeface="Arial"/>
            </a:endParaRPr>
          </a:p>
          <a:p>
            <a:pPr marL="343080" indent="-343080">
              <a:lnSpc>
                <a:spcPct val="100000"/>
              </a:lnSpc>
              <a:spcBef>
                <a:spcPts val="700"/>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91" name=""/>
          <p:cNvSpPr/>
          <p:nvPr/>
        </p:nvSpPr>
        <p:spPr>
          <a:xfrm>
            <a:off x="395280" y="404640"/>
            <a:ext cx="7705800" cy="6120000"/>
          </a:xfrm>
          <a:custGeom>
            <a:avLst/>
            <a:gdLst/>
            <a:ahLst/>
            <a:rect l="l" t="t" r="r" b="b"/>
            <a:pathLst>
              <a:path w="4854" h="3855">
                <a:moveTo>
                  <a:pt x="4854" y="3583"/>
                </a:moveTo>
                <a:lnTo>
                  <a:pt x="4854" y="3357"/>
                </a:lnTo>
                <a:lnTo>
                  <a:pt x="4718" y="3130"/>
                </a:lnTo>
                <a:lnTo>
                  <a:pt x="4581" y="2812"/>
                </a:lnTo>
                <a:lnTo>
                  <a:pt x="4309" y="2631"/>
                </a:lnTo>
                <a:lnTo>
                  <a:pt x="4037" y="2404"/>
                </a:lnTo>
                <a:lnTo>
                  <a:pt x="3901" y="2404"/>
                </a:lnTo>
                <a:lnTo>
                  <a:pt x="3674" y="2177"/>
                </a:lnTo>
                <a:lnTo>
                  <a:pt x="3493" y="2132"/>
                </a:lnTo>
                <a:lnTo>
                  <a:pt x="3221" y="1905"/>
                </a:lnTo>
                <a:lnTo>
                  <a:pt x="3130" y="1225"/>
                </a:lnTo>
                <a:lnTo>
                  <a:pt x="2812" y="907"/>
                </a:lnTo>
                <a:lnTo>
                  <a:pt x="2540" y="862"/>
                </a:lnTo>
                <a:lnTo>
                  <a:pt x="2359" y="771"/>
                </a:lnTo>
                <a:lnTo>
                  <a:pt x="2313" y="590"/>
                </a:lnTo>
                <a:lnTo>
                  <a:pt x="2177" y="317"/>
                </a:lnTo>
                <a:lnTo>
                  <a:pt x="2041" y="136"/>
                </a:lnTo>
                <a:lnTo>
                  <a:pt x="1815" y="0"/>
                </a:lnTo>
                <a:lnTo>
                  <a:pt x="1542" y="317"/>
                </a:lnTo>
                <a:lnTo>
                  <a:pt x="907" y="363"/>
                </a:lnTo>
                <a:lnTo>
                  <a:pt x="499" y="544"/>
                </a:lnTo>
                <a:lnTo>
                  <a:pt x="363" y="771"/>
                </a:lnTo>
                <a:lnTo>
                  <a:pt x="408" y="907"/>
                </a:lnTo>
                <a:lnTo>
                  <a:pt x="363" y="1270"/>
                </a:lnTo>
                <a:lnTo>
                  <a:pt x="272" y="1860"/>
                </a:lnTo>
                <a:lnTo>
                  <a:pt x="0" y="2086"/>
                </a:lnTo>
                <a:lnTo>
                  <a:pt x="1815" y="2540"/>
                </a:lnTo>
                <a:lnTo>
                  <a:pt x="2223" y="2812"/>
                </a:lnTo>
                <a:lnTo>
                  <a:pt x="3311" y="3175"/>
                </a:lnTo>
                <a:lnTo>
                  <a:pt x="3674" y="3447"/>
                </a:lnTo>
                <a:lnTo>
                  <a:pt x="4672" y="3855"/>
                </a:lnTo>
                <a:lnTo>
                  <a:pt x="4854" y="3583"/>
                </a:lnTo>
                <a:close/>
              </a:path>
            </a:pathLst>
          </a:custGeom>
          <a:gradFill rotWithShape="0">
            <a:gsLst>
              <a:gs pos="0">
                <a:srgbClr val="585858"/>
              </a:gs>
              <a:gs pos="100000">
                <a:srgbClr val="c0c0c0"/>
              </a:gs>
            </a:gsLst>
            <a:lin ang="135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 name="PlaceHolder 1"/>
          <p:cNvSpPr>
            <a:spLocks noGrp="1"/>
          </p:cNvSpPr>
          <p:nvPr>
            <p:ph/>
          </p:nvPr>
        </p:nvSpPr>
        <p:spPr>
          <a:xfrm>
            <a:off x="468000" y="1773360"/>
            <a:ext cx="8280360" cy="41767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 name=""/>
          <p:cNvSpPr/>
          <p:nvPr/>
        </p:nvSpPr>
        <p:spPr>
          <a:xfrm>
            <a:off x="1015920" y="2017800"/>
            <a:ext cx="7012080" cy="4290840"/>
          </a:xfrm>
          <a:custGeom>
            <a:avLst/>
            <a:gdLst/>
            <a:ahLst/>
            <a:rect l="l" t="t" r="r" b="b"/>
            <a:pathLst>
              <a:path w="4370" h="2697">
                <a:moveTo>
                  <a:pt x="0" y="0"/>
                </a:moveTo>
                <a:cubicBezTo>
                  <a:pt x="49" y="3"/>
                  <a:pt x="97" y="4"/>
                  <a:pt x="146" y="9"/>
                </a:cubicBezTo>
                <a:cubicBezTo>
                  <a:pt x="178" y="12"/>
                  <a:pt x="206" y="37"/>
                  <a:pt x="238" y="46"/>
                </a:cubicBezTo>
                <a:cubicBezTo>
                  <a:pt x="281" y="89"/>
                  <a:pt x="334" y="121"/>
                  <a:pt x="384" y="155"/>
                </a:cubicBezTo>
                <a:cubicBezTo>
                  <a:pt x="456" y="203"/>
                  <a:pt x="497" y="289"/>
                  <a:pt x="558" y="347"/>
                </a:cubicBezTo>
                <a:cubicBezTo>
                  <a:pt x="576" y="402"/>
                  <a:pt x="615" y="423"/>
                  <a:pt x="658" y="457"/>
                </a:cubicBezTo>
                <a:cubicBezTo>
                  <a:pt x="672" y="468"/>
                  <a:pt x="680" y="485"/>
                  <a:pt x="695" y="494"/>
                </a:cubicBezTo>
                <a:cubicBezTo>
                  <a:pt x="703" y="499"/>
                  <a:pt x="714" y="498"/>
                  <a:pt x="722" y="503"/>
                </a:cubicBezTo>
                <a:cubicBezTo>
                  <a:pt x="741" y="514"/>
                  <a:pt x="762" y="523"/>
                  <a:pt x="777" y="539"/>
                </a:cubicBezTo>
                <a:cubicBezTo>
                  <a:pt x="783" y="545"/>
                  <a:pt x="788" y="553"/>
                  <a:pt x="795" y="558"/>
                </a:cubicBezTo>
                <a:cubicBezTo>
                  <a:pt x="803" y="563"/>
                  <a:pt x="854" y="575"/>
                  <a:pt x="859" y="576"/>
                </a:cubicBezTo>
                <a:cubicBezTo>
                  <a:pt x="891" y="606"/>
                  <a:pt x="926" y="605"/>
                  <a:pt x="969" y="612"/>
                </a:cubicBezTo>
                <a:cubicBezTo>
                  <a:pt x="1002" y="623"/>
                  <a:pt x="1021" y="630"/>
                  <a:pt x="1051" y="640"/>
                </a:cubicBezTo>
                <a:cubicBezTo>
                  <a:pt x="1060" y="643"/>
                  <a:pt x="1079" y="649"/>
                  <a:pt x="1079" y="649"/>
                </a:cubicBezTo>
                <a:cubicBezTo>
                  <a:pt x="1141" y="690"/>
                  <a:pt x="1218" y="699"/>
                  <a:pt x="1289" y="713"/>
                </a:cubicBezTo>
                <a:cubicBezTo>
                  <a:pt x="1314" y="718"/>
                  <a:pt x="1362" y="731"/>
                  <a:pt x="1362" y="731"/>
                </a:cubicBezTo>
                <a:cubicBezTo>
                  <a:pt x="1444" y="787"/>
                  <a:pt x="1545" y="809"/>
                  <a:pt x="1627" y="868"/>
                </a:cubicBezTo>
                <a:cubicBezTo>
                  <a:pt x="1699" y="919"/>
                  <a:pt x="1740" y="999"/>
                  <a:pt x="1810" y="1051"/>
                </a:cubicBezTo>
                <a:cubicBezTo>
                  <a:pt x="1821" y="1086"/>
                  <a:pt x="1843" y="1104"/>
                  <a:pt x="1865" y="1134"/>
                </a:cubicBezTo>
                <a:cubicBezTo>
                  <a:pt x="1887" y="1199"/>
                  <a:pt x="1858" y="1127"/>
                  <a:pt x="1893" y="1179"/>
                </a:cubicBezTo>
                <a:cubicBezTo>
                  <a:pt x="1919" y="1218"/>
                  <a:pt x="1931" y="1255"/>
                  <a:pt x="1966" y="1289"/>
                </a:cubicBezTo>
                <a:cubicBezTo>
                  <a:pt x="1990" y="1338"/>
                  <a:pt x="2008" y="1359"/>
                  <a:pt x="2048" y="1399"/>
                </a:cubicBezTo>
                <a:cubicBezTo>
                  <a:pt x="2088" y="1439"/>
                  <a:pt x="2117" y="1486"/>
                  <a:pt x="2158" y="1527"/>
                </a:cubicBezTo>
                <a:cubicBezTo>
                  <a:pt x="2167" y="1536"/>
                  <a:pt x="2183" y="1537"/>
                  <a:pt x="2194" y="1545"/>
                </a:cubicBezTo>
                <a:cubicBezTo>
                  <a:pt x="2226" y="1568"/>
                  <a:pt x="2252" y="1588"/>
                  <a:pt x="2286" y="1609"/>
                </a:cubicBezTo>
                <a:cubicBezTo>
                  <a:pt x="2345" y="1646"/>
                  <a:pt x="2391" y="1696"/>
                  <a:pt x="2459" y="1719"/>
                </a:cubicBezTo>
                <a:cubicBezTo>
                  <a:pt x="2497" y="1755"/>
                  <a:pt x="2582" y="1766"/>
                  <a:pt x="2633" y="1783"/>
                </a:cubicBezTo>
                <a:cubicBezTo>
                  <a:pt x="2671" y="1795"/>
                  <a:pt x="2706" y="1815"/>
                  <a:pt x="2743" y="1828"/>
                </a:cubicBezTo>
                <a:cubicBezTo>
                  <a:pt x="2793" y="1845"/>
                  <a:pt x="2847" y="1850"/>
                  <a:pt x="2898" y="1856"/>
                </a:cubicBezTo>
                <a:cubicBezTo>
                  <a:pt x="3022" y="1886"/>
                  <a:pt x="3146" y="1907"/>
                  <a:pt x="3273" y="1920"/>
                </a:cubicBezTo>
                <a:cubicBezTo>
                  <a:pt x="3362" y="1942"/>
                  <a:pt x="3438" y="1993"/>
                  <a:pt x="3520" y="2030"/>
                </a:cubicBezTo>
                <a:cubicBezTo>
                  <a:pt x="3552" y="2044"/>
                  <a:pt x="3573" y="2048"/>
                  <a:pt x="3602" y="2066"/>
                </a:cubicBezTo>
                <a:cubicBezTo>
                  <a:pt x="3636" y="2087"/>
                  <a:pt x="3656" y="2109"/>
                  <a:pt x="3694" y="2121"/>
                </a:cubicBezTo>
                <a:cubicBezTo>
                  <a:pt x="3746" y="2174"/>
                  <a:pt x="3719" y="2160"/>
                  <a:pt x="3767" y="2176"/>
                </a:cubicBezTo>
                <a:cubicBezTo>
                  <a:pt x="3821" y="2230"/>
                  <a:pt x="3885" y="2271"/>
                  <a:pt x="3941" y="2322"/>
                </a:cubicBezTo>
                <a:cubicBezTo>
                  <a:pt x="3975" y="2352"/>
                  <a:pt x="3998" y="2393"/>
                  <a:pt x="4032" y="2423"/>
                </a:cubicBezTo>
                <a:cubicBezTo>
                  <a:pt x="4051" y="2440"/>
                  <a:pt x="4078" y="2450"/>
                  <a:pt x="4096" y="2468"/>
                </a:cubicBezTo>
                <a:cubicBezTo>
                  <a:pt x="4154" y="2526"/>
                  <a:pt x="4127" y="2498"/>
                  <a:pt x="4178" y="2551"/>
                </a:cubicBezTo>
                <a:cubicBezTo>
                  <a:pt x="4193" y="2567"/>
                  <a:pt x="4215" y="2575"/>
                  <a:pt x="4233" y="2587"/>
                </a:cubicBezTo>
                <a:cubicBezTo>
                  <a:pt x="4242" y="2593"/>
                  <a:pt x="4261" y="2606"/>
                  <a:pt x="4261" y="2606"/>
                </a:cubicBezTo>
                <a:cubicBezTo>
                  <a:pt x="4289" y="2648"/>
                  <a:pt x="4335" y="2662"/>
                  <a:pt x="4370" y="2697"/>
                </a:cubicBezTo>
              </a:path>
            </a:pathLst>
          </a:custGeom>
          <a:noFill/>
          <a:ln w="507960">
            <a:solidFill>
              <a:srgbClr val="00bab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rot="547200">
            <a:off x="2916360" y="614160"/>
            <a:ext cx="647640" cy="2673360"/>
          </a:xfrm>
          <a:custGeom>
            <a:avLst/>
            <a:gdLst/>
            <a:ahLst/>
            <a:rect l="l" t="t" r="r" b="b"/>
            <a:pathLst>
              <a:path w="807" h="2093">
                <a:moveTo>
                  <a:pt x="0" y="0"/>
                </a:moveTo>
                <a:cubicBezTo>
                  <a:pt x="50" y="10"/>
                  <a:pt x="99" y="24"/>
                  <a:pt x="146" y="45"/>
                </a:cubicBezTo>
                <a:cubicBezTo>
                  <a:pt x="200" y="69"/>
                  <a:pt x="244" y="103"/>
                  <a:pt x="301" y="119"/>
                </a:cubicBezTo>
                <a:cubicBezTo>
                  <a:pt x="370" y="164"/>
                  <a:pt x="412" y="194"/>
                  <a:pt x="457" y="265"/>
                </a:cubicBezTo>
                <a:cubicBezTo>
                  <a:pt x="464" y="293"/>
                  <a:pt x="483" y="318"/>
                  <a:pt x="484" y="347"/>
                </a:cubicBezTo>
                <a:cubicBezTo>
                  <a:pt x="490" y="512"/>
                  <a:pt x="457" y="635"/>
                  <a:pt x="420" y="786"/>
                </a:cubicBezTo>
                <a:cubicBezTo>
                  <a:pt x="423" y="820"/>
                  <a:pt x="421" y="854"/>
                  <a:pt x="429" y="887"/>
                </a:cubicBezTo>
                <a:cubicBezTo>
                  <a:pt x="439" y="931"/>
                  <a:pt x="482" y="1009"/>
                  <a:pt x="503" y="1051"/>
                </a:cubicBezTo>
                <a:cubicBezTo>
                  <a:pt x="508" y="1061"/>
                  <a:pt x="522" y="1062"/>
                  <a:pt x="530" y="1069"/>
                </a:cubicBezTo>
                <a:cubicBezTo>
                  <a:pt x="565" y="1100"/>
                  <a:pt x="595" y="1132"/>
                  <a:pt x="631" y="1161"/>
                </a:cubicBezTo>
                <a:cubicBezTo>
                  <a:pt x="694" y="1212"/>
                  <a:pt x="731" y="1287"/>
                  <a:pt x="759" y="1362"/>
                </a:cubicBezTo>
                <a:cubicBezTo>
                  <a:pt x="807" y="1653"/>
                  <a:pt x="795" y="1657"/>
                  <a:pt x="795" y="2093"/>
                </a:cubicBezTo>
              </a:path>
            </a:pathLst>
          </a:custGeom>
          <a:noFill/>
          <a:ln w="380880">
            <a:solidFill>
              <a:srgbClr val="00bab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5" name=""/>
          <p:cNvGrpSpPr/>
          <p:nvPr/>
        </p:nvGrpSpPr>
        <p:grpSpPr>
          <a:xfrm>
            <a:off x="1587960" y="1431000"/>
            <a:ext cx="1880640" cy="2023560"/>
            <a:chOff x="1587960" y="1431000"/>
            <a:chExt cx="1880640" cy="2023560"/>
          </a:xfrm>
        </p:grpSpPr>
        <p:sp>
          <p:nvSpPr>
            <p:cNvPr id="96" name=""/>
            <p:cNvSpPr/>
            <p:nvPr/>
          </p:nvSpPr>
          <p:spPr>
            <a:xfrm rot="8929200">
              <a:off x="1618920" y="1628280"/>
              <a:ext cx="863640" cy="360360"/>
            </a:xfrm>
            <a:prstGeom prst="flowChartMagneticDrum">
              <a:avLst/>
            </a:prstGeom>
            <a:gradFill rotWithShape="0">
              <a:gsLst>
                <a:gs pos="0">
                  <a:srgbClr val="454545"/>
                </a:gs>
                <a:gs pos="50000">
                  <a:srgbClr val="969696"/>
                </a:gs>
                <a:gs pos="100000">
                  <a:srgbClr val="454545"/>
                </a:gs>
              </a:gsLst>
              <a:lin ang="18072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1765440" y="2006640"/>
              <a:ext cx="145800" cy="127080"/>
            </a:xfrm>
            <a:custGeom>
              <a:avLst/>
              <a:gdLst/>
              <a:ahLst/>
              <a:rect l="l" t="t" r="r" b="b"/>
              <a:pathLst>
                <a:path w="92" h="80">
                  <a:moveTo>
                    <a:pt x="0" y="80"/>
                  </a:moveTo>
                  <a:cubicBezTo>
                    <a:pt x="9" y="53"/>
                    <a:pt x="33" y="37"/>
                    <a:pt x="60" y="28"/>
                  </a:cubicBezTo>
                  <a:cubicBezTo>
                    <a:pt x="70" y="18"/>
                    <a:pt x="82" y="10"/>
                    <a:pt x="92" y="0"/>
                  </a:cubicBezTo>
                </a:path>
              </a:pathLst>
            </a:custGeom>
            <a:noFill/>
            <a:ln w="1908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8" name=""/>
            <p:cNvSpPr/>
            <p:nvPr/>
          </p:nvSpPr>
          <p:spPr>
            <a:xfrm>
              <a:off x="1743120" y="2090880"/>
              <a:ext cx="1725480" cy="1363680"/>
            </a:xfrm>
            <a:custGeom>
              <a:avLst/>
              <a:gdLst/>
              <a:ahLst/>
              <a:rect l="l" t="t" r="r" b="b"/>
              <a:pathLst>
                <a:path w="1087" h="859">
                  <a:moveTo>
                    <a:pt x="17" y="0"/>
                  </a:moveTo>
                  <a:cubicBezTo>
                    <a:pt x="32" y="112"/>
                    <a:pt x="51" y="170"/>
                    <a:pt x="118" y="256"/>
                  </a:cubicBezTo>
                  <a:cubicBezTo>
                    <a:pt x="138" y="282"/>
                    <a:pt x="141" y="306"/>
                    <a:pt x="164" y="329"/>
                  </a:cubicBezTo>
                  <a:cubicBezTo>
                    <a:pt x="176" y="365"/>
                    <a:pt x="182" y="381"/>
                    <a:pt x="219" y="393"/>
                  </a:cubicBezTo>
                  <a:cubicBezTo>
                    <a:pt x="280" y="434"/>
                    <a:pt x="312" y="507"/>
                    <a:pt x="374" y="548"/>
                  </a:cubicBezTo>
                  <a:cubicBezTo>
                    <a:pt x="400" y="588"/>
                    <a:pt x="429" y="634"/>
                    <a:pt x="475" y="649"/>
                  </a:cubicBezTo>
                  <a:cubicBezTo>
                    <a:pt x="512" y="674"/>
                    <a:pt x="551" y="671"/>
                    <a:pt x="593" y="685"/>
                  </a:cubicBezTo>
                  <a:cubicBezTo>
                    <a:pt x="602" y="691"/>
                    <a:pt x="611" y="699"/>
                    <a:pt x="621" y="704"/>
                  </a:cubicBezTo>
                  <a:cubicBezTo>
                    <a:pt x="629" y="708"/>
                    <a:pt x="640" y="708"/>
                    <a:pt x="648" y="713"/>
                  </a:cubicBezTo>
                  <a:cubicBezTo>
                    <a:pt x="670" y="726"/>
                    <a:pt x="689" y="757"/>
                    <a:pt x="712" y="768"/>
                  </a:cubicBezTo>
                  <a:cubicBezTo>
                    <a:pt x="746" y="785"/>
                    <a:pt x="793" y="795"/>
                    <a:pt x="831" y="804"/>
                  </a:cubicBezTo>
                  <a:cubicBezTo>
                    <a:pt x="858" y="821"/>
                    <a:pt x="878" y="841"/>
                    <a:pt x="904" y="859"/>
                  </a:cubicBezTo>
                  <a:cubicBezTo>
                    <a:pt x="967" y="838"/>
                    <a:pt x="946" y="855"/>
                    <a:pt x="977" y="822"/>
                  </a:cubicBezTo>
                  <a:cubicBezTo>
                    <a:pt x="988" y="793"/>
                    <a:pt x="986" y="746"/>
                    <a:pt x="1005" y="722"/>
                  </a:cubicBezTo>
                  <a:cubicBezTo>
                    <a:pt x="1012" y="714"/>
                    <a:pt x="1024" y="711"/>
                    <a:pt x="1032" y="704"/>
                  </a:cubicBezTo>
                  <a:cubicBezTo>
                    <a:pt x="1056" y="685"/>
                    <a:pt x="1087" y="630"/>
                    <a:pt x="1087" y="630"/>
                  </a:cubicBezTo>
                  <a:cubicBezTo>
                    <a:pt x="1075" y="593"/>
                    <a:pt x="1059" y="588"/>
                    <a:pt x="1023" y="576"/>
                  </a:cubicBezTo>
                  <a:cubicBezTo>
                    <a:pt x="938" y="486"/>
                    <a:pt x="627" y="513"/>
                    <a:pt x="584" y="512"/>
                  </a:cubicBezTo>
                  <a:cubicBezTo>
                    <a:pt x="491" y="477"/>
                    <a:pt x="395" y="451"/>
                    <a:pt x="301" y="420"/>
                  </a:cubicBezTo>
                  <a:cubicBezTo>
                    <a:pt x="258" y="356"/>
                    <a:pt x="282" y="377"/>
                    <a:pt x="237" y="347"/>
                  </a:cubicBezTo>
                  <a:cubicBezTo>
                    <a:pt x="222" y="324"/>
                    <a:pt x="201" y="293"/>
                    <a:pt x="182" y="274"/>
                  </a:cubicBezTo>
                  <a:cubicBezTo>
                    <a:pt x="168" y="260"/>
                    <a:pt x="150" y="251"/>
                    <a:pt x="136" y="237"/>
                  </a:cubicBezTo>
                  <a:cubicBezTo>
                    <a:pt x="124" y="202"/>
                    <a:pt x="107" y="162"/>
                    <a:pt x="81" y="137"/>
                  </a:cubicBezTo>
                  <a:cubicBezTo>
                    <a:pt x="64" y="83"/>
                    <a:pt x="86" y="132"/>
                    <a:pt x="45" y="91"/>
                  </a:cubicBezTo>
                  <a:cubicBezTo>
                    <a:pt x="0" y="46"/>
                    <a:pt x="52" y="77"/>
                    <a:pt x="8" y="54"/>
                  </a:cubicBezTo>
                </a:path>
              </a:pathLst>
            </a:custGeom>
            <a:gradFill rotWithShape="0">
              <a:gsLst>
                <a:gs pos="0">
                  <a:srgbClr val="00cc99"/>
                </a:gs>
                <a:gs pos="100000">
                  <a:srgbClr val="ff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9" name="" descr=""/>
            <p:cNvPicPr/>
            <p:nvPr/>
          </p:nvPicPr>
          <p:blipFill>
            <a:blip r:embed="rId1"/>
            <a:stretch/>
          </p:blipFill>
          <p:spPr>
            <a:xfrm>
              <a:off x="1979640" y="2781360"/>
              <a:ext cx="174600" cy="182520"/>
            </a:xfrm>
            <a:prstGeom prst="rect">
              <a:avLst/>
            </a:prstGeom>
            <a:ln w="0">
              <a:noFill/>
            </a:ln>
          </p:spPr>
        </p:pic>
        <p:pic>
          <p:nvPicPr>
            <p:cNvPr id="100" name="" descr=""/>
            <p:cNvPicPr/>
            <p:nvPr/>
          </p:nvPicPr>
          <p:blipFill>
            <a:blip r:embed="rId2"/>
            <a:stretch/>
          </p:blipFill>
          <p:spPr>
            <a:xfrm>
              <a:off x="2627280" y="3068640"/>
              <a:ext cx="243000" cy="254160"/>
            </a:xfrm>
            <a:prstGeom prst="rect">
              <a:avLst/>
            </a:prstGeom>
            <a:ln w="0">
              <a:noFill/>
            </a:ln>
          </p:spPr>
        </p:pic>
        <p:pic>
          <p:nvPicPr>
            <p:cNvPr id="101" name="" descr=""/>
            <p:cNvPicPr/>
            <p:nvPr/>
          </p:nvPicPr>
          <p:blipFill>
            <a:blip r:embed="rId3"/>
            <a:stretch/>
          </p:blipFill>
          <p:spPr>
            <a:xfrm>
              <a:off x="1692360" y="2421000"/>
              <a:ext cx="174600" cy="182520"/>
            </a:xfrm>
            <a:prstGeom prst="rect">
              <a:avLst/>
            </a:prstGeom>
            <a:ln w="0">
              <a:noFill/>
            </a:ln>
          </p:spPr>
        </p:pic>
      </p:grpSp>
      <p:sp>
        <p:nvSpPr>
          <p:cNvPr id="102" name=""/>
          <p:cNvSpPr/>
          <p:nvPr/>
        </p:nvSpPr>
        <p:spPr>
          <a:xfrm>
            <a:off x="4932360" y="189000"/>
            <a:ext cx="3478320" cy="110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2"/>
          <p:cNvSpPr>
            <a:spLocks noGrp="1"/>
          </p:cNvSpPr>
          <p:nvPr>
            <p:ph type="title"/>
          </p:nvPr>
        </p:nvSpPr>
        <p:spPr>
          <a:xfrm>
            <a:off x="3851280" y="404280"/>
            <a:ext cx="5113440" cy="110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42492"/>
                </a:solidFill>
                <a:latin typeface="Tahoma"/>
              </a:rPr>
              <a:t>1. Spatial Variation</a:t>
            </a:r>
            <a:endParaRPr b="0" lang="en-US" sz="4400" spc="-1" strike="noStrike">
              <a:solidFill>
                <a:srgbClr val="242492"/>
              </a:solidFill>
              <a:latin typeface="Tahoma"/>
            </a:endParaRPr>
          </a:p>
        </p:txBody>
      </p:sp>
      <p:sp>
        <p:nvSpPr>
          <p:cNvPr id="104" name=""/>
          <p:cNvSpPr/>
          <p:nvPr/>
        </p:nvSpPr>
        <p:spPr>
          <a:xfrm>
            <a:off x="7236000" y="270828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 name=""/>
          <p:cNvGrpSpPr/>
          <p:nvPr/>
        </p:nvGrpSpPr>
        <p:grpSpPr>
          <a:xfrm>
            <a:off x="250920" y="3933720"/>
            <a:ext cx="7634160" cy="2171160"/>
            <a:chOff x="250920" y="3933720"/>
            <a:chExt cx="7634160" cy="2171160"/>
          </a:xfrm>
        </p:grpSpPr>
        <p:sp>
          <p:nvSpPr>
            <p:cNvPr id="106" name=""/>
            <p:cNvSpPr/>
            <p:nvPr/>
          </p:nvSpPr>
          <p:spPr>
            <a:xfrm>
              <a:off x="250920" y="5157720"/>
              <a:ext cx="4508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Would it make the water body worse than good?</a:t>
              </a:r>
              <a:endParaRPr b="0" lang="en-US" sz="2800" spc="-1" strike="noStrike">
                <a:solidFill>
                  <a:srgbClr val="000000"/>
                </a:solidFill>
                <a:latin typeface="Arial"/>
              </a:endParaRPr>
            </a:p>
          </p:txBody>
        </p:sp>
        <p:sp>
          <p:nvSpPr>
            <p:cNvPr id="107" name=""/>
            <p:cNvSpPr/>
            <p:nvPr/>
          </p:nvSpPr>
          <p:spPr>
            <a:xfrm>
              <a:off x="7308720" y="3933720"/>
              <a:ext cx="5763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 name=""/>
          <p:cNvGrpSpPr/>
          <p:nvPr/>
        </p:nvGrpSpPr>
        <p:grpSpPr>
          <a:xfrm>
            <a:off x="7956720" y="1844640"/>
            <a:ext cx="863280" cy="2952720"/>
            <a:chOff x="7956720" y="1844640"/>
            <a:chExt cx="863280" cy="2952720"/>
          </a:xfrm>
        </p:grpSpPr>
        <p:grpSp>
          <p:nvGrpSpPr>
            <p:cNvPr id="109" name=""/>
            <p:cNvGrpSpPr/>
            <p:nvPr/>
          </p:nvGrpSpPr>
          <p:grpSpPr>
            <a:xfrm>
              <a:off x="7956720" y="1844640"/>
              <a:ext cx="863280" cy="2952720"/>
              <a:chOff x="7956720" y="1844640"/>
              <a:chExt cx="863280" cy="2952720"/>
            </a:xfrm>
          </p:grpSpPr>
          <p:sp>
            <p:nvSpPr>
              <p:cNvPr id="110" name=""/>
              <p:cNvSpPr/>
              <p:nvPr/>
            </p:nvSpPr>
            <p:spPr>
              <a:xfrm>
                <a:off x="7956720" y="1844640"/>
                <a:ext cx="863280" cy="584640"/>
              </a:xfrm>
              <a:prstGeom prst="rect">
                <a:avLst/>
              </a:prstGeom>
              <a:solidFill>
                <a:srgbClr val="00ffff"/>
              </a:solidFill>
              <a:ln w="12600">
                <a:solidFill>
                  <a:srgbClr val="dce8f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7956720" y="2436840"/>
                <a:ext cx="863280" cy="584640"/>
              </a:xfrm>
              <a:prstGeom prst="rect">
                <a:avLst/>
              </a:prstGeom>
              <a:solidFill>
                <a:srgbClr val="00ff66"/>
              </a:solidFill>
              <a:ln w="12600">
                <a:solidFill>
                  <a:srgbClr val="dce8f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7956720" y="3029040"/>
                <a:ext cx="863280" cy="583560"/>
              </a:xfrm>
              <a:prstGeom prst="rect">
                <a:avLst/>
              </a:prstGeom>
              <a:solidFill>
                <a:srgbClr val="ffff00"/>
              </a:solidFill>
              <a:ln w="12600">
                <a:solidFill>
                  <a:srgbClr val="dce8f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7956720" y="3620520"/>
                <a:ext cx="863280" cy="584640"/>
              </a:xfrm>
              <a:prstGeom prst="rect">
                <a:avLst/>
              </a:prstGeom>
              <a:solidFill>
                <a:srgbClr val="ff9900"/>
              </a:solidFill>
              <a:ln w="12600">
                <a:solidFill>
                  <a:srgbClr val="dce8f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7956720" y="4212720"/>
                <a:ext cx="863280" cy="584640"/>
              </a:xfrm>
              <a:prstGeom prst="rect">
                <a:avLst/>
              </a:prstGeom>
              <a:solidFill>
                <a:srgbClr val="ff0033"/>
              </a:solidFill>
              <a:ln w="12600">
                <a:solidFill>
                  <a:srgbClr val="dce8f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5" name=""/>
            <p:cNvGrpSpPr/>
            <p:nvPr/>
          </p:nvGrpSpPr>
          <p:grpSpPr>
            <a:xfrm>
              <a:off x="8183880" y="4479840"/>
              <a:ext cx="441000" cy="119160"/>
              <a:chOff x="8183880" y="4479840"/>
              <a:chExt cx="441000" cy="119160"/>
            </a:xfrm>
          </p:grpSpPr>
          <p:sp>
            <p:nvSpPr>
              <p:cNvPr id="116" name=""/>
              <p:cNvSpPr/>
              <p:nvPr/>
            </p:nvSpPr>
            <p:spPr>
              <a:xfrm>
                <a:off x="8255160" y="4530960"/>
                <a:ext cx="299880" cy="12600"/>
              </a:xfrm>
              <a:prstGeom prst="line">
                <a:avLst/>
              </a:prstGeom>
              <a:ln w="25560">
                <a:solidFill>
                  <a:srgbClr val="dce8f4"/>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7" name=""/>
              <p:cNvSpPr/>
              <p:nvPr/>
            </p:nvSpPr>
            <p:spPr>
              <a:xfrm rot="240000">
                <a:off x="8554680" y="4481640"/>
                <a:ext cx="65880" cy="114840"/>
              </a:xfrm>
              <a:custGeom>
                <a:avLst/>
                <a:gdLst/>
                <a:ahLst/>
                <a:rect l="l" t="t" r="r" b="b"/>
                <a:pathLst>
                  <a:path stroke="0" w="21600" h="21600">
                    <a:moveTo>
                      <a:pt x="8949" y="21440"/>
                    </a:moveTo>
                    <a:arcTo wR="10800" hR="10800" stAng="5992196" swAng="9317479"/>
                    <a:lnTo>
                      <a:pt x="10800" y="10800"/>
                    </a:lnTo>
                    <a:close/>
                  </a:path>
                  <a:path fill="none" w="21600" h="21600">
                    <a:moveTo>
                      <a:pt x="8949" y="21440"/>
                    </a:moveTo>
                    <a:arcTo wR="10800" hR="10800" stAng="5992196" swAng="9317479"/>
                  </a:path>
                </a:pathLst>
              </a:custGeom>
              <a:noFill/>
              <a:ln cap="rnd" w="25560">
                <a:solidFill>
                  <a:srgbClr val="dce8f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rot="240000">
                <a:off x="8439840" y="4492440"/>
                <a:ext cx="93960" cy="92520"/>
              </a:xfrm>
              <a:custGeom>
                <a:avLst/>
                <a:gdLst/>
                <a:ahLst/>
                <a:rect l="l" t="t" r="r" b="b"/>
                <a:pathLst>
                  <a:path stroke="0" w="21600" h="21600">
                    <a:moveTo>
                      <a:pt x="5145" y="20001"/>
                    </a:moveTo>
                    <a:arcTo wR="10800" hR="10800" stAng="7294636" swAng="6895237"/>
                    <a:lnTo>
                      <a:pt x="10800" y="10800"/>
                    </a:lnTo>
                    <a:close/>
                  </a:path>
                  <a:path fill="none" w="21600" h="21600">
                    <a:moveTo>
                      <a:pt x="5145" y="20001"/>
                    </a:moveTo>
                    <a:arcTo wR="10800" hR="10800" stAng="7294636" swAng="6895237"/>
                  </a:path>
                </a:pathLst>
              </a:custGeom>
              <a:noFill/>
              <a:ln cap="rnd" w="25560">
                <a:solidFill>
                  <a:srgbClr val="dce8f4"/>
                </a:solidFill>
                <a:miter/>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119" name=""/>
              <p:cNvSpPr/>
              <p:nvPr/>
            </p:nvSpPr>
            <p:spPr>
              <a:xfrm rot="240000">
                <a:off x="8357040" y="4491000"/>
                <a:ext cx="96120" cy="93960"/>
              </a:xfrm>
              <a:custGeom>
                <a:avLst/>
                <a:gdLst/>
                <a:ahLst/>
                <a:rect l="l" t="t" r="r" b="b"/>
                <a:pathLst>
                  <a:path stroke="0" w="21600" h="21600">
                    <a:moveTo>
                      <a:pt x="5239" y="20058"/>
                    </a:moveTo>
                    <a:arcTo wR="10800" hR="10800" stAng="7259494" swAng="6966662"/>
                    <a:lnTo>
                      <a:pt x="10800" y="10800"/>
                    </a:lnTo>
                    <a:close/>
                  </a:path>
                  <a:path fill="none" w="21600" h="21600">
                    <a:moveTo>
                      <a:pt x="5239" y="20058"/>
                    </a:moveTo>
                    <a:arcTo wR="10800" hR="10800" stAng="7259494" swAng="6966662"/>
                  </a:path>
                </a:pathLst>
              </a:custGeom>
              <a:noFill/>
              <a:ln cap="rnd" w="25560">
                <a:solidFill>
                  <a:srgbClr val="dce8f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rot="240000">
                <a:off x="8402760" y="4491720"/>
                <a:ext cx="93960" cy="93600"/>
              </a:xfrm>
              <a:custGeom>
                <a:avLst/>
                <a:gdLst/>
                <a:ahLst/>
                <a:rect l="l" t="t" r="r" b="b"/>
                <a:pathLst>
                  <a:path stroke="0" w="21600" h="21600">
                    <a:moveTo>
                      <a:pt x="5157" y="20009"/>
                    </a:moveTo>
                    <a:arcTo wR="10800" hR="10800" stAng="7289984" swAng="6904688"/>
                    <a:lnTo>
                      <a:pt x="10800" y="10800"/>
                    </a:lnTo>
                    <a:close/>
                  </a:path>
                  <a:path fill="none" w="21600" h="21600">
                    <a:moveTo>
                      <a:pt x="5157" y="20009"/>
                    </a:moveTo>
                    <a:arcTo wR="10800" hR="10800" stAng="7289984" swAng="6904688"/>
                  </a:path>
                </a:pathLst>
              </a:custGeom>
              <a:noFill/>
              <a:ln cap="rnd" w="25560">
                <a:solidFill>
                  <a:srgbClr val="dce8f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rot="240000">
                <a:off x="8325000" y="4491000"/>
                <a:ext cx="94680" cy="94680"/>
              </a:xfrm>
              <a:custGeom>
                <a:avLst/>
                <a:gdLst/>
                <a:ahLst/>
                <a:rect l="l" t="t" r="r" b="b"/>
                <a:pathLst>
                  <a:path stroke="0" w="21600" h="21600">
                    <a:moveTo>
                      <a:pt x="5121" y="19986"/>
                    </a:moveTo>
                    <a:arcTo wR="10800" hR="10800" stAng="7303626" swAng="6909543"/>
                    <a:lnTo>
                      <a:pt x="10800" y="10800"/>
                    </a:lnTo>
                    <a:close/>
                  </a:path>
                  <a:path fill="none" w="21600" h="21600">
                    <a:moveTo>
                      <a:pt x="5121" y="19986"/>
                    </a:moveTo>
                    <a:arcTo wR="10800" hR="10800" stAng="7303626" swAng="6909543"/>
                  </a:path>
                </a:pathLst>
              </a:custGeom>
              <a:noFill/>
              <a:ln cap="rnd" w="25560">
                <a:solidFill>
                  <a:srgbClr val="dce8f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rot="240000">
                <a:off x="8475840" y="4497840"/>
                <a:ext cx="94680" cy="93960"/>
              </a:xfrm>
              <a:custGeom>
                <a:avLst/>
                <a:gdLst/>
                <a:ahLst/>
                <a:rect l="l" t="t" r="r" b="b"/>
                <a:pathLst>
                  <a:path stroke="0" w="21600" h="21600">
                    <a:moveTo>
                      <a:pt x="5107" y="19978"/>
                    </a:moveTo>
                    <a:arcTo wR="10800" hR="10800" stAng="7308543" swAng="6900278"/>
                    <a:lnTo>
                      <a:pt x="10800" y="10800"/>
                    </a:lnTo>
                    <a:close/>
                  </a:path>
                  <a:path fill="none" w="21600" h="21600">
                    <a:moveTo>
                      <a:pt x="5107" y="19978"/>
                    </a:moveTo>
                    <a:arcTo wR="10800" hR="10800" stAng="7308543" swAng="6900278"/>
                  </a:path>
                </a:pathLst>
              </a:custGeom>
              <a:noFill/>
              <a:ln cap="rnd" w="25560">
                <a:solidFill>
                  <a:srgbClr val="dce8f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rot="240000">
                <a:off x="8291520" y="4485600"/>
                <a:ext cx="93960" cy="94320"/>
              </a:xfrm>
              <a:custGeom>
                <a:avLst/>
                <a:gdLst/>
                <a:ahLst/>
                <a:rect l="l" t="t" r="r" b="b"/>
                <a:pathLst>
                  <a:path stroke="0" w="21600" h="21600">
                    <a:moveTo>
                      <a:pt x="5358" y="20129"/>
                    </a:moveTo>
                    <a:arcTo wR="10800" hR="10800" stAng="7215386" swAng="7051958"/>
                    <a:lnTo>
                      <a:pt x="10800" y="10800"/>
                    </a:lnTo>
                    <a:close/>
                  </a:path>
                  <a:path fill="none" w="21600" h="21600">
                    <a:moveTo>
                      <a:pt x="5358" y="20129"/>
                    </a:moveTo>
                    <a:arcTo wR="10800" hR="10800" stAng="7215386" swAng="7051958"/>
                  </a:path>
                </a:pathLst>
              </a:custGeom>
              <a:noFill/>
              <a:ln cap="rnd" w="25560">
                <a:solidFill>
                  <a:srgbClr val="dce8f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8183880" y="4487040"/>
                <a:ext cx="86040" cy="78480"/>
              </a:xfrm>
              <a:custGeom>
                <a:avLst/>
                <a:gdLst/>
                <a:ahLst/>
                <a:rect l="l" t="t" r="r" b="b"/>
                <a:pathLst>
                  <a:path w="91" h="93">
                    <a:moveTo>
                      <a:pt x="67" y="8"/>
                    </a:moveTo>
                    <a:lnTo>
                      <a:pt x="62" y="11"/>
                    </a:lnTo>
                    <a:lnTo>
                      <a:pt x="58" y="14"/>
                    </a:lnTo>
                    <a:lnTo>
                      <a:pt x="52" y="13"/>
                    </a:lnTo>
                    <a:lnTo>
                      <a:pt x="50" y="17"/>
                    </a:lnTo>
                    <a:lnTo>
                      <a:pt x="46" y="17"/>
                    </a:lnTo>
                    <a:lnTo>
                      <a:pt x="42" y="20"/>
                    </a:lnTo>
                    <a:lnTo>
                      <a:pt x="38" y="22"/>
                    </a:lnTo>
                    <a:lnTo>
                      <a:pt x="34" y="23"/>
                    </a:lnTo>
                    <a:lnTo>
                      <a:pt x="30" y="25"/>
                    </a:lnTo>
                    <a:lnTo>
                      <a:pt x="28" y="30"/>
                    </a:lnTo>
                    <a:lnTo>
                      <a:pt x="25" y="33"/>
                    </a:lnTo>
                    <a:lnTo>
                      <a:pt x="26" y="38"/>
                    </a:lnTo>
                    <a:lnTo>
                      <a:pt x="21" y="38"/>
                    </a:lnTo>
                    <a:lnTo>
                      <a:pt x="17" y="39"/>
                    </a:lnTo>
                    <a:lnTo>
                      <a:pt x="11" y="39"/>
                    </a:lnTo>
                    <a:lnTo>
                      <a:pt x="7" y="46"/>
                    </a:lnTo>
                    <a:lnTo>
                      <a:pt x="4" y="53"/>
                    </a:lnTo>
                    <a:lnTo>
                      <a:pt x="3" y="55"/>
                    </a:lnTo>
                    <a:lnTo>
                      <a:pt x="2" y="58"/>
                    </a:lnTo>
                    <a:lnTo>
                      <a:pt x="2" y="61"/>
                    </a:lnTo>
                    <a:lnTo>
                      <a:pt x="0" y="64"/>
                    </a:lnTo>
                    <a:lnTo>
                      <a:pt x="6" y="68"/>
                    </a:lnTo>
                    <a:lnTo>
                      <a:pt x="10" y="68"/>
                    </a:lnTo>
                    <a:lnTo>
                      <a:pt x="16" y="70"/>
                    </a:lnTo>
                    <a:lnTo>
                      <a:pt x="21" y="73"/>
                    </a:lnTo>
                    <a:lnTo>
                      <a:pt x="27" y="76"/>
                    </a:lnTo>
                    <a:lnTo>
                      <a:pt x="32" y="79"/>
                    </a:lnTo>
                    <a:lnTo>
                      <a:pt x="40" y="85"/>
                    </a:lnTo>
                    <a:lnTo>
                      <a:pt x="49" y="87"/>
                    </a:lnTo>
                    <a:lnTo>
                      <a:pt x="52" y="87"/>
                    </a:lnTo>
                    <a:lnTo>
                      <a:pt x="57" y="88"/>
                    </a:lnTo>
                    <a:lnTo>
                      <a:pt x="74" y="90"/>
                    </a:lnTo>
                    <a:lnTo>
                      <a:pt x="89" y="92"/>
                    </a:lnTo>
                    <a:lnTo>
                      <a:pt x="90" y="88"/>
                    </a:lnTo>
                    <a:lnTo>
                      <a:pt x="89" y="85"/>
                    </a:lnTo>
                    <a:lnTo>
                      <a:pt x="88" y="81"/>
                    </a:lnTo>
                    <a:lnTo>
                      <a:pt x="85" y="75"/>
                    </a:lnTo>
                    <a:lnTo>
                      <a:pt x="84" y="73"/>
                    </a:lnTo>
                    <a:lnTo>
                      <a:pt x="84" y="70"/>
                    </a:lnTo>
                    <a:lnTo>
                      <a:pt x="82" y="63"/>
                    </a:lnTo>
                    <a:lnTo>
                      <a:pt x="80" y="61"/>
                    </a:lnTo>
                    <a:lnTo>
                      <a:pt x="80" y="57"/>
                    </a:lnTo>
                    <a:lnTo>
                      <a:pt x="80" y="51"/>
                    </a:lnTo>
                    <a:lnTo>
                      <a:pt x="80" y="43"/>
                    </a:lnTo>
                    <a:lnTo>
                      <a:pt x="79" y="33"/>
                    </a:lnTo>
                    <a:lnTo>
                      <a:pt x="84" y="31"/>
                    </a:lnTo>
                    <a:lnTo>
                      <a:pt x="87" y="28"/>
                    </a:lnTo>
                    <a:lnTo>
                      <a:pt x="87" y="25"/>
                    </a:lnTo>
                    <a:lnTo>
                      <a:pt x="87" y="22"/>
                    </a:lnTo>
                    <a:lnTo>
                      <a:pt x="87" y="18"/>
                    </a:lnTo>
                    <a:lnTo>
                      <a:pt x="87" y="15"/>
                    </a:lnTo>
                    <a:lnTo>
                      <a:pt x="89" y="13"/>
                    </a:lnTo>
                    <a:lnTo>
                      <a:pt x="89" y="9"/>
                    </a:lnTo>
                    <a:lnTo>
                      <a:pt x="90" y="6"/>
                    </a:lnTo>
                    <a:lnTo>
                      <a:pt x="90" y="0"/>
                    </a:lnTo>
                    <a:lnTo>
                      <a:pt x="87" y="0"/>
                    </a:lnTo>
                    <a:lnTo>
                      <a:pt x="82" y="1"/>
                    </a:lnTo>
                    <a:lnTo>
                      <a:pt x="79" y="1"/>
                    </a:lnTo>
                    <a:lnTo>
                      <a:pt x="76" y="4"/>
                    </a:lnTo>
                    <a:lnTo>
                      <a:pt x="73" y="7"/>
                    </a:lnTo>
                    <a:lnTo>
                      <a:pt x="71" y="10"/>
                    </a:lnTo>
                    <a:lnTo>
                      <a:pt x="67" y="8"/>
                    </a:lnTo>
                    <a:lnTo>
                      <a:pt x="67" y="8"/>
                    </a:lnTo>
                  </a:path>
                </a:pathLst>
              </a:custGeom>
              <a:solidFill>
                <a:srgbClr val="dce8f4"/>
              </a:solidFill>
              <a:ln cap="rnd" w="12600">
                <a:solidFill>
                  <a:srgbClr val="dce8f4"/>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grpSp>
        <p:grpSp>
          <p:nvGrpSpPr>
            <p:cNvPr id="125" name=""/>
            <p:cNvGrpSpPr/>
            <p:nvPr/>
          </p:nvGrpSpPr>
          <p:grpSpPr>
            <a:xfrm>
              <a:off x="8331120" y="3153600"/>
              <a:ext cx="160200" cy="264240"/>
              <a:chOff x="8331120" y="3153600"/>
              <a:chExt cx="160200" cy="264240"/>
            </a:xfrm>
          </p:grpSpPr>
          <p:sp>
            <p:nvSpPr>
              <p:cNvPr id="126" name=""/>
              <p:cNvSpPr/>
              <p:nvPr/>
            </p:nvSpPr>
            <p:spPr>
              <a:xfrm>
                <a:off x="8357760" y="3242520"/>
                <a:ext cx="95040" cy="175320"/>
              </a:xfrm>
              <a:prstGeom prst="ellipse">
                <a:avLst/>
              </a:prstGeom>
              <a:gradFill rotWithShape="0">
                <a:gsLst>
                  <a:gs pos="0">
                    <a:srgbClr val="fff200"/>
                  </a:gs>
                  <a:gs pos="50000">
                    <a:srgbClr val="4d0808"/>
                  </a:gs>
                  <a:gs pos="100000">
                    <a:srgbClr val="fff2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8373960" y="3269520"/>
                <a:ext cx="65520" cy="128520"/>
              </a:xfrm>
              <a:prstGeom prst="ellipse">
                <a:avLst/>
              </a:prstGeom>
              <a:gradFill rotWithShape="0">
                <a:gsLst>
                  <a:gs pos="0">
                    <a:srgbClr val="fff200"/>
                  </a:gs>
                  <a:gs pos="100000">
                    <a:srgbClr val="4d0808"/>
                  </a:gs>
                </a:gsLst>
                <a:lin ang="5400000"/>
              </a:gradFill>
              <a:ln w="1260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128" name=""/>
              <p:cNvSpPr/>
              <p:nvPr/>
            </p:nvSpPr>
            <p:spPr>
              <a:xfrm>
                <a:off x="8431920" y="3298320"/>
                <a:ext cx="59400" cy="58320"/>
              </a:xfrm>
              <a:prstGeom prst="ellipse">
                <a:avLst/>
              </a:prstGeom>
              <a:solidFill>
                <a:srgbClr val="dce8f4"/>
              </a:solidFill>
              <a:ln w="1260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29" name=""/>
              <p:cNvSpPr/>
              <p:nvPr/>
            </p:nvSpPr>
            <p:spPr>
              <a:xfrm>
                <a:off x="8459280" y="3317040"/>
                <a:ext cx="25560" cy="18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30" name=""/>
              <p:cNvSpPr/>
              <p:nvPr/>
            </p:nvSpPr>
            <p:spPr>
              <a:xfrm>
                <a:off x="8331120" y="3298320"/>
                <a:ext cx="59760" cy="58320"/>
              </a:xfrm>
              <a:prstGeom prst="ellipse">
                <a:avLst/>
              </a:prstGeom>
              <a:solidFill>
                <a:srgbClr val="dce8f4"/>
              </a:solidFill>
              <a:ln w="1260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31" name=""/>
              <p:cNvSpPr/>
              <p:nvPr/>
            </p:nvSpPr>
            <p:spPr>
              <a:xfrm>
                <a:off x="8331840" y="3317040"/>
                <a:ext cx="25560" cy="18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32" name=""/>
              <p:cNvSpPr/>
              <p:nvPr/>
            </p:nvSpPr>
            <p:spPr>
              <a:xfrm flipH="1" flipV="1">
                <a:off x="8393760" y="3153600"/>
                <a:ext cx="12240" cy="92880"/>
              </a:xfrm>
              <a:prstGeom prst="line">
                <a:avLst/>
              </a:prstGeom>
              <a:ln w="12600">
                <a:solidFill>
                  <a:srgbClr val="ff0033"/>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3" name=""/>
              <p:cNvSpPr/>
              <p:nvPr/>
            </p:nvSpPr>
            <p:spPr>
              <a:xfrm>
                <a:off x="8438400" y="3368520"/>
                <a:ext cx="34200" cy="24480"/>
              </a:xfrm>
              <a:prstGeom prst="line">
                <a:avLst/>
              </a:prstGeom>
              <a:ln w="12600">
                <a:solidFill>
                  <a:srgbClr val="ff0033"/>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34" name=""/>
              <p:cNvSpPr/>
              <p:nvPr/>
            </p:nvSpPr>
            <p:spPr>
              <a:xfrm>
                <a:off x="8398440" y="3362760"/>
                <a:ext cx="18000" cy="20160"/>
              </a:xfrm>
              <a:prstGeom prst="ellipse">
                <a:avLst/>
              </a:prstGeom>
              <a:solidFill>
                <a:srgbClr val="7b9cb5"/>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135" name=""/>
              <p:cNvSpPr/>
              <p:nvPr/>
            </p:nvSpPr>
            <p:spPr>
              <a:xfrm flipH="1">
                <a:off x="8339040" y="3374640"/>
                <a:ext cx="34200" cy="24480"/>
              </a:xfrm>
              <a:prstGeom prst="line">
                <a:avLst/>
              </a:prstGeom>
              <a:ln w="12600">
                <a:solidFill>
                  <a:srgbClr val="ff0033"/>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136" name=""/>
            <p:cNvGrpSpPr/>
            <p:nvPr/>
          </p:nvGrpSpPr>
          <p:grpSpPr>
            <a:xfrm>
              <a:off x="8056080" y="1913760"/>
              <a:ext cx="763920" cy="380880"/>
              <a:chOff x="8056080" y="1913760"/>
              <a:chExt cx="763920" cy="380880"/>
            </a:xfrm>
          </p:grpSpPr>
          <p:sp>
            <p:nvSpPr>
              <p:cNvPr id="137" name=""/>
              <p:cNvSpPr/>
              <p:nvPr/>
            </p:nvSpPr>
            <p:spPr>
              <a:xfrm>
                <a:off x="8113680" y="2058840"/>
                <a:ext cx="400320" cy="1260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138" name=""/>
              <p:cNvSpPr/>
              <p:nvPr/>
            </p:nvSpPr>
            <p:spPr>
              <a:xfrm rot="2460000">
                <a:off x="8583120" y="1936440"/>
                <a:ext cx="169920" cy="26784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39" name=""/>
              <p:cNvSpPr/>
              <p:nvPr/>
            </p:nvSpPr>
            <p:spPr>
              <a:xfrm>
                <a:off x="8142120" y="2056320"/>
                <a:ext cx="48240" cy="48960"/>
              </a:xfrm>
              <a:prstGeom prst="ellipse">
                <a:avLst/>
              </a:prstGeom>
              <a:solidFill>
                <a:srgbClr val="dce8f4"/>
              </a:solidFill>
              <a:ln w="1260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40" name=""/>
              <p:cNvSpPr/>
              <p:nvPr/>
            </p:nvSpPr>
            <p:spPr>
              <a:xfrm flipH="1" flipV="1" rot="17280000">
                <a:off x="8254080" y="2123280"/>
                <a:ext cx="122760" cy="172440"/>
              </a:xfrm>
              <a:custGeom>
                <a:avLst/>
                <a:gdLst>
                  <a:gd name="textAreaLeft" fmla="*/ 27000 w 122760"/>
                  <a:gd name="textAreaRight" fmla="*/ 95760 w 122760"/>
                  <a:gd name="textAreaTop" fmla="*/ 37800 h 172440"/>
                  <a:gd name="textAreaBottom" fmla="*/ 134640 h 17244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rot="360000">
                <a:off x="8296200" y="2001600"/>
                <a:ext cx="207000" cy="64080"/>
              </a:xfrm>
              <a:prstGeom prst="parallelogram">
                <a:avLst>
                  <a:gd name="adj" fmla="val 80743"/>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42" name=""/>
              <p:cNvSpPr/>
              <p:nvPr/>
            </p:nvSpPr>
            <p:spPr>
              <a:xfrm>
                <a:off x="8137080" y="2068920"/>
                <a:ext cx="19800" cy="15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43" name=""/>
              <p:cNvSpPr/>
              <p:nvPr/>
            </p:nvSpPr>
            <p:spPr>
              <a:xfrm rot="10800000">
                <a:off x="8056080" y="2098080"/>
                <a:ext cx="142200" cy="48600"/>
              </a:xfrm>
              <a:custGeom>
                <a:avLst/>
                <a:gdLst/>
                <a:ahLst/>
                <a:rect l="l" t="t" r="r" b="b"/>
                <a:pathLst>
                  <a:path stroke="0" w="21600" h="21600">
                    <a:moveTo>
                      <a:pt x="0" y="10800"/>
                    </a:moveTo>
                    <a:arcTo wR="10800" hR="10800" stAng="10800000" swAng="5353858"/>
                    <a:lnTo>
                      <a:pt x="10800" y="10800"/>
                    </a:lnTo>
                    <a:close/>
                  </a:path>
                  <a:path fill="none" w="21600" h="21600">
                    <a:moveTo>
                      <a:pt x="0" y="10800"/>
                    </a:moveTo>
                    <a:arcTo wR="10800" hR="10800" stAng="10800000" swAng="5353858"/>
                  </a:path>
                </a:pathLst>
              </a:custGeom>
              <a:noFill/>
              <a:ln cap="rnd" w="1260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144" name=""/>
            <p:cNvGrpSpPr/>
            <p:nvPr/>
          </p:nvGrpSpPr>
          <p:grpSpPr>
            <a:xfrm>
              <a:off x="8068320" y="2597400"/>
              <a:ext cx="732960" cy="313200"/>
              <a:chOff x="8068320" y="2597400"/>
              <a:chExt cx="732960" cy="313200"/>
            </a:xfrm>
          </p:grpSpPr>
          <p:sp>
            <p:nvSpPr>
              <p:cNvPr id="145" name=""/>
              <p:cNvSpPr/>
              <p:nvPr/>
            </p:nvSpPr>
            <p:spPr>
              <a:xfrm rot="1080000">
                <a:off x="8078040" y="2656080"/>
                <a:ext cx="399960" cy="1267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146" name=""/>
              <p:cNvSpPr/>
              <p:nvPr/>
            </p:nvSpPr>
            <p:spPr>
              <a:xfrm rot="3540000">
                <a:off x="8556840" y="2617920"/>
                <a:ext cx="152280" cy="30024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rot="1080000">
                <a:off x="8128440" y="2615400"/>
                <a:ext cx="48240" cy="49680"/>
              </a:xfrm>
              <a:prstGeom prst="ellipse">
                <a:avLst/>
              </a:prstGeom>
              <a:solidFill>
                <a:srgbClr val="dce8f4"/>
              </a:solidFill>
              <a:ln w="12600">
                <a:solidFill>
                  <a:srgbClr val="0000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48" name=""/>
              <p:cNvSpPr/>
              <p:nvPr/>
            </p:nvSpPr>
            <p:spPr>
              <a:xfrm flipH="1" flipV="1" rot="18360000">
                <a:off x="8218080" y="2700720"/>
                <a:ext cx="96120" cy="197640"/>
              </a:xfrm>
              <a:custGeom>
                <a:avLst/>
                <a:gdLst>
                  <a:gd name="textAreaLeft" fmla="*/ 20880 w 96120"/>
                  <a:gd name="textAreaRight" fmla="*/ 75240 w 96120"/>
                  <a:gd name="textAreaTop" fmla="*/ 43200 h 197640"/>
                  <a:gd name="textAreaBottom" fmla="*/ 154440 h 19764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rot="1440000">
                <a:off x="8281080" y="2651760"/>
                <a:ext cx="222480" cy="43200"/>
              </a:xfrm>
              <a:prstGeom prst="parallelogram">
                <a:avLst>
                  <a:gd name="adj" fmla="val 128726"/>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150" name=""/>
              <p:cNvSpPr/>
              <p:nvPr/>
            </p:nvSpPr>
            <p:spPr>
              <a:xfrm rot="1080000">
                <a:off x="8133840" y="2629440"/>
                <a:ext cx="20880" cy="14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51" name=""/>
              <p:cNvSpPr/>
              <p:nvPr/>
            </p:nvSpPr>
            <p:spPr>
              <a:xfrm>
                <a:off x="8085240" y="2676960"/>
                <a:ext cx="70200" cy="32760"/>
              </a:xfrm>
              <a:custGeom>
                <a:avLst/>
                <a:gdLst/>
                <a:ahLst/>
                <a:rect l="l" t="t" r="r" b="b"/>
                <a:pathLst>
                  <a:path w="74" h="39">
                    <a:moveTo>
                      <a:pt x="0" y="0"/>
                    </a:moveTo>
                    <a:lnTo>
                      <a:pt x="5" y="2"/>
                    </a:lnTo>
                    <a:lnTo>
                      <a:pt x="14" y="2"/>
                    </a:lnTo>
                    <a:lnTo>
                      <a:pt x="20" y="4"/>
                    </a:lnTo>
                    <a:lnTo>
                      <a:pt x="24" y="8"/>
                    </a:lnTo>
                    <a:lnTo>
                      <a:pt x="26" y="17"/>
                    </a:lnTo>
                    <a:lnTo>
                      <a:pt x="30" y="19"/>
                    </a:lnTo>
                    <a:lnTo>
                      <a:pt x="42" y="22"/>
                    </a:lnTo>
                    <a:lnTo>
                      <a:pt x="48" y="24"/>
                    </a:lnTo>
                    <a:lnTo>
                      <a:pt x="52" y="23"/>
                    </a:lnTo>
                    <a:lnTo>
                      <a:pt x="59" y="19"/>
                    </a:lnTo>
                    <a:lnTo>
                      <a:pt x="62" y="21"/>
                    </a:lnTo>
                    <a:lnTo>
                      <a:pt x="67" y="22"/>
                    </a:lnTo>
                    <a:lnTo>
                      <a:pt x="69" y="29"/>
                    </a:lnTo>
                    <a:lnTo>
                      <a:pt x="73" y="38"/>
                    </a:lnTo>
                  </a:path>
                </a:pathLst>
              </a:custGeom>
              <a:noFill/>
              <a:ln cap="rnd" w="12600">
                <a:solidFill>
                  <a:srgbClr val="0000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grpSp>
        <p:grpSp>
          <p:nvGrpSpPr>
            <p:cNvPr id="152" name=""/>
            <p:cNvGrpSpPr/>
            <p:nvPr/>
          </p:nvGrpSpPr>
          <p:grpSpPr>
            <a:xfrm>
              <a:off x="8102160" y="3764520"/>
              <a:ext cx="533520" cy="345240"/>
              <a:chOff x="8102160" y="3764520"/>
              <a:chExt cx="533520" cy="345240"/>
            </a:xfrm>
          </p:grpSpPr>
          <p:grpSp>
            <p:nvGrpSpPr>
              <p:cNvPr id="153" name=""/>
              <p:cNvGrpSpPr/>
              <p:nvPr/>
            </p:nvGrpSpPr>
            <p:grpSpPr>
              <a:xfrm>
                <a:off x="8216280" y="3764520"/>
                <a:ext cx="419400" cy="277200"/>
                <a:chOff x="8216280" y="3764520"/>
                <a:chExt cx="419400" cy="277200"/>
              </a:xfrm>
            </p:grpSpPr>
            <p:sp>
              <p:nvSpPr>
                <p:cNvPr id="154" name=""/>
                <p:cNvSpPr/>
                <p:nvPr/>
              </p:nvSpPr>
              <p:spPr>
                <a:xfrm flipH="1" rot="20273400">
                  <a:off x="8227440" y="3833640"/>
                  <a:ext cx="396360" cy="138240"/>
                </a:xfrm>
                <a:prstGeom prst="ellipse">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rot="292800">
                  <a:off x="8438760" y="3922920"/>
                  <a:ext cx="90360" cy="79560"/>
                </a:xfrm>
                <a:custGeom>
                  <a:avLst/>
                  <a:gdLst>
                    <a:gd name="textAreaLeft" fmla="*/ 19800 w 90360"/>
                    <a:gd name="textAreaRight" fmla="*/ 70560 w 90360"/>
                    <a:gd name="textAreaTop" fmla="*/ 17280 h 79560"/>
                    <a:gd name="textAreaBottom" fmla="*/ 62280 h 79560"/>
                  </a:gdLst>
                  <a:ahLst/>
                  <a:rect l="textAreaLeft" t="textAreaTop" r="textAreaRight" b="textAreaBottom"/>
                  <a:pathLst>
                    <a:path w="21600" h="21600">
                      <a:moveTo>
                        <a:pt x="0" y="0"/>
                      </a:moveTo>
                      <a:lnTo>
                        <a:pt x="21600" y="0"/>
                      </a:lnTo>
                      <a:lnTo>
                        <a:pt x="16201" y="21600"/>
                      </a:lnTo>
                      <a:lnTo>
                        <a:pt x="5399" y="21600"/>
                      </a:lnTo>
                      <a:close/>
                    </a:path>
                  </a:pathLst>
                </a:custGeom>
                <a:solidFill>
                  <a:srgbClr val="00ff99"/>
                </a:solidFill>
                <a:ln w="1260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156" name=""/>
                <p:cNvSpPr/>
                <p:nvPr/>
              </p:nvSpPr>
              <p:spPr>
                <a:xfrm flipH="1" rot="20273400">
                  <a:off x="8508960" y="3781440"/>
                  <a:ext cx="58680" cy="5652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7" name=""/>
                <p:cNvSpPr/>
                <p:nvPr/>
              </p:nvSpPr>
              <p:spPr>
                <a:xfrm flipH="1" rot="20273400">
                  <a:off x="8549280" y="3808800"/>
                  <a:ext cx="23760" cy="19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158" name=""/>
                <p:cNvSpPr/>
                <p:nvPr/>
              </p:nvSpPr>
              <p:spPr>
                <a:xfrm flipH="1" rot="20273400">
                  <a:off x="8530560" y="3841200"/>
                  <a:ext cx="90360" cy="34200"/>
                </a:xfrm>
                <a:custGeom>
                  <a:avLst/>
                  <a:gdLst/>
                  <a:ahLst/>
                  <a:rect l="l" t="t" r="r" b="b"/>
                  <a:pathLst>
                    <a:path w="83" h="35">
                      <a:moveTo>
                        <a:pt x="0" y="0"/>
                      </a:moveTo>
                      <a:lnTo>
                        <a:pt x="8" y="0"/>
                      </a:lnTo>
                      <a:lnTo>
                        <a:pt x="14" y="0"/>
                      </a:lnTo>
                      <a:lnTo>
                        <a:pt x="20" y="0"/>
                      </a:lnTo>
                      <a:lnTo>
                        <a:pt x="26" y="2"/>
                      </a:lnTo>
                      <a:lnTo>
                        <a:pt x="32" y="4"/>
                      </a:lnTo>
                      <a:lnTo>
                        <a:pt x="38" y="8"/>
                      </a:lnTo>
                      <a:lnTo>
                        <a:pt x="44" y="10"/>
                      </a:lnTo>
                      <a:lnTo>
                        <a:pt x="48" y="16"/>
                      </a:lnTo>
                      <a:lnTo>
                        <a:pt x="54" y="18"/>
                      </a:lnTo>
                      <a:lnTo>
                        <a:pt x="58" y="24"/>
                      </a:lnTo>
                      <a:lnTo>
                        <a:pt x="64" y="28"/>
                      </a:lnTo>
                      <a:lnTo>
                        <a:pt x="70" y="30"/>
                      </a:lnTo>
                      <a:lnTo>
                        <a:pt x="76" y="34"/>
                      </a:lnTo>
                      <a:lnTo>
                        <a:pt x="82" y="30"/>
                      </a:lnTo>
                    </a:path>
                  </a:pathLst>
                </a:custGeom>
                <a:noFill/>
                <a:ln cap="rnd" w="1260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159" name=""/>
              <p:cNvSpPr/>
              <p:nvPr/>
            </p:nvSpPr>
            <p:spPr>
              <a:xfrm flipH="1" rot="20273400">
                <a:off x="8246160" y="3810240"/>
                <a:ext cx="177840" cy="73080"/>
              </a:xfrm>
              <a:custGeom>
                <a:avLst/>
                <a:gdLst/>
                <a:ahLst/>
                <a:rect l="l" t="t" r="r" b="b"/>
                <a:pathLst>
                  <a:path w="163" h="75">
                    <a:moveTo>
                      <a:pt x="0" y="63"/>
                    </a:moveTo>
                    <a:lnTo>
                      <a:pt x="10" y="58"/>
                    </a:lnTo>
                    <a:lnTo>
                      <a:pt x="18" y="52"/>
                    </a:lnTo>
                    <a:lnTo>
                      <a:pt x="25" y="52"/>
                    </a:lnTo>
                    <a:lnTo>
                      <a:pt x="33" y="52"/>
                    </a:lnTo>
                    <a:lnTo>
                      <a:pt x="41" y="52"/>
                    </a:lnTo>
                    <a:lnTo>
                      <a:pt x="48" y="52"/>
                    </a:lnTo>
                    <a:lnTo>
                      <a:pt x="56" y="52"/>
                    </a:lnTo>
                    <a:lnTo>
                      <a:pt x="64" y="52"/>
                    </a:lnTo>
                    <a:lnTo>
                      <a:pt x="72" y="52"/>
                    </a:lnTo>
                    <a:lnTo>
                      <a:pt x="79" y="58"/>
                    </a:lnTo>
                    <a:lnTo>
                      <a:pt x="87" y="63"/>
                    </a:lnTo>
                    <a:lnTo>
                      <a:pt x="95" y="68"/>
                    </a:lnTo>
                    <a:lnTo>
                      <a:pt x="102" y="68"/>
                    </a:lnTo>
                    <a:lnTo>
                      <a:pt x="110" y="74"/>
                    </a:lnTo>
                    <a:lnTo>
                      <a:pt x="118" y="74"/>
                    </a:lnTo>
                    <a:lnTo>
                      <a:pt x="120" y="58"/>
                    </a:lnTo>
                    <a:lnTo>
                      <a:pt x="126" y="42"/>
                    </a:lnTo>
                    <a:lnTo>
                      <a:pt x="136" y="37"/>
                    </a:lnTo>
                    <a:lnTo>
                      <a:pt x="146" y="31"/>
                    </a:lnTo>
                    <a:lnTo>
                      <a:pt x="154" y="31"/>
                    </a:lnTo>
                    <a:lnTo>
                      <a:pt x="162" y="31"/>
                    </a:lnTo>
                    <a:lnTo>
                      <a:pt x="154" y="26"/>
                    </a:lnTo>
                    <a:lnTo>
                      <a:pt x="146" y="26"/>
                    </a:lnTo>
                    <a:lnTo>
                      <a:pt x="146" y="10"/>
                    </a:lnTo>
                    <a:lnTo>
                      <a:pt x="138" y="15"/>
                    </a:lnTo>
                    <a:lnTo>
                      <a:pt x="133" y="31"/>
                    </a:lnTo>
                    <a:lnTo>
                      <a:pt x="126" y="15"/>
                    </a:lnTo>
                    <a:lnTo>
                      <a:pt x="120" y="0"/>
                    </a:lnTo>
                    <a:lnTo>
                      <a:pt x="113" y="15"/>
                    </a:lnTo>
                    <a:lnTo>
                      <a:pt x="108" y="31"/>
                    </a:lnTo>
                    <a:lnTo>
                      <a:pt x="100" y="42"/>
                    </a:lnTo>
                    <a:lnTo>
                      <a:pt x="95" y="26"/>
                    </a:lnTo>
                    <a:lnTo>
                      <a:pt x="87" y="31"/>
                    </a:lnTo>
                    <a:lnTo>
                      <a:pt x="79" y="37"/>
                    </a:lnTo>
                    <a:lnTo>
                      <a:pt x="72" y="26"/>
                    </a:lnTo>
                    <a:lnTo>
                      <a:pt x="64" y="15"/>
                    </a:lnTo>
                    <a:lnTo>
                      <a:pt x="56" y="10"/>
                    </a:lnTo>
                    <a:lnTo>
                      <a:pt x="54" y="26"/>
                    </a:lnTo>
                    <a:lnTo>
                      <a:pt x="46" y="37"/>
                    </a:lnTo>
                    <a:lnTo>
                      <a:pt x="38" y="37"/>
                    </a:lnTo>
                    <a:lnTo>
                      <a:pt x="30" y="21"/>
                    </a:lnTo>
                    <a:lnTo>
                      <a:pt x="23" y="21"/>
                    </a:lnTo>
                    <a:lnTo>
                      <a:pt x="15" y="31"/>
                    </a:lnTo>
                    <a:lnTo>
                      <a:pt x="7" y="42"/>
                    </a:lnTo>
                    <a:lnTo>
                      <a:pt x="0" y="63"/>
                    </a:lnTo>
                    <a:lnTo>
                      <a:pt x="0" y="63"/>
                    </a:lnTo>
                  </a:path>
                </a:pathLst>
              </a:custGeom>
              <a:solidFill>
                <a:srgbClr val="00ff99"/>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0" name=""/>
              <p:cNvSpPr/>
              <p:nvPr/>
            </p:nvSpPr>
            <p:spPr>
              <a:xfrm flipH="1" rot="20273400">
                <a:off x="8131680" y="3907800"/>
                <a:ext cx="123480" cy="185400"/>
              </a:xfrm>
              <a:custGeom>
                <a:avLst/>
                <a:gdLst/>
                <a:ahLst/>
                <a:rect l="l" t="t" r="r" b="b"/>
                <a:pathLst>
                  <a:path w="113" h="190">
                    <a:moveTo>
                      <a:pt x="16" y="60"/>
                    </a:moveTo>
                    <a:lnTo>
                      <a:pt x="25" y="50"/>
                    </a:lnTo>
                    <a:lnTo>
                      <a:pt x="29" y="45"/>
                    </a:lnTo>
                    <a:lnTo>
                      <a:pt x="34" y="41"/>
                    </a:lnTo>
                    <a:lnTo>
                      <a:pt x="40" y="37"/>
                    </a:lnTo>
                    <a:lnTo>
                      <a:pt x="45" y="33"/>
                    </a:lnTo>
                    <a:lnTo>
                      <a:pt x="49" y="27"/>
                    </a:lnTo>
                    <a:lnTo>
                      <a:pt x="57" y="24"/>
                    </a:lnTo>
                    <a:lnTo>
                      <a:pt x="62" y="20"/>
                    </a:lnTo>
                    <a:lnTo>
                      <a:pt x="71" y="15"/>
                    </a:lnTo>
                    <a:lnTo>
                      <a:pt x="80" y="11"/>
                    </a:lnTo>
                    <a:lnTo>
                      <a:pt x="88" y="3"/>
                    </a:lnTo>
                    <a:lnTo>
                      <a:pt x="95" y="0"/>
                    </a:lnTo>
                    <a:lnTo>
                      <a:pt x="100" y="6"/>
                    </a:lnTo>
                    <a:lnTo>
                      <a:pt x="106" y="10"/>
                    </a:lnTo>
                    <a:lnTo>
                      <a:pt x="105" y="17"/>
                    </a:lnTo>
                    <a:lnTo>
                      <a:pt x="101" y="22"/>
                    </a:lnTo>
                    <a:lnTo>
                      <a:pt x="105" y="30"/>
                    </a:lnTo>
                    <a:lnTo>
                      <a:pt x="106" y="38"/>
                    </a:lnTo>
                    <a:lnTo>
                      <a:pt x="100" y="42"/>
                    </a:lnTo>
                    <a:lnTo>
                      <a:pt x="103" y="52"/>
                    </a:lnTo>
                    <a:lnTo>
                      <a:pt x="107" y="57"/>
                    </a:lnTo>
                    <a:lnTo>
                      <a:pt x="111" y="65"/>
                    </a:lnTo>
                    <a:lnTo>
                      <a:pt x="112" y="73"/>
                    </a:lnTo>
                    <a:lnTo>
                      <a:pt x="112" y="81"/>
                    </a:lnTo>
                    <a:lnTo>
                      <a:pt x="107" y="85"/>
                    </a:lnTo>
                    <a:lnTo>
                      <a:pt x="98" y="90"/>
                    </a:lnTo>
                    <a:lnTo>
                      <a:pt x="90" y="93"/>
                    </a:lnTo>
                    <a:lnTo>
                      <a:pt x="83" y="96"/>
                    </a:lnTo>
                    <a:lnTo>
                      <a:pt x="79" y="101"/>
                    </a:lnTo>
                    <a:lnTo>
                      <a:pt x="73" y="105"/>
                    </a:lnTo>
                    <a:lnTo>
                      <a:pt x="68" y="109"/>
                    </a:lnTo>
                    <a:lnTo>
                      <a:pt x="62" y="113"/>
                    </a:lnTo>
                    <a:lnTo>
                      <a:pt x="58" y="121"/>
                    </a:lnTo>
                    <a:lnTo>
                      <a:pt x="54" y="126"/>
                    </a:lnTo>
                    <a:lnTo>
                      <a:pt x="50" y="132"/>
                    </a:lnTo>
                    <a:lnTo>
                      <a:pt x="47" y="137"/>
                    </a:lnTo>
                    <a:lnTo>
                      <a:pt x="43" y="143"/>
                    </a:lnTo>
                    <a:lnTo>
                      <a:pt x="38" y="147"/>
                    </a:lnTo>
                    <a:lnTo>
                      <a:pt x="34" y="152"/>
                    </a:lnTo>
                    <a:lnTo>
                      <a:pt x="31" y="158"/>
                    </a:lnTo>
                    <a:lnTo>
                      <a:pt x="27" y="163"/>
                    </a:lnTo>
                    <a:lnTo>
                      <a:pt x="24" y="169"/>
                    </a:lnTo>
                    <a:lnTo>
                      <a:pt x="22" y="175"/>
                    </a:lnTo>
                    <a:lnTo>
                      <a:pt x="21" y="182"/>
                    </a:lnTo>
                    <a:lnTo>
                      <a:pt x="19" y="189"/>
                    </a:lnTo>
                    <a:lnTo>
                      <a:pt x="14" y="183"/>
                    </a:lnTo>
                    <a:lnTo>
                      <a:pt x="10" y="176"/>
                    </a:lnTo>
                    <a:lnTo>
                      <a:pt x="8" y="166"/>
                    </a:lnTo>
                    <a:lnTo>
                      <a:pt x="4" y="159"/>
                    </a:lnTo>
                    <a:lnTo>
                      <a:pt x="4" y="150"/>
                    </a:lnTo>
                    <a:lnTo>
                      <a:pt x="0" y="143"/>
                    </a:lnTo>
                    <a:lnTo>
                      <a:pt x="1" y="136"/>
                    </a:lnTo>
                    <a:lnTo>
                      <a:pt x="1" y="128"/>
                    </a:lnTo>
                    <a:lnTo>
                      <a:pt x="0" y="120"/>
                    </a:lnTo>
                    <a:lnTo>
                      <a:pt x="4" y="114"/>
                    </a:lnTo>
                    <a:lnTo>
                      <a:pt x="7" y="109"/>
                    </a:lnTo>
                    <a:lnTo>
                      <a:pt x="9" y="102"/>
                    </a:lnTo>
                    <a:lnTo>
                      <a:pt x="10" y="95"/>
                    </a:lnTo>
                    <a:lnTo>
                      <a:pt x="10" y="87"/>
                    </a:lnTo>
                    <a:lnTo>
                      <a:pt x="5" y="81"/>
                    </a:lnTo>
                    <a:lnTo>
                      <a:pt x="1" y="74"/>
                    </a:lnTo>
                    <a:lnTo>
                      <a:pt x="1" y="66"/>
                    </a:lnTo>
                    <a:lnTo>
                      <a:pt x="16" y="60"/>
                    </a:lnTo>
                    <a:lnTo>
                      <a:pt x="16" y="60"/>
                    </a:lnTo>
                  </a:path>
                </a:pathLst>
              </a:custGeom>
              <a:solidFill>
                <a:srgbClr val="00ff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rot="20273400">
                <a:off x="8421840" y="3900600"/>
                <a:ext cx="14760" cy="14040"/>
              </a:xfrm>
              <a:prstGeom prst="ellipse">
                <a:avLst/>
              </a:prstGeom>
              <a:solidFill>
                <a:srgbClr val="ff6633"/>
              </a:solidFill>
              <a:ln w="12600">
                <a:solidFill>
                  <a:srgbClr val="ff6633"/>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62" name=""/>
              <p:cNvSpPr/>
              <p:nvPr/>
            </p:nvSpPr>
            <p:spPr>
              <a:xfrm flipH="1" rot="20273400">
                <a:off x="8360640" y="3908160"/>
                <a:ext cx="15120" cy="13680"/>
              </a:xfrm>
              <a:prstGeom prst="ellipse">
                <a:avLst/>
              </a:prstGeom>
              <a:solidFill>
                <a:srgbClr val="ff6633"/>
              </a:solidFill>
              <a:ln w="12600">
                <a:solidFill>
                  <a:srgbClr val="ff6633"/>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63" name=""/>
              <p:cNvSpPr/>
              <p:nvPr/>
            </p:nvSpPr>
            <p:spPr>
              <a:xfrm flipH="1" rot="20273400">
                <a:off x="8340480" y="3956400"/>
                <a:ext cx="14760" cy="14040"/>
              </a:xfrm>
              <a:prstGeom prst="ellipse">
                <a:avLst/>
              </a:prstGeom>
              <a:solidFill>
                <a:srgbClr val="ff6633"/>
              </a:solidFill>
              <a:ln w="12600">
                <a:solidFill>
                  <a:srgbClr val="ff6633"/>
                </a:solidFill>
                <a:miter/>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5"/>
                                        </p:tgtEl>
                                        <p:attrNameLst>
                                          <p:attrName>style.visibility</p:attrName>
                                        </p:attrNameLst>
                                      </p:cBhvr>
                                      <p:to>
                                        <p:strVal val="visible"/>
                                      </p:to>
                                    </p:set>
                                  </p:childTnLst>
                                </p:cTn>
                              </p:par>
                              <p:par>
                                <p:cTn id="7" nodeType="withEffect" fill="hold" presetClass="exit" presetID="8" presetSubtype="16">
                                  <p:stCondLst>
                                    <p:cond delay="0"/>
                                  </p:stCondLst>
                                  <p:childTnLst>
                                    <p:animEffect filter="diamond(in)" transition="out">
                                      <p:cBhvr additive="repl">
                                        <p:cTn id="8" dur="2000"/>
                                        <p:tgtEl>
                                          <p:spTgt spid="104"/>
                                        </p:tgtEl>
                                      </p:cBhvr>
                                    </p:animEffect>
                                    <p:set>
                                      <p:cBhvr>
                                        <p:cTn id="9" dur="1" fill="hold">
                                          <p:stCondLst>
                                            <p:cond delay="1999"/>
                                          </p:stCondLst>
                                        </p:cTn>
                                        <p:tgtEl>
                                          <p:spTgt spid="104"/>
                                        </p:tgtEl>
                                        <p:attrNameLst>
                                          <p:attrName>style.visibility</p:attrName>
                                        </p:attrNameLst>
                                      </p:cBhvr>
                                      <p:to>
                                        <p:strVal val="hidden"/>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bad3"/>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620640"/>
            <a:ext cx="3527280" cy="216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c1c72"/>
                </a:solidFill>
                <a:latin typeface="Arial"/>
              </a:rPr>
              <a:t>Water bodies in England &amp; Wales</a:t>
            </a:r>
            <a:endParaRPr b="0" lang="en-US" sz="2800" spc="-1" strike="noStrike">
              <a:solidFill>
                <a:srgbClr val="242492"/>
              </a:solidFill>
              <a:latin typeface="Tahoma"/>
            </a:endParaRPr>
          </a:p>
        </p:txBody>
      </p:sp>
      <p:pic>
        <p:nvPicPr>
          <p:cNvPr id="165" name="" descr=""/>
          <p:cNvPicPr/>
          <p:nvPr/>
        </p:nvPicPr>
        <p:blipFill>
          <a:blip r:embed="rId1"/>
          <a:stretch/>
        </p:blipFill>
        <p:spPr>
          <a:xfrm>
            <a:off x="4067280" y="620640"/>
            <a:ext cx="4066920" cy="5689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79280" y="188640"/>
            <a:ext cx="2686320" cy="110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c1c72"/>
                </a:solidFill>
                <a:latin typeface="Arial"/>
              </a:rPr>
              <a:t>Water bodies</a:t>
            </a:r>
            <a:endParaRPr b="0" lang="en-US" sz="2800" spc="-1" strike="noStrike">
              <a:solidFill>
                <a:srgbClr val="242492"/>
              </a:solidFill>
              <a:latin typeface="Tahoma"/>
            </a:endParaRPr>
          </a:p>
        </p:txBody>
      </p:sp>
      <p:grpSp>
        <p:nvGrpSpPr>
          <p:cNvPr id="167" name=""/>
          <p:cNvGrpSpPr/>
          <p:nvPr/>
        </p:nvGrpSpPr>
        <p:grpSpPr>
          <a:xfrm>
            <a:off x="1618920" y="1268280"/>
            <a:ext cx="2644920" cy="4680000"/>
            <a:chOff x="1618920" y="1268280"/>
            <a:chExt cx="2644920" cy="4680000"/>
          </a:xfrm>
        </p:grpSpPr>
        <p:sp>
          <p:nvSpPr>
            <p:cNvPr id="168" name=""/>
            <p:cNvSpPr/>
            <p:nvPr/>
          </p:nvSpPr>
          <p:spPr>
            <a:xfrm rot="5400000">
              <a:off x="601200" y="2285640"/>
              <a:ext cx="4680000" cy="2644920"/>
            </a:xfrm>
            <a:custGeom>
              <a:avLst/>
              <a:gdLst/>
              <a:ahLst/>
              <a:rect l="l" t="t" r="r" b="b"/>
              <a:pathLst>
                <a:path w="4144" h="2280">
                  <a:moveTo>
                    <a:pt x="4120" y="1560"/>
                  </a:moveTo>
                  <a:cubicBezTo>
                    <a:pt x="4079" y="1546"/>
                    <a:pt x="4063" y="1505"/>
                    <a:pt x="4024" y="1488"/>
                  </a:cubicBezTo>
                  <a:cubicBezTo>
                    <a:pt x="3964" y="1461"/>
                    <a:pt x="3911" y="1437"/>
                    <a:pt x="3848" y="1416"/>
                  </a:cubicBezTo>
                  <a:cubicBezTo>
                    <a:pt x="3839" y="1413"/>
                    <a:pt x="3833" y="1403"/>
                    <a:pt x="3824" y="1400"/>
                  </a:cubicBezTo>
                  <a:cubicBezTo>
                    <a:pt x="3771" y="1380"/>
                    <a:pt x="3656" y="1376"/>
                    <a:pt x="3656" y="1376"/>
                  </a:cubicBezTo>
                  <a:cubicBezTo>
                    <a:pt x="3562" y="1383"/>
                    <a:pt x="3548" y="1385"/>
                    <a:pt x="3472" y="1360"/>
                  </a:cubicBezTo>
                  <a:cubicBezTo>
                    <a:pt x="3472" y="1360"/>
                    <a:pt x="3412" y="1320"/>
                    <a:pt x="3400" y="1312"/>
                  </a:cubicBezTo>
                  <a:cubicBezTo>
                    <a:pt x="3384" y="1301"/>
                    <a:pt x="3352" y="1280"/>
                    <a:pt x="3352" y="1280"/>
                  </a:cubicBezTo>
                  <a:cubicBezTo>
                    <a:pt x="3342" y="1251"/>
                    <a:pt x="3325" y="1229"/>
                    <a:pt x="3296" y="1216"/>
                  </a:cubicBezTo>
                  <a:cubicBezTo>
                    <a:pt x="3281" y="1209"/>
                    <a:pt x="3264" y="1205"/>
                    <a:pt x="3248" y="1200"/>
                  </a:cubicBezTo>
                  <a:cubicBezTo>
                    <a:pt x="3240" y="1197"/>
                    <a:pt x="3224" y="1192"/>
                    <a:pt x="3224" y="1192"/>
                  </a:cubicBezTo>
                  <a:cubicBezTo>
                    <a:pt x="3176" y="1195"/>
                    <a:pt x="3128" y="1196"/>
                    <a:pt x="3080" y="1200"/>
                  </a:cubicBezTo>
                  <a:cubicBezTo>
                    <a:pt x="3047" y="1203"/>
                    <a:pt x="3028" y="1219"/>
                    <a:pt x="3000" y="1232"/>
                  </a:cubicBezTo>
                  <a:cubicBezTo>
                    <a:pt x="2943" y="1258"/>
                    <a:pt x="2904" y="1258"/>
                    <a:pt x="2840" y="1264"/>
                  </a:cubicBezTo>
                  <a:cubicBezTo>
                    <a:pt x="2776" y="1285"/>
                    <a:pt x="2740" y="1386"/>
                    <a:pt x="2704" y="1440"/>
                  </a:cubicBezTo>
                  <a:cubicBezTo>
                    <a:pt x="2672" y="1488"/>
                    <a:pt x="2604" y="1499"/>
                    <a:pt x="2552" y="1512"/>
                  </a:cubicBezTo>
                  <a:cubicBezTo>
                    <a:pt x="2536" y="1509"/>
                    <a:pt x="2519" y="1511"/>
                    <a:pt x="2504" y="1504"/>
                  </a:cubicBezTo>
                  <a:cubicBezTo>
                    <a:pt x="2470" y="1489"/>
                    <a:pt x="2468" y="1437"/>
                    <a:pt x="2448" y="1408"/>
                  </a:cubicBezTo>
                  <a:cubicBezTo>
                    <a:pt x="2444" y="1390"/>
                    <a:pt x="2432" y="1340"/>
                    <a:pt x="2424" y="1328"/>
                  </a:cubicBezTo>
                  <a:cubicBezTo>
                    <a:pt x="2402" y="1295"/>
                    <a:pt x="2380" y="1269"/>
                    <a:pt x="2368" y="1232"/>
                  </a:cubicBezTo>
                  <a:cubicBezTo>
                    <a:pt x="2365" y="1200"/>
                    <a:pt x="2364" y="1168"/>
                    <a:pt x="2360" y="1136"/>
                  </a:cubicBezTo>
                  <a:cubicBezTo>
                    <a:pt x="2358" y="1122"/>
                    <a:pt x="2362" y="1106"/>
                    <a:pt x="2352" y="1096"/>
                  </a:cubicBezTo>
                  <a:cubicBezTo>
                    <a:pt x="2340" y="1084"/>
                    <a:pt x="2318" y="1089"/>
                    <a:pt x="2304" y="1080"/>
                  </a:cubicBezTo>
                  <a:cubicBezTo>
                    <a:pt x="2230" y="1030"/>
                    <a:pt x="2132" y="1040"/>
                    <a:pt x="2048" y="1016"/>
                  </a:cubicBezTo>
                  <a:cubicBezTo>
                    <a:pt x="2004" y="1003"/>
                    <a:pt x="1966" y="969"/>
                    <a:pt x="1928" y="944"/>
                  </a:cubicBezTo>
                  <a:cubicBezTo>
                    <a:pt x="1914" y="935"/>
                    <a:pt x="1880" y="928"/>
                    <a:pt x="1880" y="928"/>
                  </a:cubicBezTo>
                  <a:cubicBezTo>
                    <a:pt x="1846" y="894"/>
                    <a:pt x="1826" y="906"/>
                    <a:pt x="1792" y="872"/>
                  </a:cubicBezTo>
                  <a:cubicBezTo>
                    <a:pt x="1748" y="740"/>
                    <a:pt x="1783" y="600"/>
                    <a:pt x="1760" y="464"/>
                  </a:cubicBezTo>
                  <a:cubicBezTo>
                    <a:pt x="1766" y="380"/>
                    <a:pt x="1773" y="331"/>
                    <a:pt x="1792" y="256"/>
                  </a:cubicBezTo>
                  <a:cubicBezTo>
                    <a:pt x="1789" y="232"/>
                    <a:pt x="1792" y="207"/>
                    <a:pt x="1784" y="184"/>
                  </a:cubicBezTo>
                  <a:cubicBezTo>
                    <a:pt x="1780" y="173"/>
                    <a:pt x="1766" y="169"/>
                    <a:pt x="1760" y="160"/>
                  </a:cubicBezTo>
                  <a:cubicBezTo>
                    <a:pt x="1755" y="153"/>
                    <a:pt x="1757" y="143"/>
                    <a:pt x="1752" y="136"/>
                  </a:cubicBezTo>
                  <a:cubicBezTo>
                    <a:pt x="1727" y="105"/>
                    <a:pt x="1675" y="100"/>
                    <a:pt x="1640" y="88"/>
                  </a:cubicBezTo>
                  <a:cubicBezTo>
                    <a:pt x="1602" y="50"/>
                    <a:pt x="1589" y="36"/>
                    <a:pt x="1544" y="16"/>
                  </a:cubicBezTo>
                  <a:cubicBezTo>
                    <a:pt x="1529" y="9"/>
                    <a:pt x="1496" y="0"/>
                    <a:pt x="1496" y="0"/>
                  </a:cubicBezTo>
                  <a:cubicBezTo>
                    <a:pt x="1489" y="1"/>
                    <a:pt x="1398" y="11"/>
                    <a:pt x="1384" y="16"/>
                  </a:cubicBezTo>
                  <a:cubicBezTo>
                    <a:pt x="1367" y="22"/>
                    <a:pt x="1353" y="34"/>
                    <a:pt x="1336" y="40"/>
                  </a:cubicBezTo>
                  <a:cubicBezTo>
                    <a:pt x="1297" y="69"/>
                    <a:pt x="1273" y="103"/>
                    <a:pt x="1240" y="136"/>
                  </a:cubicBezTo>
                  <a:cubicBezTo>
                    <a:pt x="1199" y="258"/>
                    <a:pt x="1248" y="98"/>
                    <a:pt x="1216" y="352"/>
                  </a:cubicBezTo>
                  <a:cubicBezTo>
                    <a:pt x="1212" y="385"/>
                    <a:pt x="1111" y="430"/>
                    <a:pt x="1080" y="440"/>
                  </a:cubicBezTo>
                  <a:cubicBezTo>
                    <a:pt x="1062" y="454"/>
                    <a:pt x="1039" y="463"/>
                    <a:pt x="1024" y="480"/>
                  </a:cubicBezTo>
                  <a:cubicBezTo>
                    <a:pt x="1011" y="494"/>
                    <a:pt x="992" y="528"/>
                    <a:pt x="992" y="528"/>
                  </a:cubicBezTo>
                  <a:cubicBezTo>
                    <a:pt x="984" y="578"/>
                    <a:pt x="979" y="625"/>
                    <a:pt x="960" y="672"/>
                  </a:cubicBezTo>
                  <a:cubicBezTo>
                    <a:pt x="966" y="866"/>
                    <a:pt x="975" y="928"/>
                    <a:pt x="960" y="1104"/>
                  </a:cubicBezTo>
                  <a:cubicBezTo>
                    <a:pt x="957" y="1139"/>
                    <a:pt x="928" y="1178"/>
                    <a:pt x="896" y="1192"/>
                  </a:cubicBezTo>
                  <a:cubicBezTo>
                    <a:pt x="881" y="1199"/>
                    <a:pt x="848" y="1208"/>
                    <a:pt x="848" y="1208"/>
                  </a:cubicBezTo>
                  <a:cubicBezTo>
                    <a:pt x="791" y="1205"/>
                    <a:pt x="716" y="1221"/>
                    <a:pt x="664" y="1184"/>
                  </a:cubicBezTo>
                  <a:cubicBezTo>
                    <a:pt x="655" y="1177"/>
                    <a:pt x="650" y="1165"/>
                    <a:pt x="640" y="1160"/>
                  </a:cubicBezTo>
                  <a:cubicBezTo>
                    <a:pt x="620" y="1151"/>
                    <a:pt x="576" y="1144"/>
                    <a:pt x="576" y="1144"/>
                  </a:cubicBezTo>
                  <a:cubicBezTo>
                    <a:pt x="555" y="1146"/>
                    <a:pt x="489" y="1144"/>
                    <a:pt x="456" y="1160"/>
                  </a:cubicBezTo>
                  <a:cubicBezTo>
                    <a:pt x="405" y="1185"/>
                    <a:pt x="397" y="1212"/>
                    <a:pt x="336" y="1232"/>
                  </a:cubicBezTo>
                  <a:cubicBezTo>
                    <a:pt x="290" y="1247"/>
                    <a:pt x="240" y="1237"/>
                    <a:pt x="192" y="1240"/>
                  </a:cubicBezTo>
                  <a:cubicBezTo>
                    <a:pt x="163" y="1284"/>
                    <a:pt x="183" y="1246"/>
                    <a:pt x="168" y="1320"/>
                  </a:cubicBezTo>
                  <a:cubicBezTo>
                    <a:pt x="163" y="1347"/>
                    <a:pt x="145" y="1366"/>
                    <a:pt x="136" y="1392"/>
                  </a:cubicBezTo>
                  <a:cubicBezTo>
                    <a:pt x="133" y="1435"/>
                    <a:pt x="141" y="1479"/>
                    <a:pt x="128" y="1520"/>
                  </a:cubicBezTo>
                  <a:cubicBezTo>
                    <a:pt x="121" y="1542"/>
                    <a:pt x="80" y="1568"/>
                    <a:pt x="80" y="1568"/>
                  </a:cubicBezTo>
                  <a:cubicBezTo>
                    <a:pt x="77" y="1576"/>
                    <a:pt x="71" y="1584"/>
                    <a:pt x="72" y="1592"/>
                  </a:cubicBezTo>
                  <a:cubicBezTo>
                    <a:pt x="74" y="1609"/>
                    <a:pt x="88" y="1640"/>
                    <a:pt x="88" y="1640"/>
                  </a:cubicBezTo>
                  <a:cubicBezTo>
                    <a:pt x="85" y="1661"/>
                    <a:pt x="87" y="1684"/>
                    <a:pt x="80" y="1704"/>
                  </a:cubicBezTo>
                  <a:cubicBezTo>
                    <a:pt x="68" y="1739"/>
                    <a:pt x="28" y="1765"/>
                    <a:pt x="16" y="1800"/>
                  </a:cubicBezTo>
                  <a:cubicBezTo>
                    <a:pt x="3" y="1839"/>
                    <a:pt x="9" y="1816"/>
                    <a:pt x="0" y="1872"/>
                  </a:cubicBezTo>
                  <a:cubicBezTo>
                    <a:pt x="26" y="1949"/>
                    <a:pt x="24" y="1926"/>
                    <a:pt x="16" y="2040"/>
                  </a:cubicBezTo>
                  <a:cubicBezTo>
                    <a:pt x="30" y="2136"/>
                    <a:pt x="6" y="2070"/>
                    <a:pt x="48" y="2112"/>
                  </a:cubicBezTo>
                  <a:cubicBezTo>
                    <a:pt x="92" y="2156"/>
                    <a:pt x="19" y="2130"/>
                    <a:pt x="128" y="2144"/>
                  </a:cubicBezTo>
                  <a:cubicBezTo>
                    <a:pt x="196" y="2212"/>
                    <a:pt x="270" y="2250"/>
                    <a:pt x="360" y="2280"/>
                  </a:cubicBezTo>
                  <a:cubicBezTo>
                    <a:pt x="481" y="2270"/>
                    <a:pt x="546" y="2243"/>
                    <a:pt x="656" y="2216"/>
                  </a:cubicBezTo>
                  <a:cubicBezTo>
                    <a:pt x="730" y="2170"/>
                    <a:pt x="800" y="2120"/>
                    <a:pt x="872" y="2072"/>
                  </a:cubicBezTo>
                  <a:cubicBezTo>
                    <a:pt x="902" y="2052"/>
                    <a:pt x="944" y="2040"/>
                    <a:pt x="976" y="2024"/>
                  </a:cubicBezTo>
                  <a:cubicBezTo>
                    <a:pt x="1013" y="2005"/>
                    <a:pt x="1036" y="1964"/>
                    <a:pt x="1072" y="1944"/>
                  </a:cubicBezTo>
                  <a:cubicBezTo>
                    <a:pt x="1094" y="1932"/>
                    <a:pt x="1127" y="1927"/>
                    <a:pt x="1152" y="1920"/>
                  </a:cubicBezTo>
                  <a:cubicBezTo>
                    <a:pt x="1192" y="1908"/>
                    <a:pt x="1224" y="1896"/>
                    <a:pt x="1264" y="1888"/>
                  </a:cubicBezTo>
                  <a:cubicBezTo>
                    <a:pt x="1291" y="1891"/>
                    <a:pt x="1319" y="1888"/>
                    <a:pt x="1344" y="1896"/>
                  </a:cubicBezTo>
                  <a:cubicBezTo>
                    <a:pt x="1396" y="1913"/>
                    <a:pt x="1326" y="1986"/>
                    <a:pt x="1312" y="2000"/>
                  </a:cubicBezTo>
                  <a:cubicBezTo>
                    <a:pt x="1296" y="2048"/>
                    <a:pt x="1280" y="2044"/>
                    <a:pt x="1320" y="2064"/>
                  </a:cubicBezTo>
                  <a:cubicBezTo>
                    <a:pt x="1328" y="2068"/>
                    <a:pt x="1336" y="2069"/>
                    <a:pt x="1344" y="2072"/>
                  </a:cubicBezTo>
                  <a:cubicBezTo>
                    <a:pt x="1387" y="2068"/>
                    <a:pt x="1435" y="2078"/>
                    <a:pt x="1472" y="2056"/>
                  </a:cubicBezTo>
                  <a:cubicBezTo>
                    <a:pt x="1492" y="2045"/>
                    <a:pt x="1520" y="2008"/>
                    <a:pt x="1520" y="2008"/>
                  </a:cubicBezTo>
                  <a:cubicBezTo>
                    <a:pt x="1527" y="1969"/>
                    <a:pt x="1524" y="1915"/>
                    <a:pt x="1544" y="1880"/>
                  </a:cubicBezTo>
                  <a:cubicBezTo>
                    <a:pt x="1553" y="1863"/>
                    <a:pt x="1560" y="1843"/>
                    <a:pt x="1576" y="1832"/>
                  </a:cubicBezTo>
                  <a:cubicBezTo>
                    <a:pt x="1592" y="1821"/>
                    <a:pt x="1624" y="1800"/>
                    <a:pt x="1624" y="1800"/>
                  </a:cubicBezTo>
                  <a:cubicBezTo>
                    <a:pt x="1647" y="1765"/>
                    <a:pt x="1673" y="1738"/>
                    <a:pt x="1696" y="1704"/>
                  </a:cubicBezTo>
                  <a:cubicBezTo>
                    <a:pt x="1705" y="1652"/>
                    <a:pt x="1710" y="1644"/>
                    <a:pt x="1752" y="1616"/>
                  </a:cubicBezTo>
                  <a:cubicBezTo>
                    <a:pt x="1803" y="1626"/>
                    <a:pt x="1823" y="1638"/>
                    <a:pt x="1840" y="1688"/>
                  </a:cubicBezTo>
                  <a:cubicBezTo>
                    <a:pt x="1831" y="1762"/>
                    <a:pt x="1832" y="1745"/>
                    <a:pt x="1808" y="1800"/>
                  </a:cubicBezTo>
                  <a:cubicBezTo>
                    <a:pt x="1801" y="1815"/>
                    <a:pt x="1792" y="1848"/>
                    <a:pt x="1792" y="1848"/>
                  </a:cubicBezTo>
                  <a:cubicBezTo>
                    <a:pt x="1795" y="1856"/>
                    <a:pt x="1793" y="1867"/>
                    <a:pt x="1800" y="1872"/>
                  </a:cubicBezTo>
                  <a:cubicBezTo>
                    <a:pt x="1816" y="1884"/>
                    <a:pt x="1904" y="1909"/>
                    <a:pt x="1920" y="1912"/>
                  </a:cubicBezTo>
                  <a:cubicBezTo>
                    <a:pt x="1953" y="1961"/>
                    <a:pt x="1916" y="1913"/>
                    <a:pt x="1960" y="1952"/>
                  </a:cubicBezTo>
                  <a:cubicBezTo>
                    <a:pt x="2001" y="1988"/>
                    <a:pt x="2027" y="2022"/>
                    <a:pt x="2080" y="2040"/>
                  </a:cubicBezTo>
                  <a:cubicBezTo>
                    <a:pt x="2103" y="2063"/>
                    <a:pt x="2124" y="2088"/>
                    <a:pt x="2144" y="2112"/>
                  </a:cubicBezTo>
                  <a:cubicBezTo>
                    <a:pt x="2155" y="2126"/>
                    <a:pt x="2155" y="2147"/>
                    <a:pt x="2168" y="2160"/>
                  </a:cubicBezTo>
                  <a:cubicBezTo>
                    <a:pt x="2182" y="2174"/>
                    <a:pt x="2200" y="2181"/>
                    <a:pt x="2216" y="2192"/>
                  </a:cubicBezTo>
                  <a:cubicBezTo>
                    <a:pt x="2254" y="2217"/>
                    <a:pt x="2225" y="2215"/>
                    <a:pt x="2264" y="2232"/>
                  </a:cubicBezTo>
                  <a:cubicBezTo>
                    <a:pt x="2303" y="2250"/>
                    <a:pt x="2342" y="2257"/>
                    <a:pt x="2384" y="2264"/>
                  </a:cubicBezTo>
                  <a:cubicBezTo>
                    <a:pt x="2463" y="2256"/>
                    <a:pt x="2534" y="2236"/>
                    <a:pt x="2600" y="2192"/>
                  </a:cubicBezTo>
                  <a:cubicBezTo>
                    <a:pt x="2623" y="2158"/>
                    <a:pt x="2649" y="2131"/>
                    <a:pt x="2672" y="2096"/>
                  </a:cubicBezTo>
                  <a:cubicBezTo>
                    <a:pt x="2677" y="2089"/>
                    <a:pt x="2675" y="2079"/>
                    <a:pt x="2680" y="2072"/>
                  </a:cubicBezTo>
                  <a:cubicBezTo>
                    <a:pt x="2693" y="2056"/>
                    <a:pt x="2734" y="2028"/>
                    <a:pt x="2752" y="2016"/>
                  </a:cubicBezTo>
                  <a:cubicBezTo>
                    <a:pt x="2804" y="2022"/>
                    <a:pt x="2853" y="2027"/>
                    <a:pt x="2904" y="2040"/>
                  </a:cubicBezTo>
                  <a:cubicBezTo>
                    <a:pt x="2931" y="2037"/>
                    <a:pt x="2958" y="2038"/>
                    <a:pt x="2984" y="2032"/>
                  </a:cubicBezTo>
                  <a:cubicBezTo>
                    <a:pt x="3010" y="2026"/>
                    <a:pt x="3030" y="1983"/>
                    <a:pt x="3040" y="1968"/>
                  </a:cubicBezTo>
                  <a:cubicBezTo>
                    <a:pt x="3074" y="1917"/>
                    <a:pt x="3080" y="1872"/>
                    <a:pt x="3128" y="1824"/>
                  </a:cubicBezTo>
                  <a:cubicBezTo>
                    <a:pt x="3153" y="1799"/>
                    <a:pt x="3164" y="1809"/>
                    <a:pt x="3200" y="1800"/>
                  </a:cubicBezTo>
                  <a:cubicBezTo>
                    <a:pt x="3240" y="1790"/>
                    <a:pt x="3280" y="1778"/>
                    <a:pt x="3320" y="1768"/>
                  </a:cubicBezTo>
                  <a:cubicBezTo>
                    <a:pt x="3364" y="1739"/>
                    <a:pt x="3403" y="1701"/>
                    <a:pt x="3440" y="1664"/>
                  </a:cubicBezTo>
                  <a:cubicBezTo>
                    <a:pt x="3455" y="1649"/>
                    <a:pt x="3560" y="1630"/>
                    <a:pt x="3584" y="1624"/>
                  </a:cubicBezTo>
                  <a:cubicBezTo>
                    <a:pt x="3608" y="1627"/>
                    <a:pt x="3633" y="1624"/>
                    <a:pt x="3656" y="1632"/>
                  </a:cubicBezTo>
                  <a:cubicBezTo>
                    <a:pt x="3667" y="1636"/>
                    <a:pt x="3675" y="1646"/>
                    <a:pt x="3680" y="1656"/>
                  </a:cubicBezTo>
                  <a:cubicBezTo>
                    <a:pt x="3688" y="1671"/>
                    <a:pt x="3687" y="1690"/>
                    <a:pt x="3696" y="1704"/>
                  </a:cubicBezTo>
                  <a:cubicBezTo>
                    <a:pt x="3713" y="1730"/>
                    <a:pt x="3735" y="1750"/>
                    <a:pt x="3752" y="1776"/>
                  </a:cubicBezTo>
                  <a:cubicBezTo>
                    <a:pt x="3768" y="1839"/>
                    <a:pt x="3769" y="1878"/>
                    <a:pt x="3840" y="1896"/>
                  </a:cubicBezTo>
                  <a:cubicBezTo>
                    <a:pt x="3880" y="1893"/>
                    <a:pt x="3920" y="1893"/>
                    <a:pt x="3960" y="1888"/>
                  </a:cubicBezTo>
                  <a:cubicBezTo>
                    <a:pt x="3982" y="1885"/>
                    <a:pt x="4024" y="1872"/>
                    <a:pt x="4024" y="1872"/>
                  </a:cubicBezTo>
                  <a:cubicBezTo>
                    <a:pt x="4076" y="1833"/>
                    <a:pt x="4122" y="1801"/>
                    <a:pt x="4144" y="1736"/>
                  </a:cubicBezTo>
                  <a:cubicBezTo>
                    <a:pt x="4141" y="1709"/>
                    <a:pt x="4140" y="1682"/>
                    <a:pt x="4136" y="1656"/>
                  </a:cubicBezTo>
                  <a:cubicBezTo>
                    <a:pt x="4131" y="1623"/>
                    <a:pt x="4104" y="1591"/>
                    <a:pt x="4120" y="1560"/>
                  </a:cubicBezTo>
                  <a:close/>
                </a:path>
              </a:pathLst>
            </a:custGeom>
            <a:solidFill>
              <a:srgbClr val="c0c0c0"/>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69" name=""/>
            <p:cNvSpPr/>
            <p:nvPr/>
          </p:nvSpPr>
          <p:spPr>
            <a:xfrm rot="5400000">
              <a:off x="438480" y="3436200"/>
              <a:ext cx="4022640" cy="734760"/>
            </a:xfrm>
            <a:custGeom>
              <a:avLst/>
              <a:gdLst/>
              <a:ahLst/>
              <a:rect l="l" t="t" r="r" b="b"/>
              <a:pathLst>
                <a:path w="6152" h="800">
                  <a:moveTo>
                    <a:pt x="0" y="584"/>
                  </a:moveTo>
                  <a:cubicBezTo>
                    <a:pt x="28" y="600"/>
                    <a:pt x="56" y="616"/>
                    <a:pt x="96" y="632"/>
                  </a:cubicBezTo>
                  <a:cubicBezTo>
                    <a:pt x="136" y="648"/>
                    <a:pt x="200" y="688"/>
                    <a:pt x="240" y="680"/>
                  </a:cubicBezTo>
                  <a:cubicBezTo>
                    <a:pt x="280" y="672"/>
                    <a:pt x="304" y="608"/>
                    <a:pt x="336" y="584"/>
                  </a:cubicBezTo>
                  <a:cubicBezTo>
                    <a:pt x="368" y="560"/>
                    <a:pt x="384" y="536"/>
                    <a:pt x="432" y="536"/>
                  </a:cubicBezTo>
                  <a:cubicBezTo>
                    <a:pt x="480" y="536"/>
                    <a:pt x="544" y="576"/>
                    <a:pt x="624" y="584"/>
                  </a:cubicBezTo>
                  <a:cubicBezTo>
                    <a:pt x="704" y="592"/>
                    <a:pt x="840" y="616"/>
                    <a:pt x="912" y="584"/>
                  </a:cubicBezTo>
                  <a:cubicBezTo>
                    <a:pt x="984" y="552"/>
                    <a:pt x="992" y="456"/>
                    <a:pt x="1056" y="392"/>
                  </a:cubicBezTo>
                  <a:cubicBezTo>
                    <a:pt x="1120" y="328"/>
                    <a:pt x="1224" y="224"/>
                    <a:pt x="1296" y="200"/>
                  </a:cubicBezTo>
                  <a:cubicBezTo>
                    <a:pt x="1368" y="176"/>
                    <a:pt x="1432" y="216"/>
                    <a:pt x="1488" y="248"/>
                  </a:cubicBezTo>
                  <a:cubicBezTo>
                    <a:pt x="1544" y="280"/>
                    <a:pt x="1560" y="392"/>
                    <a:pt x="1632" y="392"/>
                  </a:cubicBezTo>
                  <a:cubicBezTo>
                    <a:pt x="1704" y="392"/>
                    <a:pt x="1856" y="304"/>
                    <a:pt x="1920" y="248"/>
                  </a:cubicBezTo>
                  <a:cubicBezTo>
                    <a:pt x="1984" y="192"/>
                    <a:pt x="1952" y="96"/>
                    <a:pt x="2016" y="56"/>
                  </a:cubicBezTo>
                  <a:cubicBezTo>
                    <a:pt x="2080" y="16"/>
                    <a:pt x="2240" y="0"/>
                    <a:pt x="2304" y="8"/>
                  </a:cubicBezTo>
                  <a:cubicBezTo>
                    <a:pt x="2368" y="16"/>
                    <a:pt x="2384" y="56"/>
                    <a:pt x="2400" y="104"/>
                  </a:cubicBezTo>
                  <a:cubicBezTo>
                    <a:pt x="2416" y="152"/>
                    <a:pt x="2384" y="248"/>
                    <a:pt x="2400" y="296"/>
                  </a:cubicBezTo>
                  <a:cubicBezTo>
                    <a:pt x="2416" y="344"/>
                    <a:pt x="2456" y="376"/>
                    <a:pt x="2496" y="392"/>
                  </a:cubicBezTo>
                  <a:cubicBezTo>
                    <a:pt x="2536" y="408"/>
                    <a:pt x="2576" y="432"/>
                    <a:pt x="2640" y="392"/>
                  </a:cubicBezTo>
                  <a:cubicBezTo>
                    <a:pt x="2704" y="352"/>
                    <a:pt x="2824" y="192"/>
                    <a:pt x="2880" y="152"/>
                  </a:cubicBezTo>
                  <a:cubicBezTo>
                    <a:pt x="2936" y="112"/>
                    <a:pt x="2960" y="136"/>
                    <a:pt x="2976" y="152"/>
                  </a:cubicBezTo>
                  <a:cubicBezTo>
                    <a:pt x="2992" y="168"/>
                    <a:pt x="2976" y="208"/>
                    <a:pt x="2976" y="248"/>
                  </a:cubicBezTo>
                  <a:cubicBezTo>
                    <a:pt x="2976" y="288"/>
                    <a:pt x="2944" y="384"/>
                    <a:pt x="2976" y="392"/>
                  </a:cubicBezTo>
                  <a:cubicBezTo>
                    <a:pt x="3008" y="400"/>
                    <a:pt x="3128" y="288"/>
                    <a:pt x="3168" y="296"/>
                  </a:cubicBezTo>
                  <a:cubicBezTo>
                    <a:pt x="3208" y="304"/>
                    <a:pt x="3232" y="392"/>
                    <a:pt x="3216" y="440"/>
                  </a:cubicBezTo>
                  <a:cubicBezTo>
                    <a:pt x="3200" y="488"/>
                    <a:pt x="3112" y="552"/>
                    <a:pt x="3072" y="584"/>
                  </a:cubicBezTo>
                  <a:cubicBezTo>
                    <a:pt x="3032" y="616"/>
                    <a:pt x="2992" y="600"/>
                    <a:pt x="2976" y="632"/>
                  </a:cubicBezTo>
                  <a:cubicBezTo>
                    <a:pt x="2960" y="664"/>
                    <a:pt x="2936" y="752"/>
                    <a:pt x="2976" y="776"/>
                  </a:cubicBezTo>
                  <a:cubicBezTo>
                    <a:pt x="3016" y="800"/>
                    <a:pt x="3144" y="792"/>
                    <a:pt x="3216" y="776"/>
                  </a:cubicBezTo>
                  <a:cubicBezTo>
                    <a:pt x="3288" y="760"/>
                    <a:pt x="3336" y="704"/>
                    <a:pt x="3408" y="680"/>
                  </a:cubicBezTo>
                  <a:cubicBezTo>
                    <a:pt x="3480" y="656"/>
                    <a:pt x="3568" y="640"/>
                    <a:pt x="3648" y="632"/>
                  </a:cubicBezTo>
                  <a:cubicBezTo>
                    <a:pt x="3728" y="624"/>
                    <a:pt x="3816" y="648"/>
                    <a:pt x="3888" y="632"/>
                  </a:cubicBezTo>
                  <a:cubicBezTo>
                    <a:pt x="3960" y="616"/>
                    <a:pt x="4032" y="584"/>
                    <a:pt x="4080" y="536"/>
                  </a:cubicBezTo>
                  <a:cubicBezTo>
                    <a:pt x="4128" y="488"/>
                    <a:pt x="4136" y="376"/>
                    <a:pt x="4176" y="344"/>
                  </a:cubicBezTo>
                  <a:cubicBezTo>
                    <a:pt x="4216" y="312"/>
                    <a:pt x="4288" y="328"/>
                    <a:pt x="4320" y="344"/>
                  </a:cubicBezTo>
                  <a:cubicBezTo>
                    <a:pt x="4352" y="360"/>
                    <a:pt x="4320" y="440"/>
                    <a:pt x="4368" y="440"/>
                  </a:cubicBezTo>
                  <a:cubicBezTo>
                    <a:pt x="4416" y="440"/>
                    <a:pt x="4552" y="344"/>
                    <a:pt x="4608" y="344"/>
                  </a:cubicBezTo>
                  <a:cubicBezTo>
                    <a:pt x="4664" y="344"/>
                    <a:pt x="4696" y="408"/>
                    <a:pt x="4704" y="440"/>
                  </a:cubicBezTo>
                  <a:cubicBezTo>
                    <a:pt x="4712" y="472"/>
                    <a:pt x="4648" y="512"/>
                    <a:pt x="4656" y="536"/>
                  </a:cubicBezTo>
                  <a:cubicBezTo>
                    <a:pt x="4664" y="560"/>
                    <a:pt x="4712" y="608"/>
                    <a:pt x="4752" y="584"/>
                  </a:cubicBezTo>
                  <a:cubicBezTo>
                    <a:pt x="4792" y="560"/>
                    <a:pt x="4832" y="440"/>
                    <a:pt x="4896" y="392"/>
                  </a:cubicBezTo>
                  <a:cubicBezTo>
                    <a:pt x="4960" y="344"/>
                    <a:pt x="5072" y="304"/>
                    <a:pt x="5136" y="296"/>
                  </a:cubicBezTo>
                  <a:cubicBezTo>
                    <a:pt x="5200" y="288"/>
                    <a:pt x="5232" y="328"/>
                    <a:pt x="5280" y="344"/>
                  </a:cubicBezTo>
                  <a:cubicBezTo>
                    <a:pt x="5328" y="360"/>
                    <a:pt x="5360" y="376"/>
                    <a:pt x="5424" y="392"/>
                  </a:cubicBezTo>
                  <a:cubicBezTo>
                    <a:pt x="5488" y="408"/>
                    <a:pt x="5600" y="400"/>
                    <a:pt x="5664" y="440"/>
                  </a:cubicBezTo>
                  <a:cubicBezTo>
                    <a:pt x="5728" y="480"/>
                    <a:pt x="5736" y="600"/>
                    <a:pt x="5808" y="632"/>
                  </a:cubicBezTo>
                  <a:cubicBezTo>
                    <a:pt x="5880" y="664"/>
                    <a:pt x="6040" y="640"/>
                    <a:pt x="6096" y="632"/>
                  </a:cubicBezTo>
                  <a:cubicBezTo>
                    <a:pt x="6152" y="624"/>
                    <a:pt x="6136" y="600"/>
                    <a:pt x="6144" y="584"/>
                  </a:cubicBezTo>
                  <a:cubicBezTo>
                    <a:pt x="6152" y="568"/>
                    <a:pt x="6148" y="552"/>
                    <a:pt x="6144" y="536"/>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rot="5400000">
              <a:off x="2924640" y="2412000"/>
              <a:ext cx="770040" cy="1076400"/>
            </a:xfrm>
            <a:custGeom>
              <a:avLst/>
              <a:gdLst/>
              <a:ahLst/>
              <a:rect l="l" t="t" r="r" b="b"/>
              <a:pathLst>
                <a:path w="608" h="1248">
                  <a:moveTo>
                    <a:pt x="224" y="0"/>
                  </a:moveTo>
                  <a:cubicBezTo>
                    <a:pt x="268" y="28"/>
                    <a:pt x="312" y="56"/>
                    <a:pt x="320" y="96"/>
                  </a:cubicBezTo>
                  <a:cubicBezTo>
                    <a:pt x="328" y="136"/>
                    <a:pt x="304" y="208"/>
                    <a:pt x="272" y="240"/>
                  </a:cubicBezTo>
                  <a:cubicBezTo>
                    <a:pt x="240" y="272"/>
                    <a:pt x="152" y="264"/>
                    <a:pt x="128" y="288"/>
                  </a:cubicBezTo>
                  <a:cubicBezTo>
                    <a:pt x="104" y="312"/>
                    <a:pt x="96" y="352"/>
                    <a:pt x="128" y="384"/>
                  </a:cubicBezTo>
                  <a:cubicBezTo>
                    <a:pt x="160" y="416"/>
                    <a:pt x="304" y="440"/>
                    <a:pt x="320" y="480"/>
                  </a:cubicBezTo>
                  <a:cubicBezTo>
                    <a:pt x="336" y="520"/>
                    <a:pt x="272" y="592"/>
                    <a:pt x="224" y="624"/>
                  </a:cubicBezTo>
                  <a:cubicBezTo>
                    <a:pt x="176" y="656"/>
                    <a:pt x="64" y="648"/>
                    <a:pt x="32" y="672"/>
                  </a:cubicBezTo>
                  <a:cubicBezTo>
                    <a:pt x="0" y="696"/>
                    <a:pt x="16" y="744"/>
                    <a:pt x="32" y="768"/>
                  </a:cubicBezTo>
                  <a:cubicBezTo>
                    <a:pt x="48" y="792"/>
                    <a:pt x="120" y="792"/>
                    <a:pt x="128" y="816"/>
                  </a:cubicBezTo>
                  <a:cubicBezTo>
                    <a:pt x="136" y="840"/>
                    <a:pt x="64" y="896"/>
                    <a:pt x="80" y="912"/>
                  </a:cubicBezTo>
                  <a:cubicBezTo>
                    <a:pt x="96" y="928"/>
                    <a:pt x="184" y="904"/>
                    <a:pt x="224" y="912"/>
                  </a:cubicBezTo>
                  <a:cubicBezTo>
                    <a:pt x="264" y="920"/>
                    <a:pt x="296" y="928"/>
                    <a:pt x="320" y="960"/>
                  </a:cubicBezTo>
                  <a:cubicBezTo>
                    <a:pt x="344" y="992"/>
                    <a:pt x="320" y="1056"/>
                    <a:pt x="368" y="1104"/>
                  </a:cubicBezTo>
                  <a:cubicBezTo>
                    <a:pt x="416" y="1152"/>
                    <a:pt x="512" y="1200"/>
                    <a:pt x="608" y="1248"/>
                  </a:cubicBezTo>
                </a:path>
              </a:pathLst>
            </a:custGeom>
            <a:noFill/>
            <a:ln w="12600">
              <a:solidFill>
                <a:srgbClr val="ff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1" name=""/>
          <p:cNvSpPr/>
          <p:nvPr/>
        </p:nvSpPr>
        <p:spPr>
          <a:xfrm rot="5400000">
            <a:off x="2001600" y="4547880"/>
            <a:ext cx="368280" cy="254160"/>
          </a:xfrm>
          <a:custGeom>
            <a:avLst/>
            <a:gdLst/>
            <a:ahLst/>
            <a:rect l="l" t="t" r="r" b="b"/>
            <a:pathLst>
              <a:path w="568" h="736">
                <a:moveTo>
                  <a:pt x="568" y="16"/>
                </a:moveTo>
                <a:cubicBezTo>
                  <a:pt x="560" y="16"/>
                  <a:pt x="552" y="16"/>
                  <a:pt x="520" y="16"/>
                </a:cubicBezTo>
                <a:cubicBezTo>
                  <a:pt x="488" y="16"/>
                  <a:pt x="416" y="0"/>
                  <a:pt x="376" y="16"/>
                </a:cubicBezTo>
                <a:cubicBezTo>
                  <a:pt x="336" y="32"/>
                  <a:pt x="296" y="64"/>
                  <a:pt x="280" y="112"/>
                </a:cubicBezTo>
                <a:cubicBezTo>
                  <a:pt x="264" y="160"/>
                  <a:pt x="320" y="256"/>
                  <a:pt x="280" y="304"/>
                </a:cubicBezTo>
                <a:cubicBezTo>
                  <a:pt x="240" y="352"/>
                  <a:pt x="80" y="360"/>
                  <a:pt x="40" y="400"/>
                </a:cubicBezTo>
                <a:cubicBezTo>
                  <a:pt x="0" y="440"/>
                  <a:pt x="32" y="488"/>
                  <a:pt x="40" y="544"/>
                </a:cubicBezTo>
                <a:cubicBezTo>
                  <a:pt x="48" y="600"/>
                  <a:pt x="68" y="668"/>
                  <a:pt x="88" y="736"/>
                </a:cubicBezTo>
              </a:path>
            </a:pathLst>
          </a:custGeom>
          <a:noFill/>
          <a:ln w="12600">
            <a:solidFill>
              <a:srgbClr val="ff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2" name=""/>
          <p:cNvGrpSpPr/>
          <p:nvPr/>
        </p:nvGrpSpPr>
        <p:grpSpPr>
          <a:xfrm>
            <a:off x="5363640" y="1268280"/>
            <a:ext cx="2644920" cy="4680000"/>
            <a:chOff x="5363640" y="1268280"/>
            <a:chExt cx="2644920" cy="4680000"/>
          </a:xfrm>
        </p:grpSpPr>
        <p:sp>
          <p:nvSpPr>
            <p:cNvPr id="173" name=""/>
            <p:cNvSpPr/>
            <p:nvPr/>
          </p:nvSpPr>
          <p:spPr>
            <a:xfrm rot="5400000">
              <a:off x="4345920" y="2285640"/>
              <a:ext cx="4680000" cy="2644920"/>
            </a:xfrm>
            <a:custGeom>
              <a:avLst/>
              <a:gdLst/>
              <a:ahLst/>
              <a:rect l="l" t="t" r="r" b="b"/>
              <a:pathLst>
                <a:path w="4144" h="2280">
                  <a:moveTo>
                    <a:pt x="4120" y="1560"/>
                  </a:moveTo>
                  <a:cubicBezTo>
                    <a:pt x="4079" y="1546"/>
                    <a:pt x="4063" y="1505"/>
                    <a:pt x="4024" y="1488"/>
                  </a:cubicBezTo>
                  <a:cubicBezTo>
                    <a:pt x="3964" y="1461"/>
                    <a:pt x="3911" y="1437"/>
                    <a:pt x="3848" y="1416"/>
                  </a:cubicBezTo>
                  <a:cubicBezTo>
                    <a:pt x="3839" y="1413"/>
                    <a:pt x="3833" y="1403"/>
                    <a:pt x="3824" y="1400"/>
                  </a:cubicBezTo>
                  <a:cubicBezTo>
                    <a:pt x="3771" y="1380"/>
                    <a:pt x="3656" y="1376"/>
                    <a:pt x="3656" y="1376"/>
                  </a:cubicBezTo>
                  <a:cubicBezTo>
                    <a:pt x="3562" y="1383"/>
                    <a:pt x="3548" y="1385"/>
                    <a:pt x="3472" y="1360"/>
                  </a:cubicBezTo>
                  <a:cubicBezTo>
                    <a:pt x="3472" y="1360"/>
                    <a:pt x="3412" y="1320"/>
                    <a:pt x="3400" y="1312"/>
                  </a:cubicBezTo>
                  <a:cubicBezTo>
                    <a:pt x="3384" y="1301"/>
                    <a:pt x="3352" y="1280"/>
                    <a:pt x="3352" y="1280"/>
                  </a:cubicBezTo>
                  <a:cubicBezTo>
                    <a:pt x="3342" y="1251"/>
                    <a:pt x="3325" y="1229"/>
                    <a:pt x="3296" y="1216"/>
                  </a:cubicBezTo>
                  <a:cubicBezTo>
                    <a:pt x="3281" y="1209"/>
                    <a:pt x="3264" y="1205"/>
                    <a:pt x="3248" y="1200"/>
                  </a:cubicBezTo>
                  <a:cubicBezTo>
                    <a:pt x="3240" y="1197"/>
                    <a:pt x="3224" y="1192"/>
                    <a:pt x="3224" y="1192"/>
                  </a:cubicBezTo>
                  <a:cubicBezTo>
                    <a:pt x="3176" y="1195"/>
                    <a:pt x="3128" y="1196"/>
                    <a:pt x="3080" y="1200"/>
                  </a:cubicBezTo>
                  <a:cubicBezTo>
                    <a:pt x="3047" y="1203"/>
                    <a:pt x="3028" y="1219"/>
                    <a:pt x="3000" y="1232"/>
                  </a:cubicBezTo>
                  <a:cubicBezTo>
                    <a:pt x="2943" y="1258"/>
                    <a:pt x="2904" y="1258"/>
                    <a:pt x="2840" y="1264"/>
                  </a:cubicBezTo>
                  <a:cubicBezTo>
                    <a:pt x="2776" y="1285"/>
                    <a:pt x="2740" y="1386"/>
                    <a:pt x="2704" y="1440"/>
                  </a:cubicBezTo>
                  <a:cubicBezTo>
                    <a:pt x="2672" y="1488"/>
                    <a:pt x="2604" y="1499"/>
                    <a:pt x="2552" y="1512"/>
                  </a:cubicBezTo>
                  <a:cubicBezTo>
                    <a:pt x="2536" y="1509"/>
                    <a:pt x="2519" y="1511"/>
                    <a:pt x="2504" y="1504"/>
                  </a:cubicBezTo>
                  <a:cubicBezTo>
                    <a:pt x="2470" y="1489"/>
                    <a:pt x="2468" y="1437"/>
                    <a:pt x="2448" y="1408"/>
                  </a:cubicBezTo>
                  <a:cubicBezTo>
                    <a:pt x="2444" y="1390"/>
                    <a:pt x="2432" y="1340"/>
                    <a:pt x="2424" y="1328"/>
                  </a:cubicBezTo>
                  <a:cubicBezTo>
                    <a:pt x="2402" y="1295"/>
                    <a:pt x="2380" y="1269"/>
                    <a:pt x="2368" y="1232"/>
                  </a:cubicBezTo>
                  <a:cubicBezTo>
                    <a:pt x="2365" y="1200"/>
                    <a:pt x="2364" y="1168"/>
                    <a:pt x="2360" y="1136"/>
                  </a:cubicBezTo>
                  <a:cubicBezTo>
                    <a:pt x="2358" y="1122"/>
                    <a:pt x="2362" y="1106"/>
                    <a:pt x="2352" y="1096"/>
                  </a:cubicBezTo>
                  <a:cubicBezTo>
                    <a:pt x="2340" y="1084"/>
                    <a:pt x="2318" y="1089"/>
                    <a:pt x="2304" y="1080"/>
                  </a:cubicBezTo>
                  <a:cubicBezTo>
                    <a:pt x="2230" y="1030"/>
                    <a:pt x="2132" y="1040"/>
                    <a:pt x="2048" y="1016"/>
                  </a:cubicBezTo>
                  <a:cubicBezTo>
                    <a:pt x="2004" y="1003"/>
                    <a:pt x="1966" y="969"/>
                    <a:pt x="1928" y="944"/>
                  </a:cubicBezTo>
                  <a:cubicBezTo>
                    <a:pt x="1914" y="935"/>
                    <a:pt x="1880" y="928"/>
                    <a:pt x="1880" y="928"/>
                  </a:cubicBezTo>
                  <a:cubicBezTo>
                    <a:pt x="1846" y="894"/>
                    <a:pt x="1826" y="906"/>
                    <a:pt x="1792" y="872"/>
                  </a:cubicBezTo>
                  <a:cubicBezTo>
                    <a:pt x="1748" y="740"/>
                    <a:pt x="1783" y="600"/>
                    <a:pt x="1760" y="464"/>
                  </a:cubicBezTo>
                  <a:cubicBezTo>
                    <a:pt x="1766" y="380"/>
                    <a:pt x="1773" y="331"/>
                    <a:pt x="1792" y="256"/>
                  </a:cubicBezTo>
                  <a:cubicBezTo>
                    <a:pt x="1789" y="232"/>
                    <a:pt x="1792" y="207"/>
                    <a:pt x="1784" y="184"/>
                  </a:cubicBezTo>
                  <a:cubicBezTo>
                    <a:pt x="1780" y="173"/>
                    <a:pt x="1766" y="169"/>
                    <a:pt x="1760" y="160"/>
                  </a:cubicBezTo>
                  <a:cubicBezTo>
                    <a:pt x="1755" y="153"/>
                    <a:pt x="1757" y="143"/>
                    <a:pt x="1752" y="136"/>
                  </a:cubicBezTo>
                  <a:cubicBezTo>
                    <a:pt x="1727" y="105"/>
                    <a:pt x="1675" y="100"/>
                    <a:pt x="1640" y="88"/>
                  </a:cubicBezTo>
                  <a:cubicBezTo>
                    <a:pt x="1602" y="50"/>
                    <a:pt x="1589" y="36"/>
                    <a:pt x="1544" y="16"/>
                  </a:cubicBezTo>
                  <a:cubicBezTo>
                    <a:pt x="1529" y="9"/>
                    <a:pt x="1496" y="0"/>
                    <a:pt x="1496" y="0"/>
                  </a:cubicBezTo>
                  <a:cubicBezTo>
                    <a:pt x="1489" y="1"/>
                    <a:pt x="1398" y="11"/>
                    <a:pt x="1384" y="16"/>
                  </a:cubicBezTo>
                  <a:cubicBezTo>
                    <a:pt x="1367" y="22"/>
                    <a:pt x="1353" y="34"/>
                    <a:pt x="1336" y="40"/>
                  </a:cubicBezTo>
                  <a:cubicBezTo>
                    <a:pt x="1297" y="69"/>
                    <a:pt x="1273" y="103"/>
                    <a:pt x="1240" y="136"/>
                  </a:cubicBezTo>
                  <a:cubicBezTo>
                    <a:pt x="1199" y="258"/>
                    <a:pt x="1248" y="98"/>
                    <a:pt x="1216" y="352"/>
                  </a:cubicBezTo>
                  <a:cubicBezTo>
                    <a:pt x="1212" y="385"/>
                    <a:pt x="1111" y="430"/>
                    <a:pt x="1080" y="440"/>
                  </a:cubicBezTo>
                  <a:cubicBezTo>
                    <a:pt x="1062" y="454"/>
                    <a:pt x="1039" y="463"/>
                    <a:pt x="1024" y="480"/>
                  </a:cubicBezTo>
                  <a:cubicBezTo>
                    <a:pt x="1011" y="494"/>
                    <a:pt x="992" y="528"/>
                    <a:pt x="992" y="528"/>
                  </a:cubicBezTo>
                  <a:cubicBezTo>
                    <a:pt x="984" y="578"/>
                    <a:pt x="979" y="625"/>
                    <a:pt x="960" y="672"/>
                  </a:cubicBezTo>
                  <a:cubicBezTo>
                    <a:pt x="966" y="866"/>
                    <a:pt x="975" y="928"/>
                    <a:pt x="960" y="1104"/>
                  </a:cubicBezTo>
                  <a:cubicBezTo>
                    <a:pt x="957" y="1139"/>
                    <a:pt x="928" y="1178"/>
                    <a:pt x="896" y="1192"/>
                  </a:cubicBezTo>
                  <a:cubicBezTo>
                    <a:pt x="881" y="1199"/>
                    <a:pt x="848" y="1208"/>
                    <a:pt x="848" y="1208"/>
                  </a:cubicBezTo>
                  <a:cubicBezTo>
                    <a:pt x="791" y="1205"/>
                    <a:pt x="716" y="1221"/>
                    <a:pt x="664" y="1184"/>
                  </a:cubicBezTo>
                  <a:cubicBezTo>
                    <a:pt x="655" y="1177"/>
                    <a:pt x="650" y="1165"/>
                    <a:pt x="640" y="1160"/>
                  </a:cubicBezTo>
                  <a:cubicBezTo>
                    <a:pt x="620" y="1151"/>
                    <a:pt x="576" y="1144"/>
                    <a:pt x="576" y="1144"/>
                  </a:cubicBezTo>
                  <a:cubicBezTo>
                    <a:pt x="555" y="1146"/>
                    <a:pt x="489" y="1144"/>
                    <a:pt x="456" y="1160"/>
                  </a:cubicBezTo>
                  <a:cubicBezTo>
                    <a:pt x="405" y="1185"/>
                    <a:pt x="397" y="1212"/>
                    <a:pt x="336" y="1232"/>
                  </a:cubicBezTo>
                  <a:cubicBezTo>
                    <a:pt x="290" y="1247"/>
                    <a:pt x="240" y="1237"/>
                    <a:pt x="192" y="1240"/>
                  </a:cubicBezTo>
                  <a:cubicBezTo>
                    <a:pt x="163" y="1284"/>
                    <a:pt x="183" y="1246"/>
                    <a:pt x="168" y="1320"/>
                  </a:cubicBezTo>
                  <a:cubicBezTo>
                    <a:pt x="163" y="1347"/>
                    <a:pt x="145" y="1366"/>
                    <a:pt x="136" y="1392"/>
                  </a:cubicBezTo>
                  <a:cubicBezTo>
                    <a:pt x="133" y="1435"/>
                    <a:pt x="141" y="1479"/>
                    <a:pt x="128" y="1520"/>
                  </a:cubicBezTo>
                  <a:cubicBezTo>
                    <a:pt x="121" y="1542"/>
                    <a:pt x="80" y="1568"/>
                    <a:pt x="80" y="1568"/>
                  </a:cubicBezTo>
                  <a:cubicBezTo>
                    <a:pt x="77" y="1576"/>
                    <a:pt x="71" y="1584"/>
                    <a:pt x="72" y="1592"/>
                  </a:cubicBezTo>
                  <a:cubicBezTo>
                    <a:pt x="74" y="1609"/>
                    <a:pt x="88" y="1640"/>
                    <a:pt x="88" y="1640"/>
                  </a:cubicBezTo>
                  <a:cubicBezTo>
                    <a:pt x="85" y="1661"/>
                    <a:pt x="87" y="1684"/>
                    <a:pt x="80" y="1704"/>
                  </a:cubicBezTo>
                  <a:cubicBezTo>
                    <a:pt x="68" y="1739"/>
                    <a:pt x="28" y="1765"/>
                    <a:pt x="16" y="1800"/>
                  </a:cubicBezTo>
                  <a:cubicBezTo>
                    <a:pt x="3" y="1839"/>
                    <a:pt x="9" y="1816"/>
                    <a:pt x="0" y="1872"/>
                  </a:cubicBezTo>
                  <a:cubicBezTo>
                    <a:pt x="26" y="1949"/>
                    <a:pt x="24" y="1926"/>
                    <a:pt x="16" y="2040"/>
                  </a:cubicBezTo>
                  <a:cubicBezTo>
                    <a:pt x="30" y="2136"/>
                    <a:pt x="6" y="2070"/>
                    <a:pt x="48" y="2112"/>
                  </a:cubicBezTo>
                  <a:cubicBezTo>
                    <a:pt x="92" y="2156"/>
                    <a:pt x="19" y="2130"/>
                    <a:pt x="128" y="2144"/>
                  </a:cubicBezTo>
                  <a:cubicBezTo>
                    <a:pt x="196" y="2212"/>
                    <a:pt x="270" y="2250"/>
                    <a:pt x="360" y="2280"/>
                  </a:cubicBezTo>
                  <a:cubicBezTo>
                    <a:pt x="481" y="2270"/>
                    <a:pt x="546" y="2243"/>
                    <a:pt x="656" y="2216"/>
                  </a:cubicBezTo>
                  <a:cubicBezTo>
                    <a:pt x="730" y="2170"/>
                    <a:pt x="800" y="2120"/>
                    <a:pt x="872" y="2072"/>
                  </a:cubicBezTo>
                  <a:cubicBezTo>
                    <a:pt x="902" y="2052"/>
                    <a:pt x="944" y="2040"/>
                    <a:pt x="976" y="2024"/>
                  </a:cubicBezTo>
                  <a:cubicBezTo>
                    <a:pt x="1013" y="2005"/>
                    <a:pt x="1036" y="1964"/>
                    <a:pt x="1072" y="1944"/>
                  </a:cubicBezTo>
                  <a:cubicBezTo>
                    <a:pt x="1094" y="1932"/>
                    <a:pt x="1127" y="1927"/>
                    <a:pt x="1152" y="1920"/>
                  </a:cubicBezTo>
                  <a:cubicBezTo>
                    <a:pt x="1192" y="1908"/>
                    <a:pt x="1224" y="1896"/>
                    <a:pt x="1264" y="1888"/>
                  </a:cubicBezTo>
                  <a:cubicBezTo>
                    <a:pt x="1291" y="1891"/>
                    <a:pt x="1319" y="1888"/>
                    <a:pt x="1344" y="1896"/>
                  </a:cubicBezTo>
                  <a:cubicBezTo>
                    <a:pt x="1396" y="1913"/>
                    <a:pt x="1326" y="1986"/>
                    <a:pt x="1312" y="2000"/>
                  </a:cubicBezTo>
                  <a:cubicBezTo>
                    <a:pt x="1296" y="2048"/>
                    <a:pt x="1280" y="2044"/>
                    <a:pt x="1320" y="2064"/>
                  </a:cubicBezTo>
                  <a:cubicBezTo>
                    <a:pt x="1328" y="2068"/>
                    <a:pt x="1336" y="2069"/>
                    <a:pt x="1344" y="2072"/>
                  </a:cubicBezTo>
                  <a:cubicBezTo>
                    <a:pt x="1387" y="2068"/>
                    <a:pt x="1435" y="2078"/>
                    <a:pt x="1472" y="2056"/>
                  </a:cubicBezTo>
                  <a:cubicBezTo>
                    <a:pt x="1492" y="2045"/>
                    <a:pt x="1520" y="2008"/>
                    <a:pt x="1520" y="2008"/>
                  </a:cubicBezTo>
                  <a:cubicBezTo>
                    <a:pt x="1527" y="1969"/>
                    <a:pt x="1524" y="1915"/>
                    <a:pt x="1544" y="1880"/>
                  </a:cubicBezTo>
                  <a:cubicBezTo>
                    <a:pt x="1553" y="1863"/>
                    <a:pt x="1560" y="1843"/>
                    <a:pt x="1576" y="1832"/>
                  </a:cubicBezTo>
                  <a:cubicBezTo>
                    <a:pt x="1592" y="1821"/>
                    <a:pt x="1624" y="1800"/>
                    <a:pt x="1624" y="1800"/>
                  </a:cubicBezTo>
                  <a:cubicBezTo>
                    <a:pt x="1647" y="1765"/>
                    <a:pt x="1673" y="1738"/>
                    <a:pt x="1696" y="1704"/>
                  </a:cubicBezTo>
                  <a:cubicBezTo>
                    <a:pt x="1705" y="1652"/>
                    <a:pt x="1710" y="1644"/>
                    <a:pt x="1752" y="1616"/>
                  </a:cubicBezTo>
                  <a:cubicBezTo>
                    <a:pt x="1803" y="1626"/>
                    <a:pt x="1823" y="1638"/>
                    <a:pt x="1840" y="1688"/>
                  </a:cubicBezTo>
                  <a:cubicBezTo>
                    <a:pt x="1831" y="1762"/>
                    <a:pt x="1832" y="1745"/>
                    <a:pt x="1808" y="1800"/>
                  </a:cubicBezTo>
                  <a:cubicBezTo>
                    <a:pt x="1801" y="1815"/>
                    <a:pt x="1792" y="1848"/>
                    <a:pt x="1792" y="1848"/>
                  </a:cubicBezTo>
                  <a:cubicBezTo>
                    <a:pt x="1795" y="1856"/>
                    <a:pt x="1793" y="1867"/>
                    <a:pt x="1800" y="1872"/>
                  </a:cubicBezTo>
                  <a:cubicBezTo>
                    <a:pt x="1816" y="1884"/>
                    <a:pt x="1904" y="1909"/>
                    <a:pt x="1920" y="1912"/>
                  </a:cubicBezTo>
                  <a:cubicBezTo>
                    <a:pt x="1953" y="1961"/>
                    <a:pt x="1916" y="1913"/>
                    <a:pt x="1960" y="1952"/>
                  </a:cubicBezTo>
                  <a:cubicBezTo>
                    <a:pt x="2001" y="1988"/>
                    <a:pt x="2027" y="2022"/>
                    <a:pt x="2080" y="2040"/>
                  </a:cubicBezTo>
                  <a:cubicBezTo>
                    <a:pt x="2103" y="2063"/>
                    <a:pt x="2124" y="2088"/>
                    <a:pt x="2144" y="2112"/>
                  </a:cubicBezTo>
                  <a:cubicBezTo>
                    <a:pt x="2155" y="2126"/>
                    <a:pt x="2155" y="2147"/>
                    <a:pt x="2168" y="2160"/>
                  </a:cubicBezTo>
                  <a:cubicBezTo>
                    <a:pt x="2182" y="2174"/>
                    <a:pt x="2200" y="2181"/>
                    <a:pt x="2216" y="2192"/>
                  </a:cubicBezTo>
                  <a:cubicBezTo>
                    <a:pt x="2254" y="2217"/>
                    <a:pt x="2225" y="2215"/>
                    <a:pt x="2264" y="2232"/>
                  </a:cubicBezTo>
                  <a:cubicBezTo>
                    <a:pt x="2303" y="2250"/>
                    <a:pt x="2342" y="2257"/>
                    <a:pt x="2384" y="2264"/>
                  </a:cubicBezTo>
                  <a:cubicBezTo>
                    <a:pt x="2463" y="2256"/>
                    <a:pt x="2534" y="2236"/>
                    <a:pt x="2600" y="2192"/>
                  </a:cubicBezTo>
                  <a:cubicBezTo>
                    <a:pt x="2623" y="2158"/>
                    <a:pt x="2649" y="2131"/>
                    <a:pt x="2672" y="2096"/>
                  </a:cubicBezTo>
                  <a:cubicBezTo>
                    <a:pt x="2677" y="2089"/>
                    <a:pt x="2675" y="2079"/>
                    <a:pt x="2680" y="2072"/>
                  </a:cubicBezTo>
                  <a:cubicBezTo>
                    <a:pt x="2693" y="2056"/>
                    <a:pt x="2734" y="2028"/>
                    <a:pt x="2752" y="2016"/>
                  </a:cubicBezTo>
                  <a:cubicBezTo>
                    <a:pt x="2804" y="2022"/>
                    <a:pt x="2853" y="2027"/>
                    <a:pt x="2904" y="2040"/>
                  </a:cubicBezTo>
                  <a:cubicBezTo>
                    <a:pt x="2931" y="2037"/>
                    <a:pt x="2958" y="2038"/>
                    <a:pt x="2984" y="2032"/>
                  </a:cubicBezTo>
                  <a:cubicBezTo>
                    <a:pt x="3010" y="2026"/>
                    <a:pt x="3030" y="1983"/>
                    <a:pt x="3040" y="1968"/>
                  </a:cubicBezTo>
                  <a:cubicBezTo>
                    <a:pt x="3074" y="1917"/>
                    <a:pt x="3080" y="1872"/>
                    <a:pt x="3128" y="1824"/>
                  </a:cubicBezTo>
                  <a:cubicBezTo>
                    <a:pt x="3153" y="1799"/>
                    <a:pt x="3164" y="1809"/>
                    <a:pt x="3200" y="1800"/>
                  </a:cubicBezTo>
                  <a:cubicBezTo>
                    <a:pt x="3240" y="1790"/>
                    <a:pt x="3280" y="1778"/>
                    <a:pt x="3320" y="1768"/>
                  </a:cubicBezTo>
                  <a:cubicBezTo>
                    <a:pt x="3364" y="1739"/>
                    <a:pt x="3403" y="1701"/>
                    <a:pt x="3440" y="1664"/>
                  </a:cubicBezTo>
                  <a:cubicBezTo>
                    <a:pt x="3455" y="1649"/>
                    <a:pt x="3560" y="1630"/>
                    <a:pt x="3584" y="1624"/>
                  </a:cubicBezTo>
                  <a:cubicBezTo>
                    <a:pt x="3608" y="1627"/>
                    <a:pt x="3633" y="1624"/>
                    <a:pt x="3656" y="1632"/>
                  </a:cubicBezTo>
                  <a:cubicBezTo>
                    <a:pt x="3667" y="1636"/>
                    <a:pt x="3675" y="1646"/>
                    <a:pt x="3680" y="1656"/>
                  </a:cubicBezTo>
                  <a:cubicBezTo>
                    <a:pt x="3688" y="1671"/>
                    <a:pt x="3687" y="1690"/>
                    <a:pt x="3696" y="1704"/>
                  </a:cubicBezTo>
                  <a:cubicBezTo>
                    <a:pt x="3713" y="1730"/>
                    <a:pt x="3735" y="1750"/>
                    <a:pt x="3752" y="1776"/>
                  </a:cubicBezTo>
                  <a:cubicBezTo>
                    <a:pt x="3768" y="1839"/>
                    <a:pt x="3769" y="1878"/>
                    <a:pt x="3840" y="1896"/>
                  </a:cubicBezTo>
                  <a:cubicBezTo>
                    <a:pt x="3880" y="1893"/>
                    <a:pt x="3920" y="1893"/>
                    <a:pt x="3960" y="1888"/>
                  </a:cubicBezTo>
                  <a:cubicBezTo>
                    <a:pt x="3982" y="1885"/>
                    <a:pt x="4024" y="1872"/>
                    <a:pt x="4024" y="1872"/>
                  </a:cubicBezTo>
                  <a:cubicBezTo>
                    <a:pt x="4076" y="1833"/>
                    <a:pt x="4122" y="1801"/>
                    <a:pt x="4144" y="1736"/>
                  </a:cubicBezTo>
                  <a:cubicBezTo>
                    <a:pt x="4141" y="1709"/>
                    <a:pt x="4140" y="1682"/>
                    <a:pt x="4136" y="1656"/>
                  </a:cubicBezTo>
                  <a:cubicBezTo>
                    <a:pt x="4131" y="1623"/>
                    <a:pt x="4104" y="1591"/>
                    <a:pt x="4120" y="1560"/>
                  </a:cubicBezTo>
                  <a:close/>
                </a:path>
              </a:pathLst>
            </a:custGeom>
            <a:solidFill>
              <a:srgbClr val="c0c0c0"/>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74" name=""/>
            <p:cNvSpPr/>
            <p:nvPr/>
          </p:nvSpPr>
          <p:spPr>
            <a:xfrm rot="5400000">
              <a:off x="5735520" y="4547880"/>
              <a:ext cx="368280" cy="254160"/>
            </a:xfrm>
            <a:custGeom>
              <a:avLst/>
              <a:gdLst/>
              <a:ahLst/>
              <a:rect l="l" t="t" r="r" b="b"/>
              <a:pathLst>
                <a:path w="568" h="736">
                  <a:moveTo>
                    <a:pt x="568" y="16"/>
                  </a:moveTo>
                  <a:cubicBezTo>
                    <a:pt x="560" y="16"/>
                    <a:pt x="552" y="16"/>
                    <a:pt x="520" y="16"/>
                  </a:cubicBezTo>
                  <a:cubicBezTo>
                    <a:pt x="488" y="16"/>
                    <a:pt x="416" y="0"/>
                    <a:pt x="376" y="16"/>
                  </a:cubicBezTo>
                  <a:cubicBezTo>
                    <a:pt x="336" y="32"/>
                    <a:pt x="296" y="64"/>
                    <a:pt x="280" y="112"/>
                  </a:cubicBezTo>
                  <a:cubicBezTo>
                    <a:pt x="264" y="160"/>
                    <a:pt x="320" y="256"/>
                    <a:pt x="280" y="304"/>
                  </a:cubicBezTo>
                  <a:cubicBezTo>
                    <a:pt x="240" y="352"/>
                    <a:pt x="80" y="360"/>
                    <a:pt x="40" y="400"/>
                  </a:cubicBezTo>
                  <a:cubicBezTo>
                    <a:pt x="0" y="440"/>
                    <a:pt x="32" y="488"/>
                    <a:pt x="40" y="544"/>
                  </a:cubicBezTo>
                  <a:cubicBezTo>
                    <a:pt x="48" y="600"/>
                    <a:pt x="68" y="668"/>
                    <a:pt x="88" y="736"/>
                  </a:cubicBezTo>
                </a:path>
              </a:pathLst>
            </a:custGeom>
            <a:noFill/>
            <a:ln w="12600">
              <a:solidFill>
                <a:srgbClr val="00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rot="5400000">
              <a:off x="4187160" y="3415320"/>
              <a:ext cx="4022640" cy="735120"/>
            </a:xfrm>
            <a:custGeom>
              <a:avLst/>
              <a:gdLst/>
              <a:ahLst/>
              <a:rect l="l" t="t" r="r" b="b"/>
              <a:pathLst>
                <a:path w="6152" h="800">
                  <a:moveTo>
                    <a:pt x="0" y="584"/>
                  </a:moveTo>
                  <a:cubicBezTo>
                    <a:pt x="28" y="600"/>
                    <a:pt x="56" y="616"/>
                    <a:pt x="96" y="632"/>
                  </a:cubicBezTo>
                  <a:cubicBezTo>
                    <a:pt x="136" y="648"/>
                    <a:pt x="200" y="688"/>
                    <a:pt x="240" y="680"/>
                  </a:cubicBezTo>
                  <a:cubicBezTo>
                    <a:pt x="280" y="672"/>
                    <a:pt x="304" y="608"/>
                    <a:pt x="336" y="584"/>
                  </a:cubicBezTo>
                  <a:cubicBezTo>
                    <a:pt x="368" y="560"/>
                    <a:pt x="384" y="536"/>
                    <a:pt x="432" y="536"/>
                  </a:cubicBezTo>
                  <a:cubicBezTo>
                    <a:pt x="480" y="536"/>
                    <a:pt x="544" y="576"/>
                    <a:pt x="624" y="584"/>
                  </a:cubicBezTo>
                  <a:cubicBezTo>
                    <a:pt x="704" y="592"/>
                    <a:pt x="840" y="616"/>
                    <a:pt x="912" y="584"/>
                  </a:cubicBezTo>
                  <a:cubicBezTo>
                    <a:pt x="984" y="552"/>
                    <a:pt x="992" y="456"/>
                    <a:pt x="1056" y="392"/>
                  </a:cubicBezTo>
                  <a:cubicBezTo>
                    <a:pt x="1120" y="328"/>
                    <a:pt x="1224" y="224"/>
                    <a:pt x="1296" y="200"/>
                  </a:cubicBezTo>
                  <a:cubicBezTo>
                    <a:pt x="1368" y="176"/>
                    <a:pt x="1432" y="216"/>
                    <a:pt x="1488" y="248"/>
                  </a:cubicBezTo>
                  <a:cubicBezTo>
                    <a:pt x="1544" y="280"/>
                    <a:pt x="1560" y="392"/>
                    <a:pt x="1632" y="392"/>
                  </a:cubicBezTo>
                  <a:cubicBezTo>
                    <a:pt x="1704" y="392"/>
                    <a:pt x="1856" y="304"/>
                    <a:pt x="1920" y="248"/>
                  </a:cubicBezTo>
                  <a:cubicBezTo>
                    <a:pt x="1984" y="192"/>
                    <a:pt x="1952" y="96"/>
                    <a:pt x="2016" y="56"/>
                  </a:cubicBezTo>
                  <a:cubicBezTo>
                    <a:pt x="2080" y="16"/>
                    <a:pt x="2240" y="0"/>
                    <a:pt x="2304" y="8"/>
                  </a:cubicBezTo>
                  <a:cubicBezTo>
                    <a:pt x="2368" y="16"/>
                    <a:pt x="2384" y="56"/>
                    <a:pt x="2400" y="104"/>
                  </a:cubicBezTo>
                  <a:cubicBezTo>
                    <a:pt x="2416" y="152"/>
                    <a:pt x="2384" y="248"/>
                    <a:pt x="2400" y="296"/>
                  </a:cubicBezTo>
                  <a:cubicBezTo>
                    <a:pt x="2416" y="344"/>
                    <a:pt x="2456" y="376"/>
                    <a:pt x="2496" y="392"/>
                  </a:cubicBezTo>
                  <a:cubicBezTo>
                    <a:pt x="2536" y="408"/>
                    <a:pt x="2576" y="432"/>
                    <a:pt x="2640" y="392"/>
                  </a:cubicBezTo>
                  <a:cubicBezTo>
                    <a:pt x="2704" y="352"/>
                    <a:pt x="2824" y="192"/>
                    <a:pt x="2880" y="152"/>
                  </a:cubicBezTo>
                  <a:cubicBezTo>
                    <a:pt x="2936" y="112"/>
                    <a:pt x="2960" y="136"/>
                    <a:pt x="2976" y="152"/>
                  </a:cubicBezTo>
                  <a:cubicBezTo>
                    <a:pt x="2992" y="168"/>
                    <a:pt x="2976" y="208"/>
                    <a:pt x="2976" y="248"/>
                  </a:cubicBezTo>
                  <a:cubicBezTo>
                    <a:pt x="2976" y="288"/>
                    <a:pt x="2944" y="384"/>
                    <a:pt x="2976" y="392"/>
                  </a:cubicBezTo>
                  <a:cubicBezTo>
                    <a:pt x="3008" y="400"/>
                    <a:pt x="3128" y="288"/>
                    <a:pt x="3168" y="296"/>
                  </a:cubicBezTo>
                  <a:cubicBezTo>
                    <a:pt x="3208" y="304"/>
                    <a:pt x="3232" y="392"/>
                    <a:pt x="3216" y="440"/>
                  </a:cubicBezTo>
                  <a:cubicBezTo>
                    <a:pt x="3200" y="488"/>
                    <a:pt x="3112" y="552"/>
                    <a:pt x="3072" y="584"/>
                  </a:cubicBezTo>
                  <a:cubicBezTo>
                    <a:pt x="3032" y="616"/>
                    <a:pt x="2992" y="600"/>
                    <a:pt x="2976" y="632"/>
                  </a:cubicBezTo>
                  <a:cubicBezTo>
                    <a:pt x="2960" y="664"/>
                    <a:pt x="2936" y="752"/>
                    <a:pt x="2976" y="776"/>
                  </a:cubicBezTo>
                  <a:cubicBezTo>
                    <a:pt x="3016" y="800"/>
                    <a:pt x="3144" y="792"/>
                    <a:pt x="3216" y="776"/>
                  </a:cubicBezTo>
                  <a:cubicBezTo>
                    <a:pt x="3288" y="760"/>
                    <a:pt x="3336" y="704"/>
                    <a:pt x="3408" y="680"/>
                  </a:cubicBezTo>
                  <a:cubicBezTo>
                    <a:pt x="3480" y="656"/>
                    <a:pt x="3568" y="640"/>
                    <a:pt x="3648" y="632"/>
                  </a:cubicBezTo>
                  <a:cubicBezTo>
                    <a:pt x="3728" y="624"/>
                    <a:pt x="3816" y="648"/>
                    <a:pt x="3888" y="632"/>
                  </a:cubicBezTo>
                  <a:cubicBezTo>
                    <a:pt x="3960" y="616"/>
                    <a:pt x="4032" y="584"/>
                    <a:pt x="4080" y="536"/>
                  </a:cubicBezTo>
                  <a:cubicBezTo>
                    <a:pt x="4128" y="488"/>
                    <a:pt x="4136" y="376"/>
                    <a:pt x="4176" y="344"/>
                  </a:cubicBezTo>
                  <a:cubicBezTo>
                    <a:pt x="4216" y="312"/>
                    <a:pt x="4288" y="328"/>
                    <a:pt x="4320" y="344"/>
                  </a:cubicBezTo>
                  <a:cubicBezTo>
                    <a:pt x="4352" y="360"/>
                    <a:pt x="4320" y="440"/>
                    <a:pt x="4368" y="440"/>
                  </a:cubicBezTo>
                  <a:cubicBezTo>
                    <a:pt x="4416" y="440"/>
                    <a:pt x="4552" y="344"/>
                    <a:pt x="4608" y="344"/>
                  </a:cubicBezTo>
                  <a:cubicBezTo>
                    <a:pt x="4664" y="344"/>
                    <a:pt x="4696" y="408"/>
                    <a:pt x="4704" y="440"/>
                  </a:cubicBezTo>
                  <a:cubicBezTo>
                    <a:pt x="4712" y="472"/>
                    <a:pt x="4648" y="512"/>
                    <a:pt x="4656" y="536"/>
                  </a:cubicBezTo>
                  <a:cubicBezTo>
                    <a:pt x="4664" y="560"/>
                    <a:pt x="4712" y="608"/>
                    <a:pt x="4752" y="584"/>
                  </a:cubicBezTo>
                  <a:cubicBezTo>
                    <a:pt x="4792" y="560"/>
                    <a:pt x="4832" y="440"/>
                    <a:pt x="4896" y="392"/>
                  </a:cubicBezTo>
                  <a:cubicBezTo>
                    <a:pt x="4960" y="344"/>
                    <a:pt x="5072" y="304"/>
                    <a:pt x="5136" y="296"/>
                  </a:cubicBezTo>
                  <a:cubicBezTo>
                    <a:pt x="5200" y="288"/>
                    <a:pt x="5232" y="328"/>
                    <a:pt x="5280" y="344"/>
                  </a:cubicBezTo>
                  <a:cubicBezTo>
                    <a:pt x="5328" y="360"/>
                    <a:pt x="5360" y="376"/>
                    <a:pt x="5424" y="392"/>
                  </a:cubicBezTo>
                  <a:cubicBezTo>
                    <a:pt x="5488" y="408"/>
                    <a:pt x="5600" y="400"/>
                    <a:pt x="5664" y="440"/>
                  </a:cubicBezTo>
                  <a:cubicBezTo>
                    <a:pt x="5728" y="480"/>
                    <a:pt x="5736" y="600"/>
                    <a:pt x="5808" y="632"/>
                  </a:cubicBezTo>
                  <a:cubicBezTo>
                    <a:pt x="5880" y="664"/>
                    <a:pt x="6040" y="640"/>
                    <a:pt x="6096" y="632"/>
                  </a:cubicBezTo>
                  <a:cubicBezTo>
                    <a:pt x="6152" y="624"/>
                    <a:pt x="6136" y="600"/>
                    <a:pt x="6144" y="584"/>
                  </a:cubicBezTo>
                  <a:cubicBezTo>
                    <a:pt x="6152" y="568"/>
                    <a:pt x="6148" y="552"/>
                    <a:pt x="6144" y="536"/>
                  </a:cubicBezTo>
                </a:path>
              </a:pathLst>
            </a:custGeom>
            <a:noFill/>
            <a:ln w="38160">
              <a:solidFill>
                <a:srgbClr val="33cc3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rot="5400000">
              <a:off x="5410440" y="3825000"/>
              <a:ext cx="1474920" cy="631800"/>
            </a:xfrm>
            <a:custGeom>
              <a:avLst/>
              <a:gdLst/>
              <a:ahLst/>
              <a:rect l="l" t="t" r="r" b="b"/>
              <a:pathLst>
                <a:path w="929" h="398">
                  <a:moveTo>
                    <a:pt x="0" y="162"/>
                  </a:moveTo>
                  <a:cubicBezTo>
                    <a:pt x="10" y="162"/>
                    <a:pt x="33" y="185"/>
                    <a:pt x="59" y="162"/>
                  </a:cubicBezTo>
                  <a:cubicBezTo>
                    <a:pt x="86" y="139"/>
                    <a:pt x="135" y="46"/>
                    <a:pt x="158" y="23"/>
                  </a:cubicBezTo>
                  <a:cubicBezTo>
                    <a:pt x="181" y="0"/>
                    <a:pt x="191" y="14"/>
                    <a:pt x="198" y="23"/>
                  </a:cubicBezTo>
                  <a:cubicBezTo>
                    <a:pt x="204" y="32"/>
                    <a:pt x="198" y="55"/>
                    <a:pt x="198" y="79"/>
                  </a:cubicBezTo>
                  <a:cubicBezTo>
                    <a:pt x="198" y="102"/>
                    <a:pt x="185" y="157"/>
                    <a:pt x="198" y="162"/>
                  </a:cubicBezTo>
                  <a:cubicBezTo>
                    <a:pt x="211" y="167"/>
                    <a:pt x="260" y="102"/>
                    <a:pt x="277" y="106"/>
                  </a:cubicBezTo>
                  <a:cubicBezTo>
                    <a:pt x="293" y="111"/>
                    <a:pt x="303" y="162"/>
                    <a:pt x="297" y="190"/>
                  </a:cubicBezTo>
                  <a:cubicBezTo>
                    <a:pt x="290" y="217"/>
                    <a:pt x="254" y="254"/>
                    <a:pt x="237" y="273"/>
                  </a:cubicBezTo>
                  <a:cubicBezTo>
                    <a:pt x="221" y="292"/>
                    <a:pt x="204" y="282"/>
                    <a:pt x="198" y="301"/>
                  </a:cubicBezTo>
                  <a:cubicBezTo>
                    <a:pt x="191" y="319"/>
                    <a:pt x="181" y="370"/>
                    <a:pt x="198" y="384"/>
                  </a:cubicBezTo>
                  <a:cubicBezTo>
                    <a:pt x="214" y="398"/>
                    <a:pt x="267" y="393"/>
                    <a:pt x="297" y="384"/>
                  </a:cubicBezTo>
                  <a:cubicBezTo>
                    <a:pt x="326" y="375"/>
                    <a:pt x="346" y="342"/>
                    <a:pt x="376" y="329"/>
                  </a:cubicBezTo>
                  <a:cubicBezTo>
                    <a:pt x="405" y="315"/>
                    <a:pt x="442" y="305"/>
                    <a:pt x="475" y="301"/>
                  </a:cubicBezTo>
                  <a:cubicBezTo>
                    <a:pt x="508" y="296"/>
                    <a:pt x="544" y="310"/>
                    <a:pt x="573" y="301"/>
                  </a:cubicBezTo>
                  <a:cubicBezTo>
                    <a:pt x="603" y="292"/>
                    <a:pt x="633" y="273"/>
                    <a:pt x="653" y="245"/>
                  </a:cubicBezTo>
                  <a:cubicBezTo>
                    <a:pt x="672" y="217"/>
                    <a:pt x="676" y="153"/>
                    <a:pt x="692" y="134"/>
                  </a:cubicBezTo>
                  <a:cubicBezTo>
                    <a:pt x="709" y="116"/>
                    <a:pt x="738" y="125"/>
                    <a:pt x="751" y="134"/>
                  </a:cubicBezTo>
                  <a:cubicBezTo>
                    <a:pt x="765" y="143"/>
                    <a:pt x="751" y="190"/>
                    <a:pt x="771" y="190"/>
                  </a:cubicBezTo>
                  <a:cubicBezTo>
                    <a:pt x="791" y="190"/>
                    <a:pt x="847" y="134"/>
                    <a:pt x="870" y="134"/>
                  </a:cubicBezTo>
                  <a:cubicBezTo>
                    <a:pt x="893" y="134"/>
                    <a:pt x="906" y="171"/>
                    <a:pt x="910" y="190"/>
                  </a:cubicBezTo>
                  <a:cubicBezTo>
                    <a:pt x="913" y="208"/>
                    <a:pt x="887" y="231"/>
                    <a:pt x="890" y="245"/>
                  </a:cubicBezTo>
                  <a:cubicBezTo>
                    <a:pt x="893" y="259"/>
                    <a:pt x="922" y="268"/>
                    <a:pt x="929" y="273"/>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rot="5400000">
              <a:off x="5666040" y="5157720"/>
              <a:ext cx="925200" cy="347760"/>
            </a:xfrm>
            <a:custGeom>
              <a:avLst/>
              <a:gdLst/>
              <a:ahLst/>
              <a:rect l="l" t="t" r="r" b="b"/>
              <a:pathLst>
                <a:path w="583" h="219">
                  <a:moveTo>
                    <a:pt x="0" y="186"/>
                  </a:moveTo>
                  <a:cubicBezTo>
                    <a:pt x="11" y="165"/>
                    <a:pt x="40" y="90"/>
                    <a:pt x="67" y="60"/>
                  </a:cubicBezTo>
                  <a:cubicBezTo>
                    <a:pt x="94" y="30"/>
                    <a:pt x="137" y="8"/>
                    <a:pt x="163" y="4"/>
                  </a:cubicBezTo>
                  <a:cubicBezTo>
                    <a:pt x="189" y="0"/>
                    <a:pt x="202" y="27"/>
                    <a:pt x="223" y="36"/>
                  </a:cubicBezTo>
                  <a:cubicBezTo>
                    <a:pt x="244" y="45"/>
                    <a:pt x="261" y="50"/>
                    <a:pt x="289" y="60"/>
                  </a:cubicBezTo>
                  <a:cubicBezTo>
                    <a:pt x="317" y="70"/>
                    <a:pt x="367" y="75"/>
                    <a:pt x="391" y="96"/>
                  </a:cubicBezTo>
                  <a:cubicBezTo>
                    <a:pt x="415" y="117"/>
                    <a:pt x="416" y="168"/>
                    <a:pt x="431" y="188"/>
                  </a:cubicBezTo>
                  <a:cubicBezTo>
                    <a:pt x="446" y="208"/>
                    <a:pt x="462" y="213"/>
                    <a:pt x="479" y="216"/>
                  </a:cubicBezTo>
                  <a:cubicBezTo>
                    <a:pt x="496" y="219"/>
                    <a:pt x="515" y="209"/>
                    <a:pt x="531" y="204"/>
                  </a:cubicBezTo>
                  <a:cubicBezTo>
                    <a:pt x="547" y="199"/>
                    <a:pt x="565" y="195"/>
                    <a:pt x="574" y="186"/>
                  </a:cubicBezTo>
                  <a:cubicBezTo>
                    <a:pt x="583" y="177"/>
                    <a:pt x="581" y="156"/>
                    <a:pt x="583" y="148"/>
                  </a:cubicBezTo>
                </a:path>
              </a:pathLst>
            </a:custGeom>
            <a:noFill/>
            <a:ln w="38160">
              <a:solidFill>
                <a:srgbClr val="ff66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rot="5400000">
              <a:off x="6669720" y="2412000"/>
              <a:ext cx="770040" cy="1076400"/>
            </a:xfrm>
            <a:custGeom>
              <a:avLst/>
              <a:gdLst/>
              <a:ahLst/>
              <a:rect l="l" t="t" r="r" b="b"/>
              <a:pathLst>
                <a:path w="608" h="1248">
                  <a:moveTo>
                    <a:pt x="224" y="0"/>
                  </a:moveTo>
                  <a:cubicBezTo>
                    <a:pt x="268" y="28"/>
                    <a:pt x="312" y="56"/>
                    <a:pt x="320" y="96"/>
                  </a:cubicBezTo>
                  <a:cubicBezTo>
                    <a:pt x="328" y="136"/>
                    <a:pt x="304" y="208"/>
                    <a:pt x="272" y="240"/>
                  </a:cubicBezTo>
                  <a:cubicBezTo>
                    <a:pt x="240" y="272"/>
                    <a:pt x="152" y="264"/>
                    <a:pt x="128" y="288"/>
                  </a:cubicBezTo>
                  <a:cubicBezTo>
                    <a:pt x="104" y="312"/>
                    <a:pt x="96" y="352"/>
                    <a:pt x="128" y="384"/>
                  </a:cubicBezTo>
                  <a:cubicBezTo>
                    <a:pt x="160" y="416"/>
                    <a:pt x="304" y="440"/>
                    <a:pt x="320" y="480"/>
                  </a:cubicBezTo>
                  <a:cubicBezTo>
                    <a:pt x="336" y="520"/>
                    <a:pt x="272" y="592"/>
                    <a:pt x="224" y="624"/>
                  </a:cubicBezTo>
                  <a:cubicBezTo>
                    <a:pt x="176" y="656"/>
                    <a:pt x="64" y="648"/>
                    <a:pt x="32" y="672"/>
                  </a:cubicBezTo>
                  <a:cubicBezTo>
                    <a:pt x="0" y="696"/>
                    <a:pt x="16" y="744"/>
                    <a:pt x="32" y="768"/>
                  </a:cubicBezTo>
                  <a:cubicBezTo>
                    <a:pt x="48" y="792"/>
                    <a:pt x="120" y="792"/>
                    <a:pt x="128" y="816"/>
                  </a:cubicBezTo>
                  <a:cubicBezTo>
                    <a:pt x="136" y="840"/>
                    <a:pt x="64" y="896"/>
                    <a:pt x="80" y="912"/>
                  </a:cubicBezTo>
                  <a:cubicBezTo>
                    <a:pt x="96" y="928"/>
                    <a:pt x="184" y="904"/>
                    <a:pt x="224" y="912"/>
                  </a:cubicBezTo>
                  <a:cubicBezTo>
                    <a:pt x="264" y="920"/>
                    <a:pt x="296" y="928"/>
                    <a:pt x="320" y="960"/>
                  </a:cubicBezTo>
                  <a:cubicBezTo>
                    <a:pt x="344" y="992"/>
                    <a:pt x="320" y="1056"/>
                    <a:pt x="368" y="1104"/>
                  </a:cubicBezTo>
                  <a:cubicBezTo>
                    <a:pt x="416" y="1152"/>
                    <a:pt x="512" y="1200"/>
                    <a:pt x="608" y="1248"/>
                  </a:cubicBezTo>
                </a:path>
              </a:pathLst>
            </a:custGeom>
            <a:noFill/>
            <a:ln w="12600">
              <a:solidFill>
                <a:srgbClr val="33cc3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grpSp>
        <p:nvGrpSpPr>
          <p:cNvPr id="179" name=""/>
          <p:cNvGrpSpPr/>
          <p:nvPr/>
        </p:nvGrpSpPr>
        <p:grpSpPr>
          <a:xfrm>
            <a:off x="3419640" y="1268280"/>
            <a:ext cx="2644560" cy="4680000"/>
            <a:chOff x="3419640" y="1268280"/>
            <a:chExt cx="2644560" cy="4680000"/>
          </a:xfrm>
        </p:grpSpPr>
        <p:grpSp>
          <p:nvGrpSpPr>
            <p:cNvPr id="180" name=""/>
            <p:cNvGrpSpPr/>
            <p:nvPr/>
          </p:nvGrpSpPr>
          <p:grpSpPr>
            <a:xfrm>
              <a:off x="3419640" y="1268280"/>
              <a:ext cx="2644560" cy="4680000"/>
              <a:chOff x="3419640" y="1268280"/>
              <a:chExt cx="2644560" cy="4680000"/>
            </a:xfrm>
          </p:grpSpPr>
          <p:sp>
            <p:nvSpPr>
              <p:cNvPr id="181" name=""/>
              <p:cNvSpPr/>
              <p:nvPr/>
            </p:nvSpPr>
            <p:spPr>
              <a:xfrm rot="5400000">
                <a:off x="2401560" y="2285640"/>
                <a:ext cx="4680000" cy="2644560"/>
              </a:xfrm>
              <a:custGeom>
                <a:avLst/>
                <a:gdLst/>
                <a:ahLst/>
                <a:rect l="l" t="t" r="r" b="b"/>
                <a:pathLst>
                  <a:path w="4144" h="2280">
                    <a:moveTo>
                      <a:pt x="4120" y="1560"/>
                    </a:moveTo>
                    <a:cubicBezTo>
                      <a:pt x="4079" y="1546"/>
                      <a:pt x="4063" y="1505"/>
                      <a:pt x="4024" y="1488"/>
                    </a:cubicBezTo>
                    <a:cubicBezTo>
                      <a:pt x="3964" y="1461"/>
                      <a:pt x="3911" y="1437"/>
                      <a:pt x="3848" y="1416"/>
                    </a:cubicBezTo>
                    <a:cubicBezTo>
                      <a:pt x="3839" y="1413"/>
                      <a:pt x="3833" y="1403"/>
                      <a:pt x="3824" y="1400"/>
                    </a:cubicBezTo>
                    <a:cubicBezTo>
                      <a:pt x="3771" y="1380"/>
                      <a:pt x="3656" y="1376"/>
                      <a:pt x="3656" y="1376"/>
                    </a:cubicBezTo>
                    <a:cubicBezTo>
                      <a:pt x="3562" y="1383"/>
                      <a:pt x="3548" y="1385"/>
                      <a:pt x="3472" y="1360"/>
                    </a:cubicBezTo>
                    <a:cubicBezTo>
                      <a:pt x="3472" y="1360"/>
                      <a:pt x="3412" y="1320"/>
                      <a:pt x="3400" y="1312"/>
                    </a:cubicBezTo>
                    <a:cubicBezTo>
                      <a:pt x="3384" y="1301"/>
                      <a:pt x="3352" y="1280"/>
                      <a:pt x="3352" y="1280"/>
                    </a:cubicBezTo>
                    <a:cubicBezTo>
                      <a:pt x="3342" y="1251"/>
                      <a:pt x="3325" y="1229"/>
                      <a:pt x="3296" y="1216"/>
                    </a:cubicBezTo>
                    <a:cubicBezTo>
                      <a:pt x="3281" y="1209"/>
                      <a:pt x="3264" y="1205"/>
                      <a:pt x="3248" y="1200"/>
                    </a:cubicBezTo>
                    <a:cubicBezTo>
                      <a:pt x="3240" y="1197"/>
                      <a:pt x="3224" y="1192"/>
                      <a:pt x="3224" y="1192"/>
                    </a:cubicBezTo>
                    <a:cubicBezTo>
                      <a:pt x="3176" y="1195"/>
                      <a:pt x="3128" y="1196"/>
                      <a:pt x="3080" y="1200"/>
                    </a:cubicBezTo>
                    <a:cubicBezTo>
                      <a:pt x="3047" y="1203"/>
                      <a:pt x="3028" y="1219"/>
                      <a:pt x="3000" y="1232"/>
                    </a:cubicBezTo>
                    <a:cubicBezTo>
                      <a:pt x="2943" y="1258"/>
                      <a:pt x="2904" y="1258"/>
                      <a:pt x="2840" y="1264"/>
                    </a:cubicBezTo>
                    <a:cubicBezTo>
                      <a:pt x="2776" y="1285"/>
                      <a:pt x="2740" y="1386"/>
                      <a:pt x="2704" y="1440"/>
                    </a:cubicBezTo>
                    <a:cubicBezTo>
                      <a:pt x="2672" y="1488"/>
                      <a:pt x="2604" y="1499"/>
                      <a:pt x="2552" y="1512"/>
                    </a:cubicBezTo>
                    <a:cubicBezTo>
                      <a:pt x="2536" y="1509"/>
                      <a:pt x="2519" y="1511"/>
                      <a:pt x="2504" y="1504"/>
                    </a:cubicBezTo>
                    <a:cubicBezTo>
                      <a:pt x="2470" y="1489"/>
                      <a:pt x="2468" y="1437"/>
                      <a:pt x="2448" y="1408"/>
                    </a:cubicBezTo>
                    <a:cubicBezTo>
                      <a:pt x="2444" y="1390"/>
                      <a:pt x="2432" y="1340"/>
                      <a:pt x="2424" y="1328"/>
                    </a:cubicBezTo>
                    <a:cubicBezTo>
                      <a:pt x="2402" y="1295"/>
                      <a:pt x="2380" y="1269"/>
                      <a:pt x="2368" y="1232"/>
                    </a:cubicBezTo>
                    <a:cubicBezTo>
                      <a:pt x="2365" y="1200"/>
                      <a:pt x="2364" y="1168"/>
                      <a:pt x="2360" y="1136"/>
                    </a:cubicBezTo>
                    <a:cubicBezTo>
                      <a:pt x="2358" y="1122"/>
                      <a:pt x="2362" y="1106"/>
                      <a:pt x="2352" y="1096"/>
                    </a:cubicBezTo>
                    <a:cubicBezTo>
                      <a:pt x="2340" y="1084"/>
                      <a:pt x="2318" y="1089"/>
                      <a:pt x="2304" y="1080"/>
                    </a:cubicBezTo>
                    <a:cubicBezTo>
                      <a:pt x="2230" y="1030"/>
                      <a:pt x="2132" y="1040"/>
                      <a:pt x="2048" y="1016"/>
                    </a:cubicBezTo>
                    <a:cubicBezTo>
                      <a:pt x="2004" y="1003"/>
                      <a:pt x="1966" y="969"/>
                      <a:pt x="1928" y="944"/>
                    </a:cubicBezTo>
                    <a:cubicBezTo>
                      <a:pt x="1914" y="935"/>
                      <a:pt x="1880" y="928"/>
                      <a:pt x="1880" y="928"/>
                    </a:cubicBezTo>
                    <a:cubicBezTo>
                      <a:pt x="1846" y="894"/>
                      <a:pt x="1826" y="906"/>
                      <a:pt x="1792" y="872"/>
                    </a:cubicBezTo>
                    <a:cubicBezTo>
                      <a:pt x="1748" y="740"/>
                      <a:pt x="1783" y="600"/>
                      <a:pt x="1760" y="464"/>
                    </a:cubicBezTo>
                    <a:cubicBezTo>
                      <a:pt x="1766" y="380"/>
                      <a:pt x="1773" y="331"/>
                      <a:pt x="1792" y="256"/>
                    </a:cubicBezTo>
                    <a:cubicBezTo>
                      <a:pt x="1789" y="232"/>
                      <a:pt x="1792" y="207"/>
                      <a:pt x="1784" y="184"/>
                    </a:cubicBezTo>
                    <a:cubicBezTo>
                      <a:pt x="1780" y="173"/>
                      <a:pt x="1766" y="169"/>
                      <a:pt x="1760" y="160"/>
                    </a:cubicBezTo>
                    <a:cubicBezTo>
                      <a:pt x="1755" y="153"/>
                      <a:pt x="1757" y="143"/>
                      <a:pt x="1752" y="136"/>
                    </a:cubicBezTo>
                    <a:cubicBezTo>
                      <a:pt x="1727" y="105"/>
                      <a:pt x="1675" y="100"/>
                      <a:pt x="1640" y="88"/>
                    </a:cubicBezTo>
                    <a:cubicBezTo>
                      <a:pt x="1602" y="50"/>
                      <a:pt x="1589" y="36"/>
                      <a:pt x="1544" y="16"/>
                    </a:cubicBezTo>
                    <a:cubicBezTo>
                      <a:pt x="1529" y="9"/>
                      <a:pt x="1496" y="0"/>
                      <a:pt x="1496" y="0"/>
                    </a:cubicBezTo>
                    <a:cubicBezTo>
                      <a:pt x="1489" y="1"/>
                      <a:pt x="1398" y="11"/>
                      <a:pt x="1384" y="16"/>
                    </a:cubicBezTo>
                    <a:cubicBezTo>
                      <a:pt x="1367" y="22"/>
                      <a:pt x="1353" y="34"/>
                      <a:pt x="1336" y="40"/>
                    </a:cubicBezTo>
                    <a:cubicBezTo>
                      <a:pt x="1297" y="69"/>
                      <a:pt x="1273" y="103"/>
                      <a:pt x="1240" y="136"/>
                    </a:cubicBezTo>
                    <a:cubicBezTo>
                      <a:pt x="1199" y="258"/>
                      <a:pt x="1248" y="98"/>
                      <a:pt x="1216" y="352"/>
                    </a:cubicBezTo>
                    <a:cubicBezTo>
                      <a:pt x="1212" y="385"/>
                      <a:pt x="1111" y="430"/>
                      <a:pt x="1080" y="440"/>
                    </a:cubicBezTo>
                    <a:cubicBezTo>
                      <a:pt x="1062" y="454"/>
                      <a:pt x="1039" y="463"/>
                      <a:pt x="1024" y="480"/>
                    </a:cubicBezTo>
                    <a:cubicBezTo>
                      <a:pt x="1011" y="494"/>
                      <a:pt x="992" y="528"/>
                      <a:pt x="992" y="528"/>
                    </a:cubicBezTo>
                    <a:cubicBezTo>
                      <a:pt x="984" y="578"/>
                      <a:pt x="979" y="625"/>
                      <a:pt x="960" y="672"/>
                    </a:cubicBezTo>
                    <a:cubicBezTo>
                      <a:pt x="966" y="866"/>
                      <a:pt x="975" y="928"/>
                      <a:pt x="960" y="1104"/>
                    </a:cubicBezTo>
                    <a:cubicBezTo>
                      <a:pt x="957" y="1139"/>
                      <a:pt x="928" y="1178"/>
                      <a:pt x="896" y="1192"/>
                    </a:cubicBezTo>
                    <a:cubicBezTo>
                      <a:pt x="881" y="1199"/>
                      <a:pt x="848" y="1208"/>
                      <a:pt x="848" y="1208"/>
                    </a:cubicBezTo>
                    <a:cubicBezTo>
                      <a:pt x="791" y="1205"/>
                      <a:pt x="716" y="1221"/>
                      <a:pt x="664" y="1184"/>
                    </a:cubicBezTo>
                    <a:cubicBezTo>
                      <a:pt x="655" y="1177"/>
                      <a:pt x="650" y="1165"/>
                      <a:pt x="640" y="1160"/>
                    </a:cubicBezTo>
                    <a:cubicBezTo>
                      <a:pt x="620" y="1151"/>
                      <a:pt x="576" y="1144"/>
                      <a:pt x="576" y="1144"/>
                    </a:cubicBezTo>
                    <a:cubicBezTo>
                      <a:pt x="555" y="1146"/>
                      <a:pt x="489" y="1144"/>
                      <a:pt x="456" y="1160"/>
                    </a:cubicBezTo>
                    <a:cubicBezTo>
                      <a:pt x="405" y="1185"/>
                      <a:pt x="397" y="1212"/>
                      <a:pt x="336" y="1232"/>
                    </a:cubicBezTo>
                    <a:cubicBezTo>
                      <a:pt x="290" y="1247"/>
                      <a:pt x="240" y="1237"/>
                      <a:pt x="192" y="1240"/>
                    </a:cubicBezTo>
                    <a:cubicBezTo>
                      <a:pt x="163" y="1284"/>
                      <a:pt x="183" y="1246"/>
                      <a:pt x="168" y="1320"/>
                    </a:cubicBezTo>
                    <a:cubicBezTo>
                      <a:pt x="163" y="1347"/>
                      <a:pt x="145" y="1366"/>
                      <a:pt x="136" y="1392"/>
                    </a:cubicBezTo>
                    <a:cubicBezTo>
                      <a:pt x="133" y="1435"/>
                      <a:pt x="141" y="1479"/>
                      <a:pt x="128" y="1520"/>
                    </a:cubicBezTo>
                    <a:cubicBezTo>
                      <a:pt x="121" y="1542"/>
                      <a:pt x="80" y="1568"/>
                      <a:pt x="80" y="1568"/>
                    </a:cubicBezTo>
                    <a:cubicBezTo>
                      <a:pt x="77" y="1576"/>
                      <a:pt x="71" y="1584"/>
                      <a:pt x="72" y="1592"/>
                    </a:cubicBezTo>
                    <a:cubicBezTo>
                      <a:pt x="74" y="1609"/>
                      <a:pt x="88" y="1640"/>
                      <a:pt x="88" y="1640"/>
                    </a:cubicBezTo>
                    <a:cubicBezTo>
                      <a:pt x="85" y="1661"/>
                      <a:pt x="87" y="1684"/>
                      <a:pt x="80" y="1704"/>
                    </a:cubicBezTo>
                    <a:cubicBezTo>
                      <a:pt x="68" y="1739"/>
                      <a:pt x="28" y="1765"/>
                      <a:pt x="16" y="1800"/>
                    </a:cubicBezTo>
                    <a:cubicBezTo>
                      <a:pt x="3" y="1839"/>
                      <a:pt x="9" y="1816"/>
                      <a:pt x="0" y="1872"/>
                    </a:cubicBezTo>
                    <a:cubicBezTo>
                      <a:pt x="26" y="1949"/>
                      <a:pt x="24" y="1926"/>
                      <a:pt x="16" y="2040"/>
                    </a:cubicBezTo>
                    <a:cubicBezTo>
                      <a:pt x="30" y="2136"/>
                      <a:pt x="6" y="2070"/>
                      <a:pt x="48" y="2112"/>
                    </a:cubicBezTo>
                    <a:cubicBezTo>
                      <a:pt x="92" y="2156"/>
                      <a:pt x="19" y="2130"/>
                      <a:pt x="128" y="2144"/>
                    </a:cubicBezTo>
                    <a:cubicBezTo>
                      <a:pt x="196" y="2212"/>
                      <a:pt x="270" y="2250"/>
                      <a:pt x="360" y="2280"/>
                    </a:cubicBezTo>
                    <a:cubicBezTo>
                      <a:pt x="481" y="2270"/>
                      <a:pt x="546" y="2243"/>
                      <a:pt x="656" y="2216"/>
                    </a:cubicBezTo>
                    <a:cubicBezTo>
                      <a:pt x="730" y="2170"/>
                      <a:pt x="800" y="2120"/>
                      <a:pt x="872" y="2072"/>
                    </a:cubicBezTo>
                    <a:cubicBezTo>
                      <a:pt x="902" y="2052"/>
                      <a:pt x="944" y="2040"/>
                      <a:pt x="976" y="2024"/>
                    </a:cubicBezTo>
                    <a:cubicBezTo>
                      <a:pt x="1013" y="2005"/>
                      <a:pt x="1036" y="1964"/>
                      <a:pt x="1072" y="1944"/>
                    </a:cubicBezTo>
                    <a:cubicBezTo>
                      <a:pt x="1094" y="1932"/>
                      <a:pt x="1127" y="1927"/>
                      <a:pt x="1152" y="1920"/>
                    </a:cubicBezTo>
                    <a:cubicBezTo>
                      <a:pt x="1192" y="1908"/>
                      <a:pt x="1224" y="1896"/>
                      <a:pt x="1264" y="1888"/>
                    </a:cubicBezTo>
                    <a:cubicBezTo>
                      <a:pt x="1291" y="1891"/>
                      <a:pt x="1319" y="1888"/>
                      <a:pt x="1344" y="1896"/>
                    </a:cubicBezTo>
                    <a:cubicBezTo>
                      <a:pt x="1396" y="1913"/>
                      <a:pt x="1326" y="1986"/>
                      <a:pt x="1312" y="2000"/>
                    </a:cubicBezTo>
                    <a:cubicBezTo>
                      <a:pt x="1296" y="2048"/>
                      <a:pt x="1280" y="2044"/>
                      <a:pt x="1320" y="2064"/>
                    </a:cubicBezTo>
                    <a:cubicBezTo>
                      <a:pt x="1328" y="2068"/>
                      <a:pt x="1336" y="2069"/>
                      <a:pt x="1344" y="2072"/>
                    </a:cubicBezTo>
                    <a:cubicBezTo>
                      <a:pt x="1387" y="2068"/>
                      <a:pt x="1435" y="2078"/>
                      <a:pt x="1472" y="2056"/>
                    </a:cubicBezTo>
                    <a:cubicBezTo>
                      <a:pt x="1492" y="2045"/>
                      <a:pt x="1520" y="2008"/>
                      <a:pt x="1520" y="2008"/>
                    </a:cubicBezTo>
                    <a:cubicBezTo>
                      <a:pt x="1527" y="1969"/>
                      <a:pt x="1524" y="1915"/>
                      <a:pt x="1544" y="1880"/>
                    </a:cubicBezTo>
                    <a:cubicBezTo>
                      <a:pt x="1553" y="1863"/>
                      <a:pt x="1560" y="1843"/>
                      <a:pt x="1576" y="1832"/>
                    </a:cubicBezTo>
                    <a:cubicBezTo>
                      <a:pt x="1592" y="1821"/>
                      <a:pt x="1624" y="1800"/>
                      <a:pt x="1624" y="1800"/>
                    </a:cubicBezTo>
                    <a:cubicBezTo>
                      <a:pt x="1647" y="1765"/>
                      <a:pt x="1673" y="1738"/>
                      <a:pt x="1696" y="1704"/>
                    </a:cubicBezTo>
                    <a:cubicBezTo>
                      <a:pt x="1705" y="1652"/>
                      <a:pt x="1710" y="1644"/>
                      <a:pt x="1752" y="1616"/>
                    </a:cubicBezTo>
                    <a:cubicBezTo>
                      <a:pt x="1803" y="1626"/>
                      <a:pt x="1823" y="1638"/>
                      <a:pt x="1840" y="1688"/>
                    </a:cubicBezTo>
                    <a:cubicBezTo>
                      <a:pt x="1831" y="1762"/>
                      <a:pt x="1832" y="1745"/>
                      <a:pt x="1808" y="1800"/>
                    </a:cubicBezTo>
                    <a:cubicBezTo>
                      <a:pt x="1801" y="1815"/>
                      <a:pt x="1792" y="1848"/>
                      <a:pt x="1792" y="1848"/>
                    </a:cubicBezTo>
                    <a:cubicBezTo>
                      <a:pt x="1795" y="1856"/>
                      <a:pt x="1793" y="1867"/>
                      <a:pt x="1800" y="1872"/>
                    </a:cubicBezTo>
                    <a:cubicBezTo>
                      <a:pt x="1816" y="1884"/>
                      <a:pt x="1904" y="1909"/>
                      <a:pt x="1920" y="1912"/>
                    </a:cubicBezTo>
                    <a:cubicBezTo>
                      <a:pt x="1953" y="1961"/>
                      <a:pt x="1916" y="1913"/>
                      <a:pt x="1960" y="1952"/>
                    </a:cubicBezTo>
                    <a:cubicBezTo>
                      <a:pt x="2001" y="1988"/>
                      <a:pt x="2027" y="2022"/>
                      <a:pt x="2080" y="2040"/>
                    </a:cubicBezTo>
                    <a:cubicBezTo>
                      <a:pt x="2103" y="2063"/>
                      <a:pt x="2124" y="2088"/>
                      <a:pt x="2144" y="2112"/>
                    </a:cubicBezTo>
                    <a:cubicBezTo>
                      <a:pt x="2155" y="2126"/>
                      <a:pt x="2155" y="2147"/>
                      <a:pt x="2168" y="2160"/>
                    </a:cubicBezTo>
                    <a:cubicBezTo>
                      <a:pt x="2182" y="2174"/>
                      <a:pt x="2200" y="2181"/>
                      <a:pt x="2216" y="2192"/>
                    </a:cubicBezTo>
                    <a:cubicBezTo>
                      <a:pt x="2254" y="2217"/>
                      <a:pt x="2225" y="2215"/>
                      <a:pt x="2264" y="2232"/>
                    </a:cubicBezTo>
                    <a:cubicBezTo>
                      <a:pt x="2303" y="2250"/>
                      <a:pt x="2342" y="2257"/>
                      <a:pt x="2384" y="2264"/>
                    </a:cubicBezTo>
                    <a:cubicBezTo>
                      <a:pt x="2463" y="2256"/>
                      <a:pt x="2534" y="2236"/>
                      <a:pt x="2600" y="2192"/>
                    </a:cubicBezTo>
                    <a:cubicBezTo>
                      <a:pt x="2623" y="2158"/>
                      <a:pt x="2649" y="2131"/>
                      <a:pt x="2672" y="2096"/>
                    </a:cubicBezTo>
                    <a:cubicBezTo>
                      <a:pt x="2677" y="2089"/>
                      <a:pt x="2675" y="2079"/>
                      <a:pt x="2680" y="2072"/>
                    </a:cubicBezTo>
                    <a:cubicBezTo>
                      <a:pt x="2693" y="2056"/>
                      <a:pt x="2734" y="2028"/>
                      <a:pt x="2752" y="2016"/>
                    </a:cubicBezTo>
                    <a:cubicBezTo>
                      <a:pt x="2804" y="2022"/>
                      <a:pt x="2853" y="2027"/>
                      <a:pt x="2904" y="2040"/>
                    </a:cubicBezTo>
                    <a:cubicBezTo>
                      <a:pt x="2931" y="2037"/>
                      <a:pt x="2958" y="2038"/>
                      <a:pt x="2984" y="2032"/>
                    </a:cubicBezTo>
                    <a:cubicBezTo>
                      <a:pt x="3010" y="2026"/>
                      <a:pt x="3030" y="1983"/>
                      <a:pt x="3040" y="1968"/>
                    </a:cubicBezTo>
                    <a:cubicBezTo>
                      <a:pt x="3074" y="1917"/>
                      <a:pt x="3080" y="1872"/>
                      <a:pt x="3128" y="1824"/>
                    </a:cubicBezTo>
                    <a:cubicBezTo>
                      <a:pt x="3153" y="1799"/>
                      <a:pt x="3164" y="1809"/>
                      <a:pt x="3200" y="1800"/>
                    </a:cubicBezTo>
                    <a:cubicBezTo>
                      <a:pt x="3240" y="1790"/>
                      <a:pt x="3280" y="1778"/>
                      <a:pt x="3320" y="1768"/>
                    </a:cubicBezTo>
                    <a:cubicBezTo>
                      <a:pt x="3364" y="1739"/>
                      <a:pt x="3403" y="1701"/>
                      <a:pt x="3440" y="1664"/>
                    </a:cubicBezTo>
                    <a:cubicBezTo>
                      <a:pt x="3455" y="1649"/>
                      <a:pt x="3560" y="1630"/>
                      <a:pt x="3584" y="1624"/>
                    </a:cubicBezTo>
                    <a:cubicBezTo>
                      <a:pt x="3608" y="1627"/>
                      <a:pt x="3633" y="1624"/>
                      <a:pt x="3656" y="1632"/>
                    </a:cubicBezTo>
                    <a:cubicBezTo>
                      <a:pt x="3667" y="1636"/>
                      <a:pt x="3675" y="1646"/>
                      <a:pt x="3680" y="1656"/>
                    </a:cubicBezTo>
                    <a:cubicBezTo>
                      <a:pt x="3688" y="1671"/>
                      <a:pt x="3687" y="1690"/>
                      <a:pt x="3696" y="1704"/>
                    </a:cubicBezTo>
                    <a:cubicBezTo>
                      <a:pt x="3713" y="1730"/>
                      <a:pt x="3735" y="1750"/>
                      <a:pt x="3752" y="1776"/>
                    </a:cubicBezTo>
                    <a:cubicBezTo>
                      <a:pt x="3768" y="1839"/>
                      <a:pt x="3769" y="1878"/>
                      <a:pt x="3840" y="1896"/>
                    </a:cubicBezTo>
                    <a:cubicBezTo>
                      <a:pt x="3880" y="1893"/>
                      <a:pt x="3920" y="1893"/>
                      <a:pt x="3960" y="1888"/>
                    </a:cubicBezTo>
                    <a:cubicBezTo>
                      <a:pt x="3982" y="1885"/>
                      <a:pt x="4024" y="1872"/>
                      <a:pt x="4024" y="1872"/>
                    </a:cubicBezTo>
                    <a:cubicBezTo>
                      <a:pt x="4076" y="1833"/>
                      <a:pt x="4122" y="1801"/>
                      <a:pt x="4144" y="1736"/>
                    </a:cubicBezTo>
                    <a:cubicBezTo>
                      <a:pt x="4141" y="1709"/>
                      <a:pt x="4140" y="1682"/>
                      <a:pt x="4136" y="1656"/>
                    </a:cubicBezTo>
                    <a:cubicBezTo>
                      <a:pt x="4131" y="1623"/>
                      <a:pt x="4104" y="1591"/>
                      <a:pt x="4120" y="1560"/>
                    </a:cubicBezTo>
                    <a:close/>
                  </a:path>
                </a:pathLst>
              </a:custGeom>
              <a:solidFill>
                <a:srgbClr val="c0c0c0"/>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82" name=""/>
              <p:cNvSpPr/>
              <p:nvPr/>
            </p:nvSpPr>
            <p:spPr>
              <a:xfrm rot="5400000">
                <a:off x="2241720" y="3415320"/>
                <a:ext cx="4022640" cy="734760"/>
              </a:xfrm>
              <a:custGeom>
                <a:avLst/>
                <a:gdLst/>
                <a:ahLst/>
                <a:rect l="l" t="t" r="r" b="b"/>
                <a:pathLst>
                  <a:path w="6152" h="800">
                    <a:moveTo>
                      <a:pt x="0" y="584"/>
                    </a:moveTo>
                    <a:cubicBezTo>
                      <a:pt x="28" y="600"/>
                      <a:pt x="56" y="616"/>
                      <a:pt x="96" y="632"/>
                    </a:cubicBezTo>
                    <a:cubicBezTo>
                      <a:pt x="136" y="648"/>
                      <a:pt x="200" y="688"/>
                      <a:pt x="240" y="680"/>
                    </a:cubicBezTo>
                    <a:cubicBezTo>
                      <a:pt x="280" y="672"/>
                      <a:pt x="304" y="608"/>
                      <a:pt x="336" y="584"/>
                    </a:cubicBezTo>
                    <a:cubicBezTo>
                      <a:pt x="368" y="560"/>
                      <a:pt x="384" y="536"/>
                      <a:pt x="432" y="536"/>
                    </a:cubicBezTo>
                    <a:cubicBezTo>
                      <a:pt x="480" y="536"/>
                      <a:pt x="544" y="576"/>
                      <a:pt x="624" y="584"/>
                    </a:cubicBezTo>
                    <a:cubicBezTo>
                      <a:pt x="704" y="592"/>
                      <a:pt x="840" y="616"/>
                      <a:pt x="912" y="584"/>
                    </a:cubicBezTo>
                    <a:cubicBezTo>
                      <a:pt x="984" y="552"/>
                      <a:pt x="992" y="456"/>
                      <a:pt x="1056" y="392"/>
                    </a:cubicBezTo>
                    <a:cubicBezTo>
                      <a:pt x="1120" y="328"/>
                      <a:pt x="1224" y="224"/>
                      <a:pt x="1296" y="200"/>
                    </a:cubicBezTo>
                    <a:cubicBezTo>
                      <a:pt x="1368" y="176"/>
                      <a:pt x="1432" y="216"/>
                      <a:pt x="1488" y="248"/>
                    </a:cubicBezTo>
                    <a:cubicBezTo>
                      <a:pt x="1544" y="280"/>
                      <a:pt x="1560" y="392"/>
                      <a:pt x="1632" y="392"/>
                    </a:cubicBezTo>
                    <a:cubicBezTo>
                      <a:pt x="1704" y="392"/>
                      <a:pt x="1856" y="304"/>
                      <a:pt x="1920" y="248"/>
                    </a:cubicBezTo>
                    <a:cubicBezTo>
                      <a:pt x="1984" y="192"/>
                      <a:pt x="1952" y="96"/>
                      <a:pt x="2016" y="56"/>
                    </a:cubicBezTo>
                    <a:cubicBezTo>
                      <a:pt x="2080" y="16"/>
                      <a:pt x="2240" y="0"/>
                      <a:pt x="2304" y="8"/>
                    </a:cubicBezTo>
                    <a:cubicBezTo>
                      <a:pt x="2368" y="16"/>
                      <a:pt x="2384" y="56"/>
                      <a:pt x="2400" y="104"/>
                    </a:cubicBezTo>
                    <a:cubicBezTo>
                      <a:pt x="2416" y="152"/>
                      <a:pt x="2384" y="248"/>
                      <a:pt x="2400" y="296"/>
                    </a:cubicBezTo>
                    <a:cubicBezTo>
                      <a:pt x="2416" y="344"/>
                      <a:pt x="2456" y="376"/>
                      <a:pt x="2496" y="392"/>
                    </a:cubicBezTo>
                    <a:cubicBezTo>
                      <a:pt x="2536" y="408"/>
                      <a:pt x="2576" y="432"/>
                      <a:pt x="2640" y="392"/>
                    </a:cubicBezTo>
                    <a:cubicBezTo>
                      <a:pt x="2704" y="352"/>
                      <a:pt x="2824" y="192"/>
                      <a:pt x="2880" y="152"/>
                    </a:cubicBezTo>
                    <a:cubicBezTo>
                      <a:pt x="2936" y="112"/>
                      <a:pt x="2960" y="136"/>
                      <a:pt x="2976" y="152"/>
                    </a:cubicBezTo>
                    <a:cubicBezTo>
                      <a:pt x="2992" y="168"/>
                      <a:pt x="2976" y="208"/>
                      <a:pt x="2976" y="248"/>
                    </a:cubicBezTo>
                    <a:cubicBezTo>
                      <a:pt x="2976" y="288"/>
                      <a:pt x="2944" y="384"/>
                      <a:pt x="2976" y="392"/>
                    </a:cubicBezTo>
                    <a:cubicBezTo>
                      <a:pt x="3008" y="400"/>
                      <a:pt x="3128" y="288"/>
                      <a:pt x="3168" y="296"/>
                    </a:cubicBezTo>
                    <a:cubicBezTo>
                      <a:pt x="3208" y="304"/>
                      <a:pt x="3232" y="392"/>
                      <a:pt x="3216" y="440"/>
                    </a:cubicBezTo>
                    <a:cubicBezTo>
                      <a:pt x="3200" y="488"/>
                      <a:pt x="3112" y="552"/>
                      <a:pt x="3072" y="584"/>
                    </a:cubicBezTo>
                    <a:cubicBezTo>
                      <a:pt x="3032" y="616"/>
                      <a:pt x="2992" y="600"/>
                      <a:pt x="2976" y="632"/>
                    </a:cubicBezTo>
                    <a:cubicBezTo>
                      <a:pt x="2960" y="664"/>
                      <a:pt x="2936" y="752"/>
                      <a:pt x="2976" y="776"/>
                    </a:cubicBezTo>
                    <a:cubicBezTo>
                      <a:pt x="3016" y="800"/>
                      <a:pt x="3144" y="792"/>
                      <a:pt x="3216" y="776"/>
                    </a:cubicBezTo>
                    <a:cubicBezTo>
                      <a:pt x="3288" y="760"/>
                      <a:pt x="3336" y="704"/>
                      <a:pt x="3408" y="680"/>
                    </a:cubicBezTo>
                    <a:cubicBezTo>
                      <a:pt x="3480" y="656"/>
                      <a:pt x="3568" y="640"/>
                      <a:pt x="3648" y="632"/>
                    </a:cubicBezTo>
                    <a:cubicBezTo>
                      <a:pt x="3728" y="624"/>
                      <a:pt x="3816" y="648"/>
                      <a:pt x="3888" y="632"/>
                    </a:cubicBezTo>
                    <a:cubicBezTo>
                      <a:pt x="3960" y="616"/>
                      <a:pt x="4032" y="584"/>
                      <a:pt x="4080" y="536"/>
                    </a:cubicBezTo>
                    <a:cubicBezTo>
                      <a:pt x="4128" y="488"/>
                      <a:pt x="4136" y="376"/>
                      <a:pt x="4176" y="344"/>
                    </a:cubicBezTo>
                    <a:cubicBezTo>
                      <a:pt x="4216" y="312"/>
                      <a:pt x="4288" y="328"/>
                      <a:pt x="4320" y="344"/>
                    </a:cubicBezTo>
                    <a:cubicBezTo>
                      <a:pt x="4352" y="360"/>
                      <a:pt x="4320" y="440"/>
                      <a:pt x="4368" y="440"/>
                    </a:cubicBezTo>
                    <a:cubicBezTo>
                      <a:pt x="4416" y="440"/>
                      <a:pt x="4552" y="344"/>
                      <a:pt x="4608" y="344"/>
                    </a:cubicBezTo>
                    <a:cubicBezTo>
                      <a:pt x="4664" y="344"/>
                      <a:pt x="4696" y="408"/>
                      <a:pt x="4704" y="440"/>
                    </a:cubicBezTo>
                    <a:cubicBezTo>
                      <a:pt x="4712" y="472"/>
                      <a:pt x="4648" y="512"/>
                      <a:pt x="4656" y="536"/>
                    </a:cubicBezTo>
                    <a:cubicBezTo>
                      <a:pt x="4664" y="560"/>
                      <a:pt x="4712" y="608"/>
                      <a:pt x="4752" y="584"/>
                    </a:cubicBezTo>
                    <a:cubicBezTo>
                      <a:pt x="4792" y="560"/>
                      <a:pt x="4832" y="440"/>
                      <a:pt x="4896" y="392"/>
                    </a:cubicBezTo>
                    <a:cubicBezTo>
                      <a:pt x="4960" y="344"/>
                      <a:pt x="5072" y="304"/>
                      <a:pt x="5136" y="296"/>
                    </a:cubicBezTo>
                    <a:cubicBezTo>
                      <a:pt x="5200" y="288"/>
                      <a:pt x="5232" y="328"/>
                      <a:pt x="5280" y="344"/>
                    </a:cubicBezTo>
                    <a:cubicBezTo>
                      <a:pt x="5328" y="360"/>
                      <a:pt x="5360" y="376"/>
                      <a:pt x="5424" y="392"/>
                    </a:cubicBezTo>
                    <a:cubicBezTo>
                      <a:pt x="5488" y="408"/>
                      <a:pt x="5600" y="400"/>
                      <a:pt x="5664" y="440"/>
                    </a:cubicBezTo>
                    <a:cubicBezTo>
                      <a:pt x="5728" y="480"/>
                      <a:pt x="5736" y="600"/>
                      <a:pt x="5808" y="632"/>
                    </a:cubicBezTo>
                    <a:cubicBezTo>
                      <a:pt x="5880" y="664"/>
                      <a:pt x="6040" y="640"/>
                      <a:pt x="6096" y="632"/>
                    </a:cubicBezTo>
                    <a:cubicBezTo>
                      <a:pt x="6152" y="624"/>
                      <a:pt x="6136" y="600"/>
                      <a:pt x="6144" y="584"/>
                    </a:cubicBezTo>
                    <a:cubicBezTo>
                      <a:pt x="6152" y="568"/>
                      <a:pt x="6148" y="552"/>
                      <a:pt x="6144" y="536"/>
                    </a:cubicBezTo>
                  </a:path>
                </a:pathLst>
              </a:custGeom>
              <a:noFill/>
              <a:ln w="38160">
                <a:solidFill>
                  <a:srgbClr val="33cc3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rot="5400000">
                <a:off x="3465720" y="3825000"/>
                <a:ext cx="1474920" cy="631440"/>
              </a:xfrm>
              <a:custGeom>
                <a:avLst/>
                <a:gdLst/>
                <a:ahLst/>
                <a:rect l="l" t="t" r="r" b="b"/>
                <a:pathLst>
                  <a:path w="929" h="398">
                    <a:moveTo>
                      <a:pt x="0" y="162"/>
                    </a:moveTo>
                    <a:cubicBezTo>
                      <a:pt x="10" y="162"/>
                      <a:pt x="33" y="185"/>
                      <a:pt x="59" y="162"/>
                    </a:cubicBezTo>
                    <a:cubicBezTo>
                      <a:pt x="86" y="139"/>
                      <a:pt x="135" y="46"/>
                      <a:pt x="158" y="23"/>
                    </a:cubicBezTo>
                    <a:cubicBezTo>
                      <a:pt x="181" y="0"/>
                      <a:pt x="191" y="14"/>
                      <a:pt x="198" y="23"/>
                    </a:cubicBezTo>
                    <a:cubicBezTo>
                      <a:pt x="204" y="32"/>
                      <a:pt x="198" y="55"/>
                      <a:pt x="198" y="79"/>
                    </a:cubicBezTo>
                    <a:cubicBezTo>
                      <a:pt x="198" y="102"/>
                      <a:pt x="185" y="157"/>
                      <a:pt x="198" y="162"/>
                    </a:cubicBezTo>
                    <a:cubicBezTo>
                      <a:pt x="211" y="167"/>
                      <a:pt x="260" y="102"/>
                      <a:pt x="277" y="106"/>
                    </a:cubicBezTo>
                    <a:cubicBezTo>
                      <a:pt x="293" y="111"/>
                      <a:pt x="303" y="162"/>
                      <a:pt x="297" y="190"/>
                    </a:cubicBezTo>
                    <a:cubicBezTo>
                      <a:pt x="290" y="217"/>
                      <a:pt x="254" y="254"/>
                      <a:pt x="237" y="273"/>
                    </a:cubicBezTo>
                    <a:cubicBezTo>
                      <a:pt x="221" y="292"/>
                      <a:pt x="204" y="282"/>
                      <a:pt x="198" y="301"/>
                    </a:cubicBezTo>
                    <a:cubicBezTo>
                      <a:pt x="191" y="319"/>
                      <a:pt x="181" y="370"/>
                      <a:pt x="198" y="384"/>
                    </a:cubicBezTo>
                    <a:cubicBezTo>
                      <a:pt x="214" y="398"/>
                      <a:pt x="267" y="393"/>
                      <a:pt x="297" y="384"/>
                    </a:cubicBezTo>
                    <a:cubicBezTo>
                      <a:pt x="326" y="375"/>
                      <a:pt x="346" y="342"/>
                      <a:pt x="376" y="329"/>
                    </a:cubicBezTo>
                    <a:cubicBezTo>
                      <a:pt x="405" y="315"/>
                      <a:pt x="442" y="305"/>
                      <a:pt x="475" y="301"/>
                    </a:cubicBezTo>
                    <a:cubicBezTo>
                      <a:pt x="508" y="296"/>
                      <a:pt x="544" y="310"/>
                      <a:pt x="573" y="301"/>
                    </a:cubicBezTo>
                    <a:cubicBezTo>
                      <a:pt x="603" y="292"/>
                      <a:pt x="633" y="273"/>
                      <a:pt x="653" y="245"/>
                    </a:cubicBezTo>
                    <a:cubicBezTo>
                      <a:pt x="672" y="217"/>
                      <a:pt x="676" y="153"/>
                      <a:pt x="692" y="134"/>
                    </a:cubicBezTo>
                    <a:cubicBezTo>
                      <a:pt x="709" y="116"/>
                      <a:pt x="738" y="125"/>
                      <a:pt x="751" y="134"/>
                    </a:cubicBezTo>
                    <a:cubicBezTo>
                      <a:pt x="765" y="143"/>
                      <a:pt x="751" y="190"/>
                      <a:pt x="771" y="190"/>
                    </a:cubicBezTo>
                    <a:cubicBezTo>
                      <a:pt x="791" y="190"/>
                      <a:pt x="847" y="134"/>
                      <a:pt x="870" y="134"/>
                    </a:cubicBezTo>
                    <a:cubicBezTo>
                      <a:pt x="893" y="134"/>
                      <a:pt x="906" y="171"/>
                      <a:pt x="910" y="190"/>
                    </a:cubicBezTo>
                    <a:cubicBezTo>
                      <a:pt x="913" y="208"/>
                      <a:pt x="887" y="231"/>
                      <a:pt x="890" y="245"/>
                    </a:cubicBezTo>
                    <a:cubicBezTo>
                      <a:pt x="893" y="259"/>
                      <a:pt x="922" y="268"/>
                      <a:pt x="929" y="273"/>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rot="5400000">
                <a:off x="3720600" y="5157720"/>
                <a:ext cx="925200" cy="347400"/>
              </a:xfrm>
              <a:custGeom>
                <a:avLst/>
                <a:gdLst/>
                <a:ahLst/>
                <a:rect l="l" t="t" r="r" b="b"/>
                <a:pathLst>
                  <a:path w="583" h="219">
                    <a:moveTo>
                      <a:pt x="0" y="186"/>
                    </a:moveTo>
                    <a:cubicBezTo>
                      <a:pt x="11" y="165"/>
                      <a:pt x="40" y="90"/>
                      <a:pt x="67" y="60"/>
                    </a:cubicBezTo>
                    <a:cubicBezTo>
                      <a:pt x="94" y="30"/>
                      <a:pt x="137" y="8"/>
                      <a:pt x="163" y="4"/>
                    </a:cubicBezTo>
                    <a:cubicBezTo>
                      <a:pt x="189" y="0"/>
                      <a:pt x="202" y="27"/>
                      <a:pt x="223" y="36"/>
                    </a:cubicBezTo>
                    <a:cubicBezTo>
                      <a:pt x="244" y="45"/>
                      <a:pt x="261" y="50"/>
                      <a:pt x="289" y="60"/>
                    </a:cubicBezTo>
                    <a:cubicBezTo>
                      <a:pt x="317" y="70"/>
                      <a:pt x="367" y="75"/>
                      <a:pt x="391" y="96"/>
                    </a:cubicBezTo>
                    <a:cubicBezTo>
                      <a:pt x="415" y="117"/>
                      <a:pt x="416" y="168"/>
                      <a:pt x="431" y="188"/>
                    </a:cubicBezTo>
                    <a:cubicBezTo>
                      <a:pt x="446" y="208"/>
                      <a:pt x="462" y="213"/>
                      <a:pt x="479" y="216"/>
                    </a:cubicBezTo>
                    <a:cubicBezTo>
                      <a:pt x="496" y="219"/>
                      <a:pt x="515" y="209"/>
                      <a:pt x="531" y="204"/>
                    </a:cubicBezTo>
                    <a:cubicBezTo>
                      <a:pt x="547" y="199"/>
                      <a:pt x="565" y="195"/>
                      <a:pt x="574" y="186"/>
                    </a:cubicBezTo>
                    <a:cubicBezTo>
                      <a:pt x="583" y="177"/>
                      <a:pt x="581" y="156"/>
                      <a:pt x="583" y="148"/>
                    </a:cubicBezTo>
                  </a:path>
                </a:pathLst>
              </a:custGeom>
              <a:noFill/>
              <a:ln w="38160">
                <a:solidFill>
                  <a:srgbClr val="ff66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5" name=""/>
            <p:cNvSpPr/>
            <p:nvPr/>
          </p:nvSpPr>
          <p:spPr>
            <a:xfrm rot="5400000">
              <a:off x="4724640" y="2412360"/>
              <a:ext cx="770040" cy="1076040"/>
            </a:xfrm>
            <a:custGeom>
              <a:avLst/>
              <a:gdLst/>
              <a:ahLst/>
              <a:rect l="l" t="t" r="r" b="b"/>
              <a:pathLst>
                <a:path w="608" h="1248">
                  <a:moveTo>
                    <a:pt x="224" y="0"/>
                  </a:moveTo>
                  <a:cubicBezTo>
                    <a:pt x="268" y="28"/>
                    <a:pt x="312" y="56"/>
                    <a:pt x="320" y="96"/>
                  </a:cubicBezTo>
                  <a:cubicBezTo>
                    <a:pt x="328" y="136"/>
                    <a:pt x="304" y="208"/>
                    <a:pt x="272" y="240"/>
                  </a:cubicBezTo>
                  <a:cubicBezTo>
                    <a:pt x="240" y="272"/>
                    <a:pt x="152" y="264"/>
                    <a:pt x="128" y="288"/>
                  </a:cubicBezTo>
                  <a:cubicBezTo>
                    <a:pt x="104" y="312"/>
                    <a:pt x="96" y="352"/>
                    <a:pt x="128" y="384"/>
                  </a:cubicBezTo>
                  <a:cubicBezTo>
                    <a:pt x="160" y="416"/>
                    <a:pt x="304" y="440"/>
                    <a:pt x="320" y="480"/>
                  </a:cubicBezTo>
                  <a:cubicBezTo>
                    <a:pt x="336" y="520"/>
                    <a:pt x="272" y="592"/>
                    <a:pt x="224" y="624"/>
                  </a:cubicBezTo>
                  <a:cubicBezTo>
                    <a:pt x="176" y="656"/>
                    <a:pt x="64" y="648"/>
                    <a:pt x="32" y="672"/>
                  </a:cubicBezTo>
                  <a:cubicBezTo>
                    <a:pt x="0" y="696"/>
                    <a:pt x="16" y="744"/>
                    <a:pt x="32" y="768"/>
                  </a:cubicBezTo>
                  <a:cubicBezTo>
                    <a:pt x="48" y="792"/>
                    <a:pt x="120" y="792"/>
                    <a:pt x="128" y="816"/>
                  </a:cubicBezTo>
                  <a:cubicBezTo>
                    <a:pt x="136" y="840"/>
                    <a:pt x="64" y="896"/>
                    <a:pt x="80" y="912"/>
                  </a:cubicBezTo>
                  <a:cubicBezTo>
                    <a:pt x="96" y="928"/>
                    <a:pt x="184" y="904"/>
                    <a:pt x="224" y="912"/>
                  </a:cubicBezTo>
                  <a:cubicBezTo>
                    <a:pt x="264" y="920"/>
                    <a:pt x="296" y="928"/>
                    <a:pt x="320" y="960"/>
                  </a:cubicBezTo>
                  <a:cubicBezTo>
                    <a:pt x="344" y="992"/>
                    <a:pt x="320" y="1056"/>
                    <a:pt x="368" y="1104"/>
                  </a:cubicBezTo>
                  <a:cubicBezTo>
                    <a:pt x="416" y="1152"/>
                    <a:pt x="512" y="1200"/>
                    <a:pt x="608" y="1248"/>
                  </a:cubicBezTo>
                </a:path>
              </a:pathLst>
            </a:custGeom>
            <a:noFill/>
            <a:ln w="12600">
              <a:solidFill>
                <a:srgbClr val="33cc3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6" name=""/>
          <p:cNvSpPr/>
          <p:nvPr/>
        </p:nvSpPr>
        <p:spPr>
          <a:xfrm>
            <a:off x="250920" y="404640"/>
            <a:ext cx="6481800" cy="110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c1c72"/>
                </a:solidFill>
                <a:latin typeface="Arial"/>
              </a:rPr>
              <a:t>Status: what do we want to know?</a:t>
            </a:r>
            <a:endParaRPr b="0" lang="en-US" sz="2800" spc="-1" strike="noStrike">
              <a:solidFill>
                <a:srgbClr val="000000"/>
              </a:solidFill>
              <a:latin typeface="Arial"/>
            </a:endParaRPr>
          </a:p>
        </p:txBody>
      </p:sp>
      <p:sp>
        <p:nvSpPr>
          <p:cNvPr id="187" name=""/>
          <p:cNvSpPr/>
          <p:nvPr/>
        </p:nvSpPr>
        <p:spPr>
          <a:xfrm>
            <a:off x="1476360" y="3716280"/>
            <a:ext cx="165564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Average</a:t>
            </a:r>
            <a:br>
              <a:rPr sz="2000"/>
            </a:br>
            <a:r>
              <a:rPr b="1" lang="en-GB" sz="2000" spc="-1" strike="noStrike">
                <a:solidFill>
                  <a:srgbClr val="000066"/>
                </a:solidFill>
                <a:latin typeface="Arial"/>
              </a:rPr>
              <a:t>status?</a:t>
            </a:r>
            <a:br>
              <a:rPr sz="2000"/>
            </a:br>
            <a:br>
              <a:rPr sz="2000"/>
            </a:br>
            <a:endParaRPr b="0" lang="en-US" sz="2000" spc="-1" strike="noStrike">
              <a:solidFill>
                <a:srgbClr val="000000"/>
              </a:solidFill>
              <a:latin typeface="Arial"/>
            </a:endParaRPr>
          </a:p>
        </p:txBody>
      </p:sp>
      <p:sp>
        <p:nvSpPr>
          <p:cNvPr id="188" name=""/>
          <p:cNvSpPr/>
          <p:nvPr/>
        </p:nvSpPr>
        <p:spPr>
          <a:xfrm>
            <a:off x="2627280" y="1484280"/>
            <a:ext cx="647640" cy="4465800"/>
          </a:xfrm>
          <a:custGeom>
            <a:avLst/>
            <a:gdLst>
              <a:gd name="textAreaLeft" fmla="*/ 414000 w 647640"/>
              <a:gd name="textAreaRight" fmla="*/ 648000 w 647640"/>
              <a:gd name="textAreaTop" fmla="*/ 116280 h 4465800"/>
              <a:gd name="textAreaBottom" fmla="*/ 4349520 h 446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572000" y="5300640"/>
            <a:ext cx="165564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Worst status?</a:t>
            </a:r>
            <a:br>
              <a:rPr sz="2000"/>
            </a:br>
            <a:br>
              <a:rPr sz="2000"/>
            </a:br>
            <a:endParaRPr b="0" lang="en-US" sz="2000" spc="-1" strike="noStrike">
              <a:solidFill>
                <a:srgbClr val="000000"/>
              </a:solidFill>
              <a:latin typeface="Arial"/>
            </a:endParaRPr>
          </a:p>
        </p:txBody>
      </p:sp>
      <p:sp>
        <p:nvSpPr>
          <p:cNvPr id="190" name=""/>
          <p:cNvSpPr/>
          <p:nvPr/>
        </p:nvSpPr>
        <p:spPr>
          <a:xfrm>
            <a:off x="7164360" y="1557360"/>
            <a:ext cx="1800360" cy="79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 or km less than good?</a:t>
            </a:r>
            <a:br>
              <a:rPr sz="2000"/>
            </a:br>
            <a:br>
              <a:rPr sz="2000"/>
            </a:br>
            <a:endParaRPr b="0" lang="en-US" sz="2000" spc="-1" strike="noStrike">
              <a:solidFill>
                <a:srgbClr val="000000"/>
              </a:solidFill>
              <a:latin typeface="Arial"/>
            </a:endParaRPr>
          </a:p>
        </p:txBody>
      </p:sp>
      <p:sp>
        <p:nvSpPr>
          <p:cNvPr id="191" name=""/>
          <p:cNvSpPr/>
          <p:nvPr/>
        </p:nvSpPr>
        <p:spPr>
          <a:xfrm flipV="1">
            <a:off x="7093080" y="1341360"/>
            <a:ext cx="0" cy="4608720"/>
          </a:xfrm>
          <a:prstGeom prst="line">
            <a:avLst/>
          </a:prstGeom>
          <a:ln w="38160">
            <a:solidFill>
              <a:srgbClr val="5c5c5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V="1">
            <a:off x="7093080" y="3357360"/>
            <a:ext cx="0" cy="259236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236000" y="3500280"/>
            <a:ext cx="100800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50%</a:t>
            </a:r>
            <a:br>
              <a:rPr sz="1600"/>
            </a:br>
            <a:br>
              <a:rPr sz="2000"/>
            </a:br>
            <a:endParaRPr b="0" lang="en-US" sz="1600" spc="-1" strike="noStrike">
              <a:solidFill>
                <a:srgbClr val="000000"/>
              </a:solidFill>
              <a:latin typeface="Arial"/>
            </a:endParaRPr>
          </a:p>
        </p:txBody>
      </p:sp>
      <p:sp>
        <p:nvSpPr>
          <p:cNvPr id="194" name=""/>
          <p:cNvSpPr/>
          <p:nvPr/>
        </p:nvSpPr>
        <p:spPr>
          <a:xfrm>
            <a:off x="4932360" y="1557360"/>
            <a:ext cx="165564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Best status?</a:t>
            </a:r>
            <a:br>
              <a:rPr sz="2000"/>
            </a:br>
            <a:br>
              <a:rPr sz="2000"/>
            </a:br>
            <a:endParaRPr b="0" lang="en-US" sz="2000" spc="-1" strike="noStrike">
              <a:solidFill>
                <a:srgbClr val="000000"/>
              </a:solidFill>
              <a:latin typeface="Arial"/>
            </a:endParaRPr>
          </a:p>
        </p:txBody>
      </p:sp>
      <p:sp>
        <p:nvSpPr>
          <p:cNvPr id="195" name=""/>
          <p:cNvSpPr/>
          <p:nvPr/>
        </p:nvSpPr>
        <p:spPr>
          <a:xfrm>
            <a:off x="7164360" y="5157720"/>
            <a:ext cx="136692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15% or 1.5km</a:t>
            </a:r>
            <a:br>
              <a:rPr sz="1400"/>
            </a:br>
            <a:endParaRPr b="0" lang="en-US" sz="1400" spc="-1" strike="noStrike">
              <a:solidFill>
                <a:srgbClr val="000000"/>
              </a:solidFill>
              <a:latin typeface="Arial"/>
            </a:endParaRPr>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187"/>
                                        </p:tgtEl>
                                        <p:attrNameLst>
                                          <p:attrName>style.visibility</p:attrName>
                                        </p:attrNameLst>
                                      </p:cBhvr>
                                      <p:to>
                                        <p:strVal val="visible"/>
                                      </p:to>
                                    </p:set>
                                  </p:childTnLst>
                                </p:cTn>
                              </p:par>
                              <p:par>
                                <p:cTn id="20" nodeType="withEffect" fill="hold" presetClass="entr" presetID="1">
                                  <p:stCondLst>
                                    <p:cond delay="0"/>
                                  </p:stCondLst>
                                  <p:childTnLst>
                                    <p:set>
                                      <p:cBhvr>
                                        <p:cTn id="21" dur="1" fill="hold">
                                          <p:stCondLst>
                                            <p:cond delay="0"/>
                                          </p:stCondLst>
                                        </p:cTn>
                                        <p:tgtEl>
                                          <p:spTgt spid="188"/>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89"/>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91"/>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190"/>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93"/>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192"/>
                                        </p:tgtEl>
                                        <p:attrNameLst>
                                          <p:attrName>style.visibility</p:attrName>
                                        </p:attrNameLst>
                                      </p:cBhvr>
                                      <p:to>
                                        <p:strVal val="visible"/>
                                      </p:to>
                                    </p:set>
                                  </p:childTnLst>
                                </p:cTn>
                              </p:par>
                              <p:par>
                                <p:cTn id="38" nodeType="withEffect" fill="hold" presetClass="entr" presetID="1">
                                  <p:stCondLst>
                                    <p:cond delay="0"/>
                                  </p:stCondLst>
                                  <p:childTnLst>
                                    <p:set>
                                      <p:cBhvr>
                                        <p:cTn id="39" dur="1" fill="hold">
                                          <p:stCondLst>
                                            <p:cond delay="0"/>
                                          </p:stCondLst>
                                        </p:cTn>
                                        <p:tgtEl>
                                          <p:spTgt spid="195"/>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grpSp>
        <p:nvGrpSpPr>
          <p:cNvPr id="196" name=""/>
          <p:cNvGrpSpPr/>
          <p:nvPr/>
        </p:nvGrpSpPr>
        <p:grpSpPr>
          <a:xfrm>
            <a:off x="324000" y="4005360"/>
            <a:ext cx="2447640" cy="1954080"/>
            <a:chOff x="324000" y="4005360"/>
            <a:chExt cx="2447640" cy="1954080"/>
          </a:xfrm>
        </p:grpSpPr>
        <p:sp>
          <p:nvSpPr>
            <p:cNvPr id="197" name=""/>
            <p:cNvSpPr/>
            <p:nvPr/>
          </p:nvSpPr>
          <p:spPr>
            <a:xfrm>
              <a:off x="539280" y="4429080"/>
              <a:ext cx="358560" cy="1080"/>
            </a:xfrm>
            <a:prstGeom prst="line">
              <a:avLst/>
            </a:prstGeom>
            <a:ln w="17640">
              <a:solidFill>
                <a:srgbClr val="002563"/>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8" name=""/>
            <p:cNvSpPr/>
            <p:nvPr/>
          </p:nvSpPr>
          <p:spPr>
            <a:xfrm>
              <a:off x="959400" y="4356000"/>
              <a:ext cx="1175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de a - Very Good</a:t>
              </a:r>
              <a:endParaRPr b="0" lang="en-US" sz="1000" spc="-1" strike="noStrike">
                <a:solidFill>
                  <a:srgbClr val="000000"/>
                </a:solidFill>
                <a:latin typeface="Arial"/>
              </a:endParaRPr>
            </a:p>
          </p:txBody>
        </p:sp>
        <p:sp>
          <p:nvSpPr>
            <p:cNvPr id="199" name=""/>
            <p:cNvSpPr/>
            <p:nvPr/>
          </p:nvSpPr>
          <p:spPr>
            <a:xfrm>
              <a:off x="539280" y="4671720"/>
              <a:ext cx="358560" cy="1440"/>
            </a:xfrm>
            <a:prstGeom prst="line">
              <a:avLst/>
            </a:prstGeom>
            <a:ln w="17640">
              <a:solidFill>
                <a:srgbClr val="14a4a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0" name=""/>
            <p:cNvSpPr/>
            <p:nvPr/>
          </p:nvSpPr>
          <p:spPr>
            <a:xfrm>
              <a:off x="959760" y="4599000"/>
              <a:ext cx="880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de b - Good</a:t>
              </a:r>
              <a:endParaRPr b="0" lang="en-US" sz="1000" spc="-1" strike="noStrike">
                <a:solidFill>
                  <a:srgbClr val="000000"/>
                </a:solidFill>
                <a:latin typeface="Arial"/>
              </a:endParaRPr>
            </a:p>
          </p:txBody>
        </p:sp>
        <p:sp>
          <p:nvSpPr>
            <p:cNvPr id="201" name=""/>
            <p:cNvSpPr/>
            <p:nvPr/>
          </p:nvSpPr>
          <p:spPr>
            <a:xfrm>
              <a:off x="539280" y="4914720"/>
              <a:ext cx="358560" cy="1080"/>
            </a:xfrm>
            <a:prstGeom prst="line">
              <a:avLst/>
            </a:prstGeom>
            <a:ln w="17640">
              <a:solidFill>
                <a:srgbClr val="0163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2" name=""/>
            <p:cNvSpPr/>
            <p:nvPr/>
          </p:nvSpPr>
          <p:spPr>
            <a:xfrm>
              <a:off x="960480" y="4841640"/>
              <a:ext cx="1218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de c - Fairly Good</a:t>
              </a:r>
              <a:endParaRPr b="0" lang="en-US" sz="1000" spc="-1" strike="noStrike">
                <a:solidFill>
                  <a:srgbClr val="000000"/>
                </a:solidFill>
                <a:latin typeface="Arial"/>
              </a:endParaRPr>
            </a:p>
          </p:txBody>
        </p:sp>
        <p:sp>
          <p:nvSpPr>
            <p:cNvPr id="203" name=""/>
            <p:cNvSpPr/>
            <p:nvPr/>
          </p:nvSpPr>
          <p:spPr>
            <a:xfrm>
              <a:off x="539280" y="5149800"/>
              <a:ext cx="358560" cy="1080"/>
            </a:xfrm>
            <a:prstGeom prst="line">
              <a:avLst/>
            </a:prstGeom>
            <a:ln w="17640">
              <a:solidFill>
                <a:srgbClr val="a5fea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4" name=""/>
            <p:cNvSpPr/>
            <p:nvPr/>
          </p:nvSpPr>
          <p:spPr>
            <a:xfrm>
              <a:off x="960840" y="508608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de d - Fair</a:t>
              </a:r>
              <a:endParaRPr b="0" lang="en-US" sz="1000" spc="-1" strike="noStrike">
                <a:solidFill>
                  <a:srgbClr val="000000"/>
                </a:solidFill>
                <a:latin typeface="Arial"/>
              </a:endParaRPr>
            </a:p>
          </p:txBody>
        </p:sp>
        <p:sp>
          <p:nvSpPr>
            <p:cNvPr id="205" name=""/>
            <p:cNvSpPr/>
            <p:nvPr/>
          </p:nvSpPr>
          <p:spPr>
            <a:xfrm>
              <a:off x="539280" y="5392440"/>
              <a:ext cx="358560" cy="1440"/>
            </a:xfrm>
            <a:prstGeom prst="line">
              <a:avLst/>
            </a:prstGeom>
            <a:ln w="176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6" name=""/>
            <p:cNvSpPr/>
            <p:nvPr/>
          </p:nvSpPr>
          <p:spPr>
            <a:xfrm>
              <a:off x="960480" y="5329080"/>
              <a:ext cx="837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de e - Poor</a:t>
              </a:r>
              <a:endParaRPr b="0" lang="en-US" sz="1000" spc="-1" strike="noStrike">
                <a:solidFill>
                  <a:srgbClr val="000000"/>
                </a:solidFill>
                <a:latin typeface="Arial"/>
              </a:endParaRPr>
            </a:p>
          </p:txBody>
        </p:sp>
        <p:sp>
          <p:nvSpPr>
            <p:cNvPr id="207" name=""/>
            <p:cNvSpPr/>
            <p:nvPr/>
          </p:nvSpPr>
          <p:spPr>
            <a:xfrm>
              <a:off x="539280" y="5635440"/>
              <a:ext cx="358560" cy="1080"/>
            </a:xfrm>
            <a:prstGeom prst="line">
              <a:avLst/>
            </a:prstGeom>
            <a:ln w="17640">
              <a:solidFill>
                <a:srgbClr val="ff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8" name=""/>
            <p:cNvSpPr/>
            <p:nvPr/>
          </p:nvSpPr>
          <p:spPr>
            <a:xfrm>
              <a:off x="960480" y="5562360"/>
              <a:ext cx="759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de f - Bad</a:t>
              </a:r>
              <a:endParaRPr b="0" lang="en-US" sz="1000" spc="-1" strike="noStrike">
                <a:solidFill>
                  <a:srgbClr val="000000"/>
                </a:solidFill>
                <a:latin typeface="Arial"/>
              </a:endParaRPr>
            </a:p>
          </p:txBody>
        </p:sp>
        <p:sp>
          <p:nvSpPr>
            <p:cNvPr id="209" name=""/>
            <p:cNvSpPr/>
            <p:nvPr/>
          </p:nvSpPr>
          <p:spPr>
            <a:xfrm>
              <a:off x="960840" y="5806800"/>
              <a:ext cx="829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U – Un-graded</a:t>
              </a:r>
              <a:endParaRPr b="0" lang="en-US" sz="1000" spc="-1" strike="noStrike">
                <a:solidFill>
                  <a:srgbClr val="000000"/>
                </a:solidFill>
                <a:latin typeface="Arial"/>
              </a:endParaRPr>
            </a:p>
          </p:txBody>
        </p:sp>
        <p:sp>
          <p:nvSpPr>
            <p:cNvPr id="210" name=""/>
            <p:cNvSpPr/>
            <p:nvPr/>
          </p:nvSpPr>
          <p:spPr>
            <a:xfrm>
              <a:off x="324000" y="4005360"/>
              <a:ext cx="2447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QA Biology Grade 06</a:t>
              </a:r>
              <a:endParaRPr b="0" lang="en-US" sz="1400" spc="-1" strike="noStrike">
                <a:solidFill>
                  <a:srgbClr val="000000"/>
                </a:solidFill>
                <a:latin typeface="Arial"/>
              </a:endParaRPr>
            </a:p>
          </p:txBody>
        </p:sp>
      </p:grpSp>
      <p:sp>
        <p:nvSpPr>
          <p:cNvPr id="211" name=""/>
          <p:cNvSpPr/>
          <p:nvPr/>
        </p:nvSpPr>
        <p:spPr>
          <a:xfrm>
            <a:off x="468360" y="189000"/>
            <a:ext cx="30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iver Lee</a:t>
            </a:r>
            <a:endParaRPr b="0" lang="en-US" sz="1800" spc="-1" strike="noStrike">
              <a:solidFill>
                <a:srgbClr val="000000"/>
              </a:solidFill>
              <a:latin typeface="Arial"/>
            </a:endParaRPr>
          </a:p>
        </p:txBody>
      </p:sp>
      <p:grpSp>
        <p:nvGrpSpPr>
          <p:cNvPr id="212" name=""/>
          <p:cNvGrpSpPr/>
          <p:nvPr/>
        </p:nvGrpSpPr>
        <p:grpSpPr>
          <a:xfrm>
            <a:off x="2706120" y="4724280"/>
            <a:ext cx="1473120" cy="1151640"/>
            <a:chOff x="2706120" y="4724280"/>
            <a:chExt cx="1473120" cy="1151640"/>
          </a:xfrm>
        </p:grpSpPr>
        <p:sp>
          <p:nvSpPr>
            <p:cNvPr id="213" name=""/>
            <p:cNvSpPr/>
            <p:nvPr/>
          </p:nvSpPr>
          <p:spPr>
            <a:xfrm>
              <a:off x="2755440" y="4733640"/>
              <a:ext cx="84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bee8"/>
                  </a:solidFill>
                  <a:latin typeface="ESRI Environmental &amp; Icons"/>
                </a:rPr>
                <a:t>y</a:t>
              </a:r>
              <a:endParaRPr b="0" lang="en-US" sz="1300" spc="-1" strike="noStrike">
                <a:solidFill>
                  <a:srgbClr val="000000"/>
                </a:solidFill>
                <a:latin typeface="Arial"/>
              </a:endParaRPr>
            </a:p>
          </p:txBody>
        </p:sp>
        <p:sp>
          <p:nvSpPr>
            <p:cNvPr id="214" name=""/>
            <p:cNvSpPr/>
            <p:nvPr/>
          </p:nvSpPr>
          <p:spPr>
            <a:xfrm>
              <a:off x="3096000" y="4724280"/>
              <a:ext cx="46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iatoms</a:t>
              </a:r>
              <a:endParaRPr b="0" lang="en-US" sz="1000" spc="-1" strike="noStrike">
                <a:solidFill>
                  <a:srgbClr val="000000"/>
                </a:solidFill>
                <a:latin typeface="Arial"/>
              </a:endParaRPr>
            </a:p>
          </p:txBody>
        </p:sp>
        <p:sp>
          <p:nvSpPr>
            <p:cNvPr id="215" name=""/>
            <p:cNvSpPr/>
            <p:nvPr/>
          </p:nvSpPr>
          <p:spPr>
            <a:xfrm>
              <a:off x="2773800" y="4959000"/>
              <a:ext cx="58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00c5"/>
                  </a:solidFill>
                  <a:latin typeface="ESRI Default Marker"/>
                </a:rPr>
                <a:t>"</a:t>
              </a:r>
              <a:endParaRPr b="0" lang="en-US" sz="1100" spc="-1" strike="noStrike">
                <a:solidFill>
                  <a:srgbClr val="000000"/>
                </a:solidFill>
                <a:latin typeface="Arial"/>
              </a:endParaRPr>
            </a:p>
          </p:txBody>
        </p:sp>
        <p:sp>
          <p:nvSpPr>
            <p:cNvPr id="216" name=""/>
            <p:cNvSpPr/>
            <p:nvPr/>
          </p:nvSpPr>
          <p:spPr>
            <a:xfrm>
              <a:off x="3095280" y="4959000"/>
              <a:ext cx="240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sh</a:t>
              </a:r>
              <a:endParaRPr b="0" lang="en-US" sz="1000" spc="-1" strike="noStrike">
                <a:solidFill>
                  <a:srgbClr val="000000"/>
                </a:solidFill>
                <a:latin typeface="Arial"/>
              </a:endParaRPr>
            </a:p>
          </p:txBody>
        </p:sp>
        <p:sp>
          <p:nvSpPr>
            <p:cNvPr id="217" name=""/>
            <p:cNvSpPr/>
            <p:nvPr/>
          </p:nvSpPr>
          <p:spPr>
            <a:xfrm>
              <a:off x="2706120" y="5149440"/>
              <a:ext cx="14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80084"/>
                  </a:solidFill>
                  <a:latin typeface="ESRI Default Marker"/>
                </a:rPr>
                <a:t>#</a:t>
              </a:r>
              <a:endParaRPr b="0" lang="en-US" sz="1800" spc="-1" strike="noStrike">
                <a:solidFill>
                  <a:srgbClr val="000000"/>
                </a:solidFill>
                <a:latin typeface="Arial"/>
              </a:endParaRPr>
            </a:p>
          </p:txBody>
        </p:sp>
        <p:sp>
          <p:nvSpPr>
            <p:cNvPr id="218" name=""/>
            <p:cNvSpPr/>
            <p:nvPr/>
          </p:nvSpPr>
          <p:spPr>
            <a:xfrm>
              <a:off x="3094920" y="5202000"/>
              <a:ext cx="1084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croinvertebrates</a:t>
              </a:r>
              <a:endParaRPr b="0" lang="en-US" sz="1000" spc="-1" strike="noStrike">
                <a:solidFill>
                  <a:srgbClr val="000000"/>
                </a:solidFill>
                <a:latin typeface="Arial"/>
              </a:endParaRPr>
            </a:p>
          </p:txBody>
        </p:sp>
        <p:sp>
          <p:nvSpPr>
            <p:cNvPr id="219" name=""/>
            <p:cNvSpPr/>
            <p:nvPr/>
          </p:nvSpPr>
          <p:spPr>
            <a:xfrm>
              <a:off x="2720520" y="540180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400a8"/>
                  </a:solidFill>
                  <a:latin typeface="ESRI Environmental &amp; Icons"/>
                </a:rPr>
                <a:t>Z</a:t>
              </a:r>
              <a:endParaRPr b="0" lang="en-US" sz="2000" spc="-1" strike="noStrike">
                <a:solidFill>
                  <a:srgbClr val="000000"/>
                </a:solidFill>
                <a:latin typeface="Arial"/>
              </a:endParaRPr>
            </a:p>
          </p:txBody>
        </p:sp>
        <p:sp>
          <p:nvSpPr>
            <p:cNvPr id="220" name=""/>
            <p:cNvSpPr/>
            <p:nvPr/>
          </p:nvSpPr>
          <p:spPr>
            <a:xfrm>
              <a:off x="3094560" y="5444640"/>
              <a:ext cx="726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crophytes</a:t>
              </a:r>
              <a:endParaRPr b="0" lang="en-US" sz="1000" spc="-1" strike="noStrike">
                <a:solidFill>
                  <a:srgbClr val="000000"/>
                </a:solidFill>
                <a:latin typeface="Arial"/>
              </a:endParaRPr>
            </a:p>
          </p:txBody>
        </p:sp>
        <p:sp>
          <p:nvSpPr>
            <p:cNvPr id="221" name=""/>
            <p:cNvSpPr/>
            <p:nvPr/>
          </p:nvSpPr>
          <p:spPr>
            <a:xfrm>
              <a:off x="2760120" y="5662440"/>
              <a:ext cx="4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c0073"/>
                  </a:solidFill>
                  <a:latin typeface="ESRI Default Marker"/>
                </a:rPr>
                <a:t>!</a:t>
              </a:r>
              <a:endParaRPr b="0" lang="en-US" sz="1400" spc="-1" strike="noStrike">
                <a:solidFill>
                  <a:srgbClr val="000000"/>
                </a:solidFill>
                <a:latin typeface="Arial"/>
              </a:endParaRPr>
            </a:p>
          </p:txBody>
        </p:sp>
        <p:sp>
          <p:nvSpPr>
            <p:cNvPr id="222" name=""/>
            <p:cNvSpPr/>
            <p:nvPr/>
          </p:nvSpPr>
          <p:spPr>
            <a:xfrm>
              <a:off x="3094920" y="5689440"/>
              <a:ext cx="627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hys chem</a:t>
              </a:r>
              <a:endParaRPr b="0" lang="en-US" sz="1000" spc="-1" strike="noStrike">
                <a:solidFill>
                  <a:srgbClr val="000000"/>
                </a:solidFill>
                <a:latin typeface="Arial"/>
              </a:endParaRPr>
            </a:p>
          </p:txBody>
        </p:sp>
      </p:grpSp>
      <p:sp>
        <p:nvSpPr>
          <p:cNvPr id="223" name=""/>
          <p:cNvSpPr/>
          <p:nvPr/>
        </p:nvSpPr>
        <p:spPr>
          <a:xfrm>
            <a:off x="2700360" y="4365720"/>
            <a:ext cx="8344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lement</a:t>
            </a:r>
            <a:endParaRPr b="0" lang="en-US" sz="1400" spc="-1" strike="noStrike">
              <a:solidFill>
                <a:srgbClr val="000000"/>
              </a:solidFill>
              <a:latin typeface="Arial"/>
            </a:endParaRPr>
          </a:p>
        </p:txBody>
      </p:sp>
      <p:pic>
        <p:nvPicPr>
          <p:cNvPr id="224" name="" descr=""/>
          <p:cNvPicPr/>
          <p:nvPr/>
        </p:nvPicPr>
        <p:blipFill>
          <a:blip r:embed="rId1"/>
          <a:srcRect l="9512" t="20214" r="8607" b="13768"/>
          <a:stretch/>
        </p:blipFill>
        <p:spPr>
          <a:xfrm>
            <a:off x="2700360" y="189000"/>
            <a:ext cx="5853240" cy="6669000"/>
          </a:xfrm>
          <a:prstGeom prst="rect">
            <a:avLst/>
          </a:prstGeom>
          <a:ln w="0">
            <a:noFill/>
          </a:ln>
        </p:spPr>
      </p:pic>
      <p:pic>
        <p:nvPicPr>
          <p:cNvPr id="225" name="" descr=""/>
          <p:cNvPicPr/>
          <p:nvPr/>
        </p:nvPicPr>
        <p:blipFill>
          <a:blip r:embed="rId2"/>
          <a:stretch/>
        </p:blipFill>
        <p:spPr>
          <a:xfrm>
            <a:off x="7020000" y="4724280"/>
            <a:ext cx="1365120" cy="719280"/>
          </a:xfrm>
          <a:prstGeom prst="rect">
            <a:avLst/>
          </a:prstGeom>
          <a:ln w="0">
            <a:noFill/>
          </a:ln>
        </p:spPr>
      </p:pic>
      <p:pic>
        <p:nvPicPr>
          <p:cNvPr id="226" name="" descr=""/>
          <p:cNvPicPr/>
          <p:nvPr/>
        </p:nvPicPr>
        <p:blipFill>
          <a:blip r:embed="rId3"/>
          <a:stretch/>
        </p:blipFill>
        <p:spPr>
          <a:xfrm>
            <a:off x="250920" y="189000"/>
            <a:ext cx="2286000" cy="2919240"/>
          </a:xfrm>
          <a:prstGeom prst="rect">
            <a:avLst/>
          </a:prstGeom>
          <a:ln w="0">
            <a:noFill/>
          </a:ln>
        </p:spPr>
      </p:pic>
      <p:sp>
        <p:nvSpPr>
          <p:cNvPr id="227" name=""/>
          <p:cNvSpPr/>
          <p:nvPr/>
        </p:nvSpPr>
        <p:spPr>
          <a:xfrm flipH="1" flipV="1">
            <a:off x="1979640" y="2349360"/>
            <a:ext cx="3240000" cy="1873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908000" y="2133720"/>
            <a:ext cx="144720" cy="144360"/>
          </a:xfrm>
          <a:custGeom>
            <a:avLst/>
            <a:gdLst/>
            <a:ahLst/>
            <a:rect l="l" t="t" r="r" b="b"/>
            <a:pathLst>
              <a:path w="91" h="91">
                <a:moveTo>
                  <a:pt x="45" y="91"/>
                </a:moveTo>
                <a:lnTo>
                  <a:pt x="0" y="45"/>
                </a:lnTo>
                <a:lnTo>
                  <a:pt x="45" y="0"/>
                </a:lnTo>
                <a:lnTo>
                  <a:pt x="91" y="45"/>
                </a:lnTo>
                <a:lnTo>
                  <a:pt x="45" y="91"/>
                </a:lnTo>
                <a:close/>
              </a:path>
            </a:pathLst>
          </a:custGeom>
          <a:noFill/>
          <a:ln w="381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203640" y="2637000"/>
            <a:ext cx="4680000" cy="1103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1c1c72"/>
                </a:solidFill>
                <a:latin typeface="Arial"/>
              </a:rPr>
              <a:t>4 Options</a:t>
            </a:r>
            <a:endParaRPr b="0" lang="en-US" sz="4400" spc="-1" strike="noStrike">
              <a:solidFill>
                <a:srgbClr val="242492"/>
              </a:solidFill>
              <a:latin typeface="Tahoma"/>
            </a:endParaRPr>
          </a:p>
        </p:txBody>
      </p:sp>
      <p:sp>
        <p:nvSpPr>
          <p:cNvPr id="230" name=""/>
          <p:cNvSpPr/>
          <p:nvPr/>
        </p:nvSpPr>
        <p:spPr>
          <a:xfrm>
            <a:off x="0" y="762120"/>
            <a:ext cx="9144000" cy="360"/>
          </a:xfrm>
          <a:prstGeom prst="rect">
            <a:avLst/>
          </a:prstGeom>
          <a:noFill/>
          <a:ln w="0">
            <a:noFill/>
          </a:ln>
          <a:effectLst>
            <a:outerShdw dist="17819" dir="2700000" blurRad="0" rotWithShape="0">
              <a:srgbClr val="990000"/>
            </a:outerShdw>
          </a:effectLst>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31" name="" descr=""/>
          <p:cNvPicPr/>
          <p:nvPr/>
        </p:nvPicPr>
        <p:blipFill>
          <a:blip r:embed="rId1"/>
          <a:stretch/>
        </p:blipFill>
        <p:spPr>
          <a:xfrm>
            <a:off x="325440" y="406440"/>
            <a:ext cx="2409840" cy="1809720"/>
          </a:xfrm>
          <a:prstGeom prst="rect">
            <a:avLst/>
          </a:prstGeom>
          <a:ln w="0">
            <a:noFill/>
          </a:ln>
        </p:spPr>
      </p:pic>
      <p:pic>
        <p:nvPicPr>
          <p:cNvPr id="232" name="" descr=""/>
          <p:cNvPicPr/>
          <p:nvPr/>
        </p:nvPicPr>
        <p:blipFill>
          <a:blip r:embed="rId2">
            <a:lum contrast="36000"/>
          </a:blip>
          <a:stretch/>
        </p:blipFill>
        <p:spPr>
          <a:xfrm>
            <a:off x="324000" y="2206800"/>
            <a:ext cx="2411280" cy="1811160"/>
          </a:xfrm>
          <a:prstGeom prst="rect">
            <a:avLst/>
          </a:prstGeom>
          <a:ln w="0">
            <a:noFill/>
          </a:ln>
        </p:spPr>
      </p:pic>
      <p:pic>
        <p:nvPicPr>
          <p:cNvPr id="233" name="" descr=""/>
          <p:cNvPicPr/>
          <p:nvPr/>
        </p:nvPicPr>
        <p:blipFill>
          <a:blip r:embed="rId3"/>
          <a:stretch/>
        </p:blipFill>
        <p:spPr>
          <a:xfrm>
            <a:off x="324000" y="3933720"/>
            <a:ext cx="2411280" cy="1800360"/>
          </a:xfrm>
          <a:prstGeom prst="rect">
            <a:avLst/>
          </a:prstGeom>
          <a:ln w="0">
            <a:noFill/>
          </a:ln>
        </p:spPr>
      </p:pic>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80520"/>
            <a:ext cx="8229600" cy="1103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c1c72"/>
                </a:solidFill>
                <a:latin typeface="Arial"/>
              </a:rPr>
              <a:t>A – Identify a single representative station</a:t>
            </a:r>
            <a:endParaRPr b="0" lang="en-US" sz="3600" spc="-1" strike="noStrike">
              <a:solidFill>
                <a:srgbClr val="242492"/>
              </a:solidFill>
              <a:latin typeface="Tahoma"/>
            </a:endParaRPr>
          </a:p>
        </p:txBody>
      </p:sp>
      <p:grpSp>
        <p:nvGrpSpPr>
          <p:cNvPr id="235" name=""/>
          <p:cNvGrpSpPr/>
          <p:nvPr/>
        </p:nvGrpSpPr>
        <p:grpSpPr>
          <a:xfrm>
            <a:off x="5705640" y="981000"/>
            <a:ext cx="3187080" cy="5543640"/>
            <a:chOff x="5705640" y="981000"/>
            <a:chExt cx="3187080" cy="5543640"/>
          </a:xfrm>
        </p:grpSpPr>
        <p:pic>
          <p:nvPicPr>
            <p:cNvPr id="236" name="" descr=""/>
            <p:cNvPicPr/>
            <p:nvPr/>
          </p:nvPicPr>
          <p:blipFill>
            <a:blip r:embed="rId1"/>
            <a:srcRect l="34406" t="0" r="26128" b="0"/>
            <a:stretch/>
          </p:blipFill>
          <p:spPr>
            <a:xfrm>
              <a:off x="5705640" y="981000"/>
              <a:ext cx="3187080" cy="5543640"/>
            </a:xfrm>
            <a:prstGeom prst="rect">
              <a:avLst/>
            </a:prstGeom>
            <a:ln w="0">
              <a:noFill/>
            </a:ln>
          </p:spPr>
        </p:pic>
        <p:sp>
          <p:nvSpPr>
            <p:cNvPr id="237" name=""/>
            <p:cNvSpPr/>
            <p:nvPr/>
          </p:nvSpPr>
          <p:spPr>
            <a:xfrm>
              <a:off x="7008840" y="3276720"/>
              <a:ext cx="91800" cy="145800"/>
            </a:xfrm>
            <a:custGeom>
              <a:avLst/>
              <a:gdLst/>
              <a:ahLst/>
              <a:rect l="l" t="t" r="r" b="b"/>
              <a:pathLst>
                <a:path w="50" h="92">
                  <a:moveTo>
                    <a:pt x="36" y="0"/>
                  </a:moveTo>
                  <a:cubicBezTo>
                    <a:pt x="50" y="21"/>
                    <a:pt x="44" y="47"/>
                    <a:pt x="24" y="60"/>
                  </a:cubicBezTo>
                  <a:cubicBezTo>
                    <a:pt x="21" y="64"/>
                    <a:pt x="19" y="69"/>
                    <a:pt x="16" y="72"/>
                  </a:cubicBezTo>
                  <a:cubicBezTo>
                    <a:pt x="13" y="75"/>
                    <a:pt x="7" y="76"/>
                    <a:pt x="4" y="80"/>
                  </a:cubicBezTo>
                  <a:cubicBezTo>
                    <a:pt x="1" y="83"/>
                    <a:pt x="0" y="92"/>
                    <a:pt x="0" y="92"/>
                  </a:cubicBezTo>
                </a:path>
              </a:pathLst>
            </a:custGeom>
            <a:noFill/>
            <a:ln w="38160">
              <a:solidFill>
                <a:srgbClr val="ffff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238" name="PlaceHolder 2"/>
          <p:cNvSpPr>
            <a:spLocks noGrp="1"/>
          </p:cNvSpPr>
          <p:nvPr>
            <p:ph/>
          </p:nvPr>
        </p:nvSpPr>
        <p:spPr>
          <a:xfrm>
            <a:off x="394920" y="1915920"/>
            <a:ext cx="5111640" cy="25923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81862"/>
                </a:solidFill>
                <a:latin typeface="Arial"/>
              </a:rPr>
              <a:t>Which one?</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95280" y="115560"/>
            <a:ext cx="8229600" cy="1103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c1c72"/>
                </a:solidFill>
                <a:latin typeface="Arial"/>
              </a:rPr>
              <a:t>B – Use all available information (average)</a:t>
            </a:r>
            <a:endParaRPr b="0" lang="en-US" sz="4000" spc="-1" strike="noStrike">
              <a:solidFill>
                <a:srgbClr val="242492"/>
              </a:solidFill>
              <a:latin typeface="Tahoma"/>
            </a:endParaRPr>
          </a:p>
        </p:txBody>
      </p:sp>
      <p:graphicFrame>
        <p:nvGraphicFramePr>
          <p:cNvPr id="240" name=""/>
          <p:cNvGraphicFramePr/>
          <p:nvPr/>
        </p:nvGraphicFramePr>
        <p:xfrm>
          <a:off x="971640" y="1341360"/>
          <a:ext cx="3384360" cy="2376720"/>
        </p:xfrm>
        <a:graphic>
          <a:graphicData uri="http://schemas.openxmlformats.org/drawingml/2006/table">
            <a:tbl>
              <a:tblPr/>
              <a:tblGrid>
                <a:gridCol w="1201320"/>
                <a:gridCol w="2183040"/>
              </a:tblGrid>
              <a:tr h="475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ASPT EQ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5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Site 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0.9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5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Site 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0.7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5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Site 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0.6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556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erag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7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1" name=""/>
          <p:cNvSpPr/>
          <p:nvPr/>
        </p:nvSpPr>
        <p:spPr>
          <a:xfrm>
            <a:off x="4572000" y="3213000"/>
            <a:ext cx="100800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D</a:t>
            </a:r>
            <a:endParaRPr b="0" lang="en-US" sz="2000" spc="-1" strike="noStrike">
              <a:solidFill>
                <a:srgbClr val="000000"/>
              </a:solidFill>
              <a:latin typeface="Arial"/>
            </a:endParaRPr>
          </a:p>
        </p:txBody>
      </p:sp>
      <p:graphicFrame>
        <p:nvGraphicFramePr>
          <p:cNvPr id="242" name=""/>
          <p:cNvGraphicFramePr/>
          <p:nvPr/>
        </p:nvGraphicFramePr>
        <p:xfrm>
          <a:off x="971640" y="4005360"/>
          <a:ext cx="2446200" cy="1825560"/>
        </p:xfrm>
        <a:graphic>
          <a:graphicData uri="http://schemas.openxmlformats.org/drawingml/2006/table">
            <a:tbl>
              <a:tblPr/>
              <a:tblGrid>
                <a:gridCol w="1223640"/>
                <a:gridCol w="122256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Bounda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EQ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H/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0.9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G/M</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0.8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M/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0.7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P/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0.6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3" name=""/>
          <p:cNvSpPr/>
          <p:nvPr/>
        </p:nvSpPr>
        <p:spPr>
          <a:xfrm>
            <a:off x="4572000" y="1844640"/>
            <a:ext cx="1008000" cy="3988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GH</a:t>
            </a:r>
            <a:endParaRPr b="0" lang="en-US" sz="2000" spc="-1" strike="noStrike">
              <a:solidFill>
                <a:srgbClr val="000000"/>
              </a:solidFill>
              <a:latin typeface="Arial"/>
            </a:endParaRPr>
          </a:p>
        </p:txBody>
      </p:sp>
      <p:sp>
        <p:nvSpPr>
          <p:cNvPr id="244" name=""/>
          <p:cNvSpPr/>
          <p:nvPr/>
        </p:nvSpPr>
        <p:spPr>
          <a:xfrm>
            <a:off x="4572000" y="2276640"/>
            <a:ext cx="1008000" cy="3988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D</a:t>
            </a:r>
            <a:endParaRPr b="0" lang="en-US" sz="2000" spc="-1" strike="noStrike">
              <a:solidFill>
                <a:srgbClr val="000000"/>
              </a:solidFill>
              <a:latin typeface="Arial"/>
            </a:endParaRPr>
          </a:p>
        </p:txBody>
      </p:sp>
      <p:sp>
        <p:nvSpPr>
          <p:cNvPr id="245" name=""/>
          <p:cNvSpPr/>
          <p:nvPr/>
        </p:nvSpPr>
        <p:spPr>
          <a:xfrm>
            <a:off x="4572000" y="2708280"/>
            <a:ext cx="1008000" cy="3988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D</a:t>
            </a:r>
            <a:endParaRPr b="0" lang="en-US" sz="2000" spc="-1" strike="noStrike">
              <a:solidFill>
                <a:srgbClr val="000000"/>
              </a:solidFill>
              <a:latin typeface="Arial"/>
            </a:endParaRPr>
          </a:p>
        </p:txBody>
      </p:sp>
      <p:pic>
        <p:nvPicPr>
          <p:cNvPr id="246" name="" descr=""/>
          <p:cNvPicPr/>
          <p:nvPr/>
        </p:nvPicPr>
        <p:blipFill>
          <a:blip r:embed="rId1"/>
          <a:srcRect l="35433" t="0" r="31173" b="0"/>
          <a:stretch/>
        </p:blipFill>
        <p:spPr>
          <a:xfrm>
            <a:off x="6588000" y="981000"/>
            <a:ext cx="2320920" cy="5516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3T12:30:05Z</dcterms:created>
  <dc:creator>jeane</dc:creator>
  <dc:description/>
  <dc:language>en-US</dc:language>
  <cp:lastModifiedBy>OLEWIS</cp:lastModifiedBy>
  <dcterms:modified xsi:type="dcterms:W3CDTF">2008-03-05T17:51:33Z</dcterms:modified>
  <cp:revision>258</cp:revision>
  <dc:subject/>
  <dc:title>UKTAG Work Programme Phase 3 2005-2006 </dc:title>
</cp:coreProperties>
</file>