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B88-A692-495F-8F4C-F58DF9F4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28C-66B5-4933-9124-966BF87B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2EB-4ABA-4E97-8FB6-ABDCAE97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B8E-FAED-49E3-ACB8-092A5A5F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162B-5453-4BDC-856F-018AF7B8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DCFB-AA60-417B-B75B-6A99A13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9A04-AEAA-4B6D-89C6-4079CD34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B6AE-CC7C-4595-9124-0297C60E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0F0C-D063-4F22-B9F0-F71C0764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5790-98C1-44F3-A8EA-8D1F1A0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2FA5-0E4B-492A-88FC-37287F81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51A-B026-4D59-97ED-397A27B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CD27-7C56-47E2-816E-B5859026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172E-8FC7-4EB9-BC46-697A242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B1EC-1786-4C1A-9E5D-B476F7E5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CD8D-11A5-4EBD-BDF6-6AABC97D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F350-B936-4379-8039-206C2202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97E-EE91-4063-A701-BD90DDB5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823-91CE-44FD-BDA8-C8400F1E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78A-C42D-45FA-8831-77A2F1D7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261-82E8-4DBC-BC5B-248C46D8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ABB-B91C-41E4-BDD7-900C95B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A79-9645-4EAA-8AC2-67C87DE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E5C-09FA-4516-B27D-E0424E8C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22E4-2547-4FC4-A5FF-CA5812F58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EDAA-FF9E-43FA-84B3-A508FF4591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8412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How ecological status classification results should be reported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400" y="3580920"/>
            <a:ext cx="6529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targets - 3 ai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For the Publ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 to MS or local autho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ps presenting ecological status classification - it could b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WB level (face value +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integrated statistic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er level of detail could be available for different categories of end-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For the Water Mana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help to define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oritiz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evaluate the effects of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gram of Meas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dentify the need f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ong actions at the WB lev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poor and bad statu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ertainly &lt;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highlight the need f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tection of high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degradation, biological reservoirs for recol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igh uncertainty about status for a large % of WBs around the G/M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bination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ple pressur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low to moderate intensity precludes a reliable risk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at the WB level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actions at larger sca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dscape management, integrated policies, favour ecosystem resil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For reporting at the EU lev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FD require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nnex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ach WB: 1 ecological status - 1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l of confidence and precision of th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al o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porting she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DG Env: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p of the overall ecological status at the WB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QE ass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ology: 5 classes; Physico-Chemistry: 3 classes; Hydro-morphology: 2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ey colo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QE not used for classification (whatever the rea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de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expec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maps  / additional inform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66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For </a:t>
            </a:r>
            <a:r>
              <a:rPr b="1" lang="en-GB" sz="4400" spc="-1" strike="noStrike">
                <a:solidFill>
                  <a:srgbClr val="003366"/>
                </a:solidFill>
                <a:latin typeface="Times New Roman"/>
              </a:rPr>
              <a:t>both</a:t>
            </a: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 management and EU level repor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tistical evalu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results (% of WB per class) on large number of WBs (MS, District, type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mporal tren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.g. groups of WB under similar manag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much mo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li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fu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7:04:00Z</dcterms:created>
  <dc:creator>Jean-Gabriel WASSON</dc:creator>
  <dc:description/>
  <dc:language>en-US</dc:language>
  <cp:lastModifiedBy>Jean-Gabriel WASSON</cp:lastModifiedBy>
  <dcterms:modified xsi:type="dcterms:W3CDTF">2008-03-06T19:55:56Z</dcterms:modified>
  <cp:revision>36</cp:revision>
  <dc:subject/>
  <dc:title>Présentation PowerPoint</dc:title>
</cp:coreProperties>
</file>