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move the slide</a:t>
            </a:r>
            <a:endParaRPr b="0" lang="en-US" sz="4400" spc="-1" strike="noStrike">
              <a:solidFill>
                <a:srgbClr val="24249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4790-D966-427A-BCDF-073ADDCD8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9" name=""/>
          <p:cNvSpPr/>
          <p:nvPr/>
        </p:nvSpPr>
        <p:spPr>
          <a:xfrm>
            <a:off x="1197000" y="746280"/>
            <a:ext cx="410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fidence information is important for: </a:t>
            </a:r>
            <a:endParaRPr b="0" lang="en-US" sz="2800" spc="-1" strike="noStrike">
              <a:solidFill>
                <a:srgbClr val="000000"/>
              </a:solidFill>
              <a:latin typeface="Arial"/>
            </a:endParaRPr>
          </a:p>
        </p:txBody>
      </p:sp>
      <p:sp>
        <p:nvSpPr>
          <p:cNvPr id="1240" name=""/>
          <p:cNvSpPr/>
          <p:nvPr/>
        </p:nvSpPr>
        <p:spPr>
          <a:xfrm>
            <a:off x="1484280" y="2124000"/>
            <a:ext cx="3240000" cy="3988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bjective setting </a:t>
            </a:r>
            <a:endParaRPr b="0" lang="en-US" sz="2000" spc="-1" strike="noStrike">
              <a:solidFill>
                <a:srgbClr val="000000"/>
              </a:solidFill>
              <a:latin typeface="Arial"/>
            </a:endParaRPr>
          </a:p>
        </p:txBody>
      </p:sp>
      <p:sp>
        <p:nvSpPr>
          <p:cNvPr id="1241" name=""/>
          <p:cNvSpPr/>
          <p:nvPr/>
        </p:nvSpPr>
        <p:spPr>
          <a:xfrm>
            <a:off x="1484280" y="2916360"/>
            <a:ext cx="3240000" cy="703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ioritising monitoring efforts </a:t>
            </a: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 example – we would like to take you to Belfast Lough in Northern Ireland, which is an example of a clear case of where class would have been less than good in the 90’s  - although WFD tools were not then available, and where, by taking management action, we are now seeing real improvements.  Belfast Lough is on the east coast of Northern Ireland and is a shallow, fully marine lough with the city of Belfast at its western end.  Population of approximately 0.75 million live around its sh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1 – Nutrient concentrations very high – due primarily to poor sewage treatment and a fertilizers industry discharging into inner L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2 – Very high chlorophyll lev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3 – Accompanied by nuisance algal blooms, Alexandrium, PSP and clearly impacted benthic infau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4 – Total Loading of N to inner Lough.  In late 90’s – early 00’s started to introduce secondary sewage treatment and then added N removal to Belfast’s 2 biggest sewage works.  Late 2002 – industry closed (after much pressure to reduce its N loading to Lough).  Also a designation was made under UWWTD.  This designation was late, but the appropriate management action was tak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5 – DIN in Lough also reduced and we can see a big normalisation in chlorophyll concent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ick 6 – Over the period of greatest change, we saw a step change in the benthic invertebrates – heading towards go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viously more data behind this example – but just a snap shot to let you see how things might work.</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CA975F-31C0-443A-949D-BC0C61ADBE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3A3DD4-1D05-4343-8015-6D3D5F931F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F05FE1-E647-476C-A597-8E32DCA121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CA9D73-D475-42F3-A06C-4CF44C7D0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EA90A6-FBA4-4844-8EB1-D2F828008C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F79CA1-BEA9-4347-81FB-109E98F96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6625B1-B160-4E99-9EB1-BFE916C05F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B034AC-4A5F-4BD6-953C-4782532F90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46EC77-B9FB-4973-8BBC-9AB253FF55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73B9F7-14CA-4988-907D-66694DCB55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123425-1BED-42FE-857D-03BB31B72E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341397-8A31-44EF-9893-7884E2A4C3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9B5A1C-D996-4B2F-83F6-F597AD9481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2F32A8-D203-4CF1-A8B6-95DF075E85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745978-1FEA-4F14-99C9-2284FBE1BB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5033C2-86D7-413C-89EA-698F0E3E2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3C0604C-0BFB-4B43-85C1-DF339ADF74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272AC-D800-416E-A463-B86C0E4C22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EE2634-3A0E-409C-8EE1-8DA8D2DA6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09070-1F0C-4CE9-92AE-F394D0A0B4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42492"/>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17DA2-DBBA-45F2-B6E0-BD5593F6BB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FC8F12-CC90-4106-83B3-78E58730B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6F2E95-68A9-4E2C-A6C7-E1D76E0832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42492"/>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905ED7-BB85-49B0-A804-FA21680BE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D8A6-CDF8-48DC-A864-C5DD8F8EB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0" y="6219720"/>
            <a:ext cx="2162160" cy="63828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Click to edit the title text format</a:t>
            </a:r>
            <a:endParaRPr b="0" lang="en-US" sz="4400" spc="-1" strike="noStrike">
              <a:solidFill>
                <a:srgbClr val="242492"/>
              </a:solidFill>
              <a:latin typeface="Tahoma"/>
            </a:endParaRPr>
          </a:p>
        </p:txBody>
      </p:sp>
      <p:sp>
        <p:nvSpPr>
          <p:cNvPr id="43"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D10D-B5CF-407C-9FAC-BDAC5EF68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 name="" descr=""/>
          <p:cNvPicPr/>
          <p:nvPr/>
        </p:nvPicPr>
        <p:blipFill>
          <a:blip r:embed="rId2"/>
          <a:stretch/>
        </p:blipFill>
        <p:spPr>
          <a:xfrm>
            <a:off x="0" y="6219720"/>
            <a:ext cx="2162160" cy="6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package" Target="../embeddings/oleObject1.xlsx"/><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8.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42492"/>
                </a:solidFill>
                <a:latin typeface="Tahoma"/>
              </a:rPr>
              <a:t>UK presentation - Session C</a:t>
            </a:r>
            <a:br>
              <a:rPr sz="3600"/>
            </a:br>
            <a:r>
              <a:rPr b="0" lang="en-GB" sz="3600" spc="-1" strike="noStrike">
                <a:solidFill>
                  <a:srgbClr val="242492"/>
                </a:solidFill>
                <a:latin typeface="Tahoma"/>
              </a:rPr>
              <a:t>Physicochemical results and combining results across quality elements</a:t>
            </a:r>
            <a:endParaRPr b="0" lang="en-US" sz="3600" spc="-1" strike="noStrike">
              <a:solidFill>
                <a:srgbClr val="242492"/>
              </a:solidFill>
              <a:latin typeface="Tahoma"/>
            </a:endParaRPr>
          </a:p>
        </p:txBody>
      </p:sp>
      <p:sp>
        <p:nvSpPr>
          <p:cNvPr id="90" name="PlaceHolder 2"/>
          <p:cNvSpPr>
            <a:spLocks noGrp="1"/>
          </p:cNvSpPr>
          <p:nvPr>
            <p:ph/>
          </p:nvPr>
        </p:nvSpPr>
        <p:spPr>
          <a:xfrm>
            <a:off x="468000" y="2060280"/>
            <a:ext cx="8280360" cy="381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Our presentation will cover</a:t>
            </a:r>
            <a:endParaRPr b="0" lang="en-US" sz="2800" spc="-1" strike="noStrike">
              <a:solidFill>
                <a:srgbClr val="000000"/>
              </a:solidFill>
              <a:latin typeface="Tahoma"/>
            </a:endParaRPr>
          </a:p>
          <a:p>
            <a:pPr lvl="1" marL="743040" indent="-285840">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Uncertainty – why do we need to consider it ?</a:t>
            </a:r>
            <a:endParaRPr b="0" lang="en-US" sz="2800" spc="-1" strike="noStrike">
              <a:solidFill>
                <a:srgbClr val="000000"/>
              </a:solidFill>
              <a:latin typeface="Tahoma"/>
            </a:endParaRPr>
          </a:p>
          <a:p>
            <a:pPr lvl="1" marL="743040" indent="-285840">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Using information on Confidence</a:t>
            </a:r>
            <a:endParaRPr b="0" lang="en-US" sz="2800" spc="-1" strike="noStrike">
              <a:solidFill>
                <a:srgbClr val="000000"/>
              </a:solidFill>
              <a:latin typeface="Tahoma"/>
            </a:endParaRPr>
          </a:p>
          <a:p>
            <a:pPr lvl="1" marL="743040" indent="-285840">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Chemical quality, particularly nutrients</a:t>
            </a:r>
            <a:endParaRPr b="0" lang="en-US" sz="2800" spc="-1" strike="noStrike">
              <a:solidFill>
                <a:srgbClr val="000000"/>
              </a:solidFill>
              <a:latin typeface="Tahoma"/>
            </a:endParaRPr>
          </a:p>
          <a:p>
            <a:pPr lvl="1" marL="743040" indent="-285840">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Examples</a:t>
            </a:r>
            <a:endParaRPr b="0" lang="en-US" sz="2800" spc="-1" strike="noStrike">
              <a:solidFill>
                <a:srgbClr val="000000"/>
              </a:solidFill>
              <a:latin typeface="Tahoma"/>
            </a:endParaRPr>
          </a:p>
          <a:p>
            <a:pPr lvl="1" marL="743040" indent="-285840">
              <a:spcBef>
                <a:spcPts val="700"/>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Checking Procedure</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617" name=""/>
          <p:cNvGrpSpPr/>
          <p:nvPr/>
        </p:nvGrpSpPr>
        <p:grpSpPr>
          <a:xfrm>
            <a:off x="684360" y="1052640"/>
            <a:ext cx="8064360" cy="4824360"/>
            <a:chOff x="684360" y="1052640"/>
            <a:chExt cx="8064360" cy="4824360"/>
          </a:xfrm>
        </p:grpSpPr>
        <p:sp>
          <p:nvSpPr>
            <p:cNvPr id="618" name=""/>
            <p:cNvSpPr/>
            <p:nvPr/>
          </p:nvSpPr>
          <p:spPr>
            <a:xfrm>
              <a:off x="684360" y="5232240"/>
              <a:ext cx="4032000" cy="64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619" name=""/>
            <p:cNvSpPr/>
            <p:nvPr/>
          </p:nvSpPr>
          <p:spPr>
            <a:xfrm>
              <a:off x="684360" y="4589640"/>
              <a:ext cx="4032000" cy="64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620" name=""/>
            <p:cNvSpPr/>
            <p:nvPr/>
          </p:nvSpPr>
          <p:spPr>
            <a:xfrm>
              <a:off x="4716360" y="3944880"/>
              <a:ext cx="4032360" cy="19321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Less than high confidence moderate or worse</a:t>
              </a:r>
              <a:endParaRPr b="0" lang="en-US" sz="2200" spc="-1" strike="noStrike">
                <a:solidFill>
                  <a:srgbClr val="000000"/>
                </a:solidFill>
                <a:latin typeface="Arial"/>
              </a:endParaRPr>
            </a:p>
          </p:txBody>
        </p:sp>
        <p:sp>
          <p:nvSpPr>
            <p:cNvPr id="621" name=""/>
            <p:cNvSpPr/>
            <p:nvPr/>
          </p:nvSpPr>
          <p:spPr>
            <a:xfrm>
              <a:off x="684360" y="3944880"/>
              <a:ext cx="4032000" cy="644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622" name=""/>
            <p:cNvSpPr/>
            <p:nvPr/>
          </p:nvSpPr>
          <p:spPr>
            <a:xfrm>
              <a:off x="4716360" y="3165480"/>
              <a:ext cx="4032360" cy="779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684360" y="3165480"/>
              <a:ext cx="4032000" cy="779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624" name=""/>
            <p:cNvSpPr/>
            <p:nvPr/>
          </p:nvSpPr>
          <p:spPr>
            <a:xfrm>
              <a:off x="4716360" y="2386080"/>
              <a:ext cx="4032360" cy="779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684360" y="2386080"/>
              <a:ext cx="4032000" cy="779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626" name=""/>
            <p:cNvSpPr/>
            <p:nvPr/>
          </p:nvSpPr>
          <p:spPr>
            <a:xfrm>
              <a:off x="4716360" y="1052640"/>
              <a:ext cx="4032360" cy="133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onfidence of class</a:t>
              </a:r>
              <a:endParaRPr b="0" lang="en-US" sz="2600" spc="-1" strike="noStrike">
                <a:solidFill>
                  <a:srgbClr val="000000"/>
                </a:solidFill>
                <a:latin typeface="Arial"/>
              </a:endParaRPr>
            </a:p>
          </p:txBody>
        </p:sp>
        <p:sp>
          <p:nvSpPr>
            <p:cNvPr id="627" name=""/>
            <p:cNvSpPr/>
            <p:nvPr/>
          </p:nvSpPr>
          <p:spPr>
            <a:xfrm>
              <a:off x="684360" y="1052640"/>
              <a:ext cx="4032000" cy="133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Face value classification</a:t>
              </a:r>
              <a:endParaRPr b="0" lang="en-US" sz="2600" spc="-1" strike="noStrike">
                <a:solidFill>
                  <a:srgbClr val="000000"/>
                </a:solidFill>
                <a:latin typeface="Arial"/>
              </a:endParaRPr>
            </a:p>
          </p:txBody>
        </p:sp>
        <p:sp>
          <p:nvSpPr>
            <p:cNvPr id="628" name=""/>
            <p:cNvSpPr/>
            <p:nvPr/>
          </p:nvSpPr>
          <p:spPr>
            <a:xfrm>
              <a:off x="684360" y="1052640"/>
              <a:ext cx="8064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84360" y="5877000"/>
              <a:ext cx="8064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84360" y="1052640"/>
              <a:ext cx="0" cy="4824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748720" y="1052640"/>
              <a:ext cx="0" cy="4824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84360" y="2386080"/>
              <a:ext cx="8064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716360" y="1052640"/>
              <a:ext cx="0" cy="4824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84360" y="3165480"/>
              <a:ext cx="8064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684360" y="3944880"/>
              <a:ext cx="8064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84360" y="4589640"/>
              <a:ext cx="4032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84360" y="5232240"/>
              <a:ext cx="4032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638" name=""/>
          <p:cNvSpPr/>
          <p:nvPr/>
        </p:nvSpPr>
        <p:spPr>
          <a:xfrm>
            <a:off x="250920" y="189000"/>
            <a:ext cx="721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Information on confidence is important for:</a:t>
            </a:r>
            <a:endParaRPr b="0" lang="en-US" sz="3600" spc="-1" strike="noStrike">
              <a:solidFill>
                <a:srgbClr val="000000"/>
              </a:solidFill>
              <a:latin typeface="Arial"/>
            </a:endParaRPr>
          </a:p>
        </p:txBody>
      </p:sp>
      <p:sp>
        <p:nvSpPr>
          <p:cNvPr id="639" name=""/>
          <p:cNvSpPr/>
          <p:nvPr/>
        </p:nvSpPr>
        <p:spPr>
          <a:xfrm>
            <a:off x="286560" y="2643120"/>
            <a:ext cx="4515120" cy="642600"/>
          </a:xfrm>
          <a:prstGeom prst="rect">
            <a:avLst/>
          </a:prstGeom>
          <a:noFill/>
          <a:ln w="0">
            <a:noFill/>
          </a:ln>
        </p:spPr>
        <p:style>
          <a:lnRef idx="0"/>
          <a:fillRef idx="0"/>
          <a:effectRef idx="0"/>
          <a:fontRef idx="minor"/>
        </p:style>
        <p:txBody>
          <a:bodyPr wrap="none" lIns="90000" rIns="90000" tIns="46800" bIns="46800" anchor="t">
            <a:spAutoFit/>
          </a:bodyPr>
          <a:p>
            <a:pPr marL="723960" indent="-72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Objective setting</a:t>
            </a:r>
            <a:endParaRPr b="0" lang="en-US" sz="3600" spc="-1" strike="noStrike">
              <a:solidFill>
                <a:srgbClr val="000000"/>
              </a:solidFill>
              <a:latin typeface="Arial"/>
            </a:endParaRPr>
          </a:p>
        </p:txBody>
      </p:sp>
      <p:sp>
        <p:nvSpPr>
          <p:cNvPr id="640" name=""/>
          <p:cNvSpPr/>
          <p:nvPr/>
        </p:nvSpPr>
        <p:spPr>
          <a:xfrm>
            <a:off x="120600" y="3651120"/>
            <a:ext cx="7331400" cy="642600"/>
          </a:xfrm>
          <a:prstGeom prst="rect">
            <a:avLst/>
          </a:prstGeom>
          <a:noFill/>
          <a:ln w="0">
            <a:noFill/>
          </a:ln>
        </p:spPr>
        <p:style>
          <a:lnRef idx="0"/>
          <a:fillRef idx="0"/>
          <a:effectRef idx="0"/>
          <a:fontRef idx="minor"/>
        </p:style>
        <p:txBody>
          <a:bodyPr wrap="none" lIns="90000" rIns="90000" tIns="46800" bIns="46800" anchor="t">
            <a:spAutoFit/>
          </a:bodyPr>
          <a:p>
            <a:pPr marL="723960" indent="-72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Prioritising monitoring effor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641" name=""/>
          <p:cNvSpPr/>
          <p:nvPr/>
        </p:nvSpPr>
        <p:spPr>
          <a:xfrm>
            <a:off x="1620720" y="765000"/>
            <a:ext cx="2880000" cy="1872000"/>
          </a:xfrm>
          <a:prstGeom prst="rect">
            <a:avLst/>
          </a:prstGeom>
          <a:solidFill>
            <a:srgbClr val="ffffff"/>
          </a:solidFill>
          <a:ln w="3816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500720" y="765000"/>
            <a:ext cx="2879640" cy="1872000"/>
          </a:xfrm>
          <a:prstGeom prst="rect">
            <a:avLst/>
          </a:prstGeom>
          <a:solidFill>
            <a:srgbClr val="ffffff"/>
          </a:solidFill>
          <a:ln w="38160">
            <a:solidFill>
              <a:srgbClr val="990099"/>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4824360" y="923760"/>
            <a:ext cx="2232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ss than high confidence</a:t>
            </a:r>
            <a:endParaRPr b="0" lang="en-US" sz="3200" spc="-1" strike="noStrike">
              <a:solidFill>
                <a:srgbClr val="000000"/>
              </a:solidFill>
              <a:latin typeface="Arial"/>
            </a:endParaRPr>
          </a:p>
        </p:txBody>
      </p:sp>
      <p:sp>
        <p:nvSpPr>
          <p:cNvPr id="644" name=""/>
          <p:cNvSpPr/>
          <p:nvPr/>
        </p:nvSpPr>
        <p:spPr>
          <a:xfrm>
            <a:off x="1944720" y="1166760"/>
            <a:ext cx="223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igh confidence</a:t>
            </a:r>
            <a:endParaRPr b="0" lang="en-US" sz="3200" spc="-1" strike="noStrike">
              <a:solidFill>
                <a:srgbClr val="000000"/>
              </a:solidFill>
              <a:latin typeface="Arial"/>
            </a:endParaRPr>
          </a:p>
        </p:txBody>
      </p:sp>
      <p:grpSp>
        <p:nvGrpSpPr>
          <p:cNvPr id="645" name=""/>
          <p:cNvGrpSpPr/>
          <p:nvPr/>
        </p:nvGrpSpPr>
        <p:grpSpPr>
          <a:xfrm>
            <a:off x="4643280" y="311400"/>
            <a:ext cx="4500720" cy="5638680"/>
            <a:chOff x="4643280" y="311400"/>
            <a:chExt cx="4500720" cy="5638680"/>
          </a:xfrm>
        </p:grpSpPr>
        <p:grpSp>
          <p:nvGrpSpPr>
            <p:cNvPr id="646" name=""/>
            <p:cNvGrpSpPr/>
            <p:nvPr/>
          </p:nvGrpSpPr>
          <p:grpSpPr>
            <a:xfrm>
              <a:off x="6797520" y="311400"/>
              <a:ext cx="2346480" cy="2198520"/>
              <a:chOff x="6797520" y="311400"/>
              <a:chExt cx="2346480" cy="2198520"/>
            </a:xfrm>
          </p:grpSpPr>
          <p:sp>
            <p:nvSpPr>
              <p:cNvPr id="647" name=""/>
              <p:cNvSpPr/>
              <p:nvPr/>
            </p:nvSpPr>
            <p:spPr>
              <a:xfrm flipH="1" rot="19200000">
                <a:off x="7623720" y="836280"/>
                <a:ext cx="1677600" cy="1209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8" name=""/>
              <p:cNvGrpSpPr/>
              <p:nvPr/>
            </p:nvGrpSpPr>
            <p:grpSpPr>
              <a:xfrm>
                <a:off x="7088040" y="1108440"/>
                <a:ext cx="819000" cy="1019520"/>
                <a:chOff x="7088040" y="1108440"/>
                <a:chExt cx="819000" cy="1019520"/>
              </a:xfrm>
            </p:grpSpPr>
            <p:grpSp>
              <p:nvGrpSpPr>
                <p:cNvPr id="649" name=""/>
                <p:cNvGrpSpPr/>
                <p:nvPr/>
              </p:nvGrpSpPr>
              <p:grpSpPr>
                <a:xfrm>
                  <a:off x="7268040" y="1108440"/>
                  <a:ext cx="439920" cy="825840"/>
                  <a:chOff x="7268040" y="1108440"/>
                  <a:chExt cx="439920" cy="825840"/>
                </a:xfrm>
              </p:grpSpPr>
              <p:grpSp>
                <p:nvGrpSpPr>
                  <p:cNvPr id="650" name=""/>
                  <p:cNvGrpSpPr/>
                  <p:nvPr/>
                </p:nvGrpSpPr>
                <p:grpSpPr>
                  <a:xfrm>
                    <a:off x="7268040" y="1108440"/>
                    <a:ext cx="439920" cy="825840"/>
                    <a:chOff x="7268040" y="1108440"/>
                    <a:chExt cx="439920" cy="825840"/>
                  </a:xfrm>
                </p:grpSpPr>
                <p:sp>
                  <p:nvSpPr>
                    <p:cNvPr id="651" name=""/>
                    <p:cNvSpPr/>
                    <p:nvPr/>
                  </p:nvSpPr>
                  <p:spPr>
                    <a:xfrm flipH="1" rot="15780000">
                      <a:off x="7256520" y="1254240"/>
                      <a:ext cx="44388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rot="13320000">
                      <a:off x="7362000" y="1559160"/>
                      <a:ext cx="19116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H="1" rot="15780000">
                      <a:off x="7383960" y="1164600"/>
                      <a:ext cx="52560" cy="651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54" name=""/>
                    <p:cNvSpPr/>
                    <p:nvPr/>
                  </p:nvSpPr>
                  <p:spPr>
                    <a:xfrm flipV="1" rot="20100000">
                      <a:off x="7517880" y="1223640"/>
                      <a:ext cx="153720" cy="205560"/>
                    </a:xfrm>
                    <a:custGeom>
                      <a:avLst/>
                      <a:gdLst>
                        <a:gd name="textAreaLeft" fmla="*/ 33840 w 153720"/>
                        <a:gd name="textAreaRight" fmla="*/ 119880 w 153720"/>
                        <a:gd name="textAreaTop" fmla="*/ 45000 h 205560"/>
                        <a:gd name="textAreaBottom" fmla="*/ 160560 h 205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flipH="1" rot="15420000">
                      <a:off x="7258680" y="1404360"/>
                      <a:ext cx="231120" cy="85320"/>
                    </a:xfrm>
                    <a:prstGeom prst="parallelogram">
                      <a:avLst>
                        <a:gd name="adj" fmla="val 67709"/>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6" name=""/>
                    <p:cNvSpPr/>
                    <p:nvPr/>
                  </p:nvSpPr>
                  <p:spPr>
                    <a:xfrm flipH="1" rot="15780000">
                      <a:off x="7397280" y="1166400"/>
                      <a:ext cx="2088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657" name=""/>
                  <p:cNvSpPr/>
                  <p:nvPr/>
                </p:nvSpPr>
                <p:spPr>
                  <a:xfrm flipH="1">
                    <a:off x="7466400" y="1122840"/>
                    <a:ext cx="25560" cy="7956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658" name=""/>
                <p:cNvGrpSpPr/>
                <p:nvPr/>
              </p:nvGrpSpPr>
              <p:grpSpPr>
                <a:xfrm>
                  <a:off x="7380360" y="1151640"/>
                  <a:ext cx="440640" cy="825840"/>
                  <a:chOff x="7380360" y="1151640"/>
                  <a:chExt cx="440640" cy="825840"/>
                </a:xfrm>
              </p:grpSpPr>
              <p:grpSp>
                <p:nvGrpSpPr>
                  <p:cNvPr id="659" name=""/>
                  <p:cNvGrpSpPr/>
                  <p:nvPr/>
                </p:nvGrpSpPr>
                <p:grpSpPr>
                  <a:xfrm>
                    <a:off x="7380360" y="1151640"/>
                    <a:ext cx="440640" cy="825840"/>
                    <a:chOff x="7380360" y="1151640"/>
                    <a:chExt cx="440640" cy="825840"/>
                  </a:xfrm>
                </p:grpSpPr>
                <p:sp>
                  <p:nvSpPr>
                    <p:cNvPr id="660" name=""/>
                    <p:cNvSpPr/>
                    <p:nvPr/>
                  </p:nvSpPr>
                  <p:spPr>
                    <a:xfrm flipH="1" rot="15780000">
                      <a:off x="7369200" y="1297440"/>
                      <a:ext cx="44388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flipH="1" rot="13320000">
                      <a:off x="7474320" y="1602360"/>
                      <a:ext cx="19116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rot="15780000">
                      <a:off x="7496640" y="1207800"/>
                      <a:ext cx="52560" cy="651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3" name=""/>
                    <p:cNvSpPr/>
                    <p:nvPr/>
                  </p:nvSpPr>
                  <p:spPr>
                    <a:xfrm flipV="1" rot="20100000">
                      <a:off x="7631280" y="1266840"/>
                      <a:ext cx="153360" cy="205200"/>
                    </a:xfrm>
                    <a:custGeom>
                      <a:avLst/>
                      <a:gdLst>
                        <a:gd name="textAreaLeft" fmla="*/ 33480 w 153360"/>
                        <a:gd name="textAreaRight" fmla="*/ 119880 w 15336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H="1" rot="15420000">
                      <a:off x="7371360" y="1447560"/>
                      <a:ext cx="231120" cy="85680"/>
                    </a:xfrm>
                    <a:prstGeom prst="parallelogram">
                      <a:avLst>
                        <a:gd name="adj" fmla="val 6742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5" name=""/>
                    <p:cNvSpPr/>
                    <p:nvPr/>
                  </p:nvSpPr>
                  <p:spPr>
                    <a:xfrm flipH="1" rot="15780000">
                      <a:off x="7509600" y="1209960"/>
                      <a:ext cx="2124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666" name=""/>
                  <p:cNvSpPr/>
                  <p:nvPr/>
                </p:nvSpPr>
                <p:spPr>
                  <a:xfrm flipH="1">
                    <a:off x="7579080" y="1166040"/>
                    <a:ext cx="25560" cy="7956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667" name=""/>
                <p:cNvGrpSpPr/>
                <p:nvPr/>
              </p:nvGrpSpPr>
              <p:grpSpPr>
                <a:xfrm>
                  <a:off x="7095600" y="1224360"/>
                  <a:ext cx="524520" cy="794520"/>
                  <a:chOff x="7095600" y="1224360"/>
                  <a:chExt cx="524520" cy="794520"/>
                </a:xfrm>
              </p:grpSpPr>
              <p:grpSp>
                <p:nvGrpSpPr>
                  <p:cNvPr id="668" name=""/>
                  <p:cNvGrpSpPr/>
                  <p:nvPr/>
                </p:nvGrpSpPr>
                <p:grpSpPr>
                  <a:xfrm>
                    <a:off x="7095600" y="1224360"/>
                    <a:ext cx="524520" cy="794520"/>
                    <a:chOff x="7095600" y="1224360"/>
                    <a:chExt cx="524520" cy="794520"/>
                  </a:xfrm>
                </p:grpSpPr>
                <p:sp>
                  <p:nvSpPr>
                    <p:cNvPr id="669" name=""/>
                    <p:cNvSpPr/>
                    <p:nvPr/>
                  </p:nvSpPr>
                  <p:spPr>
                    <a:xfrm flipH="1" rot="16560000">
                      <a:off x="7184880" y="1369080"/>
                      <a:ext cx="443520" cy="169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flipH="1" rot="14100000">
                      <a:off x="7201080" y="1658880"/>
                      <a:ext cx="191160" cy="357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H="1" rot="16560000">
                      <a:off x="7344720" y="1268280"/>
                      <a:ext cx="5400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672" name=""/>
                    <p:cNvSpPr/>
                    <p:nvPr/>
                  </p:nvSpPr>
                  <p:spPr>
                    <a:xfrm flipV="1" rot="20880000">
                      <a:off x="7446240" y="1363680"/>
                      <a:ext cx="153720" cy="206280"/>
                    </a:xfrm>
                    <a:custGeom>
                      <a:avLst/>
                      <a:gdLst>
                        <a:gd name="textAreaLeft" fmla="*/ 33840 w 153720"/>
                        <a:gd name="textAreaRight" fmla="*/ 119880 w 153720"/>
                        <a:gd name="textAreaTop" fmla="*/ 45360 h 206280"/>
                        <a:gd name="textAreaBottom" fmla="*/ 160920 h 206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rot="16200000">
                      <a:off x="7166880" y="1493640"/>
                      <a:ext cx="232200" cy="84240"/>
                    </a:xfrm>
                    <a:prstGeom prst="parallelogram">
                      <a:avLst>
                        <a:gd name="adj" fmla="val 68897"/>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74" name=""/>
                    <p:cNvSpPr/>
                    <p:nvPr/>
                  </p:nvSpPr>
                  <p:spPr>
                    <a:xfrm flipH="1" rot="16560000">
                      <a:off x="7363440" y="1269000"/>
                      <a:ext cx="21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675" name=""/>
                  <p:cNvSpPr/>
                  <p:nvPr/>
                </p:nvSpPr>
                <p:spPr>
                  <a:xfrm flipH="1">
                    <a:off x="7430760" y="1240920"/>
                    <a:ext cx="19800" cy="83160"/>
                  </a:xfrm>
                  <a:custGeom>
                    <a:avLst/>
                    <a:gdLst/>
                    <a:ahLst/>
                    <a:rect l="l" t="t" r="r" b="b"/>
                    <a:pathLst>
                      <a:path w="17" h="71">
                        <a:moveTo>
                          <a:pt x="2" y="0"/>
                        </a:moveTo>
                        <a:lnTo>
                          <a:pt x="4" y="6"/>
                        </a:lnTo>
                        <a:lnTo>
                          <a:pt x="7" y="10"/>
                        </a:lnTo>
                        <a:lnTo>
                          <a:pt x="11" y="14"/>
                        </a:lnTo>
                        <a:lnTo>
                          <a:pt x="13" y="18"/>
                        </a:lnTo>
                        <a:lnTo>
                          <a:pt x="13" y="24"/>
                        </a:lnTo>
                        <a:lnTo>
                          <a:pt x="8" y="28"/>
                        </a:lnTo>
                        <a:lnTo>
                          <a:pt x="16" y="32"/>
                        </a:lnTo>
                        <a:lnTo>
                          <a:pt x="14" y="36"/>
                        </a:lnTo>
                        <a:lnTo>
                          <a:pt x="8" y="40"/>
                        </a:lnTo>
                        <a:lnTo>
                          <a:pt x="8" y="46"/>
                        </a:lnTo>
                        <a:lnTo>
                          <a:pt x="10" y="49"/>
                        </a:lnTo>
                        <a:lnTo>
                          <a:pt x="11" y="54"/>
                        </a:lnTo>
                        <a:lnTo>
                          <a:pt x="13" y="58"/>
                        </a:lnTo>
                        <a:lnTo>
                          <a:pt x="11" y="64"/>
                        </a:lnTo>
                        <a:lnTo>
                          <a:pt x="4" y="68"/>
                        </a:lnTo>
                        <a:lnTo>
                          <a:pt x="0" y="70"/>
                        </a:lnTo>
                      </a:path>
                    </a:pathLst>
                  </a:custGeom>
                  <a:noFill/>
                  <a:ln cap="rnd" w="126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676" name=""/>
                <p:cNvGrpSpPr/>
                <p:nvPr/>
              </p:nvGrpSpPr>
              <p:grpSpPr>
                <a:xfrm>
                  <a:off x="7088040" y="1246680"/>
                  <a:ext cx="440640" cy="826200"/>
                  <a:chOff x="7088040" y="1246680"/>
                  <a:chExt cx="440640" cy="826200"/>
                </a:xfrm>
              </p:grpSpPr>
              <p:grpSp>
                <p:nvGrpSpPr>
                  <p:cNvPr id="677" name=""/>
                  <p:cNvGrpSpPr/>
                  <p:nvPr/>
                </p:nvGrpSpPr>
                <p:grpSpPr>
                  <a:xfrm>
                    <a:off x="7088040" y="1246680"/>
                    <a:ext cx="440640" cy="826200"/>
                    <a:chOff x="7088040" y="1246680"/>
                    <a:chExt cx="440640" cy="826200"/>
                  </a:xfrm>
                </p:grpSpPr>
                <p:sp>
                  <p:nvSpPr>
                    <p:cNvPr id="678" name=""/>
                    <p:cNvSpPr/>
                    <p:nvPr/>
                  </p:nvSpPr>
                  <p:spPr>
                    <a:xfrm flipH="1" rot="15780000">
                      <a:off x="7076880" y="1392480"/>
                      <a:ext cx="44388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rot="13320000">
                      <a:off x="7182000" y="1697760"/>
                      <a:ext cx="19116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rot="15780000">
                      <a:off x="7204320" y="1302840"/>
                      <a:ext cx="52560" cy="651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1" name=""/>
                    <p:cNvSpPr/>
                    <p:nvPr/>
                  </p:nvSpPr>
                  <p:spPr>
                    <a:xfrm flipV="1" rot="20100000">
                      <a:off x="7338960" y="1361880"/>
                      <a:ext cx="153360" cy="205200"/>
                    </a:xfrm>
                    <a:custGeom>
                      <a:avLst/>
                      <a:gdLst>
                        <a:gd name="textAreaLeft" fmla="*/ 33480 w 153360"/>
                        <a:gd name="textAreaRight" fmla="*/ 119880 w 15336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flipH="1" rot="15420000">
                      <a:off x="7079040" y="1542600"/>
                      <a:ext cx="231120" cy="85680"/>
                    </a:xfrm>
                    <a:prstGeom prst="parallelogram">
                      <a:avLst>
                        <a:gd name="adj" fmla="val 6742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3" name=""/>
                    <p:cNvSpPr/>
                    <p:nvPr/>
                  </p:nvSpPr>
                  <p:spPr>
                    <a:xfrm flipH="1" rot="15780000">
                      <a:off x="7217280" y="1305000"/>
                      <a:ext cx="2124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684" name=""/>
                  <p:cNvSpPr/>
                  <p:nvPr/>
                </p:nvSpPr>
                <p:spPr>
                  <a:xfrm flipH="1">
                    <a:off x="7286760" y="1261080"/>
                    <a:ext cx="25560" cy="7956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685" name=""/>
                <p:cNvGrpSpPr/>
                <p:nvPr/>
              </p:nvGrpSpPr>
              <p:grpSpPr>
                <a:xfrm>
                  <a:off x="7420320" y="1191600"/>
                  <a:ext cx="441000" cy="825840"/>
                  <a:chOff x="7420320" y="1191600"/>
                  <a:chExt cx="441000" cy="825840"/>
                </a:xfrm>
              </p:grpSpPr>
              <p:grpSp>
                <p:nvGrpSpPr>
                  <p:cNvPr id="686" name=""/>
                  <p:cNvGrpSpPr/>
                  <p:nvPr/>
                </p:nvGrpSpPr>
                <p:grpSpPr>
                  <a:xfrm>
                    <a:off x="7420320" y="1191600"/>
                    <a:ext cx="441000" cy="825840"/>
                    <a:chOff x="7420320" y="1191600"/>
                    <a:chExt cx="441000" cy="825840"/>
                  </a:xfrm>
                </p:grpSpPr>
                <p:sp>
                  <p:nvSpPr>
                    <p:cNvPr id="687" name=""/>
                    <p:cNvSpPr/>
                    <p:nvPr/>
                  </p:nvSpPr>
                  <p:spPr>
                    <a:xfrm rot="5820000">
                      <a:off x="7428600" y="1337760"/>
                      <a:ext cx="443880" cy="168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rot="8280000">
                      <a:off x="7575120" y="1642320"/>
                      <a:ext cx="19116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rot="5820000">
                      <a:off x="7690320" y="1247760"/>
                      <a:ext cx="52560" cy="651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0" name=""/>
                    <p:cNvSpPr/>
                    <p:nvPr/>
                  </p:nvSpPr>
                  <p:spPr>
                    <a:xfrm flipH="1" flipV="1" rot="1500000">
                      <a:off x="7455960" y="1306800"/>
                      <a:ext cx="153360" cy="205200"/>
                    </a:xfrm>
                    <a:custGeom>
                      <a:avLst/>
                      <a:gdLst>
                        <a:gd name="textAreaLeft" fmla="*/ 33480 w 153360"/>
                        <a:gd name="textAreaRight" fmla="*/ 119880 w 15336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rot="6180000">
                      <a:off x="7638480" y="1487520"/>
                      <a:ext cx="231120" cy="85320"/>
                    </a:xfrm>
                    <a:prstGeom prst="parallelogram">
                      <a:avLst>
                        <a:gd name="adj" fmla="val 67709"/>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92" name=""/>
                    <p:cNvSpPr/>
                    <p:nvPr/>
                  </p:nvSpPr>
                  <p:spPr>
                    <a:xfrm rot="5820000">
                      <a:off x="7711920" y="1249560"/>
                      <a:ext cx="2088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693" name=""/>
                  <p:cNvSpPr/>
                  <p:nvPr/>
                </p:nvSpPr>
                <p:spPr>
                  <a:xfrm flipH="1">
                    <a:off x="7634160" y="1206000"/>
                    <a:ext cx="25560" cy="79560"/>
                  </a:xfrm>
                  <a:custGeom>
                    <a:avLst/>
                    <a:gdLst/>
                    <a:ahLst/>
                    <a:rect l="l" t="t" r="r" b="b"/>
                    <a:pathLst>
                      <a:path w="22" h="68">
                        <a:moveTo>
                          <a:pt x="3" y="0"/>
                        </a:moveTo>
                        <a:lnTo>
                          <a:pt x="3" y="6"/>
                        </a:lnTo>
                        <a:lnTo>
                          <a:pt x="2" y="10"/>
                        </a:lnTo>
                        <a:lnTo>
                          <a:pt x="0" y="15"/>
                        </a:lnTo>
                        <a:lnTo>
                          <a:pt x="0" y="19"/>
                        </a:lnTo>
                        <a:lnTo>
                          <a:pt x="2" y="24"/>
                        </a:lnTo>
                        <a:lnTo>
                          <a:pt x="5" y="28"/>
                        </a:lnTo>
                        <a:lnTo>
                          <a:pt x="2" y="33"/>
                        </a:lnTo>
                        <a:lnTo>
                          <a:pt x="3" y="37"/>
                        </a:lnTo>
                        <a:lnTo>
                          <a:pt x="8" y="40"/>
                        </a:lnTo>
                        <a:lnTo>
                          <a:pt x="9" y="45"/>
                        </a:lnTo>
                        <a:lnTo>
                          <a:pt x="9" y="49"/>
                        </a:lnTo>
                        <a:lnTo>
                          <a:pt x="9" y="54"/>
                        </a:lnTo>
                        <a:lnTo>
                          <a:pt x="9" y="58"/>
                        </a:lnTo>
                        <a:lnTo>
                          <a:pt x="12" y="63"/>
                        </a:lnTo>
                        <a:lnTo>
                          <a:pt x="17" y="66"/>
                        </a:lnTo>
                        <a:lnTo>
                          <a:pt x="21" y="6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694" name=""/>
                <p:cNvGrpSpPr/>
                <p:nvPr/>
              </p:nvGrpSpPr>
              <p:grpSpPr>
                <a:xfrm>
                  <a:off x="7466040" y="1301760"/>
                  <a:ext cx="441000" cy="826200"/>
                  <a:chOff x="7466040" y="1301760"/>
                  <a:chExt cx="441000" cy="826200"/>
                </a:xfrm>
              </p:grpSpPr>
              <p:grpSp>
                <p:nvGrpSpPr>
                  <p:cNvPr id="695" name=""/>
                  <p:cNvGrpSpPr/>
                  <p:nvPr/>
                </p:nvGrpSpPr>
                <p:grpSpPr>
                  <a:xfrm>
                    <a:off x="7466040" y="1301760"/>
                    <a:ext cx="441000" cy="826200"/>
                    <a:chOff x="7466040" y="1301760"/>
                    <a:chExt cx="441000" cy="826200"/>
                  </a:xfrm>
                </p:grpSpPr>
                <p:sp>
                  <p:nvSpPr>
                    <p:cNvPr id="696" name=""/>
                    <p:cNvSpPr/>
                    <p:nvPr/>
                  </p:nvSpPr>
                  <p:spPr>
                    <a:xfrm rot="5820000">
                      <a:off x="7474320" y="1447920"/>
                      <a:ext cx="443880" cy="168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rot="8280000">
                      <a:off x="7620840" y="1752840"/>
                      <a:ext cx="19116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rot="5820000">
                      <a:off x="7736400" y="1357920"/>
                      <a:ext cx="5292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699" name=""/>
                    <p:cNvSpPr/>
                    <p:nvPr/>
                  </p:nvSpPr>
                  <p:spPr>
                    <a:xfrm flipH="1" flipV="1" rot="1500000">
                      <a:off x="7501680" y="1416600"/>
                      <a:ext cx="153360" cy="205200"/>
                    </a:xfrm>
                    <a:custGeom>
                      <a:avLst/>
                      <a:gdLst>
                        <a:gd name="textAreaLeft" fmla="*/ 33480 w 153360"/>
                        <a:gd name="textAreaRight" fmla="*/ 119880 w 15336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6180000">
                      <a:off x="7684200" y="1597680"/>
                      <a:ext cx="231120" cy="85320"/>
                    </a:xfrm>
                    <a:prstGeom prst="parallelogram">
                      <a:avLst>
                        <a:gd name="adj" fmla="val 67709"/>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1" name=""/>
                    <p:cNvSpPr/>
                    <p:nvPr/>
                  </p:nvSpPr>
                  <p:spPr>
                    <a:xfrm rot="5820000">
                      <a:off x="7757640" y="1360080"/>
                      <a:ext cx="2088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702" name=""/>
                  <p:cNvSpPr/>
                  <p:nvPr/>
                </p:nvSpPr>
                <p:spPr>
                  <a:xfrm flipH="1">
                    <a:off x="7679880" y="1316160"/>
                    <a:ext cx="25560" cy="79560"/>
                  </a:xfrm>
                  <a:custGeom>
                    <a:avLst/>
                    <a:gdLst/>
                    <a:ahLst/>
                    <a:rect l="l" t="t" r="r" b="b"/>
                    <a:pathLst>
                      <a:path w="22" h="68">
                        <a:moveTo>
                          <a:pt x="3" y="0"/>
                        </a:moveTo>
                        <a:lnTo>
                          <a:pt x="3" y="6"/>
                        </a:lnTo>
                        <a:lnTo>
                          <a:pt x="2" y="10"/>
                        </a:lnTo>
                        <a:lnTo>
                          <a:pt x="0" y="15"/>
                        </a:lnTo>
                        <a:lnTo>
                          <a:pt x="0" y="19"/>
                        </a:lnTo>
                        <a:lnTo>
                          <a:pt x="2" y="24"/>
                        </a:lnTo>
                        <a:lnTo>
                          <a:pt x="5" y="28"/>
                        </a:lnTo>
                        <a:lnTo>
                          <a:pt x="2" y="33"/>
                        </a:lnTo>
                        <a:lnTo>
                          <a:pt x="3" y="37"/>
                        </a:lnTo>
                        <a:lnTo>
                          <a:pt x="8" y="40"/>
                        </a:lnTo>
                        <a:lnTo>
                          <a:pt x="9" y="45"/>
                        </a:lnTo>
                        <a:lnTo>
                          <a:pt x="9" y="49"/>
                        </a:lnTo>
                        <a:lnTo>
                          <a:pt x="9" y="54"/>
                        </a:lnTo>
                        <a:lnTo>
                          <a:pt x="9" y="58"/>
                        </a:lnTo>
                        <a:lnTo>
                          <a:pt x="12" y="63"/>
                        </a:lnTo>
                        <a:lnTo>
                          <a:pt x="17" y="66"/>
                        </a:lnTo>
                        <a:lnTo>
                          <a:pt x="21" y="6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703" name=""/>
                <p:cNvGrpSpPr/>
                <p:nvPr/>
              </p:nvGrpSpPr>
              <p:grpSpPr>
                <a:xfrm>
                  <a:off x="7339680" y="1331280"/>
                  <a:ext cx="518400" cy="795960"/>
                  <a:chOff x="7339680" y="1331280"/>
                  <a:chExt cx="518400" cy="795960"/>
                </a:xfrm>
              </p:grpSpPr>
              <p:grpSp>
                <p:nvGrpSpPr>
                  <p:cNvPr id="704" name=""/>
                  <p:cNvGrpSpPr/>
                  <p:nvPr/>
                </p:nvGrpSpPr>
                <p:grpSpPr>
                  <a:xfrm>
                    <a:off x="7339680" y="1331280"/>
                    <a:ext cx="518400" cy="795960"/>
                    <a:chOff x="7339680" y="1331280"/>
                    <a:chExt cx="518400" cy="795960"/>
                  </a:xfrm>
                </p:grpSpPr>
                <p:sp>
                  <p:nvSpPr>
                    <p:cNvPr id="705" name=""/>
                    <p:cNvSpPr/>
                    <p:nvPr/>
                  </p:nvSpPr>
                  <p:spPr>
                    <a:xfrm rot="5100000">
                      <a:off x="7333200" y="1474920"/>
                      <a:ext cx="44352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rot="7560000">
                      <a:off x="7562520" y="1767240"/>
                      <a:ext cx="19008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rot="5100000">
                      <a:off x="7565040" y="1375200"/>
                      <a:ext cx="52560" cy="644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08" name=""/>
                    <p:cNvSpPr/>
                    <p:nvPr/>
                  </p:nvSpPr>
                  <p:spPr>
                    <a:xfrm flipH="1" flipV="1" rot="780000">
                      <a:off x="7360560" y="1467000"/>
                      <a:ext cx="154800" cy="206280"/>
                    </a:xfrm>
                    <a:custGeom>
                      <a:avLst/>
                      <a:gdLst>
                        <a:gd name="textAreaLeft" fmla="*/ 33840 w 154800"/>
                        <a:gd name="textAreaRight" fmla="*/ 120960 w 154800"/>
                        <a:gd name="textAreaTop" fmla="*/ 45360 h 206280"/>
                        <a:gd name="textAreaBottom" fmla="*/ 160920 h 206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rot="5460000">
                      <a:off x="7563600" y="1600920"/>
                      <a:ext cx="232200" cy="85680"/>
                    </a:xfrm>
                    <a:prstGeom prst="parallelogram">
                      <a:avLst>
                        <a:gd name="adj" fmla="val 67739"/>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10" name=""/>
                    <p:cNvSpPr/>
                    <p:nvPr/>
                  </p:nvSpPr>
                  <p:spPr>
                    <a:xfrm rot="5100000">
                      <a:off x="7581600" y="1375200"/>
                      <a:ext cx="21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711" name=""/>
                  <p:cNvSpPr/>
                  <p:nvPr/>
                </p:nvSpPr>
                <p:spPr>
                  <a:xfrm flipH="1">
                    <a:off x="7506000" y="1346760"/>
                    <a:ext cx="19800" cy="82080"/>
                  </a:xfrm>
                  <a:custGeom>
                    <a:avLst/>
                    <a:gdLst/>
                    <a:ahLst/>
                    <a:rect l="l" t="t" r="r" b="b"/>
                    <a:pathLst>
                      <a:path w="17" h="70">
                        <a:moveTo>
                          <a:pt x="10" y="0"/>
                        </a:moveTo>
                        <a:lnTo>
                          <a:pt x="9" y="6"/>
                        </a:lnTo>
                        <a:lnTo>
                          <a:pt x="6" y="9"/>
                        </a:lnTo>
                        <a:lnTo>
                          <a:pt x="2" y="14"/>
                        </a:lnTo>
                        <a:lnTo>
                          <a:pt x="1" y="18"/>
                        </a:lnTo>
                        <a:lnTo>
                          <a:pt x="2" y="23"/>
                        </a:lnTo>
                        <a:lnTo>
                          <a:pt x="5" y="28"/>
                        </a:lnTo>
                        <a:lnTo>
                          <a:pt x="0" y="32"/>
                        </a:lnTo>
                        <a:lnTo>
                          <a:pt x="0" y="36"/>
                        </a:lnTo>
                        <a:lnTo>
                          <a:pt x="6" y="40"/>
                        </a:lnTo>
                        <a:lnTo>
                          <a:pt x="5" y="45"/>
                        </a:lnTo>
                        <a:lnTo>
                          <a:pt x="5" y="49"/>
                        </a:lnTo>
                        <a:lnTo>
                          <a:pt x="4" y="54"/>
                        </a:lnTo>
                        <a:lnTo>
                          <a:pt x="2" y="58"/>
                        </a:lnTo>
                        <a:lnTo>
                          <a:pt x="5" y="63"/>
                        </a:lnTo>
                        <a:lnTo>
                          <a:pt x="10" y="67"/>
                        </a:lnTo>
                        <a:lnTo>
                          <a:pt x="16" y="69"/>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grpSp>
            <p:nvGrpSpPr>
              <p:cNvPr id="712" name=""/>
              <p:cNvGrpSpPr/>
              <p:nvPr/>
            </p:nvGrpSpPr>
            <p:grpSpPr>
              <a:xfrm>
                <a:off x="6966000" y="1241640"/>
                <a:ext cx="941760" cy="1010880"/>
                <a:chOff x="6966000" y="1241640"/>
                <a:chExt cx="941760" cy="1010880"/>
              </a:xfrm>
            </p:grpSpPr>
            <p:grpSp>
              <p:nvGrpSpPr>
                <p:cNvPr id="713" name=""/>
                <p:cNvGrpSpPr/>
                <p:nvPr/>
              </p:nvGrpSpPr>
              <p:grpSpPr>
                <a:xfrm>
                  <a:off x="7081200" y="1244880"/>
                  <a:ext cx="462600" cy="811800"/>
                  <a:chOff x="7081200" y="1244880"/>
                  <a:chExt cx="462600" cy="811800"/>
                </a:xfrm>
              </p:grpSpPr>
              <p:grpSp>
                <p:nvGrpSpPr>
                  <p:cNvPr id="714" name=""/>
                  <p:cNvGrpSpPr/>
                  <p:nvPr/>
                </p:nvGrpSpPr>
                <p:grpSpPr>
                  <a:xfrm>
                    <a:off x="7081200" y="1244880"/>
                    <a:ext cx="462600" cy="811800"/>
                    <a:chOff x="7081200" y="1244880"/>
                    <a:chExt cx="462600" cy="811800"/>
                  </a:xfrm>
                </p:grpSpPr>
                <p:sp>
                  <p:nvSpPr>
                    <p:cNvPr id="715" name=""/>
                    <p:cNvSpPr/>
                    <p:nvPr/>
                  </p:nvSpPr>
                  <p:spPr>
                    <a:xfrm flipH="1" rot="14460000">
                      <a:off x="7040160" y="1395000"/>
                      <a:ext cx="44352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flipH="1" rot="12000000">
                      <a:off x="7295760" y="1677960"/>
                      <a:ext cx="192240" cy="356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flipH="1" rot="14460000">
                      <a:off x="7120080" y="1339920"/>
                      <a:ext cx="52920" cy="666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8" name=""/>
                    <p:cNvSpPr/>
                    <p:nvPr/>
                  </p:nvSpPr>
                  <p:spPr>
                    <a:xfrm flipV="1" rot="18780000">
                      <a:off x="7288920" y="1320120"/>
                      <a:ext cx="153720" cy="205200"/>
                    </a:xfrm>
                    <a:custGeom>
                      <a:avLst/>
                      <a:gdLst>
                        <a:gd name="textAreaLeft" fmla="*/ 33840 w 153720"/>
                        <a:gd name="textAreaRight" fmla="*/ 119880 w 15372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rot="14100000">
                      <a:off x="7090560" y="1574280"/>
                      <a:ext cx="232200" cy="86760"/>
                    </a:xfrm>
                    <a:prstGeom prst="parallelogram">
                      <a:avLst>
                        <a:gd name="adj" fmla="val 66896"/>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20" name=""/>
                    <p:cNvSpPr/>
                    <p:nvPr/>
                  </p:nvSpPr>
                  <p:spPr>
                    <a:xfrm flipH="1" rot="14460000">
                      <a:off x="7123680" y="1344960"/>
                      <a:ext cx="2160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721" name=""/>
                  <p:cNvSpPr/>
                  <p:nvPr/>
                </p:nvSpPr>
                <p:spPr>
                  <a:xfrm flipH="1">
                    <a:off x="7173720" y="1281240"/>
                    <a:ext cx="49320" cy="66960"/>
                  </a:xfrm>
                  <a:custGeom>
                    <a:avLst/>
                    <a:gdLst/>
                    <a:ahLst/>
                    <a:rect l="l" t="t" r="r" b="b"/>
                    <a:pathLst>
                      <a:path w="42" h="57">
                        <a:moveTo>
                          <a:pt x="41" y="0"/>
                        </a:moveTo>
                        <a:lnTo>
                          <a:pt x="39" y="6"/>
                        </a:lnTo>
                        <a:lnTo>
                          <a:pt x="39" y="10"/>
                        </a:lnTo>
                        <a:lnTo>
                          <a:pt x="39" y="15"/>
                        </a:lnTo>
                        <a:lnTo>
                          <a:pt x="37" y="19"/>
                        </a:lnTo>
                        <a:lnTo>
                          <a:pt x="33" y="23"/>
                        </a:lnTo>
                        <a:lnTo>
                          <a:pt x="29" y="26"/>
                        </a:lnTo>
                        <a:lnTo>
                          <a:pt x="30" y="31"/>
                        </a:lnTo>
                        <a:lnTo>
                          <a:pt x="28" y="35"/>
                        </a:lnTo>
                        <a:lnTo>
                          <a:pt x="22" y="36"/>
                        </a:lnTo>
                        <a:lnTo>
                          <a:pt x="19" y="40"/>
                        </a:lnTo>
                        <a:lnTo>
                          <a:pt x="17" y="44"/>
                        </a:lnTo>
                        <a:lnTo>
                          <a:pt x="16" y="48"/>
                        </a:lnTo>
                        <a:lnTo>
                          <a:pt x="14" y="52"/>
                        </a:lnTo>
                        <a:lnTo>
                          <a:pt x="9" y="55"/>
                        </a:lnTo>
                        <a:lnTo>
                          <a:pt x="4" y="56"/>
                        </a:lnTo>
                        <a:lnTo>
                          <a:pt x="0" y="5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722" name=""/>
                <p:cNvGrpSpPr/>
                <p:nvPr/>
              </p:nvGrpSpPr>
              <p:grpSpPr>
                <a:xfrm>
                  <a:off x="7200720" y="1241640"/>
                  <a:ext cx="464400" cy="813960"/>
                  <a:chOff x="7200720" y="1241640"/>
                  <a:chExt cx="464400" cy="813960"/>
                </a:xfrm>
              </p:grpSpPr>
              <p:grpSp>
                <p:nvGrpSpPr>
                  <p:cNvPr id="723" name=""/>
                  <p:cNvGrpSpPr/>
                  <p:nvPr/>
                </p:nvGrpSpPr>
                <p:grpSpPr>
                  <a:xfrm>
                    <a:off x="7200720" y="1241640"/>
                    <a:ext cx="464400" cy="813960"/>
                    <a:chOff x="7200720" y="1241640"/>
                    <a:chExt cx="464400" cy="813960"/>
                  </a:xfrm>
                </p:grpSpPr>
                <p:sp>
                  <p:nvSpPr>
                    <p:cNvPr id="724" name=""/>
                    <p:cNvSpPr/>
                    <p:nvPr/>
                  </p:nvSpPr>
                  <p:spPr>
                    <a:xfrm flipH="1" rot="14460000">
                      <a:off x="7159320" y="1392120"/>
                      <a:ext cx="44460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flipH="1" rot="12000000">
                      <a:off x="7417440" y="1676160"/>
                      <a:ext cx="192240" cy="357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flipH="1" rot="14460000">
                      <a:off x="7240320" y="1338120"/>
                      <a:ext cx="5292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27" name=""/>
                    <p:cNvSpPr/>
                    <p:nvPr/>
                  </p:nvSpPr>
                  <p:spPr>
                    <a:xfrm flipV="1" rot="18780000">
                      <a:off x="7409880" y="1317960"/>
                      <a:ext cx="153720" cy="205200"/>
                    </a:xfrm>
                    <a:custGeom>
                      <a:avLst/>
                      <a:gdLst>
                        <a:gd name="textAreaLeft" fmla="*/ 33840 w 153720"/>
                        <a:gd name="textAreaRight" fmla="*/ 119880 w 15372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flipH="1" rot="14100000">
                      <a:off x="7211160" y="1573200"/>
                      <a:ext cx="231120" cy="85680"/>
                    </a:xfrm>
                    <a:prstGeom prst="parallelogram">
                      <a:avLst>
                        <a:gd name="adj" fmla="val 6742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29" name=""/>
                    <p:cNvSpPr/>
                    <p:nvPr/>
                  </p:nvSpPr>
                  <p:spPr>
                    <a:xfrm flipH="1" rot="14460000">
                      <a:off x="7245000" y="1343880"/>
                      <a:ext cx="2088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730" name=""/>
                  <p:cNvSpPr/>
                  <p:nvPr/>
                </p:nvSpPr>
                <p:spPr>
                  <a:xfrm flipH="1">
                    <a:off x="7293960" y="1280160"/>
                    <a:ext cx="50400" cy="66600"/>
                  </a:xfrm>
                  <a:custGeom>
                    <a:avLst/>
                    <a:gdLst/>
                    <a:ahLst/>
                    <a:rect l="l" t="t" r="r" b="b"/>
                    <a:pathLst>
                      <a:path w="43" h="57">
                        <a:moveTo>
                          <a:pt x="42" y="0"/>
                        </a:moveTo>
                        <a:lnTo>
                          <a:pt x="39" y="5"/>
                        </a:lnTo>
                        <a:lnTo>
                          <a:pt x="39" y="9"/>
                        </a:lnTo>
                        <a:lnTo>
                          <a:pt x="39" y="15"/>
                        </a:lnTo>
                        <a:lnTo>
                          <a:pt x="37" y="18"/>
                        </a:lnTo>
                        <a:lnTo>
                          <a:pt x="33" y="22"/>
                        </a:lnTo>
                        <a:lnTo>
                          <a:pt x="29" y="25"/>
                        </a:lnTo>
                        <a:lnTo>
                          <a:pt x="30" y="31"/>
                        </a:lnTo>
                        <a:lnTo>
                          <a:pt x="28" y="34"/>
                        </a:lnTo>
                        <a:lnTo>
                          <a:pt x="22" y="35"/>
                        </a:lnTo>
                        <a:lnTo>
                          <a:pt x="19" y="39"/>
                        </a:lnTo>
                        <a:lnTo>
                          <a:pt x="18" y="43"/>
                        </a:lnTo>
                        <a:lnTo>
                          <a:pt x="16" y="48"/>
                        </a:lnTo>
                        <a:lnTo>
                          <a:pt x="14" y="51"/>
                        </a:lnTo>
                        <a:lnTo>
                          <a:pt x="10" y="55"/>
                        </a:lnTo>
                        <a:lnTo>
                          <a:pt x="4" y="56"/>
                        </a:lnTo>
                        <a:lnTo>
                          <a:pt x="0" y="5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731" name=""/>
                <p:cNvGrpSpPr/>
                <p:nvPr/>
              </p:nvGrpSpPr>
              <p:grpSpPr>
                <a:xfrm>
                  <a:off x="7071840" y="1377000"/>
                  <a:ext cx="402120" cy="835920"/>
                  <a:chOff x="7071840" y="1377000"/>
                  <a:chExt cx="402120" cy="835920"/>
                </a:xfrm>
              </p:grpSpPr>
              <p:grpSp>
                <p:nvGrpSpPr>
                  <p:cNvPr id="732" name=""/>
                  <p:cNvGrpSpPr/>
                  <p:nvPr/>
                </p:nvGrpSpPr>
                <p:grpSpPr>
                  <a:xfrm>
                    <a:off x="7071840" y="1377000"/>
                    <a:ext cx="402120" cy="835920"/>
                    <a:chOff x="7071840" y="1377000"/>
                    <a:chExt cx="402120" cy="835920"/>
                  </a:xfrm>
                </p:grpSpPr>
                <p:sp>
                  <p:nvSpPr>
                    <p:cNvPr id="733" name=""/>
                    <p:cNvSpPr/>
                    <p:nvPr/>
                  </p:nvSpPr>
                  <p:spPr>
                    <a:xfrm flipH="1" rot="15240000">
                      <a:off x="7017840" y="1528200"/>
                      <a:ext cx="443520" cy="169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rot="12780000">
                      <a:off x="7184880" y="1831320"/>
                      <a:ext cx="192240" cy="357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flipH="1" rot="15240000">
                      <a:off x="7123680" y="1451160"/>
                      <a:ext cx="5364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36" name=""/>
                    <p:cNvSpPr/>
                    <p:nvPr/>
                  </p:nvSpPr>
                  <p:spPr>
                    <a:xfrm flipV="1" rot="19560000">
                      <a:off x="7275600" y="1478160"/>
                      <a:ext cx="153360" cy="207720"/>
                    </a:xfrm>
                    <a:custGeom>
                      <a:avLst/>
                      <a:gdLst>
                        <a:gd name="textAreaLeft" fmla="*/ 33480 w 153360"/>
                        <a:gd name="textAreaRight" fmla="*/ 119880 w 153360"/>
                        <a:gd name="textAreaTop" fmla="*/ 45720 h 207720"/>
                        <a:gd name="textAreaBottom" fmla="*/ 162000 h 207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flipH="1" rot="14880000">
                      <a:off x="7039080" y="1691640"/>
                      <a:ext cx="232200" cy="86400"/>
                    </a:xfrm>
                    <a:prstGeom prst="parallelogram">
                      <a:avLst>
                        <a:gd name="adj" fmla="val 67175"/>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38" name=""/>
                    <p:cNvSpPr/>
                    <p:nvPr/>
                  </p:nvSpPr>
                  <p:spPr>
                    <a:xfrm flipH="1" rot="15240000">
                      <a:off x="7131600" y="1452600"/>
                      <a:ext cx="2340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739" name=""/>
                  <p:cNvSpPr/>
                  <p:nvPr/>
                </p:nvSpPr>
                <p:spPr>
                  <a:xfrm flipH="1">
                    <a:off x="7191360" y="1400760"/>
                    <a:ext cx="38520" cy="76320"/>
                  </a:xfrm>
                  <a:custGeom>
                    <a:avLst/>
                    <a:gdLst/>
                    <a:ahLst/>
                    <a:rect l="l" t="t" r="r" b="b"/>
                    <a:pathLst>
                      <a:path w="33" h="65">
                        <a:moveTo>
                          <a:pt x="29" y="0"/>
                        </a:moveTo>
                        <a:lnTo>
                          <a:pt x="28" y="6"/>
                        </a:lnTo>
                        <a:lnTo>
                          <a:pt x="29" y="11"/>
                        </a:lnTo>
                        <a:lnTo>
                          <a:pt x="32" y="16"/>
                        </a:lnTo>
                        <a:lnTo>
                          <a:pt x="31" y="20"/>
                        </a:lnTo>
                        <a:lnTo>
                          <a:pt x="29" y="26"/>
                        </a:lnTo>
                        <a:lnTo>
                          <a:pt x="24" y="28"/>
                        </a:lnTo>
                        <a:lnTo>
                          <a:pt x="29" y="34"/>
                        </a:lnTo>
                        <a:lnTo>
                          <a:pt x="26" y="37"/>
                        </a:lnTo>
                        <a:lnTo>
                          <a:pt x="19" y="39"/>
                        </a:lnTo>
                        <a:lnTo>
                          <a:pt x="17" y="45"/>
                        </a:lnTo>
                        <a:lnTo>
                          <a:pt x="17" y="48"/>
                        </a:lnTo>
                        <a:lnTo>
                          <a:pt x="17" y="53"/>
                        </a:lnTo>
                        <a:lnTo>
                          <a:pt x="16" y="57"/>
                        </a:lnTo>
                        <a:lnTo>
                          <a:pt x="13" y="62"/>
                        </a:lnTo>
                        <a:lnTo>
                          <a:pt x="5" y="63"/>
                        </a:lnTo>
                        <a:lnTo>
                          <a:pt x="0" y="64"/>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40" name=""/>
                <p:cNvGrpSpPr/>
                <p:nvPr/>
              </p:nvGrpSpPr>
              <p:grpSpPr>
                <a:xfrm>
                  <a:off x="6966000" y="1440360"/>
                  <a:ext cx="463680" cy="812160"/>
                  <a:chOff x="6966000" y="1440360"/>
                  <a:chExt cx="463680" cy="812160"/>
                </a:xfrm>
              </p:grpSpPr>
              <p:grpSp>
                <p:nvGrpSpPr>
                  <p:cNvPr id="741" name=""/>
                  <p:cNvGrpSpPr/>
                  <p:nvPr/>
                </p:nvGrpSpPr>
                <p:grpSpPr>
                  <a:xfrm>
                    <a:off x="6966000" y="1440360"/>
                    <a:ext cx="463680" cy="812160"/>
                    <a:chOff x="6966000" y="1440360"/>
                    <a:chExt cx="463680" cy="812160"/>
                  </a:xfrm>
                </p:grpSpPr>
                <p:sp>
                  <p:nvSpPr>
                    <p:cNvPr id="742" name=""/>
                    <p:cNvSpPr/>
                    <p:nvPr/>
                  </p:nvSpPr>
                  <p:spPr>
                    <a:xfrm flipH="1" rot="14460000">
                      <a:off x="6926400" y="1590120"/>
                      <a:ext cx="443520" cy="170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rot="12000000">
                      <a:off x="7182720" y="1873440"/>
                      <a:ext cx="191160" cy="357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rot="14460000">
                      <a:off x="7005600" y="1535040"/>
                      <a:ext cx="5292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45" name=""/>
                    <p:cNvSpPr/>
                    <p:nvPr/>
                  </p:nvSpPr>
                  <p:spPr>
                    <a:xfrm flipV="1" rot="18780000">
                      <a:off x="7174080" y="1516320"/>
                      <a:ext cx="153720" cy="205200"/>
                    </a:xfrm>
                    <a:custGeom>
                      <a:avLst/>
                      <a:gdLst>
                        <a:gd name="textAreaLeft" fmla="*/ 33840 w 153720"/>
                        <a:gd name="textAreaRight" fmla="*/ 119880 w 15372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rot="14100000">
                      <a:off x="6975720" y="1771200"/>
                      <a:ext cx="232200" cy="84240"/>
                    </a:xfrm>
                    <a:prstGeom prst="parallelogram">
                      <a:avLst>
                        <a:gd name="adj" fmla="val 68897"/>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7" name=""/>
                    <p:cNvSpPr/>
                    <p:nvPr/>
                  </p:nvSpPr>
                  <p:spPr>
                    <a:xfrm flipH="1" rot="14460000">
                      <a:off x="7007760" y="1540080"/>
                      <a:ext cx="2232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748" name=""/>
                  <p:cNvSpPr/>
                  <p:nvPr/>
                </p:nvSpPr>
                <p:spPr>
                  <a:xfrm flipH="1">
                    <a:off x="7059240" y="1477080"/>
                    <a:ext cx="50400" cy="66600"/>
                  </a:xfrm>
                  <a:custGeom>
                    <a:avLst/>
                    <a:gdLst/>
                    <a:ahLst/>
                    <a:rect l="l" t="t" r="r" b="b"/>
                    <a:pathLst>
                      <a:path w="43" h="57">
                        <a:moveTo>
                          <a:pt x="42" y="0"/>
                        </a:moveTo>
                        <a:lnTo>
                          <a:pt x="40" y="6"/>
                        </a:lnTo>
                        <a:lnTo>
                          <a:pt x="39" y="10"/>
                        </a:lnTo>
                        <a:lnTo>
                          <a:pt x="39" y="15"/>
                        </a:lnTo>
                        <a:lnTo>
                          <a:pt x="38" y="19"/>
                        </a:lnTo>
                        <a:lnTo>
                          <a:pt x="34" y="23"/>
                        </a:lnTo>
                        <a:lnTo>
                          <a:pt x="30" y="25"/>
                        </a:lnTo>
                        <a:lnTo>
                          <a:pt x="31" y="31"/>
                        </a:lnTo>
                        <a:lnTo>
                          <a:pt x="28" y="34"/>
                        </a:lnTo>
                        <a:lnTo>
                          <a:pt x="22" y="35"/>
                        </a:lnTo>
                        <a:lnTo>
                          <a:pt x="20" y="40"/>
                        </a:lnTo>
                        <a:lnTo>
                          <a:pt x="18" y="43"/>
                        </a:lnTo>
                        <a:lnTo>
                          <a:pt x="16" y="48"/>
                        </a:lnTo>
                        <a:lnTo>
                          <a:pt x="15" y="52"/>
                        </a:lnTo>
                        <a:lnTo>
                          <a:pt x="10" y="55"/>
                        </a:lnTo>
                        <a:lnTo>
                          <a:pt x="4" y="56"/>
                        </a:lnTo>
                        <a:lnTo>
                          <a:pt x="0" y="5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749" name=""/>
                <p:cNvGrpSpPr/>
                <p:nvPr/>
              </p:nvGrpSpPr>
              <p:grpSpPr>
                <a:xfrm>
                  <a:off x="7257240" y="1255320"/>
                  <a:ext cx="565560" cy="761760"/>
                  <a:chOff x="7257240" y="1255320"/>
                  <a:chExt cx="565560" cy="761760"/>
                </a:xfrm>
              </p:grpSpPr>
              <p:grpSp>
                <p:nvGrpSpPr>
                  <p:cNvPr id="750" name=""/>
                  <p:cNvGrpSpPr/>
                  <p:nvPr/>
                </p:nvGrpSpPr>
                <p:grpSpPr>
                  <a:xfrm>
                    <a:off x="7257240" y="1255320"/>
                    <a:ext cx="565560" cy="761760"/>
                    <a:chOff x="7257240" y="1255320"/>
                    <a:chExt cx="565560" cy="761760"/>
                  </a:xfrm>
                </p:grpSpPr>
                <p:sp>
                  <p:nvSpPr>
                    <p:cNvPr id="751" name=""/>
                    <p:cNvSpPr/>
                    <p:nvPr/>
                  </p:nvSpPr>
                  <p:spPr>
                    <a:xfrm rot="4500000">
                      <a:off x="7230600" y="1407240"/>
                      <a:ext cx="44460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rot="6960000">
                      <a:off x="7525080" y="1674360"/>
                      <a:ext cx="190800" cy="357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rot="4500000">
                      <a:off x="7436160" y="1301760"/>
                      <a:ext cx="52560" cy="66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54" name=""/>
                    <p:cNvSpPr/>
                    <p:nvPr/>
                  </p:nvSpPr>
                  <p:spPr>
                    <a:xfrm flipH="1" flipV="1" rot="180000">
                      <a:off x="7262640" y="1422000"/>
                      <a:ext cx="154800" cy="205200"/>
                    </a:xfrm>
                    <a:custGeom>
                      <a:avLst/>
                      <a:gdLst>
                        <a:gd name="textAreaLeft" fmla="*/ 33840 w 154800"/>
                        <a:gd name="textAreaRight" fmla="*/ 120960 w 15480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rot="4860000">
                      <a:off x="7473960" y="1510920"/>
                      <a:ext cx="231120" cy="85680"/>
                    </a:xfrm>
                    <a:prstGeom prst="parallelogram">
                      <a:avLst>
                        <a:gd name="adj" fmla="val 6742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6" name=""/>
                    <p:cNvSpPr/>
                    <p:nvPr/>
                  </p:nvSpPr>
                  <p:spPr>
                    <a:xfrm rot="4500000">
                      <a:off x="7446960" y="1305360"/>
                      <a:ext cx="2124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757" name=""/>
                  <p:cNvSpPr/>
                  <p:nvPr/>
                </p:nvSpPr>
                <p:spPr>
                  <a:xfrm flipH="1">
                    <a:off x="7376760" y="1289520"/>
                    <a:ext cx="19800" cy="82080"/>
                  </a:xfrm>
                  <a:custGeom>
                    <a:avLst/>
                    <a:gdLst/>
                    <a:ahLst/>
                    <a:rect l="l" t="t" r="r" b="b"/>
                    <a:pathLst>
                      <a:path w="17" h="70">
                        <a:moveTo>
                          <a:pt x="16" y="0"/>
                        </a:moveTo>
                        <a:lnTo>
                          <a:pt x="14" y="6"/>
                        </a:lnTo>
                        <a:lnTo>
                          <a:pt x="12" y="9"/>
                        </a:lnTo>
                        <a:lnTo>
                          <a:pt x="8" y="13"/>
                        </a:lnTo>
                        <a:lnTo>
                          <a:pt x="6" y="16"/>
                        </a:lnTo>
                        <a:lnTo>
                          <a:pt x="6" y="22"/>
                        </a:lnTo>
                        <a:lnTo>
                          <a:pt x="8" y="27"/>
                        </a:lnTo>
                        <a:lnTo>
                          <a:pt x="3" y="30"/>
                        </a:lnTo>
                        <a:lnTo>
                          <a:pt x="2" y="34"/>
                        </a:lnTo>
                        <a:lnTo>
                          <a:pt x="6" y="39"/>
                        </a:lnTo>
                        <a:lnTo>
                          <a:pt x="5" y="44"/>
                        </a:lnTo>
                        <a:lnTo>
                          <a:pt x="4" y="48"/>
                        </a:lnTo>
                        <a:lnTo>
                          <a:pt x="2" y="52"/>
                        </a:lnTo>
                        <a:lnTo>
                          <a:pt x="0" y="56"/>
                        </a:lnTo>
                        <a:lnTo>
                          <a:pt x="1" y="62"/>
                        </a:lnTo>
                        <a:lnTo>
                          <a:pt x="5" y="66"/>
                        </a:lnTo>
                        <a:lnTo>
                          <a:pt x="8" y="69"/>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758" name=""/>
                <p:cNvGrpSpPr/>
                <p:nvPr/>
              </p:nvGrpSpPr>
              <p:grpSpPr>
                <a:xfrm>
                  <a:off x="7341840" y="1342080"/>
                  <a:ext cx="565920" cy="762120"/>
                  <a:chOff x="7341840" y="1342080"/>
                  <a:chExt cx="565920" cy="762120"/>
                </a:xfrm>
              </p:grpSpPr>
              <p:grpSp>
                <p:nvGrpSpPr>
                  <p:cNvPr id="759" name=""/>
                  <p:cNvGrpSpPr/>
                  <p:nvPr/>
                </p:nvGrpSpPr>
                <p:grpSpPr>
                  <a:xfrm>
                    <a:off x="7341840" y="1342080"/>
                    <a:ext cx="565920" cy="762120"/>
                    <a:chOff x="7341840" y="1342080"/>
                    <a:chExt cx="565920" cy="762120"/>
                  </a:xfrm>
                </p:grpSpPr>
                <p:sp>
                  <p:nvSpPr>
                    <p:cNvPr id="760" name=""/>
                    <p:cNvSpPr/>
                    <p:nvPr/>
                  </p:nvSpPr>
                  <p:spPr>
                    <a:xfrm rot="4500000">
                      <a:off x="7314480" y="1492920"/>
                      <a:ext cx="443520" cy="170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rot="6960000">
                      <a:off x="7608600" y="1760400"/>
                      <a:ext cx="192600" cy="357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4500000">
                      <a:off x="7518600" y="1387440"/>
                      <a:ext cx="52560" cy="655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763" name=""/>
                    <p:cNvSpPr/>
                    <p:nvPr/>
                  </p:nvSpPr>
                  <p:spPr>
                    <a:xfrm flipH="1" flipV="1" rot="180000">
                      <a:off x="7346520" y="1506240"/>
                      <a:ext cx="153360" cy="205560"/>
                    </a:xfrm>
                    <a:custGeom>
                      <a:avLst/>
                      <a:gdLst>
                        <a:gd name="textAreaLeft" fmla="*/ 33480 w 153360"/>
                        <a:gd name="textAreaRight" fmla="*/ 119880 w 153360"/>
                        <a:gd name="textAreaTop" fmla="*/ 45000 h 205560"/>
                        <a:gd name="textAreaBottom" fmla="*/ 160560 h 205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rot="4860000">
                      <a:off x="7556760" y="1596960"/>
                      <a:ext cx="232200" cy="84240"/>
                    </a:xfrm>
                    <a:prstGeom prst="parallelogram">
                      <a:avLst>
                        <a:gd name="adj" fmla="val 68897"/>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65" name=""/>
                    <p:cNvSpPr/>
                    <p:nvPr/>
                  </p:nvSpPr>
                  <p:spPr>
                    <a:xfrm rot="4500000">
                      <a:off x="7530840" y="1388880"/>
                      <a:ext cx="2088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766" name=""/>
                  <p:cNvSpPr/>
                  <p:nvPr/>
                </p:nvSpPr>
                <p:spPr>
                  <a:xfrm flipH="1">
                    <a:off x="7460280" y="1375200"/>
                    <a:ext cx="19800" cy="80640"/>
                  </a:xfrm>
                  <a:custGeom>
                    <a:avLst/>
                    <a:gdLst/>
                    <a:ahLst/>
                    <a:rect l="l" t="t" r="r" b="b"/>
                    <a:pathLst>
                      <a:path w="17" h="69">
                        <a:moveTo>
                          <a:pt x="16" y="0"/>
                        </a:moveTo>
                        <a:lnTo>
                          <a:pt x="14" y="5"/>
                        </a:lnTo>
                        <a:lnTo>
                          <a:pt x="11" y="8"/>
                        </a:lnTo>
                        <a:lnTo>
                          <a:pt x="8" y="12"/>
                        </a:lnTo>
                        <a:lnTo>
                          <a:pt x="6" y="16"/>
                        </a:lnTo>
                        <a:lnTo>
                          <a:pt x="6" y="21"/>
                        </a:lnTo>
                        <a:lnTo>
                          <a:pt x="7" y="26"/>
                        </a:lnTo>
                        <a:lnTo>
                          <a:pt x="3" y="30"/>
                        </a:lnTo>
                        <a:lnTo>
                          <a:pt x="2" y="34"/>
                        </a:lnTo>
                        <a:lnTo>
                          <a:pt x="6" y="39"/>
                        </a:lnTo>
                        <a:lnTo>
                          <a:pt x="5" y="44"/>
                        </a:lnTo>
                        <a:lnTo>
                          <a:pt x="3" y="47"/>
                        </a:lnTo>
                        <a:lnTo>
                          <a:pt x="1" y="52"/>
                        </a:lnTo>
                        <a:lnTo>
                          <a:pt x="0" y="56"/>
                        </a:lnTo>
                        <a:lnTo>
                          <a:pt x="1" y="61"/>
                        </a:lnTo>
                        <a:lnTo>
                          <a:pt x="4" y="66"/>
                        </a:lnTo>
                        <a:lnTo>
                          <a:pt x="8" y="68"/>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767" name=""/>
                <p:cNvGrpSpPr/>
                <p:nvPr/>
              </p:nvGrpSpPr>
              <p:grpSpPr>
                <a:xfrm>
                  <a:off x="7218360" y="1419480"/>
                  <a:ext cx="634320" cy="690840"/>
                  <a:chOff x="7218360" y="1419480"/>
                  <a:chExt cx="634320" cy="690840"/>
                </a:xfrm>
              </p:grpSpPr>
              <p:grpSp>
                <p:nvGrpSpPr>
                  <p:cNvPr id="768" name=""/>
                  <p:cNvGrpSpPr/>
                  <p:nvPr/>
                </p:nvGrpSpPr>
                <p:grpSpPr>
                  <a:xfrm>
                    <a:off x="7218360" y="1419480"/>
                    <a:ext cx="634320" cy="690840"/>
                    <a:chOff x="7218360" y="1419480"/>
                    <a:chExt cx="634320" cy="690840"/>
                  </a:xfrm>
                </p:grpSpPr>
                <p:sp>
                  <p:nvSpPr>
                    <p:cNvPr id="769" name=""/>
                    <p:cNvSpPr/>
                    <p:nvPr/>
                  </p:nvSpPr>
                  <p:spPr>
                    <a:xfrm rot="3780000">
                      <a:off x="7193880" y="1570680"/>
                      <a:ext cx="443520" cy="1695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rot="6240000">
                      <a:off x="7561080" y="1796040"/>
                      <a:ext cx="190080" cy="3574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rot="3780000">
                      <a:off x="7366680" y="1467720"/>
                      <a:ext cx="52920" cy="644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72" name=""/>
                    <p:cNvSpPr/>
                    <p:nvPr/>
                  </p:nvSpPr>
                  <p:spPr>
                    <a:xfrm flipH="1" flipV="1" rot="21060000">
                      <a:off x="7233120" y="1604880"/>
                      <a:ext cx="156240" cy="207720"/>
                    </a:xfrm>
                    <a:custGeom>
                      <a:avLst/>
                      <a:gdLst>
                        <a:gd name="textAreaLeft" fmla="*/ 34200 w 156240"/>
                        <a:gd name="textAreaRight" fmla="*/ 122040 w 156240"/>
                        <a:gd name="textAreaTop" fmla="*/ 45720 h 207720"/>
                        <a:gd name="textAreaBottom" fmla="*/ 162000 h 207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rot="4140000">
                      <a:off x="7446600" y="1642320"/>
                      <a:ext cx="232200" cy="86760"/>
                    </a:xfrm>
                    <a:prstGeom prst="parallelogram">
                      <a:avLst>
                        <a:gd name="adj" fmla="val 66896"/>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74" name=""/>
                    <p:cNvSpPr/>
                    <p:nvPr/>
                  </p:nvSpPr>
                  <p:spPr>
                    <a:xfrm rot="3780000">
                      <a:off x="7374240" y="1470240"/>
                      <a:ext cx="2232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775" name=""/>
                  <p:cNvSpPr/>
                  <p:nvPr/>
                </p:nvSpPr>
                <p:spPr>
                  <a:xfrm flipH="1">
                    <a:off x="7297560" y="1473480"/>
                    <a:ext cx="35280" cy="78480"/>
                  </a:xfrm>
                  <a:custGeom>
                    <a:avLst/>
                    <a:gdLst/>
                    <a:ahLst/>
                    <a:rect l="l" t="t" r="r" b="b"/>
                    <a:pathLst>
                      <a:path w="30" h="67">
                        <a:moveTo>
                          <a:pt x="29" y="0"/>
                        </a:moveTo>
                        <a:lnTo>
                          <a:pt x="26" y="5"/>
                        </a:lnTo>
                        <a:lnTo>
                          <a:pt x="22" y="7"/>
                        </a:lnTo>
                        <a:lnTo>
                          <a:pt x="17" y="10"/>
                        </a:lnTo>
                        <a:lnTo>
                          <a:pt x="14" y="13"/>
                        </a:lnTo>
                        <a:lnTo>
                          <a:pt x="13" y="18"/>
                        </a:lnTo>
                        <a:lnTo>
                          <a:pt x="14" y="24"/>
                        </a:lnTo>
                        <a:lnTo>
                          <a:pt x="7" y="26"/>
                        </a:lnTo>
                        <a:lnTo>
                          <a:pt x="6" y="29"/>
                        </a:lnTo>
                        <a:lnTo>
                          <a:pt x="10" y="35"/>
                        </a:lnTo>
                        <a:lnTo>
                          <a:pt x="7" y="40"/>
                        </a:lnTo>
                        <a:lnTo>
                          <a:pt x="6" y="43"/>
                        </a:lnTo>
                        <a:lnTo>
                          <a:pt x="3" y="47"/>
                        </a:lnTo>
                        <a:lnTo>
                          <a:pt x="0" y="51"/>
                        </a:lnTo>
                        <a:lnTo>
                          <a:pt x="1" y="56"/>
                        </a:lnTo>
                        <a:lnTo>
                          <a:pt x="4" y="62"/>
                        </a:lnTo>
                        <a:lnTo>
                          <a:pt x="8" y="66"/>
                        </a:lnTo>
                      </a:path>
                    </a:pathLst>
                  </a:custGeom>
                  <a:noFill/>
                  <a:ln cap="rnd" w="126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grpSp>
            <p:nvGrpSpPr>
              <p:cNvPr id="776" name=""/>
              <p:cNvGrpSpPr/>
              <p:nvPr/>
            </p:nvGrpSpPr>
            <p:grpSpPr>
              <a:xfrm>
                <a:off x="6797520" y="1392840"/>
                <a:ext cx="1028160" cy="994320"/>
                <a:chOff x="6797520" y="1392840"/>
                <a:chExt cx="1028160" cy="994320"/>
              </a:xfrm>
            </p:grpSpPr>
            <p:grpSp>
              <p:nvGrpSpPr>
                <p:cNvPr id="777" name=""/>
                <p:cNvGrpSpPr/>
                <p:nvPr/>
              </p:nvGrpSpPr>
              <p:grpSpPr>
                <a:xfrm>
                  <a:off x="6823080" y="1482840"/>
                  <a:ext cx="610560" cy="677520"/>
                  <a:chOff x="6823080" y="1482840"/>
                  <a:chExt cx="610560" cy="677520"/>
                </a:xfrm>
              </p:grpSpPr>
              <p:grpSp>
                <p:nvGrpSpPr>
                  <p:cNvPr id="778" name=""/>
                  <p:cNvGrpSpPr/>
                  <p:nvPr/>
                </p:nvGrpSpPr>
                <p:grpSpPr>
                  <a:xfrm>
                    <a:off x="6823080" y="1482840"/>
                    <a:ext cx="610560" cy="677520"/>
                    <a:chOff x="6823080" y="1482840"/>
                    <a:chExt cx="610560" cy="677520"/>
                  </a:xfrm>
                </p:grpSpPr>
                <p:sp>
                  <p:nvSpPr>
                    <p:cNvPr id="779" name=""/>
                    <p:cNvSpPr/>
                    <p:nvPr/>
                  </p:nvSpPr>
                  <p:spPr>
                    <a:xfrm flipH="1" rot="13020000">
                      <a:off x="6829200" y="1598760"/>
                      <a:ext cx="443880" cy="1713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flipH="1" rot="10560000">
                      <a:off x="7227000" y="1797480"/>
                      <a:ext cx="193680" cy="356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H="1" rot="13020000">
                      <a:off x="6876000" y="1601280"/>
                      <a:ext cx="55080" cy="680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782" name=""/>
                    <p:cNvSpPr/>
                    <p:nvPr/>
                  </p:nvSpPr>
                  <p:spPr>
                    <a:xfrm flipV="1" rot="17340000">
                      <a:off x="7048080" y="1490760"/>
                      <a:ext cx="154800" cy="205200"/>
                    </a:xfrm>
                    <a:custGeom>
                      <a:avLst/>
                      <a:gdLst>
                        <a:gd name="textAreaLeft" fmla="*/ 33840 w 154800"/>
                        <a:gd name="textAreaRight" fmla="*/ 120960 w 15480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rot="12660000">
                      <a:off x="6940440" y="1791360"/>
                      <a:ext cx="234720" cy="85680"/>
                    </a:xfrm>
                    <a:prstGeom prst="parallelogram">
                      <a:avLst>
                        <a:gd name="adj" fmla="val 68475"/>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84" name=""/>
                    <p:cNvSpPr/>
                    <p:nvPr/>
                  </p:nvSpPr>
                  <p:spPr>
                    <a:xfrm flipH="1" rot="13020000">
                      <a:off x="6874560" y="1612440"/>
                      <a:ext cx="19800" cy="2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sp>
                <p:nvSpPr>
                  <p:cNvPr id="785" name=""/>
                  <p:cNvSpPr/>
                  <p:nvPr/>
                </p:nvSpPr>
                <p:spPr>
                  <a:xfrm flipH="1">
                    <a:off x="6891120" y="1539360"/>
                    <a:ext cx="71280" cy="45720"/>
                  </a:xfrm>
                  <a:custGeom>
                    <a:avLst/>
                    <a:gdLst/>
                    <a:ahLst/>
                    <a:rect l="l" t="t" r="r" b="b"/>
                    <a:pathLst>
                      <a:path w="61" h="39">
                        <a:moveTo>
                          <a:pt x="60" y="0"/>
                        </a:moveTo>
                        <a:lnTo>
                          <a:pt x="56" y="5"/>
                        </a:lnTo>
                        <a:lnTo>
                          <a:pt x="54" y="8"/>
                        </a:lnTo>
                        <a:lnTo>
                          <a:pt x="52" y="13"/>
                        </a:lnTo>
                        <a:lnTo>
                          <a:pt x="48" y="16"/>
                        </a:lnTo>
                        <a:lnTo>
                          <a:pt x="43" y="18"/>
                        </a:lnTo>
                        <a:lnTo>
                          <a:pt x="39" y="19"/>
                        </a:lnTo>
                        <a:lnTo>
                          <a:pt x="37" y="24"/>
                        </a:lnTo>
                        <a:lnTo>
                          <a:pt x="34" y="27"/>
                        </a:lnTo>
                        <a:lnTo>
                          <a:pt x="28" y="26"/>
                        </a:lnTo>
                        <a:lnTo>
                          <a:pt x="23" y="28"/>
                        </a:lnTo>
                        <a:lnTo>
                          <a:pt x="21" y="30"/>
                        </a:lnTo>
                        <a:lnTo>
                          <a:pt x="18" y="34"/>
                        </a:lnTo>
                        <a:lnTo>
                          <a:pt x="14" y="37"/>
                        </a:lnTo>
                        <a:lnTo>
                          <a:pt x="9" y="38"/>
                        </a:lnTo>
                        <a:lnTo>
                          <a:pt x="4" y="37"/>
                        </a:lnTo>
                        <a:lnTo>
                          <a:pt x="0" y="35"/>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786" name=""/>
                <p:cNvGrpSpPr/>
                <p:nvPr/>
              </p:nvGrpSpPr>
              <p:grpSpPr>
                <a:xfrm>
                  <a:off x="6933240" y="1431720"/>
                  <a:ext cx="609480" cy="679680"/>
                  <a:chOff x="6933240" y="1431720"/>
                  <a:chExt cx="609480" cy="679680"/>
                </a:xfrm>
              </p:grpSpPr>
              <p:grpSp>
                <p:nvGrpSpPr>
                  <p:cNvPr id="787" name=""/>
                  <p:cNvGrpSpPr/>
                  <p:nvPr/>
                </p:nvGrpSpPr>
                <p:grpSpPr>
                  <a:xfrm>
                    <a:off x="6933240" y="1431720"/>
                    <a:ext cx="609480" cy="679680"/>
                    <a:chOff x="6933240" y="1431720"/>
                    <a:chExt cx="609480" cy="679680"/>
                  </a:xfrm>
                </p:grpSpPr>
                <p:sp>
                  <p:nvSpPr>
                    <p:cNvPr id="788" name=""/>
                    <p:cNvSpPr/>
                    <p:nvPr/>
                  </p:nvSpPr>
                  <p:spPr>
                    <a:xfrm flipH="1" rot="13020000">
                      <a:off x="6938640" y="1548720"/>
                      <a:ext cx="44496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H="1" rot="10560000">
                      <a:off x="7338240" y="1745640"/>
                      <a:ext cx="192240" cy="3592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H="1" rot="13020000">
                      <a:off x="6984720" y="1550880"/>
                      <a:ext cx="55080" cy="66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91" name=""/>
                    <p:cNvSpPr/>
                    <p:nvPr/>
                  </p:nvSpPr>
                  <p:spPr>
                    <a:xfrm flipV="1" rot="17340000">
                      <a:off x="7157520" y="1436760"/>
                      <a:ext cx="153360" cy="206280"/>
                    </a:xfrm>
                    <a:custGeom>
                      <a:avLst/>
                      <a:gdLst>
                        <a:gd name="textAreaLeft" fmla="*/ 33480 w 153360"/>
                        <a:gd name="textAreaRight" fmla="*/ 119880 w 153360"/>
                        <a:gd name="textAreaTop" fmla="*/ 45360 h 206280"/>
                        <a:gd name="textAreaBottom" fmla="*/ 160920 h 206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flipH="1" rot="12660000">
                      <a:off x="7050600" y="1741320"/>
                      <a:ext cx="233640" cy="85680"/>
                    </a:xfrm>
                    <a:prstGeom prst="parallelogram">
                      <a:avLst>
                        <a:gd name="adj" fmla="val 6816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93" name=""/>
                    <p:cNvSpPr/>
                    <p:nvPr/>
                  </p:nvSpPr>
                  <p:spPr>
                    <a:xfrm flipH="1" rot="13020000">
                      <a:off x="6982920" y="1563120"/>
                      <a:ext cx="21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
                <p:nvSpPr>
                  <p:cNvPr id="794" name=""/>
                  <p:cNvSpPr/>
                  <p:nvPr/>
                </p:nvSpPr>
                <p:spPr>
                  <a:xfrm flipH="1">
                    <a:off x="6998760" y="1488960"/>
                    <a:ext cx="72720" cy="45720"/>
                  </a:xfrm>
                  <a:custGeom>
                    <a:avLst/>
                    <a:gdLst/>
                    <a:ahLst/>
                    <a:rect l="l" t="t" r="r" b="b"/>
                    <a:pathLst>
                      <a:path w="62" h="39">
                        <a:moveTo>
                          <a:pt x="61" y="0"/>
                        </a:moveTo>
                        <a:lnTo>
                          <a:pt x="56" y="4"/>
                        </a:lnTo>
                        <a:lnTo>
                          <a:pt x="54" y="8"/>
                        </a:lnTo>
                        <a:lnTo>
                          <a:pt x="51" y="14"/>
                        </a:lnTo>
                        <a:lnTo>
                          <a:pt x="48" y="15"/>
                        </a:lnTo>
                        <a:lnTo>
                          <a:pt x="43" y="17"/>
                        </a:lnTo>
                        <a:lnTo>
                          <a:pt x="38" y="18"/>
                        </a:lnTo>
                        <a:lnTo>
                          <a:pt x="37" y="25"/>
                        </a:lnTo>
                        <a:lnTo>
                          <a:pt x="33" y="26"/>
                        </a:lnTo>
                        <a:lnTo>
                          <a:pt x="27" y="25"/>
                        </a:lnTo>
                        <a:lnTo>
                          <a:pt x="24" y="27"/>
                        </a:lnTo>
                        <a:lnTo>
                          <a:pt x="21" y="30"/>
                        </a:lnTo>
                        <a:lnTo>
                          <a:pt x="17" y="35"/>
                        </a:lnTo>
                        <a:lnTo>
                          <a:pt x="13" y="36"/>
                        </a:lnTo>
                        <a:lnTo>
                          <a:pt x="9" y="38"/>
                        </a:lnTo>
                        <a:lnTo>
                          <a:pt x="3" y="36"/>
                        </a:lnTo>
                        <a:lnTo>
                          <a:pt x="0" y="34"/>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795" name=""/>
                <p:cNvGrpSpPr/>
                <p:nvPr/>
              </p:nvGrpSpPr>
              <p:grpSpPr>
                <a:xfrm>
                  <a:off x="6876360" y="1591560"/>
                  <a:ext cx="533520" cy="762120"/>
                  <a:chOff x="6876360" y="1591560"/>
                  <a:chExt cx="533520" cy="762120"/>
                </a:xfrm>
              </p:grpSpPr>
              <p:grpSp>
                <p:nvGrpSpPr>
                  <p:cNvPr id="796" name=""/>
                  <p:cNvGrpSpPr/>
                  <p:nvPr/>
                </p:nvGrpSpPr>
                <p:grpSpPr>
                  <a:xfrm>
                    <a:off x="6876360" y="1591560"/>
                    <a:ext cx="533520" cy="762120"/>
                    <a:chOff x="6876360" y="1591560"/>
                    <a:chExt cx="533520" cy="762120"/>
                  </a:xfrm>
                </p:grpSpPr>
                <p:sp>
                  <p:nvSpPr>
                    <p:cNvPr id="797" name=""/>
                    <p:cNvSpPr/>
                    <p:nvPr/>
                  </p:nvSpPr>
                  <p:spPr>
                    <a:xfrm flipH="1" rot="13800000">
                      <a:off x="6862680" y="1730520"/>
                      <a:ext cx="443160" cy="1713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flipH="1" rot="11340000">
                      <a:off x="7189560" y="1982880"/>
                      <a:ext cx="193320" cy="357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H="1" rot="13800000">
                      <a:off x="6923880" y="1701000"/>
                      <a:ext cx="56160" cy="6804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800" name=""/>
                    <p:cNvSpPr/>
                    <p:nvPr/>
                  </p:nvSpPr>
                  <p:spPr>
                    <a:xfrm flipV="1" rot="18120000">
                      <a:off x="7098120" y="1637280"/>
                      <a:ext cx="155880" cy="207000"/>
                    </a:xfrm>
                    <a:custGeom>
                      <a:avLst/>
                      <a:gdLst>
                        <a:gd name="textAreaLeft" fmla="*/ 34200 w 155880"/>
                        <a:gd name="textAreaRight" fmla="*/ 121680 w 155880"/>
                        <a:gd name="textAreaTop" fmla="*/ 45360 h 207000"/>
                        <a:gd name="textAreaBottom" fmla="*/ 161640 h 207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flipH="1" rot="13440000">
                      <a:off x="6942600" y="1918800"/>
                      <a:ext cx="232200" cy="84600"/>
                    </a:xfrm>
                    <a:prstGeom prst="parallelogram">
                      <a:avLst>
                        <a:gd name="adj" fmla="val 6860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2" name=""/>
                    <p:cNvSpPr/>
                    <p:nvPr/>
                  </p:nvSpPr>
                  <p:spPr>
                    <a:xfrm flipH="1" rot="13800000">
                      <a:off x="6924240" y="1706760"/>
                      <a:ext cx="24480" cy="2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sp>
                <p:nvSpPr>
                  <p:cNvPr id="803" name=""/>
                  <p:cNvSpPr/>
                  <p:nvPr/>
                </p:nvSpPr>
                <p:spPr>
                  <a:xfrm flipH="1">
                    <a:off x="6958440" y="1641600"/>
                    <a:ext cx="62280" cy="58320"/>
                  </a:xfrm>
                  <a:custGeom>
                    <a:avLst/>
                    <a:gdLst/>
                    <a:ahLst/>
                    <a:rect l="l" t="t" r="r" b="b"/>
                    <a:pathLst>
                      <a:path w="53" h="50">
                        <a:moveTo>
                          <a:pt x="52" y="0"/>
                        </a:moveTo>
                        <a:lnTo>
                          <a:pt x="48" y="4"/>
                        </a:lnTo>
                        <a:lnTo>
                          <a:pt x="47" y="9"/>
                        </a:lnTo>
                        <a:lnTo>
                          <a:pt x="48" y="15"/>
                        </a:lnTo>
                        <a:lnTo>
                          <a:pt x="46" y="19"/>
                        </a:lnTo>
                        <a:lnTo>
                          <a:pt x="42" y="23"/>
                        </a:lnTo>
                        <a:lnTo>
                          <a:pt x="36" y="22"/>
                        </a:lnTo>
                        <a:lnTo>
                          <a:pt x="38" y="30"/>
                        </a:lnTo>
                        <a:lnTo>
                          <a:pt x="35" y="31"/>
                        </a:lnTo>
                        <a:lnTo>
                          <a:pt x="27" y="31"/>
                        </a:lnTo>
                        <a:lnTo>
                          <a:pt x="23" y="35"/>
                        </a:lnTo>
                        <a:lnTo>
                          <a:pt x="22" y="38"/>
                        </a:lnTo>
                        <a:lnTo>
                          <a:pt x="20" y="42"/>
                        </a:lnTo>
                        <a:lnTo>
                          <a:pt x="17" y="46"/>
                        </a:lnTo>
                        <a:lnTo>
                          <a:pt x="12" y="49"/>
                        </a:lnTo>
                        <a:lnTo>
                          <a:pt x="5" y="47"/>
                        </a:lnTo>
                        <a:lnTo>
                          <a:pt x="0" y="46"/>
                        </a:lnTo>
                      </a:path>
                    </a:pathLst>
                  </a:custGeom>
                  <a:noFill/>
                  <a:ln cap="rnd" w="12600">
                    <a:solidFill>
                      <a:srgbClr val="0000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grpSp>
              <p:nvGrpSpPr>
                <p:cNvPr id="804" name=""/>
                <p:cNvGrpSpPr/>
                <p:nvPr/>
              </p:nvGrpSpPr>
              <p:grpSpPr>
                <a:xfrm>
                  <a:off x="6797520" y="1708200"/>
                  <a:ext cx="609120" cy="678960"/>
                  <a:chOff x="6797520" y="1708200"/>
                  <a:chExt cx="609120" cy="678960"/>
                </a:xfrm>
              </p:grpSpPr>
              <p:grpSp>
                <p:nvGrpSpPr>
                  <p:cNvPr id="805" name=""/>
                  <p:cNvGrpSpPr/>
                  <p:nvPr/>
                </p:nvGrpSpPr>
                <p:grpSpPr>
                  <a:xfrm>
                    <a:off x="6797520" y="1708200"/>
                    <a:ext cx="609120" cy="678960"/>
                    <a:chOff x="6797520" y="1708200"/>
                    <a:chExt cx="609120" cy="678960"/>
                  </a:xfrm>
                </p:grpSpPr>
                <p:sp>
                  <p:nvSpPr>
                    <p:cNvPr id="806" name=""/>
                    <p:cNvSpPr/>
                    <p:nvPr/>
                  </p:nvSpPr>
                  <p:spPr>
                    <a:xfrm flipH="1" rot="13020000">
                      <a:off x="6804360" y="1824480"/>
                      <a:ext cx="444960" cy="1713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flipH="1" rot="10560000">
                      <a:off x="7204320" y="2024280"/>
                      <a:ext cx="190080" cy="356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flipH="1" rot="13020000">
                      <a:off x="6851520" y="1826640"/>
                      <a:ext cx="55080" cy="66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09" name=""/>
                    <p:cNvSpPr/>
                    <p:nvPr/>
                  </p:nvSpPr>
                  <p:spPr>
                    <a:xfrm flipV="1" rot="17340000">
                      <a:off x="7023600" y="1716120"/>
                      <a:ext cx="152280" cy="205200"/>
                    </a:xfrm>
                    <a:custGeom>
                      <a:avLst/>
                      <a:gdLst>
                        <a:gd name="textAreaLeft" fmla="*/ 33480 w 152280"/>
                        <a:gd name="textAreaRight" fmla="*/ 118800 w 152280"/>
                        <a:gd name="textAreaTop" fmla="*/ 45000 h 205200"/>
                        <a:gd name="textAreaBottom" fmla="*/ 160200 h 205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rot="12660000">
                      <a:off x="6915600" y="2017080"/>
                      <a:ext cx="234720" cy="85680"/>
                    </a:xfrm>
                    <a:prstGeom prst="parallelogram">
                      <a:avLst>
                        <a:gd name="adj" fmla="val 68475"/>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1" name=""/>
                    <p:cNvSpPr/>
                    <p:nvPr/>
                  </p:nvSpPr>
                  <p:spPr>
                    <a:xfrm flipH="1" rot="13020000">
                      <a:off x="6847920" y="1838880"/>
                      <a:ext cx="23400" cy="2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sp>
                <p:nvSpPr>
                  <p:cNvPr id="812" name=""/>
                  <p:cNvSpPr/>
                  <p:nvPr/>
                </p:nvSpPr>
                <p:spPr>
                  <a:xfrm flipH="1">
                    <a:off x="6865200" y="1765080"/>
                    <a:ext cx="72360" cy="44640"/>
                  </a:xfrm>
                  <a:custGeom>
                    <a:avLst/>
                    <a:gdLst/>
                    <a:ahLst/>
                    <a:rect l="l" t="t" r="r" b="b"/>
                    <a:pathLst>
                      <a:path w="62" h="38">
                        <a:moveTo>
                          <a:pt x="61" y="0"/>
                        </a:moveTo>
                        <a:lnTo>
                          <a:pt x="56" y="5"/>
                        </a:lnTo>
                        <a:lnTo>
                          <a:pt x="54" y="9"/>
                        </a:lnTo>
                        <a:lnTo>
                          <a:pt x="52" y="13"/>
                        </a:lnTo>
                        <a:lnTo>
                          <a:pt x="49" y="16"/>
                        </a:lnTo>
                        <a:lnTo>
                          <a:pt x="44" y="19"/>
                        </a:lnTo>
                        <a:lnTo>
                          <a:pt x="39" y="19"/>
                        </a:lnTo>
                        <a:lnTo>
                          <a:pt x="38" y="25"/>
                        </a:lnTo>
                        <a:lnTo>
                          <a:pt x="34" y="26"/>
                        </a:lnTo>
                        <a:lnTo>
                          <a:pt x="28" y="25"/>
                        </a:lnTo>
                        <a:lnTo>
                          <a:pt x="24" y="29"/>
                        </a:lnTo>
                        <a:lnTo>
                          <a:pt x="21" y="30"/>
                        </a:lnTo>
                        <a:lnTo>
                          <a:pt x="17" y="34"/>
                        </a:lnTo>
                        <a:lnTo>
                          <a:pt x="15" y="37"/>
                        </a:lnTo>
                        <a:lnTo>
                          <a:pt x="9" y="37"/>
                        </a:lnTo>
                        <a:lnTo>
                          <a:pt x="3" y="36"/>
                        </a:lnTo>
                        <a:lnTo>
                          <a:pt x="0" y="33"/>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813" name=""/>
                <p:cNvGrpSpPr/>
                <p:nvPr/>
              </p:nvGrpSpPr>
              <p:grpSpPr>
                <a:xfrm>
                  <a:off x="7024680" y="1392840"/>
                  <a:ext cx="690840" cy="592200"/>
                  <a:chOff x="7024680" y="1392840"/>
                  <a:chExt cx="690840" cy="592200"/>
                </a:xfrm>
              </p:grpSpPr>
              <p:grpSp>
                <p:nvGrpSpPr>
                  <p:cNvPr id="814" name=""/>
                  <p:cNvGrpSpPr/>
                  <p:nvPr/>
                </p:nvGrpSpPr>
                <p:grpSpPr>
                  <a:xfrm>
                    <a:off x="7024680" y="1392840"/>
                    <a:ext cx="690840" cy="592200"/>
                    <a:chOff x="7024680" y="1392840"/>
                    <a:chExt cx="690840" cy="592200"/>
                  </a:xfrm>
                </p:grpSpPr>
                <p:sp>
                  <p:nvSpPr>
                    <p:cNvPr id="815" name=""/>
                    <p:cNvSpPr/>
                    <p:nvPr/>
                  </p:nvSpPr>
                  <p:spPr>
                    <a:xfrm rot="3060000">
                      <a:off x="7007760" y="1534320"/>
                      <a:ext cx="444960" cy="168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rot="5520000">
                      <a:off x="7436160" y="1702800"/>
                      <a:ext cx="192600" cy="3589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rot="3060000">
                      <a:off x="7149960" y="1438920"/>
                      <a:ext cx="54000" cy="6948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8" name=""/>
                    <p:cNvSpPr/>
                    <p:nvPr/>
                  </p:nvSpPr>
                  <p:spPr>
                    <a:xfrm flipH="1" flipV="1" rot="20340000">
                      <a:off x="7063560" y="1590840"/>
                      <a:ext cx="155880" cy="206280"/>
                    </a:xfrm>
                    <a:custGeom>
                      <a:avLst/>
                      <a:gdLst>
                        <a:gd name="textAreaLeft" fmla="*/ 34200 w 155880"/>
                        <a:gd name="textAreaRight" fmla="*/ 121680 w 155880"/>
                        <a:gd name="textAreaTop" fmla="*/ 45360 h 206280"/>
                        <a:gd name="textAreaBottom" fmla="*/ 160920 h 206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rot="3420000">
                      <a:off x="7266240" y="1578600"/>
                      <a:ext cx="232560" cy="85680"/>
                    </a:xfrm>
                    <a:prstGeom prst="parallelogram">
                      <a:avLst>
                        <a:gd name="adj" fmla="val 6784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20" name=""/>
                    <p:cNvSpPr/>
                    <p:nvPr/>
                  </p:nvSpPr>
                  <p:spPr>
                    <a:xfrm rot="3060000">
                      <a:off x="7152120" y="1445400"/>
                      <a:ext cx="22320" cy="1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821" name=""/>
                  <p:cNvSpPr/>
                  <p:nvPr/>
                </p:nvSpPr>
                <p:spPr>
                  <a:xfrm flipH="1">
                    <a:off x="7080120" y="1464480"/>
                    <a:ext cx="46800" cy="71280"/>
                  </a:xfrm>
                  <a:custGeom>
                    <a:avLst/>
                    <a:gdLst/>
                    <a:ahLst/>
                    <a:rect l="l" t="t" r="r" b="b"/>
                    <a:pathLst>
                      <a:path w="40" h="61">
                        <a:moveTo>
                          <a:pt x="39" y="0"/>
                        </a:moveTo>
                        <a:lnTo>
                          <a:pt x="35" y="5"/>
                        </a:lnTo>
                        <a:lnTo>
                          <a:pt x="32" y="7"/>
                        </a:lnTo>
                        <a:lnTo>
                          <a:pt x="26" y="9"/>
                        </a:lnTo>
                        <a:lnTo>
                          <a:pt x="24" y="11"/>
                        </a:lnTo>
                        <a:lnTo>
                          <a:pt x="21" y="16"/>
                        </a:lnTo>
                        <a:lnTo>
                          <a:pt x="20" y="22"/>
                        </a:lnTo>
                        <a:lnTo>
                          <a:pt x="15" y="23"/>
                        </a:lnTo>
                        <a:lnTo>
                          <a:pt x="12" y="25"/>
                        </a:lnTo>
                        <a:lnTo>
                          <a:pt x="14" y="32"/>
                        </a:lnTo>
                        <a:lnTo>
                          <a:pt x="11" y="36"/>
                        </a:lnTo>
                        <a:lnTo>
                          <a:pt x="9" y="40"/>
                        </a:lnTo>
                        <a:lnTo>
                          <a:pt x="5" y="42"/>
                        </a:lnTo>
                        <a:lnTo>
                          <a:pt x="2" y="45"/>
                        </a:lnTo>
                        <a:lnTo>
                          <a:pt x="0" y="51"/>
                        </a:lnTo>
                        <a:lnTo>
                          <a:pt x="2" y="56"/>
                        </a:lnTo>
                        <a:lnTo>
                          <a:pt x="3" y="6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822" name=""/>
                <p:cNvGrpSpPr/>
                <p:nvPr/>
              </p:nvGrpSpPr>
              <p:grpSpPr>
                <a:xfrm>
                  <a:off x="7134840" y="1435320"/>
                  <a:ext cx="690840" cy="592560"/>
                  <a:chOff x="7134840" y="1435320"/>
                  <a:chExt cx="690840" cy="592560"/>
                </a:xfrm>
              </p:grpSpPr>
              <p:grpSp>
                <p:nvGrpSpPr>
                  <p:cNvPr id="823" name=""/>
                  <p:cNvGrpSpPr/>
                  <p:nvPr/>
                </p:nvGrpSpPr>
                <p:grpSpPr>
                  <a:xfrm>
                    <a:off x="7134840" y="1435320"/>
                    <a:ext cx="690840" cy="592560"/>
                    <a:chOff x="7134840" y="1435320"/>
                    <a:chExt cx="690840" cy="592560"/>
                  </a:xfrm>
                </p:grpSpPr>
                <p:sp>
                  <p:nvSpPr>
                    <p:cNvPr id="824" name=""/>
                    <p:cNvSpPr/>
                    <p:nvPr/>
                  </p:nvSpPr>
                  <p:spPr>
                    <a:xfrm rot="3060000">
                      <a:off x="7118640" y="1576440"/>
                      <a:ext cx="444960" cy="1713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rot="5520000">
                      <a:off x="7547760" y="1746720"/>
                      <a:ext cx="192240" cy="356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rot="3060000">
                      <a:off x="7260120" y="1482480"/>
                      <a:ext cx="55080" cy="66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27" name=""/>
                    <p:cNvSpPr/>
                    <p:nvPr/>
                  </p:nvSpPr>
                  <p:spPr>
                    <a:xfrm flipH="1" flipV="1" rot="20340000">
                      <a:off x="7175520" y="1633680"/>
                      <a:ext cx="152640" cy="206280"/>
                    </a:xfrm>
                    <a:custGeom>
                      <a:avLst/>
                      <a:gdLst>
                        <a:gd name="textAreaLeft" fmla="*/ 33480 w 152640"/>
                        <a:gd name="textAreaRight" fmla="*/ 119160 w 152640"/>
                        <a:gd name="textAreaTop" fmla="*/ 45360 h 206280"/>
                        <a:gd name="textAreaBottom" fmla="*/ 160920 h 206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rot="3420000">
                      <a:off x="7374600" y="1621800"/>
                      <a:ext cx="234720" cy="84240"/>
                    </a:xfrm>
                    <a:prstGeom prst="parallelogram">
                      <a:avLst>
                        <a:gd name="adj" fmla="val 69645"/>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29" name=""/>
                    <p:cNvSpPr/>
                    <p:nvPr/>
                  </p:nvSpPr>
                  <p:spPr>
                    <a:xfrm rot="3060000">
                      <a:off x="7265160" y="1487520"/>
                      <a:ext cx="19800" cy="2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grpSp>
              <p:sp>
                <p:nvSpPr>
                  <p:cNvPr id="830" name=""/>
                  <p:cNvSpPr/>
                  <p:nvPr/>
                </p:nvSpPr>
                <p:spPr>
                  <a:xfrm flipH="1">
                    <a:off x="7190280" y="1509120"/>
                    <a:ext cx="46800" cy="70200"/>
                  </a:xfrm>
                  <a:custGeom>
                    <a:avLst/>
                    <a:gdLst/>
                    <a:ahLst/>
                    <a:rect l="l" t="t" r="r" b="b"/>
                    <a:pathLst>
                      <a:path w="40" h="60">
                        <a:moveTo>
                          <a:pt x="39" y="0"/>
                        </a:moveTo>
                        <a:lnTo>
                          <a:pt x="35" y="3"/>
                        </a:lnTo>
                        <a:lnTo>
                          <a:pt x="30" y="6"/>
                        </a:lnTo>
                        <a:lnTo>
                          <a:pt x="27" y="8"/>
                        </a:lnTo>
                        <a:lnTo>
                          <a:pt x="23" y="11"/>
                        </a:lnTo>
                        <a:lnTo>
                          <a:pt x="21" y="16"/>
                        </a:lnTo>
                        <a:lnTo>
                          <a:pt x="20" y="20"/>
                        </a:lnTo>
                        <a:lnTo>
                          <a:pt x="14" y="22"/>
                        </a:lnTo>
                        <a:lnTo>
                          <a:pt x="12" y="26"/>
                        </a:lnTo>
                        <a:lnTo>
                          <a:pt x="14" y="32"/>
                        </a:lnTo>
                        <a:lnTo>
                          <a:pt x="11" y="36"/>
                        </a:lnTo>
                        <a:lnTo>
                          <a:pt x="8" y="37"/>
                        </a:lnTo>
                        <a:lnTo>
                          <a:pt x="3" y="41"/>
                        </a:lnTo>
                        <a:lnTo>
                          <a:pt x="1" y="45"/>
                        </a:lnTo>
                        <a:lnTo>
                          <a:pt x="0" y="50"/>
                        </a:lnTo>
                        <a:lnTo>
                          <a:pt x="0" y="55"/>
                        </a:lnTo>
                        <a:lnTo>
                          <a:pt x="4" y="59"/>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831" name=""/>
                <p:cNvGrpSpPr/>
                <p:nvPr/>
              </p:nvGrpSpPr>
              <p:grpSpPr>
                <a:xfrm>
                  <a:off x="7036200" y="1577160"/>
                  <a:ext cx="769320" cy="525600"/>
                  <a:chOff x="7036200" y="1577160"/>
                  <a:chExt cx="769320" cy="525600"/>
                </a:xfrm>
              </p:grpSpPr>
              <p:grpSp>
                <p:nvGrpSpPr>
                  <p:cNvPr id="832" name=""/>
                  <p:cNvGrpSpPr/>
                  <p:nvPr/>
                </p:nvGrpSpPr>
                <p:grpSpPr>
                  <a:xfrm>
                    <a:off x="7036200" y="1577160"/>
                    <a:ext cx="769320" cy="525600"/>
                    <a:chOff x="7036200" y="1577160"/>
                    <a:chExt cx="769320" cy="525600"/>
                  </a:xfrm>
                </p:grpSpPr>
                <p:sp>
                  <p:nvSpPr>
                    <p:cNvPr id="833" name=""/>
                    <p:cNvSpPr/>
                    <p:nvPr/>
                  </p:nvSpPr>
                  <p:spPr>
                    <a:xfrm rot="2340000">
                      <a:off x="7040520" y="1697760"/>
                      <a:ext cx="444600" cy="1710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rot="4800000">
                      <a:off x="7517160" y="1798560"/>
                      <a:ext cx="191160" cy="357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rot="2340000">
                      <a:off x="7152480" y="1618200"/>
                      <a:ext cx="55080" cy="669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36" name=""/>
                    <p:cNvSpPr/>
                    <p:nvPr/>
                  </p:nvSpPr>
                  <p:spPr>
                    <a:xfrm flipH="1" flipV="1" rot="19620000">
                      <a:off x="7111440" y="1770480"/>
                      <a:ext cx="158400" cy="207000"/>
                    </a:xfrm>
                    <a:custGeom>
                      <a:avLst/>
                      <a:gdLst>
                        <a:gd name="textAreaLeft" fmla="*/ 34560 w 158400"/>
                        <a:gd name="textAreaRight" fmla="*/ 123840 w 158400"/>
                        <a:gd name="textAreaTop" fmla="*/ 45360 h 207000"/>
                        <a:gd name="textAreaBottom" fmla="*/ 161640 h 207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rot="2700000">
                      <a:off x="7293240" y="1709280"/>
                      <a:ext cx="233280" cy="85680"/>
                    </a:xfrm>
                    <a:prstGeom prst="parallelogram">
                      <a:avLst>
                        <a:gd name="adj" fmla="val 6805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8" name=""/>
                    <p:cNvSpPr/>
                    <p:nvPr/>
                  </p:nvSpPr>
                  <p:spPr>
                    <a:xfrm rot="2340000">
                      <a:off x="7151040" y="1625040"/>
                      <a:ext cx="24480" cy="2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sp>
                <p:nvSpPr>
                  <p:cNvPr id="839" name=""/>
                  <p:cNvSpPr/>
                  <p:nvPr/>
                </p:nvSpPr>
                <p:spPr>
                  <a:xfrm flipH="1">
                    <a:off x="7082280" y="1665000"/>
                    <a:ext cx="57600" cy="62280"/>
                  </a:xfrm>
                  <a:custGeom>
                    <a:avLst/>
                    <a:gdLst/>
                    <a:ahLst/>
                    <a:rect l="l" t="t" r="r" b="b"/>
                    <a:pathLst>
                      <a:path w="49" h="53">
                        <a:moveTo>
                          <a:pt x="48" y="0"/>
                        </a:moveTo>
                        <a:lnTo>
                          <a:pt x="43" y="3"/>
                        </a:lnTo>
                        <a:lnTo>
                          <a:pt x="39" y="4"/>
                        </a:lnTo>
                        <a:lnTo>
                          <a:pt x="34" y="4"/>
                        </a:lnTo>
                        <a:lnTo>
                          <a:pt x="29" y="6"/>
                        </a:lnTo>
                        <a:lnTo>
                          <a:pt x="26" y="10"/>
                        </a:lnTo>
                        <a:lnTo>
                          <a:pt x="25" y="17"/>
                        </a:lnTo>
                        <a:lnTo>
                          <a:pt x="18" y="15"/>
                        </a:lnTo>
                        <a:lnTo>
                          <a:pt x="15" y="18"/>
                        </a:lnTo>
                        <a:lnTo>
                          <a:pt x="17" y="25"/>
                        </a:lnTo>
                        <a:lnTo>
                          <a:pt x="12" y="28"/>
                        </a:lnTo>
                        <a:lnTo>
                          <a:pt x="10" y="31"/>
                        </a:lnTo>
                        <a:lnTo>
                          <a:pt x="6" y="33"/>
                        </a:lnTo>
                        <a:lnTo>
                          <a:pt x="1" y="35"/>
                        </a:lnTo>
                        <a:lnTo>
                          <a:pt x="0" y="40"/>
                        </a:lnTo>
                        <a:lnTo>
                          <a:pt x="0" y="47"/>
                        </a:lnTo>
                        <a:lnTo>
                          <a:pt x="2" y="52"/>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sp>
            <p:nvSpPr>
              <p:cNvPr id="840" name=""/>
              <p:cNvSpPr/>
              <p:nvPr/>
            </p:nvSpPr>
            <p:spPr>
              <a:xfrm flipH="1">
                <a:off x="6894000" y="1334520"/>
                <a:ext cx="1107000" cy="1175400"/>
              </a:xfrm>
              <a:custGeom>
                <a:avLst/>
                <a:gdLst/>
                <a:ahLst/>
                <a:rect l="l" t="t" r="r" b="b"/>
                <a:pathLst>
                  <a:path w="943" h="1001">
                    <a:moveTo>
                      <a:pt x="182" y="0"/>
                    </a:moveTo>
                    <a:lnTo>
                      <a:pt x="161" y="36"/>
                    </a:lnTo>
                    <a:lnTo>
                      <a:pt x="140" y="74"/>
                    </a:lnTo>
                    <a:lnTo>
                      <a:pt x="121" y="112"/>
                    </a:lnTo>
                    <a:lnTo>
                      <a:pt x="98" y="151"/>
                    </a:lnTo>
                    <a:lnTo>
                      <a:pt x="79" y="191"/>
                    </a:lnTo>
                    <a:lnTo>
                      <a:pt x="65" y="211"/>
                    </a:lnTo>
                    <a:lnTo>
                      <a:pt x="55" y="237"/>
                    </a:lnTo>
                    <a:lnTo>
                      <a:pt x="41" y="278"/>
                    </a:lnTo>
                    <a:lnTo>
                      <a:pt x="27" y="322"/>
                    </a:lnTo>
                    <a:lnTo>
                      <a:pt x="24" y="348"/>
                    </a:lnTo>
                    <a:lnTo>
                      <a:pt x="12" y="372"/>
                    </a:lnTo>
                    <a:lnTo>
                      <a:pt x="0" y="395"/>
                    </a:lnTo>
                    <a:lnTo>
                      <a:pt x="12" y="433"/>
                    </a:lnTo>
                    <a:lnTo>
                      <a:pt x="34" y="467"/>
                    </a:lnTo>
                    <a:lnTo>
                      <a:pt x="57" y="483"/>
                    </a:lnTo>
                    <a:lnTo>
                      <a:pt x="88" y="522"/>
                    </a:lnTo>
                    <a:lnTo>
                      <a:pt x="111" y="536"/>
                    </a:lnTo>
                    <a:lnTo>
                      <a:pt x="131" y="558"/>
                    </a:lnTo>
                    <a:lnTo>
                      <a:pt x="237" y="707"/>
                    </a:lnTo>
                    <a:lnTo>
                      <a:pt x="314" y="877"/>
                    </a:lnTo>
                    <a:lnTo>
                      <a:pt x="333" y="901"/>
                    </a:lnTo>
                    <a:lnTo>
                      <a:pt x="352" y="921"/>
                    </a:lnTo>
                    <a:lnTo>
                      <a:pt x="374" y="937"/>
                    </a:lnTo>
                    <a:lnTo>
                      <a:pt x="430" y="971"/>
                    </a:lnTo>
                    <a:lnTo>
                      <a:pt x="475" y="1000"/>
                    </a:lnTo>
                    <a:lnTo>
                      <a:pt x="510" y="979"/>
                    </a:lnTo>
                    <a:lnTo>
                      <a:pt x="536" y="945"/>
                    </a:lnTo>
                    <a:lnTo>
                      <a:pt x="563" y="913"/>
                    </a:lnTo>
                    <a:lnTo>
                      <a:pt x="584" y="875"/>
                    </a:lnTo>
                    <a:lnTo>
                      <a:pt x="598" y="850"/>
                    </a:lnTo>
                    <a:lnTo>
                      <a:pt x="610" y="828"/>
                    </a:lnTo>
                    <a:lnTo>
                      <a:pt x="631" y="808"/>
                    </a:lnTo>
                    <a:lnTo>
                      <a:pt x="662" y="808"/>
                    </a:lnTo>
                    <a:lnTo>
                      <a:pt x="690" y="796"/>
                    </a:lnTo>
                    <a:lnTo>
                      <a:pt x="725" y="786"/>
                    </a:lnTo>
                    <a:lnTo>
                      <a:pt x="761" y="778"/>
                    </a:lnTo>
                    <a:lnTo>
                      <a:pt x="789" y="768"/>
                    </a:lnTo>
                    <a:lnTo>
                      <a:pt x="820" y="745"/>
                    </a:lnTo>
                    <a:lnTo>
                      <a:pt x="832" y="721"/>
                    </a:lnTo>
                    <a:lnTo>
                      <a:pt x="844" y="701"/>
                    </a:lnTo>
                    <a:lnTo>
                      <a:pt x="863" y="681"/>
                    </a:lnTo>
                    <a:lnTo>
                      <a:pt x="879" y="659"/>
                    </a:lnTo>
                    <a:lnTo>
                      <a:pt x="898" y="620"/>
                    </a:lnTo>
                    <a:lnTo>
                      <a:pt x="914" y="590"/>
                    </a:lnTo>
                    <a:lnTo>
                      <a:pt x="928" y="566"/>
                    </a:lnTo>
                    <a:lnTo>
                      <a:pt x="942" y="536"/>
                    </a:lnTo>
                    <a:lnTo>
                      <a:pt x="928" y="506"/>
                    </a:lnTo>
                    <a:lnTo>
                      <a:pt x="903" y="491"/>
                    </a:lnTo>
                    <a:lnTo>
                      <a:pt x="872" y="473"/>
                    </a:lnTo>
                    <a:lnTo>
                      <a:pt x="851" y="457"/>
                    </a:lnTo>
                    <a:lnTo>
                      <a:pt x="825" y="445"/>
                    </a:lnTo>
                    <a:lnTo>
                      <a:pt x="799" y="437"/>
                    </a:lnTo>
                    <a:lnTo>
                      <a:pt x="761" y="413"/>
                    </a:lnTo>
                    <a:lnTo>
                      <a:pt x="733" y="385"/>
                    </a:lnTo>
                    <a:lnTo>
                      <a:pt x="711" y="370"/>
                    </a:lnTo>
                    <a:lnTo>
                      <a:pt x="686" y="356"/>
                    </a:lnTo>
                    <a:lnTo>
                      <a:pt x="667" y="334"/>
                    </a:lnTo>
                    <a:lnTo>
                      <a:pt x="643" y="318"/>
                    </a:lnTo>
                    <a:lnTo>
                      <a:pt x="614" y="300"/>
                    </a:lnTo>
                    <a:lnTo>
                      <a:pt x="574" y="274"/>
                    </a:lnTo>
                    <a:lnTo>
                      <a:pt x="482" y="217"/>
                    </a:lnTo>
                    <a:lnTo>
                      <a:pt x="456" y="203"/>
                    </a:lnTo>
                    <a:lnTo>
                      <a:pt x="425" y="185"/>
                    </a:lnTo>
                    <a:lnTo>
                      <a:pt x="392" y="151"/>
                    </a:lnTo>
                    <a:lnTo>
                      <a:pt x="367" y="135"/>
                    </a:lnTo>
                    <a:lnTo>
                      <a:pt x="336" y="114"/>
                    </a:lnTo>
                    <a:lnTo>
                      <a:pt x="296" y="92"/>
                    </a:lnTo>
                    <a:lnTo>
                      <a:pt x="208" y="26"/>
                    </a:lnTo>
                    <a:lnTo>
                      <a:pt x="182" y="0"/>
                    </a:lnTo>
                    <a:lnTo>
                      <a:pt x="143" y="14"/>
                    </a:lnTo>
                    <a:lnTo>
                      <a:pt x="137" y="44"/>
                    </a:lnTo>
                    <a:lnTo>
                      <a:pt x="131" y="7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1" name=""/>
            <p:cNvSpPr/>
            <p:nvPr/>
          </p:nvSpPr>
          <p:spPr>
            <a:xfrm>
              <a:off x="4643280" y="2997360"/>
              <a:ext cx="4176720" cy="2952720"/>
            </a:xfrm>
            <a:prstGeom prst="wedgeRectCallout">
              <a:avLst>
                <a:gd name="adj1" fmla="val -38902"/>
                <a:gd name="adj2" fmla="val -61074"/>
              </a:avLst>
            </a:prstGeom>
            <a:solidFill>
              <a:srgbClr val="000000"/>
            </a:solidFill>
            <a:ln w="38160">
              <a:solidFill>
                <a:srgbClr val="990099"/>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788000" y="321300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ioritise further monitoring &amp; assessment</a:t>
              </a:r>
              <a:endParaRPr b="0" lang="en-US" sz="2400" spc="-1" strike="noStrike">
                <a:solidFill>
                  <a:srgbClr val="000000"/>
                </a:solidFill>
                <a:latin typeface="Arial"/>
              </a:endParaRPr>
            </a:p>
          </p:txBody>
        </p:sp>
        <p:sp>
          <p:nvSpPr>
            <p:cNvPr id="843" name=""/>
            <p:cNvSpPr/>
            <p:nvPr/>
          </p:nvSpPr>
          <p:spPr>
            <a:xfrm>
              <a:off x="4788000" y="433080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ntrol risk of deterioration</a:t>
              </a:r>
              <a:endParaRPr b="0" lang="en-US" sz="2400" spc="-1" strike="noStrike">
                <a:solidFill>
                  <a:srgbClr val="000000"/>
                </a:solidFill>
                <a:latin typeface="Arial"/>
              </a:endParaRPr>
            </a:p>
          </p:txBody>
        </p:sp>
        <p:sp>
          <p:nvSpPr>
            <p:cNvPr id="844" name=""/>
            <p:cNvSpPr/>
            <p:nvPr/>
          </p:nvSpPr>
          <p:spPr>
            <a:xfrm>
              <a:off x="4788000" y="508464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elay expensive measures until confidence increased</a:t>
              </a:r>
              <a:endParaRPr b="0" lang="en-US" sz="2400" spc="-1" strike="noStrike">
                <a:solidFill>
                  <a:srgbClr val="000000"/>
                </a:solidFill>
                <a:latin typeface="Arial"/>
              </a:endParaRPr>
            </a:p>
          </p:txBody>
        </p:sp>
      </p:grpSp>
      <p:grpSp>
        <p:nvGrpSpPr>
          <p:cNvPr id="845" name=""/>
          <p:cNvGrpSpPr/>
          <p:nvPr/>
        </p:nvGrpSpPr>
        <p:grpSpPr>
          <a:xfrm>
            <a:off x="108000" y="2997360"/>
            <a:ext cx="4176720" cy="2952720"/>
            <a:chOff x="108000" y="2997360"/>
            <a:chExt cx="4176720" cy="2952720"/>
          </a:xfrm>
        </p:grpSpPr>
        <p:sp>
          <p:nvSpPr>
            <p:cNvPr id="846" name=""/>
            <p:cNvSpPr/>
            <p:nvPr/>
          </p:nvSpPr>
          <p:spPr>
            <a:xfrm flipH="1">
              <a:off x="108000" y="2997360"/>
              <a:ext cx="4176720" cy="2952720"/>
            </a:xfrm>
            <a:prstGeom prst="wedgeRectCallout">
              <a:avLst>
                <a:gd name="adj1" fmla="val -38902"/>
                <a:gd name="adj2" fmla="val -61074"/>
              </a:avLst>
            </a:prstGeom>
            <a:solidFill>
              <a:srgbClr val="000000"/>
            </a:solidFill>
            <a:ln w="38160">
              <a:solidFill>
                <a:srgbClr val="990099"/>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252360" y="3213360"/>
              <a:ext cx="38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ioritise for impr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depending on objective setting proce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645"/>
                                        </p:tgtEl>
                                        <p:attrNameLst>
                                          <p:attrName>style.visibility</p:attrName>
                                        </p:attrNameLst>
                                      </p:cBhvr>
                                      <p:to>
                                        <p:strVal val="visible"/>
                                      </p:to>
                                    </p:set>
                                    <p:animEffect filter="dissolve" transition="in">
                                      <p:cBhvr additive="repl">
                                        <p:cTn id="13" dur="500"/>
                                        <p:tgtEl>
                                          <p:spTgt spid="64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5"/>
                                        </p:tgtEl>
                                        <p:attrNameLst>
                                          <p:attrName>style.visibility</p:attrName>
                                        </p:attrNameLst>
                                      </p:cBhvr>
                                      <p:to>
                                        <p:strVal val="visible"/>
                                      </p:to>
                                    </p:set>
                                    <p:animEffect filter="dissolve" transition="in">
                                      <p:cBhvr additive="repl">
                                        <p:cTn id="18"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848" name=""/>
          <p:cNvGrpSpPr/>
          <p:nvPr/>
        </p:nvGrpSpPr>
        <p:grpSpPr>
          <a:xfrm>
            <a:off x="250920" y="1763640"/>
            <a:ext cx="8136000" cy="1118880"/>
            <a:chOff x="250920" y="1763640"/>
            <a:chExt cx="8136000" cy="1118880"/>
          </a:xfrm>
        </p:grpSpPr>
        <p:sp>
          <p:nvSpPr>
            <p:cNvPr id="849" name=""/>
            <p:cNvSpPr/>
            <p:nvPr/>
          </p:nvSpPr>
          <p:spPr>
            <a:xfrm>
              <a:off x="250920" y="1763640"/>
              <a:ext cx="8136000" cy="86364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271440" y="1935360"/>
              <a:ext cx="809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100s of water bodies classed worse than good….</a:t>
              </a:r>
              <a:endParaRPr b="0" lang="en-US" sz="2800" spc="-1" strike="noStrike">
                <a:solidFill>
                  <a:srgbClr val="000000"/>
                </a:solidFill>
                <a:latin typeface="Arial"/>
              </a:endParaRPr>
            </a:p>
          </p:txBody>
        </p:sp>
      </p:grpSp>
      <p:sp>
        <p:nvSpPr>
          <p:cNvPr id="851" name=""/>
          <p:cNvSpPr/>
          <p:nvPr/>
        </p:nvSpPr>
        <p:spPr>
          <a:xfrm>
            <a:off x="250920" y="260280"/>
            <a:ext cx="75927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ace value classification basis for national or regional measures</a:t>
            </a:r>
            <a:endParaRPr b="0" lang="en-US" sz="4000" spc="-1" strike="noStrike">
              <a:solidFill>
                <a:srgbClr val="000000"/>
              </a:solidFill>
              <a:latin typeface="Arial"/>
            </a:endParaRPr>
          </a:p>
        </p:txBody>
      </p:sp>
      <p:grpSp>
        <p:nvGrpSpPr>
          <p:cNvPr id="852" name=""/>
          <p:cNvGrpSpPr/>
          <p:nvPr/>
        </p:nvGrpSpPr>
        <p:grpSpPr>
          <a:xfrm>
            <a:off x="250920" y="2843280"/>
            <a:ext cx="8135640" cy="863640"/>
            <a:chOff x="250920" y="2843280"/>
            <a:chExt cx="8135640" cy="863640"/>
          </a:xfrm>
        </p:grpSpPr>
        <p:sp>
          <p:nvSpPr>
            <p:cNvPr id="853" name=""/>
            <p:cNvSpPr/>
            <p:nvPr/>
          </p:nvSpPr>
          <p:spPr>
            <a:xfrm>
              <a:off x="250920" y="2843280"/>
              <a:ext cx="8135640" cy="86364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357120" y="3014640"/>
              <a:ext cx="792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in relation to a particular pollutant or issue</a:t>
              </a:r>
              <a:endParaRPr b="0" lang="en-US" sz="2800" spc="-1" strike="noStrike">
                <a:solidFill>
                  <a:srgbClr val="000000"/>
                </a:solidFill>
                <a:latin typeface="Arial"/>
              </a:endParaRPr>
            </a:p>
          </p:txBody>
        </p:sp>
      </p:grpSp>
      <p:grpSp>
        <p:nvGrpSpPr>
          <p:cNvPr id="855" name=""/>
          <p:cNvGrpSpPr/>
          <p:nvPr/>
        </p:nvGrpSpPr>
        <p:grpSpPr>
          <a:xfrm>
            <a:off x="250920" y="3922560"/>
            <a:ext cx="8135640" cy="863640"/>
            <a:chOff x="250920" y="3922560"/>
            <a:chExt cx="8135640" cy="863640"/>
          </a:xfrm>
        </p:grpSpPr>
        <p:sp>
          <p:nvSpPr>
            <p:cNvPr id="856" name=""/>
            <p:cNvSpPr/>
            <p:nvPr/>
          </p:nvSpPr>
          <p:spPr>
            <a:xfrm>
              <a:off x="250920" y="3922560"/>
              <a:ext cx="8135640" cy="863640"/>
            </a:xfrm>
            <a:prstGeom prst="rect">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357120" y="4093920"/>
              <a:ext cx="792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t>
              </a:r>
              <a:r>
                <a:rPr b="0" lang="en-GB" sz="2800" spc="-1" strike="noStrike">
                  <a:solidFill>
                    <a:srgbClr val="ffffff"/>
                  </a:solidFill>
                  <a:latin typeface="Tahoma"/>
                </a:rPr>
                <a:t>high confidence that there is a truly problem</a:t>
              </a:r>
              <a:endParaRPr b="0" lang="en-US" sz="2800" spc="-1" strike="noStrike">
                <a:solidFill>
                  <a:srgbClr val="000000"/>
                </a:solidFill>
                <a:latin typeface="Arial"/>
              </a:endParaRPr>
            </a:p>
          </p:txBody>
        </p:sp>
      </p:grpSp>
      <p:grpSp>
        <p:nvGrpSpPr>
          <p:cNvPr id="858" name=""/>
          <p:cNvGrpSpPr/>
          <p:nvPr/>
        </p:nvGrpSpPr>
        <p:grpSpPr>
          <a:xfrm>
            <a:off x="250920" y="5003640"/>
            <a:ext cx="8136000" cy="947160"/>
            <a:chOff x="250920" y="5003640"/>
            <a:chExt cx="8136000" cy="947160"/>
          </a:xfrm>
        </p:grpSpPr>
        <p:sp>
          <p:nvSpPr>
            <p:cNvPr id="859" name=""/>
            <p:cNvSpPr/>
            <p:nvPr/>
          </p:nvSpPr>
          <p:spPr>
            <a:xfrm>
              <a:off x="250920" y="5044680"/>
              <a:ext cx="8136000" cy="863640"/>
            </a:xfrm>
            <a:prstGeom prst="rect">
              <a:avLst/>
            </a:prstGeom>
            <a:solidFill>
              <a:srgbClr val="00ff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58920" y="500364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sis for considering national or regional measures (e.g. product control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861" name=""/>
          <p:cNvSpPr/>
          <p:nvPr/>
        </p:nvSpPr>
        <p:spPr>
          <a:xfrm>
            <a:off x="900000" y="1052640"/>
            <a:ext cx="7559640" cy="496872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826920" y="1197000"/>
            <a:ext cx="7705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Tahoma"/>
              </a:rPr>
              <a:t>..but information on confidence of class needed to prioritise targeted measur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863" name=""/>
          <p:cNvSpPr/>
          <p:nvPr/>
        </p:nvSpPr>
        <p:spPr>
          <a:xfrm>
            <a:off x="900000" y="549360"/>
            <a:ext cx="7345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242492"/>
                </a:solidFill>
                <a:latin typeface="Tahoma"/>
              </a:rPr>
              <a:t>Combining results for certain physicochemical &amp; biological quality element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864" name=""/>
          <p:cNvGrpSpPr/>
          <p:nvPr/>
        </p:nvGrpSpPr>
        <p:grpSpPr>
          <a:xfrm>
            <a:off x="6463440" y="2954520"/>
            <a:ext cx="2468880" cy="1118520"/>
            <a:chOff x="6463440" y="2954520"/>
            <a:chExt cx="2468880" cy="1118520"/>
          </a:xfrm>
        </p:grpSpPr>
        <p:sp>
          <p:nvSpPr>
            <p:cNvPr id="865" name=""/>
            <p:cNvSpPr/>
            <p:nvPr/>
          </p:nvSpPr>
          <p:spPr>
            <a:xfrm rot="1080000">
              <a:off x="6503760" y="3148920"/>
              <a:ext cx="1334880" cy="474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rot="3540000">
              <a:off x="8070840" y="3069720"/>
              <a:ext cx="570240" cy="10018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rot="1080000">
              <a:off x="6671880" y="2997000"/>
              <a:ext cx="161640" cy="18648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H="1" flipV="1" rot="18360000">
              <a:off x="6954840" y="3360600"/>
              <a:ext cx="360360" cy="659160"/>
            </a:xfrm>
            <a:custGeom>
              <a:avLst/>
              <a:gdLst>
                <a:gd name="textAreaLeft" fmla="*/ 79200 w 360360"/>
                <a:gd name="textAreaRight" fmla="*/ 281160 w 360360"/>
                <a:gd name="textAreaTop" fmla="*/ 144720 h 659160"/>
                <a:gd name="textAreaBottom" fmla="*/ 514440 h 6591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rot="1440000">
              <a:off x="7182720" y="3133440"/>
              <a:ext cx="742320" cy="161280"/>
            </a:xfrm>
            <a:prstGeom prst="parallelogram">
              <a:avLst>
                <a:gd name="adj" fmla="val 115045"/>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rot="1080000">
              <a:off x="6690960" y="3051000"/>
              <a:ext cx="69480" cy="53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71" name=""/>
            <p:cNvSpPr/>
            <p:nvPr/>
          </p:nvSpPr>
          <p:spPr>
            <a:xfrm>
              <a:off x="6528960" y="3228480"/>
              <a:ext cx="235080" cy="123480"/>
            </a:xfrm>
            <a:custGeom>
              <a:avLst/>
              <a:gdLst/>
              <a:ahLst/>
              <a:rect l="l" t="t" r="r" b="b"/>
              <a:pathLst>
                <a:path w="74" h="39">
                  <a:moveTo>
                    <a:pt x="0" y="0"/>
                  </a:moveTo>
                  <a:lnTo>
                    <a:pt x="5" y="2"/>
                  </a:lnTo>
                  <a:lnTo>
                    <a:pt x="14" y="2"/>
                  </a:lnTo>
                  <a:lnTo>
                    <a:pt x="20" y="4"/>
                  </a:lnTo>
                  <a:lnTo>
                    <a:pt x="24" y="8"/>
                  </a:lnTo>
                  <a:lnTo>
                    <a:pt x="26" y="17"/>
                  </a:lnTo>
                  <a:lnTo>
                    <a:pt x="30" y="19"/>
                  </a:lnTo>
                  <a:lnTo>
                    <a:pt x="42" y="22"/>
                  </a:lnTo>
                  <a:lnTo>
                    <a:pt x="48" y="24"/>
                  </a:lnTo>
                  <a:lnTo>
                    <a:pt x="52" y="23"/>
                  </a:lnTo>
                  <a:lnTo>
                    <a:pt x="59" y="19"/>
                  </a:lnTo>
                  <a:lnTo>
                    <a:pt x="62" y="21"/>
                  </a:lnTo>
                  <a:lnTo>
                    <a:pt x="67" y="22"/>
                  </a:lnTo>
                  <a:lnTo>
                    <a:pt x="69" y="29"/>
                  </a:lnTo>
                  <a:lnTo>
                    <a:pt x="73" y="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
          <p:cNvSpPr/>
          <p:nvPr/>
        </p:nvSpPr>
        <p:spPr>
          <a:xfrm>
            <a:off x="179280" y="2205000"/>
            <a:ext cx="3724560" cy="3706920"/>
          </a:xfrm>
          <a:prstGeom prst="rect">
            <a:avLst/>
          </a:prstGeom>
          <a:gradFill rotWithShape="0">
            <a:gsLst>
              <a:gs pos="0">
                <a:srgbClr val="ff3300"/>
              </a:gs>
              <a:gs pos="50000">
                <a:srgbClr val="a50021"/>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301680" y="3105000"/>
            <a:ext cx="3381120" cy="1434600"/>
          </a:xfrm>
          <a:prstGeom prst="rect">
            <a:avLst/>
          </a:prstGeom>
          <a:blipFill rotWithShape="0">
            <a:blip r:embed="rId1"/>
            <a:srcRect/>
            <a:tile tx="0" ty="0" sx="100000" sy="100000" algn="ctr"/>
          </a:blipFill>
          <a:ln w="7632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utrien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mperature</a:t>
            </a:r>
            <a:endParaRPr b="0" lang="en-US" sz="4400" spc="-1" strike="noStrike">
              <a:solidFill>
                <a:srgbClr val="000000"/>
              </a:solidFill>
              <a:latin typeface="Arial"/>
            </a:endParaRPr>
          </a:p>
        </p:txBody>
      </p:sp>
      <p:sp>
        <p:nvSpPr>
          <p:cNvPr id="874" name=""/>
          <p:cNvSpPr/>
          <p:nvPr/>
        </p:nvSpPr>
        <p:spPr>
          <a:xfrm>
            <a:off x="3924360" y="3836880"/>
            <a:ext cx="2879640" cy="362160"/>
          </a:xfrm>
          <a:custGeom>
            <a:avLst/>
            <a:gdLst/>
            <a:ahLst/>
            <a:rect l="l" t="t" r="r" b="b"/>
            <a:pathLst>
              <a:path w="675" h="228">
                <a:moveTo>
                  <a:pt x="0" y="148"/>
                </a:moveTo>
                <a:cubicBezTo>
                  <a:pt x="11" y="140"/>
                  <a:pt x="61" y="99"/>
                  <a:pt x="79" y="99"/>
                </a:cubicBezTo>
                <a:cubicBezTo>
                  <a:pt x="100" y="99"/>
                  <a:pt x="139" y="119"/>
                  <a:pt x="139" y="119"/>
                </a:cubicBezTo>
                <a:cubicBezTo>
                  <a:pt x="142" y="127"/>
                  <a:pt x="166" y="206"/>
                  <a:pt x="178" y="218"/>
                </a:cubicBezTo>
                <a:cubicBezTo>
                  <a:pt x="185" y="226"/>
                  <a:pt x="198" y="225"/>
                  <a:pt x="208" y="228"/>
                </a:cubicBezTo>
                <a:cubicBezTo>
                  <a:pt x="290" y="201"/>
                  <a:pt x="265" y="184"/>
                  <a:pt x="248" y="119"/>
                </a:cubicBezTo>
                <a:cubicBezTo>
                  <a:pt x="264" y="56"/>
                  <a:pt x="270" y="15"/>
                  <a:pt x="337" y="0"/>
                </a:cubicBezTo>
                <a:cubicBezTo>
                  <a:pt x="319" y="52"/>
                  <a:pt x="342" y="65"/>
                  <a:pt x="377" y="109"/>
                </a:cubicBezTo>
                <a:cubicBezTo>
                  <a:pt x="438" y="89"/>
                  <a:pt x="415" y="50"/>
                  <a:pt x="476" y="29"/>
                </a:cubicBezTo>
                <a:cubicBezTo>
                  <a:pt x="502" y="132"/>
                  <a:pt x="487" y="81"/>
                  <a:pt x="516" y="168"/>
                </a:cubicBezTo>
                <a:cubicBezTo>
                  <a:pt x="519" y="178"/>
                  <a:pt x="526" y="198"/>
                  <a:pt x="526" y="198"/>
                </a:cubicBezTo>
                <a:cubicBezTo>
                  <a:pt x="546" y="195"/>
                  <a:pt x="568" y="198"/>
                  <a:pt x="586" y="188"/>
                </a:cubicBezTo>
                <a:cubicBezTo>
                  <a:pt x="595" y="183"/>
                  <a:pt x="588" y="166"/>
                  <a:pt x="595" y="158"/>
                </a:cubicBezTo>
                <a:cubicBezTo>
                  <a:pt x="617" y="130"/>
                  <a:pt x="644" y="139"/>
                  <a:pt x="675" y="139"/>
                </a:cubicBezTo>
              </a:path>
            </a:pathLst>
          </a:custGeom>
          <a:noFill/>
          <a:ln w="5724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535880" y="3500280"/>
            <a:ext cx="534600" cy="5010120"/>
          </a:xfrm>
          <a:custGeom>
            <a:avLst/>
            <a:gdLst/>
            <a:ahLst/>
            <a:rect l="l" t="t" r="r" b="b"/>
            <a:pathLst>
              <a:path stroke="0" w="21600" h="21600">
                <a:moveTo>
                  <a:pt x="10513" y="4"/>
                </a:moveTo>
                <a:arcTo wR="10800" hR="10800" stAng="-5491521" swAng="5481580"/>
                <a:lnTo>
                  <a:pt x="10800" y="10800"/>
                </a:lnTo>
                <a:close/>
              </a:path>
              <a:path fill="none" w="21600" h="21600">
                <a:moveTo>
                  <a:pt x="10513" y="4"/>
                </a:moveTo>
                <a:arcTo wR="10800" hR="10800" stAng="-5491521" swAng="5481580"/>
              </a:path>
            </a:pathLst>
          </a:custGeom>
          <a:noFill/>
          <a:ln cap="rnd" w="255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128080" y="4456080"/>
            <a:ext cx="1240920" cy="3069720"/>
          </a:xfrm>
          <a:custGeom>
            <a:avLst/>
            <a:gdLst/>
            <a:ahLst/>
            <a:rect l="l" t="t" r="r" b="b"/>
            <a:pathLst>
              <a:path stroke="0" w="21600" h="21600">
                <a:moveTo>
                  <a:pt x="0" y="10800"/>
                </a:moveTo>
                <a:arcTo wR="10800" hR="10800" stAng="10800000" swAng="5360028"/>
                <a:lnTo>
                  <a:pt x="10800" y="10800"/>
                </a:lnTo>
                <a:close/>
              </a:path>
              <a:path fill="none" w="21600" h="21600">
                <a:moveTo>
                  <a:pt x="0" y="10800"/>
                </a:moveTo>
                <a:arcTo wR="10800" hR="10800" stAng="10800000" swAng="5360028"/>
              </a:path>
            </a:pathLst>
          </a:custGeom>
          <a:noFill/>
          <a:ln cap="rnd" w="255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185240" y="4799160"/>
            <a:ext cx="1007640" cy="2469240"/>
          </a:xfrm>
          <a:custGeom>
            <a:avLst/>
            <a:gdLst/>
            <a:ahLst/>
            <a:rect l="l" t="t" r="r" b="b"/>
            <a:pathLst>
              <a:path stroke="0" w="21600" h="21600">
                <a:moveTo>
                  <a:pt x="10647" y="1"/>
                </a:moveTo>
                <a:arcTo wR="10800" hR="10800" stAng="-5448618" swAng="5428547"/>
                <a:lnTo>
                  <a:pt x="10800" y="10800"/>
                </a:lnTo>
                <a:close/>
              </a:path>
              <a:path fill="none" w="21600" h="21600">
                <a:moveTo>
                  <a:pt x="10647" y="1"/>
                </a:moveTo>
                <a:arcTo wR="10800" hR="10800" stAng="-5448618" swAng="5428547"/>
              </a:path>
            </a:pathLst>
          </a:custGeom>
          <a:noFill/>
          <a:ln cap="rnd" w="25560">
            <a:solidFill>
              <a:srgbClr val="33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631280" y="3386160"/>
            <a:ext cx="706320" cy="1084320"/>
          </a:xfrm>
          <a:prstGeom prst="star5">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7940520" y="3949560"/>
            <a:ext cx="152640" cy="150840"/>
          </a:xfrm>
          <a:prstGeom prst="ellipse">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rot="20640000">
            <a:off x="6051240" y="4835160"/>
            <a:ext cx="1031760" cy="3063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rot="20640000">
            <a:off x="6953400" y="4656240"/>
            <a:ext cx="563400" cy="299880"/>
          </a:xfrm>
          <a:prstGeom prst="ellipse">
            <a:avLst/>
          </a:prstGeom>
          <a:solidFill>
            <a:srgbClr val="7b9c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rot="20640000">
            <a:off x="7502040" y="4521240"/>
            <a:ext cx="338400" cy="392040"/>
          </a:xfrm>
          <a:prstGeom prst="ellipse">
            <a:avLst/>
          </a:prstGeom>
          <a:solidFill>
            <a:srgbClr val="00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rot="20640000">
            <a:off x="5343840" y="4523760"/>
            <a:ext cx="1281960" cy="571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rot="20640000">
            <a:off x="5567040" y="5148720"/>
            <a:ext cx="1355040" cy="783720"/>
          </a:xfrm>
          <a:custGeom>
            <a:avLst/>
            <a:gdLst/>
            <a:ahLst/>
            <a:rect l="l" t="t" r="r" b="b"/>
            <a:pathLst>
              <a:path stroke="0" w="21600" h="21600">
                <a:moveTo>
                  <a:pt x="0" y="10800"/>
                </a:moveTo>
                <a:arcTo wR="10800" hR="10800" stAng="10800000" swAng="5363429"/>
                <a:lnTo>
                  <a:pt x="10800" y="10800"/>
                </a:lnTo>
                <a:close/>
              </a:path>
              <a:path fill="none" w="21600" h="21600">
                <a:moveTo>
                  <a:pt x="0" y="10800"/>
                </a:moveTo>
                <a:arcTo wR="10800" hR="10800" stAng="10800000" swAng="5363429"/>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
          <p:cNvGrpSpPr/>
          <p:nvPr/>
        </p:nvGrpSpPr>
        <p:grpSpPr>
          <a:xfrm>
            <a:off x="7097760" y="4206960"/>
            <a:ext cx="309600" cy="469440"/>
            <a:chOff x="7097760" y="4206960"/>
            <a:chExt cx="309600" cy="469440"/>
          </a:xfrm>
        </p:grpSpPr>
        <p:sp>
          <p:nvSpPr>
            <p:cNvPr id="886" name=""/>
            <p:cNvSpPr/>
            <p:nvPr/>
          </p:nvSpPr>
          <p:spPr>
            <a:xfrm flipH="1" flipV="1">
              <a:off x="7097760" y="4448160"/>
              <a:ext cx="309600" cy="22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7112160" y="4206960"/>
              <a:ext cx="208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 name=""/>
          <p:cNvGrpSpPr/>
          <p:nvPr/>
        </p:nvGrpSpPr>
        <p:grpSpPr>
          <a:xfrm>
            <a:off x="6946920" y="4212720"/>
            <a:ext cx="301680" cy="484560"/>
            <a:chOff x="6946920" y="4212720"/>
            <a:chExt cx="301680" cy="484560"/>
          </a:xfrm>
        </p:grpSpPr>
        <p:sp>
          <p:nvSpPr>
            <p:cNvPr id="889" name=""/>
            <p:cNvSpPr/>
            <p:nvPr/>
          </p:nvSpPr>
          <p:spPr>
            <a:xfrm flipH="1" flipV="1">
              <a:off x="6946920" y="4469760"/>
              <a:ext cx="301680" cy="22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flipV="1">
              <a:off x="6946920" y="4212720"/>
              <a:ext cx="215640" cy="24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6737400" y="4284360"/>
            <a:ext cx="308160" cy="478440"/>
            <a:chOff x="6737400" y="4284360"/>
            <a:chExt cx="308160" cy="478440"/>
          </a:xfrm>
        </p:grpSpPr>
        <p:sp>
          <p:nvSpPr>
            <p:cNvPr id="892" name=""/>
            <p:cNvSpPr/>
            <p:nvPr/>
          </p:nvSpPr>
          <p:spPr>
            <a:xfrm flipH="1" flipV="1">
              <a:off x="6737400" y="4542480"/>
              <a:ext cx="308160" cy="22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6750360" y="4284360"/>
              <a:ext cx="208800" cy="2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rot="20640000">
            <a:off x="7789680" y="4555800"/>
            <a:ext cx="58680" cy="85680"/>
          </a:xfrm>
          <a:prstGeom prst="ellipse">
            <a:avLst/>
          </a:prstGeom>
          <a:blipFill rotWithShape="0">
            <a:blip r:embed="rId3"/>
            <a:srcRect/>
            <a:tile tx="0" ty="0" sx="100000" sy="100000" algn="ctr"/>
          </a:blipFill>
          <a:ln w="12600">
            <a:solidFill>
              <a:srgbClr val="969696"/>
            </a:solidFill>
            <a:prstDash val="sysDot"/>
            <a:miter/>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895" name=""/>
          <p:cNvSpPr/>
          <p:nvPr/>
        </p:nvSpPr>
        <p:spPr>
          <a:xfrm flipH="1">
            <a:off x="7372440" y="4878360"/>
            <a:ext cx="10800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394400" y="5141880"/>
            <a:ext cx="30168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7" name=""/>
          <p:cNvSpPr/>
          <p:nvPr/>
        </p:nvSpPr>
        <p:spPr>
          <a:xfrm flipH="1">
            <a:off x="7205760" y="4935600"/>
            <a:ext cx="10944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219800" y="5207040"/>
            <a:ext cx="29700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9" name=""/>
          <p:cNvSpPr/>
          <p:nvPr/>
        </p:nvSpPr>
        <p:spPr>
          <a:xfrm flipH="1">
            <a:off x="7004160" y="4992840"/>
            <a:ext cx="10152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967440" y="5227560"/>
            <a:ext cx="303480" cy="15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rot="20640000">
            <a:off x="7833960" y="4806720"/>
            <a:ext cx="57240" cy="77760"/>
          </a:xfrm>
          <a:prstGeom prst="ellipse">
            <a:avLst/>
          </a:prstGeom>
          <a:blipFill rotWithShape="0">
            <a:blip r:embed="rId4"/>
            <a:srcRect/>
            <a:tile tx="0" ty="0" sx="100000" sy="100000" algn="ctr"/>
          </a:blipFill>
          <a:ln w="12600">
            <a:solidFill>
              <a:srgbClr val="969696"/>
            </a:solidFill>
            <a:prstDash val="sysDot"/>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902" name=""/>
          <p:cNvGrpSpPr/>
          <p:nvPr/>
        </p:nvGrpSpPr>
        <p:grpSpPr>
          <a:xfrm>
            <a:off x="684360" y="260280"/>
            <a:ext cx="4392360" cy="1513080"/>
            <a:chOff x="684360" y="260280"/>
            <a:chExt cx="4392360" cy="1513080"/>
          </a:xfrm>
        </p:grpSpPr>
        <p:sp>
          <p:nvSpPr>
            <p:cNvPr id="903" name=""/>
            <p:cNvSpPr/>
            <p:nvPr/>
          </p:nvSpPr>
          <p:spPr>
            <a:xfrm>
              <a:off x="684360" y="260280"/>
              <a:ext cx="3743280" cy="1513080"/>
            </a:xfrm>
            <a:prstGeom prst="wedgeRoundRectCallout">
              <a:avLst>
                <a:gd name="adj1" fmla="val -22601"/>
                <a:gd name="adj2" fmla="val 80430"/>
                <a:gd name="adj3" fmla="val 16667"/>
              </a:avLst>
            </a:prstGeom>
            <a:solidFill>
              <a:srgbClr val="ffffff"/>
            </a:solidFill>
            <a:ln w="38160">
              <a:solidFill>
                <a:srgbClr val="00000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782640" y="326880"/>
              <a:ext cx="4294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t class boundary standards to support biology</a:t>
              </a:r>
              <a:endParaRPr b="0" lang="en-US" sz="2800" spc="-1" strike="noStrike">
                <a:solidFill>
                  <a:srgbClr val="000000"/>
                </a:solidFill>
                <a:latin typeface="Arial"/>
              </a:endParaRPr>
            </a:p>
          </p:txBody>
        </p:sp>
      </p:grpSp>
      <p:grpSp>
        <p:nvGrpSpPr>
          <p:cNvPr id="905" name=""/>
          <p:cNvGrpSpPr/>
          <p:nvPr/>
        </p:nvGrpSpPr>
        <p:grpSpPr>
          <a:xfrm>
            <a:off x="5148360" y="1268280"/>
            <a:ext cx="3744720" cy="1945080"/>
            <a:chOff x="5148360" y="1268280"/>
            <a:chExt cx="3744720" cy="1945080"/>
          </a:xfrm>
        </p:grpSpPr>
        <p:sp>
          <p:nvSpPr>
            <p:cNvPr id="906" name=""/>
            <p:cNvSpPr/>
            <p:nvPr/>
          </p:nvSpPr>
          <p:spPr>
            <a:xfrm>
              <a:off x="5148360" y="1268280"/>
              <a:ext cx="3744720" cy="1656000"/>
            </a:xfrm>
            <a:prstGeom prst="wedgeRoundRectCallout">
              <a:avLst>
                <a:gd name="adj1" fmla="val -38087"/>
                <a:gd name="adj2" fmla="val 98032"/>
                <a:gd name="adj3" fmla="val 16667"/>
              </a:avLst>
            </a:prstGeom>
            <a:solidFill>
              <a:srgbClr val="ffffff"/>
            </a:solidFill>
            <a:ln w="38160">
              <a:solidFill>
                <a:srgbClr val="00000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5219640" y="1413000"/>
              <a:ext cx="360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ertainties about the correct value to set for the standard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905"/>
                                        </p:tgtEl>
                                        <p:attrNameLst>
                                          <p:attrName>style.visibility</p:attrName>
                                        </p:attrNameLst>
                                      </p:cBhvr>
                                      <p:to>
                                        <p:strVal val="visible"/>
                                      </p:to>
                                    </p:set>
                                    <p:animEffect filter="dissolve" transition="in">
                                      <p:cBhvr additive="repl">
                                        <p:cTn id="25"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908" name=""/>
          <p:cNvGrpSpPr/>
          <p:nvPr/>
        </p:nvGrpSpPr>
        <p:grpSpPr>
          <a:xfrm>
            <a:off x="250920" y="1125360"/>
            <a:ext cx="8569080" cy="1727280"/>
            <a:chOff x="250920" y="1125360"/>
            <a:chExt cx="8569080" cy="1727280"/>
          </a:xfrm>
        </p:grpSpPr>
        <p:sp>
          <p:nvSpPr>
            <p:cNvPr id="909" name=""/>
            <p:cNvSpPr/>
            <p:nvPr/>
          </p:nvSpPr>
          <p:spPr>
            <a:xfrm>
              <a:off x="250920" y="1125360"/>
              <a:ext cx="8569080" cy="1727280"/>
            </a:xfrm>
            <a:prstGeom prst="rect">
              <a:avLst/>
            </a:prstGeom>
            <a:solidFill>
              <a:srgbClr val="000000"/>
            </a:solidFill>
            <a:ln w="38160">
              <a:solidFill>
                <a:srgbClr val="00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541440" y="1211400"/>
              <a:ext cx="7986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ncertainty arises because of different ecological sensitivities in different water bodies</a:t>
              </a:r>
              <a:endParaRPr b="0" lang="en-US" sz="3200" spc="-1" strike="noStrike">
                <a:solidFill>
                  <a:srgbClr val="000000"/>
                </a:solidFill>
                <a:latin typeface="Arial"/>
              </a:endParaRPr>
            </a:p>
          </p:txBody>
        </p:sp>
      </p:grpSp>
      <p:grpSp>
        <p:nvGrpSpPr>
          <p:cNvPr id="911" name=""/>
          <p:cNvGrpSpPr/>
          <p:nvPr/>
        </p:nvGrpSpPr>
        <p:grpSpPr>
          <a:xfrm>
            <a:off x="250920" y="3502080"/>
            <a:ext cx="8569080" cy="1726920"/>
            <a:chOff x="250920" y="3502080"/>
            <a:chExt cx="8569080" cy="1726920"/>
          </a:xfrm>
        </p:grpSpPr>
        <p:sp>
          <p:nvSpPr>
            <p:cNvPr id="912" name=""/>
            <p:cNvSpPr/>
            <p:nvPr/>
          </p:nvSpPr>
          <p:spPr>
            <a:xfrm>
              <a:off x="250920" y="3502080"/>
              <a:ext cx="8569080" cy="1726920"/>
            </a:xfrm>
            <a:prstGeom prst="rect">
              <a:avLst/>
            </a:prstGeom>
            <a:solidFill>
              <a:srgbClr val="ff3300"/>
            </a:solidFill>
            <a:ln w="38160">
              <a:solidFill>
                <a:srgbClr val="ff33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541440" y="3832200"/>
              <a:ext cx="79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ypology reduces uncertainty but can’t remove i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914" name=""/>
          <p:cNvSpPr/>
          <p:nvPr/>
        </p:nvSpPr>
        <p:spPr>
          <a:xfrm>
            <a:off x="744480" y="4300560"/>
            <a:ext cx="8102520" cy="1695600"/>
          </a:xfrm>
          <a:custGeom>
            <a:avLst/>
            <a:gdLst/>
            <a:ahLst/>
            <a:rect l="l" t="t" r="r" b="b"/>
            <a:pathLst>
              <a:path w="5104" h="1068">
                <a:moveTo>
                  <a:pt x="0" y="18"/>
                </a:moveTo>
                <a:lnTo>
                  <a:pt x="29" y="64"/>
                </a:lnTo>
                <a:lnTo>
                  <a:pt x="39" y="129"/>
                </a:lnTo>
                <a:lnTo>
                  <a:pt x="59" y="250"/>
                </a:lnTo>
                <a:lnTo>
                  <a:pt x="79" y="371"/>
                </a:lnTo>
                <a:lnTo>
                  <a:pt x="129" y="501"/>
                </a:lnTo>
                <a:lnTo>
                  <a:pt x="149" y="528"/>
                </a:lnTo>
                <a:lnTo>
                  <a:pt x="189" y="538"/>
                </a:lnTo>
                <a:lnTo>
                  <a:pt x="288" y="556"/>
                </a:lnTo>
                <a:lnTo>
                  <a:pt x="338" y="575"/>
                </a:lnTo>
                <a:lnTo>
                  <a:pt x="368" y="584"/>
                </a:lnTo>
                <a:lnTo>
                  <a:pt x="437" y="630"/>
                </a:lnTo>
                <a:lnTo>
                  <a:pt x="746" y="816"/>
                </a:lnTo>
                <a:lnTo>
                  <a:pt x="925" y="890"/>
                </a:lnTo>
                <a:lnTo>
                  <a:pt x="1034" y="909"/>
                </a:lnTo>
                <a:lnTo>
                  <a:pt x="1163" y="927"/>
                </a:lnTo>
                <a:lnTo>
                  <a:pt x="1303" y="927"/>
                </a:lnTo>
                <a:lnTo>
                  <a:pt x="1521" y="955"/>
                </a:lnTo>
                <a:lnTo>
                  <a:pt x="1551" y="955"/>
                </a:lnTo>
                <a:lnTo>
                  <a:pt x="1949" y="1011"/>
                </a:lnTo>
                <a:lnTo>
                  <a:pt x="2098" y="1029"/>
                </a:lnTo>
                <a:lnTo>
                  <a:pt x="2208" y="1029"/>
                </a:lnTo>
                <a:lnTo>
                  <a:pt x="2287" y="1029"/>
                </a:lnTo>
                <a:lnTo>
                  <a:pt x="2317" y="1029"/>
                </a:lnTo>
                <a:lnTo>
                  <a:pt x="2387" y="1020"/>
                </a:lnTo>
                <a:lnTo>
                  <a:pt x="2675" y="1020"/>
                </a:lnTo>
                <a:lnTo>
                  <a:pt x="2904" y="1048"/>
                </a:lnTo>
                <a:lnTo>
                  <a:pt x="3123" y="1067"/>
                </a:lnTo>
                <a:lnTo>
                  <a:pt x="3222" y="1067"/>
                </a:lnTo>
                <a:lnTo>
                  <a:pt x="3292" y="1048"/>
                </a:lnTo>
                <a:lnTo>
                  <a:pt x="3421" y="1002"/>
                </a:lnTo>
                <a:lnTo>
                  <a:pt x="3581" y="955"/>
                </a:lnTo>
                <a:lnTo>
                  <a:pt x="3730" y="946"/>
                </a:lnTo>
                <a:lnTo>
                  <a:pt x="3859" y="937"/>
                </a:lnTo>
                <a:lnTo>
                  <a:pt x="3889" y="918"/>
                </a:lnTo>
                <a:lnTo>
                  <a:pt x="4018" y="899"/>
                </a:lnTo>
                <a:lnTo>
                  <a:pt x="4167" y="890"/>
                </a:lnTo>
                <a:lnTo>
                  <a:pt x="4217" y="881"/>
                </a:lnTo>
                <a:lnTo>
                  <a:pt x="4277" y="881"/>
                </a:lnTo>
                <a:lnTo>
                  <a:pt x="4307" y="872"/>
                </a:lnTo>
                <a:lnTo>
                  <a:pt x="4327" y="844"/>
                </a:lnTo>
                <a:lnTo>
                  <a:pt x="4337" y="807"/>
                </a:lnTo>
                <a:lnTo>
                  <a:pt x="4366" y="760"/>
                </a:lnTo>
                <a:lnTo>
                  <a:pt x="4416" y="714"/>
                </a:lnTo>
                <a:lnTo>
                  <a:pt x="4446" y="621"/>
                </a:lnTo>
                <a:lnTo>
                  <a:pt x="4466" y="556"/>
                </a:lnTo>
                <a:lnTo>
                  <a:pt x="4486" y="528"/>
                </a:lnTo>
                <a:lnTo>
                  <a:pt x="4506" y="501"/>
                </a:lnTo>
                <a:lnTo>
                  <a:pt x="4536" y="491"/>
                </a:lnTo>
                <a:lnTo>
                  <a:pt x="4565" y="491"/>
                </a:lnTo>
                <a:lnTo>
                  <a:pt x="4665" y="491"/>
                </a:lnTo>
                <a:lnTo>
                  <a:pt x="4764" y="482"/>
                </a:lnTo>
                <a:lnTo>
                  <a:pt x="4794" y="473"/>
                </a:lnTo>
                <a:lnTo>
                  <a:pt x="4824" y="454"/>
                </a:lnTo>
                <a:lnTo>
                  <a:pt x="4854" y="426"/>
                </a:lnTo>
                <a:lnTo>
                  <a:pt x="4884" y="389"/>
                </a:lnTo>
                <a:lnTo>
                  <a:pt x="4933" y="361"/>
                </a:lnTo>
                <a:lnTo>
                  <a:pt x="4963" y="334"/>
                </a:lnTo>
                <a:lnTo>
                  <a:pt x="5013" y="315"/>
                </a:lnTo>
                <a:lnTo>
                  <a:pt x="5043" y="306"/>
                </a:lnTo>
                <a:lnTo>
                  <a:pt x="5053" y="269"/>
                </a:lnTo>
                <a:lnTo>
                  <a:pt x="5063" y="241"/>
                </a:lnTo>
                <a:lnTo>
                  <a:pt x="5083" y="213"/>
                </a:lnTo>
                <a:lnTo>
                  <a:pt x="5093" y="185"/>
                </a:lnTo>
                <a:lnTo>
                  <a:pt x="5103" y="157"/>
                </a:lnTo>
                <a:lnTo>
                  <a:pt x="5103" y="129"/>
                </a:lnTo>
                <a:lnTo>
                  <a:pt x="5103" y="92"/>
                </a:lnTo>
                <a:lnTo>
                  <a:pt x="5103" y="64"/>
                </a:lnTo>
                <a:lnTo>
                  <a:pt x="5103" y="0"/>
                </a:lnTo>
                <a:lnTo>
                  <a:pt x="0" y="18"/>
                </a:lnTo>
              </a:path>
            </a:pathLst>
          </a:custGeom>
          <a:gradFill rotWithShape="0">
            <a:gsLst>
              <a:gs pos="0">
                <a:srgbClr val="00ffff"/>
              </a:gs>
              <a:gs pos="100000">
                <a:srgbClr val="00bab6"/>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704880" y="4057560"/>
            <a:ext cx="8166240" cy="5479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131840" y="4317840"/>
            <a:ext cx="4803840" cy="411480"/>
          </a:xfrm>
          <a:custGeom>
            <a:avLst/>
            <a:gdLst/>
            <a:ahLst/>
            <a:rect l="l" t="t" r="r" b="b"/>
            <a:pathLst>
              <a:path w="3026" h="259">
                <a:moveTo>
                  <a:pt x="3026" y="246"/>
                </a:moveTo>
                <a:cubicBezTo>
                  <a:pt x="2994" y="205"/>
                  <a:pt x="2962" y="165"/>
                  <a:pt x="2825" y="163"/>
                </a:cubicBezTo>
                <a:cubicBezTo>
                  <a:pt x="2688" y="161"/>
                  <a:pt x="2445" y="259"/>
                  <a:pt x="2204" y="236"/>
                </a:cubicBezTo>
                <a:cubicBezTo>
                  <a:pt x="1963" y="213"/>
                  <a:pt x="1581" y="50"/>
                  <a:pt x="1381" y="26"/>
                </a:cubicBezTo>
                <a:cubicBezTo>
                  <a:pt x="1181" y="2"/>
                  <a:pt x="1184" y="84"/>
                  <a:pt x="1006" y="90"/>
                </a:cubicBezTo>
                <a:cubicBezTo>
                  <a:pt x="828" y="96"/>
                  <a:pt x="454" y="77"/>
                  <a:pt x="311" y="63"/>
                </a:cubicBezTo>
                <a:cubicBezTo>
                  <a:pt x="168" y="49"/>
                  <a:pt x="198" y="16"/>
                  <a:pt x="146" y="8"/>
                </a:cubicBezTo>
                <a:cubicBezTo>
                  <a:pt x="94" y="0"/>
                  <a:pt x="47" y="8"/>
                  <a:pt x="0" y="17"/>
                </a:cubicBezTo>
              </a:path>
            </a:pathLst>
          </a:custGeom>
          <a:noFill/>
          <a:ln w="76320">
            <a:solidFill>
              <a:srgbClr val="000066">
                <a:alpha val="59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098800" y="3794040"/>
            <a:ext cx="10476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084400" y="3797280"/>
            <a:ext cx="1047600" cy="647640"/>
          </a:xfrm>
          <a:prstGeom prst="ellipse">
            <a:avLst/>
          </a:prstGeom>
          <a:noFill/>
          <a:ln w="28440">
            <a:solidFill>
              <a:srgbClr val="ff0000">
                <a:alpha val="45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253240" y="389268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a:t>
            </a:r>
            <a:r>
              <a:rPr b="1" lang="en-U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920" name=""/>
          <p:cNvSpPr/>
          <p:nvPr/>
        </p:nvSpPr>
        <p:spPr>
          <a:xfrm>
            <a:off x="2082960" y="4076640"/>
            <a:ext cx="1015920" cy="50760"/>
          </a:xfrm>
          <a:custGeom>
            <a:avLst/>
            <a:gdLst/>
            <a:ahLst/>
            <a:rect l="l" t="t" r="r" b="b"/>
            <a:pathLst>
              <a:path w="682" h="34">
                <a:moveTo>
                  <a:pt x="0" y="34"/>
                </a:moveTo>
                <a:cubicBezTo>
                  <a:pt x="189" y="23"/>
                  <a:pt x="378" y="12"/>
                  <a:pt x="492" y="6"/>
                </a:cubicBezTo>
                <a:cubicBezTo>
                  <a:pt x="606" y="0"/>
                  <a:pt x="644" y="0"/>
                  <a:pt x="682" y="0"/>
                </a:cubicBez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21" name=""/>
          <p:cNvSpPr/>
          <p:nvPr/>
        </p:nvSpPr>
        <p:spPr>
          <a:xfrm>
            <a:off x="5557680" y="1119240"/>
            <a:ext cx="1143000" cy="1162080"/>
          </a:xfrm>
          <a:prstGeom prst="ellipse">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5100480" y="1690560"/>
            <a:ext cx="21909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129360" y="681120"/>
            <a:ext cx="0" cy="20383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310360" y="966960"/>
            <a:ext cx="1638000" cy="14284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a:off x="5367240" y="1081080"/>
            <a:ext cx="1524240" cy="12384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H="1">
            <a:off x="5785920" y="890640"/>
            <a:ext cx="667080" cy="16952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748480" y="928800"/>
            <a:ext cx="761760" cy="16002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a:off x="5348160" y="1385640"/>
            <a:ext cx="1581120" cy="57132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329080" y="1347840"/>
            <a:ext cx="1638360" cy="704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V="1">
            <a:off x="5627520" y="1017720"/>
            <a:ext cx="98424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a:off x="5424480" y="1302840"/>
            <a:ext cx="1390680" cy="7938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5996160" y="992160"/>
            <a:ext cx="272880" cy="14860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5944680" y="972720"/>
            <a:ext cx="381240" cy="14922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4" name=""/>
          <p:cNvGrpSpPr/>
          <p:nvPr/>
        </p:nvGrpSpPr>
        <p:grpSpPr>
          <a:xfrm>
            <a:off x="7617240" y="4181400"/>
            <a:ext cx="991800" cy="900360"/>
            <a:chOff x="7617240" y="4181400"/>
            <a:chExt cx="991800" cy="900360"/>
          </a:xfrm>
        </p:grpSpPr>
        <p:sp>
          <p:nvSpPr>
            <p:cNvPr id="935" name=""/>
            <p:cNvSpPr/>
            <p:nvPr/>
          </p:nvSpPr>
          <p:spPr>
            <a:xfrm>
              <a:off x="7981920" y="4181400"/>
              <a:ext cx="22320" cy="86040"/>
            </a:xfrm>
            <a:custGeom>
              <a:avLst/>
              <a:gdLst/>
              <a:ahLst/>
              <a:rect l="l" t="t" r="r" b="b"/>
              <a:pathLst>
                <a:path w="14" h="54">
                  <a:moveTo>
                    <a:pt x="0" y="54"/>
                  </a:moveTo>
                  <a:cubicBezTo>
                    <a:pt x="14" y="12"/>
                    <a:pt x="12" y="31"/>
                    <a:pt x="12" y="0"/>
                  </a:cubicBezTo>
                </a:path>
              </a:pathLst>
            </a:custGeom>
            <a:noFill/>
            <a:ln w="284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936" name=""/>
            <p:cNvGrpSpPr/>
            <p:nvPr/>
          </p:nvGrpSpPr>
          <p:grpSpPr>
            <a:xfrm>
              <a:off x="7682040" y="4240440"/>
              <a:ext cx="927000" cy="841320"/>
              <a:chOff x="7682040" y="4240440"/>
              <a:chExt cx="927000" cy="841320"/>
            </a:xfrm>
          </p:grpSpPr>
          <p:sp>
            <p:nvSpPr>
              <p:cNvPr id="937" name=""/>
              <p:cNvSpPr/>
              <p:nvPr/>
            </p:nvSpPr>
            <p:spPr>
              <a:xfrm>
                <a:off x="7707600" y="4546800"/>
                <a:ext cx="449280" cy="525600"/>
              </a:xfrm>
              <a:custGeom>
                <a:avLst/>
                <a:gdLst/>
                <a:ahLst/>
                <a:rect l="l" t="t" r="r" b="b"/>
                <a:pathLst>
                  <a:path w="283" h="440">
                    <a:moveTo>
                      <a:pt x="0" y="0"/>
                    </a:moveTo>
                    <a:cubicBezTo>
                      <a:pt x="283" y="302"/>
                      <a:pt x="243" y="134"/>
                      <a:pt x="232" y="376"/>
                    </a:cubicBezTo>
                    <a:cubicBezTo>
                      <a:pt x="231" y="397"/>
                      <a:pt x="232" y="419"/>
                      <a:pt x="232" y="44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991640" y="4240440"/>
                <a:ext cx="218880" cy="841320"/>
              </a:xfrm>
              <a:custGeom>
                <a:avLst/>
                <a:gdLst/>
                <a:ahLst/>
                <a:rect l="l" t="t" r="r" b="b"/>
                <a:pathLst>
                  <a:path w="138" h="704">
                    <a:moveTo>
                      <a:pt x="13" y="0"/>
                    </a:moveTo>
                    <a:cubicBezTo>
                      <a:pt x="0" y="105"/>
                      <a:pt x="9" y="101"/>
                      <a:pt x="69" y="176"/>
                    </a:cubicBezTo>
                    <a:cubicBezTo>
                      <a:pt x="81" y="224"/>
                      <a:pt x="74" y="198"/>
                      <a:pt x="93" y="256"/>
                    </a:cubicBezTo>
                    <a:cubicBezTo>
                      <a:pt x="98" y="272"/>
                      <a:pt x="109" y="304"/>
                      <a:pt x="109" y="304"/>
                    </a:cubicBezTo>
                    <a:cubicBezTo>
                      <a:pt x="115" y="406"/>
                      <a:pt x="125" y="484"/>
                      <a:pt x="117" y="584"/>
                    </a:cubicBezTo>
                    <a:cubicBezTo>
                      <a:pt x="138" y="666"/>
                      <a:pt x="133" y="626"/>
                      <a:pt x="133" y="704"/>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682040" y="4785120"/>
                <a:ext cx="291960" cy="296640"/>
              </a:xfrm>
              <a:custGeom>
                <a:avLst/>
                <a:gdLst/>
                <a:ahLst/>
                <a:rect l="l" t="t" r="r" b="b"/>
                <a:pathLst>
                  <a:path w="184" h="248">
                    <a:moveTo>
                      <a:pt x="184" y="248"/>
                    </a:moveTo>
                    <a:cubicBezTo>
                      <a:pt x="181" y="229"/>
                      <a:pt x="181" y="210"/>
                      <a:pt x="176" y="192"/>
                    </a:cubicBezTo>
                    <a:cubicBezTo>
                      <a:pt x="173" y="180"/>
                      <a:pt x="163" y="172"/>
                      <a:pt x="160" y="160"/>
                    </a:cubicBezTo>
                    <a:cubicBezTo>
                      <a:pt x="155" y="139"/>
                      <a:pt x="166" y="112"/>
                      <a:pt x="152" y="96"/>
                    </a:cubicBezTo>
                    <a:cubicBezTo>
                      <a:pt x="137" y="80"/>
                      <a:pt x="88" y="80"/>
                      <a:pt x="88" y="80"/>
                    </a:cubicBezTo>
                    <a:cubicBezTo>
                      <a:pt x="80" y="75"/>
                      <a:pt x="70" y="72"/>
                      <a:pt x="64" y="64"/>
                    </a:cubicBezTo>
                    <a:cubicBezTo>
                      <a:pt x="41" y="36"/>
                      <a:pt x="53" y="0"/>
                      <a:pt x="0" y="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8202600" y="4699440"/>
                <a:ext cx="176400" cy="382320"/>
              </a:xfrm>
              <a:custGeom>
                <a:avLst/>
                <a:gdLst/>
                <a:ahLst/>
                <a:rect l="l" t="t" r="r" b="b"/>
                <a:pathLst>
                  <a:path w="111" h="320">
                    <a:moveTo>
                      <a:pt x="0" y="320"/>
                    </a:moveTo>
                    <a:cubicBezTo>
                      <a:pt x="24" y="284"/>
                      <a:pt x="18" y="257"/>
                      <a:pt x="32" y="216"/>
                    </a:cubicBezTo>
                    <a:cubicBezTo>
                      <a:pt x="35" y="207"/>
                      <a:pt x="44" y="201"/>
                      <a:pt x="48" y="192"/>
                    </a:cubicBezTo>
                    <a:cubicBezTo>
                      <a:pt x="67" y="154"/>
                      <a:pt x="47" y="139"/>
                      <a:pt x="88" y="112"/>
                    </a:cubicBezTo>
                    <a:cubicBezTo>
                      <a:pt x="111" y="44"/>
                      <a:pt x="104" y="81"/>
                      <a:pt x="104" y="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8458200" y="4562640"/>
                <a:ext cx="150840" cy="378000"/>
              </a:xfrm>
              <a:custGeom>
                <a:avLst/>
                <a:gdLst/>
                <a:ahLst/>
                <a:rect l="l" t="t" r="r" b="b"/>
                <a:pathLst>
                  <a:path w="95" h="238">
                    <a:moveTo>
                      <a:pt x="0" y="238"/>
                    </a:moveTo>
                    <a:cubicBezTo>
                      <a:pt x="13" y="199"/>
                      <a:pt x="16" y="179"/>
                      <a:pt x="37" y="146"/>
                    </a:cubicBezTo>
                    <a:cubicBezTo>
                      <a:pt x="95" y="55"/>
                      <a:pt x="70" y="113"/>
                      <a:pt x="92" y="55"/>
                    </a:cubicBezTo>
                    <a:cubicBezTo>
                      <a:pt x="80" y="10"/>
                      <a:pt x="91" y="27"/>
                      <a:pt x="64" y="0"/>
                    </a:cubicBezTo>
                  </a:path>
                </a:pathLst>
              </a:custGeom>
              <a:noFill/>
              <a:ln w="38160">
                <a:solidFill>
                  <a:srgbClr val="66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2" name=""/>
            <p:cNvSpPr/>
            <p:nvPr/>
          </p:nvSpPr>
          <p:spPr>
            <a:xfrm rot="20539200">
              <a:off x="7974000" y="4243320"/>
              <a:ext cx="93600" cy="157320"/>
            </a:xfrm>
            <a:prstGeom prst="ellipse">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8312040" y="4521240"/>
              <a:ext cx="22320" cy="85680"/>
            </a:xfrm>
            <a:custGeom>
              <a:avLst/>
              <a:gdLst/>
              <a:ahLst/>
              <a:rect l="l" t="t" r="r" b="b"/>
              <a:pathLst>
                <a:path w="14" h="54">
                  <a:moveTo>
                    <a:pt x="0" y="54"/>
                  </a:moveTo>
                  <a:cubicBezTo>
                    <a:pt x="14" y="12"/>
                    <a:pt x="12" y="31"/>
                    <a:pt x="12" y="0"/>
                  </a:cubicBezTo>
                </a:path>
              </a:pathLst>
            </a:custGeom>
            <a:noFill/>
            <a:ln w="28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4" name=""/>
            <p:cNvSpPr/>
            <p:nvPr/>
          </p:nvSpPr>
          <p:spPr>
            <a:xfrm rot="20539200">
              <a:off x="8304120" y="4583160"/>
              <a:ext cx="93960" cy="157320"/>
            </a:xfrm>
            <a:prstGeom prst="ellipse">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H="1">
              <a:off x="7635960" y="4397400"/>
              <a:ext cx="22320" cy="85680"/>
            </a:xfrm>
            <a:custGeom>
              <a:avLst/>
              <a:gdLst/>
              <a:ahLst/>
              <a:rect l="l" t="t" r="r" b="b"/>
              <a:pathLst>
                <a:path w="14" h="54">
                  <a:moveTo>
                    <a:pt x="0" y="54"/>
                  </a:moveTo>
                  <a:cubicBezTo>
                    <a:pt x="14" y="12"/>
                    <a:pt x="12" y="31"/>
                    <a:pt x="12" y="0"/>
                  </a:cubicBezTo>
                </a:path>
              </a:pathLst>
            </a:custGeom>
            <a:noFill/>
            <a:ln w="28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6" name=""/>
            <p:cNvSpPr/>
            <p:nvPr/>
          </p:nvSpPr>
          <p:spPr>
            <a:xfrm rot="19243800">
              <a:off x="7656120" y="4449960"/>
              <a:ext cx="93600" cy="156960"/>
            </a:xfrm>
            <a:prstGeom prst="ellipse">
              <a:avLst/>
            </a:prstGeom>
            <a:solidFill>
              <a:srgbClr val="996600"/>
            </a:solidFill>
            <a:ln w="936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
          <p:cNvSpPr/>
          <p:nvPr/>
        </p:nvSpPr>
        <p:spPr>
          <a:xfrm flipH="1" flipV="1">
            <a:off x="5672160" y="1093320"/>
            <a:ext cx="914400" cy="12128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H="1" flipV="1">
            <a:off x="5494320" y="1290600"/>
            <a:ext cx="1295280" cy="819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H="1" flipV="1">
            <a:off x="5360760" y="1500120"/>
            <a:ext cx="1485720" cy="355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5189040" y="1569960"/>
            <a:ext cx="1778040" cy="2667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837400" y="1538280"/>
            <a:ext cx="177480" cy="171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269040" y="1531800"/>
            <a:ext cx="177840" cy="17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5869080" y="1957320"/>
            <a:ext cx="228600" cy="88920"/>
          </a:xfrm>
          <a:custGeom>
            <a:avLst/>
            <a:gdLst/>
            <a:ahLst/>
            <a:rect l="l" t="t" r="r" b="b"/>
            <a:pathLst>
              <a:path w="144" h="56">
                <a:moveTo>
                  <a:pt x="0" y="0"/>
                </a:moveTo>
                <a:cubicBezTo>
                  <a:pt x="20" y="17"/>
                  <a:pt x="40" y="35"/>
                  <a:pt x="64" y="44"/>
                </a:cubicBezTo>
                <a:cubicBezTo>
                  <a:pt x="88" y="53"/>
                  <a:pt x="127" y="54"/>
                  <a:pt x="144" y="56"/>
                </a:cubicBezTo>
              </a:path>
            </a:pathLst>
          </a:custGeom>
          <a:noFill/>
          <a:ln w="38160">
            <a:solidFill>
              <a:srgbClr val="9966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4" name=""/>
          <p:cNvSpPr/>
          <p:nvPr/>
        </p:nvSpPr>
        <p:spPr>
          <a:xfrm>
            <a:off x="5894280" y="1620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55" name=""/>
          <p:cNvSpPr/>
          <p:nvPr/>
        </p:nvSpPr>
        <p:spPr>
          <a:xfrm>
            <a:off x="6326280" y="16081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956" name=""/>
          <p:cNvGrpSpPr/>
          <p:nvPr/>
        </p:nvGrpSpPr>
        <p:grpSpPr>
          <a:xfrm>
            <a:off x="6002280" y="3220920"/>
            <a:ext cx="228600" cy="2116080"/>
            <a:chOff x="6002280" y="3220920"/>
            <a:chExt cx="228600" cy="2116080"/>
          </a:xfrm>
        </p:grpSpPr>
        <p:sp>
          <p:nvSpPr>
            <p:cNvPr id="957" name=""/>
            <p:cNvSpPr/>
            <p:nvPr/>
          </p:nvSpPr>
          <p:spPr>
            <a:xfrm>
              <a:off x="6002280" y="4118040"/>
              <a:ext cx="228600" cy="1218960"/>
            </a:xfrm>
            <a:prstGeom prst="downArrow">
              <a:avLst>
                <a:gd name="adj1" fmla="val 50000"/>
                <a:gd name="adj2" fmla="val 133307"/>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059520" y="3220920"/>
              <a:ext cx="114480" cy="927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9" name=""/>
          <p:cNvSpPr/>
          <p:nvPr/>
        </p:nvSpPr>
        <p:spPr>
          <a:xfrm flipH="1">
            <a:off x="6021360" y="4586400"/>
            <a:ext cx="17784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nvGrpSpPr>
          <p:cNvPr id="960" name=""/>
          <p:cNvGrpSpPr/>
          <p:nvPr/>
        </p:nvGrpSpPr>
        <p:grpSpPr>
          <a:xfrm>
            <a:off x="41400" y="3343320"/>
            <a:ext cx="1561680" cy="459720"/>
            <a:chOff x="41400" y="3343320"/>
            <a:chExt cx="1561680" cy="459720"/>
          </a:xfrm>
        </p:grpSpPr>
        <p:sp>
          <p:nvSpPr>
            <p:cNvPr id="961" name=""/>
            <p:cNvSpPr/>
            <p:nvPr/>
          </p:nvSpPr>
          <p:spPr>
            <a:xfrm>
              <a:off x="41400" y="3352680"/>
              <a:ext cx="1556280" cy="4381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84240" y="334332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Nutrients</a:t>
              </a:r>
              <a:endParaRPr b="0" lang="en-US" sz="2400" spc="-1" strike="noStrike">
                <a:solidFill>
                  <a:srgbClr val="000000"/>
                </a:solidFill>
                <a:latin typeface="Arial"/>
              </a:endParaRPr>
            </a:p>
          </p:txBody>
        </p:sp>
      </p:grpSp>
      <p:sp>
        <p:nvSpPr>
          <p:cNvPr id="963" name=""/>
          <p:cNvSpPr/>
          <p:nvPr/>
        </p:nvSpPr>
        <p:spPr>
          <a:xfrm>
            <a:off x="1603440" y="3430440"/>
            <a:ext cx="304560" cy="797040"/>
          </a:xfrm>
          <a:custGeom>
            <a:avLst/>
            <a:gdLst/>
            <a:ahLst/>
            <a:rect l="l" t="t" r="r" b="b"/>
            <a:pathLst>
              <a:path w="192" h="502">
                <a:moveTo>
                  <a:pt x="0" y="72"/>
                </a:moveTo>
                <a:cubicBezTo>
                  <a:pt x="43" y="36"/>
                  <a:pt x="87" y="0"/>
                  <a:pt x="119" y="72"/>
                </a:cubicBezTo>
                <a:cubicBezTo>
                  <a:pt x="151" y="144"/>
                  <a:pt x="171" y="323"/>
                  <a:pt x="192" y="502"/>
                </a:cubicBezTo>
              </a:path>
            </a:pathLst>
          </a:custGeom>
          <a:noFill/>
          <a:ln w="57240">
            <a:solidFill>
              <a:srgbClr val="66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4" name=""/>
          <p:cNvGrpSpPr/>
          <p:nvPr/>
        </p:nvGrpSpPr>
        <p:grpSpPr>
          <a:xfrm>
            <a:off x="6474600" y="4948560"/>
            <a:ext cx="1315800" cy="575280"/>
            <a:chOff x="6474600" y="4948560"/>
            <a:chExt cx="1315800" cy="575280"/>
          </a:xfrm>
        </p:grpSpPr>
        <p:sp>
          <p:nvSpPr>
            <p:cNvPr id="965" name=""/>
            <p:cNvSpPr/>
            <p:nvPr/>
          </p:nvSpPr>
          <p:spPr>
            <a:xfrm rot="732600">
              <a:off x="6571080" y="5071680"/>
              <a:ext cx="668160" cy="236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3193200">
              <a:off x="7362000" y="4970520"/>
              <a:ext cx="284040" cy="5014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732600">
              <a:off x="6662880" y="5026320"/>
              <a:ext cx="81000" cy="9216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968" name=""/>
            <p:cNvSpPr/>
            <p:nvPr/>
          </p:nvSpPr>
          <p:spPr>
            <a:xfrm flipH="1" flipV="1" rot="18012600">
              <a:off x="6758640" y="5206680"/>
              <a:ext cx="230400" cy="288720"/>
            </a:xfrm>
            <a:custGeom>
              <a:avLst/>
              <a:gdLst>
                <a:gd name="textAreaLeft" fmla="*/ 50400 w 230400"/>
                <a:gd name="textAreaRight" fmla="*/ 180000 w 230400"/>
                <a:gd name="textAreaTop" fmla="*/ 63360 h 288720"/>
                <a:gd name="textAreaBottom" fmla="*/ 225360 h 288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092600">
              <a:off x="6907320" y="4999320"/>
              <a:ext cx="346320" cy="120960"/>
            </a:xfrm>
            <a:prstGeom prst="parallelogram">
              <a:avLst>
                <a:gd name="adj" fmla="val 7156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0" name=""/>
            <p:cNvSpPr/>
            <p:nvPr/>
          </p:nvSpPr>
          <p:spPr>
            <a:xfrm rot="732600">
              <a:off x="6654600" y="5049360"/>
              <a:ext cx="3312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71" name=""/>
            <p:cNvSpPr/>
            <p:nvPr/>
          </p:nvSpPr>
          <p:spPr>
            <a:xfrm rot="11533200">
              <a:off x="6481440" y="5075640"/>
              <a:ext cx="237960" cy="9180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72" name=""/>
          <p:cNvSpPr/>
          <p:nvPr/>
        </p:nvSpPr>
        <p:spPr>
          <a:xfrm>
            <a:off x="5556240" y="4560840"/>
            <a:ext cx="347760" cy="131760"/>
          </a:xfrm>
          <a:prstGeom prst="ellipse">
            <a:avLst/>
          </a:prstGeom>
          <a:solidFill>
            <a:srgbClr val="00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3" name=""/>
          <p:cNvGrpSpPr/>
          <p:nvPr/>
        </p:nvGrpSpPr>
        <p:grpSpPr>
          <a:xfrm>
            <a:off x="2604960" y="4459320"/>
            <a:ext cx="3047760" cy="596880"/>
            <a:chOff x="2604960" y="4459320"/>
            <a:chExt cx="3047760" cy="596880"/>
          </a:xfrm>
        </p:grpSpPr>
        <p:sp>
          <p:nvSpPr>
            <p:cNvPr id="974" name=""/>
            <p:cNvSpPr/>
            <p:nvPr/>
          </p:nvSpPr>
          <p:spPr>
            <a:xfrm>
              <a:off x="2604960" y="4459320"/>
              <a:ext cx="3047760" cy="596880"/>
            </a:xfrm>
            <a:prstGeom prst="ellipse">
              <a:avLst/>
            </a:prstGeom>
            <a:solidFill>
              <a:srgbClr val="00ff00">
                <a:alpha val="7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2900160" y="4572000"/>
              <a:ext cx="2628720" cy="42840"/>
            </a:xfrm>
            <a:custGeom>
              <a:avLst/>
              <a:gdLst/>
              <a:ahLst/>
              <a:rect l="l" t="t" r="r" b="b"/>
              <a:pathLst>
                <a:path w="1656" h="27">
                  <a:moveTo>
                    <a:pt x="0" y="0"/>
                  </a:moveTo>
                  <a:cubicBezTo>
                    <a:pt x="367" y="10"/>
                    <a:pt x="735" y="21"/>
                    <a:pt x="1011" y="24"/>
                  </a:cubicBezTo>
                  <a:cubicBezTo>
                    <a:pt x="1287" y="27"/>
                    <a:pt x="1548" y="18"/>
                    <a:pt x="1656" y="18"/>
                  </a:cubicBez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976" name=""/>
          <p:cNvSpPr/>
          <p:nvPr/>
        </p:nvSpPr>
        <p:spPr>
          <a:xfrm>
            <a:off x="3235680" y="4548240"/>
            <a:ext cx="23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Comic Sans MS"/>
                <a:ea typeface="Arial"/>
              </a:rPr>
              <a:t>Plant biomass</a:t>
            </a:r>
            <a:endParaRPr b="0" lang="en-US" sz="2400" spc="-1" strike="noStrike">
              <a:solidFill>
                <a:srgbClr val="000000"/>
              </a:solidFill>
              <a:latin typeface="Arial"/>
            </a:endParaRPr>
          </a:p>
        </p:txBody>
      </p:sp>
      <p:grpSp>
        <p:nvGrpSpPr>
          <p:cNvPr id="977" name=""/>
          <p:cNvGrpSpPr/>
          <p:nvPr/>
        </p:nvGrpSpPr>
        <p:grpSpPr>
          <a:xfrm>
            <a:off x="5754600" y="1800360"/>
            <a:ext cx="507960" cy="368280"/>
            <a:chOff x="5754600" y="1800360"/>
            <a:chExt cx="507960" cy="368280"/>
          </a:xfrm>
        </p:grpSpPr>
        <p:sp>
          <p:nvSpPr>
            <p:cNvPr id="978" name=""/>
            <p:cNvSpPr/>
            <p:nvPr/>
          </p:nvSpPr>
          <p:spPr>
            <a:xfrm>
              <a:off x="5754600" y="1800360"/>
              <a:ext cx="507960" cy="368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5835600" y="1968840"/>
              <a:ext cx="392040" cy="46080"/>
            </a:xfrm>
            <a:custGeom>
              <a:avLst/>
              <a:gdLst/>
              <a:ahLst/>
              <a:rect l="l" t="t" r="r" b="b"/>
              <a:pathLst>
                <a:path w="247" h="29">
                  <a:moveTo>
                    <a:pt x="240" y="1"/>
                  </a:moveTo>
                  <a:cubicBezTo>
                    <a:pt x="197" y="12"/>
                    <a:pt x="247" y="0"/>
                    <a:pt x="152" y="9"/>
                  </a:cubicBezTo>
                  <a:cubicBezTo>
                    <a:pt x="131" y="11"/>
                    <a:pt x="110" y="25"/>
                    <a:pt x="88" y="29"/>
                  </a:cubicBezTo>
                  <a:cubicBezTo>
                    <a:pt x="69" y="28"/>
                    <a:pt x="51" y="27"/>
                    <a:pt x="32" y="25"/>
                  </a:cubicBezTo>
                  <a:cubicBezTo>
                    <a:pt x="27" y="24"/>
                    <a:pt x="0" y="14"/>
                    <a:pt x="0" y="29"/>
                  </a:cubicBezTo>
                </a:path>
              </a:pathLst>
            </a:custGeom>
            <a:noFill/>
            <a:ln w="38160">
              <a:solidFill>
                <a:srgbClr val="996633"/>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980" name=""/>
          <p:cNvGrpSpPr/>
          <p:nvPr/>
        </p:nvGrpSpPr>
        <p:grpSpPr>
          <a:xfrm>
            <a:off x="3497400" y="5403600"/>
            <a:ext cx="2205000" cy="493560"/>
            <a:chOff x="3497400" y="5403600"/>
            <a:chExt cx="2205000" cy="493560"/>
          </a:xfrm>
        </p:grpSpPr>
        <p:sp>
          <p:nvSpPr>
            <p:cNvPr id="981" name=""/>
            <p:cNvSpPr/>
            <p:nvPr/>
          </p:nvSpPr>
          <p:spPr>
            <a:xfrm flipV="1">
              <a:off x="3497400" y="5403240"/>
              <a:ext cx="2205000" cy="493560"/>
            </a:xfrm>
            <a:prstGeom prst="cloudCallout">
              <a:avLst>
                <a:gd name="adj1" fmla="val -31356"/>
                <a:gd name="adj2" fmla="val 125560"/>
              </a:avLst>
            </a:prstGeom>
            <a:solidFill>
              <a:srgbClr val="800080"/>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3693960" y="5460840"/>
              <a:ext cx="187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ce8f4"/>
                  </a:solidFill>
                  <a:latin typeface="Comic Sans MS"/>
                  <a:ea typeface="Arial"/>
                </a:rPr>
                <a:t>Oxygen deficit</a:t>
              </a:r>
              <a:endParaRPr b="0" lang="en-US" sz="1800" spc="-1" strike="noStrike">
                <a:solidFill>
                  <a:srgbClr val="000000"/>
                </a:solidFill>
                <a:latin typeface="Arial"/>
              </a:endParaRPr>
            </a:p>
          </p:txBody>
        </p:sp>
      </p:grpSp>
      <p:grpSp>
        <p:nvGrpSpPr>
          <p:cNvPr id="983" name=""/>
          <p:cNvGrpSpPr/>
          <p:nvPr/>
        </p:nvGrpSpPr>
        <p:grpSpPr>
          <a:xfrm>
            <a:off x="7601040" y="4172040"/>
            <a:ext cx="1006200" cy="907920"/>
            <a:chOff x="7601040" y="4172040"/>
            <a:chExt cx="1006200" cy="907920"/>
          </a:xfrm>
        </p:grpSpPr>
        <p:grpSp>
          <p:nvGrpSpPr>
            <p:cNvPr id="984" name=""/>
            <p:cNvGrpSpPr/>
            <p:nvPr/>
          </p:nvGrpSpPr>
          <p:grpSpPr>
            <a:xfrm>
              <a:off x="7680240" y="4172040"/>
              <a:ext cx="927000" cy="907920"/>
              <a:chOff x="7680240" y="4172040"/>
              <a:chExt cx="927000" cy="907920"/>
            </a:xfrm>
          </p:grpSpPr>
          <p:grpSp>
            <p:nvGrpSpPr>
              <p:cNvPr id="985" name=""/>
              <p:cNvGrpSpPr/>
              <p:nvPr/>
            </p:nvGrpSpPr>
            <p:grpSpPr>
              <a:xfrm>
                <a:off x="7680240" y="4238640"/>
                <a:ext cx="927000" cy="841320"/>
                <a:chOff x="7680240" y="4238640"/>
                <a:chExt cx="927000" cy="841320"/>
              </a:xfrm>
            </p:grpSpPr>
            <p:grpSp>
              <p:nvGrpSpPr>
                <p:cNvPr id="986" name=""/>
                <p:cNvGrpSpPr/>
                <p:nvPr/>
              </p:nvGrpSpPr>
              <p:grpSpPr>
                <a:xfrm>
                  <a:off x="7680240" y="4238640"/>
                  <a:ext cx="927000" cy="841320"/>
                  <a:chOff x="7680240" y="4238640"/>
                  <a:chExt cx="927000" cy="841320"/>
                </a:xfrm>
              </p:grpSpPr>
              <p:grpSp>
                <p:nvGrpSpPr>
                  <p:cNvPr id="987" name=""/>
                  <p:cNvGrpSpPr/>
                  <p:nvPr/>
                </p:nvGrpSpPr>
                <p:grpSpPr>
                  <a:xfrm>
                    <a:off x="7680240" y="4238640"/>
                    <a:ext cx="927000" cy="841320"/>
                    <a:chOff x="7680240" y="4238640"/>
                    <a:chExt cx="927000" cy="841320"/>
                  </a:xfrm>
                </p:grpSpPr>
                <p:sp>
                  <p:nvSpPr>
                    <p:cNvPr id="988" name=""/>
                    <p:cNvSpPr/>
                    <p:nvPr/>
                  </p:nvSpPr>
                  <p:spPr>
                    <a:xfrm>
                      <a:off x="7705800" y="4545000"/>
                      <a:ext cx="449280" cy="525600"/>
                    </a:xfrm>
                    <a:custGeom>
                      <a:avLst/>
                      <a:gdLst/>
                      <a:ahLst/>
                      <a:rect l="l" t="t" r="r" b="b"/>
                      <a:pathLst>
                        <a:path w="283" h="440">
                          <a:moveTo>
                            <a:pt x="0" y="0"/>
                          </a:moveTo>
                          <a:cubicBezTo>
                            <a:pt x="283" y="302"/>
                            <a:pt x="243" y="134"/>
                            <a:pt x="232" y="376"/>
                          </a:cubicBezTo>
                          <a:cubicBezTo>
                            <a:pt x="231" y="397"/>
                            <a:pt x="232" y="419"/>
                            <a:pt x="232" y="440"/>
                          </a:cubicBezTo>
                        </a:path>
                      </a:pathLst>
                    </a:custGeom>
                    <a:noFill/>
                    <a:ln w="442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989840" y="4238640"/>
                      <a:ext cx="218880" cy="841320"/>
                    </a:xfrm>
                    <a:custGeom>
                      <a:avLst/>
                      <a:gdLst/>
                      <a:ahLst/>
                      <a:rect l="l" t="t" r="r" b="b"/>
                      <a:pathLst>
                        <a:path w="138" h="704">
                          <a:moveTo>
                            <a:pt x="13" y="0"/>
                          </a:moveTo>
                          <a:cubicBezTo>
                            <a:pt x="0" y="105"/>
                            <a:pt x="9" y="101"/>
                            <a:pt x="69" y="176"/>
                          </a:cubicBezTo>
                          <a:cubicBezTo>
                            <a:pt x="81" y="224"/>
                            <a:pt x="74" y="198"/>
                            <a:pt x="93" y="256"/>
                          </a:cubicBezTo>
                          <a:cubicBezTo>
                            <a:pt x="98" y="272"/>
                            <a:pt x="109" y="304"/>
                            <a:pt x="109" y="304"/>
                          </a:cubicBezTo>
                          <a:cubicBezTo>
                            <a:pt x="115" y="406"/>
                            <a:pt x="125" y="484"/>
                            <a:pt x="117" y="584"/>
                          </a:cubicBezTo>
                          <a:cubicBezTo>
                            <a:pt x="138" y="666"/>
                            <a:pt x="133" y="626"/>
                            <a:pt x="133" y="704"/>
                          </a:cubicBezTo>
                        </a:path>
                      </a:pathLst>
                    </a:custGeom>
                    <a:noFill/>
                    <a:ln w="442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680240" y="4783320"/>
                      <a:ext cx="291960" cy="296640"/>
                    </a:xfrm>
                    <a:custGeom>
                      <a:avLst/>
                      <a:gdLst/>
                      <a:ahLst/>
                      <a:rect l="l" t="t" r="r" b="b"/>
                      <a:pathLst>
                        <a:path w="184" h="248">
                          <a:moveTo>
                            <a:pt x="184" y="248"/>
                          </a:moveTo>
                          <a:cubicBezTo>
                            <a:pt x="181" y="229"/>
                            <a:pt x="181" y="210"/>
                            <a:pt x="176" y="192"/>
                          </a:cubicBezTo>
                          <a:cubicBezTo>
                            <a:pt x="173" y="180"/>
                            <a:pt x="163" y="172"/>
                            <a:pt x="160" y="160"/>
                          </a:cubicBezTo>
                          <a:cubicBezTo>
                            <a:pt x="155" y="139"/>
                            <a:pt x="166" y="112"/>
                            <a:pt x="152" y="96"/>
                          </a:cubicBezTo>
                          <a:cubicBezTo>
                            <a:pt x="137" y="80"/>
                            <a:pt x="88" y="80"/>
                            <a:pt x="88" y="80"/>
                          </a:cubicBezTo>
                          <a:cubicBezTo>
                            <a:pt x="80" y="75"/>
                            <a:pt x="70" y="72"/>
                            <a:pt x="64" y="64"/>
                          </a:cubicBezTo>
                          <a:cubicBezTo>
                            <a:pt x="41" y="36"/>
                            <a:pt x="53" y="0"/>
                            <a:pt x="0" y="0"/>
                          </a:cubicBezTo>
                        </a:path>
                      </a:pathLst>
                    </a:custGeom>
                    <a:noFill/>
                    <a:ln w="442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8200800" y="4697640"/>
                      <a:ext cx="176400" cy="382320"/>
                    </a:xfrm>
                    <a:custGeom>
                      <a:avLst/>
                      <a:gdLst/>
                      <a:ahLst/>
                      <a:rect l="l" t="t" r="r" b="b"/>
                      <a:pathLst>
                        <a:path w="111" h="320">
                          <a:moveTo>
                            <a:pt x="0" y="320"/>
                          </a:moveTo>
                          <a:cubicBezTo>
                            <a:pt x="24" y="284"/>
                            <a:pt x="18" y="257"/>
                            <a:pt x="32" y="216"/>
                          </a:cubicBezTo>
                          <a:cubicBezTo>
                            <a:pt x="35" y="207"/>
                            <a:pt x="44" y="201"/>
                            <a:pt x="48" y="192"/>
                          </a:cubicBezTo>
                          <a:cubicBezTo>
                            <a:pt x="67" y="154"/>
                            <a:pt x="47" y="139"/>
                            <a:pt x="88" y="112"/>
                          </a:cubicBezTo>
                          <a:cubicBezTo>
                            <a:pt x="111" y="44"/>
                            <a:pt x="104" y="81"/>
                            <a:pt x="104" y="0"/>
                          </a:cubicBezTo>
                        </a:path>
                      </a:pathLst>
                    </a:custGeom>
                    <a:solidFill>
                      <a:srgbClr val="cc9900"/>
                    </a:solidFill>
                    <a:ln w="442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8456400" y="4560840"/>
                      <a:ext cx="150840" cy="378000"/>
                    </a:xfrm>
                    <a:custGeom>
                      <a:avLst/>
                      <a:gdLst/>
                      <a:ahLst/>
                      <a:rect l="l" t="t" r="r" b="b"/>
                      <a:pathLst>
                        <a:path w="95" h="238">
                          <a:moveTo>
                            <a:pt x="0" y="238"/>
                          </a:moveTo>
                          <a:cubicBezTo>
                            <a:pt x="13" y="199"/>
                            <a:pt x="16" y="179"/>
                            <a:pt x="37" y="146"/>
                          </a:cubicBezTo>
                          <a:cubicBezTo>
                            <a:pt x="95" y="55"/>
                            <a:pt x="70" y="113"/>
                            <a:pt x="92" y="55"/>
                          </a:cubicBezTo>
                          <a:cubicBezTo>
                            <a:pt x="80" y="10"/>
                            <a:pt x="91" y="27"/>
                            <a:pt x="64" y="0"/>
                          </a:cubicBezTo>
                        </a:path>
                      </a:pathLst>
                    </a:custGeom>
                    <a:noFill/>
                    <a:ln w="442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3" name=""/>
                  <p:cNvSpPr/>
                  <p:nvPr/>
                </p:nvSpPr>
                <p:spPr>
                  <a:xfrm rot="292800">
                    <a:off x="8080200" y="4480920"/>
                    <a:ext cx="76320" cy="12960"/>
                  </a:xfrm>
                  <a:custGeom>
                    <a:avLst/>
                    <a:gdLst/>
                    <a:ahLst/>
                    <a:rect l="l" t="t" r="r" b="b"/>
                    <a:pathLst>
                      <a:path w="48" h="8">
                        <a:moveTo>
                          <a:pt x="0" y="8"/>
                        </a:moveTo>
                        <a:cubicBezTo>
                          <a:pt x="0" y="8"/>
                          <a:pt x="24" y="4"/>
                          <a:pt x="48" y="0"/>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994" name=""/>
                <p:cNvSpPr/>
                <p:nvPr/>
              </p:nvSpPr>
              <p:spPr>
                <a:xfrm>
                  <a:off x="7951680" y="4298760"/>
                  <a:ext cx="115920" cy="87480"/>
                </a:xfrm>
                <a:custGeom>
                  <a:avLst/>
                  <a:gdLst/>
                  <a:ahLst/>
                  <a:rect l="l" t="t" r="r" b="b"/>
                  <a:pathLst>
                    <a:path w="67" h="53">
                      <a:moveTo>
                        <a:pt x="67" y="46"/>
                      </a:moveTo>
                      <a:cubicBezTo>
                        <a:pt x="63" y="44"/>
                        <a:pt x="57" y="46"/>
                        <a:pt x="55" y="42"/>
                      </a:cubicBezTo>
                      <a:cubicBezTo>
                        <a:pt x="53" y="39"/>
                        <a:pt x="55" y="35"/>
                        <a:pt x="54" y="31"/>
                      </a:cubicBezTo>
                      <a:cubicBezTo>
                        <a:pt x="53" y="26"/>
                        <a:pt x="46" y="22"/>
                        <a:pt x="43" y="18"/>
                      </a:cubicBezTo>
                      <a:cubicBezTo>
                        <a:pt x="41" y="10"/>
                        <a:pt x="47" y="2"/>
                        <a:pt x="37" y="0"/>
                      </a:cubicBezTo>
                      <a:cubicBezTo>
                        <a:pt x="9" y="1"/>
                        <a:pt x="0" y="1"/>
                        <a:pt x="15" y="31"/>
                      </a:cubicBezTo>
                      <a:cubicBezTo>
                        <a:pt x="19" y="53"/>
                        <a:pt x="54" y="46"/>
                        <a:pt x="67" y="46"/>
                      </a:cubicBezTo>
                      <a:close/>
                    </a:path>
                  </a:pathLst>
                </a:custGeom>
                <a:solidFill>
                  <a:srgbClr val="000066">
                    <a:alpha val="60000"/>
                  </a:srgbClr>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995" name=""/>
              <p:cNvSpPr/>
              <p:nvPr/>
            </p:nvSpPr>
            <p:spPr>
              <a:xfrm>
                <a:off x="7934400" y="4172040"/>
                <a:ext cx="145800" cy="2858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6" name=""/>
            <p:cNvSpPr/>
            <p:nvPr/>
          </p:nvSpPr>
          <p:spPr>
            <a:xfrm>
              <a:off x="7601040" y="4371840"/>
              <a:ext cx="190440" cy="2476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7" name=""/>
          <p:cNvGrpSpPr/>
          <p:nvPr/>
        </p:nvGrpSpPr>
        <p:grpSpPr>
          <a:xfrm>
            <a:off x="2590920" y="5416200"/>
            <a:ext cx="4395600" cy="493560"/>
            <a:chOff x="2590920" y="5416200"/>
            <a:chExt cx="4395600" cy="493560"/>
          </a:xfrm>
        </p:grpSpPr>
        <p:sp>
          <p:nvSpPr>
            <p:cNvPr id="998" name=""/>
            <p:cNvSpPr/>
            <p:nvPr/>
          </p:nvSpPr>
          <p:spPr>
            <a:xfrm flipV="1">
              <a:off x="2590920" y="5415840"/>
              <a:ext cx="4395600" cy="493560"/>
            </a:xfrm>
            <a:prstGeom prst="cloudCallout">
              <a:avLst>
                <a:gd name="adj1" fmla="val -31356"/>
                <a:gd name="adj2" fmla="val 125560"/>
              </a:avLst>
            </a:prstGeom>
            <a:solidFill>
              <a:srgbClr val="800080"/>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765600" y="5479920"/>
              <a:ext cx="18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ce8f4"/>
                  </a:solidFill>
                  <a:latin typeface="Comic Sans MS"/>
                  <a:ea typeface="Arial"/>
                </a:rPr>
                <a:t>Oxygen deficit</a:t>
              </a:r>
              <a:endParaRPr b="0" lang="en-US" sz="1800" spc="-1" strike="noStrike">
                <a:solidFill>
                  <a:srgbClr val="000000"/>
                </a:solidFill>
                <a:latin typeface="Arial"/>
              </a:endParaRPr>
            </a:p>
          </p:txBody>
        </p:sp>
      </p:grpSp>
      <p:sp>
        <p:nvSpPr>
          <p:cNvPr id="1000" name=""/>
          <p:cNvSpPr/>
          <p:nvPr/>
        </p:nvSpPr>
        <p:spPr>
          <a:xfrm>
            <a:off x="5891040" y="4314960"/>
            <a:ext cx="3265560" cy="444240"/>
          </a:xfrm>
          <a:custGeom>
            <a:avLst/>
            <a:gdLst/>
            <a:ahLst/>
            <a:rect l="l" t="t" r="r" b="b"/>
            <a:pathLst>
              <a:path w="2057" h="280">
                <a:moveTo>
                  <a:pt x="0" y="229"/>
                </a:moveTo>
                <a:cubicBezTo>
                  <a:pt x="57" y="254"/>
                  <a:pt x="114" y="280"/>
                  <a:pt x="274" y="248"/>
                </a:cubicBezTo>
                <a:cubicBezTo>
                  <a:pt x="434" y="216"/>
                  <a:pt x="663" y="74"/>
                  <a:pt x="960" y="37"/>
                </a:cubicBezTo>
                <a:cubicBezTo>
                  <a:pt x="1257" y="0"/>
                  <a:pt x="1657" y="14"/>
                  <a:pt x="2057" y="28"/>
                </a:cubicBezTo>
              </a:path>
            </a:pathLst>
          </a:custGeom>
          <a:noFill/>
          <a:ln w="76320">
            <a:solidFill>
              <a:srgbClr val="000066">
                <a:alpha val="60000"/>
              </a:srgbClr>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5816520" y="1843200"/>
            <a:ext cx="1977480" cy="3678840"/>
            <a:chOff x="5816520" y="1843200"/>
            <a:chExt cx="1977480" cy="3678840"/>
          </a:xfrm>
        </p:grpSpPr>
        <p:grpSp>
          <p:nvGrpSpPr>
            <p:cNvPr id="1002" name=""/>
            <p:cNvGrpSpPr/>
            <p:nvPr/>
          </p:nvGrpSpPr>
          <p:grpSpPr>
            <a:xfrm>
              <a:off x="5816520" y="1843200"/>
              <a:ext cx="507960" cy="368280"/>
              <a:chOff x="5816520" y="1843200"/>
              <a:chExt cx="507960" cy="368280"/>
            </a:xfrm>
          </p:grpSpPr>
          <p:sp>
            <p:nvSpPr>
              <p:cNvPr id="1003" name=""/>
              <p:cNvSpPr/>
              <p:nvPr/>
            </p:nvSpPr>
            <p:spPr>
              <a:xfrm>
                <a:off x="5816520" y="1843200"/>
                <a:ext cx="507960" cy="368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5848200" y="2014560"/>
                <a:ext cx="349200" cy="139680"/>
              </a:xfrm>
              <a:custGeom>
                <a:avLst/>
                <a:gdLst/>
                <a:ahLst/>
                <a:rect l="l" t="t" r="r" b="b"/>
                <a:pathLst>
                  <a:path w="220" h="88">
                    <a:moveTo>
                      <a:pt x="220" y="0"/>
                    </a:moveTo>
                    <a:cubicBezTo>
                      <a:pt x="163" y="5"/>
                      <a:pt x="150" y="6"/>
                      <a:pt x="108" y="16"/>
                    </a:cubicBezTo>
                    <a:cubicBezTo>
                      <a:pt x="93" y="26"/>
                      <a:pt x="76" y="31"/>
                      <a:pt x="60" y="40"/>
                    </a:cubicBezTo>
                    <a:cubicBezTo>
                      <a:pt x="52" y="45"/>
                      <a:pt x="44" y="51"/>
                      <a:pt x="36" y="56"/>
                    </a:cubicBezTo>
                    <a:cubicBezTo>
                      <a:pt x="32" y="59"/>
                      <a:pt x="24" y="64"/>
                      <a:pt x="24" y="64"/>
                    </a:cubicBezTo>
                    <a:cubicBezTo>
                      <a:pt x="16" y="75"/>
                      <a:pt x="9" y="79"/>
                      <a:pt x="0" y="88"/>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5" name=""/>
            <p:cNvGrpSpPr/>
            <p:nvPr/>
          </p:nvGrpSpPr>
          <p:grpSpPr>
            <a:xfrm>
              <a:off x="6557760" y="4947840"/>
              <a:ext cx="1236240" cy="574200"/>
              <a:chOff x="6557760" y="4947840"/>
              <a:chExt cx="1236240" cy="574200"/>
            </a:xfrm>
          </p:grpSpPr>
          <p:grpSp>
            <p:nvGrpSpPr>
              <p:cNvPr id="1006" name=""/>
              <p:cNvGrpSpPr/>
              <p:nvPr/>
            </p:nvGrpSpPr>
            <p:grpSpPr>
              <a:xfrm>
                <a:off x="6557760" y="4947840"/>
                <a:ext cx="1236240" cy="574200"/>
                <a:chOff x="6557760" y="4947840"/>
                <a:chExt cx="1236240" cy="574200"/>
              </a:xfrm>
            </p:grpSpPr>
            <p:sp>
              <p:nvSpPr>
                <p:cNvPr id="1007" name=""/>
                <p:cNvSpPr/>
                <p:nvPr/>
              </p:nvSpPr>
              <p:spPr>
                <a:xfrm rot="732600">
                  <a:off x="6575040" y="5069880"/>
                  <a:ext cx="668160" cy="236160"/>
                </a:xfrm>
                <a:prstGeom prst="ellipse">
                  <a:avLst/>
                </a:prstGeom>
                <a:gradFill rotWithShape="0">
                  <a:gsLst>
                    <a:gs pos="0">
                      <a:srgbClr val="66ff66"/>
                    </a:gs>
                    <a:gs pos="100000">
                      <a:srgbClr val="0000cc"/>
                    </a:gs>
                  </a:gsLst>
                  <a:lin ang="10068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3192600">
                  <a:off x="7366320" y="4969440"/>
                  <a:ext cx="283680" cy="5014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732600">
                  <a:off x="6666840" y="5025240"/>
                  <a:ext cx="81000" cy="9180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10" name=""/>
                <p:cNvSpPr/>
                <p:nvPr/>
              </p:nvSpPr>
              <p:spPr>
                <a:xfrm flipH="1" flipV="1" rot="18012600">
                  <a:off x="6762600" y="5205600"/>
                  <a:ext cx="230040" cy="288720"/>
                </a:xfrm>
                <a:custGeom>
                  <a:avLst/>
                  <a:gdLst>
                    <a:gd name="textAreaLeft" fmla="*/ 50400 w 230040"/>
                    <a:gd name="textAreaRight" fmla="*/ 179640 w 230040"/>
                    <a:gd name="textAreaTop" fmla="*/ 63360 h 288720"/>
                    <a:gd name="textAreaBottom" fmla="*/ 225360 h 288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092600">
                  <a:off x="6911280" y="4998600"/>
                  <a:ext cx="346320" cy="120240"/>
                </a:xfrm>
                <a:prstGeom prst="parallelogram">
                  <a:avLst>
                    <a:gd name="adj" fmla="val 71992"/>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12" name=""/>
                <p:cNvSpPr/>
                <p:nvPr/>
              </p:nvSpPr>
              <p:spPr>
                <a:xfrm rot="732600">
                  <a:off x="6658920" y="5047560"/>
                  <a:ext cx="3348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1013" name=""/>
              <p:cNvSpPr/>
              <p:nvPr/>
            </p:nvSpPr>
            <p:spPr>
              <a:xfrm>
                <a:off x="6583320" y="5122440"/>
                <a:ext cx="95040" cy="45720"/>
              </a:xfrm>
              <a:custGeom>
                <a:avLst/>
                <a:gdLst/>
                <a:ahLst/>
                <a:rect l="l" t="t" r="r" b="b"/>
                <a:pathLst>
                  <a:path w="60" h="29">
                    <a:moveTo>
                      <a:pt x="0" y="4"/>
                    </a:moveTo>
                    <a:cubicBezTo>
                      <a:pt x="6" y="2"/>
                      <a:pt x="13" y="0"/>
                      <a:pt x="21" y="2"/>
                    </a:cubicBezTo>
                    <a:cubicBezTo>
                      <a:pt x="29" y="4"/>
                      <a:pt x="45" y="10"/>
                      <a:pt x="51" y="14"/>
                    </a:cubicBezTo>
                    <a:cubicBezTo>
                      <a:pt x="57" y="18"/>
                      <a:pt x="59" y="27"/>
                      <a:pt x="60" y="29"/>
                    </a:cubicBezTo>
                  </a:path>
                </a:pathLst>
              </a:custGeom>
              <a:noFill/>
              <a:ln w="1908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grpSp>
        <p:nvGrpSpPr>
          <p:cNvPr id="1014" name=""/>
          <p:cNvGrpSpPr/>
          <p:nvPr/>
        </p:nvGrpSpPr>
        <p:grpSpPr>
          <a:xfrm>
            <a:off x="1646280" y="4343400"/>
            <a:ext cx="4771440" cy="855360"/>
            <a:chOff x="1646280" y="4343400"/>
            <a:chExt cx="4771440" cy="855360"/>
          </a:xfrm>
        </p:grpSpPr>
        <p:grpSp>
          <p:nvGrpSpPr>
            <p:cNvPr id="1015" name=""/>
            <p:cNvGrpSpPr/>
            <p:nvPr/>
          </p:nvGrpSpPr>
          <p:grpSpPr>
            <a:xfrm>
              <a:off x="1646280" y="4343400"/>
              <a:ext cx="4771440" cy="855360"/>
              <a:chOff x="1646280" y="4343400"/>
              <a:chExt cx="4771440" cy="855360"/>
            </a:xfrm>
          </p:grpSpPr>
          <p:sp>
            <p:nvSpPr>
              <p:cNvPr id="1016" name=""/>
              <p:cNvSpPr/>
              <p:nvPr/>
            </p:nvSpPr>
            <p:spPr>
              <a:xfrm>
                <a:off x="1646280" y="4343400"/>
                <a:ext cx="4771440" cy="855360"/>
              </a:xfrm>
              <a:prstGeom prst="ellipse">
                <a:avLst/>
              </a:prstGeom>
              <a:solidFill>
                <a:srgbClr val="00ff00">
                  <a:alpha val="9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060720" y="4543200"/>
                <a:ext cx="23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Comic Sans MS"/>
                    <a:ea typeface="Arial"/>
                  </a:rPr>
                  <a:t>Plant biomass</a:t>
                </a:r>
                <a:endParaRPr b="0" lang="en-US" sz="2400" spc="-1" strike="noStrike">
                  <a:solidFill>
                    <a:srgbClr val="000000"/>
                  </a:solidFill>
                  <a:latin typeface="Arial"/>
                </a:endParaRPr>
              </a:p>
            </p:txBody>
          </p:sp>
        </p:grpSp>
        <p:sp>
          <p:nvSpPr>
            <p:cNvPr id="1018" name=""/>
            <p:cNvSpPr/>
            <p:nvPr/>
          </p:nvSpPr>
          <p:spPr>
            <a:xfrm>
              <a:off x="2133360" y="4527360"/>
              <a:ext cx="4232520" cy="50760"/>
            </a:xfrm>
            <a:custGeom>
              <a:avLst/>
              <a:gdLst/>
              <a:ahLst/>
              <a:rect l="l" t="t" r="r" b="b"/>
              <a:pathLst>
                <a:path w="2432" h="32">
                  <a:moveTo>
                    <a:pt x="0" y="0"/>
                  </a:moveTo>
                  <a:cubicBezTo>
                    <a:pt x="1013" y="13"/>
                    <a:pt x="2027" y="27"/>
                    <a:pt x="2432" y="32"/>
                  </a:cubicBez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19" name="Cloud"/>
          <p:cNvSpPr/>
          <p:nvPr/>
        </p:nvSpPr>
        <p:spPr>
          <a:xfrm rot="261600">
            <a:off x="6052680" y="1749600"/>
            <a:ext cx="1543320" cy="911160"/>
          </a:xfrm>
          <a:prstGeom prst="pie">
            <a:avLst/>
          </a:prstGeom>
          <a:solidFill>
            <a:srgbClr val="dce8f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0" name=""/>
          <p:cNvGrpSpPr/>
          <p:nvPr/>
        </p:nvGrpSpPr>
        <p:grpSpPr>
          <a:xfrm>
            <a:off x="249120" y="1795320"/>
            <a:ext cx="2187720" cy="2460600"/>
            <a:chOff x="249120" y="1795320"/>
            <a:chExt cx="2187720" cy="2460600"/>
          </a:xfrm>
        </p:grpSpPr>
        <p:sp>
          <p:nvSpPr>
            <p:cNvPr id="1021" name=""/>
            <p:cNvSpPr/>
            <p:nvPr/>
          </p:nvSpPr>
          <p:spPr>
            <a:xfrm>
              <a:off x="1800360" y="3059280"/>
              <a:ext cx="201600" cy="1196640"/>
            </a:xfrm>
            <a:custGeom>
              <a:avLst/>
              <a:gdLst/>
              <a:ahLst/>
              <a:rect l="l" t="t" r="r" b="b"/>
              <a:pathLst>
                <a:path w="90" h="916">
                  <a:moveTo>
                    <a:pt x="0" y="0"/>
                  </a:moveTo>
                  <a:cubicBezTo>
                    <a:pt x="40" y="98"/>
                    <a:pt x="80" y="196"/>
                    <a:pt x="85" y="349"/>
                  </a:cubicBezTo>
                  <a:cubicBezTo>
                    <a:pt x="90" y="502"/>
                    <a:pt x="59" y="709"/>
                    <a:pt x="28" y="916"/>
                  </a:cubicBezTo>
                </a:path>
              </a:pathLst>
            </a:custGeom>
            <a:noFill/>
            <a:ln w="127080">
              <a:solidFill>
                <a:srgbClr val="66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2" name=""/>
            <p:cNvGrpSpPr/>
            <p:nvPr/>
          </p:nvGrpSpPr>
          <p:grpSpPr>
            <a:xfrm>
              <a:off x="249120" y="1795320"/>
              <a:ext cx="2187720" cy="1339920"/>
              <a:chOff x="249120" y="1795320"/>
              <a:chExt cx="2187720" cy="1339920"/>
            </a:xfrm>
          </p:grpSpPr>
          <p:sp>
            <p:nvSpPr>
              <p:cNvPr id="1023" name=""/>
              <p:cNvSpPr/>
              <p:nvPr/>
            </p:nvSpPr>
            <p:spPr>
              <a:xfrm>
                <a:off x="339840" y="2101680"/>
                <a:ext cx="1511280" cy="1033560"/>
              </a:xfrm>
              <a:prstGeom prst="rect">
                <a:avLst/>
              </a:prstGeom>
              <a:gradFill rotWithShape="0">
                <a:gsLst>
                  <a:gs pos="0">
                    <a:srgbClr val="cc99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24720" y="238932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Nutrients</a:t>
                </a:r>
                <a:endParaRPr b="0" lang="en-US" sz="2400" spc="-1" strike="noStrike">
                  <a:solidFill>
                    <a:srgbClr val="000000"/>
                  </a:solidFill>
                  <a:latin typeface="Arial"/>
                </a:endParaRPr>
              </a:p>
            </p:txBody>
          </p:sp>
          <p:grpSp>
            <p:nvGrpSpPr>
              <p:cNvPr id="1025" name=""/>
              <p:cNvGrpSpPr/>
              <p:nvPr/>
            </p:nvGrpSpPr>
            <p:grpSpPr>
              <a:xfrm>
                <a:off x="249120" y="1795320"/>
                <a:ext cx="733320" cy="476280"/>
                <a:chOff x="249120" y="1795320"/>
                <a:chExt cx="733320" cy="476280"/>
              </a:xfrm>
            </p:grpSpPr>
            <p:sp>
              <p:nvSpPr>
                <p:cNvPr id="1026" name=""/>
                <p:cNvSpPr/>
                <p:nvPr/>
              </p:nvSpPr>
              <p:spPr>
                <a:xfrm>
                  <a:off x="822240" y="1795320"/>
                  <a:ext cx="160200" cy="476280"/>
                </a:xfrm>
                <a:prstGeom prst="rect">
                  <a:avLst/>
                </a:prstGeom>
                <a:solidFill>
                  <a:srgbClr val="8a8a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7" name=""/>
                <p:cNvGrpSpPr/>
                <p:nvPr/>
              </p:nvGrpSpPr>
              <p:grpSpPr>
                <a:xfrm>
                  <a:off x="249120" y="1954080"/>
                  <a:ext cx="587160" cy="317520"/>
                  <a:chOff x="249120" y="1954080"/>
                  <a:chExt cx="587160" cy="317520"/>
                </a:xfrm>
              </p:grpSpPr>
              <p:sp>
                <p:nvSpPr>
                  <p:cNvPr id="1028" name=""/>
                  <p:cNvSpPr/>
                  <p:nvPr/>
                </p:nvSpPr>
                <p:spPr>
                  <a:xfrm>
                    <a:off x="249120" y="1954080"/>
                    <a:ext cx="199800" cy="164880"/>
                  </a:xfrm>
                  <a:prstGeom prst="triangle">
                    <a:avLst>
                      <a:gd name="adj" fmla="val 49995"/>
                    </a:avLst>
                  </a:prstGeom>
                  <a:solidFill>
                    <a:srgbClr val="8a8ad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9" name=""/>
                  <p:cNvSpPr/>
                  <p:nvPr/>
                </p:nvSpPr>
                <p:spPr>
                  <a:xfrm>
                    <a:off x="436320" y="1954080"/>
                    <a:ext cx="200160" cy="164880"/>
                  </a:xfrm>
                  <a:prstGeom prst="triangle">
                    <a:avLst>
                      <a:gd name="adj" fmla="val 49995"/>
                    </a:avLst>
                  </a:prstGeom>
                  <a:solidFill>
                    <a:srgbClr val="8a8ad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30" name=""/>
                  <p:cNvSpPr/>
                  <p:nvPr/>
                </p:nvSpPr>
                <p:spPr>
                  <a:xfrm>
                    <a:off x="636480" y="1954080"/>
                    <a:ext cx="199800" cy="164880"/>
                  </a:xfrm>
                  <a:prstGeom prst="triangle">
                    <a:avLst>
                      <a:gd name="adj" fmla="val 49995"/>
                    </a:avLst>
                  </a:prstGeom>
                  <a:solidFill>
                    <a:srgbClr val="8a8ad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31" name=""/>
                  <p:cNvSpPr/>
                  <p:nvPr/>
                </p:nvSpPr>
                <p:spPr>
                  <a:xfrm>
                    <a:off x="253800" y="2114280"/>
                    <a:ext cx="574560" cy="157320"/>
                  </a:xfrm>
                  <a:prstGeom prst="rect">
                    <a:avLst/>
                  </a:prstGeom>
                  <a:solidFill>
                    <a:srgbClr val="8a8ad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32" name=""/>
              <p:cNvGrpSpPr/>
              <p:nvPr/>
            </p:nvGrpSpPr>
            <p:grpSpPr>
              <a:xfrm>
                <a:off x="1084320" y="1905120"/>
                <a:ext cx="1352520" cy="554040"/>
                <a:chOff x="1084320" y="1905120"/>
                <a:chExt cx="1352520" cy="554040"/>
              </a:xfrm>
            </p:grpSpPr>
            <p:sp>
              <p:nvSpPr>
                <p:cNvPr id="1033" name=""/>
                <p:cNvSpPr/>
                <p:nvPr/>
              </p:nvSpPr>
              <p:spPr>
                <a:xfrm>
                  <a:off x="1122480" y="2138400"/>
                  <a:ext cx="517680" cy="20160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1084320" y="2316240"/>
                  <a:ext cx="136800" cy="13032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35" name=""/>
                <p:cNvSpPr/>
                <p:nvPr/>
              </p:nvSpPr>
              <p:spPr>
                <a:xfrm>
                  <a:off x="1781280" y="2247840"/>
                  <a:ext cx="81000" cy="25560"/>
                </a:xfrm>
                <a:prstGeom prst="rect">
                  <a:avLst/>
                </a:prstGeom>
                <a:solidFill>
                  <a:srgbClr val="8a8ad8"/>
                </a:solidFill>
                <a:ln w="12600">
                  <a:solidFill>
                    <a:srgbClr val="8a8ad8"/>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036" name=""/>
                <p:cNvSpPr/>
                <p:nvPr/>
              </p:nvSpPr>
              <p:spPr>
                <a:xfrm>
                  <a:off x="1428840" y="1905120"/>
                  <a:ext cx="301680" cy="22068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467000" y="2097360"/>
                  <a:ext cx="304920" cy="74520"/>
                </a:xfrm>
                <a:custGeom>
                  <a:avLst/>
                  <a:gdLst/>
                  <a:ahLst/>
                  <a:rect l="l" t="t" r="r" b="b"/>
                  <a:pathLst>
                    <a:path w="192" h="47">
                      <a:moveTo>
                        <a:pt x="0" y="46"/>
                      </a:moveTo>
                      <a:lnTo>
                        <a:pt x="6" y="36"/>
                      </a:lnTo>
                      <a:lnTo>
                        <a:pt x="9" y="28"/>
                      </a:lnTo>
                      <a:lnTo>
                        <a:pt x="11" y="22"/>
                      </a:lnTo>
                      <a:lnTo>
                        <a:pt x="14" y="18"/>
                      </a:lnTo>
                      <a:lnTo>
                        <a:pt x="18" y="13"/>
                      </a:lnTo>
                      <a:lnTo>
                        <a:pt x="23" y="12"/>
                      </a:lnTo>
                      <a:lnTo>
                        <a:pt x="30" y="9"/>
                      </a:lnTo>
                      <a:lnTo>
                        <a:pt x="38" y="7"/>
                      </a:lnTo>
                      <a:lnTo>
                        <a:pt x="45" y="4"/>
                      </a:lnTo>
                      <a:lnTo>
                        <a:pt x="56" y="3"/>
                      </a:lnTo>
                      <a:lnTo>
                        <a:pt x="60" y="1"/>
                      </a:lnTo>
                      <a:lnTo>
                        <a:pt x="65" y="1"/>
                      </a:lnTo>
                      <a:lnTo>
                        <a:pt x="69" y="0"/>
                      </a:lnTo>
                      <a:lnTo>
                        <a:pt x="75" y="0"/>
                      </a:lnTo>
                      <a:lnTo>
                        <a:pt x="87" y="0"/>
                      </a:lnTo>
                      <a:lnTo>
                        <a:pt x="95" y="0"/>
                      </a:lnTo>
                      <a:lnTo>
                        <a:pt x="102" y="0"/>
                      </a:lnTo>
                      <a:lnTo>
                        <a:pt x="113" y="1"/>
                      </a:lnTo>
                      <a:lnTo>
                        <a:pt x="123" y="3"/>
                      </a:lnTo>
                      <a:lnTo>
                        <a:pt x="131" y="4"/>
                      </a:lnTo>
                      <a:lnTo>
                        <a:pt x="135" y="6"/>
                      </a:lnTo>
                      <a:lnTo>
                        <a:pt x="153" y="10"/>
                      </a:lnTo>
                      <a:lnTo>
                        <a:pt x="158" y="10"/>
                      </a:lnTo>
                      <a:lnTo>
                        <a:pt x="164" y="16"/>
                      </a:lnTo>
                      <a:lnTo>
                        <a:pt x="171" y="16"/>
                      </a:lnTo>
                      <a:lnTo>
                        <a:pt x="179" y="21"/>
                      </a:lnTo>
                      <a:lnTo>
                        <a:pt x="186" y="22"/>
                      </a:lnTo>
                      <a:lnTo>
                        <a:pt x="191" y="24"/>
                      </a:lnTo>
                    </a:path>
                  </a:pathLst>
                </a:custGeom>
                <a:solidFill>
                  <a:srgbClr val="8a8ad8"/>
                </a:solidFill>
                <a:ln cap="rnd" w="12600">
                  <a:solidFill>
                    <a:srgbClr val="8a8ad8"/>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38" name=""/>
                <p:cNvSpPr/>
                <p:nvPr/>
              </p:nvSpPr>
              <p:spPr>
                <a:xfrm>
                  <a:off x="1441800" y="2114640"/>
                  <a:ext cx="339480" cy="34452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1136880" y="1994040"/>
                  <a:ext cx="20520" cy="13176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1249560" y="2202120"/>
                  <a:ext cx="81000" cy="0"/>
                </a:xfrm>
                <a:prstGeom prst="line">
                  <a:avLst/>
                </a:prstGeom>
                <a:ln w="12600">
                  <a:solidFill>
                    <a:srgbClr val="8a8a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254240" y="2222640"/>
                  <a:ext cx="81000" cy="0"/>
                </a:xfrm>
                <a:prstGeom prst="line">
                  <a:avLst/>
                </a:prstGeom>
                <a:ln w="12600">
                  <a:solidFill>
                    <a:srgbClr val="8a8a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258920" y="2244960"/>
                  <a:ext cx="81000" cy="0"/>
                </a:xfrm>
                <a:prstGeom prst="line">
                  <a:avLst/>
                </a:prstGeom>
                <a:ln w="12600">
                  <a:solidFill>
                    <a:srgbClr val="8a8a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538640" y="1909800"/>
                  <a:ext cx="144360" cy="17316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1436760" y="1914480"/>
                  <a:ext cx="58680" cy="16380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1513080" y="2190960"/>
                  <a:ext cx="208080" cy="19980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1122480" y="2355840"/>
                  <a:ext cx="55800" cy="4932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1047" name=""/>
                <p:cNvGrpSpPr/>
                <p:nvPr/>
              </p:nvGrpSpPr>
              <p:grpSpPr>
                <a:xfrm>
                  <a:off x="1878120" y="1913040"/>
                  <a:ext cx="558720" cy="415800"/>
                  <a:chOff x="1878120" y="1913040"/>
                  <a:chExt cx="558720" cy="415800"/>
                </a:xfrm>
              </p:grpSpPr>
              <p:sp>
                <p:nvSpPr>
                  <p:cNvPr id="1048" name=""/>
                  <p:cNvSpPr/>
                  <p:nvPr/>
                </p:nvSpPr>
                <p:spPr>
                  <a:xfrm>
                    <a:off x="1878120" y="2149560"/>
                    <a:ext cx="558720" cy="179280"/>
                  </a:xfrm>
                  <a:prstGeom prst="rect">
                    <a:avLst/>
                  </a:prstGeom>
                  <a:solidFill>
                    <a:srgbClr val="8a8ad8"/>
                  </a:solidFill>
                  <a:ln w="12600">
                    <a:solidFill>
                      <a:srgbClr val="8a8ad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1882800" y="2051280"/>
                    <a:ext cx="544680" cy="81000"/>
                  </a:xfrm>
                  <a:prstGeom prst="rect">
                    <a:avLst/>
                  </a:prstGeom>
                  <a:solidFill>
                    <a:srgbClr val="8a8ad8"/>
                  </a:solidFill>
                  <a:ln w="12600">
                    <a:solidFill>
                      <a:srgbClr val="8a8ad8"/>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050" name=""/>
                  <p:cNvSpPr/>
                  <p:nvPr/>
                </p:nvSpPr>
                <p:spPr>
                  <a:xfrm>
                    <a:off x="1973520" y="195588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1" name=""/>
                  <p:cNvSpPr/>
                  <p:nvPr/>
                </p:nvSpPr>
                <p:spPr>
                  <a:xfrm>
                    <a:off x="2019600" y="202248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2" name=""/>
                  <p:cNvSpPr/>
                  <p:nvPr/>
                </p:nvSpPr>
                <p:spPr>
                  <a:xfrm>
                    <a:off x="2111400" y="1992240"/>
                    <a:ext cx="1620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3" name=""/>
                  <p:cNvSpPr/>
                  <p:nvPr/>
                </p:nvSpPr>
                <p:spPr>
                  <a:xfrm>
                    <a:off x="2071800" y="2024280"/>
                    <a:ext cx="15840" cy="2988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54" name=""/>
                  <p:cNvSpPr/>
                  <p:nvPr/>
                </p:nvSpPr>
                <p:spPr>
                  <a:xfrm>
                    <a:off x="2044800" y="2078280"/>
                    <a:ext cx="15840" cy="2988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55" name=""/>
                  <p:cNvSpPr/>
                  <p:nvPr/>
                </p:nvSpPr>
                <p:spPr>
                  <a:xfrm>
                    <a:off x="2195640" y="2043360"/>
                    <a:ext cx="15840" cy="2988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56" name=""/>
                  <p:cNvSpPr/>
                  <p:nvPr/>
                </p:nvSpPr>
                <p:spPr>
                  <a:xfrm>
                    <a:off x="2241720" y="203364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7" name=""/>
                  <p:cNvSpPr/>
                  <p:nvPr/>
                </p:nvSpPr>
                <p:spPr>
                  <a:xfrm>
                    <a:off x="2148120" y="194940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8" name=""/>
                  <p:cNvSpPr/>
                  <p:nvPr/>
                </p:nvSpPr>
                <p:spPr>
                  <a:xfrm>
                    <a:off x="2078280" y="197028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59" name=""/>
                  <p:cNvSpPr/>
                  <p:nvPr/>
                </p:nvSpPr>
                <p:spPr>
                  <a:xfrm>
                    <a:off x="2019600" y="191304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60" name=""/>
                  <p:cNvSpPr/>
                  <p:nvPr/>
                </p:nvSpPr>
                <p:spPr>
                  <a:xfrm>
                    <a:off x="1982880" y="207648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61" name=""/>
                  <p:cNvSpPr/>
                  <p:nvPr/>
                </p:nvSpPr>
                <p:spPr>
                  <a:xfrm>
                    <a:off x="1986120" y="202572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62" name=""/>
                  <p:cNvSpPr/>
                  <p:nvPr/>
                </p:nvSpPr>
                <p:spPr>
                  <a:xfrm>
                    <a:off x="2022840" y="196056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063" name=""/>
                  <p:cNvSpPr/>
                  <p:nvPr/>
                </p:nvSpPr>
                <p:spPr>
                  <a:xfrm>
                    <a:off x="2168640" y="2003400"/>
                    <a:ext cx="15840" cy="302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sp>
              <p:nvSpPr>
                <p:cNvPr id="1064" name=""/>
                <p:cNvSpPr/>
                <p:nvPr/>
              </p:nvSpPr>
              <p:spPr>
                <a:xfrm>
                  <a:off x="1899000" y="2333880"/>
                  <a:ext cx="91800" cy="9504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065" name=""/>
                <p:cNvSpPr/>
                <p:nvPr/>
              </p:nvSpPr>
              <p:spPr>
                <a:xfrm>
                  <a:off x="2340000" y="2328840"/>
                  <a:ext cx="92160" cy="95400"/>
                </a:xfrm>
                <a:prstGeom prst="ellipse">
                  <a:avLst/>
                </a:prstGeom>
                <a:solidFill>
                  <a:srgbClr val="8a8ad8"/>
                </a:solidFill>
                <a:ln w="12600">
                  <a:solidFill>
                    <a:srgbClr val="8a8ad8"/>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grpSp>
      <p:grpSp>
        <p:nvGrpSpPr>
          <p:cNvPr id="1066" name=""/>
          <p:cNvGrpSpPr/>
          <p:nvPr/>
        </p:nvGrpSpPr>
        <p:grpSpPr>
          <a:xfrm>
            <a:off x="6005520" y="3227400"/>
            <a:ext cx="228600" cy="2116080"/>
            <a:chOff x="6005520" y="3227400"/>
            <a:chExt cx="228600" cy="2116080"/>
          </a:xfrm>
        </p:grpSpPr>
        <p:sp>
          <p:nvSpPr>
            <p:cNvPr id="1067" name=""/>
            <p:cNvSpPr/>
            <p:nvPr/>
          </p:nvSpPr>
          <p:spPr>
            <a:xfrm>
              <a:off x="6005520" y="4124160"/>
              <a:ext cx="228600" cy="1219320"/>
            </a:xfrm>
            <a:prstGeom prst="downArrow">
              <a:avLst>
                <a:gd name="adj1" fmla="val 50000"/>
                <a:gd name="adj2" fmla="val 133346"/>
              </a:avLst>
            </a:prstGeom>
            <a:gradFill rotWithShape="0">
              <a:gsLst>
                <a:gs pos="0">
                  <a:srgbClr val="00ffff"/>
                </a:gs>
                <a:gs pos="100000">
                  <a:srgbClr val="00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6062760" y="3227400"/>
              <a:ext cx="114120" cy="1193760"/>
            </a:xfrm>
            <a:prstGeom prst="rect">
              <a:avLst/>
            </a:prstGeom>
            <a:gradFill rotWithShape="0">
              <a:gsLst>
                <a:gs pos="0">
                  <a:srgbClr val="ffcc00"/>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6013440" y="4271760"/>
              <a:ext cx="209520" cy="362160"/>
            </a:xfrm>
            <a:prstGeom prst="triangle">
              <a:avLst>
                <a:gd name="adj" fmla="val 53787"/>
              </a:avLst>
            </a:prstGeom>
            <a:gradFill rotWithShape="0">
              <a:gsLst>
                <a:gs pos="0">
                  <a:srgbClr val="dce8f4"/>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0" name=""/>
          <p:cNvSpPr/>
          <p:nvPr/>
        </p:nvSpPr>
        <p:spPr>
          <a:xfrm>
            <a:off x="6199200" y="4664160"/>
            <a:ext cx="347760" cy="131760"/>
          </a:xfrm>
          <a:prstGeom prst="ellipse">
            <a:avLst/>
          </a:prstGeom>
          <a:solidFill>
            <a:srgbClr val="00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8558280" y="4251240"/>
            <a:ext cx="347760" cy="131760"/>
          </a:xfrm>
          <a:prstGeom prst="ellipse">
            <a:avLst/>
          </a:prstGeom>
          <a:solidFill>
            <a:srgbClr val="00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424640" y="4295880"/>
            <a:ext cx="347760" cy="131760"/>
          </a:xfrm>
          <a:prstGeom prst="ellipse">
            <a:avLst/>
          </a:prstGeom>
          <a:solidFill>
            <a:srgbClr val="00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6730920" y="4457880"/>
            <a:ext cx="347760" cy="131760"/>
          </a:xfrm>
          <a:prstGeom prst="ellipse">
            <a:avLst/>
          </a:prstGeom>
          <a:solidFill>
            <a:srgbClr val="00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20"/>
                                        </p:tgtEl>
                                        <p:attrNameLst>
                                          <p:attrName>style.visibility</p:attrName>
                                        </p:attrNameLst>
                                      </p:cBhvr>
                                      <p:to>
                                        <p:strVal val="visible"/>
                                      </p:to>
                                    </p:set>
                                    <p:animEffect filter="dissolve" transition="in">
                                      <p:cBhvr additive="repl">
                                        <p:cTn id="32" dur="500"/>
                                        <p:tgtEl>
                                          <p:spTgt spid="102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14"/>
                                        </p:tgtEl>
                                        <p:attrNameLst>
                                          <p:attrName>style.visibility</p:attrName>
                                        </p:attrNameLst>
                                      </p:cBhvr>
                                      <p:to>
                                        <p:strVal val="visible"/>
                                      </p:to>
                                    </p:set>
                                    <p:animEffect filter="dissolve" transition="in">
                                      <p:cBhvr additive="repl">
                                        <p:cTn id="37" dur="500"/>
                                        <p:tgtEl>
                                          <p:spTgt spid="101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066"/>
                                        </p:tgtEl>
                                        <p:attrNameLst>
                                          <p:attrName>style.visibility</p:attrName>
                                        </p:attrNameLst>
                                      </p:cBhvr>
                                      <p:to>
                                        <p:strVal val="visible"/>
                                      </p:to>
                                    </p:set>
                                    <p:animEffect filter="wipe(down)" transition="in">
                                      <p:cBhvr additive="repl">
                                        <p:cTn id="42" dur="1000"/>
                                        <p:tgtEl>
                                          <p:spTgt spid="106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983"/>
                                        </p:tgtEl>
                                        <p:attrNameLst>
                                          <p:attrName>style.visibility</p:attrName>
                                        </p:attrNameLst>
                                      </p:cBhvr>
                                      <p:to>
                                        <p:strVal val="visible"/>
                                      </p:to>
                                    </p:set>
                                    <p:animEffect filter="wipe(up)" transition="in">
                                      <p:cBhvr additive="repl">
                                        <p:cTn id="47" dur="2000"/>
                                        <p:tgtEl>
                                          <p:spTgt spid="98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7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997"/>
                                        </p:tgtEl>
                                        <p:attrNameLst>
                                          <p:attrName>style.visibility</p:attrName>
                                        </p:attrNameLst>
                                      </p:cBhvr>
                                      <p:to>
                                        <p:strVal val="visible"/>
                                      </p:to>
                                    </p:set>
                                    <p:anim calcmode="lin" valueType="num">
                                      <p:cBhvr additive="repl">
                                        <p:cTn id="56" dur="1000" fill="hold"/>
                                        <p:tgtEl>
                                          <p:spTgt spid="997"/>
                                        </p:tgtEl>
                                        <p:attrNameLst>
                                          <p:attrName>ppt_w</p:attrName>
                                        </p:attrNameLst>
                                      </p:cBhvr>
                                      <p:tavLst>
                                        <p:tav tm="0">
                                          <p:val>
                                            <p:strVal val="#ppt_w*0.70"/>
                                          </p:val>
                                        </p:tav>
                                        <p:tav tm="100000">
                                          <p:val>
                                            <p:strVal val="#ppt_w"/>
                                          </p:val>
                                        </p:tav>
                                      </p:tavLst>
                                    </p:anim>
                                    <p:anim calcmode="lin" valueType="num">
                                      <p:cBhvr additive="repl">
                                        <p:cTn id="57" dur="1000" fill="hold"/>
                                        <p:tgtEl>
                                          <p:spTgt spid="997"/>
                                        </p:tgtEl>
                                        <p:attrNameLst>
                                          <p:attrName>ppt_h</p:attrName>
                                        </p:attrNameLst>
                                      </p:cBhvr>
                                      <p:tavLst>
                                        <p:tav tm="0">
                                          <p:val>
                                            <p:strVal val="#ppt_h"/>
                                          </p:val>
                                        </p:tav>
                                        <p:tav tm="100000">
                                          <p:val>
                                            <p:strVal val="#ppt_h"/>
                                          </p:val>
                                        </p:tav>
                                      </p:tavLst>
                                    </p:anim>
                                    <p:animEffect filter="fade" transition="in">
                                      <p:cBhvr additive="repl">
                                        <p:cTn id="58" dur="1000"/>
                                        <p:tgtEl>
                                          <p:spTgt spid="99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01"/>
                                        </p:tgtEl>
                                        <p:attrNameLst>
                                          <p:attrName>style.visibility</p:attrName>
                                        </p:attrNameLst>
                                      </p:cBhvr>
                                      <p:to>
                                        <p:strVal val="visible"/>
                                      </p:to>
                                    </p:set>
                                    <p:animEffect filter="dissolve" transition="in">
                                      <p:cBhvr additive="repl">
                                        <p:cTn id="63"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380880"/>
            <a:ext cx="8640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42492"/>
                </a:solidFill>
                <a:latin typeface="Tahoma"/>
              </a:rPr>
              <a:t>Confidence after combining certain physicochemical &amp; biological quality elements</a:t>
            </a:r>
            <a:endParaRPr b="0" lang="en-US" sz="3000" spc="-1" strike="noStrike">
              <a:solidFill>
                <a:srgbClr val="242492"/>
              </a:solidFill>
              <a:latin typeface="Tahoma"/>
            </a:endParaRPr>
          </a:p>
        </p:txBody>
      </p:sp>
      <p:grpSp>
        <p:nvGrpSpPr>
          <p:cNvPr id="1075" name=""/>
          <p:cNvGrpSpPr/>
          <p:nvPr/>
        </p:nvGrpSpPr>
        <p:grpSpPr>
          <a:xfrm>
            <a:off x="324000" y="4221000"/>
            <a:ext cx="7920000" cy="1224000"/>
            <a:chOff x="324000" y="4221000"/>
            <a:chExt cx="7920000" cy="1224000"/>
          </a:xfrm>
        </p:grpSpPr>
        <p:sp>
          <p:nvSpPr>
            <p:cNvPr id="1076" name=""/>
            <p:cNvSpPr/>
            <p:nvPr/>
          </p:nvSpPr>
          <p:spPr>
            <a:xfrm>
              <a:off x="324000" y="4221000"/>
              <a:ext cx="7920000" cy="1224000"/>
            </a:xfrm>
            <a:prstGeom prst="rect">
              <a:avLst/>
            </a:prstGeom>
            <a:solidFill>
              <a:srgbClr val="191965"/>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54200" y="4300560"/>
              <a:ext cx="705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and use weight of evidence to improve our confidence of class </a:t>
              </a:r>
              <a:endParaRPr b="0" lang="en-US" sz="3200" spc="-1" strike="noStrike">
                <a:solidFill>
                  <a:srgbClr val="000000"/>
                </a:solidFill>
                <a:latin typeface="Arial"/>
              </a:endParaRPr>
            </a:p>
          </p:txBody>
        </p:sp>
      </p:grpSp>
      <p:grpSp>
        <p:nvGrpSpPr>
          <p:cNvPr id="1078" name=""/>
          <p:cNvGrpSpPr/>
          <p:nvPr/>
        </p:nvGrpSpPr>
        <p:grpSpPr>
          <a:xfrm>
            <a:off x="324000" y="2249640"/>
            <a:ext cx="7956360" cy="1223640"/>
            <a:chOff x="324000" y="2249640"/>
            <a:chExt cx="7956360" cy="1223640"/>
          </a:xfrm>
        </p:grpSpPr>
        <p:sp>
          <p:nvSpPr>
            <p:cNvPr id="1079" name=""/>
            <p:cNvSpPr/>
            <p:nvPr/>
          </p:nvSpPr>
          <p:spPr>
            <a:xfrm>
              <a:off x="341280" y="2249640"/>
              <a:ext cx="7920000" cy="1223640"/>
            </a:xfrm>
            <a:prstGeom prst="rect">
              <a:avLst/>
            </a:prstGeom>
            <a:solidFill>
              <a:srgbClr val="191965"/>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4208400" y="2676600"/>
              <a:ext cx="184320" cy="36648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4208400" y="2676600"/>
              <a:ext cx="184320" cy="36648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324000" y="2327400"/>
              <a:ext cx="795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ake account of this uncertainty in the confidence of class we assig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42492"/>
                </a:solidFill>
                <a:latin typeface="Tahoma"/>
              </a:rPr>
              <a:t>Uncertainty as an issue in river basin management</a:t>
            </a:r>
            <a:endParaRPr b="0" lang="en-US" sz="4000" spc="-1" strike="noStrike">
              <a:solidFill>
                <a:srgbClr val="242492"/>
              </a:solidFill>
              <a:latin typeface="Tahoma"/>
            </a:endParaRPr>
          </a:p>
        </p:txBody>
      </p:sp>
      <p:grpSp>
        <p:nvGrpSpPr>
          <p:cNvPr id="92" name=""/>
          <p:cNvGrpSpPr/>
          <p:nvPr/>
        </p:nvGrpSpPr>
        <p:grpSpPr>
          <a:xfrm>
            <a:off x="1619280" y="1484280"/>
            <a:ext cx="2808000" cy="3239640"/>
            <a:chOff x="1619280" y="1484280"/>
            <a:chExt cx="2808000" cy="3239640"/>
          </a:xfrm>
        </p:grpSpPr>
        <p:sp>
          <p:nvSpPr>
            <p:cNvPr id="93" name=""/>
            <p:cNvSpPr/>
            <p:nvPr/>
          </p:nvSpPr>
          <p:spPr>
            <a:xfrm>
              <a:off x="1619280" y="2822400"/>
              <a:ext cx="234720" cy="87336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192560" y="2869200"/>
              <a:ext cx="234720" cy="71820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800" y="1963080"/>
              <a:ext cx="2509920" cy="276084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470320" y="2878920"/>
              <a:ext cx="366840" cy="42228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297240" y="2883240"/>
              <a:ext cx="366840" cy="42264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573280" y="3005640"/>
              <a:ext cx="146520" cy="15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14600" y="3024000"/>
              <a:ext cx="146880" cy="15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897920" y="1709640"/>
              <a:ext cx="557640" cy="450360"/>
            </a:xfrm>
            <a:custGeom>
              <a:avLst/>
              <a:gdLst/>
              <a:ahLst/>
              <a:rect l="l" t="t" r="r" b="b"/>
              <a:pathLst>
                <a:path w="456" h="384">
                  <a:moveTo>
                    <a:pt x="456" y="384"/>
                  </a:moveTo>
                  <a:cubicBezTo>
                    <a:pt x="444" y="372"/>
                    <a:pt x="435" y="355"/>
                    <a:pt x="420" y="348"/>
                  </a:cubicBezTo>
                  <a:cubicBezTo>
                    <a:pt x="390" y="334"/>
                    <a:pt x="324" y="324"/>
                    <a:pt x="324" y="324"/>
                  </a:cubicBezTo>
                  <a:cubicBezTo>
                    <a:pt x="308" y="296"/>
                    <a:pt x="284" y="271"/>
                    <a:pt x="276" y="240"/>
                  </a:cubicBezTo>
                  <a:cubicBezTo>
                    <a:pt x="220" y="25"/>
                    <a:pt x="319" y="70"/>
                    <a:pt x="216" y="36"/>
                  </a:cubicBezTo>
                  <a:cubicBezTo>
                    <a:pt x="132" y="50"/>
                    <a:pt x="80" y="40"/>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70320" y="1554480"/>
              <a:ext cx="249480" cy="520920"/>
            </a:xfrm>
            <a:custGeom>
              <a:avLst/>
              <a:gdLst/>
              <a:ahLst/>
              <a:rect l="l" t="t" r="r" b="b"/>
              <a:pathLst>
                <a:path w="204" h="444">
                  <a:moveTo>
                    <a:pt x="204" y="444"/>
                  </a:moveTo>
                  <a:cubicBezTo>
                    <a:pt x="197" y="411"/>
                    <a:pt x="173" y="317"/>
                    <a:pt x="156" y="288"/>
                  </a:cubicBezTo>
                  <a:cubicBezTo>
                    <a:pt x="130" y="242"/>
                    <a:pt x="67" y="209"/>
                    <a:pt x="24" y="180"/>
                  </a:cubicBezTo>
                  <a:cubicBezTo>
                    <a:pt x="31" y="144"/>
                    <a:pt x="48" y="109"/>
                    <a:pt x="48" y="72"/>
                  </a:cubicBezTo>
                  <a:cubicBezTo>
                    <a:pt x="48" y="24"/>
                    <a:pt x="0" y="37"/>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969280" y="1498320"/>
              <a:ext cx="256680" cy="478800"/>
            </a:xfrm>
            <a:custGeom>
              <a:avLst/>
              <a:gdLst/>
              <a:ahLst/>
              <a:rect l="l" t="t" r="r" b="b"/>
              <a:pathLst>
                <a:path w="210" h="408">
                  <a:moveTo>
                    <a:pt x="0" y="408"/>
                  </a:moveTo>
                  <a:cubicBezTo>
                    <a:pt x="4" y="382"/>
                    <a:pt x="9" y="311"/>
                    <a:pt x="36" y="288"/>
                  </a:cubicBezTo>
                  <a:cubicBezTo>
                    <a:pt x="48" y="278"/>
                    <a:pt x="145" y="236"/>
                    <a:pt x="168" y="228"/>
                  </a:cubicBezTo>
                  <a:cubicBezTo>
                    <a:pt x="182" y="207"/>
                    <a:pt x="210" y="173"/>
                    <a:pt x="204" y="144"/>
                  </a:cubicBezTo>
                  <a:cubicBezTo>
                    <a:pt x="199" y="121"/>
                    <a:pt x="178" y="105"/>
                    <a:pt x="168" y="84"/>
                  </a:cubicBezTo>
                  <a:cubicBezTo>
                    <a:pt x="151" y="50"/>
                    <a:pt x="156" y="39"/>
                    <a:pt x="15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00720" y="1793880"/>
              <a:ext cx="278640" cy="436680"/>
            </a:xfrm>
            <a:custGeom>
              <a:avLst/>
              <a:gdLst/>
              <a:ahLst/>
              <a:rect l="l" t="t" r="r" b="b"/>
              <a:pathLst>
                <a:path w="228" h="372">
                  <a:moveTo>
                    <a:pt x="0" y="372"/>
                  </a:moveTo>
                  <a:cubicBezTo>
                    <a:pt x="4" y="332"/>
                    <a:pt x="6" y="292"/>
                    <a:pt x="12" y="252"/>
                  </a:cubicBezTo>
                  <a:cubicBezTo>
                    <a:pt x="14" y="236"/>
                    <a:pt x="13" y="217"/>
                    <a:pt x="24" y="204"/>
                  </a:cubicBezTo>
                  <a:cubicBezTo>
                    <a:pt x="35" y="190"/>
                    <a:pt x="56" y="189"/>
                    <a:pt x="72" y="180"/>
                  </a:cubicBezTo>
                  <a:cubicBezTo>
                    <a:pt x="132" y="147"/>
                    <a:pt x="128" y="147"/>
                    <a:pt x="180" y="108"/>
                  </a:cubicBezTo>
                  <a:cubicBezTo>
                    <a:pt x="194" y="66"/>
                    <a:pt x="196" y="32"/>
                    <a:pt x="22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50880" y="1484280"/>
              <a:ext cx="125640" cy="605520"/>
            </a:xfrm>
            <a:custGeom>
              <a:avLst/>
              <a:gdLst/>
              <a:ahLst/>
              <a:rect l="l" t="t" r="r" b="b"/>
              <a:pathLst>
                <a:path w="103" h="516">
                  <a:moveTo>
                    <a:pt x="0" y="516"/>
                  </a:moveTo>
                  <a:cubicBezTo>
                    <a:pt x="8" y="432"/>
                    <a:pt x="16" y="348"/>
                    <a:pt x="24" y="264"/>
                  </a:cubicBezTo>
                  <a:cubicBezTo>
                    <a:pt x="28" y="226"/>
                    <a:pt x="84" y="168"/>
                    <a:pt x="84" y="168"/>
                  </a:cubicBezTo>
                  <a:cubicBezTo>
                    <a:pt x="103" y="94"/>
                    <a:pt x="101" y="144"/>
                    <a:pt x="72" y="72"/>
                  </a:cubicBezTo>
                  <a:cubicBezTo>
                    <a:pt x="63" y="49"/>
                    <a:pt x="48" y="0"/>
                    <a:pt x="4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850200" y="1963080"/>
              <a:ext cx="484560" cy="309600"/>
            </a:xfrm>
            <a:custGeom>
              <a:avLst/>
              <a:gdLst/>
              <a:ahLst/>
              <a:rect l="l" t="t" r="r" b="b"/>
              <a:pathLst>
                <a:path w="396" h="264">
                  <a:moveTo>
                    <a:pt x="0" y="264"/>
                  </a:moveTo>
                  <a:cubicBezTo>
                    <a:pt x="85" y="207"/>
                    <a:pt x="202" y="196"/>
                    <a:pt x="300" y="180"/>
                  </a:cubicBezTo>
                  <a:cubicBezTo>
                    <a:pt x="312" y="164"/>
                    <a:pt x="326" y="149"/>
                    <a:pt x="336" y="132"/>
                  </a:cubicBezTo>
                  <a:cubicBezTo>
                    <a:pt x="364" y="84"/>
                    <a:pt x="351" y="45"/>
                    <a:pt x="39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52360" y="3245040"/>
              <a:ext cx="163440" cy="493920"/>
            </a:xfrm>
            <a:custGeom>
              <a:avLst/>
              <a:gdLst/>
              <a:ahLst/>
              <a:rect l="l" t="t" r="r" b="b"/>
              <a:pathLst>
                <a:path w="134" h="421">
                  <a:moveTo>
                    <a:pt x="86" y="0"/>
                  </a:moveTo>
                  <a:cubicBezTo>
                    <a:pt x="98" y="125"/>
                    <a:pt x="109" y="162"/>
                    <a:pt x="86" y="300"/>
                  </a:cubicBezTo>
                  <a:cubicBezTo>
                    <a:pt x="86" y="301"/>
                    <a:pt x="0" y="421"/>
                    <a:pt x="38" y="408"/>
                  </a:cubicBezTo>
                  <a:cubicBezTo>
                    <a:pt x="93" y="390"/>
                    <a:pt x="61" y="396"/>
                    <a:pt x="134" y="3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499840" y="2451600"/>
              <a:ext cx="263880" cy="131040"/>
            </a:xfrm>
            <a:custGeom>
              <a:avLst/>
              <a:gdLst/>
              <a:ahLst/>
              <a:rect l="l" t="t" r="r" b="b"/>
              <a:pathLst>
                <a:path w="216" h="112">
                  <a:moveTo>
                    <a:pt x="0" y="112"/>
                  </a:moveTo>
                  <a:cubicBezTo>
                    <a:pt x="18" y="60"/>
                    <a:pt x="36" y="8"/>
                    <a:pt x="72" y="4"/>
                  </a:cubicBezTo>
                  <a:cubicBezTo>
                    <a:pt x="108" y="0"/>
                    <a:pt x="162" y="44"/>
                    <a:pt x="216" y="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3219120" y="2439720"/>
              <a:ext cx="308160" cy="115200"/>
            </a:xfrm>
            <a:custGeom>
              <a:avLst/>
              <a:gdLst/>
              <a:ahLst/>
              <a:rect l="l" t="t" r="r" b="b"/>
              <a:pathLst>
                <a:path w="252" h="98">
                  <a:moveTo>
                    <a:pt x="0" y="98"/>
                  </a:moveTo>
                  <a:cubicBezTo>
                    <a:pt x="15" y="51"/>
                    <a:pt x="30" y="4"/>
                    <a:pt x="72" y="2"/>
                  </a:cubicBezTo>
                  <a:cubicBezTo>
                    <a:pt x="114" y="0"/>
                    <a:pt x="183" y="43"/>
                    <a:pt x="252" y="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53920" y="4039920"/>
              <a:ext cx="739440" cy="59760"/>
            </a:xfrm>
            <a:custGeom>
              <a:avLst/>
              <a:gdLst/>
              <a:ahLst/>
              <a:rect l="l" t="t" r="r" b="b"/>
              <a:pathLst>
                <a:path w="605" h="51">
                  <a:moveTo>
                    <a:pt x="0" y="0"/>
                  </a:moveTo>
                  <a:cubicBezTo>
                    <a:pt x="198" y="51"/>
                    <a:pt x="396" y="10"/>
                    <a:pt x="605" y="10"/>
                  </a:cubicBezTo>
                </a:path>
              </a:pathLst>
            </a:custGeom>
            <a:noFill/>
            <a:ln w="2844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nvGrpSpPr>
          <p:cNvPr id="110" name=""/>
          <p:cNvGrpSpPr/>
          <p:nvPr/>
        </p:nvGrpSpPr>
        <p:grpSpPr>
          <a:xfrm>
            <a:off x="7740720" y="1700280"/>
            <a:ext cx="1041480" cy="4536720"/>
            <a:chOff x="7740720" y="1700280"/>
            <a:chExt cx="1041480" cy="4536720"/>
          </a:xfrm>
        </p:grpSpPr>
        <p:grpSp>
          <p:nvGrpSpPr>
            <p:cNvPr id="111" name=""/>
            <p:cNvGrpSpPr/>
            <p:nvPr/>
          </p:nvGrpSpPr>
          <p:grpSpPr>
            <a:xfrm>
              <a:off x="7740720" y="1700280"/>
              <a:ext cx="1009440" cy="4536720"/>
              <a:chOff x="7740720" y="1700280"/>
              <a:chExt cx="1009440" cy="4536720"/>
            </a:xfrm>
          </p:grpSpPr>
          <p:sp>
            <p:nvSpPr>
              <p:cNvPr id="112" name=""/>
              <p:cNvSpPr/>
              <p:nvPr/>
            </p:nvSpPr>
            <p:spPr>
              <a:xfrm>
                <a:off x="7740720" y="1700280"/>
                <a:ext cx="1009440" cy="898560"/>
              </a:xfrm>
              <a:prstGeom prst="rect">
                <a:avLst/>
              </a:prstGeom>
              <a:solidFill>
                <a:srgbClr val="00ffff"/>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7740720" y="2610000"/>
                <a:ext cx="1009440" cy="898560"/>
              </a:xfrm>
              <a:prstGeom prst="rect">
                <a:avLst/>
              </a:prstGeom>
              <a:solidFill>
                <a:srgbClr val="00ff66"/>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7740720" y="3520080"/>
                <a:ext cx="1009440" cy="896760"/>
              </a:xfrm>
              <a:prstGeom prst="rect">
                <a:avLst/>
              </a:prstGeom>
              <a:solidFill>
                <a:srgbClr val="ffff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740720" y="4428720"/>
                <a:ext cx="1009440" cy="898200"/>
              </a:xfrm>
              <a:prstGeom prst="rect">
                <a:avLst/>
              </a:prstGeom>
              <a:solidFill>
                <a:srgbClr val="ff99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740720" y="5338800"/>
                <a:ext cx="1009440" cy="898200"/>
              </a:xfrm>
              <a:prstGeom prst="rect">
                <a:avLst/>
              </a:prstGeom>
              <a:solidFill>
                <a:srgbClr val="ff0033"/>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
            <p:cNvGrpSpPr/>
            <p:nvPr/>
          </p:nvGrpSpPr>
          <p:grpSpPr>
            <a:xfrm>
              <a:off x="8006400" y="5749920"/>
              <a:ext cx="517320" cy="181800"/>
              <a:chOff x="8006400" y="5749920"/>
              <a:chExt cx="517320" cy="181800"/>
            </a:xfrm>
          </p:grpSpPr>
          <p:sp>
            <p:nvSpPr>
              <p:cNvPr id="118" name=""/>
              <p:cNvSpPr/>
              <p:nvPr/>
            </p:nvSpPr>
            <p:spPr>
              <a:xfrm>
                <a:off x="8089560" y="5828040"/>
                <a:ext cx="351000" cy="19440"/>
              </a:xfrm>
              <a:prstGeom prst="line">
                <a:avLst/>
              </a:prstGeom>
              <a:ln w="25560">
                <a:solidFill>
                  <a:srgbClr val="dce8f4"/>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9" name=""/>
              <p:cNvSpPr/>
              <p:nvPr/>
            </p:nvSpPr>
            <p:spPr>
              <a:xfrm rot="240000">
                <a:off x="8440200" y="5752080"/>
                <a:ext cx="77400" cy="176760"/>
              </a:xfrm>
              <a:custGeom>
                <a:avLst/>
                <a:gdLst/>
                <a:ahLst/>
                <a:rect l="l" t="t" r="r" b="b"/>
                <a:pathLst>
                  <a:path stroke="0" w="21600" h="21600">
                    <a:moveTo>
                      <a:pt x="8949" y="21440"/>
                    </a:moveTo>
                    <a:arcTo wR="10800" hR="10800" stAng="5992196" swAng="9317479"/>
                    <a:lnTo>
                      <a:pt x="10800" y="10800"/>
                    </a:lnTo>
                    <a:close/>
                  </a:path>
                  <a:path fill="none" w="21600" h="21600">
                    <a:moveTo>
                      <a:pt x="8949" y="21440"/>
                    </a:moveTo>
                    <a:arcTo wR="10800" hR="10800" stAng="5992196" swAng="9317479"/>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rot="240000">
                <a:off x="8305920" y="5768280"/>
                <a:ext cx="110520" cy="142920"/>
              </a:xfrm>
              <a:custGeom>
                <a:avLst/>
                <a:gdLst/>
                <a:ahLst/>
                <a:rect l="l" t="t" r="r" b="b"/>
                <a:pathLst>
                  <a:path stroke="0" w="21600" h="21600">
                    <a:moveTo>
                      <a:pt x="5145" y="20001"/>
                    </a:moveTo>
                    <a:arcTo wR="10800" hR="10800" stAng="7294636" swAng="6895237"/>
                    <a:lnTo>
                      <a:pt x="10800" y="10800"/>
                    </a:lnTo>
                    <a:close/>
                  </a:path>
                  <a:path fill="none" w="21600" h="21600">
                    <a:moveTo>
                      <a:pt x="5145" y="20001"/>
                    </a:moveTo>
                    <a:arcTo wR="10800" hR="10800" stAng="7294636" swAng="6895237"/>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240000">
                <a:off x="8209080" y="5766120"/>
                <a:ext cx="112680" cy="145080"/>
              </a:xfrm>
              <a:custGeom>
                <a:avLst/>
                <a:gdLst/>
                <a:ahLst/>
                <a:rect l="l" t="t" r="r" b="b"/>
                <a:pathLst>
                  <a:path stroke="0" w="21600" h="21600">
                    <a:moveTo>
                      <a:pt x="5239" y="20058"/>
                    </a:moveTo>
                    <a:arcTo wR="10800" hR="10800" stAng="7259494" swAng="6966662"/>
                    <a:lnTo>
                      <a:pt x="10800" y="10800"/>
                    </a:lnTo>
                    <a:close/>
                  </a:path>
                  <a:path fill="none" w="21600" h="21600">
                    <a:moveTo>
                      <a:pt x="5239" y="20058"/>
                    </a:moveTo>
                    <a:arcTo wR="10800" hR="10800" stAng="7259494" swAng="6966662"/>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rot="240000">
                <a:off x="8262720" y="5767200"/>
                <a:ext cx="110520" cy="144000"/>
              </a:xfrm>
              <a:custGeom>
                <a:avLst/>
                <a:gdLst/>
                <a:ahLst/>
                <a:rect l="l" t="t" r="r" b="b"/>
                <a:pathLst>
                  <a:path stroke="0" w="21600" h="21600">
                    <a:moveTo>
                      <a:pt x="5157" y="20009"/>
                    </a:moveTo>
                    <a:arcTo wR="10800" hR="10800" stAng="7289984" swAng="6904688"/>
                    <a:lnTo>
                      <a:pt x="10800" y="10800"/>
                    </a:lnTo>
                    <a:close/>
                  </a:path>
                  <a:path fill="none" w="21600" h="21600">
                    <a:moveTo>
                      <a:pt x="5157" y="20009"/>
                    </a:moveTo>
                    <a:arcTo wR="10800" hR="10800" stAng="7289984" swAng="690468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240000">
                <a:off x="8171280" y="5766120"/>
                <a:ext cx="110520" cy="145800"/>
              </a:xfrm>
              <a:custGeom>
                <a:avLst/>
                <a:gdLst/>
                <a:ahLst/>
                <a:rect l="l" t="t" r="r" b="b"/>
                <a:pathLst>
                  <a:path stroke="0" w="21600" h="21600">
                    <a:moveTo>
                      <a:pt x="5121" y="19986"/>
                    </a:moveTo>
                    <a:arcTo wR="10800" hR="10800" stAng="7303626" swAng="6909543"/>
                    <a:lnTo>
                      <a:pt x="10800" y="10800"/>
                    </a:lnTo>
                    <a:close/>
                  </a:path>
                  <a:path fill="none" w="21600" h="21600">
                    <a:moveTo>
                      <a:pt x="5121" y="19986"/>
                    </a:moveTo>
                    <a:arcTo wR="10800" hR="10800" stAng="7303626" swAng="6909543"/>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rot="240000">
                <a:off x="8348040" y="5776560"/>
                <a:ext cx="110520" cy="144000"/>
              </a:xfrm>
              <a:custGeom>
                <a:avLst/>
                <a:gdLst/>
                <a:ahLst/>
                <a:rect l="l" t="t" r="r" b="b"/>
                <a:pathLst>
                  <a:path stroke="0" w="21600" h="21600">
                    <a:moveTo>
                      <a:pt x="5107" y="19978"/>
                    </a:moveTo>
                    <a:arcTo wR="10800" hR="10800" stAng="7308543" swAng="6900278"/>
                    <a:lnTo>
                      <a:pt x="10800" y="10800"/>
                    </a:lnTo>
                    <a:close/>
                  </a:path>
                  <a:path fill="none" w="21600" h="21600">
                    <a:moveTo>
                      <a:pt x="5107" y="19978"/>
                    </a:moveTo>
                    <a:arcTo wR="10800" hR="10800" stAng="7308543" swAng="690027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240000">
                <a:off x="8132760" y="5757480"/>
                <a:ext cx="110520" cy="145080"/>
              </a:xfrm>
              <a:custGeom>
                <a:avLst/>
                <a:gdLst/>
                <a:ahLst/>
                <a:rect l="l" t="t" r="r" b="b"/>
                <a:pathLst>
                  <a:path stroke="0" w="21600" h="21600">
                    <a:moveTo>
                      <a:pt x="5358" y="20129"/>
                    </a:moveTo>
                    <a:arcTo wR="10800" hR="10800" stAng="7215386" swAng="7051958"/>
                    <a:lnTo>
                      <a:pt x="10800" y="10800"/>
                    </a:lnTo>
                    <a:close/>
                  </a:path>
                  <a:path fill="none" w="21600" h="21600">
                    <a:moveTo>
                      <a:pt x="5358" y="20129"/>
                    </a:moveTo>
                    <a:arcTo wR="10800" hR="10800" stAng="7215386" swAng="705195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006400" y="5760360"/>
                <a:ext cx="100800" cy="120960"/>
              </a:xfrm>
              <a:custGeom>
                <a:avLst/>
                <a:gdLst/>
                <a:ahLst/>
                <a:rect l="l" t="t" r="r" b="b"/>
                <a:pathLst>
                  <a:path w="91" h="93">
                    <a:moveTo>
                      <a:pt x="67" y="8"/>
                    </a:moveTo>
                    <a:lnTo>
                      <a:pt x="62" y="11"/>
                    </a:lnTo>
                    <a:lnTo>
                      <a:pt x="58" y="14"/>
                    </a:lnTo>
                    <a:lnTo>
                      <a:pt x="52" y="13"/>
                    </a:lnTo>
                    <a:lnTo>
                      <a:pt x="50" y="17"/>
                    </a:lnTo>
                    <a:lnTo>
                      <a:pt x="46" y="17"/>
                    </a:lnTo>
                    <a:lnTo>
                      <a:pt x="42" y="20"/>
                    </a:lnTo>
                    <a:lnTo>
                      <a:pt x="38" y="22"/>
                    </a:lnTo>
                    <a:lnTo>
                      <a:pt x="34" y="23"/>
                    </a:lnTo>
                    <a:lnTo>
                      <a:pt x="30" y="25"/>
                    </a:lnTo>
                    <a:lnTo>
                      <a:pt x="28" y="30"/>
                    </a:lnTo>
                    <a:lnTo>
                      <a:pt x="25" y="33"/>
                    </a:lnTo>
                    <a:lnTo>
                      <a:pt x="26" y="38"/>
                    </a:lnTo>
                    <a:lnTo>
                      <a:pt x="21" y="38"/>
                    </a:lnTo>
                    <a:lnTo>
                      <a:pt x="17" y="39"/>
                    </a:lnTo>
                    <a:lnTo>
                      <a:pt x="11" y="39"/>
                    </a:lnTo>
                    <a:lnTo>
                      <a:pt x="7" y="46"/>
                    </a:lnTo>
                    <a:lnTo>
                      <a:pt x="4" y="53"/>
                    </a:lnTo>
                    <a:lnTo>
                      <a:pt x="3" y="55"/>
                    </a:lnTo>
                    <a:lnTo>
                      <a:pt x="2" y="58"/>
                    </a:lnTo>
                    <a:lnTo>
                      <a:pt x="2" y="61"/>
                    </a:lnTo>
                    <a:lnTo>
                      <a:pt x="0" y="64"/>
                    </a:lnTo>
                    <a:lnTo>
                      <a:pt x="6" y="68"/>
                    </a:lnTo>
                    <a:lnTo>
                      <a:pt x="10" y="68"/>
                    </a:lnTo>
                    <a:lnTo>
                      <a:pt x="16" y="70"/>
                    </a:lnTo>
                    <a:lnTo>
                      <a:pt x="21" y="73"/>
                    </a:lnTo>
                    <a:lnTo>
                      <a:pt x="27" y="76"/>
                    </a:lnTo>
                    <a:lnTo>
                      <a:pt x="32" y="79"/>
                    </a:lnTo>
                    <a:lnTo>
                      <a:pt x="40" y="85"/>
                    </a:lnTo>
                    <a:lnTo>
                      <a:pt x="49" y="87"/>
                    </a:lnTo>
                    <a:lnTo>
                      <a:pt x="52" y="87"/>
                    </a:lnTo>
                    <a:lnTo>
                      <a:pt x="57" y="88"/>
                    </a:lnTo>
                    <a:lnTo>
                      <a:pt x="74" y="90"/>
                    </a:lnTo>
                    <a:lnTo>
                      <a:pt x="89" y="92"/>
                    </a:lnTo>
                    <a:lnTo>
                      <a:pt x="90" y="88"/>
                    </a:lnTo>
                    <a:lnTo>
                      <a:pt x="89" y="85"/>
                    </a:lnTo>
                    <a:lnTo>
                      <a:pt x="88" y="81"/>
                    </a:lnTo>
                    <a:lnTo>
                      <a:pt x="85" y="75"/>
                    </a:lnTo>
                    <a:lnTo>
                      <a:pt x="84" y="73"/>
                    </a:lnTo>
                    <a:lnTo>
                      <a:pt x="84" y="70"/>
                    </a:lnTo>
                    <a:lnTo>
                      <a:pt x="82" y="63"/>
                    </a:lnTo>
                    <a:lnTo>
                      <a:pt x="80" y="61"/>
                    </a:lnTo>
                    <a:lnTo>
                      <a:pt x="80" y="57"/>
                    </a:lnTo>
                    <a:lnTo>
                      <a:pt x="80" y="51"/>
                    </a:lnTo>
                    <a:lnTo>
                      <a:pt x="80" y="43"/>
                    </a:lnTo>
                    <a:lnTo>
                      <a:pt x="79" y="33"/>
                    </a:lnTo>
                    <a:lnTo>
                      <a:pt x="84" y="31"/>
                    </a:lnTo>
                    <a:lnTo>
                      <a:pt x="87" y="28"/>
                    </a:lnTo>
                    <a:lnTo>
                      <a:pt x="87" y="25"/>
                    </a:lnTo>
                    <a:lnTo>
                      <a:pt x="87" y="22"/>
                    </a:lnTo>
                    <a:lnTo>
                      <a:pt x="87" y="18"/>
                    </a:lnTo>
                    <a:lnTo>
                      <a:pt x="87" y="15"/>
                    </a:lnTo>
                    <a:lnTo>
                      <a:pt x="89" y="13"/>
                    </a:lnTo>
                    <a:lnTo>
                      <a:pt x="89" y="9"/>
                    </a:lnTo>
                    <a:lnTo>
                      <a:pt x="90" y="6"/>
                    </a:lnTo>
                    <a:lnTo>
                      <a:pt x="90" y="0"/>
                    </a:lnTo>
                    <a:lnTo>
                      <a:pt x="87" y="0"/>
                    </a:lnTo>
                    <a:lnTo>
                      <a:pt x="82" y="1"/>
                    </a:lnTo>
                    <a:lnTo>
                      <a:pt x="79" y="1"/>
                    </a:lnTo>
                    <a:lnTo>
                      <a:pt x="76" y="4"/>
                    </a:lnTo>
                    <a:lnTo>
                      <a:pt x="73" y="7"/>
                    </a:lnTo>
                    <a:lnTo>
                      <a:pt x="71" y="10"/>
                    </a:lnTo>
                    <a:lnTo>
                      <a:pt x="67" y="8"/>
                    </a:lnTo>
                    <a:lnTo>
                      <a:pt x="67" y="8"/>
                    </a:lnTo>
                  </a:path>
                </a:pathLst>
              </a:custGeom>
              <a:solidFill>
                <a:srgbClr val="dce8f4"/>
              </a:solidFill>
              <a:ln cap="rnd" w="1260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8178480" y="3711600"/>
              <a:ext cx="187920" cy="406080"/>
              <a:chOff x="8178480" y="3711600"/>
              <a:chExt cx="187920" cy="406080"/>
            </a:xfrm>
          </p:grpSpPr>
          <p:sp>
            <p:nvSpPr>
              <p:cNvPr id="128" name=""/>
              <p:cNvSpPr/>
              <p:nvPr/>
            </p:nvSpPr>
            <p:spPr>
              <a:xfrm>
                <a:off x="8209440" y="3848040"/>
                <a:ext cx="111240" cy="269640"/>
              </a:xfrm>
              <a:prstGeom prst="ellipse">
                <a:avLst/>
              </a:prstGeom>
              <a:gradFill rotWithShape="0">
                <a:gsLst>
                  <a:gs pos="0">
                    <a:srgbClr val="fff200"/>
                  </a:gs>
                  <a:gs pos="50000">
                    <a:srgbClr val="4d0808"/>
                  </a:gs>
                  <a:gs pos="100000">
                    <a:srgbClr val="fff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228520" y="3889800"/>
                <a:ext cx="76680" cy="197640"/>
              </a:xfrm>
              <a:prstGeom prst="ellipse">
                <a:avLst/>
              </a:prstGeom>
              <a:gradFill rotWithShape="0">
                <a:gsLst>
                  <a:gs pos="0">
                    <a:srgbClr val="fff200"/>
                  </a:gs>
                  <a:gs pos="100000">
                    <a:srgbClr val="4d080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29656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1" name=""/>
              <p:cNvSpPr/>
              <p:nvPr/>
            </p:nvSpPr>
            <p:spPr>
              <a:xfrm>
                <a:off x="832860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2" name=""/>
              <p:cNvSpPr/>
              <p:nvPr/>
            </p:nvSpPr>
            <p:spPr>
              <a:xfrm>
                <a:off x="817848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3" name=""/>
              <p:cNvSpPr/>
              <p:nvPr/>
            </p:nvSpPr>
            <p:spPr>
              <a:xfrm>
                <a:off x="817956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4" name=""/>
              <p:cNvSpPr/>
              <p:nvPr/>
            </p:nvSpPr>
            <p:spPr>
              <a:xfrm flipH="1" flipV="1">
                <a:off x="8251560" y="3711600"/>
                <a:ext cx="14040" cy="14328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304120" y="4042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6" name=""/>
              <p:cNvSpPr/>
              <p:nvPr/>
            </p:nvSpPr>
            <p:spPr>
              <a:xfrm>
                <a:off x="8257320" y="4033080"/>
                <a:ext cx="20880" cy="30960"/>
              </a:xfrm>
              <a:prstGeom prst="ellipse">
                <a:avLst/>
              </a:prstGeom>
              <a:solidFill>
                <a:srgbClr val="7b9cb5"/>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7" name=""/>
              <p:cNvSpPr/>
              <p:nvPr/>
            </p:nvSpPr>
            <p:spPr>
              <a:xfrm flipH="1">
                <a:off x="8188200" y="4051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138" name=""/>
            <p:cNvGrpSpPr/>
            <p:nvPr/>
          </p:nvGrpSpPr>
          <p:grpSpPr>
            <a:xfrm>
              <a:off x="7856280" y="1827360"/>
              <a:ext cx="925920" cy="555120"/>
              <a:chOff x="7856280" y="1827360"/>
              <a:chExt cx="925920" cy="555120"/>
            </a:xfrm>
          </p:grpSpPr>
          <p:sp>
            <p:nvSpPr>
              <p:cNvPr id="139" name=""/>
              <p:cNvSpPr/>
              <p:nvPr/>
            </p:nvSpPr>
            <p:spPr>
              <a:xfrm>
                <a:off x="7923960" y="2029320"/>
                <a:ext cx="468000" cy="194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2460000">
                <a:off x="8472600" y="1842120"/>
                <a:ext cx="198720" cy="411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957080" y="2025720"/>
                <a:ext cx="56520" cy="752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flipH="1" flipV="1" rot="17280000">
                <a:off x="8065080" y="2160360"/>
                <a:ext cx="189000" cy="202320"/>
              </a:xfrm>
              <a:custGeom>
                <a:avLst/>
                <a:gdLst>
                  <a:gd name="textAreaLeft" fmla="*/ 41400 w 189000"/>
                  <a:gd name="textAreaRight" fmla="*/ 147600 w 189000"/>
                  <a:gd name="textAreaTop" fmla="*/ 44280 h 202320"/>
                  <a:gd name="textAreaBottom" fmla="*/ 158040 h 2023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360000">
                <a:off x="8137080" y="1942200"/>
                <a:ext cx="241920" cy="98640"/>
              </a:xfrm>
              <a:prstGeom prst="parallelogram">
                <a:avLst>
                  <a:gd name="adj" fmla="val 61302"/>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44" name=""/>
              <p:cNvSpPr/>
              <p:nvPr/>
            </p:nvSpPr>
            <p:spPr>
              <a:xfrm>
                <a:off x="7951680" y="2045160"/>
                <a:ext cx="2340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5" name=""/>
              <p:cNvSpPr/>
              <p:nvPr/>
            </p:nvSpPr>
            <p:spPr>
              <a:xfrm rot="10800000">
                <a:off x="7856280" y="2089440"/>
                <a:ext cx="165960" cy="7524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1260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46" name=""/>
            <p:cNvGrpSpPr/>
            <p:nvPr/>
          </p:nvGrpSpPr>
          <p:grpSpPr>
            <a:xfrm>
              <a:off x="7864560" y="2877480"/>
              <a:ext cx="877680" cy="433080"/>
              <a:chOff x="7864560" y="2877480"/>
              <a:chExt cx="877680" cy="433080"/>
            </a:xfrm>
          </p:grpSpPr>
          <p:sp>
            <p:nvSpPr>
              <p:cNvPr id="147" name=""/>
              <p:cNvSpPr/>
              <p:nvPr/>
            </p:nvSpPr>
            <p:spPr>
              <a:xfrm rot="1080000">
                <a:off x="7882920" y="2946600"/>
                <a:ext cx="467640" cy="1951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3540000">
                <a:off x="8414280" y="2944080"/>
                <a:ext cx="234360" cy="3510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1080000">
                <a:off x="7941600" y="2884320"/>
                <a:ext cx="56520" cy="7668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50" name=""/>
              <p:cNvSpPr/>
              <p:nvPr/>
            </p:nvSpPr>
            <p:spPr>
              <a:xfrm flipH="1" flipV="1" rot="18360000">
                <a:off x="8029080" y="3053160"/>
                <a:ext cx="148320" cy="231120"/>
              </a:xfrm>
              <a:custGeom>
                <a:avLst/>
                <a:gdLst>
                  <a:gd name="textAreaLeft" fmla="*/ 32400 w 148320"/>
                  <a:gd name="textAreaRight" fmla="*/ 115920 w 148320"/>
                  <a:gd name="textAreaTop" fmla="*/ 50760 h 231120"/>
                  <a:gd name="textAreaBottom" fmla="*/ 180360 h 231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1440000">
                <a:off x="8120880" y="2939760"/>
                <a:ext cx="259920" cy="66240"/>
              </a:xfrm>
              <a:prstGeom prst="parallelogram">
                <a:avLst>
                  <a:gd name="adj" fmla="val 9808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52" name=""/>
              <p:cNvSpPr/>
              <p:nvPr/>
            </p:nvSpPr>
            <p:spPr>
              <a:xfrm rot="1080000">
                <a:off x="7948080" y="2905920"/>
                <a:ext cx="24120" cy="2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3" name=""/>
              <p:cNvSpPr/>
              <p:nvPr/>
            </p:nvSpPr>
            <p:spPr>
              <a:xfrm>
                <a:off x="7891560" y="2979360"/>
                <a:ext cx="82080" cy="50760"/>
              </a:xfrm>
              <a:custGeom>
                <a:avLst/>
                <a:gdLst/>
                <a:ahLst/>
                <a:rect l="l" t="t" r="r" b="b"/>
                <a:pathLst>
                  <a:path w="74" h="39">
                    <a:moveTo>
                      <a:pt x="0" y="0"/>
                    </a:moveTo>
                    <a:lnTo>
                      <a:pt x="5" y="2"/>
                    </a:lnTo>
                    <a:lnTo>
                      <a:pt x="14" y="2"/>
                    </a:lnTo>
                    <a:lnTo>
                      <a:pt x="20" y="4"/>
                    </a:lnTo>
                    <a:lnTo>
                      <a:pt x="24" y="8"/>
                    </a:lnTo>
                    <a:lnTo>
                      <a:pt x="26" y="17"/>
                    </a:lnTo>
                    <a:lnTo>
                      <a:pt x="30" y="19"/>
                    </a:lnTo>
                    <a:lnTo>
                      <a:pt x="42" y="22"/>
                    </a:lnTo>
                    <a:lnTo>
                      <a:pt x="48" y="24"/>
                    </a:lnTo>
                    <a:lnTo>
                      <a:pt x="52" y="23"/>
                    </a:lnTo>
                    <a:lnTo>
                      <a:pt x="59" y="19"/>
                    </a:lnTo>
                    <a:lnTo>
                      <a:pt x="62" y="21"/>
                    </a:lnTo>
                    <a:lnTo>
                      <a:pt x="67" y="22"/>
                    </a:lnTo>
                    <a:lnTo>
                      <a:pt x="69" y="29"/>
                    </a:lnTo>
                    <a:lnTo>
                      <a:pt x="73" y="3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54" name=""/>
            <p:cNvGrpSpPr/>
            <p:nvPr/>
          </p:nvGrpSpPr>
          <p:grpSpPr>
            <a:xfrm>
              <a:off x="7898760" y="4685400"/>
              <a:ext cx="645480" cy="460440"/>
              <a:chOff x="7898760" y="4685400"/>
              <a:chExt cx="645480" cy="460440"/>
            </a:xfrm>
          </p:grpSpPr>
          <p:grpSp>
            <p:nvGrpSpPr>
              <p:cNvPr id="155" name=""/>
              <p:cNvGrpSpPr/>
              <p:nvPr/>
            </p:nvGrpSpPr>
            <p:grpSpPr>
              <a:xfrm>
                <a:off x="8035200" y="4686120"/>
                <a:ext cx="509040" cy="371160"/>
                <a:chOff x="8035200" y="4686120"/>
                <a:chExt cx="509040" cy="371160"/>
              </a:xfrm>
            </p:grpSpPr>
            <p:sp>
              <p:nvSpPr>
                <p:cNvPr id="156" name=""/>
                <p:cNvSpPr/>
                <p:nvPr/>
              </p:nvSpPr>
              <p:spPr>
                <a:xfrm flipH="1" rot="20273400">
                  <a:off x="8057880" y="4765320"/>
                  <a:ext cx="463320" cy="2124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rot="292800">
                  <a:off x="8315640" y="4906440"/>
                  <a:ext cx="105840" cy="122040"/>
                </a:xfrm>
                <a:custGeom>
                  <a:avLst/>
                  <a:gdLst>
                    <a:gd name="textAreaLeft" fmla="*/ 23040 w 105840"/>
                    <a:gd name="textAreaRight" fmla="*/ 82800 w 105840"/>
                    <a:gd name="textAreaTop" fmla="*/ 26640 h 122040"/>
                    <a:gd name="textAreaBottom" fmla="*/ 95400 h 122040"/>
                  </a:gdLst>
                  <a:ahLst/>
                  <a:rect l="textAreaLeft" t="textAreaTop" r="textAreaRight" b="textAreaBottom"/>
                  <a:pathLst>
                    <a:path w="21600" h="21600">
                      <a:moveTo>
                        <a:pt x="0" y="0"/>
                      </a:moveTo>
                      <a:lnTo>
                        <a:pt x="21600" y="0"/>
                      </a:lnTo>
                      <a:lnTo>
                        <a:pt x="16201" y="21600"/>
                      </a:lnTo>
                      <a:lnTo>
                        <a:pt x="5399" y="21600"/>
                      </a:lnTo>
                      <a:close/>
                    </a:path>
                  </a:pathLst>
                </a:custGeom>
                <a:solidFill>
                  <a:srgbClr val="00ff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8" name=""/>
                <p:cNvSpPr/>
                <p:nvPr/>
              </p:nvSpPr>
              <p:spPr>
                <a:xfrm flipH="1" rot="20273400">
                  <a:off x="8380440" y="4704840"/>
                  <a:ext cx="68760" cy="86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9" name=""/>
                <p:cNvSpPr/>
                <p:nvPr/>
              </p:nvSpPr>
              <p:spPr>
                <a:xfrm flipH="1" rot="20273400">
                  <a:off x="8428680" y="4748760"/>
                  <a:ext cx="280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0" name=""/>
                <p:cNvSpPr/>
                <p:nvPr/>
              </p:nvSpPr>
              <p:spPr>
                <a:xfrm flipH="1" rot="20273400">
                  <a:off x="8413920" y="4798440"/>
                  <a:ext cx="105840" cy="51840"/>
                </a:xfrm>
                <a:custGeom>
                  <a:avLst/>
                  <a:gdLst/>
                  <a:ahLst/>
                  <a:rect l="l" t="t" r="r" b="b"/>
                  <a:pathLst>
                    <a:path w="83" h="35">
                      <a:moveTo>
                        <a:pt x="0" y="0"/>
                      </a:moveTo>
                      <a:lnTo>
                        <a:pt x="8" y="0"/>
                      </a:lnTo>
                      <a:lnTo>
                        <a:pt x="14" y="0"/>
                      </a:lnTo>
                      <a:lnTo>
                        <a:pt x="20" y="0"/>
                      </a:lnTo>
                      <a:lnTo>
                        <a:pt x="26" y="2"/>
                      </a:lnTo>
                      <a:lnTo>
                        <a:pt x="32" y="4"/>
                      </a:lnTo>
                      <a:lnTo>
                        <a:pt x="38" y="8"/>
                      </a:lnTo>
                      <a:lnTo>
                        <a:pt x="44" y="10"/>
                      </a:lnTo>
                      <a:lnTo>
                        <a:pt x="48" y="16"/>
                      </a:lnTo>
                      <a:lnTo>
                        <a:pt x="54" y="18"/>
                      </a:lnTo>
                      <a:lnTo>
                        <a:pt x="58" y="24"/>
                      </a:lnTo>
                      <a:lnTo>
                        <a:pt x="64" y="28"/>
                      </a:lnTo>
                      <a:lnTo>
                        <a:pt x="70" y="30"/>
                      </a:lnTo>
                      <a:lnTo>
                        <a:pt x="76" y="34"/>
                      </a:lnTo>
                      <a:lnTo>
                        <a:pt x="82" y="30"/>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161" name=""/>
              <p:cNvSpPr/>
              <p:nvPr/>
            </p:nvSpPr>
            <p:spPr>
              <a:xfrm flipH="1" rot="20273400">
                <a:off x="8067960" y="4720320"/>
                <a:ext cx="208080" cy="112320"/>
              </a:xfrm>
              <a:custGeom>
                <a:avLst/>
                <a:gdLst/>
                <a:ahLst/>
                <a:rect l="l" t="t" r="r" b="b"/>
                <a:pathLst>
                  <a:path w="163" h="75">
                    <a:moveTo>
                      <a:pt x="0" y="63"/>
                    </a:moveTo>
                    <a:lnTo>
                      <a:pt x="10" y="58"/>
                    </a:lnTo>
                    <a:lnTo>
                      <a:pt x="18" y="52"/>
                    </a:lnTo>
                    <a:lnTo>
                      <a:pt x="25" y="52"/>
                    </a:lnTo>
                    <a:lnTo>
                      <a:pt x="33" y="52"/>
                    </a:lnTo>
                    <a:lnTo>
                      <a:pt x="41" y="52"/>
                    </a:lnTo>
                    <a:lnTo>
                      <a:pt x="48" y="52"/>
                    </a:lnTo>
                    <a:lnTo>
                      <a:pt x="56" y="52"/>
                    </a:lnTo>
                    <a:lnTo>
                      <a:pt x="64" y="52"/>
                    </a:lnTo>
                    <a:lnTo>
                      <a:pt x="72" y="52"/>
                    </a:lnTo>
                    <a:lnTo>
                      <a:pt x="79" y="58"/>
                    </a:lnTo>
                    <a:lnTo>
                      <a:pt x="87" y="63"/>
                    </a:lnTo>
                    <a:lnTo>
                      <a:pt x="95" y="68"/>
                    </a:lnTo>
                    <a:lnTo>
                      <a:pt x="102" y="68"/>
                    </a:lnTo>
                    <a:lnTo>
                      <a:pt x="110" y="74"/>
                    </a:lnTo>
                    <a:lnTo>
                      <a:pt x="118" y="74"/>
                    </a:lnTo>
                    <a:lnTo>
                      <a:pt x="120" y="58"/>
                    </a:lnTo>
                    <a:lnTo>
                      <a:pt x="126" y="42"/>
                    </a:lnTo>
                    <a:lnTo>
                      <a:pt x="136" y="37"/>
                    </a:lnTo>
                    <a:lnTo>
                      <a:pt x="146" y="31"/>
                    </a:lnTo>
                    <a:lnTo>
                      <a:pt x="154" y="31"/>
                    </a:lnTo>
                    <a:lnTo>
                      <a:pt x="162" y="31"/>
                    </a:lnTo>
                    <a:lnTo>
                      <a:pt x="154" y="26"/>
                    </a:lnTo>
                    <a:lnTo>
                      <a:pt x="146" y="26"/>
                    </a:lnTo>
                    <a:lnTo>
                      <a:pt x="146" y="10"/>
                    </a:lnTo>
                    <a:lnTo>
                      <a:pt x="138" y="15"/>
                    </a:lnTo>
                    <a:lnTo>
                      <a:pt x="133" y="31"/>
                    </a:lnTo>
                    <a:lnTo>
                      <a:pt x="126" y="15"/>
                    </a:lnTo>
                    <a:lnTo>
                      <a:pt x="120" y="0"/>
                    </a:lnTo>
                    <a:lnTo>
                      <a:pt x="113" y="15"/>
                    </a:lnTo>
                    <a:lnTo>
                      <a:pt x="108" y="31"/>
                    </a:lnTo>
                    <a:lnTo>
                      <a:pt x="100" y="42"/>
                    </a:lnTo>
                    <a:lnTo>
                      <a:pt x="95" y="26"/>
                    </a:lnTo>
                    <a:lnTo>
                      <a:pt x="87" y="31"/>
                    </a:lnTo>
                    <a:lnTo>
                      <a:pt x="79" y="37"/>
                    </a:lnTo>
                    <a:lnTo>
                      <a:pt x="72" y="26"/>
                    </a:lnTo>
                    <a:lnTo>
                      <a:pt x="64" y="15"/>
                    </a:lnTo>
                    <a:lnTo>
                      <a:pt x="56" y="10"/>
                    </a:lnTo>
                    <a:lnTo>
                      <a:pt x="54" y="26"/>
                    </a:lnTo>
                    <a:lnTo>
                      <a:pt x="46" y="37"/>
                    </a:lnTo>
                    <a:lnTo>
                      <a:pt x="38" y="37"/>
                    </a:lnTo>
                    <a:lnTo>
                      <a:pt x="30" y="21"/>
                    </a:lnTo>
                    <a:lnTo>
                      <a:pt x="23" y="21"/>
                    </a:lnTo>
                    <a:lnTo>
                      <a:pt x="15" y="31"/>
                    </a:lnTo>
                    <a:lnTo>
                      <a:pt x="7" y="42"/>
                    </a:lnTo>
                    <a:lnTo>
                      <a:pt x="0" y="63"/>
                    </a:lnTo>
                    <a:lnTo>
                      <a:pt x="0" y="63"/>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rot="20273400">
                <a:off x="7946280" y="4844160"/>
                <a:ext cx="144360" cy="284760"/>
              </a:xfrm>
              <a:custGeom>
                <a:avLst/>
                <a:gdLst/>
                <a:ahLst/>
                <a:rect l="l" t="t" r="r" b="b"/>
                <a:pathLst>
                  <a:path w="113" h="190">
                    <a:moveTo>
                      <a:pt x="16" y="60"/>
                    </a:moveTo>
                    <a:lnTo>
                      <a:pt x="25" y="50"/>
                    </a:lnTo>
                    <a:lnTo>
                      <a:pt x="29" y="45"/>
                    </a:lnTo>
                    <a:lnTo>
                      <a:pt x="34" y="41"/>
                    </a:lnTo>
                    <a:lnTo>
                      <a:pt x="40" y="37"/>
                    </a:lnTo>
                    <a:lnTo>
                      <a:pt x="45" y="33"/>
                    </a:lnTo>
                    <a:lnTo>
                      <a:pt x="49" y="27"/>
                    </a:lnTo>
                    <a:lnTo>
                      <a:pt x="57" y="24"/>
                    </a:lnTo>
                    <a:lnTo>
                      <a:pt x="62" y="20"/>
                    </a:lnTo>
                    <a:lnTo>
                      <a:pt x="71" y="15"/>
                    </a:lnTo>
                    <a:lnTo>
                      <a:pt x="80" y="11"/>
                    </a:lnTo>
                    <a:lnTo>
                      <a:pt x="88" y="3"/>
                    </a:lnTo>
                    <a:lnTo>
                      <a:pt x="95" y="0"/>
                    </a:lnTo>
                    <a:lnTo>
                      <a:pt x="100" y="6"/>
                    </a:lnTo>
                    <a:lnTo>
                      <a:pt x="106" y="10"/>
                    </a:lnTo>
                    <a:lnTo>
                      <a:pt x="105" y="17"/>
                    </a:lnTo>
                    <a:lnTo>
                      <a:pt x="101" y="22"/>
                    </a:lnTo>
                    <a:lnTo>
                      <a:pt x="105" y="30"/>
                    </a:lnTo>
                    <a:lnTo>
                      <a:pt x="106" y="38"/>
                    </a:lnTo>
                    <a:lnTo>
                      <a:pt x="100" y="42"/>
                    </a:lnTo>
                    <a:lnTo>
                      <a:pt x="103" y="52"/>
                    </a:lnTo>
                    <a:lnTo>
                      <a:pt x="107" y="57"/>
                    </a:lnTo>
                    <a:lnTo>
                      <a:pt x="111" y="65"/>
                    </a:lnTo>
                    <a:lnTo>
                      <a:pt x="112" y="73"/>
                    </a:lnTo>
                    <a:lnTo>
                      <a:pt x="112" y="81"/>
                    </a:lnTo>
                    <a:lnTo>
                      <a:pt x="107" y="85"/>
                    </a:lnTo>
                    <a:lnTo>
                      <a:pt x="98" y="90"/>
                    </a:lnTo>
                    <a:lnTo>
                      <a:pt x="90" y="93"/>
                    </a:lnTo>
                    <a:lnTo>
                      <a:pt x="83" y="96"/>
                    </a:lnTo>
                    <a:lnTo>
                      <a:pt x="79" y="101"/>
                    </a:lnTo>
                    <a:lnTo>
                      <a:pt x="73" y="105"/>
                    </a:lnTo>
                    <a:lnTo>
                      <a:pt x="68" y="109"/>
                    </a:lnTo>
                    <a:lnTo>
                      <a:pt x="62" y="113"/>
                    </a:lnTo>
                    <a:lnTo>
                      <a:pt x="58" y="121"/>
                    </a:lnTo>
                    <a:lnTo>
                      <a:pt x="54" y="126"/>
                    </a:lnTo>
                    <a:lnTo>
                      <a:pt x="50" y="132"/>
                    </a:lnTo>
                    <a:lnTo>
                      <a:pt x="47" y="137"/>
                    </a:lnTo>
                    <a:lnTo>
                      <a:pt x="43" y="143"/>
                    </a:lnTo>
                    <a:lnTo>
                      <a:pt x="38" y="147"/>
                    </a:lnTo>
                    <a:lnTo>
                      <a:pt x="34" y="152"/>
                    </a:lnTo>
                    <a:lnTo>
                      <a:pt x="31" y="158"/>
                    </a:lnTo>
                    <a:lnTo>
                      <a:pt x="27" y="163"/>
                    </a:lnTo>
                    <a:lnTo>
                      <a:pt x="24" y="169"/>
                    </a:lnTo>
                    <a:lnTo>
                      <a:pt x="22" y="175"/>
                    </a:lnTo>
                    <a:lnTo>
                      <a:pt x="21" y="182"/>
                    </a:lnTo>
                    <a:lnTo>
                      <a:pt x="19" y="189"/>
                    </a:lnTo>
                    <a:lnTo>
                      <a:pt x="14" y="183"/>
                    </a:lnTo>
                    <a:lnTo>
                      <a:pt x="10" y="176"/>
                    </a:lnTo>
                    <a:lnTo>
                      <a:pt x="8" y="166"/>
                    </a:lnTo>
                    <a:lnTo>
                      <a:pt x="4" y="159"/>
                    </a:lnTo>
                    <a:lnTo>
                      <a:pt x="4" y="150"/>
                    </a:lnTo>
                    <a:lnTo>
                      <a:pt x="0" y="143"/>
                    </a:lnTo>
                    <a:lnTo>
                      <a:pt x="1" y="136"/>
                    </a:lnTo>
                    <a:lnTo>
                      <a:pt x="1" y="128"/>
                    </a:lnTo>
                    <a:lnTo>
                      <a:pt x="0" y="120"/>
                    </a:lnTo>
                    <a:lnTo>
                      <a:pt x="4" y="114"/>
                    </a:lnTo>
                    <a:lnTo>
                      <a:pt x="7" y="109"/>
                    </a:lnTo>
                    <a:lnTo>
                      <a:pt x="9" y="102"/>
                    </a:lnTo>
                    <a:lnTo>
                      <a:pt x="10" y="95"/>
                    </a:lnTo>
                    <a:lnTo>
                      <a:pt x="10" y="87"/>
                    </a:lnTo>
                    <a:lnTo>
                      <a:pt x="5" y="81"/>
                    </a:lnTo>
                    <a:lnTo>
                      <a:pt x="1" y="74"/>
                    </a:lnTo>
                    <a:lnTo>
                      <a:pt x="1" y="66"/>
                    </a:lnTo>
                    <a:lnTo>
                      <a:pt x="16" y="60"/>
                    </a:lnTo>
                    <a:lnTo>
                      <a:pt x="16" y="60"/>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rot="20273400">
                <a:off x="8285040" y="48672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64" name=""/>
              <p:cNvSpPr/>
              <p:nvPr/>
            </p:nvSpPr>
            <p:spPr>
              <a:xfrm flipH="1" rot="20273400">
                <a:off x="8212320" y="48708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65" name=""/>
              <p:cNvSpPr/>
              <p:nvPr/>
            </p:nvSpPr>
            <p:spPr>
              <a:xfrm flipH="1" rot="20273400">
                <a:off x="8193240" y="493992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sp>
        <p:nvSpPr>
          <p:cNvPr id="166" name=""/>
          <p:cNvSpPr/>
          <p:nvPr/>
        </p:nvSpPr>
        <p:spPr>
          <a:xfrm>
            <a:off x="6300720" y="184464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10%</a:t>
            </a:r>
            <a:endParaRPr b="0" lang="en-US" sz="3600" spc="-1" strike="noStrike">
              <a:solidFill>
                <a:srgbClr val="000000"/>
              </a:solidFill>
              <a:latin typeface="Arial"/>
            </a:endParaRPr>
          </a:p>
        </p:txBody>
      </p:sp>
      <p:sp>
        <p:nvSpPr>
          <p:cNvPr id="167" name=""/>
          <p:cNvSpPr/>
          <p:nvPr/>
        </p:nvSpPr>
        <p:spPr>
          <a:xfrm>
            <a:off x="6300720" y="278136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30%</a:t>
            </a:r>
            <a:endParaRPr b="0" lang="en-US" sz="3600" spc="-1" strike="noStrike">
              <a:solidFill>
                <a:srgbClr val="000000"/>
              </a:solidFill>
              <a:latin typeface="Arial"/>
            </a:endParaRPr>
          </a:p>
        </p:txBody>
      </p:sp>
      <p:sp>
        <p:nvSpPr>
          <p:cNvPr id="168" name=""/>
          <p:cNvSpPr/>
          <p:nvPr/>
        </p:nvSpPr>
        <p:spPr>
          <a:xfrm>
            <a:off x="6372360" y="364500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40%</a:t>
            </a:r>
            <a:endParaRPr b="0" lang="en-US" sz="3600" spc="-1" strike="noStrike">
              <a:solidFill>
                <a:srgbClr val="000000"/>
              </a:solidFill>
              <a:latin typeface="Arial"/>
            </a:endParaRPr>
          </a:p>
        </p:txBody>
      </p:sp>
      <p:sp>
        <p:nvSpPr>
          <p:cNvPr id="169" name=""/>
          <p:cNvSpPr/>
          <p:nvPr/>
        </p:nvSpPr>
        <p:spPr>
          <a:xfrm>
            <a:off x="6372360" y="450864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15%</a:t>
            </a:r>
            <a:endParaRPr b="0" lang="en-US" sz="3600" spc="-1" strike="noStrike">
              <a:solidFill>
                <a:srgbClr val="000000"/>
              </a:solidFill>
              <a:latin typeface="Arial"/>
            </a:endParaRPr>
          </a:p>
        </p:txBody>
      </p:sp>
      <p:sp>
        <p:nvSpPr>
          <p:cNvPr id="170" name=""/>
          <p:cNvSpPr/>
          <p:nvPr/>
        </p:nvSpPr>
        <p:spPr>
          <a:xfrm>
            <a:off x="6300720" y="544500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5%</a:t>
            </a:r>
            <a:endParaRPr b="0" lang="en-US" sz="3600" spc="-1" strike="noStrike">
              <a:solidFill>
                <a:srgbClr val="000000"/>
              </a:solidFill>
              <a:latin typeface="Arial"/>
            </a:endParaRPr>
          </a:p>
        </p:txBody>
      </p:sp>
      <p:sp>
        <p:nvSpPr>
          <p:cNvPr id="171" name=""/>
          <p:cNvSpPr/>
          <p:nvPr/>
        </p:nvSpPr>
        <p:spPr>
          <a:xfrm>
            <a:off x="395280" y="4869000"/>
            <a:ext cx="590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We can make an accurate estimate of </a:t>
            </a:r>
            <a:r>
              <a:rPr b="1" lang="en-GB" sz="2400" spc="-1" strike="noStrike">
                <a:solidFill>
                  <a:srgbClr val="ff0000"/>
                </a:solidFill>
                <a:latin typeface="Tahoma"/>
              </a:rPr>
              <a:t>numbers</a:t>
            </a:r>
            <a:r>
              <a:rPr b="1" lang="en-GB" sz="2400" spc="-1" strike="noStrike">
                <a:solidFill>
                  <a:srgbClr val="000000"/>
                </a:solidFill>
                <a:latin typeface="Tahoma"/>
              </a:rPr>
              <a:t> of water bodies in each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083" name=""/>
          <p:cNvSpPr/>
          <p:nvPr/>
        </p:nvSpPr>
        <p:spPr>
          <a:xfrm>
            <a:off x="4572000" y="2457360"/>
            <a:ext cx="312912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084" name=""/>
          <p:cNvSpPr/>
          <p:nvPr/>
        </p:nvSpPr>
        <p:spPr>
          <a:xfrm>
            <a:off x="1442880" y="2457360"/>
            <a:ext cx="3129120" cy="42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085" name=""/>
          <p:cNvSpPr/>
          <p:nvPr/>
        </p:nvSpPr>
        <p:spPr>
          <a:xfrm>
            <a:off x="4572000" y="2030400"/>
            <a:ext cx="312912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086" name=""/>
          <p:cNvSpPr/>
          <p:nvPr/>
        </p:nvSpPr>
        <p:spPr>
          <a:xfrm>
            <a:off x="1442880" y="2030400"/>
            <a:ext cx="3129120" cy="42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087" name=""/>
          <p:cNvSpPr/>
          <p:nvPr/>
        </p:nvSpPr>
        <p:spPr>
          <a:xfrm>
            <a:off x="4572000" y="1603440"/>
            <a:ext cx="312912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Moderate</a:t>
            </a:r>
            <a:endParaRPr b="0" lang="en-US" sz="2200" spc="-1" strike="noStrike">
              <a:solidFill>
                <a:srgbClr val="000000"/>
              </a:solidFill>
              <a:latin typeface="Arial"/>
            </a:endParaRPr>
          </a:p>
        </p:txBody>
      </p:sp>
      <p:sp>
        <p:nvSpPr>
          <p:cNvPr id="1088" name=""/>
          <p:cNvSpPr/>
          <p:nvPr/>
        </p:nvSpPr>
        <p:spPr>
          <a:xfrm>
            <a:off x="1442880" y="1603440"/>
            <a:ext cx="3129120" cy="4269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1089" name=""/>
          <p:cNvSpPr/>
          <p:nvPr/>
        </p:nvSpPr>
        <p:spPr>
          <a:xfrm>
            <a:off x="4572000" y="1176480"/>
            <a:ext cx="3129120" cy="42696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Good</a:t>
            </a:r>
            <a:endParaRPr b="0" lang="en-US" sz="2200" spc="-1" strike="noStrike">
              <a:solidFill>
                <a:srgbClr val="000000"/>
              </a:solidFill>
              <a:latin typeface="Arial"/>
            </a:endParaRPr>
          </a:p>
        </p:txBody>
      </p:sp>
      <p:sp>
        <p:nvSpPr>
          <p:cNvPr id="1090" name=""/>
          <p:cNvSpPr/>
          <p:nvPr/>
        </p:nvSpPr>
        <p:spPr>
          <a:xfrm>
            <a:off x="1442880" y="1176480"/>
            <a:ext cx="3129120" cy="42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1091" name=""/>
          <p:cNvSpPr/>
          <p:nvPr/>
        </p:nvSpPr>
        <p:spPr>
          <a:xfrm>
            <a:off x="4572000" y="749160"/>
            <a:ext cx="3129120" cy="427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092" name=""/>
          <p:cNvSpPr/>
          <p:nvPr/>
        </p:nvSpPr>
        <p:spPr>
          <a:xfrm>
            <a:off x="1442880" y="749160"/>
            <a:ext cx="3129120" cy="427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093" name=""/>
          <p:cNvSpPr/>
          <p:nvPr/>
        </p:nvSpPr>
        <p:spPr>
          <a:xfrm>
            <a:off x="4572000" y="260280"/>
            <a:ext cx="3129120" cy="488880"/>
          </a:xfrm>
          <a:prstGeom prst="rect">
            <a:avLst/>
          </a:prstGeom>
          <a:solidFill>
            <a:srgbClr val="dce8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Biological results</a:t>
            </a:r>
            <a:endParaRPr b="0" lang="en-US" sz="2600" spc="-1" strike="noStrike">
              <a:solidFill>
                <a:srgbClr val="000000"/>
              </a:solidFill>
              <a:latin typeface="Arial"/>
            </a:endParaRPr>
          </a:p>
        </p:txBody>
      </p:sp>
      <p:sp>
        <p:nvSpPr>
          <p:cNvPr id="1094" name=""/>
          <p:cNvSpPr/>
          <p:nvPr/>
        </p:nvSpPr>
        <p:spPr>
          <a:xfrm>
            <a:off x="1442880" y="260280"/>
            <a:ext cx="3129120" cy="488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Nutrient results</a:t>
            </a:r>
            <a:endParaRPr b="0" lang="en-US" sz="2600" spc="-1" strike="noStrike">
              <a:solidFill>
                <a:srgbClr val="000000"/>
              </a:solidFill>
              <a:latin typeface="Arial"/>
            </a:endParaRPr>
          </a:p>
        </p:txBody>
      </p:sp>
      <p:sp>
        <p:nvSpPr>
          <p:cNvPr id="1095" name=""/>
          <p:cNvSpPr/>
          <p:nvPr/>
        </p:nvSpPr>
        <p:spPr>
          <a:xfrm>
            <a:off x="1442880" y="26028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1442880" y="28843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144288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70112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442880" y="74916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57200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442880" y="117648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442880" y="160344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442880" y="203040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442880" y="245736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5" name=""/>
          <p:cNvGrpSpPr/>
          <p:nvPr/>
        </p:nvGrpSpPr>
        <p:grpSpPr>
          <a:xfrm>
            <a:off x="1442880" y="3357720"/>
            <a:ext cx="6258240" cy="2800080"/>
            <a:chOff x="1442880" y="3357720"/>
            <a:chExt cx="6258240" cy="2800080"/>
          </a:xfrm>
        </p:grpSpPr>
        <p:sp>
          <p:nvSpPr>
            <p:cNvPr id="1106" name=""/>
            <p:cNvSpPr/>
            <p:nvPr/>
          </p:nvSpPr>
          <p:spPr>
            <a:xfrm>
              <a:off x="1442880" y="5732640"/>
              <a:ext cx="312912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107" name=""/>
            <p:cNvSpPr/>
            <p:nvPr/>
          </p:nvSpPr>
          <p:spPr>
            <a:xfrm>
              <a:off x="1442880" y="5307120"/>
              <a:ext cx="312912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108" name=""/>
            <p:cNvSpPr/>
            <p:nvPr/>
          </p:nvSpPr>
          <p:spPr>
            <a:xfrm>
              <a:off x="4572000" y="4881600"/>
              <a:ext cx="3129120" cy="1276200"/>
            </a:xfrm>
            <a:prstGeom prst="rect">
              <a:avLst/>
            </a:prstGeom>
            <a:solidFill>
              <a:srgbClr val="99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Low confidence moderate </a:t>
              </a:r>
              <a:endParaRPr b="0" lang="en-US" sz="2200" spc="-1" strike="noStrike">
                <a:solidFill>
                  <a:srgbClr val="000000"/>
                </a:solidFill>
                <a:latin typeface="Arial"/>
              </a:endParaRPr>
            </a:p>
          </p:txBody>
        </p:sp>
        <p:sp>
          <p:nvSpPr>
            <p:cNvPr id="1109" name=""/>
            <p:cNvSpPr/>
            <p:nvPr/>
          </p:nvSpPr>
          <p:spPr>
            <a:xfrm>
              <a:off x="1442880" y="4881600"/>
              <a:ext cx="3129120" cy="425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1110" name=""/>
            <p:cNvSpPr/>
            <p:nvPr/>
          </p:nvSpPr>
          <p:spPr>
            <a:xfrm>
              <a:off x="4572000" y="4363920"/>
              <a:ext cx="312912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1442880" y="4363920"/>
              <a:ext cx="312912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1112" name=""/>
            <p:cNvSpPr/>
            <p:nvPr/>
          </p:nvSpPr>
          <p:spPr>
            <a:xfrm>
              <a:off x="4572000" y="3846600"/>
              <a:ext cx="312912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42880" y="3846600"/>
              <a:ext cx="3129120" cy="51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114" name=""/>
            <p:cNvSpPr/>
            <p:nvPr/>
          </p:nvSpPr>
          <p:spPr>
            <a:xfrm>
              <a:off x="4572000" y="3357720"/>
              <a:ext cx="3129120" cy="488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onfidence of class</a:t>
              </a:r>
              <a:endParaRPr b="0" lang="en-US" sz="2600" spc="-1" strike="noStrike">
                <a:solidFill>
                  <a:srgbClr val="000000"/>
                </a:solidFill>
                <a:latin typeface="Arial"/>
              </a:endParaRPr>
            </a:p>
          </p:txBody>
        </p:sp>
        <p:sp>
          <p:nvSpPr>
            <p:cNvPr id="1115" name=""/>
            <p:cNvSpPr/>
            <p:nvPr/>
          </p:nvSpPr>
          <p:spPr>
            <a:xfrm>
              <a:off x="1442880" y="3357720"/>
              <a:ext cx="31291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Ecological class</a:t>
              </a:r>
              <a:endParaRPr b="0" lang="en-US" sz="2600" spc="-1" strike="noStrike">
                <a:solidFill>
                  <a:srgbClr val="000000"/>
                </a:solidFill>
                <a:latin typeface="Arial"/>
              </a:endParaRPr>
            </a:p>
          </p:txBody>
        </p:sp>
        <p:sp>
          <p:nvSpPr>
            <p:cNvPr id="1116" name=""/>
            <p:cNvSpPr/>
            <p:nvPr/>
          </p:nvSpPr>
          <p:spPr>
            <a:xfrm>
              <a:off x="1442880" y="33577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442880" y="615780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442880" y="335772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701120" y="335772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1442880" y="384660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572000" y="335772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442880" y="43639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1442880" y="488160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1442880" y="5307120"/>
              <a:ext cx="31291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1442880" y="5732640"/>
              <a:ext cx="31291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05"/>
                                        </p:tgtEl>
                                        <p:attrNameLst>
                                          <p:attrName>style.visibility</p:attrName>
                                        </p:attrNameLst>
                                      </p:cBhvr>
                                      <p:to>
                                        <p:strVal val="visible"/>
                                      </p:to>
                                    </p:set>
                                    <p:animEffect filter="dissolve" transition="in">
                                      <p:cBhvr additive="repl">
                                        <p:cTn id="7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126" name=""/>
          <p:cNvGrpSpPr/>
          <p:nvPr/>
        </p:nvGrpSpPr>
        <p:grpSpPr>
          <a:xfrm>
            <a:off x="1442880" y="260280"/>
            <a:ext cx="6258240" cy="2624040"/>
            <a:chOff x="1442880" y="260280"/>
            <a:chExt cx="6258240" cy="2624040"/>
          </a:xfrm>
        </p:grpSpPr>
        <p:sp>
          <p:nvSpPr>
            <p:cNvPr id="1127" name=""/>
            <p:cNvSpPr/>
            <p:nvPr/>
          </p:nvSpPr>
          <p:spPr>
            <a:xfrm>
              <a:off x="4572000" y="2457000"/>
              <a:ext cx="3129120" cy="42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128" name=""/>
            <p:cNvSpPr/>
            <p:nvPr/>
          </p:nvSpPr>
          <p:spPr>
            <a:xfrm>
              <a:off x="1442880" y="2457000"/>
              <a:ext cx="3129120" cy="426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129" name=""/>
            <p:cNvSpPr/>
            <p:nvPr/>
          </p:nvSpPr>
          <p:spPr>
            <a:xfrm>
              <a:off x="4572000" y="2030040"/>
              <a:ext cx="3129120" cy="42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130" name=""/>
            <p:cNvSpPr/>
            <p:nvPr/>
          </p:nvSpPr>
          <p:spPr>
            <a:xfrm>
              <a:off x="1442880" y="2030040"/>
              <a:ext cx="3129120" cy="42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131" name=""/>
            <p:cNvSpPr/>
            <p:nvPr/>
          </p:nvSpPr>
          <p:spPr>
            <a:xfrm>
              <a:off x="4572000" y="1603080"/>
              <a:ext cx="3129120" cy="426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1132" name=""/>
            <p:cNvSpPr/>
            <p:nvPr/>
          </p:nvSpPr>
          <p:spPr>
            <a:xfrm>
              <a:off x="1442880" y="1603080"/>
              <a:ext cx="3129120" cy="4266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1133" name=""/>
            <p:cNvSpPr/>
            <p:nvPr/>
          </p:nvSpPr>
          <p:spPr>
            <a:xfrm>
              <a:off x="4572000" y="1176120"/>
              <a:ext cx="3129120" cy="42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1134" name=""/>
            <p:cNvSpPr/>
            <p:nvPr/>
          </p:nvSpPr>
          <p:spPr>
            <a:xfrm>
              <a:off x="1442880" y="1176120"/>
              <a:ext cx="3129120" cy="42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1135" name=""/>
            <p:cNvSpPr/>
            <p:nvPr/>
          </p:nvSpPr>
          <p:spPr>
            <a:xfrm>
              <a:off x="4572000" y="749160"/>
              <a:ext cx="3129120" cy="42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136" name=""/>
            <p:cNvSpPr/>
            <p:nvPr/>
          </p:nvSpPr>
          <p:spPr>
            <a:xfrm>
              <a:off x="1442880" y="749160"/>
              <a:ext cx="3129120" cy="42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137" name=""/>
            <p:cNvSpPr/>
            <p:nvPr/>
          </p:nvSpPr>
          <p:spPr>
            <a:xfrm>
              <a:off x="4572000" y="260280"/>
              <a:ext cx="3129120" cy="488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Biological results</a:t>
              </a:r>
              <a:endParaRPr b="0" lang="en-US" sz="2600" spc="-1" strike="noStrike">
                <a:solidFill>
                  <a:srgbClr val="000000"/>
                </a:solidFill>
                <a:latin typeface="Arial"/>
              </a:endParaRPr>
            </a:p>
          </p:txBody>
        </p:sp>
        <p:sp>
          <p:nvSpPr>
            <p:cNvPr id="1138" name=""/>
            <p:cNvSpPr/>
            <p:nvPr/>
          </p:nvSpPr>
          <p:spPr>
            <a:xfrm>
              <a:off x="1442880" y="260280"/>
              <a:ext cx="3129120" cy="488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Nutrient results</a:t>
              </a:r>
              <a:endParaRPr b="0" lang="en-US" sz="2600" spc="-1" strike="noStrike">
                <a:solidFill>
                  <a:srgbClr val="000000"/>
                </a:solidFill>
                <a:latin typeface="Arial"/>
              </a:endParaRPr>
            </a:p>
          </p:txBody>
        </p:sp>
        <p:sp>
          <p:nvSpPr>
            <p:cNvPr id="1139" name=""/>
            <p:cNvSpPr/>
            <p:nvPr/>
          </p:nvSpPr>
          <p:spPr>
            <a:xfrm>
              <a:off x="1442880" y="26028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442880" y="28843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144288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770112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442880" y="74916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4572000" y="260280"/>
              <a:ext cx="0" cy="26240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442880" y="11761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442880" y="160308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442880" y="203004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442880" y="245700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1442880" y="3365640"/>
            <a:ext cx="6258240" cy="2800080"/>
            <a:chOff x="1442880" y="3365640"/>
            <a:chExt cx="6258240" cy="2800080"/>
          </a:xfrm>
        </p:grpSpPr>
        <p:sp>
          <p:nvSpPr>
            <p:cNvPr id="1150" name=""/>
            <p:cNvSpPr/>
            <p:nvPr/>
          </p:nvSpPr>
          <p:spPr>
            <a:xfrm>
              <a:off x="1442880" y="5740560"/>
              <a:ext cx="3129120" cy="42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1151" name=""/>
            <p:cNvSpPr/>
            <p:nvPr/>
          </p:nvSpPr>
          <p:spPr>
            <a:xfrm>
              <a:off x="1442880" y="5315040"/>
              <a:ext cx="3129120" cy="42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1152" name=""/>
            <p:cNvSpPr/>
            <p:nvPr/>
          </p:nvSpPr>
          <p:spPr>
            <a:xfrm>
              <a:off x="4572000" y="4889520"/>
              <a:ext cx="3129120" cy="1276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High confidence moderate </a:t>
              </a:r>
              <a:endParaRPr b="0" lang="en-US" sz="2200" spc="-1" strike="noStrike">
                <a:solidFill>
                  <a:srgbClr val="000000"/>
                </a:solidFill>
                <a:latin typeface="Arial"/>
              </a:endParaRPr>
            </a:p>
          </p:txBody>
        </p:sp>
        <p:sp>
          <p:nvSpPr>
            <p:cNvPr id="1153" name=""/>
            <p:cNvSpPr/>
            <p:nvPr/>
          </p:nvSpPr>
          <p:spPr>
            <a:xfrm>
              <a:off x="1442880" y="4889520"/>
              <a:ext cx="3129120" cy="425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1154" name=""/>
            <p:cNvSpPr/>
            <p:nvPr/>
          </p:nvSpPr>
          <p:spPr>
            <a:xfrm>
              <a:off x="4572000" y="4371840"/>
              <a:ext cx="312912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42880" y="4371840"/>
              <a:ext cx="3129120" cy="51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1156" name=""/>
            <p:cNvSpPr/>
            <p:nvPr/>
          </p:nvSpPr>
          <p:spPr>
            <a:xfrm>
              <a:off x="4572000" y="3854520"/>
              <a:ext cx="312912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442880" y="3854520"/>
              <a:ext cx="3129120" cy="51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1158" name=""/>
            <p:cNvSpPr/>
            <p:nvPr/>
          </p:nvSpPr>
          <p:spPr>
            <a:xfrm>
              <a:off x="4572000" y="3365640"/>
              <a:ext cx="3129120" cy="488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onfidence of class</a:t>
              </a:r>
              <a:endParaRPr b="0" lang="en-US" sz="2600" spc="-1" strike="noStrike">
                <a:solidFill>
                  <a:srgbClr val="000000"/>
                </a:solidFill>
                <a:latin typeface="Arial"/>
              </a:endParaRPr>
            </a:p>
          </p:txBody>
        </p:sp>
        <p:sp>
          <p:nvSpPr>
            <p:cNvPr id="1159" name=""/>
            <p:cNvSpPr/>
            <p:nvPr/>
          </p:nvSpPr>
          <p:spPr>
            <a:xfrm>
              <a:off x="1442880" y="3365640"/>
              <a:ext cx="3129120" cy="48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Ecological class</a:t>
              </a:r>
              <a:endParaRPr b="0" lang="en-US" sz="2600" spc="-1" strike="noStrike">
                <a:solidFill>
                  <a:srgbClr val="000000"/>
                </a:solidFill>
                <a:latin typeface="Arial"/>
              </a:endParaRPr>
            </a:p>
          </p:txBody>
        </p:sp>
        <p:sp>
          <p:nvSpPr>
            <p:cNvPr id="1160" name=""/>
            <p:cNvSpPr/>
            <p:nvPr/>
          </p:nvSpPr>
          <p:spPr>
            <a:xfrm>
              <a:off x="1442880" y="336564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442880" y="61657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442880" y="336564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701120" y="336564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442880" y="38545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572000" y="3365640"/>
              <a:ext cx="0" cy="280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442880" y="437184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442880" y="4889520"/>
              <a:ext cx="6258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1442880" y="5315040"/>
              <a:ext cx="31291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442880" y="5740560"/>
              <a:ext cx="31291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2556000" y="1989000"/>
            <a:ext cx="6373800" cy="4473720"/>
          </a:xfrm>
          <a:prstGeom prst="rect">
            <a:avLst/>
          </a:prstGeom>
          <a:ln w="12600">
            <a:solidFill>
              <a:srgbClr val="000000"/>
            </a:solidFill>
            <a:miter/>
          </a:ln>
        </p:spPr>
      </p:pic>
      <p:sp>
        <p:nvSpPr>
          <p:cNvPr id="1171"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42492"/>
                </a:solidFill>
                <a:latin typeface="Tahoma"/>
              </a:rPr>
              <a:t>Case study A:</a:t>
            </a:r>
            <a:br>
              <a:rPr sz="3200"/>
            </a:br>
            <a:r>
              <a:rPr b="0" lang="en-GB" sz="3200" spc="-1" strike="noStrike">
                <a:solidFill>
                  <a:srgbClr val="242492"/>
                </a:solidFill>
                <a:latin typeface="Tahoma"/>
              </a:rPr>
              <a:t>Belfast Lough, Northern Ireland)</a:t>
            </a:r>
            <a:endParaRPr b="0" lang="en-US" sz="3200" spc="-1" strike="noStrike">
              <a:solidFill>
                <a:srgbClr val="242492"/>
              </a:solidFill>
              <a:latin typeface="Tahoma"/>
            </a:endParaRPr>
          </a:p>
        </p:txBody>
      </p:sp>
      <p:sp>
        <p:nvSpPr>
          <p:cNvPr id="1172" name="PlaceHolder 2"/>
          <p:cNvSpPr>
            <a:spLocks noGrp="1"/>
          </p:cNvSpPr>
          <p:nvPr>
            <p:ph/>
          </p:nvPr>
        </p:nvSpPr>
        <p:spPr>
          <a:xfrm>
            <a:off x="457200" y="1981080"/>
            <a:ext cx="2098800" cy="4114800"/>
          </a:xfrm>
          <a:prstGeom prst="rect">
            <a:avLst/>
          </a:prstGeom>
          <a:noFill/>
          <a:ln w="0">
            <a:noFill/>
          </a:ln>
        </p:spPr>
        <p:txBody>
          <a:bodyPr lIns="90000" rIns="90000" tIns="46800" bIns="46800" anchor="t">
            <a:normAutofit/>
          </a:bodyPr>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utrients fail</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hl a fails in ’90s</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croalgae –nuisance blooms</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nthos - impacted</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nagement action &amp; designation as SA</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Reduction in chl a</a:t>
            </a:r>
            <a:endParaRPr b="0" lang="en-US" sz="1600" spc="-1" strike="noStrike">
              <a:solidFill>
                <a:srgbClr val="000000"/>
              </a:solidFill>
              <a:latin typeface="Tahoma"/>
            </a:endParaRPr>
          </a:p>
          <a:p>
            <a:pPr marL="343080" indent="-343080">
              <a:spcBef>
                <a:spcPts val="4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tep changes in benth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173" name="" descr=""/>
          <p:cNvPicPr/>
          <p:nvPr/>
        </p:nvPicPr>
        <p:blipFill>
          <a:blip r:embed="rId2"/>
          <a:stretch/>
        </p:blipFill>
        <p:spPr>
          <a:xfrm>
            <a:off x="3708360" y="2060640"/>
            <a:ext cx="5203800" cy="2967120"/>
          </a:xfrm>
          <a:prstGeom prst="rect">
            <a:avLst/>
          </a:prstGeom>
          <a:ln w="0">
            <a:noFill/>
          </a:ln>
        </p:spPr>
      </p:pic>
      <p:pic>
        <p:nvPicPr>
          <p:cNvPr id="1174" name="" descr=""/>
          <p:cNvPicPr/>
          <p:nvPr/>
        </p:nvPicPr>
        <p:blipFill>
          <a:blip r:embed="rId3"/>
          <a:stretch/>
        </p:blipFill>
        <p:spPr>
          <a:xfrm>
            <a:off x="3348000" y="2565360"/>
            <a:ext cx="5543640" cy="3130560"/>
          </a:xfrm>
          <a:prstGeom prst="rect">
            <a:avLst/>
          </a:prstGeom>
          <a:ln w="0">
            <a:noFill/>
          </a:ln>
        </p:spPr>
      </p:pic>
      <p:pic>
        <p:nvPicPr>
          <p:cNvPr id="1175" name="" descr=""/>
          <p:cNvPicPr/>
          <p:nvPr/>
        </p:nvPicPr>
        <p:blipFill>
          <a:blip r:embed="rId4"/>
          <a:stretch/>
        </p:blipFill>
        <p:spPr>
          <a:xfrm>
            <a:off x="2987640" y="3068640"/>
            <a:ext cx="5472000" cy="3232080"/>
          </a:xfrm>
          <a:prstGeom prst="rect">
            <a:avLst/>
          </a:prstGeom>
          <a:ln w="0">
            <a:noFill/>
          </a:ln>
        </p:spPr>
      </p:pic>
      <p:sp>
        <p:nvSpPr>
          <p:cNvPr id="1176" name=""/>
          <p:cNvSpPr/>
          <p:nvPr/>
        </p:nvSpPr>
        <p:spPr>
          <a:xfrm flipH="1">
            <a:off x="5796000" y="4076640"/>
            <a:ext cx="433440" cy="719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77" name=""/>
          <p:cNvGraphicFramePr/>
          <p:nvPr/>
        </p:nvGraphicFramePr>
        <p:xfrm>
          <a:off x="2627280" y="3500280"/>
          <a:ext cx="5149800" cy="2648160"/>
        </p:xfrm>
        <a:graphic>
          <a:graphicData uri="http://schemas.openxmlformats.org/presentationml/2006/ole">
            <p:oleObj progId="Excel.Sheet.12" r:id="rId5" spid="">
              <p:embed/>
              <p:pic>
                <p:nvPicPr>
                  <p:cNvPr id="1178" name="" descr=""/>
                  <p:cNvPicPr/>
                  <p:nvPr/>
                </p:nvPicPr>
                <p:blipFill>
                  <a:blip r:embed="rId6"/>
                  <a:stretch/>
                </p:blipFill>
                <p:spPr>
                  <a:xfrm>
                    <a:off x="2627280" y="3500280"/>
                    <a:ext cx="5149800" cy="2648160"/>
                  </a:xfrm>
                  <a:prstGeom prst="rect">
                    <a:avLst/>
                  </a:prstGeom>
                  <a:ln w="0">
                    <a:noFill/>
                  </a:ln>
                </p:spPr>
              </p:pic>
            </p:oleObj>
          </a:graphicData>
        </a:graphic>
      </p:graphicFrame>
      <p:pic>
        <p:nvPicPr>
          <p:cNvPr id="1179" name="" descr=""/>
          <p:cNvPicPr/>
          <p:nvPr/>
        </p:nvPicPr>
        <p:blipFill>
          <a:blip r:embed="rId7"/>
          <a:stretch/>
        </p:blipFill>
        <p:spPr>
          <a:xfrm>
            <a:off x="2556000" y="4076640"/>
            <a:ext cx="3528720" cy="2151000"/>
          </a:xfrm>
          <a:prstGeom prst="rect">
            <a:avLst/>
          </a:prstGeom>
          <a:ln w="15840">
            <a:solidFill>
              <a:srgbClr val="000000"/>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173"/>
                                        </p:tgtEl>
                                        <p:attrNameLst>
                                          <p:attrName>style.visibility</p:attrName>
                                        </p:attrNameLst>
                                      </p:cBhvr>
                                      <p:to>
                                        <p:strVal val="visible"/>
                                      </p:to>
                                    </p:set>
                                    <p:animEffect filter="dissolve" transition="in">
                                      <p:cBhvr additive="repl">
                                        <p:cTn id="77" dur="500"/>
                                        <p:tgtEl>
                                          <p:spTgt spid="1173"/>
                                        </p:tgtEl>
                                      </p:cBhvr>
                                    </p:animEffect>
                                  </p:childTnLst>
                                </p:cTn>
                              </p:par>
                              <p:par>
                                <p:cTn id="78" nodeType="withEffect" fill="hold" presetClass="entr" presetID="1">
                                  <p:stCondLst>
                                    <p:cond delay="0"/>
                                  </p:stCondLst>
                                  <p:childTnLst>
                                    <p:set>
                                      <p:cBhvr>
                                        <p:cTn id="79" dur="1" fill="hold">
                                          <p:stCondLst>
                                            <p:cond delay="0"/>
                                          </p:stCondLst>
                                        </p:cTn>
                                        <p:tgtEl>
                                          <p:spTgt spid="1172">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174"/>
                                        </p:tgtEl>
                                        <p:attrNameLst>
                                          <p:attrName>style.visibility</p:attrName>
                                        </p:attrNameLst>
                                      </p:cBhvr>
                                      <p:to>
                                        <p:strVal val="visible"/>
                                      </p:to>
                                    </p:set>
                                    <p:animEffect filter="dissolve" transition="in">
                                      <p:cBhvr additive="repl">
                                        <p:cTn id="84" dur="500"/>
                                        <p:tgtEl>
                                          <p:spTgt spid="1174"/>
                                        </p:tgtEl>
                                      </p:cBhvr>
                                    </p:animEffect>
                                  </p:childTnLst>
                                </p:cTn>
                              </p:par>
                              <p:par>
                                <p:cTn id="85" nodeType="withEffect" fill="hold" presetClass="entr" presetID="1">
                                  <p:stCondLst>
                                    <p:cond delay="0"/>
                                  </p:stCondLst>
                                  <p:childTnLst>
                                    <p:set>
                                      <p:cBhvr>
                                        <p:cTn id="86" dur="1" fill="hold">
                                          <p:stCondLst>
                                            <p:cond delay="0"/>
                                          </p:stCondLst>
                                        </p:cTn>
                                        <p:tgtEl>
                                          <p:spTgt spid="1172">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72">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175"/>
                                        </p:tgtEl>
                                        <p:attrNameLst>
                                          <p:attrName>style.visibility</p:attrName>
                                        </p:attrNameLst>
                                      </p:cBhvr>
                                      <p:to>
                                        <p:strVal val="visible"/>
                                      </p:to>
                                    </p:set>
                                    <p:animEffect filter="dissolve" transition="in">
                                      <p:cBhvr additive="repl">
                                        <p:cTn id="97" dur="500"/>
                                        <p:tgtEl>
                                          <p:spTgt spid="1175"/>
                                        </p:tgtEl>
                                      </p:cBhvr>
                                    </p:animEffect>
                                  </p:childTnLst>
                                </p:cTn>
                              </p:par>
                              <p:par>
                                <p:cTn id="98" nodeType="withEffect" fill="hold" presetClass="entr" presetID="1">
                                  <p:stCondLst>
                                    <p:cond delay="0"/>
                                  </p:stCondLst>
                                  <p:childTnLst>
                                    <p:set>
                                      <p:cBhvr>
                                        <p:cTn id="99" dur="1" fill="hold">
                                          <p:stCondLst>
                                            <p:cond delay="0"/>
                                          </p:stCondLst>
                                        </p:cTn>
                                        <p:tgtEl>
                                          <p:spTgt spid="1172">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176"/>
                                        </p:tgtEl>
                                        <p:attrNameLst>
                                          <p:attrName>style.visibility</p:attrName>
                                        </p:attrNameLst>
                                      </p:cBhvr>
                                      <p:to>
                                        <p:strVal val="visible"/>
                                      </p:to>
                                    </p:set>
                                    <p:animEffect filter="wipe(up)" transition="in">
                                      <p:cBhvr additive="repl">
                                        <p:cTn id="104" dur="500"/>
                                        <p:tgtEl>
                                          <p:spTgt spid="11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72">
                                            <p:txEl>
                                              <p:pRg st="5" end="5"/>
                                            </p:txEl>
                                          </p:spTgt>
                                        </p:tgtEl>
                                        <p:attrNameLst>
                                          <p:attrName>style.visibility</p:attrName>
                                        </p:attrNameLst>
                                      </p:cBhvr>
                                      <p:to>
                                        <p:strVal val="visible"/>
                                      </p:to>
                                    </p:set>
                                  </p:childTnLst>
                                </p:cTn>
                              </p:par>
                              <p:par>
                                <p:cTn id="109" nodeType="withEffect" fill="hold" presetClass="entr" presetID="9">
                                  <p:stCondLst>
                                    <p:cond delay="0"/>
                                  </p:stCondLst>
                                  <p:childTnLst>
                                    <p:set>
                                      <p:cBhvr>
                                        <p:cTn id="110" dur="1" fill="hold">
                                          <p:stCondLst>
                                            <p:cond delay="0"/>
                                          </p:stCondLst>
                                        </p:cTn>
                                        <p:tgtEl>
                                          <p:spTgt spid="1178"/>
                                        </p:tgtEl>
                                        <p:attrNameLst>
                                          <p:attrName>style.visibility</p:attrName>
                                        </p:attrNameLst>
                                      </p:cBhvr>
                                      <p:to>
                                        <p:strVal val="visible"/>
                                      </p:to>
                                    </p:set>
                                    <p:animEffect filter="dissolve" transition="in">
                                      <p:cBhvr additive="repl">
                                        <p:cTn id="111" dur="500"/>
                                        <p:tgtEl>
                                          <p:spTgt spid="117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172">
                                            <p:txEl>
                                              <p:pRg st="6" end="6"/>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1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180" name=""/>
          <p:cNvSpPr/>
          <p:nvPr/>
        </p:nvSpPr>
        <p:spPr>
          <a:xfrm>
            <a:off x="6364440" y="2347920"/>
            <a:ext cx="1160280" cy="576360"/>
          </a:xfrm>
          <a:prstGeom prst="rect">
            <a:avLst/>
          </a:prstGeom>
          <a:solidFill>
            <a:srgbClr val="ff9900"/>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
          <p:cNvSpPr/>
          <p:nvPr/>
        </p:nvSpPr>
        <p:spPr>
          <a:xfrm>
            <a:off x="6364440" y="2924280"/>
            <a:ext cx="1160280" cy="576000"/>
          </a:xfrm>
          <a:prstGeom prst="rect">
            <a:avLst/>
          </a:prstGeom>
          <a:solidFill>
            <a:srgbClr val="ff9900"/>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
          <p:cNvSpPr/>
          <p:nvPr/>
        </p:nvSpPr>
        <p:spPr>
          <a:xfrm>
            <a:off x="395280" y="3506760"/>
            <a:ext cx="24782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vertebrates</a:t>
            </a:r>
            <a:endParaRPr b="0" lang="en-US" sz="2800" spc="-1" strike="noStrike">
              <a:solidFill>
                <a:srgbClr val="000000"/>
              </a:solidFill>
              <a:latin typeface="Arial"/>
            </a:endParaRPr>
          </a:p>
        </p:txBody>
      </p:sp>
      <p:sp>
        <p:nvSpPr>
          <p:cNvPr id="1183" name=""/>
          <p:cNvSpPr/>
          <p:nvPr/>
        </p:nvSpPr>
        <p:spPr>
          <a:xfrm>
            <a:off x="395280" y="2928960"/>
            <a:ext cx="24782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croalgae</a:t>
            </a:r>
            <a:endParaRPr b="0" lang="en-US" sz="2800" spc="-1" strike="noStrike">
              <a:solidFill>
                <a:srgbClr val="000000"/>
              </a:solidFill>
              <a:latin typeface="Arial"/>
            </a:endParaRPr>
          </a:p>
        </p:txBody>
      </p:sp>
      <p:sp>
        <p:nvSpPr>
          <p:cNvPr id="1184" name=""/>
          <p:cNvSpPr/>
          <p:nvPr/>
        </p:nvSpPr>
        <p:spPr>
          <a:xfrm>
            <a:off x="7515360" y="2351160"/>
            <a:ext cx="11714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p:cNvSpPr/>
          <p:nvPr/>
        </p:nvSpPr>
        <p:spPr>
          <a:xfrm>
            <a:off x="5202360" y="1773360"/>
            <a:ext cx="1160280" cy="577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032360" y="2351160"/>
            <a:ext cx="116208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
          <p:cNvSpPr/>
          <p:nvPr/>
        </p:nvSpPr>
        <p:spPr>
          <a:xfrm>
            <a:off x="2873520" y="2351160"/>
            <a:ext cx="11588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395280" y="2351160"/>
            <a:ext cx="2478240" cy="5778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ytoplankton</a:t>
            </a:r>
            <a:endParaRPr b="0" lang="en-US" sz="2800" spc="-1" strike="noStrike">
              <a:solidFill>
                <a:srgbClr val="000000"/>
              </a:solidFill>
              <a:latin typeface="Arial"/>
            </a:endParaRPr>
          </a:p>
        </p:txBody>
      </p:sp>
      <p:sp>
        <p:nvSpPr>
          <p:cNvPr id="1189" name=""/>
          <p:cNvSpPr/>
          <p:nvPr/>
        </p:nvSpPr>
        <p:spPr>
          <a:xfrm>
            <a:off x="7515360" y="1774800"/>
            <a:ext cx="11714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6354720" y="1774800"/>
            <a:ext cx="11606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4032360" y="1774800"/>
            <a:ext cx="11620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2873520" y="1774800"/>
            <a:ext cx="11588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395280" y="1774800"/>
            <a:ext cx="24782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itrogen</a:t>
            </a:r>
            <a:endParaRPr b="0" lang="en-US" sz="2800" spc="-1" strike="noStrike">
              <a:solidFill>
                <a:srgbClr val="000000"/>
              </a:solidFill>
              <a:latin typeface="Arial"/>
            </a:endParaRPr>
          </a:p>
        </p:txBody>
      </p:sp>
      <p:sp>
        <p:nvSpPr>
          <p:cNvPr id="1194" name=""/>
          <p:cNvSpPr/>
          <p:nvPr/>
        </p:nvSpPr>
        <p:spPr>
          <a:xfrm>
            <a:off x="7515360" y="1197000"/>
            <a:ext cx="11714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d</a:t>
            </a:r>
            <a:endParaRPr b="0" lang="en-US" sz="2800" spc="-1" strike="noStrike">
              <a:solidFill>
                <a:srgbClr val="000000"/>
              </a:solidFill>
              <a:latin typeface="Arial"/>
            </a:endParaRPr>
          </a:p>
        </p:txBody>
      </p:sp>
      <p:sp>
        <p:nvSpPr>
          <p:cNvPr id="1195" name=""/>
          <p:cNvSpPr/>
          <p:nvPr/>
        </p:nvSpPr>
        <p:spPr>
          <a:xfrm>
            <a:off x="6354720" y="1197000"/>
            <a:ext cx="11606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or</a:t>
            </a:r>
            <a:endParaRPr b="0" lang="en-US" sz="2800" spc="-1" strike="noStrike">
              <a:solidFill>
                <a:srgbClr val="000000"/>
              </a:solidFill>
              <a:latin typeface="Arial"/>
            </a:endParaRPr>
          </a:p>
        </p:txBody>
      </p:sp>
      <p:sp>
        <p:nvSpPr>
          <p:cNvPr id="1196" name=""/>
          <p:cNvSpPr/>
          <p:nvPr/>
        </p:nvSpPr>
        <p:spPr>
          <a:xfrm>
            <a:off x="5194440" y="1197000"/>
            <a:ext cx="116028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d</a:t>
            </a:r>
            <a:endParaRPr b="0" lang="en-US" sz="2800" spc="-1" strike="noStrike">
              <a:solidFill>
                <a:srgbClr val="000000"/>
              </a:solidFill>
              <a:latin typeface="Arial"/>
            </a:endParaRPr>
          </a:p>
        </p:txBody>
      </p:sp>
      <p:sp>
        <p:nvSpPr>
          <p:cNvPr id="1197" name=""/>
          <p:cNvSpPr/>
          <p:nvPr/>
        </p:nvSpPr>
        <p:spPr>
          <a:xfrm>
            <a:off x="4032360" y="1197000"/>
            <a:ext cx="116208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od</a:t>
            </a:r>
            <a:endParaRPr b="0" lang="en-US" sz="2800" spc="-1" strike="noStrike">
              <a:solidFill>
                <a:srgbClr val="000000"/>
              </a:solidFill>
              <a:latin typeface="Arial"/>
            </a:endParaRPr>
          </a:p>
        </p:txBody>
      </p:sp>
      <p:sp>
        <p:nvSpPr>
          <p:cNvPr id="1198" name=""/>
          <p:cNvSpPr/>
          <p:nvPr/>
        </p:nvSpPr>
        <p:spPr>
          <a:xfrm>
            <a:off x="2873520" y="1197000"/>
            <a:ext cx="11588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a:t>
            </a:r>
            <a:endParaRPr b="0" lang="en-US" sz="2800" spc="-1" strike="noStrike">
              <a:solidFill>
                <a:srgbClr val="000000"/>
              </a:solidFill>
              <a:latin typeface="Arial"/>
            </a:endParaRPr>
          </a:p>
        </p:txBody>
      </p:sp>
      <p:sp>
        <p:nvSpPr>
          <p:cNvPr id="1199" name=""/>
          <p:cNvSpPr/>
          <p:nvPr/>
        </p:nvSpPr>
        <p:spPr>
          <a:xfrm>
            <a:off x="395280" y="1197000"/>
            <a:ext cx="2478240" cy="57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395280" y="1197000"/>
            <a:ext cx="8291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395280" y="1774800"/>
            <a:ext cx="82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395280" y="2351160"/>
            <a:ext cx="82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95280" y="2928960"/>
            <a:ext cx="82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395280" y="4083120"/>
            <a:ext cx="82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95280" y="4076640"/>
            <a:ext cx="8291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395280" y="1197000"/>
            <a:ext cx="0" cy="2879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2873520" y="1197000"/>
            <a:ext cx="42840" cy="28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032360" y="1197000"/>
            <a:ext cx="34920" cy="28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7524720" y="1197000"/>
            <a:ext cx="0" cy="28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flipH="1">
            <a:off x="8675280" y="1197000"/>
            <a:ext cx="11160" cy="2879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203800" y="3498840"/>
            <a:ext cx="1160640" cy="5778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6354720" y="1197000"/>
            <a:ext cx="17640" cy="28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5194440" y="1197000"/>
            <a:ext cx="25200" cy="28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95280" y="3506760"/>
            <a:ext cx="829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24000" y="4581360"/>
            <a:ext cx="8424720" cy="459720"/>
          </a:xfrm>
          <a:prstGeom prst="rect">
            <a:avLst/>
          </a:prstGeom>
          <a:solidFill>
            <a:srgbClr val="ffff00"/>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cological status = ‘poor’ with high confidence</a:t>
            </a:r>
            <a:endParaRPr b="0" lang="en-US" sz="2400" spc="-1" strike="noStrike">
              <a:solidFill>
                <a:srgbClr val="000000"/>
              </a:solidFill>
              <a:latin typeface="Arial"/>
            </a:endParaRPr>
          </a:p>
        </p:txBody>
      </p:sp>
      <p:grpSp>
        <p:nvGrpSpPr>
          <p:cNvPr id="1216" name=""/>
          <p:cNvGrpSpPr/>
          <p:nvPr/>
        </p:nvGrpSpPr>
        <p:grpSpPr>
          <a:xfrm>
            <a:off x="324000" y="5457960"/>
            <a:ext cx="8470800" cy="865080"/>
            <a:chOff x="324000" y="5457960"/>
            <a:chExt cx="8470800" cy="865080"/>
          </a:xfrm>
        </p:grpSpPr>
        <p:sp>
          <p:nvSpPr>
            <p:cNvPr id="1217" name=""/>
            <p:cNvSpPr/>
            <p:nvPr/>
          </p:nvSpPr>
          <p:spPr>
            <a:xfrm>
              <a:off x="370080" y="5457960"/>
              <a:ext cx="8424720" cy="86508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24000" y="5479920"/>
              <a:ext cx="847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ollow up: measures to reduce nutrient inputs to the water body</a:t>
              </a:r>
              <a:endParaRPr b="0" lang="en-US" sz="2400" spc="-1" strike="noStrike">
                <a:solidFill>
                  <a:srgbClr val="000000"/>
                </a:solidFill>
                <a:latin typeface="Arial"/>
              </a:endParaRPr>
            </a:p>
          </p:txBody>
        </p:sp>
      </p:grpSp>
      <p:sp>
        <p:nvSpPr>
          <p:cNvPr id="1219" name="PlaceHolder 1"/>
          <p:cNvSpPr>
            <a:spLocks noGrp="1"/>
          </p:cNvSpPr>
          <p:nvPr>
            <p:ph type="title"/>
          </p:nvPr>
        </p:nvSpPr>
        <p:spPr>
          <a:xfrm>
            <a:off x="457200" y="380880"/>
            <a:ext cx="82296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42492"/>
                </a:solidFill>
                <a:latin typeface="Tahoma"/>
              </a:rPr>
              <a:t>Case Study A: Belfast Lough</a:t>
            </a:r>
            <a:endParaRPr b="0" lang="en-US" sz="3200" spc="-1" strike="noStrike">
              <a:solidFill>
                <a:srgbClr val="242492"/>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215"/>
                                        </p:tgtEl>
                                        <p:attrNameLst>
                                          <p:attrName>style.visibility</p:attrName>
                                        </p:attrNameLst>
                                      </p:cBhvr>
                                      <p:to>
                                        <p:strVal val="visible"/>
                                      </p:to>
                                    </p:set>
                                    <p:animEffect filter="dissolve" transition="in">
                                      <p:cBhvr additive="repl">
                                        <p:cTn id="124" dur="500"/>
                                        <p:tgtEl>
                                          <p:spTgt spid="121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216"/>
                                        </p:tgtEl>
                                        <p:attrNameLst>
                                          <p:attrName>style.visibility</p:attrName>
                                        </p:attrNameLst>
                                      </p:cBhvr>
                                      <p:to>
                                        <p:strVal val="visible"/>
                                      </p:to>
                                    </p:set>
                                    <p:animEffect filter="dissolve" transition="in">
                                      <p:cBhvr additive="repl">
                                        <p:cTn id="129"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599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42492"/>
                </a:solidFill>
                <a:latin typeface="Tahoma"/>
              </a:rPr>
              <a:t>Case study B :(Lake in NW England)</a:t>
            </a:r>
            <a:br>
              <a:rPr sz="3200"/>
            </a:br>
            <a:r>
              <a:rPr b="0" lang="en-GB" sz="3200" spc="-1" strike="noStrike">
                <a:solidFill>
                  <a:srgbClr val="242492"/>
                </a:solidFill>
                <a:latin typeface="Tahoma"/>
              </a:rPr>
              <a:t> </a:t>
            </a:r>
            <a:r>
              <a:rPr b="0" lang="en-GB" sz="2400" spc="-1" strike="noStrike">
                <a:solidFill>
                  <a:srgbClr val="242492"/>
                </a:solidFill>
                <a:latin typeface="Tahoma"/>
              </a:rPr>
              <a:t>Confidence (%) of Class</a:t>
            </a:r>
            <a:r>
              <a:rPr b="0" lang="en-GB" sz="3200" spc="-1" strike="noStrike">
                <a:solidFill>
                  <a:srgbClr val="242492"/>
                </a:solidFill>
                <a:latin typeface="Tahoma"/>
              </a:rPr>
              <a:t> </a:t>
            </a:r>
            <a:endParaRPr b="0" lang="en-US" sz="3200" spc="-1" strike="noStrike">
              <a:solidFill>
                <a:srgbClr val="242492"/>
              </a:solidFill>
              <a:latin typeface="Tahoma"/>
            </a:endParaRPr>
          </a:p>
        </p:txBody>
      </p:sp>
      <p:graphicFrame>
        <p:nvGraphicFramePr>
          <p:cNvPr id="1221" name=""/>
          <p:cNvGraphicFramePr/>
          <p:nvPr/>
        </p:nvGraphicFramePr>
        <p:xfrm>
          <a:off x="395280" y="1197000"/>
          <a:ext cx="8291520" cy="3463920"/>
        </p:xfrm>
        <a:graphic>
          <a:graphicData uri="http://schemas.openxmlformats.org/drawingml/2006/table">
            <a:tbl>
              <a:tblPr/>
              <a:tblGrid>
                <a:gridCol w="2478240"/>
                <a:gridCol w="1158840"/>
                <a:gridCol w="1162080"/>
                <a:gridCol w="1160280"/>
                <a:gridCol w="1160640"/>
                <a:gridCol w="1171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o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osphor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ytoplankt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hytobenth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bf23e"/>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crophy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9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bf23e"/>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ver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bf23e"/>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2" name=""/>
          <p:cNvSpPr/>
          <p:nvPr/>
        </p:nvSpPr>
        <p:spPr>
          <a:xfrm>
            <a:off x="324000" y="4797360"/>
            <a:ext cx="8424720" cy="459720"/>
          </a:xfrm>
          <a:prstGeom prst="rect">
            <a:avLst/>
          </a:prstGeom>
          <a:solidFill>
            <a:srgbClr val="ffff00"/>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cological status = ‘moderate’ with medium confidence</a:t>
            </a:r>
            <a:endParaRPr b="0" lang="en-US" sz="2400" spc="-1" strike="noStrike">
              <a:solidFill>
                <a:srgbClr val="000000"/>
              </a:solidFill>
              <a:latin typeface="Arial"/>
            </a:endParaRPr>
          </a:p>
        </p:txBody>
      </p:sp>
      <p:grpSp>
        <p:nvGrpSpPr>
          <p:cNvPr id="1223" name=""/>
          <p:cNvGrpSpPr/>
          <p:nvPr/>
        </p:nvGrpSpPr>
        <p:grpSpPr>
          <a:xfrm>
            <a:off x="324000" y="5457960"/>
            <a:ext cx="8470800" cy="865080"/>
            <a:chOff x="324000" y="5457960"/>
            <a:chExt cx="8470800" cy="865080"/>
          </a:xfrm>
        </p:grpSpPr>
        <p:sp>
          <p:nvSpPr>
            <p:cNvPr id="1224" name=""/>
            <p:cNvSpPr/>
            <p:nvPr/>
          </p:nvSpPr>
          <p:spPr>
            <a:xfrm>
              <a:off x="370080" y="5457960"/>
              <a:ext cx="8424720" cy="86508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324000" y="5479920"/>
              <a:ext cx="847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ollow up: prioritise for further monitoring and analysis; control risk of deterior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22"/>
                                        </p:tgtEl>
                                        <p:attrNameLst>
                                          <p:attrName>style.visibility</p:attrName>
                                        </p:attrNameLst>
                                      </p:cBhvr>
                                      <p:to>
                                        <p:strVal val="visible"/>
                                      </p:to>
                                    </p:set>
                                    <p:animEffect filter="dissolve" transition="in">
                                      <p:cBhvr additive="repl">
                                        <p:cTn id="136" dur="500"/>
                                        <p:tgtEl>
                                          <p:spTgt spid="122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23"/>
                                        </p:tgtEl>
                                        <p:attrNameLst>
                                          <p:attrName>style.visibility</p:attrName>
                                        </p:attrNameLst>
                                      </p:cBhvr>
                                      <p:to>
                                        <p:strVal val="visible"/>
                                      </p:to>
                                    </p:set>
                                    <p:animEffect filter="dissolve" transition="in">
                                      <p:cBhvr additive="repl">
                                        <p:cTn id="141"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95280" y="259920"/>
            <a:ext cx="829152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42492"/>
                </a:solidFill>
                <a:latin typeface="Tahoma"/>
              </a:rPr>
              <a:t>Case study C : Lake in Wales </a:t>
            </a:r>
            <a:br>
              <a:rPr sz="3200"/>
            </a:br>
            <a:r>
              <a:rPr b="0" lang="en-GB" sz="2400" spc="-1" strike="noStrike">
                <a:solidFill>
                  <a:srgbClr val="242492"/>
                </a:solidFill>
                <a:latin typeface="Tahoma"/>
              </a:rPr>
              <a:t>Confidence (%) of Class for</a:t>
            </a:r>
            <a:r>
              <a:rPr b="0" lang="en-GB" sz="3200" spc="-1" strike="noStrike">
                <a:solidFill>
                  <a:srgbClr val="242492"/>
                </a:solidFill>
                <a:latin typeface="Tahoma"/>
              </a:rPr>
              <a:t> </a:t>
            </a:r>
            <a:br>
              <a:rPr sz="3200"/>
            </a:br>
            <a:endParaRPr b="0" lang="en-US" sz="3200" spc="-1" strike="noStrike">
              <a:solidFill>
                <a:srgbClr val="242492"/>
              </a:solidFill>
              <a:latin typeface="Tahoma"/>
            </a:endParaRPr>
          </a:p>
        </p:txBody>
      </p:sp>
      <p:graphicFrame>
        <p:nvGraphicFramePr>
          <p:cNvPr id="1227" name=""/>
          <p:cNvGraphicFramePr/>
          <p:nvPr/>
        </p:nvGraphicFramePr>
        <p:xfrm>
          <a:off x="457200" y="1052640"/>
          <a:ext cx="8291520" cy="3463920"/>
        </p:xfrm>
        <a:graphic>
          <a:graphicData uri="http://schemas.openxmlformats.org/drawingml/2006/table">
            <a:tbl>
              <a:tblPr/>
              <a:tblGrid>
                <a:gridCol w="8291520"/>
              </a:tblGrid>
              <a:tr h="346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8" name=""/>
          <p:cNvSpPr/>
          <p:nvPr/>
        </p:nvSpPr>
        <p:spPr>
          <a:xfrm>
            <a:off x="395280" y="4653000"/>
            <a:ext cx="8424720" cy="459720"/>
          </a:xfrm>
          <a:prstGeom prst="rect">
            <a:avLst/>
          </a:prstGeom>
          <a:solidFill>
            <a:srgbClr val="ffff00"/>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cological status = ‘moderate’ with low confidence</a:t>
            </a:r>
            <a:endParaRPr b="0" lang="en-US" sz="2400" spc="-1" strike="noStrike">
              <a:solidFill>
                <a:srgbClr val="000000"/>
              </a:solidFill>
              <a:latin typeface="Arial"/>
            </a:endParaRPr>
          </a:p>
        </p:txBody>
      </p:sp>
      <p:grpSp>
        <p:nvGrpSpPr>
          <p:cNvPr id="1229" name=""/>
          <p:cNvGrpSpPr/>
          <p:nvPr/>
        </p:nvGrpSpPr>
        <p:grpSpPr>
          <a:xfrm>
            <a:off x="324000" y="5373720"/>
            <a:ext cx="8470800" cy="1213560"/>
            <a:chOff x="324000" y="5373720"/>
            <a:chExt cx="8470800" cy="1213560"/>
          </a:xfrm>
        </p:grpSpPr>
        <p:sp>
          <p:nvSpPr>
            <p:cNvPr id="1230" name=""/>
            <p:cNvSpPr/>
            <p:nvPr/>
          </p:nvSpPr>
          <p:spPr>
            <a:xfrm>
              <a:off x="369720" y="5373720"/>
              <a:ext cx="8425080" cy="865080"/>
            </a:xfrm>
            <a:prstGeom prst="rect">
              <a:avLst/>
            </a:prstGeom>
            <a:solidFill>
              <a:srgbClr val="00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324000" y="5396040"/>
              <a:ext cx="847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ollow up: continue to monitor; check data for trends; if such mismatches common for type, apply checking procedur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228"/>
                                        </p:tgtEl>
                                        <p:attrNameLst>
                                          <p:attrName>style.visibility</p:attrName>
                                        </p:attrNameLst>
                                      </p:cBhvr>
                                      <p:to>
                                        <p:strVal val="visible"/>
                                      </p:to>
                                    </p:set>
                                    <p:animEffect filter="dissolve" transition="in">
                                      <p:cBhvr additive="repl">
                                        <p:cTn id="148" dur="500"/>
                                        <p:tgtEl>
                                          <p:spTgt spid="122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229"/>
                                        </p:tgtEl>
                                        <p:attrNameLst>
                                          <p:attrName>style.visibility</p:attrName>
                                        </p:attrNameLst>
                                      </p:cBhvr>
                                      <p:to>
                                        <p:strVal val="visible"/>
                                      </p:to>
                                    </p:set>
                                    <p:animEffect filter="dissolve" transition="in">
                                      <p:cBhvr additive="repl">
                                        <p:cTn id="153"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42492"/>
                </a:solidFill>
                <a:latin typeface="Tahoma"/>
              </a:rPr>
              <a:t>Checking Procedure</a:t>
            </a:r>
            <a:br>
              <a:rPr sz="3200"/>
            </a:br>
            <a:r>
              <a:rPr b="0" lang="en-GB" sz="3200" spc="-1" strike="noStrike">
                <a:solidFill>
                  <a:srgbClr val="242492"/>
                </a:solidFill>
                <a:latin typeface="Tahoma"/>
              </a:rPr>
              <a:t> </a:t>
            </a:r>
            <a:r>
              <a:rPr b="1" lang="en-GB" sz="2000" spc="-1" strike="noStrike">
                <a:solidFill>
                  <a:srgbClr val="242492"/>
                </a:solidFill>
                <a:latin typeface="Tahoma"/>
              </a:rPr>
              <a:t>Section 4 of CIS classification guidance</a:t>
            </a:r>
            <a:endParaRPr b="0" lang="en-US" sz="2000" spc="-1" strike="noStrike">
              <a:solidFill>
                <a:srgbClr val="242492"/>
              </a:solidFill>
              <a:latin typeface="Tahoma"/>
            </a:endParaRPr>
          </a:p>
        </p:txBody>
      </p:sp>
      <p:sp>
        <p:nvSpPr>
          <p:cNvPr id="1233" name=""/>
          <p:cNvSpPr/>
          <p:nvPr/>
        </p:nvSpPr>
        <p:spPr>
          <a:xfrm>
            <a:off x="539640" y="24512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pply if mismatches are common in a type</a:t>
            </a:r>
            <a:endParaRPr b="0" lang="en-US" sz="3200" spc="-1" strike="noStrike">
              <a:solidFill>
                <a:srgbClr val="000000"/>
              </a:solidFill>
              <a:latin typeface="Arial"/>
            </a:endParaRPr>
          </a:p>
        </p:txBody>
      </p:sp>
      <p:sp>
        <p:nvSpPr>
          <p:cNvPr id="1234" name=""/>
          <p:cNvSpPr/>
          <p:nvPr/>
        </p:nvSpPr>
        <p:spPr>
          <a:xfrm>
            <a:off x="539640" y="3962520"/>
            <a:ext cx="83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If isolated mismatch, there may be a site specific sensitivity, or insufficient information to check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520"/>
            <a:ext cx="8229600" cy="110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42492"/>
                </a:solidFill>
                <a:latin typeface="Tahoma"/>
              </a:rPr>
              <a:t>Uncertainty as an issue in river basin management - summary</a:t>
            </a:r>
            <a:endParaRPr b="0" lang="en-US" sz="3600" spc="-1" strike="noStrike">
              <a:solidFill>
                <a:srgbClr val="242492"/>
              </a:solidFill>
              <a:latin typeface="Tahoma"/>
            </a:endParaRPr>
          </a:p>
        </p:txBody>
      </p:sp>
      <p:sp>
        <p:nvSpPr>
          <p:cNvPr id="1236" name="PlaceHolder 2"/>
          <p:cNvSpPr>
            <a:spLocks noGrp="1"/>
          </p:cNvSpPr>
          <p:nvPr>
            <p:ph/>
          </p:nvPr>
        </p:nvSpPr>
        <p:spPr>
          <a:xfrm>
            <a:off x="468000" y="1557360"/>
            <a:ext cx="8280360" cy="5074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15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ncertainty will be a key feature of the first set of river basin plans </a:t>
            </a:r>
            <a:endParaRPr b="0" lang="en-US" sz="2400" spc="-1" strike="noStrike">
              <a:solidFill>
                <a:srgbClr val="000000"/>
              </a:solidFill>
              <a:latin typeface="Tahoma"/>
            </a:endParaRPr>
          </a:p>
          <a:p>
            <a:pPr marL="343080" indent="-343080">
              <a:lnSpc>
                <a:spcPct val="80000"/>
              </a:lnSpc>
              <a:spcBef>
                <a:spcPts val="15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ncertainty will reduce over time, but will always be present and needs managing</a:t>
            </a:r>
            <a:endParaRPr b="0" lang="en-US" sz="2400" spc="-1" strike="noStrike">
              <a:solidFill>
                <a:srgbClr val="000000"/>
              </a:solidFill>
              <a:latin typeface="Tahoma"/>
            </a:endParaRPr>
          </a:p>
          <a:p>
            <a:pPr marL="343080" indent="-343080">
              <a:lnSpc>
                <a:spcPct val="80000"/>
              </a:lnSpc>
              <a:spcBef>
                <a:spcPts val="15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Objective setting needs to take account of the confidence that a water body is truly worse than Good</a:t>
            </a:r>
            <a:endParaRPr b="0" lang="en-US" sz="2400" spc="-1" strike="noStrike">
              <a:solidFill>
                <a:srgbClr val="000000"/>
              </a:solidFill>
              <a:latin typeface="Tahoma"/>
            </a:endParaRPr>
          </a:p>
          <a:p>
            <a:pPr marL="343080" indent="-343080">
              <a:lnSpc>
                <a:spcPct val="80000"/>
              </a:lnSpc>
              <a:spcBef>
                <a:spcPts val="15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For some pressures (eutrophication) a weight of evidence approach is needed to assess confidence of class</a:t>
            </a:r>
            <a:endParaRPr b="0" lang="en-US" sz="2400" spc="-1" strike="noStrike">
              <a:solidFill>
                <a:srgbClr val="000000"/>
              </a:solidFill>
              <a:latin typeface="Tahoma"/>
            </a:endParaRPr>
          </a:p>
          <a:p>
            <a:pPr marL="343080" indent="-343080">
              <a:lnSpc>
                <a:spcPct val="80000"/>
              </a:lnSpc>
              <a:spcBef>
                <a:spcPts val="1500"/>
              </a:spcBef>
              <a:buClr>
                <a:srgbClr val="5b78d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eed to be confident that there are biological impacts to justify ac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1619280" y="1484280"/>
            <a:ext cx="2808000" cy="3239640"/>
            <a:chOff x="1619280" y="1484280"/>
            <a:chExt cx="2808000" cy="3239640"/>
          </a:xfrm>
        </p:grpSpPr>
        <p:sp>
          <p:nvSpPr>
            <p:cNvPr id="173" name=""/>
            <p:cNvSpPr/>
            <p:nvPr/>
          </p:nvSpPr>
          <p:spPr>
            <a:xfrm>
              <a:off x="1619280" y="2822400"/>
              <a:ext cx="234720" cy="87336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192560" y="2869200"/>
              <a:ext cx="234720" cy="71820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765800" y="1963080"/>
              <a:ext cx="2509920" cy="276084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470320" y="2878920"/>
              <a:ext cx="366840" cy="42228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297240" y="2883240"/>
              <a:ext cx="366840" cy="42264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505960" y="2922120"/>
              <a:ext cx="146520" cy="15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3303360" y="2922120"/>
              <a:ext cx="146520" cy="154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897920" y="1709640"/>
              <a:ext cx="557640" cy="450360"/>
            </a:xfrm>
            <a:custGeom>
              <a:avLst/>
              <a:gdLst/>
              <a:ahLst/>
              <a:rect l="l" t="t" r="r" b="b"/>
              <a:pathLst>
                <a:path w="456" h="384">
                  <a:moveTo>
                    <a:pt x="456" y="384"/>
                  </a:moveTo>
                  <a:cubicBezTo>
                    <a:pt x="444" y="372"/>
                    <a:pt x="435" y="355"/>
                    <a:pt x="420" y="348"/>
                  </a:cubicBezTo>
                  <a:cubicBezTo>
                    <a:pt x="390" y="334"/>
                    <a:pt x="324" y="324"/>
                    <a:pt x="324" y="324"/>
                  </a:cubicBezTo>
                  <a:cubicBezTo>
                    <a:pt x="308" y="296"/>
                    <a:pt x="284" y="271"/>
                    <a:pt x="276" y="240"/>
                  </a:cubicBezTo>
                  <a:cubicBezTo>
                    <a:pt x="220" y="25"/>
                    <a:pt x="319" y="70"/>
                    <a:pt x="216" y="36"/>
                  </a:cubicBezTo>
                  <a:cubicBezTo>
                    <a:pt x="132" y="50"/>
                    <a:pt x="80" y="40"/>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470320" y="1554480"/>
              <a:ext cx="249480" cy="520920"/>
            </a:xfrm>
            <a:custGeom>
              <a:avLst/>
              <a:gdLst/>
              <a:ahLst/>
              <a:rect l="l" t="t" r="r" b="b"/>
              <a:pathLst>
                <a:path w="204" h="444">
                  <a:moveTo>
                    <a:pt x="204" y="444"/>
                  </a:moveTo>
                  <a:cubicBezTo>
                    <a:pt x="197" y="411"/>
                    <a:pt x="173" y="317"/>
                    <a:pt x="156" y="288"/>
                  </a:cubicBezTo>
                  <a:cubicBezTo>
                    <a:pt x="130" y="242"/>
                    <a:pt x="67" y="209"/>
                    <a:pt x="24" y="180"/>
                  </a:cubicBezTo>
                  <a:cubicBezTo>
                    <a:pt x="31" y="144"/>
                    <a:pt x="48" y="109"/>
                    <a:pt x="48" y="72"/>
                  </a:cubicBezTo>
                  <a:cubicBezTo>
                    <a:pt x="48" y="24"/>
                    <a:pt x="0" y="37"/>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69280" y="1498320"/>
              <a:ext cx="256680" cy="478800"/>
            </a:xfrm>
            <a:custGeom>
              <a:avLst/>
              <a:gdLst/>
              <a:ahLst/>
              <a:rect l="l" t="t" r="r" b="b"/>
              <a:pathLst>
                <a:path w="210" h="408">
                  <a:moveTo>
                    <a:pt x="0" y="408"/>
                  </a:moveTo>
                  <a:cubicBezTo>
                    <a:pt x="4" y="382"/>
                    <a:pt x="9" y="311"/>
                    <a:pt x="36" y="288"/>
                  </a:cubicBezTo>
                  <a:cubicBezTo>
                    <a:pt x="48" y="278"/>
                    <a:pt x="145" y="236"/>
                    <a:pt x="168" y="228"/>
                  </a:cubicBezTo>
                  <a:cubicBezTo>
                    <a:pt x="182" y="207"/>
                    <a:pt x="210" y="173"/>
                    <a:pt x="204" y="144"/>
                  </a:cubicBezTo>
                  <a:cubicBezTo>
                    <a:pt x="199" y="121"/>
                    <a:pt x="178" y="105"/>
                    <a:pt x="168" y="84"/>
                  </a:cubicBezTo>
                  <a:cubicBezTo>
                    <a:pt x="151" y="50"/>
                    <a:pt x="156" y="39"/>
                    <a:pt x="15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600720" y="1793880"/>
              <a:ext cx="278640" cy="436680"/>
            </a:xfrm>
            <a:custGeom>
              <a:avLst/>
              <a:gdLst/>
              <a:ahLst/>
              <a:rect l="l" t="t" r="r" b="b"/>
              <a:pathLst>
                <a:path w="228" h="372">
                  <a:moveTo>
                    <a:pt x="0" y="372"/>
                  </a:moveTo>
                  <a:cubicBezTo>
                    <a:pt x="4" y="332"/>
                    <a:pt x="6" y="292"/>
                    <a:pt x="12" y="252"/>
                  </a:cubicBezTo>
                  <a:cubicBezTo>
                    <a:pt x="14" y="236"/>
                    <a:pt x="13" y="217"/>
                    <a:pt x="24" y="204"/>
                  </a:cubicBezTo>
                  <a:cubicBezTo>
                    <a:pt x="35" y="190"/>
                    <a:pt x="56" y="189"/>
                    <a:pt x="72" y="180"/>
                  </a:cubicBezTo>
                  <a:cubicBezTo>
                    <a:pt x="132" y="147"/>
                    <a:pt x="128" y="147"/>
                    <a:pt x="180" y="108"/>
                  </a:cubicBezTo>
                  <a:cubicBezTo>
                    <a:pt x="194" y="66"/>
                    <a:pt x="196" y="32"/>
                    <a:pt x="22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350880" y="1484280"/>
              <a:ext cx="125640" cy="605520"/>
            </a:xfrm>
            <a:custGeom>
              <a:avLst/>
              <a:gdLst/>
              <a:ahLst/>
              <a:rect l="l" t="t" r="r" b="b"/>
              <a:pathLst>
                <a:path w="103" h="516">
                  <a:moveTo>
                    <a:pt x="0" y="516"/>
                  </a:moveTo>
                  <a:cubicBezTo>
                    <a:pt x="8" y="432"/>
                    <a:pt x="16" y="348"/>
                    <a:pt x="24" y="264"/>
                  </a:cubicBezTo>
                  <a:cubicBezTo>
                    <a:pt x="28" y="226"/>
                    <a:pt x="84" y="168"/>
                    <a:pt x="84" y="168"/>
                  </a:cubicBezTo>
                  <a:cubicBezTo>
                    <a:pt x="103" y="94"/>
                    <a:pt x="101" y="144"/>
                    <a:pt x="72" y="72"/>
                  </a:cubicBezTo>
                  <a:cubicBezTo>
                    <a:pt x="63" y="49"/>
                    <a:pt x="48" y="0"/>
                    <a:pt x="4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50200" y="1963080"/>
              <a:ext cx="484560" cy="309600"/>
            </a:xfrm>
            <a:custGeom>
              <a:avLst/>
              <a:gdLst/>
              <a:ahLst/>
              <a:rect l="l" t="t" r="r" b="b"/>
              <a:pathLst>
                <a:path w="396" h="264">
                  <a:moveTo>
                    <a:pt x="0" y="264"/>
                  </a:moveTo>
                  <a:cubicBezTo>
                    <a:pt x="85" y="207"/>
                    <a:pt x="202" y="196"/>
                    <a:pt x="300" y="180"/>
                  </a:cubicBezTo>
                  <a:cubicBezTo>
                    <a:pt x="312" y="164"/>
                    <a:pt x="326" y="149"/>
                    <a:pt x="336" y="132"/>
                  </a:cubicBezTo>
                  <a:cubicBezTo>
                    <a:pt x="364" y="84"/>
                    <a:pt x="351" y="45"/>
                    <a:pt x="39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52360" y="3245040"/>
              <a:ext cx="163440" cy="493920"/>
            </a:xfrm>
            <a:custGeom>
              <a:avLst/>
              <a:gdLst/>
              <a:ahLst/>
              <a:rect l="l" t="t" r="r" b="b"/>
              <a:pathLst>
                <a:path w="134" h="421">
                  <a:moveTo>
                    <a:pt x="86" y="0"/>
                  </a:moveTo>
                  <a:cubicBezTo>
                    <a:pt x="98" y="125"/>
                    <a:pt x="109" y="162"/>
                    <a:pt x="86" y="300"/>
                  </a:cubicBezTo>
                  <a:cubicBezTo>
                    <a:pt x="86" y="301"/>
                    <a:pt x="0" y="421"/>
                    <a:pt x="38" y="408"/>
                  </a:cubicBezTo>
                  <a:cubicBezTo>
                    <a:pt x="93" y="390"/>
                    <a:pt x="61" y="396"/>
                    <a:pt x="134" y="3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499840" y="2451600"/>
              <a:ext cx="263880" cy="131040"/>
            </a:xfrm>
            <a:custGeom>
              <a:avLst/>
              <a:gdLst/>
              <a:ahLst/>
              <a:rect l="l" t="t" r="r" b="b"/>
              <a:pathLst>
                <a:path w="216" h="112">
                  <a:moveTo>
                    <a:pt x="0" y="112"/>
                  </a:moveTo>
                  <a:cubicBezTo>
                    <a:pt x="18" y="60"/>
                    <a:pt x="36" y="8"/>
                    <a:pt x="72" y="4"/>
                  </a:cubicBezTo>
                  <a:cubicBezTo>
                    <a:pt x="108" y="0"/>
                    <a:pt x="162" y="44"/>
                    <a:pt x="216" y="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3219120" y="2439720"/>
              <a:ext cx="308160" cy="115200"/>
            </a:xfrm>
            <a:custGeom>
              <a:avLst/>
              <a:gdLst/>
              <a:ahLst/>
              <a:rect l="l" t="t" r="r" b="b"/>
              <a:pathLst>
                <a:path w="252" h="98">
                  <a:moveTo>
                    <a:pt x="0" y="98"/>
                  </a:moveTo>
                  <a:cubicBezTo>
                    <a:pt x="15" y="51"/>
                    <a:pt x="30" y="4"/>
                    <a:pt x="72" y="2"/>
                  </a:cubicBezTo>
                  <a:cubicBezTo>
                    <a:pt x="114" y="0"/>
                    <a:pt x="183" y="43"/>
                    <a:pt x="252" y="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6920" y="3953880"/>
              <a:ext cx="762840" cy="138240"/>
            </a:xfrm>
            <a:custGeom>
              <a:avLst/>
              <a:gdLst/>
              <a:ahLst/>
              <a:rect l="l" t="t" r="r" b="b"/>
              <a:pathLst>
                <a:path w="624" h="118">
                  <a:moveTo>
                    <a:pt x="0" y="57"/>
                  </a:moveTo>
                  <a:cubicBezTo>
                    <a:pt x="48" y="33"/>
                    <a:pt x="82" y="16"/>
                    <a:pt x="134" y="0"/>
                  </a:cubicBezTo>
                  <a:cubicBezTo>
                    <a:pt x="190" y="8"/>
                    <a:pt x="225" y="25"/>
                    <a:pt x="278" y="38"/>
                  </a:cubicBezTo>
                  <a:cubicBezTo>
                    <a:pt x="442" y="118"/>
                    <a:pt x="285" y="86"/>
                    <a:pt x="624" y="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PlaceHolder 1"/>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42492"/>
                </a:solidFill>
                <a:latin typeface="Tahoma"/>
              </a:rPr>
              <a:t>Uncertainty as an issue in river basin management</a:t>
            </a:r>
            <a:endParaRPr b="0" lang="en-US" sz="4000" spc="-1" strike="noStrike">
              <a:solidFill>
                <a:srgbClr val="242492"/>
              </a:solidFill>
              <a:latin typeface="Tahoma"/>
            </a:endParaRPr>
          </a:p>
        </p:txBody>
      </p:sp>
      <p:grpSp>
        <p:nvGrpSpPr>
          <p:cNvPr id="191" name=""/>
          <p:cNvGrpSpPr/>
          <p:nvPr/>
        </p:nvGrpSpPr>
        <p:grpSpPr>
          <a:xfrm>
            <a:off x="7740720" y="1700280"/>
            <a:ext cx="1041480" cy="4536720"/>
            <a:chOff x="7740720" y="1700280"/>
            <a:chExt cx="1041480" cy="4536720"/>
          </a:xfrm>
        </p:grpSpPr>
        <p:grpSp>
          <p:nvGrpSpPr>
            <p:cNvPr id="192" name=""/>
            <p:cNvGrpSpPr/>
            <p:nvPr/>
          </p:nvGrpSpPr>
          <p:grpSpPr>
            <a:xfrm>
              <a:off x="7740720" y="1700280"/>
              <a:ext cx="1009440" cy="4536720"/>
              <a:chOff x="7740720" y="1700280"/>
              <a:chExt cx="1009440" cy="4536720"/>
            </a:xfrm>
          </p:grpSpPr>
          <p:sp>
            <p:nvSpPr>
              <p:cNvPr id="193" name=""/>
              <p:cNvSpPr/>
              <p:nvPr/>
            </p:nvSpPr>
            <p:spPr>
              <a:xfrm>
                <a:off x="7740720" y="1700280"/>
                <a:ext cx="1009440" cy="898560"/>
              </a:xfrm>
              <a:prstGeom prst="rect">
                <a:avLst/>
              </a:prstGeom>
              <a:solidFill>
                <a:srgbClr val="00ffff"/>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740720" y="2610000"/>
                <a:ext cx="1009440" cy="898560"/>
              </a:xfrm>
              <a:prstGeom prst="rect">
                <a:avLst/>
              </a:prstGeom>
              <a:solidFill>
                <a:srgbClr val="00ff66"/>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740720" y="3520080"/>
                <a:ext cx="1009440" cy="896760"/>
              </a:xfrm>
              <a:prstGeom prst="rect">
                <a:avLst/>
              </a:prstGeom>
              <a:solidFill>
                <a:srgbClr val="ffff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740720" y="4428720"/>
                <a:ext cx="1009440" cy="898200"/>
              </a:xfrm>
              <a:prstGeom prst="rect">
                <a:avLst/>
              </a:prstGeom>
              <a:solidFill>
                <a:srgbClr val="ff99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740720" y="5338800"/>
                <a:ext cx="1009440" cy="898200"/>
              </a:xfrm>
              <a:prstGeom prst="rect">
                <a:avLst/>
              </a:prstGeom>
              <a:solidFill>
                <a:srgbClr val="ff0033"/>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 name=""/>
            <p:cNvGrpSpPr/>
            <p:nvPr/>
          </p:nvGrpSpPr>
          <p:grpSpPr>
            <a:xfrm>
              <a:off x="8006400" y="5749920"/>
              <a:ext cx="517320" cy="181800"/>
              <a:chOff x="8006400" y="5749920"/>
              <a:chExt cx="517320" cy="181800"/>
            </a:xfrm>
          </p:grpSpPr>
          <p:sp>
            <p:nvSpPr>
              <p:cNvPr id="199" name=""/>
              <p:cNvSpPr/>
              <p:nvPr/>
            </p:nvSpPr>
            <p:spPr>
              <a:xfrm>
                <a:off x="8089560" y="5828040"/>
                <a:ext cx="351000" cy="19440"/>
              </a:xfrm>
              <a:prstGeom prst="line">
                <a:avLst/>
              </a:prstGeom>
              <a:ln w="25560">
                <a:solidFill>
                  <a:srgbClr val="dce8f4"/>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0" name=""/>
              <p:cNvSpPr/>
              <p:nvPr/>
            </p:nvSpPr>
            <p:spPr>
              <a:xfrm rot="240000">
                <a:off x="8440200" y="5752080"/>
                <a:ext cx="77400" cy="176760"/>
              </a:xfrm>
              <a:custGeom>
                <a:avLst/>
                <a:gdLst/>
                <a:ahLst/>
                <a:rect l="l" t="t" r="r" b="b"/>
                <a:pathLst>
                  <a:path stroke="0" w="21600" h="21600">
                    <a:moveTo>
                      <a:pt x="8949" y="21440"/>
                    </a:moveTo>
                    <a:arcTo wR="10800" hR="10800" stAng="5992196" swAng="9317479"/>
                    <a:lnTo>
                      <a:pt x="10800" y="10800"/>
                    </a:lnTo>
                    <a:close/>
                  </a:path>
                  <a:path fill="none" w="21600" h="21600">
                    <a:moveTo>
                      <a:pt x="8949" y="21440"/>
                    </a:moveTo>
                    <a:arcTo wR="10800" hR="10800" stAng="5992196" swAng="9317479"/>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240000">
                <a:off x="8305920" y="5768280"/>
                <a:ext cx="110520" cy="142920"/>
              </a:xfrm>
              <a:custGeom>
                <a:avLst/>
                <a:gdLst/>
                <a:ahLst/>
                <a:rect l="l" t="t" r="r" b="b"/>
                <a:pathLst>
                  <a:path stroke="0" w="21600" h="21600">
                    <a:moveTo>
                      <a:pt x="5145" y="20001"/>
                    </a:moveTo>
                    <a:arcTo wR="10800" hR="10800" stAng="7294636" swAng="6895237"/>
                    <a:lnTo>
                      <a:pt x="10800" y="10800"/>
                    </a:lnTo>
                    <a:close/>
                  </a:path>
                  <a:path fill="none" w="21600" h="21600">
                    <a:moveTo>
                      <a:pt x="5145" y="20001"/>
                    </a:moveTo>
                    <a:arcTo wR="10800" hR="10800" stAng="7294636" swAng="6895237"/>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240000">
                <a:off x="8209080" y="5766120"/>
                <a:ext cx="112680" cy="145080"/>
              </a:xfrm>
              <a:custGeom>
                <a:avLst/>
                <a:gdLst/>
                <a:ahLst/>
                <a:rect l="l" t="t" r="r" b="b"/>
                <a:pathLst>
                  <a:path stroke="0" w="21600" h="21600">
                    <a:moveTo>
                      <a:pt x="5239" y="20058"/>
                    </a:moveTo>
                    <a:arcTo wR="10800" hR="10800" stAng="7259494" swAng="6966662"/>
                    <a:lnTo>
                      <a:pt x="10800" y="10800"/>
                    </a:lnTo>
                    <a:close/>
                  </a:path>
                  <a:path fill="none" w="21600" h="21600">
                    <a:moveTo>
                      <a:pt x="5239" y="20058"/>
                    </a:moveTo>
                    <a:arcTo wR="10800" hR="10800" stAng="7259494" swAng="6966662"/>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240000">
                <a:off x="8262720" y="5767200"/>
                <a:ext cx="110520" cy="144000"/>
              </a:xfrm>
              <a:custGeom>
                <a:avLst/>
                <a:gdLst/>
                <a:ahLst/>
                <a:rect l="l" t="t" r="r" b="b"/>
                <a:pathLst>
                  <a:path stroke="0" w="21600" h="21600">
                    <a:moveTo>
                      <a:pt x="5157" y="20009"/>
                    </a:moveTo>
                    <a:arcTo wR="10800" hR="10800" stAng="7289984" swAng="6904688"/>
                    <a:lnTo>
                      <a:pt x="10800" y="10800"/>
                    </a:lnTo>
                    <a:close/>
                  </a:path>
                  <a:path fill="none" w="21600" h="21600">
                    <a:moveTo>
                      <a:pt x="5157" y="20009"/>
                    </a:moveTo>
                    <a:arcTo wR="10800" hR="10800" stAng="7289984" swAng="690468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240000">
                <a:off x="8171280" y="5766120"/>
                <a:ext cx="110520" cy="145800"/>
              </a:xfrm>
              <a:custGeom>
                <a:avLst/>
                <a:gdLst/>
                <a:ahLst/>
                <a:rect l="l" t="t" r="r" b="b"/>
                <a:pathLst>
                  <a:path stroke="0" w="21600" h="21600">
                    <a:moveTo>
                      <a:pt x="5121" y="19986"/>
                    </a:moveTo>
                    <a:arcTo wR="10800" hR="10800" stAng="7303626" swAng="6909543"/>
                    <a:lnTo>
                      <a:pt x="10800" y="10800"/>
                    </a:lnTo>
                    <a:close/>
                  </a:path>
                  <a:path fill="none" w="21600" h="21600">
                    <a:moveTo>
                      <a:pt x="5121" y="19986"/>
                    </a:moveTo>
                    <a:arcTo wR="10800" hR="10800" stAng="7303626" swAng="6909543"/>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40000">
                <a:off x="8348040" y="5776560"/>
                <a:ext cx="110520" cy="144000"/>
              </a:xfrm>
              <a:custGeom>
                <a:avLst/>
                <a:gdLst/>
                <a:ahLst/>
                <a:rect l="l" t="t" r="r" b="b"/>
                <a:pathLst>
                  <a:path stroke="0" w="21600" h="21600">
                    <a:moveTo>
                      <a:pt x="5107" y="19978"/>
                    </a:moveTo>
                    <a:arcTo wR="10800" hR="10800" stAng="7308543" swAng="6900278"/>
                    <a:lnTo>
                      <a:pt x="10800" y="10800"/>
                    </a:lnTo>
                    <a:close/>
                  </a:path>
                  <a:path fill="none" w="21600" h="21600">
                    <a:moveTo>
                      <a:pt x="5107" y="19978"/>
                    </a:moveTo>
                    <a:arcTo wR="10800" hR="10800" stAng="7308543" swAng="690027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240000">
                <a:off x="8132760" y="5757480"/>
                <a:ext cx="110520" cy="145080"/>
              </a:xfrm>
              <a:custGeom>
                <a:avLst/>
                <a:gdLst/>
                <a:ahLst/>
                <a:rect l="l" t="t" r="r" b="b"/>
                <a:pathLst>
                  <a:path stroke="0" w="21600" h="21600">
                    <a:moveTo>
                      <a:pt x="5358" y="20129"/>
                    </a:moveTo>
                    <a:arcTo wR="10800" hR="10800" stAng="7215386" swAng="7051958"/>
                    <a:lnTo>
                      <a:pt x="10800" y="10800"/>
                    </a:lnTo>
                    <a:close/>
                  </a:path>
                  <a:path fill="none" w="21600" h="21600">
                    <a:moveTo>
                      <a:pt x="5358" y="20129"/>
                    </a:moveTo>
                    <a:arcTo wR="10800" hR="10800" stAng="7215386" swAng="705195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8006400" y="5760360"/>
                <a:ext cx="100800" cy="120960"/>
              </a:xfrm>
              <a:custGeom>
                <a:avLst/>
                <a:gdLst/>
                <a:ahLst/>
                <a:rect l="l" t="t" r="r" b="b"/>
                <a:pathLst>
                  <a:path w="91" h="93">
                    <a:moveTo>
                      <a:pt x="67" y="8"/>
                    </a:moveTo>
                    <a:lnTo>
                      <a:pt x="62" y="11"/>
                    </a:lnTo>
                    <a:lnTo>
                      <a:pt x="58" y="14"/>
                    </a:lnTo>
                    <a:lnTo>
                      <a:pt x="52" y="13"/>
                    </a:lnTo>
                    <a:lnTo>
                      <a:pt x="50" y="17"/>
                    </a:lnTo>
                    <a:lnTo>
                      <a:pt x="46" y="17"/>
                    </a:lnTo>
                    <a:lnTo>
                      <a:pt x="42" y="20"/>
                    </a:lnTo>
                    <a:lnTo>
                      <a:pt x="38" y="22"/>
                    </a:lnTo>
                    <a:lnTo>
                      <a:pt x="34" y="23"/>
                    </a:lnTo>
                    <a:lnTo>
                      <a:pt x="30" y="25"/>
                    </a:lnTo>
                    <a:lnTo>
                      <a:pt x="28" y="30"/>
                    </a:lnTo>
                    <a:lnTo>
                      <a:pt x="25" y="33"/>
                    </a:lnTo>
                    <a:lnTo>
                      <a:pt x="26" y="38"/>
                    </a:lnTo>
                    <a:lnTo>
                      <a:pt x="21" y="38"/>
                    </a:lnTo>
                    <a:lnTo>
                      <a:pt x="17" y="39"/>
                    </a:lnTo>
                    <a:lnTo>
                      <a:pt x="11" y="39"/>
                    </a:lnTo>
                    <a:lnTo>
                      <a:pt x="7" y="46"/>
                    </a:lnTo>
                    <a:lnTo>
                      <a:pt x="4" y="53"/>
                    </a:lnTo>
                    <a:lnTo>
                      <a:pt x="3" y="55"/>
                    </a:lnTo>
                    <a:lnTo>
                      <a:pt x="2" y="58"/>
                    </a:lnTo>
                    <a:lnTo>
                      <a:pt x="2" y="61"/>
                    </a:lnTo>
                    <a:lnTo>
                      <a:pt x="0" y="64"/>
                    </a:lnTo>
                    <a:lnTo>
                      <a:pt x="6" y="68"/>
                    </a:lnTo>
                    <a:lnTo>
                      <a:pt x="10" y="68"/>
                    </a:lnTo>
                    <a:lnTo>
                      <a:pt x="16" y="70"/>
                    </a:lnTo>
                    <a:lnTo>
                      <a:pt x="21" y="73"/>
                    </a:lnTo>
                    <a:lnTo>
                      <a:pt x="27" y="76"/>
                    </a:lnTo>
                    <a:lnTo>
                      <a:pt x="32" y="79"/>
                    </a:lnTo>
                    <a:lnTo>
                      <a:pt x="40" y="85"/>
                    </a:lnTo>
                    <a:lnTo>
                      <a:pt x="49" y="87"/>
                    </a:lnTo>
                    <a:lnTo>
                      <a:pt x="52" y="87"/>
                    </a:lnTo>
                    <a:lnTo>
                      <a:pt x="57" y="88"/>
                    </a:lnTo>
                    <a:lnTo>
                      <a:pt x="74" y="90"/>
                    </a:lnTo>
                    <a:lnTo>
                      <a:pt x="89" y="92"/>
                    </a:lnTo>
                    <a:lnTo>
                      <a:pt x="90" y="88"/>
                    </a:lnTo>
                    <a:lnTo>
                      <a:pt x="89" y="85"/>
                    </a:lnTo>
                    <a:lnTo>
                      <a:pt x="88" y="81"/>
                    </a:lnTo>
                    <a:lnTo>
                      <a:pt x="85" y="75"/>
                    </a:lnTo>
                    <a:lnTo>
                      <a:pt x="84" y="73"/>
                    </a:lnTo>
                    <a:lnTo>
                      <a:pt x="84" y="70"/>
                    </a:lnTo>
                    <a:lnTo>
                      <a:pt x="82" y="63"/>
                    </a:lnTo>
                    <a:lnTo>
                      <a:pt x="80" y="61"/>
                    </a:lnTo>
                    <a:lnTo>
                      <a:pt x="80" y="57"/>
                    </a:lnTo>
                    <a:lnTo>
                      <a:pt x="80" y="51"/>
                    </a:lnTo>
                    <a:lnTo>
                      <a:pt x="80" y="43"/>
                    </a:lnTo>
                    <a:lnTo>
                      <a:pt x="79" y="33"/>
                    </a:lnTo>
                    <a:lnTo>
                      <a:pt x="84" y="31"/>
                    </a:lnTo>
                    <a:lnTo>
                      <a:pt x="87" y="28"/>
                    </a:lnTo>
                    <a:lnTo>
                      <a:pt x="87" y="25"/>
                    </a:lnTo>
                    <a:lnTo>
                      <a:pt x="87" y="22"/>
                    </a:lnTo>
                    <a:lnTo>
                      <a:pt x="87" y="18"/>
                    </a:lnTo>
                    <a:lnTo>
                      <a:pt x="87" y="15"/>
                    </a:lnTo>
                    <a:lnTo>
                      <a:pt x="89" y="13"/>
                    </a:lnTo>
                    <a:lnTo>
                      <a:pt x="89" y="9"/>
                    </a:lnTo>
                    <a:lnTo>
                      <a:pt x="90" y="6"/>
                    </a:lnTo>
                    <a:lnTo>
                      <a:pt x="90" y="0"/>
                    </a:lnTo>
                    <a:lnTo>
                      <a:pt x="87" y="0"/>
                    </a:lnTo>
                    <a:lnTo>
                      <a:pt x="82" y="1"/>
                    </a:lnTo>
                    <a:lnTo>
                      <a:pt x="79" y="1"/>
                    </a:lnTo>
                    <a:lnTo>
                      <a:pt x="76" y="4"/>
                    </a:lnTo>
                    <a:lnTo>
                      <a:pt x="73" y="7"/>
                    </a:lnTo>
                    <a:lnTo>
                      <a:pt x="71" y="10"/>
                    </a:lnTo>
                    <a:lnTo>
                      <a:pt x="67" y="8"/>
                    </a:lnTo>
                    <a:lnTo>
                      <a:pt x="67" y="8"/>
                    </a:lnTo>
                  </a:path>
                </a:pathLst>
              </a:custGeom>
              <a:solidFill>
                <a:srgbClr val="dce8f4"/>
              </a:solidFill>
              <a:ln cap="rnd" w="1260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8178480" y="3711600"/>
              <a:ext cx="187920" cy="406080"/>
              <a:chOff x="8178480" y="3711600"/>
              <a:chExt cx="187920" cy="406080"/>
            </a:xfrm>
          </p:grpSpPr>
          <p:sp>
            <p:nvSpPr>
              <p:cNvPr id="209" name=""/>
              <p:cNvSpPr/>
              <p:nvPr/>
            </p:nvSpPr>
            <p:spPr>
              <a:xfrm>
                <a:off x="8209440" y="3848040"/>
                <a:ext cx="111240" cy="269640"/>
              </a:xfrm>
              <a:prstGeom prst="ellipse">
                <a:avLst/>
              </a:prstGeom>
              <a:gradFill rotWithShape="0">
                <a:gsLst>
                  <a:gs pos="0">
                    <a:srgbClr val="fff200"/>
                  </a:gs>
                  <a:gs pos="50000">
                    <a:srgbClr val="4d0808"/>
                  </a:gs>
                  <a:gs pos="100000">
                    <a:srgbClr val="fff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228520" y="3889800"/>
                <a:ext cx="76680" cy="197640"/>
              </a:xfrm>
              <a:prstGeom prst="ellipse">
                <a:avLst/>
              </a:prstGeom>
              <a:gradFill rotWithShape="0">
                <a:gsLst>
                  <a:gs pos="0">
                    <a:srgbClr val="fff200"/>
                  </a:gs>
                  <a:gs pos="100000">
                    <a:srgbClr val="4d080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29656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12" name=""/>
              <p:cNvSpPr/>
              <p:nvPr/>
            </p:nvSpPr>
            <p:spPr>
              <a:xfrm>
                <a:off x="832860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3" name=""/>
              <p:cNvSpPr/>
              <p:nvPr/>
            </p:nvSpPr>
            <p:spPr>
              <a:xfrm>
                <a:off x="817848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14" name=""/>
              <p:cNvSpPr/>
              <p:nvPr/>
            </p:nvSpPr>
            <p:spPr>
              <a:xfrm>
                <a:off x="817956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flipV="1">
                <a:off x="8251560" y="3711600"/>
                <a:ext cx="14040" cy="14328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304120" y="4042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7" name=""/>
              <p:cNvSpPr/>
              <p:nvPr/>
            </p:nvSpPr>
            <p:spPr>
              <a:xfrm>
                <a:off x="8257320" y="4033080"/>
                <a:ext cx="20880" cy="30960"/>
              </a:xfrm>
              <a:prstGeom prst="ellipse">
                <a:avLst/>
              </a:prstGeom>
              <a:solidFill>
                <a:srgbClr val="7b9cb5"/>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8" name=""/>
              <p:cNvSpPr/>
              <p:nvPr/>
            </p:nvSpPr>
            <p:spPr>
              <a:xfrm flipH="1">
                <a:off x="8188200" y="4051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19" name=""/>
            <p:cNvGrpSpPr/>
            <p:nvPr/>
          </p:nvGrpSpPr>
          <p:grpSpPr>
            <a:xfrm>
              <a:off x="7856280" y="1827360"/>
              <a:ext cx="925920" cy="555120"/>
              <a:chOff x="7856280" y="1827360"/>
              <a:chExt cx="925920" cy="555120"/>
            </a:xfrm>
          </p:grpSpPr>
          <p:sp>
            <p:nvSpPr>
              <p:cNvPr id="220" name=""/>
              <p:cNvSpPr/>
              <p:nvPr/>
            </p:nvSpPr>
            <p:spPr>
              <a:xfrm>
                <a:off x="7923960" y="2029320"/>
                <a:ext cx="468000" cy="194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2460000">
                <a:off x="8472600" y="1842120"/>
                <a:ext cx="198720" cy="411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957080" y="2025720"/>
                <a:ext cx="56520" cy="752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3" name=""/>
              <p:cNvSpPr/>
              <p:nvPr/>
            </p:nvSpPr>
            <p:spPr>
              <a:xfrm flipH="1" flipV="1" rot="17280000">
                <a:off x="8065080" y="2160360"/>
                <a:ext cx="189000" cy="202320"/>
              </a:xfrm>
              <a:custGeom>
                <a:avLst/>
                <a:gdLst>
                  <a:gd name="textAreaLeft" fmla="*/ 41400 w 189000"/>
                  <a:gd name="textAreaRight" fmla="*/ 147600 w 189000"/>
                  <a:gd name="textAreaTop" fmla="*/ 44280 h 202320"/>
                  <a:gd name="textAreaBottom" fmla="*/ 158040 h 2023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360000">
                <a:off x="8137080" y="1942200"/>
                <a:ext cx="241920" cy="98640"/>
              </a:xfrm>
              <a:prstGeom prst="parallelogram">
                <a:avLst>
                  <a:gd name="adj" fmla="val 61302"/>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25" name=""/>
              <p:cNvSpPr/>
              <p:nvPr/>
            </p:nvSpPr>
            <p:spPr>
              <a:xfrm>
                <a:off x="7951680" y="2045160"/>
                <a:ext cx="2340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226" name=""/>
              <p:cNvSpPr/>
              <p:nvPr/>
            </p:nvSpPr>
            <p:spPr>
              <a:xfrm rot="10800000">
                <a:off x="7856280" y="2089440"/>
                <a:ext cx="165960" cy="7524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1260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27" name=""/>
            <p:cNvGrpSpPr/>
            <p:nvPr/>
          </p:nvGrpSpPr>
          <p:grpSpPr>
            <a:xfrm>
              <a:off x="7864560" y="2877480"/>
              <a:ext cx="877680" cy="433080"/>
              <a:chOff x="7864560" y="2877480"/>
              <a:chExt cx="877680" cy="433080"/>
            </a:xfrm>
          </p:grpSpPr>
          <p:sp>
            <p:nvSpPr>
              <p:cNvPr id="228" name=""/>
              <p:cNvSpPr/>
              <p:nvPr/>
            </p:nvSpPr>
            <p:spPr>
              <a:xfrm rot="1080000">
                <a:off x="7882920" y="2946600"/>
                <a:ext cx="467640" cy="1951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3540000">
                <a:off x="8414280" y="2944080"/>
                <a:ext cx="234360" cy="3510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080000">
                <a:off x="7941600" y="2884320"/>
                <a:ext cx="56520" cy="7668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31" name=""/>
              <p:cNvSpPr/>
              <p:nvPr/>
            </p:nvSpPr>
            <p:spPr>
              <a:xfrm flipH="1" flipV="1" rot="18360000">
                <a:off x="8029080" y="3053160"/>
                <a:ext cx="148320" cy="231120"/>
              </a:xfrm>
              <a:custGeom>
                <a:avLst/>
                <a:gdLst>
                  <a:gd name="textAreaLeft" fmla="*/ 32400 w 148320"/>
                  <a:gd name="textAreaRight" fmla="*/ 115920 w 148320"/>
                  <a:gd name="textAreaTop" fmla="*/ 50760 h 231120"/>
                  <a:gd name="textAreaBottom" fmla="*/ 180360 h 231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rot="1440000">
                <a:off x="8120880" y="2939760"/>
                <a:ext cx="259920" cy="66240"/>
              </a:xfrm>
              <a:prstGeom prst="parallelogram">
                <a:avLst>
                  <a:gd name="adj" fmla="val 9808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3" name=""/>
              <p:cNvSpPr/>
              <p:nvPr/>
            </p:nvSpPr>
            <p:spPr>
              <a:xfrm rot="1080000">
                <a:off x="7948080" y="2905920"/>
                <a:ext cx="24120" cy="2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34" name=""/>
              <p:cNvSpPr/>
              <p:nvPr/>
            </p:nvSpPr>
            <p:spPr>
              <a:xfrm>
                <a:off x="7891560" y="2979360"/>
                <a:ext cx="82080" cy="50760"/>
              </a:xfrm>
              <a:custGeom>
                <a:avLst/>
                <a:gdLst/>
                <a:ahLst/>
                <a:rect l="l" t="t" r="r" b="b"/>
                <a:pathLst>
                  <a:path w="74" h="39">
                    <a:moveTo>
                      <a:pt x="0" y="0"/>
                    </a:moveTo>
                    <a:lnTo>
                      <a:pt x="5" y="2"/>
                    </a:lnTo>
                    <a:lnTo>
                      <a:pt x="14" y="2"/>
                    </a:lnTo>
                    <a:lnTo>
                      <a:pt x="20" y="4"/>
                    </a:lnTo>
                    <a:lnTo>
                      <a:pt x="24" y="8"/>
                    </a:lnTo>
                    <a:lnTo>
                      <a:pt x="26" y="17"/>
                    </a:lnTo>
                    <a:lnTo>
                      <a:pt x="30" y="19"/>
                    </a:lnTo>
                    <a:lnTo>
                      <a:pt x="42" y="22"/>
                    </a:lnTo>
                    <a:lnTo>
                      <a:pt x="48" y="24"/>
                    </a:lnTo>
                    <a:lnTo>
                      <a:pt x="52" y="23"/>
                    </a:lnTo>
                    <a:lnTo>
                      <a:pt x="59" y="19"/>
                    </a:lnTo>
                    <a:lnTo>
                      <a:pt x="62" y="21"/>
                    </a:lnTo>
                    <a:lnTo>
                      <a:pt x="67" y="22"/>
                    </a:lnTo>
                    <a:lnTo>
                      <a:pt x="69" y="29"/>
                    </a:lnTo>
                    <a:lnTo>
                      <a:pt x="73" y="3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5" name=""/>
            <p:cNvGrpSpPr/>
            <p:nvPr/>
          </p:nvGrpSpPr>
          <p:grpSpPr>
            <a:xfrm>
              <a:off x="7898760" y="4685400"/>
              <a:ext cx="645480" cy="460440"/>
              <a:chOff x="7898760" y="4685400"/>
              <a:chExt cx="645480" cy="460440"/>
            </a:xfrm>
          </p:grpSpPr>
          <p:grpSp>
            <p:nvGrpSpPr>
              <p:cNvPr id="236" name=""/>
              <p:cNvGrpSpPr/>
              <p:nvPr/>
            </p:nvGrpSpPr>
            <p:grpSpPr>
              <a:xfrm>
                <a:off x="8035200" y="4686120"/>
                <a:ext cx="509040" cy="371160"/>
                <a:chOff x="8035200" y="4686120"/>
                <a:chExt cx="509040" cy="371160"/>
              </a:xfrm>
            </p:grpSpPr>
            <p:sp>
              <p:nvSpPr>
                <p:cNvPr id="237" name=""/>
                <p:cNvSpPr/>
                <p:nvPr/>
              </p:nvSpPr>
              <p:spPr>
                <a:xfrm flipH="1" rot="20273400">
                  <a:off x="8057880" y="4765320"/>
                  <a:ext cx="463320" cy="2124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rot="292800">
                  <a:off x="8315640" y="4906440"/>
                  <a:ext cx="105840" cy="122040"/>
                </a:xfrm>
                <a:custGeom>
                  <a:avLst/>
                  <a:gdLst>
                    <a:gd name="textAreaLeft" fmla="*/ 23040 w 105840"/>
                    <a:gd name="textAreaRight" fmla="*/ 82800 w 105840"/>
                    <a:gd name="textAreaTop" fmla="*/ 26640 h 122040"/>
                    <a:gd name="textAreaBottom" fmla="*/ 95400 h 122040"/>
                  </a:gdLst>
                  <a:ahLst/>
                  <a:rect l="textAreaLeft" t="textAreaTop" r="textAreaRight" b="textAreaBottom"/>
                  <a:pathLst>
                    <a:path w="21600" h="21600">
                      <a:moveTo>
                        <a:pt x="0" y="0"/>
                      </a:moveTo>
                      <a:lnTo>
                        <a:pt x="21600" y="0"/>
                      </a:lnTo>
                      <a:lnTo>
                        <a:pt x="16201" y="21600"/>
                      </a:lnTo>
                      <a:lnTo>
                        <a:pt x="5399" y="21600"/>
                      </a:lnTo>
                      <a:close/>
                    </a:path>
                  </a:pathLst>
                </a:custGeom>
                <a:solidFill>
                  <a:srgbClr val="00ff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39" name=""/>
                <p:cNvSpPr/>
                <p:nvPr/>
              </p:nvSpPr>
              <p:spPr>
                <a:xfrm flipH="1" rot="20273400">
                  <a:off x="8380440" y="4704840"/>
                  <a:ext cx="68760" cy="86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0" name=""/>
                <p:cNvSpPr/>
                <p:nvPr/>
              </p:nvSpPr>
              <p:spPr>
                <a:xfrm flipH="1" rot="20273400">
                  <a:off x="8428680" y="4748760"/>
                  <a:ext cx="280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1" name=""/>
                <p:cNvSpPr/>
                <p:nvPr/>
              </p:nvSpPr>
              <p:spPr>
                <a:xfrm flipH="1" rot="20273400">
                  <a:off x="8413920" y="4798440"/>
                  <a:ext cx="105840" cy="51840"/>
                </a:xfrm>
                <a:custGeom>
                  <a:avLst/>
                  <a:gdLst/>
                  <a:ahLst/>
                  <a:rect l="l" t="t" r="r" b="b"/>
                  <a:pathLst>
                    <a:path w="83" h="35">
                      <a:moveTo>
                        <a:pt x="0" y="0"/>
                      </a:moveTo>
                      <a:lnTo>
                        <a:pt x="8" y="0"/>
                      </a:lnTo>
                      <a:lnTo>
                        <a:pt x="14" y="0"/>
                      </a:lnTo>
                      <a:lnTo>
                        <a:pt x="20" y="0"/>
                      </a:lnTo>
                      <a:lnTo>
                        <a:pt x="26" y="2"/>
                      </a:lnTo>
                      <a:lnTo>
                        <a:pt x="32" y="4"/>
                      </a:lnTo>
                      <a:lnTo>
                        <a:pt x="38" y="8"/>
                      </a:lnTo>
                      <a:lnTo>
                        <a:pt x="44" y="10"/>
                      </a:lnTo>
                      <a:lnTo>
                        <a:pt x="48" y="16"/>
                      </a:lnTo>
                      <a:lnTo>
                        <a:pt x="54" y="18"/>
                      </a:lnTo>
                      <a:lnTo>
                        <a:pt x="58" y="24"/>
                      </a:lnTo>
                      <a:lnTo>
                        <a:pt x="64" y="28"/>
                      </a:lnTo>
                      <a:lnTo>
                        <a:pt x="70" y="30"/>
                      </a:lnTo>
                      <a:lnTo>
                        <a:pt x="76" y="34"/>
                      </a:lnTo>
                      <a:lnTo>
                        <a:pt x="82" y="30"/>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242" name=""/>
              <p:cNvSpPr/>
              <p:nvPr/>
            </p:nvSpPr>
            <p:spPr>
              <a:xfrm flipH="1" rot="20273400">
                <a:off x="8067960" y="4720320"/>
                <a:ext cx="208080" cy="112320"/>
              </a:xfrm>
              <a:custGeom>
                <a:avLst/>
                <a:gdLst/>
                <a:ahLst/>
                <a:rect l="l" t="t" r="r" b="b"/>
                <a:pathLst>
                  <a:path w="163" h="75">
                    <a:moveTo>
                      <a:pt x="0" y="63"/>
                    </a:moveTo>
                    <a:lnTo>
                      <a:pt x="10" y="58"/>
                    </a:lnTo>
                    <a:lnTo>
                      <a:pt x="18" y="52"/>
                    </a:lnTo>
                    <a:lnTo>
                      <a:pt x="25" y="52"/>
                    </a:lnTo>
                    <a:lnTo>
                      <a:pt x="33" y="52"/>
                    </a:lnTo>
                    <a:lnTo>
                      <a:pt x="41" y="52"/>
                    </a:lnTo>
                    <a:lnTo>
                      <a:pt x="48" y="52"/>
                    </a:lnTo>
                    <a:lnTo>
                      <a:pt x="56" y="52"/>
                    </a:lnTo>
                    <a:lnTo>
                      <a:pt x="64" y="52"/>
                    </a:lnTo>
                    <a:lnTo>
                      <a:pt x="72" y="52"/>
                    </a:lnTo>
                    <a:lnTo>
                      <a:pt x="79" y="58"/>
                    </a:lnTo>
                    <a:lnTo>
                      <a:pt x="87" y="63"/>
                    </a:lnTo>
                    <a:lnTo>
                      <a:pt x="95" y="68"/>
                    </a:lnTo>
                    <a:lnTo>
                      <a:pt x="102" y="68"/>
                    </a:lnTo>
                    <a:lnTo>
                      <a:pt x="110" y="74"/>
                    </a:lnTo>
                    <a:lnTo>
                      <a:pt x="118" y="74"/>
                    </a:lnTo>
                    <a:lnTo>
                      <a:pt x="120" y="58"/>
                    </a:lnTo>
                    <a:lnTo>
                      <a:pt x="126" y="42"/>
                    </a:lnTo>
                    <a:lnTo>
                      <a:pt x="136" y="37"/>
                    </a:lnTo>
                    <a:lnTo>
                      <a:pt x="146" y="31"/>
                    </a:lnTo>
                    <a:lnTo>
                      <a:pt x="154" y="31"/>
                    </a:lnTo>
                    <a:lnTo>
                      <a:pt x="162" y="31"/>
                    </a:lnTo>
                    <a:lnTo>
                      <a:pt x="154" y="26"/>
                    </a:lnTo>
                    <a:lnTo>
                      <a:pt x="146" y="26"/>
                    </a:lnTo>
                    <a:lnTo>
                      <a:pt x="146" y="10"/>
                    </a:lnTo>
                    <a:lnTo>
                      <a:pt x="138" y="15"/>
                    </a:lnTo>
                    <a:lnTo>
                      <a:pt x="133" y="31"/>
                    </a:lnTo>
                    <a:lnTo>
                      <a:pt x="126" y="15"/>
                    </a:lnTo>
                    <a:lnTo>
                      <a:pt x="120" y="0"/>
                    </a:lnTo>
                    <a:lnTo>
                      <a:pt x="113" y="15"/>
                    </a:lnTo>
                    <a:lnTo>
                      <a:pt x="108" y="31"/>
                    </a:lnTo>
                    <a:lnTo>
                      <a:pt x="100" y="42"/>
                    </a:lnTo>
                    <a:lnTo>
                      <a:pt x="95" y="26"/>
                    </a:lnTo>
                    <a:lnTo>
                      <a:pt x="87" y="31"/>
                    </a:lnTo>
                    <a:lnTo>
                      <a:pt x="79" y="37"/>
                    </a:lnTo>
                    <a:lnTo>
                      <a:pt x="72" y="26"/>
                    </a:lnTo>
                    <a:lnTo>
                      <a:pt x="64" y="15"/>
                    </a:lnTo>
                    <a:lnTo>
                      <a:pt x="56" y="10"/>
                    </a:lnTo>
                    <a:lnTo>
                      <a:pt x="54" y="26"/>
                    </a:lnTo>
                    <a:lnTo>
                      <a:pt x="46" y="37"/>
                    </a:lnTo>
                    <a:lnTo>
                      <a:pt x="38" y="37"/>
                    </a:lnTo>
                    <a:lnTo>
                      <a:pt x="30" y="21"/>
                    </a:lnTo>
                    <a:lnTo>
                      <a:pt x="23" y="21"/>
                    </a:lnTo>
                    <a:lnTo>
                      <a:pt x="15" y="31"/>
                    </a:lnTo>
                    <a:lnTo>
                      <a:pt x="7" y="42"/>
                    </a:lnTo>
                    <a:lnTo>
                      <a:pt x="0" y="63"/>
                    </a:lnTo>
                    <a:lnTo>
                      <a:pt x="0" y="63"/>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20273400">
                <a:off x="7946280" y="4844160"/>
                <a:ext cx="144360" cy="284760"/>
              </a:xfrm>
              <a:custGeom>
                <a:avLst/>
                <a:gdLst/>
                <a:ahLst/>
                <a:rect l="l" t="t" r="r" b="b"/>
                <a:pathLst>
                  <a:path w="113" h="190">
                    <a:moveTo>
                      <a:pt x="16" y="60"/>
                    </a:moveTo>
                    <a:lnTo>
                      <a:pt x="25" y="50"/>
                    </a:lnTo>
                    <a:lnTo>
                      <a:pt x="29" y="45"/>
                    </a:lnTo>
                    <a:lnTo>
                      <a:pt x="34" y="41"/>
                    </a:lnTo>
                    <a:lnTo>
                      <a:pt x="40" y="37"/>
                    </a:lnTo>
                    <a:lnTo>
                      <a:pt x="45" y="33"/>
                    </a:lnTo>
                    <a:lnTo>
                      <a:pt x="49" y="27"/>
                    </a:lnTo>
                    <a:lnTo>
                      <a:pt x="57" y="24"/>
                    </a:lnTo>
                    <a:lnTo>
                      <a:pt x="62" y="20"/>
                    </a:lnTo>
                    <a:lnTo>
                      <a:pt x="71" y="15"/>
                    </a:lnTo>
                    <a:lnTo>
                      <a:pt x="80" y="11"/>
                    </a:lnTo>
                    <a:lnTo>
                      <a:pt x="88" y="3"/>
                    </a:lnTo>
                    <a:lnTo>
                      <a:pt x="95" y="0"/>
                    </a:lnTo>
                    <a:lnTo>
                      <a:pt x="100" y="6"/>
                    </a:lnTo>
                    <a:lnTo>
                      <a:pt x="106" y="10"/>
                    </a:lnTo>
                    <a:lnTo>
                      <a:pt x="105" y="17"/>
                    </a:lnTo>
                    <a:lnTo>
                      <a:pt x="101" y="22"/>
                    </a:lnTo>
                    <a:lnTo>
                      <a:pt x="105" y="30"/>
                    </a:lnTo>
                    <a:lnTo>
                      <a:pt x="106" y="38"/>
                    </a:lnTo>
                    <a:lnTo>
                      <a:pt x="100" y="42"/>
                    </a:lnTo>
                    <a:lnTo>
                      <a:pt x="103" y="52"/>
                    </a:lnTo>
                    <a:lnTo>
                      <a:pt x="107" y="57"/>
                    </a:lnTo>
                    <a:lnTo>
                      <a:pt x="111" y="65"/>
                    </a:lnTo>
                    <a:lnTo>
                      <a:pt x="112" y="73"/>
                    </a:lnTo>
                    <a:lnTo>
                      <a:pt x="112" y="81"/>
                    </a:lnTo>
                    <a:lnTo>
                      <a:pt x="107" y="85"/>
                    </a:lnTo>
                    <a:lnTo>
                      <a:pt x="98" y="90"/>
                    </a:lnTo>
                    <a:lnTo>
                      <a:pt x="90" y="93"/>
                    </a:lnTo>
                    <a:lnTo>
                      <a:pt x="83" y="96"/>
                    </a:lnTo>
                    <a:lnTo>
                      <a:pt x="79" y="101"/>
                    </a:lnTo>
                    <a:lnTo>
                      <a:pt x="73" y="105"/>
                    </a:lnTo>
                    <a:lnTo>
                      <a:pt x="68" y="109"/>
                    </a:lnTo>
                    <a:lnTo>
                      <a:pt x="62" y="113"/>
                    </a:lnTo>
                    <a:lnTo>
                      <a:pt x="58" y="121"/>
                    </a:lnTo>
                    <a:lnTo>
                      <a:pt x="54" y="126"/>
                    </a:lnTo>
                    <a:lnTo>
                      <a:pt x="50" y="132"/>
                    </a:lnTo>
                    <a:lnTo>
                      <a:pt x="47" y="137"/>
                    </a:lnTo>
                    <a:lnTo>
                      <a:pt x="43" y="143"/>
                    </a:lnTo>
                    <a:lnTo>
                      <a:pt x="38" y="147"/>
                    </a:lnTo>
                    <a:lnTo>
                      <a:pt x="34" y="152"/>
                    </a:lnTo>
                    <a:lnTo>
                      <a:pt x="31" y="158"/>
                    </a:lnTo>
                    <a:lnTo>
                      <a:pt x="27" y="163"/>
                    </a:lnTo>
                    <a:lnTo>
                      <a:pt x="24" y="169"/>
                    </a:lnTo>
                    <a:lnTo>
                      <a:pt x="22" y="175"/>
                    </a:lnTo>
                    <a:lnTo>
                      <a:pt x="21" y="182"/>
                    </a:lnTo>
                    <a:lnTo>
                      <a:pt x="19" y="189"/>
                    </a:lnTo>
                    <a:lnTo>
                      <a:pt x="14" y="183"/>
                    </a:lnTo>
                    <a:lnTo>
                      <a:pt x="10" y="176"/>
                    </a:lnTo>
                    <a:lnTo>
                      <a:pt x="8" y="166"/>
                    </a:lnTo>
                    <a:lnTo>
                      <a:pt x="4" y="159"/>
                    </a:lnTo>
                    <a:lnTo>
                      <a:pt x="4" y="150"/>
                    </a:lnTo>
                    <a:lnTo>
                      <a:pt x="0" y="143"/>
                    </a:lnTo>
                    <a:lnTo>
                      <a:pt x="1" y="136"/>
                    </a:lnTo>
                    <a:lnTo>
                      <a:pt x="1" y="128"/>
                    </a:lnTo>
                    <a:lnTo>
                      <a:pt x="0" y="120"/>
                    </a:lnTo>
                    <a:lnTo>
                      <a:pt x="4" y="114"/>
                    </a:lnTo>
                    <a:lnTo>
                      <a:pt x="7" y="109"/>
                    </a:lnTo>
                    <a:lnTo>
                      <a:pt x="9" y="102"/>
                    </a:lnTo>
                    <a:lnTo>
                      <a:pt x="10" y="95"/>
                    </a:lnTo>
                    <a:lnTo>
                      <a:pt x="10" y="87"/>
                    </a:lnTo>
                    <a:lnTo>
                      <a:pt x="5" y="81"/>
                    </a:lnTo>
                    <a:lnTo>
                      <a:pt x="1" y="74"/>
                    </a:lnTo>
                    <a:lnTo>
                      <a:pt x="1" y="66"/>
                    </a:lnTo>
                    <a:lnTo>
                      <a:pt x="16" y="60"/>
                    </a:lnTo>
                    <a:lnTo>
                      <a:pt x="16" y="60"/>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rot="20273400">
                <a:off x="8285040" y="48672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5" name=""/>
              <p:cNvSpPr/>
              <p:nvPr/>
            </p:nvSpPr>
            <p:spPr>
              <a:xfrm flipH="1" rot="20273400">
                <a:off x="8212320" y="48708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6" name=""/>
              <p:cNvSpPr/>
              <p:nvPr/>
            </p:nvSpPr>
            <p:spPr>
              <a:xfrm flipH="1" rot="20273400">
                <a:off x="8193240" y="493992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sp>
        <p:nvSpPr>
          <p:cNvPr id="247" name=""/>
          <p:cNvSpPr/>
          <p:nvPr/>
        </p:nvSpPr>
        <p:spPr>
          <a:xfrm>
            <a:off x="6300720" y="184464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69696"/>
                </a:solidFill>
                <a:latin typeface="Tahoma"/>
              </a:rPr>
              <a:t>10%</a:t>
            </a:r>
            <a:endParaRPr b="0" lang="en-US" sz="3600" spc="-1" strike="noStrike">
              <a:solidFill>
                <a:srgbClr val="000000"/>
              </a:solidFill>
              <a:latin typeface="Arial"/>
            </a:endParaRPr>
          </a:p>
        </p:txBody>
      </p:sp>
      <p:sp>
        <p:nvSpPr>
          <p:cNvPr id="248" name=""/>
          <p:cNvSpPr/>
          <p:nvPr/>
        </p:nvSpPr>
        <p:spPr>
          <a:xfrm>
            <a:off x="6300720" y="278136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69696"/>
                </a:solidFill>
                <a:latin typeface="Tahoma"/>
              </a:rPr>
              <a:t>30%</a:t>
            </a:r>
            <a:endParaRPr b="0" lang="en-US" sz="3600" spc="-1" strike="noStrike">
              <a:solidFill>
                <a:srgbClr val="000000"/>
              </a:solidFill>
              <a:latin typeface="Arial"/>
            </a:endParaRPr>
          </a:p>
        </p:txBody>
      </p:sp>
      <p:sp>
        <p:nvSpPr>
          <p:cNvPr id="249" name=""/>
          <p:cNvSpPr/>
          <p:nvPr/>
        </p:nvSpPr>
        <p:spPr>
          <a:xfrm>
            <a:off x="6372360" y="364500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69696"/>
                </a:solidFill>
                <a:latin typeface="Tahoma"/>
              </a:rPr>
              <a:t>40%</a:t>
            </a:r>
            <a:endParaRPr b="0" lang="en-US" sz="3600" spc="-1" strike="noStrike">
              <a:solidFill>
                <a:srgbClr val="000000"/>
              </a:solidFill>
              <a:latin typeface="Arial"/>
            </a:endParaRPr>
          </a:p>
        </p:txBody>
      </p:sp>
      <p:sp>
        <p:nvSpPr>
          <p:cNvPr id="250" name=""/>
          <p:cNvSpPr/>
          <p:nvPr/>
        </p:nvSpPr>
        <p:spPr>
          <a:xfrm>
            <a:off x="6372360" y="450864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69696"/>
                </a:solidFill>
                <a:latin typeface="Tahoma"/>
              </a:rPr>
              <a:t>15%</a:t>
            </a:r>
            <a:endParaRPr b="0" lang="en-US" sz="3600" spc="-1" strike="noStrike">
              <a:solidFill>
                <a:srgbClr val="000000"/>
              </a:solidFill>
              <a:latin typeface="Arial"/>
            </a:endParaRPr>
          </a:p>
        </p:txBody>
      </p:sp>
      <p:sp>
        <p:nvSpPr>
          <p:cNvPr id="251" name=""/>
          <p:cNvSpPr/>
          <p:nvPr/>
        </p:nvSpPr>
        <p:spPr>
          <a:xfrm>
            <a:off x="6300720" y="544500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69696"/>
                </a:solidFill>
                <a:latin typeface="Tahoma"/>
              </a:rPr>
              <a:t>5%</a:t>
            </a:r>
            <a:endParaRPr b="0" lang="en-US" sz="3600" spc="-1" strike="noStrike">
              <a:solidFill>
                <a:srgbClr val="000000"/>
              </a:solidFill>
              <a:latin typeface="Arial"/>
            </a:endParaRPr>
          </a:p>
        </p:txBody>
      </p:sp>
      <p:sp>
        <p:nvSpPr>
          <p:cNvPr id="252" name=""/>
          <p:cNvSpPr/>
          <p:nvPr/>
        </p:nvSpPr>
        <p:spPr>
          <a:xfrm>
            <a:off x="250920" y="1413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But…..</a:t>
            </a:r>
            <a:endParaRPr b="0" lang="en-US" sz="3600" spc="-1" strike="noStrike">
              <a:solidFill>
                <a:srgbClr val="000000"/>
              </a:solidFill>
              <a:latin typeface="Arial"/>
            </a:endParaRPr>
          </a:p>
        </p:txBody>
      </p:sp>
      <p:sp>
        <p:nvSpPr>
          <p:cNvPr id="253" name=""/>
          <p:cNvSpPr/>
          <p:nvPr/>
        </p:nvSpPr>
        <p:spPr>
          <a:xfrm>
            <a:off x="395280" y="4869000"/>
            <a:ext cx="59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Quite a lot of water bodies will be in the wrong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254" name=""/>
          <p:cNvSpPr/>
          <p:nvPr/>
        </p:nvSpPr>
        <p:spPr>
          <a:xfrm>
            <a:off x="1619280" y="2822400"/>
            <a:ext cx="235080" cy="87336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192560" y="2870280"/>
            <a:ext cx="235080" cy="71748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765440" y="1963800"/>
            <a:ext cx="2509560" cy="2760480"/>
          </a:xfrm>
          <a:prstGeom prst="ellipse">
            <a:avLst/>
          </a:prstGeom>
          <a:solidFill>
            <a:srgbClr val="ffd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470320" y="2879640"/>
            <a:ext cx="366480" cy="42228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97240" y="2882880"/>
            <a:ext cx="366840" cy="423720"/>
          </a:xfrm>
          <a:prstGeom prst="ellipse">
            <a:avLst/>
          </a:prstGeom>
          <a:solidFill>
            <a:srgbClr val="dce8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556000" y="3141720"/>
            <a:ext cx="14580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419640" y="3141720"/>
            <a:ext cx="145800" cy="15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898640" y="1709640"/>
            <a:ext cx="557280" cy="451080"/>
          </a:xfrm>
          <a:custGeom>
            <a:avLst/>
            <a:gdLst/>
            <a:ahLst/>
            <a:rect l="l" t="t" r="r" b="b"/>
            <a:pathLst>
              <a:path w="456" h="384">
                <a:moveTo>
                  <a:pt x="456" y="384"/>
                </a:moveTo>
                <a:cubicBezTo>
                  <a:pt x="444" y="372"/>
                  <a:pt x="435" y="355"/>
                  <a:pt x="420" y="348"/>
                </a:cubicBezTo>
                <a:cubicBezTo>
                  <a:pt x="390" y="334"/>
                  <a:pt x="324" y="324"/>
                  <a:pt x="324" y="324"/>
                </a:cubicBezTo>
                <a:cubicBezTo>
                  <a:pt x="308" y="296"/>
                  <a:pt x="284" y="271"/>
                  <a:pt x="276" y="240"/>
                </a:cubicBezTo>
                <a:cubicBezTo>
                  <a:pt x="220" y="25"/>
                  <a:pt x="319" y="70"/>
                  <a:pt x="216" y="36"/>
                </a:cubicBezTo>
                <a:cubicBezTo>
                  <a:pt x="132" y="50"/>
                  <a:pt x="80" y="40"/>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470320" y="1554120"/>
            <a:ext cx="249120" cy="522360"/>
          </a:xfrm>
          <a:custGeom>
            <a:avLst/>
            <a:gdLst/>
            <a:ahLst/>
            <a:rect l="l" t="t" r="r" b="b"/>
            <a:pathLst>
              <a:path w="204" h="444">
                <a:moveTo>
                  <a:pt x="204" y="444"/>
                </a:moveTo>
                <a:cubicBezTo>
                  <a:pt x="197" y="411"/>
                  <a:pt x="173" y="317"/>
                  <a:pt x="156" y="288"/>
                </a:cubicBezTo>
                <a:cubicBezTo>
                  <a:pt x="130" y="242"/>
                  <a:pt x="67" y="209"/>
                  <a:pt x="24" y="180"/>
                </a:cubicBezTo>
                <a:cubicBezTo>
                  <a:pt x="31" y="144"/>
                  <a:pt x="48" y="109"/>
                  <a:pt x="48" y="72"/>
                </a:cubicBezTo>
                <a:cubicBezTo>
                  <a:pt x="48" y="24"/>
                  <a:pt x="0" y="37"/>
                  <a:pt x="0"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970360" y="1498680"/>
            <a:ext cx="255600" cy="479520"/>
          </a:xfrm>
          <a:custGeom>
            <a:avLst/>
            <a:gdLst/>
            <a:ahLst/>
            <a:rect l="l" t="t" r="r" b="b"/>
            <a:pathLst>
              <a:path w="210" h="408">
                <a:moveTo>
                  <a:pt x="0" y="408"/>
                </a:moveTo>
                <a:cubicBezTo>
                  <a:pt x="4" y="382"/>
                  <a:pt x="9" y="311"/>
                  <a:pt x="36" y="288"/>
                </a:cubicBezTo>
                <a:cubicBezTo>
                  <a:pt x="48" y="278"/>
                  <a:pt x="145" y="236"/>
                  <a:pt x="168" y="228"/>
                </a:cubicBezTo>
                <a:cubicBezTo>
                  <a:pt x="182" y="207"/>
                  <a:pt x="210" y="173"/>
                  <a:pt x="204" y="144"/>
                </a:cubicBezTo>
                <a:cubicBezTo>
                  <a:pt x="199" y="121"/>
                  <a:pt x="178" y="105"/>
                  <a:pt x="168" y="84"/>
                </a:cubicBezTo>
                <a:cubicBezTo>
                  <a:pt x="151" y="50"/>
                  <a:pt x="156" y="39"/>
                  <a:pt x="15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600360" y="1793880"/>
            <a:ext cx="279360" cy="436680"/>
          </a:xfrm>
          <a:custGeom>
            <a:avLst/>
            <a:gdLst/>
            <a:ahLst/>
            <a:rect l="l" t="t" r="r" b="b"/>
            <a:pathLst>
              <a:path w="228" h="372">
                <a:moveTo>
                  <a:pt x="0" y="372"/>
                </a:moveTo>
                <a:cubicBezTo>
                  <a:pt x="4" y="332"/>
                  <a:pt x="6" y="292"/>
                  <a:pt x="12" y="252"/>
                </a:cubicBezTo>
                <a:cubicBezTo>
                  <a:pt x="14" y="236"/>
                  <a:pt x="13" y="217"/>
                  <a:pt x="24" y="204"/>
                </a:cubicBezTo>
                <a:cubicBezTo>
                  <a:pt x="35" y="190"/>
                  <a:pt x="56" y="189"/>
                  <a:pt x="72" y="180"/>
                </a:cubicBezTo>
                <a:cubicBezTo>
                  <a:pt x="132" y="147"/>
                  <a:pt x="128" y="147"/>
                  <a:pt x="180" y="108"/>
                </a:cubicBezTo>
                <a:cubicBezTo>
                  <a:pt x="194" y="66"/>
                  <a:pt x="196" y="32"/>
                  <a:pt x="22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351240" y="1484280"/>
            <a:ext cx="125280" cy="606600"/>
          </a:xfrm>
          <a:custGeom>
            <a:avLst/>
            <a:gdLst/>
            <a:ahLst/>
            <a:rect l="l" t="t" r="r" b="b"/>
            <a:pathLst>
              <a:path w="103" h="516">
                <a:moveTo>
                  <a:pt x="0" y="516"/>
                </a:moveTo>
                <a:cubicBezTo>
                  <a:pt x="8" y="432"/>
                  <a:pt x="16" y="348"/>
                  <a:pt x="24" y="264"/>
                </a:cubicBezTo>
                <a:cubicBezTo>
                  <a:pt x="28" y="226"/>
                  <a:pt x="84" y="168"/>
                  <a:pt x="84" y="168"/>
                </a:cubicBezTo>
                <a:cubicBezTo>
                  <a:pt x="103" y="94"/>
                  <a:pt x="101" y="144"/>
                  <a:pt x="72" y="72"/>
                </a:cubicBezTo>
                <a:cubicBezTo>
                  <a:pt x="63" y="49"/>
                  <a:pt x="48" y="0"/>
                  <a:pt x="48"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849840" y="1963800"/>
            <a:ext cx="484200" cy="309600"/>
          </a:xfrm>
          <a:custGeom>
            <a:avLst/>
            <a:gdLst/>
            <a:ahLst/>
            <a:rect l="l" t="t" r="r" b="b"/>
            <a:pathLst>
              <a:path w="396" h="264">
                <a:moveTo>
                  <a:pt x="0" y="264"/>
                </a:moveTo>
                <a:cubicBezTo>
                  <a:pt x="85" y="207"/>
                  <a:pt x="202" y="196"/>
                  <a:pt x="300" y="180"/>
                </a:cubicBezTo>
                <a:cubicBezTo>
                  <a:pt x="312" y="164"/>
                  <a:pt x="326" y="149"/>
                  <a:pt x="336" y="132"/>
                </a:cubicBezTo>
                <a:cubicBezTo>
                  <a:pt x="364" y="84"/>
                  <a:pt x="351" y="45"/>
                  <a:pt x="396" y="0"/>
                </a:cubicBezTo>
              </a:path>
            </a:pathLst>
          </a:custGeom>
          <a:noFill/>
          <a:ln w="936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952720" y="3244680"/>
            <a:ext cx="163440" cy="495360"/>
          </a:xfrm>
          <a:custGeom>
            <a:avLst/>
            <a:gdLst/>
            <a:ahLst/>
            <a:rect l="l" t="t" r="r" b="b"/>
            <a:pathLst>
              <a:path w="134" h="421">
                <a:moveTo>
                  <a:pt x="86" y="0"/>
                </a:moveTo>
                <a:cubicBezTo>
                  <a:pt x="98" y="125"/>
                  <a:pt x="109" y="162"/>
                  <a:pt x="86" y="300"/>
                </a:cubicBezTo>
                <a:cubicBezTo>
                  <a:pt x="86" y="301"/>
                  <a:pt x="0" y="421"/>
                  <a:pt x="38" y="408"/>
                </a:cubicBezTo>
                <a:cubicBezTo>
                  <a:pt x="93" y="390"/>
                  <a:pt x="61" y="396"/>
                  <a:pt x="134" y="3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00200" y="2451240"/>
            <a:ext cx="263520" cy="131760"/>
          </a:xfrm>
          <a:custGeom>
            <a:avLst/>
            <a:gdLst/>
            <a:ahLst/>
            <a:rect l="l" t="t" r="r" b="b"/>
            <a:pathLst>
              <a:path w="216" h="112">
                <a:moveTo>
                  <a:pt x="0" y="112"/>
                </a:moveTo>
                <a:cubicBezTo>
                  <a:pt x="18" y="60"/>
                  <a:pt x="36" y="8"/>
                  <a:pt x="72" y="4"/>
                </a:cubicBezTo>
                <a:cubicBezTo>
                  <a:pt x="108" y="0"/>
                  <a:pt x="162" y="44"/>
                  <a:pt x="216" y="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3218760" y="2440080"/>
            <a:ext cx="307800" cy="114120"/>
          </a:xfrm>
          <a:custGeom>
            <a:avLst/>
            <a:gdLst/>
            <a:ahLst/>
            <a:rect l="l" t="t" r="r" b="b"/>
            <a:pathLst>
              <a:path w="252" h="98">
                <a:moveTo>
                  <a:pt x="0" y="98"/>
                </a:moveTo>
                <a:cubicBezTo>
                  <a:pt x="15" y="51"/>
                  <a:pt x="30" y="4"/>
                  <a:pt x="72" y="2"/>
                </a:cubicBezTo>
                <a:cubicBezTo>
                  <a:pt x="114" y="0"/>
                  <a:pt x="183" y="43"/>
                  <a:pt x="252" y="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585880" y="3805200"/>
            <a:ext cx="804960" cy="223920"/>
          </a:xfrm>
          <a:custGeom>
            <a:avLst/>
            <a:gdLst/>
            <a:ahLst/>
            <a:rect l="l" t="t" r="r" b="b"/>
            <a:pathLst>
              <a:path w="507" h="141">
                <a:moveTo>
                  <a:pt x="0" y="121"/>
                </a:moveTo>
                <a:cubicBezTo>
                  <a:pt x="37" y="91"/>
                  <a:pt x="102" y="0"/>
                  <a:pt x="135" y="33"/>
                </a:cubicBezTo>
                <a:cubicBezTo>
                  <a:pt x="179" y="21"/>
                  <a:pt x="259" y="18"/>
                  <a:pt x="305" y="22"/>
                </a:cubicBezTo>
                <a:cubicBezTo>
                  <a:pt x="351" y="26"/>
                  <a:pt x="382" y="40"/>
                  <a:pt x="412" y="55"/>
                </a:cubicBezTo>
                <a:cubicBezTo>
                  <a:pt x="443" y="72"/>
                  <a:pt x="470" y="99"/>
                  <a:pt x="486" y="113"/>
                </a:cubicBezTo>
                <a:cubicBezTo>
                  <a:pt x="502" y="127"/>
                  <a:pt x="503" y="135"/>
                  <a:pt x="507" y="14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PlaceHolder 1"/>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42492"/>
                </a:solidFill>
                <a:latin typeface="Tahoma"/>
              </a:rPr>
              <a:t>Uncertainty as an issue in river basin management</a:t>
            </a:r>
            <a:endParaRPr b="0" lang="en-US" sz="4000" spc="-1" strike="noStrike">
              <a:solidFill>
                <a:srgbClr val="242492"/>
              </a:solidFill>
              <a:latin typeface="Tahoma"/>
            </a:endParaRPr>
          </a:p>
        </p:txBody>
      </p:sp>
      <p:grpSp>
        <p:nvGrpSpPr>
          <p:cNvPr id="272" name=""/>
          <p:cNvGrpSpPr/>
          <p:nvPr/>
        </p:nvGrpSpPr>
        <p:grpSpPr>
          <a:xfrm>
            <a:off x="7740720" y="1700280"/>
            <a:ext cx="1041480" cy="4536720"/>
            <a:chOff x="7740720" y="1700280"/>
            <a:chExt cx="1041480" cy="4536720"/>
          </a:xfrm>
        </p:grpSpPr>
        <p:grpSp>
          <p:nvGrpSpPr>
            <p:cNvPr id="273" name=""/>
            <p:cNvGrpSpPr/>
            <p:nvPr/>
          </p:nvGrpSpPr>
          <p:grpSpPr>
            <a:xfrm>
              <a:off x="7740720" y="1700280"/>
              <a:ext cx="1009440" cy="4536720"/>
              <a:chOff x="7740720" y="1700280"/>
              <a:chExt cx="1009440" cy="4536720"/>
            </a:xfrm>
          </p:grpSpPr>
          <p:sp>
            <p:nvSpPr>
              <p:cNvPr id="274" name=""/>
              <p:cNvSpPr/>
              <p:nvPr/>
            </p:nvSpPr>
            <p:spPr>
              <a:xfrm>
                <a:off x="7740720" y="1700280"/>
                <a:ext cx="1009440" cy="898560"/>
              </a:xfrm>
              <a:prstGeom prst="rect">
                <a:avLst/>
              </a:prstGeom>
              <a:solidFill>
                <a:srgbClr val="00ffff"/>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740720" y="2610000"/>
                <a:ext cx="1009440" cy="898560"/>
              </a:xfrm>
              <a:prstGeom prst="rect">
                <a:avLst/>
              </a:prstGeom>
              <a:solidFill>
                <a:srgbClr val="00ff66"/>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740720" y="3520080"/>
                <a:ext cx="1009440" cy="896760"/>
              </a:xfrm>
              <a:prstGeom prst="rect">
                <a:avLst/>
              </a:prstGeom>
              <a:solidFill>
                <a:srgbClr val="ffff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740720" y="4428720"/>
                <a:ext cx="1009440" cy="898200"/>
              </a:xfrm>
              <a:prstGeom prst="rect">
                <a:avLst/>
              </a:prstGeom>
              <a:solidFill>
                <a:srgbClr val="ff9900"/>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740720" y="5338800"/>
                <a:ext cx="1009440" cy="898200"/>
              </a:xfrm>
              <a:prstGeom prst="rect">
                <a:avLst/>
              </a:prstGeom>
              <a:solidFill>
                <a:srgbClr val="ff0033"/>
              </a:solidFill>
              <a:ln w="12600">
                <a:solidFill>
                  <a:srgbClr val="dce8f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 name=""/>
            <p:cNvGrpSpPr/>
            <p:nvPr/>
          </p:nvGrpSpPr>
          <p:grpSpPr>
            <a:xfrm>
              <a:off x="8006400" y="5749920"/>
              <a:ext cx="517320" cy="181800"/>
              <a:chOff x="8006400" y="5749920"/>
              <a:chExt cx="517320" cy="181800"/>
            </a:xfrm>
          </p:grpSpPr>
          <p:sp>
            <p:nvSpPr>
              <p:cNvPr id="280" name=""/>
              <p:cNvSpPr/>
              <p:nvPr/>
            </p:nvSpPr>
            <p:spPr>
              <a:xfrm>
                <a:off x="8089560" y="5828040"/>
                <a:ext cx="351000" cy="19440"/>
              </a:xfrm>
              <a:prstGeom prst="line">
                <a:avLst/>
              </a:prstGeom>
              <a:ln w="25560">
                <a:solidFill>
                  <a:srgbClr val="dce8f4"/>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81" name=""/>
              <p:cNvSpPr/>
              <p:nvPr/>
            </p:nvSpPr>
            <p:spPr>
              <a:xfrm rot="240000">
                <a:off x="8440200" y="5752080"/>
                <a:ext cx="77400" cy="176760"/>
              </a:xfrm>
              <a:custGeom>
                <a:avLst/>
                <a:gdLst/>
                <a:ahLst/>
                <a:rect l="l" t="t" r="r" b="b"/>
                <a:pathLst>
                  <a:path stroke="0" w="21600" h="21600">
                    <a:moveTo>
                      <a:pt x="8949" y="21440"/>
                    </a:moveTo>
                    <a:arcTo wR="10800" hR="10800" stAng="5992196" swAng="9317479"/>
                    <a:lnTo>
                      <a:pt x="10800" y="10800"/>
                    </a:lnTo>
                    <a:close/>
                  </a:path>
                  <a:path fill="none" w="21600" h="21600">
                    <a:moveTo>
                      <a:pt x="8949" y="21440"/>
                    </a:moveTo>
                    <a:arcTo wR="10800" hR="10800" stAng="5992196" swAng="9317479"/>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40000">
                <a:off x="8305920" y="5768280"/>
                <a:ext cx="110520" cy="142920"/>
              </a:xfrm>
              <a:custGeom>
                <a:avLst/>
                <a:gdLst/>
                <a:ahLst/>
                <a:rect l="l" t="t" r="r" b="b"/>
                <a:pathLst>
                  <a:path stroke="0" w="21600" h="21600">
                    <a:moveTo>
                      <a:pt x="5145" y="20001"/>
                    </a:moveTo>
                    <a:arcTo wR="10800" hR="10800" stAng="7294636" swAng="6895237"/>
                    <a:lnTo>
                      <a:pt x="10800" y="10800"/>
                    </a:lnTo>
                    <a:close/>
                  </a:path>
                  <a:path fill="none" w="21600" h="21600">
                    <a:moveTo>
                      <a:pt x="5145" y="20001"/>
                    </a:moveTo>
                    <a:arcTo wR="10800" hR="10800" stAng="7294636" swAng="6895237"/>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240000">
                <a:off x="8209080" y="5766120"/>
                <a:ext cx="112680" cy="145080"/>
              </a:xfrm>
              <a:custGeom>
                <a:avLst/>
                <a:gdLst/>
                <a:ahLst/>
                <a:rect l="l" t="t" r="r" b="b"/>
                <a:pathLst>
                  <a:path stroke="0" w="21600" h="21600">
                    <a:moveTo>
                      <a:pt x="5239" y="20058"/>
                    </a:moveTo>
                    <a:arcTo wR="10800" hR="10800" stAng="7259494" swAng="6966662"/>
                    <a:lnTo>
                      <a:pt x="10800" y="10800"/>
                    </a:lnTo>
                    <a:close/>
                  </a:path>
                  <a:path fill="none" w="21600" h="21600">
                    <a:moveTo>
                      <a:pt x="5239" y="20058"/>
                    </a:moveTo>
                    <a:arcTo wR="10800" hR="10800" stAng="7259494" swAng="6966662"/>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240000">
                <a:off x="8262720" y="5767200"/>
                <a:ext cx="110520" cy="144000"/>
              </a:xfrm>
              <a:custGeom>
                <a:avLst/>
                <a:gdLst/>
                <a:ahLst/>
                <a:rect l="l" t="t" r="r" b="b"/>
                <a:pathLst>
                  <a:path stroke="0" w="21600" h="21600">
                    <a:moveTo>
                      <a:pt x="5157" y="20009"/>
                    </a:moveTo>
                    <a:arcTo wR="10800" hR="10800" stAng="7289984" swAng="6904688"/>
                    <a:lnTo>
                      <a:pt x="10800" y="10800"/>
                    </a:lnTo>
                    <a:close/>
                  </a:path>
                  <a:path fill="none" w="21600" h="21600">
                    <a:moveTo>
                      <a:pt x="5157" y="20009"/>
                    </a:moveTo>
                    <a:arcTo wR="10800" hR="10800" stAng="7289984" swAng="690468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240000">
                <a:off x="8171280" y="5766120"/>
                <a:ext cx="110520" cy="145800"/>
              </a:xfrm>
              <a:custGeom>
                <a:avLst/>
                <a:gdLst/>
                <a:ahLst/>
                <a:rect l="l" t="t" r="r" b="b"/>
                <a:pathLst>
                  <a:path stroke="0" w="21600" h="21600">
                    <a:moveTo>
                      <a:pt x="5121" y="19986"/>
                    </a:moveTo>
                    <a:arcTo wR="10800" hR="10800" stAng="7303626" swAng="6909543"/>
                    <a:lnTo>
                      <a:pt x="10800" y="10800"/>
                    </a:lnTo>
                    <a:close/>
                  </a:path>
                  <a:path fill="none" w="21600" h="21600">
                    <a:moveTo>
                      <a:pt x="5121" y="19986"/>
                    </a:moveTo>
                    <a:arcTo wR="10800" hR="10800" stAng="7303626" swAng="6909543"/>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240000">
                <a:off x="8348040" y="5776560"/>
                <a:ext cx="110520" cy="144000"/>
              </a:xfrm>
              <a:custGeom>
                <a:avLst/>
                <a:gdLst/>
                <a:ahLst/>
                <a:rect l="l" t="t" r="r" b="b"/>
                <a:pathLst>
                  <a:path stroke="0" w="21600" h="21600">
                    <a:moveTo>
                      <a:pt x="5107" y="19978"/>
                    </a:moveTo>
                    <a:arcTo wR="10800" hR="10800" stAng="7308543" swAng="6900278"/>
                    <a:lnTo>
                      <a:pt x="10800" y="10800"/>
                    </a:lnTo>
                    <a:close/>
                  </a:path>
                  <a:path fill="none" w="21600" h="21600">
                    <a:moveTo>
                      <a:pt x="5107" y="19978"/>
                    </a:moveTo>
                    <a:arcTo wR="10800" hR="10800" stAng="7308543" swAng="690027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240000">
                <a:off x="8132760" y="5757480"/>
                <a:ext cx="110520" cy="145080"/>
              </a:xfrm>
              <a:custGeom>
                <a:avLst/>
                <a:gdLst/>
                <a:ahLst/>
                <a:rect l="l" t="t" r="r" b="b"/>
                <a:pathLst>
                  <a:path stroke="0" w="21600" h="21600">
                    <a:moveTo>
                      <a:pt x="5358" y="20129"/>
                    </a:moveTo>
                    <a:arcTo wR="10800" hR="10800" stAng="7215386" swAng="7051958"/>
                    <a:lnTo>
                      <a:pt x="10800" y="10800"/>
                    </a:lnTo>
                    <a:close/>
                  </a:path>
                  <a:path fill="none" w="21600" h="21600">
                    <a:moveTo>
                      <a:pt x="5358" y="20129"/>
                    </a:moveTo>
                    <a:arcTo wR="10800" hR="10800" stAng="7215386" swAng="7051958"/>
                  </a:path>
                </a:pathLst>
              </a:custGeom>
              <a:noFill/>
              <a:ln cap="rnd" w="25560">
                <a:solidFill>
                  <a:srgbClr val="dce8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006400" y="5760360"/>
                <a:ext cx="100800" cy="120960"/>
              </a:xfrm>
              <a:custGeom>
                <a:avLst/>
                <a:gdLst/>
                <a:ahLst/>
                <a:rect l="l" t="t" r="r" b="b"/>
                <a:pathLst>
                  <a:path w="91" h="93">
                    <a:moveTo>
                      <a:pt x="67" y="8"/>
                    </a:moveTo>
                    <a:lnTo>
                      <a:pt x="62" y="11"/>
                    </a:lnTo>
                    <a:lnTo>
                      <a:pt x="58" y="14"/>
                    </a:lnTo>
                    <a:lnTo>
                      <a:pt x="52" y="13"/>
                    </a:lnTo>
                    <a:lnTo>
                      <a:pt x="50" y="17"/>
                    </a:lnTo>
                    <a:lnTo>
                      <a:pt x="46" y="17"/>
                    </a:lnTo>
                    <a:lnTo>
                      <a:pt x="42" y="20"/>
                    </a:lnTo>
                    <a:lnTo>
                      <a:pt x="38" y="22"/>
                    </a:lnTo>
                    <a:lnTo>
                      <a:pt x="34" y="23"/>
                    </a:lnTo>
                    <a:lnTo>
                      <a:pt x="30" y="25"/>
                    </a:lnTo>
                    <a:lnTo>
                      <a:pt x="28" y="30"/>
                    </a:lnTo>
                    <a:lnTo>
                      <a:pt x="25" y="33"/>
                    </a:lnTo>
                    <a:lnTo>
                      <a:pt x="26" y="38"/>
                    </a:lnTo>
                    <a:lnTo>
                      <a:pt x="21" y="38"/>
                    </a:lnTo>
                    <a:lnTo>
                      <a:pt x="17" y="39"/>
                    </a:lnTo>
                    <a:lnTo>
                      <a:pt x="11" y="39"/>
                    </a:lnTo>
                    <a:lnTo>
                      <a:pt x="7" y="46"/>
                    </a:lnTo>
                    <a:lnTo>
                      <a:pt x="4" y="53"/>
                    </a:lnTo>
                    <a:lnTo>
                      <a:pt x="3" y="55"/>
                    </a:lnTo>
                    <a:lnTo>
                      <a:pt x="2" y="58"/>
                    </a:lnTo>
                    <a:lnTo>
                      <a:pt x="2" y="61"/>
                    </a:lnTo>
                    <a:lnTo>
                      <a:pt x="0" y="64"/>
                    </a:lnTo>
                    <a:lnTo>
                      <a:pt x="6" y="68"/>
                    </a:lnTo>
                    <a:lnTo>
                      <a:pt x="10" y="68"/>
                    </a:lnTo>
                    <a:lnTo>
                      <a:pt x="16" y="70"/>
                    </a:lnTo>
                    <a:lnTo>
                      <a:pt x="21" y="73"/>
                    </a:lnTo>
                    <a:lnTo>
                      <a:pt x="27" y="76"/>
                    </a:lnTo>
                    <a:lnTo>
                      <a:pt x="32" y="79"/>
                    </a:lnTo>
                    <a:lnTo>
                      <a:pt x="40" y="85"/>
                    </a:lnTo>
                    <a:lnTo>
                      <a:pt x="49" y="87"/>
                    </a:lnTo>
                    <a:lnTo>
                      <a:pt x="52" y="87"/>
                    </a:lnTo>
                    <a:lnTo>
                      <a:pt x="57" y="88"/>
                    </a:lnTo>
                    <a:lnTo>
                      <a:pt x="74" y="90"/>
                    </a:lnTo>
                    <a:lnTo>
                      <a:pt x="89" y="92"/>
                    </a:lnTo>
                    <a:lnTo>
                      <a:pt x="90" y="88"/>
                    </a:lnTo>
                    <a:lnTo>
                      <a:pt x="89" y="85"/>
                    </a:lnTo>
                    <a:lnTo>
                      <a:pt x="88" y="81"/>
                    </a:lnTo>
                    <a:lnTo>
                      <a:pt x="85" y="75"/>
                    </a:lnTo>
                    <a:lnTo>
                      <a:pt x="84" y="73"/>
                    </a:lnTo>
                    <a:lnTo>
                      <a:pt x="84" y="70"/>
                    </a:lnTo>
                    <a:lnTo>
                      <a:pt x="82" y="63"/>
                    </a:lnTo>
                    <a:lnTo>
                      <a:pt x="80" y="61"/>
                    </a:lnTo>
                    <a:lnTo>
                      <a:pt x="80" y="57"/>
                    </a:lnTo>
                    <a:lnTo>
                      <a:pt x="80" y="51"/>
                    </a:lnTo>
                    <a:lnTo>
                      <a:pt x="80" y="43"/>
                    </a:lnTo>
                    <a:lnTo>
                      <a:pt x="79" y="33"/>
                    </a:lnTo>
                    <a:lnTo>
                      <a:pt x="84" y="31"/>
                    </a:lnTo>
                    <a:lnTo>
                      <a:pt x="87" y="28"/>
                    </a:lnTo>
                    <a:lnTo>
                      <a:pt x="87" y="25"/>
                    </a:lnTo>
                    <a:lnTo>
                      <a:pt x="87" y="22"/>
                    </a:lnTo>
                    <a:lnTo>
                      <a:pt x="87" y="18"/>
                    </a:lnTo>
                    <a:lnTo>
                      <a:pt x="87" y="15"/>
                    </a:lnTo>
                    <a:lnTo>
                      <a:pt x="89" y="13"/>
                    </a:lnTo>
                    <a:lnTo>
                      <a:pt x="89" y="9"/>
                    </a:lnTo>
                    <a:lnTo>
                      <a:pt x="90" y="6"/>
                    </a:lnTo>
                    <a:lnTo>
                      <a:pt x="90" y="0"/>
                    </a:lnTo>
                    <a:lnTo>
                      <a:pt x="87" y="0"/>
                    </a:lnTo>
                    <a:lnTo>
                      <a:pt x="82" y="1"/>
                    </a:lnTo>
                    <a:lnTo>
                      <a:pt x="79" y="1"/>
                    </a:lnTo>
                    <a:lnTo>
                      <a:pt x="76" y="4"/>
                    </a:lnTo>
                    <a:lnTo>
                      <a:pt x="73" y="7"/>
                    </a:lnTo>
                    <a:lnTo>
                      <a:pt x="71" y="10"/>
                    </a:lnTo>
                    <a:lnTo>
                      <a:pt x="67" y="8"/>
                    </a:lnTo>
                    <a:lnTo>
                      <a:pt x="67" y="8"/>
                    </a:lnTo>
                  </a:path>
                </a:pathLst>
              </a:custGeom>
              <a:solidFill>
                <a:srgbClr val="dce8f4"/>
              </a:solidFill>
              <a:ln cap="rnd" w="12600">
                <a:solidFill>
                  <a:srgbClr val="dce8f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8178480" y="3711600"/>
              <a:ext cx="187920" cy="406080"/>
              <a:chOff x="8178480" y="3711600"/>
              <a:chExt cx="187920" cy="406080"/>
            </a:xfrm>
          </p:grpSpPr>
          <p:sp>
            <p:nvSpPr>
              <p:cNvPr id="290" name=""/>
              <p:cNvSpPr/>
              <p:nvPr/>
            </p:nvSpPr>
            <p:spPr>
              <a:xfrm>
                <a:off x="8209440" y="3848040"/>
                <a:ext cx="111240" cy="269640"/>
              </a:xfrm>
              <a:prstGeom prst="ellipse">
                <a:avLst/>
              </a:prstGeom>
              <a:gradFill rotWithShape="0">
                <a:gsLst>
                  <a:gs pos="0">
                    <a:srgbClr val="fff200"/>
                  </a:gs>
                  <a:gs pos="50000">
                    <a:srgbClr val="4d0808"/>
                  </a:gs>
                  <a:gs pos="100000">
                    <a:srgbClr val="fff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8228520" y="3889800"/>
                <a:ext cx="76680" cy="197640"/>
              </a:xfrm>
              <a:prstGeom prst="ellipse">
                <a:avLst/>
              </a:prstGeom>
              <a:gradFill rotWithShape="0">
                <a:gsLst>
                  <a:gs pos="0">
                    <a:srgbClr val="fff200"/>
                  </a:gs>
                  <a:gs pos="100000">
                    <a:srgbClr val="4d080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829656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93" name=""/>
              <p:cNvSpPr/>
              <p:nvPr/>
            </p:nvSpPr>
            <p:spPr>
              <a:xfrm>
                <a:off x="832860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4" name=""/>
              <p:cNvSpPr/>
              <p:nvPr/>
            </p:nvSpPr>
            <p:spPr>
              <a:xfrm>
                <a:off x="8178480" y="3934080"/>
                <a:ext cx="69840" cy="896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95" name=""/>
              <p:cNvSpPr/>
              <p:nvPr/>
            </p:nvSpPr>
            <p:spPr>
              <a:xfrm>
                <a:off x="8179560" y="3962880"/>
                <a:ext cx="29880" cy="28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6" name=""/>
              <p:cNvSpPr/>
              <p:nvPr/>
            </p:nvSpPr>
            <p:spPr>
              <a:xfrm flipH="1" flipV="1">
                <a:off x="8251560" y="3711600"/>
                <a:ext cx="14040" cy="14328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304120" y="4042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8" name=""/>
              <p:cNvSpPr/>
              <p:nvPr/>
            </p:nvSpPr>
            <p:spPr>
              <a:xfrm>
                <a:off x="8257320" y="4033080"/>
                <a:ext cx="20880" cy="30960"/>
              </a:xfrm>
              <a:prstGeom prst="ellipse">
                <a:avLst/>
              </a:prstGeom>
              <a:solidFill>
                <a:srgbClr val="7b9cb5"/>
              </a:solidFill>
              <a:ln w="1260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9" name=""/>
              <p:cNvSpPr/>
              <p:nvPr/>
            </p:nvSpPr>
            <p:spPr>
              <a:xfrm flipH="1">
                <a:off x="8188200" y="4051440"/>
                <a:ext cx="39960" cy="37800"/>
              </a:xfrm>
              <a:prstGeom prst="line">
                <a:avLst/>
              </a:prstGeom>
              <a:ln w="12600">
                <a:solidFill>
                  <a:srgbClr val="ff0033"/>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300" name=""/>
            <p:cNvGrpSpPr/>
            <p:nvPr/>
          </p:nvGrpSpPr>
          <p:grpSpPr>
            <a:xfrm>
              <a:off x="7856280" y="1827360"/>
              <a:ext cx="925920" cy="555120"/>
              <a:chOff x="7856280" y="1827360"/>
              <a:chExt cx="925920" cy="555120"/>
            </a:xfrm>
          </p:grpSpPr>
          <p:sp>
            <p:nvSpPr>
              <p:cNvPr id="301" name=""/>
              <p:cNvSpPr/>
              <p:nvPr/>
            </p:nvSpPr>
            <p:spPr>
              <a:xfrm>
                <a:off x="7923960" y="2029320"/>
                <a:ext cx="468000" cy="194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2460000">
                <a:off x="8472600" y="1842120"/>
                <a:ext cx="198720" cy="41112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957080" y="2025720"/>
                <a:ext cx="56520" cy="7524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04" name=""/>
              <p:cNvSpPr/>
              <p:nvPr/>
            </p:nvSpPr>
            <p:spPr>
              <a:xfrm flipH="1" flipV="1" rot="17280000">
                <a:off x="8065080" y="2160360"/>
                <a:ext cx="189000" cy="202320"/>
              </a:xfrm>
              <a:custGeom>
                <a:avLst/>
                <a:gdLst>
                  <a:gd name="textAreaLeft" fmla="*/ 41400 w 189000"/>
                  <a:gd name="textAreaRight" fmla="*/ 147600 w 189000"/>
                  <a:gd name="textAreaTop" fmla="*/ 44280 h 202320"/>
                  <a:gd name="textAreaBottom" fmla="*/ 158040 h 2023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360000">
                <a:off x="8137080" y="1942200"/>
                <a:ext cx="241920" cy="98640"/>
              </a:xfrm>
              <a:prstGeom prst="parallelogram">
                <a:avLst>
                  <a:gd name="adj" fmla="val 61302"/>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06" name=""/>
              <p:cNvSpPr/>
              <p:nvPr/>
            </p:nvSpPr>
            <p:spPr>
              <a:xfrm>
                <a:off x="7951680" y="2045160"/>
                <a:ext cx="2340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7" name=""/>
              <p:cNvSpPr/>
              <p:nvPr/>
            </p:nvSpPr>
            <p:spPr>
              <a:xfrm rot="10800000">
                <a:off x="7856280" y="2089440"/>
                <a:ext cx="165960" cy="75240"/>
              </a:xfrm>
              <a:custGeom>
                <a:avLst/>
                <a:gdLst/>
                <a:ahLst/>
                <a:rect l="l" t="t" r="r" b="b"/>
                <a:pathLst>
                  <a:path stroke="0" w="21600" h="21600">
                    <a:moveTo>
                      <a:pt x="0" y="10800"/>
                    </a:moveTo>
                    <a:arcTo wR="10800" hR="10800" stAng="10800000" swAng="5353858"/>
                    <a:lnTo>
                      <a:pt x="10800" y="10800"/>
                    </a:lnTo>
                    <a:close/>
                  </a:path>
                  <a:path fill="none" w="21600" h="21600">
                    <a:moveTo>
                      <a:pt x="0" y="10800"/>
                    </a:moveTo>
                    <a:arcTo wR="10800" hR="10800" stAng="10800000" swAng="5353858"/>
                  </a:path>
                </a:pathLst>
              </a:custGeom>
              <a:noFill/>
              <a:ln cap="rnd" w="1260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308" name=""/>
            <p:cNvGrpSpPr/>
            <p:nvPr/>
          </p:nvGrpSpPr>
          <p:grpSpPr>
            <a:xfrm>
              <a:off x="7864560" y="2877480"/>
              <a:ext cx="877680" cy="433080"/>
              <a:chOff x="7864560" y="2877480"/>
              <a:chExt cx="877680" cy="433080"/>
            </a:xfrm>
          </p:grpSpPr>
          <p:sp>
            <p:nvSpPr>
              <p:cNvPr id="309" name=""/>
              <p:cNvSpPr/>
              <p:nvPr/>
            </p:nvSpPr>
            <p:spPr>
              <a:xfrm rot="1080000">
                <a:off x="7882920" y="2946600"/>
                <a:ext cx="467640" cy="1951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3540000">
                <a:off x="8414280" y="2944080"/>
                <a:ext cx="234360" cy="3510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1080000">
                <a:off x="7941600" y="2884320"/>
                <a:ext cx="56520" cy="7668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12" name=""/>
              <p:cNvSpPr/>
              <p:nvPr/>
            </p:nvSpPr>
            <p:spPr>
              <a:xfrm flipH="1" flipV="1" rot="18360000">
                <a:off x="8029080" y="3053160"/>
                <a:ext cx="148320" cy="231120"/>
              </a:xfrm>
              <a:custGeom>
                <a:avLst/>
                <a:gdLst>
                  <a:gd name="textAreaLeft" fmla="*/ 32400 w 148320"/>
                  <a:gd name="textAreaRight" fmla="*/ 115920 w 148320"/>
                  <a:gd name="textAreaTop" fmla="*/ 50760 h 231120"/>
                  <a:gd name="textAreaBottom" fmla="*/ 180360 h 231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440000">
                <a:off x="8120880" y="2939760"/>
                <a:ext cx="259920" cy="66240"/>
              </a:xfrm>
              <a:prstGeom prst="parallelogram">
                <a:avLst>
                  <a:gd name="adj" fmla="val 9808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14" name=""/>
              <p:cNvSpPr/>
              <p:nvPr/>
            </p:nvSpPr>
            <p:spPr>
              <a:xfrm rot="1080000">
                <a:off x="7948080" y="2905920"/>
                <a:ext cx="24120" cy="2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315" name=""/>
              <p:cNvSpPr/>
              <p:nvPr/>
            </p:nvSpPr>
            <p:spPr>
              <a:xfrm>
                <a:off x="7891560" y="2979360"/>
                <a:ext cx="82080" cy="50760"/>
              </a:xfrm>
              <a:custGeom>
                <a:avLst/>
                <a:gdLst/>
                <a:ahLst/>
                <a:rect l="l" t="t" r="r" b="b"/>
                <a:pathLst>
                  <a:path w="74" h="39">
                    <a:moveTo>
                      <a:pt x="0" y="0"/>
                    </a:moveTo>
                    <a:lnTo>
                      <a:pt x="5" y="2"/>
                    </a:lnTo>
                    <a:lnTo>
                      <a:pt x="14" y="2"/>
                    </a:lnTo>
                    <a:lnTo>
                      <a:pt x="20" y="4"/>
                    </a:lnTo>
                    <a:lnTo>
                      <a:pt x="24" y="8"/>
                    </a:lnTo>
                    <a:lnTo>
                      <a:pt x="26" y="17"/>
                    </a:lnTo>
                    <a:lnTo>
                      <a:pt x="30" y="19"/>
                    </a:lnTo>
                    <a:lnTo>
                      <a:pt x="42" y="22"/>
                    </a:lnTo>
                    <a:lnTo>
                      <a:pt x="48" y="24"/>
                    </a:lnTo>
                    <a:lnTo>
                      <a:pt x="52" y="23"/>
                    </a:lnTo>
                    <a:lnTo>
                      <a:pt x="59" y="19"/>
                    </a:lnTo>
                    <a:lnTo>
                      <a:pt x="62" y="21"/>
                    </a:lnTo>
                    <a:lnTo>
                      <a:pt x="67" y="22"/>
                    </a:lnTo>
                    <a:lnTo>
                      <a:pt x="69" y="29"/>
                    </a:lnTo>
                    <a:lnTo>
                      <a:pt x="73" y="38"/>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16" name=""/>
            <p:cNvGrpSpPr/>
            <p:nvPr/>
          </p:nvGrpSpPr>
          <p:grpSpPr>
            <a:xfrm>
              <a:off x="7898760" y="4685400"/>
              <a:ext cx="645480" cy="460440"/>
              <a:chOff x="7898760" y="4685400"/>
              <a:chExt cx="645480" cy="460440"/>
            </a:xfrm>
          </p:grpSpPr>
          <p:grpSp>
            <p:nvGrpSpPr>
              <p:cNvPr id="317" name=""/>
              <p:cNvGrpSpPr/>
              <p:nvPr/>
            </p:nvGrpSpPr>
            <p:grpSpPr>
              <a:xfrm>
                <a:off x="8035200" y="4686120"/>
                <a:ext cx="509040" cy="371160"/>
                <a:chOff x="8035200" y="4686120"/>
                <a:chExt cx="509040" cy="371160"/>
              </a:xfrm>
            </p:grpSpPr>
            <p:sp>
              <p:nvSpPr>
                <p:cNvPr id="318" name=""/>
                <p:cNvSpPr/>
                <p:nvPr/>
              </p:nvSpPr>
              <p:spPr>
                <a:xfrm flipH="1" rot="20273400">
                  <a:off x="8057880" y="4765320"/>
                  <a:ext cx="463320" cy="2124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V="1" rot="292800">
                  <a:off x="8315640" y="4906440"/>
                  <a:ext cx="105840" cy="122040"/>
                </a:xfrm>
                <a:custGeom>
                  <a:avLst/>
                  <a:gdLst>
                    <a:gd name="textAreaLeft" fmla="*/ 23040 w 105840"/>
                    <a:gd name="textAreaRight" fmla="*/ 82800 w 105840"/>
                    <a:gd name="textAreaTop" fmla="*/ 26640 h 122040"/>
                    <a:gd name="textAreaBottom" fmla="*/ 95400 h 122040"/>
                  </a:gdLst>
                  <a:ahLst/>
                  <a:rect l="textAreaLeft" t="textAreaTop" r="textAreaRight" b="textAreaBottom"/>
                  <a:pathLst>
                    <a:path w="21600" h="21600">
                      <a:moveTo>
                        <a:pt x="0" y="0"/>
                      </a:moveTo>
                      <a:lnTo>
                        <a:pt x="21600" y="0"/>
                      </a:lnTo>
                      <a:lnTo>
                        <a:pt x="16201" y="21600"/>
                      </a:lnTo>
                      <a:lnTo>
                        <a:pt x="5399" y="21600"/>
                      </a:lnTo>
                      <a:close/>
                    </a:path>
                  </a:pathLst>
                </a:custGeom>
                <a:solidFill>
                  <a:srgbClr val="00ff99"/>
                </a:solidFill>
                <a:ln w="1260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20" name=""/>
                <p:cNvSpPr/>
                <p:nvPr/>
              </p:nvSpPr>
              <p:spPr>
                <a:xfrm flipH="1" rot="20273400">
                  <a:off x="8380440" y="4704840"/>
                  <a:ext cx="68760" cy="86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321" name=""/>
                <p:cNvSpPr/>
                <p:nvPr/>
              </p:nvSpPr>
              <p:spPr>
                <a:xfrm flipH="1" rot="20273400">
                  <a:off x="8428680" y="4748760"/>
                  <a:ext cx="28080" cy="29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22" name=""/>
                <p:cNvSpPr/>
                <p:nvPr/>
              </p:nvSpPr>
              <p:spPr>
                <a:xfrm flipH="1" rot="20273400">
                  <a:off x="8413920" y="4798440"/>
                  <a:ext cx="105840" cy="51840"/>
                </a:xfrm>
                <a:custGeom>
                  <a:avLst/>
                  <a:gdLst/>
                  <a:ahLst/>
                  <a:rect l="l" t="t" r="r" b="b"/>
                  <a:pathLst>
                    <a:path w="83" h="35">
                      <a:moveTo>
                        <a:pt x="0" y="0"/>
                      </a:moveTo>
                      <a:lnTo>
                        <a:pt x="8" y="0"/>
                      </a:lnTo>
                      <a:lnTo>
                        <a:pt x="14" y="0"/>
                      </a:lnTo>
                      <a:lnTo>
                        <a:pt x="20" y="0"/>
                      </a:lnTo>
                      <a:lnTo>
                        <a:pt x="26" y="2"/>
                      </a:lnTo>
                      <a:lnTo>
                        <a:pt x="32" y="4"/>
                      </a:lnTo>
                      <a:lnTo>
                        <a:pt x="38" y="8"/>
                      </a:lnTo>
                      <a:lnTo>
                        <a:pt x="44" y="10"/>
                      </a:lnTo>
                      <a:lnTo>
                        <a:pt x="48" y="16"/>
                      </a:lnTo>
                      <a:lnTo>
                        <a:pt x="54" y="18"/>
                      </a:lnTo>
                      <a:lnTo>
                        <a:pt x="58" y="24"/>
                      </a:lnTo>
                      <a:lnTo>
                        <a:pt x="64" y="28"/>
                      </a:lnTo>
                      <a:lnTo>
                        <a:pt x="70" y="30"/>
                      </a:lnTo>
                      <a:lnTo>
                        <a:pt x="76" y="34"/>
                      </a:lnTo>
                      <a:lnTo>
                        <a:pt x="82" y="30"/>
                      </a:lnTo>
                    </a:path>
                  </a:pathLst>
                </a:custGeom>
                <a:no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323" name=""/>
              <p:cNvSpPr/>
              <p:nvPr/>
            </p:nvSpPr>
            <p:spPr>
              <a:xfrm flipH="1" rot="20273400">
                <a:off x="8067960" y="4720320"/>
                <a:ext cx="208080" cy="112320"/>
              </a:xfrm>
              <a:custGeom>
                <a:avLst/>
                <a:gdLst/>
                <a:ahLst/>
                <a:rect l="l" t="t" r="r" b="b"/>
                <a:pathLst>
                  <a:path w="163" h="75">
                    <a:moveTo>
                      <a:pt x="0" y="63"/>
                    </a:moveTo>
                    <a:lnTo>
                      <a:pt x="10" y="58"/>
                    </a:lnTo>
                    <a:lnTo>
                      <a:pt x="18" y="52"/>
                    </a:lnTo>
                    <a:lnTo>
                      <a:pt x="25" y="52"/>
                    </a:lnTo>
                    <a:lnTo>
                      <a:pt x="33" y="52"/>
                    </a:lnTo>
                    <a:lnTo>
                      <a:pt x="41" y="52"/>
                    </a:lnTo>
                    <a:lnTo>
                      <a:pt x="48" y="52"/>
                    </a:lnTo>
                    <a:lnTo>
                      <a:pt x="56" y="52"/>
                    </a:lnTo>
                    <a:lnTo>
                      <a:pt x="64" y="52"/>
                    </a:lnTo>
                    <a:lnTo>
                      <a:pt x="72" y="52"/>
                    </a:lnTo>
                    <a:lnTo>
                      <a:pt x="79" y="58"/>
                    </a:lnTo>
                    <a:lnTo>
                      <a:pt x="87" y="63"/>
                    </a:lnTo>
                    <a:lnTo>
                      <a:pt x="95" y="68"/>
                    </a:lnTo>
                    <a:lnTo>
                      <a:pt x="102" y="68"/>
                    </a:lnTo>
                    <a:lnTo>
                      <a:pt x="110" y="74"/>
                    </a:lnTo>
                    <a:lnTo>
                      <a:pt x="118" y="74"/>
                    </a:lnTo>
                    <a:lnTo>
                      <a:pt x="120" y="58"/>
                    </a:lnTo>
                    <a:lnTo>
                      <a:pt x="126" y="42"/>
                    </a:lnTo>
                    <a:lnTo>
                      <a:pt x="136" y="37"/>
                    </a:lnTo>
                    <a:lnTo>
                      <a:pt x="146" y="31"/>
                    </a:lnTo>
                    <a:lnTo>
                      <a:pt x="154" y="31"/>
                    </a:lnTo>
                    <a:lnTo>
                      <a:pt x="162" y="31"/>
                    </a:lnTo>
                    <a:lnTo>
                      <a:pt x="154" y="26"/>
                    </a:lnTo>
                    <a:lnTo>
                      <a:pt x="146" y="26"/>
                    </a:lnTo>
                    <a:lnTo>
                      <a:pt x="146" y="10"/>
                    </a:lnTo>
                    <a:lnTo>
                      <a:pt x="138" y="15"/>
                    </a:lnTo>
                    <a:lnTo>
                      <a:pt x="133" y="31"/>
                    </a:lnTo>
                    <a:lnTo>
                      <a:pt x="126" y="15"/>
                    </a:lnTo>
                    <a:lnTo>
                      <a:pt x="120" y="0"/>
                    </a:lnTo>
                    <a:lnTo>
                      <a:pt x="113" y="15"/>
                    </a:lnTo>
                    <a:lnTo>
                      <a:pt x="108" y="31"/>
                    </a:lnTo>
                    <a:lnTo>
                      <a:pt x="100" y="42"/>
                    </a:lnTo>
                    <a:lnTo>
                      <a:pt x="95" y="26"/>
                    </a:lnTo>
                    <a:lnTo>
                      <a:pt x="87" y="31"/>
                    </a:lnTo>
                    <a:lnTo>
                      <a:pt x="79" y="37"/>
                    </a:lnTo>
                    <a:lnTo>
                      <a:pt x="72" y="26"/>
                    </a:lnTo>
                    <a:lnTo>
                      <a:pt x="64" y="15"/>
                    </a:lnTo>
                    <a:lnTo>
                      <a:pt x="56" y="10"/>
                    </a:lnTo>
                    <a:lnTo>
                      <a:pt x="54" y="26"/>
                    </a:lnTo>
                    <a:lnTo>
                      <a:pt x="46" y="37"/>
                    </a:lnTo>
                    <a:lnTo>
                      <a:pt x="38" y="37"/>
                    </a:lnTo>
                    <a:lnTo>
                      <a:pt x="30" y="21"/>
                    </a:lnTo>
                    <a:lnTo>
                      <a:pt x="23" y="21"/>
                    </a:lnTo>
                    <a:lnTo>
                      <a:pt x="15" y="31"/>
                    </a:lnTo>
                    <a:lnTo>
                      <a:pt x="7" y="42"/>
                    </a:lnTo>
                    <a:lnTo>
                      <a:pt x="0" y="63"/>
                    </a:lnTo>
                    <a:lnTo>
                      <a:pt x="0" y="63"/>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rot="20273400">
                <a:off x="7946280" y="4844160"/>
                <a:ext cx="144360" cy="284760"/>
              </a:xfrm>
              <a:custGeom>
                <a:avLst/>
                <a:gdLst/>
                <a:ahLst/>
                <a:rect l="l" t="t" r="r" b="b"/>
                <a:pathLst>
                  <a:path w="113" h="190">
                    <a:moveTo>
                      <a:pt x="16" y="60"/>
                    </a:moveTo>
                    <a:lnTo>
                      <a:pt x="25" y="50"/>
                    </a:lnTo>
                    <a:lnTo>
                      <a:pt x="29" y="45"/>
                    </a:lnTo>
                    <a:lnTo>
                      <a:pt x="34" y="41"/>
                    </a:lnTo>
                    <a:lnTo>
                      <a:pt x="40" y="37"/>
                    </a:lnTo>
                    <a:lnTo>
                      <a:pt x="45" y="33"/>
                    </a:lnTo>
                    <a:lnTo>
                      <a:pt x="49" y="27"/>
                    </a:lnTo>
                    <a:lnTo>
                      <a:pt x="57" y="24"/>
                    </a:lnTo>
                    <a:lnTo>
                      <a:pt x="62" y="20"/>
                    </a:lnTo>
                    <a:lnTo>
                      <a:pt x="71" y="15"/>
                    </a:lnTo>
                    <a:lnTo>
                      <a:pt x="80" y="11"/>
                    </a:lnTo>
                    <a:lnTo>
                      <a:pt x="88" y="3"/>
                    </a:lnTo>
                    <a:lnTo>
                      <a:pt x="95" y="0"/>
                    </a:lnTo>
                    <a:lnTo>
                      <a:pt x="100" y="6"/>
                    </a:lnTo>
                    <a:lnTo>
                      <a:pt x="106" y="10"/>
                    </a:lnTo>
                    <a:lnTo>
                      <a:pt x="105" y="17"/>
                    </a:lnTo>
                    <a:lnTo>
                      <a:pt x="101" y="22"/>
                    </a:lnTo>
                    <a:lnTo>
                      <a:pt x="105" y="30"/>
                    </a:lnTo>
                    <a:lnTo>
                      <a:pt x="106" y="38"/>
                    </a:lnTo>
                    <a:lnTo>
                      <a:pt x="100" y="42"/>
                    </a:lnTo>
                    <a:lnTo>
                      <a:pt x="103" y="52"/>
                    </a:lnTo>
                    <a:lnTo>
                      <a:pt x="107" y="57"/>
                    </a:lnTo>
                    <a:lnTo>
                      <a:pt x="111" y="65"/>
                    </a:lnTo>
                    <a:lnTo>
                      <a:pt x="112" y="73"/>
                    </a:lnTo>
                    <a:lnTo>
                      <a:pt x="112" y="81"/>
                    </a:lnTo>
                    <a:lnTo>
                      <a:pt x="107" y="85"/>
                    </a:lnTo>
                    <a:lnTo>
                      <a:pt x="98" y="90"/>
                    </a:lnTo>
                    <a:lnTo>
                      <a:pt x="90" y="93"/>
                    </a:lnTo>
                    <a:lnTo>
                      <a:pt x="83" y="96"/>
                    </a:lnTo>
                    <a:lnTo>
                      <a:pt x="79" y="101"/>
                    </a:lnTo>
                    <a:lnTo>
                      <a:pt x="73" y="105"/>
                    </a:lnTo>
                    <a:lnTo>
                      <a:pt x="68" y="109"/>
                    </a:lnTo>
                    <a:lnTo>
                      <a:pt x="62" y="113"/>
                    </a:lnTo>
                    <a:lnTo>
                      <a:pt x="58" y="121"/>
                    </a:lnTo>
                    <a:lnTo>
                      <a:pt x="54" y="126"/>
                    </a:lnTo>
                    <a:lnTo>
                      <a:pt x="50" y="132"/>
                    </a:lnTo>
                    <a:lnTo>
                      <a:pt x="47" y="137"/>
                    </a:lnTo>
                    <a:lnTo>
                      <a:pt x="43" y="143"/>
                    </a:lnTo>
                    <a:lnTo>
                      <a:pt x="38" y="147"/>
                    </a:lnTo>
                    <a:lnTo>
                      <a:pt x="34" y="152"/>
                    </a:lnTo>
                    <a:lnTo>
                      <a:pt x="31" y="158"/>
                    </a:lnTo>
                    <a:lnTo>
                      <a:pt x="27" y="163"/>
                    </a:lnTo>
                    <a:lnTo>
                      <a:pt x="24" y="169"/>
                    </a:lnTo>
                    <a:lnTo>
                      <a:pt x="22" y="175"/>
                    </a:lnTo>
                    <a:lnTo>
                      <a:pt x="21" y="182"/>
                    </a:lnTo>
                    <a:lnTo>
                      <a:pt x="19" y="189"/>
                    </a:lnTo>
                    <a:lnTo>
                      <a:pt x="14" y="183"/>
                    </a:lnTo>
                    <a:lnTo>
                      <a:pt x="10" y="176"/>
                    </a:lnTo>
                    <a:lnTo>
                      <a:pt x="8" y="166"/>
                    </a:lnTo>
                    <a:lnTo>
                      <a:pt x="4" y="159"/>
                    </a:lnTo>
                    <a:lnTo>
                      <a:pt x="4" y="150"/>
                    </a:lnTo>
                    <a:lnTo>
                      <a:pt x="0" y="143"/>
                    </a:lnTo>
                    <a:lnTo>
                      <a:pt x="1" y="136"/>
                    </a:lnTo>
                    <a:lnTo>
                      <a:pt x="1" y="128"/>
                    </a:lnTo>
                    <a:lnTo>
                      <a:pt x="0" y="120"/>
                    </a:lnTo>
                    <a:lnTo>
                      <a:pt x="4" y="114"/>
                    </a:lnTo>
                    <a:lnTo>
                      <a:pt x="7" y="109"/>
                    </a:lnTo>
                    <a:lnTo>
                      <a:pt x="9" y="102"/>
                    </a:lnTo>
                    <a:lnTo>
                      <a:pt x="10" y="95"/>
                    </a:lnTo>
                    <a:lnTo>
                      <a:pt x="10" y="87"/>
                    </a:lnTo>
                    <a:lnTo>
                      <a:pt x="5" y="81"/>
                    </a:lnTo>
                    <a:lnTo>
                      <a:pt x="1" y="74"/>
                    </a:lnTo>
                    <a:lnTo>
                      <a:pt x="1" y="66"/>
                    </a:lnTo>
                    <a:lnTo>
                      <a:pt x="16" y="60"/>
                    </a:lnTo>
                    <a:lnTo>
                      <a:pt x="16" y="60"/>
                    </a:lnTo>
                  </a:path>
                </a:pathLst>
              </a:custGeom>
              <a:solidFill>
                <a:srgbClr val="00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rot="20273400">
                <a:off x="8285040" y="48672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26" name=""/>
              <p:cNvSpPr/>
              <p:nvPr/>
            </p:nvSpPr>
            <p:spPr>
              <a:xfrm flipH="1" rot="20273400">
                <a:off x="8212320" y="487080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27" name=""/>
              <p:cNvSpPr/>
              <p:nvPr/>
            </p:nvSpPr>
            <p:spPr>
              <a:xfrm flipH="1" rot="20273400">
                <a:off x="8193240" y="4939920"/>
                <a:ext cx="17280" cy="20880"/>
              </a:xfrm>
              <a:prstGeom prst="ellipse">
                <a:avLst/>
              </a:prstGeom>
              <a:solidFill>
                <a:srgbClr val="ff6633"/>
              </a:solidFill>
              <a:ln w="12600">
                <a:solidFill>
                  <a:srgbClr val="ff6633"/>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grpSp>
      </p:grpSp>
      <p:sp>
        <p:nvSpPr>
          <p:cNvPr id="328" name=""/>
          <p:cNvSpPr/>
          <p:nvPr/>
        </p:nvSpPr>
        <p:spPr>
          <a:xfrm>
            <a:off x="6300720" y="184464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10%</a:t>
            </a:r>
            <a:endParaRPr b="0" lang="en-US" sz="3600" spc="-1" strike="noStrike">
              <a:solidFill>
                <a:srgbClr val="000000"/>
              </a:solidFill>
              <a:latin typeface="Arial"/>
            </a:endParaRPr>
          </a:p>
        </p:txBody>
      </p:sp>
      <p:sp>
        <p:nvSpPr>
          <p:cNvPr id="329" name=""/>
          <p:cNvSpPr/>
          <p:nvPr/>
        </p:nvSpPr>
        <p:spPr>
          <a:xfrm>
            <a:off x="6300720" y="278136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30%</a:t>
            </a:r>
            <a:endParaRPr b="0" lang="en-US" sz="3600" spc="-1" strike="noStrike">
              <a:solidFill>
                <a:srgbClr val="000000"/>
              </a:solidFill>
              <a:latin typeface="Arial"/>
            </a:endParaRPr>
          </a:p>
        </p:txBody>
      </p:sp>
      <p:sp>
        <p:nvSpPr>
          <p:cNvPr id="330" name=""/>
          <p:cNvSpPr/>
          <p:nvPr/>
        </p:nvSpPr>
        <p:spPr>
          <a:xfrm>
            <a:off x="6372360" y="364500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40%</a:t>
            </a:r>
            <a:endParaRPr b="0" lang="en-US" sz="3600" spc="-1" strike="noStrike">
              <a:solidFill>
                <a:srgbClr val="000000"/>
              </a:solidFill>
              <a:latin typeface="Arial"/>
            </a:endParaRPr>
          </a:p>
        </p:txBody>
      </p:sp>
      <p:sp>
        <p:nvSpPr>
          <p:cNvPr id="331" name=""/>
          <p:cNvSpPr/>
          <p:nvPr/>
        </p:nvSpPr>
        <p:spPr>
          <a:xfrm>
            <a:off x="6372360" y="4508640"/>
            <a:ext cx="129528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15%</a:t>
            </a:r>
            <a:endParaRPr b="0" lang="en-US" sz="3600" spc="-1" strike="noStrike">
              <a:solidFill>
                <a:srgbClr val="000000"/>
              </a:solidFill>
              <a:latin typeface="Arial"/>
            </a:endParaRPr>
          </a:p>
        </p:txBody>
      </p:sp>
      <p:sp>
        <p:nvSpPr>
          <p:cNvPr id="332" name=""/>
          <p:cNvSpPr/>
          <p:nvPr/>
        </p:nvSpPr>
        <p:spPr>
          <a:xfrm>
            <a:off x="6300720" y="5445000"/>
            <a:ext cx="1295640" cy="64260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5%</a:t>
            </a:r>
            <a:endParaRPr b="0" lang="en-US" sz="3600" spc="-1" strike="noStrike">
              <a:solidFill>
                <a:srgbClr val="000000"/>
              </a:solidFill>
              <a:latin typeface="Arial"/>
            </a:endParaRPr>
          </a:p>
        </p:txBody>
      </p:sp>
      <p:sp>
        <p:nvSpPr>
          <p:cNvPr id="333" name=""/>
          <p:cNvSpPr/>
          <p:nvPr/>
        </p:nvSpPr>
        <p:spPr>
          <a:xfrm>
            <a:off x="395280" y="4869000"/>
            <a:ext cx="59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Quite a lot of water bodies will be in the wrong class</a:t>
            </a:r>
            <a:endParaRPr b="0" lang="en-US" sz="2400" spc="-1" strike="noStrike">
              <a:solidFill>
                <a:srgbClr val="000000"/>
              </a:solidFill>
              <a:latin typeface="Arial"/>
            </a:endParaRPr>
          </a:p>
        </p:txBody>
      </p:sp>
      <p:sp>
        <p:nvSpPr>
          <p:cNvPr id="334" name=""/>
          <p:cNvSpPr/>
          <p:nvPr/>
        </p:nvSpPr>
        <p:spPr>
          <a:xfrm>
            <a:off x="395280" y="566100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nd we won’t know which 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492"/>
                </a:solidFill>
                <a:latin typeface="Tahoma"/>
              </a:rPr>
              <a:t>We sample water bodies</a:t>
            </a:r>
            <a:endParaRPr b="0" lang="en-US" sz="4400" spc="-1" strike="noStrike">
              <a:solidFill>
                <a:srgbClr val="242492"/>
              </a:solidFill>
              <a:latin typeface="Tahoma"/>
            </a:endParaRPr>
          </a:p>
        </p:txBody>
      </p:sp>
      <p:grpSp>
        <p:nvGrpSpPr>
          <p:cNvPr id="336" name=""/>
          <p:cNvGrpSpPr/>
          <p:nvPr/>
        </p:nvGrpSpPr>
        <p:grpSpPr>
          <a:xfrm>
            <a:off x="614520" y="4718160"/>
            <a:ext cx="8165880" cy="1938240"/>
            <a:chOff x="614520" y="4718160"/>
            <a:chExt cx="8165880" cy="1938240"/>
          </a:xfrm>
        </p:grpSpPr>
        <p:grpSp>
          <p:nvGrpSpPr>
            <p:cNvPr id="337" name=""/>
            <p:cNvGrpSpPr/>
            <p:nvPr/>
          </p:nvGrpSpPr>
          <p:grpSpPr>
            <a:xfrm>
              <a:off x="614520" y="4718160"/>
              <a:ext cx="8165880" cy="1938240"/>
              <a:chOff x="614520" y="4718160"/>
              <a:chExt cx="8165880" cy="1938240"/>
            </a:xfrm>
          </p:grpSpPr>
          <p:sp>
            <p:nvSpPr>
              <p:cNvPr id="338" name=""/>
              <p:cNvSpPr/>
              <p:nvPr/>
            </p:nvSpPr>
            <p:spPr>
              <a:xfrm>
                <a:off x="654120" y="4961160"/>
                <a:ext cx="8102520" cy="1695240"/>
              </a:xfrm>
              <a:custGeom>
                <a:avLst/>
                <a:gdLst/>
                <a:ahLst/>
                <a:rect l="l" t="t" r="r" b="b"/>
                <a:pathLst>
                  <a:path w="5104" h="1068">
                    <a:moveTo>
                      <a:pt x="0" y="18"/>
                    </a:moveTo>
                    <a:lnTo>
                      <a:pt x="29" y="64"/>
                    </a:lnTo>
                    <a:lnTo>
                      <a:pt x="39" y="129"/>
                    </a:lnTo>
                    <a:lnTo>
                      <a:pt x="59" y="250"/>
                    </a:lnTo>
                    <a:lnTo>
                      <a:pt x="79" y="371"/>
                    </a:lnTo>
                    <a:lnTo>
                      <a:pt x="129" y="501"/>
                    </a:lnTo>
                    <a:lnTo>
                      <a:pt x="149" y="528"/>
                    </a:lnTo>
                    <a:lnTo>
                      <a:pt x="189" y="538"/>
                    </a:lnTo>
                    <a:lnTo>
                      <a:pt x="288" y="556"/>
                    </a:lnTo>
                    <a:lnTo>
                      <a:pt x="338" y="575"/>
                    </a:lnTo>
                    <a:lnTo>
                      <a:pt x="368" y="584"/>
                    </a:lnTo>
                    <a:lnTo>
                      <a:pt x="437" y="630"/>
                    </a:lnTo>
                    <a:lnTo>
                      <a:pt x="746" y="816"/>
                    </a:lnTo>
                    <a:lnTo>
                      <a:pt x="925" y="890"/>
                    </a:lnTo>
                    <a:lnTo>
                      <a:pt x="1034" y="909"/>
                    </a:lnTo>
                    <a:lnTo>
                      <a:pt x="1163" y="927"/>
                    </a:lnTo>
                    <a:lnTo>
                      <a:pt x="1303" y="927"/>
                    </a:lnTo>
                    <a:lnTo>
                      <a:pt x="1521" y="955"/>
                    </a:lnTo>
                    <a:lnTo>
                      <a:pt x="1551" y="955"/>
                    </a:lnTo>
                    <a:lnTo>
                      <a:pt x="1949" y="1011"/>
                    </a:lnTo>
                    <a:lnTo>
                      <a:pt x="2098" y="1029"/>
                    </a:lnTo>
                    <a:lnTo>
                      <a:pt x="2208" y="1029"/>
                    </a:lnTo>
                    <a:lnTo>
                      <a:pt x="2287" y="1029"/>
                    </a:lnTo>
                    <a:lnTo>
                      <a:pt x="2317" y="1029"/>
                    </a:lnTo>
                    <a:lnTo>
                      <a:pt x="2387" y="1020"/>
                    </a:lnTo>
                    <a:lnTo>
                      <a:pt x="2675" y="1020"/>
                    </a:lnTo>
                    <a:lnTo>
                      <a:pt x="2904" y="1048"/>
                    </a:lnTo>
                    <a:lnTo>
                      <a:pt x="3123" y="1067"/>
                    </a:lnTo>
                    <a:lnTo>
                      <a:pt x="3222" y="1067"/>
                    </a:lnTo>
                    <a:lnTo>
                      <a:pt x="3292" y="1048"/>
                    </a:lnTo>
                    <a:lnTo>
                      <a:pt x="3421" y="1002"/>
                    </a:lnTo>
                    <a:lnTo>
                      <a:pt x="3581" y="955"/>
                    </a:lnTo>
                    <a:lnTo>
                      <a:pt x="3730" y="946"/>
                    </a:lnTo>
                    <a:lnTo>
                      <a:pt x="3859" y="937"/>
                    </a:lnTo>
                    <a:lnTo>
                      <a:pt x="3889" y="918"/>
                    </a:lnTo>
                    <a:lnTo>
                      <a:pt x="4018" y="899"/>
                    </a:lnTo>
                    <a:lnTo>
                      <a:pt x="4167" y="890"/>
                    </a:lnTo>
                    <a:lnTo>
                      <a:pt x="4217" y="881"/>
                    </a:lnTo>
                    <a:lnTo>
                      <a:pt x="4277" y="881"/>
                    </a:lnTo>
                    <a:lnTo>
                      <a:pt x="4307" y="872"/>
                    </a:lnTo>
                    <a:lnTo>
                      <a:pt x="4327" y="844"/>
                    </a:lnTo>
                    <a:lnTo>
                      <a:pt x="4337" y="807"/>
                    </a:lnTo>
                    <a:lnTo>
                      <a:pt x="4366" y="760"/>
                    </a:lnTo>
                    <a:lnTo>
                      <a:pt x="4416" y="714"/>
                    </a:lnTo>
                    <a:lnTo>
                      <a:pt x="4446" y="621"/>
                    </a:lnTo>
                    <a:lnTo>
                      <a:pt x="4466" y="556"/>
                    </a:lnTo>
                    <a:lnTo>
                      <a:pt x="4486" y="528"/>
                    </a:lnTo>
                    <a:lnTo>
                      <a:pt x="4506" y="501"/>
                    </a:lnTo>
                    <a:lnTo>
                      <a:pt x="4536" y="491"/>
                    </a:lnTo>
                    <a:lnTo>
                      <a:pt x="4565" y="491"/>
                    </a:lnTo>
                    <a:lnTo>
                      <a:pt x="4665" y="491"/>
                    </a:lnTo>
                    <a:lnTo>
                      <a:pt x="4764" y="482"/>
                    </a:lnTo>
                    <a:lnTo>
                      <a:pt x="4794" y="473"/>
                    </a:lnTo>
                    <a:lnTo>
                      <a:pt x="4824" y="454"/>
                    </a:lnTo>
                    <a:lnTo>
                      <a:pt x="4854" y="426"/>
                    </a:lnTo>
                    <a:lnTo>
                      <a:pt x="4884" y="389"/>
                    </a:lnTo>
                    <a:lnTo>
                      <a:pt x="4933" y="361"/>
                    </a:lnTo>
                    <a:lnTo>
                      <a:pt x="4963" y="334"/>
                    </a:lnTo>
                    <a:lnTo>
                      <a:pt x="5013" y="315"/>
                    </a:lnTo>
                    <a:lnTo>
                      <a:pt x="5043" y="306"/>
                    </a:lnTo>
                    <a:lnTo>
                      <a:pt x="5053" y="269"/>
                    </a:lnTo>
                    <a:lnTo>
                      <a:pt x="5063" y="241"/>
                    </a:lnTo>
                    <a:lnTo>
                      <a:pt x="5083" y="213"/>
                    </a:lnTo>
                    <a:lnTo>
                      <a:pt x="5093" y="185"/>
                    </a:lnTo>
                    <a:lnTo>
                      <a:pt x="5103" y="157"/>
                    </a:lnTo>
                    <a:lnTo>
                      <a:pt x="5103" y="129"/>
                    </a:lnTo>
                    <a:lnTo>
                      <a:pt x="5103" y="92"/>
                    </a:lnTo>
                    <a:lnTo>
                      <a:pt x="5103" y="64"/>
                    </a:lnTo>
                    <a:lnTo>
                      <a:pt x="5103" y="0"/>
                    </a:lnTo>
                    <a:lnTo>
                      <a:pt x="0" y="18"/>
                    </a:lnTo>
                  </a:path>
                </a:pathLst>
              </a:custGeom>
              <a:gradFill rotWithShape="0">
                <a:gsLst>
                  <a:gs pos="0">
                    <a:srgbClr val="00ffff"/>
                  </a:gs>
                  <a:gs pos="100000">
                    <a:srgbClr val="00bab6"/>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14520" y="4718160"/>
                <a:ext cx="8165880" cy="5475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6733080" y="5809320"/>
              <a:ext cx="1122480" cy="577440"/>
              <a:chOff x="6733080" y="5809320"/>
              <a:chExt cx="1122480" cy="577440"/>
            </a:xfrm>
          </p:grpSpPr>
          <p:grpSp>
            <p:nvGrpSpPr>
              <p:cNvPr id="341" name=""/>
              <p:cNvGrpSpPr/>
              <p:nvPr/>
            </p:nvGrpSpPr>
            <p:grpSpPr>
              <a:xfrm>
                <a:off x="6733080" y="5809320"/>
                <a:ext cx="1122480" cy="577440"/>
                <a:chOff x="6733080" y="5809320"/>
                <a:chExt cx="1122480" cy="577440"/>
              </a:xfrm>
            </p:grpSpPr>
            <p:sp>
              <p:nvSpPr>
                <p:cNvPr id="342" name=""/>
                <p:cNvSpPr/>
                <p:nvPr/>
              </p:nvSpPr>
              <p:spPr>
                <a:xfrm rot="540000">
                  <a:off x="6747120" y="5956200"/>
                  <a:ext cx="601560" cy="2286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3000000">
                  <a:off x="7459200" y="5821200"/>
                  <a:ext cx="257040" cy="48276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rot="540000">
                  <a:off x="6822720" y="5929560"/>
                  <a:ext cx="73080" cy="88920"/>
                </a:xfrm>
                <a:prstGeom prst="ellipse">
                  <a:avLst/>
                </a:prstGeom>
                <a:solidFill>
                  <a:srgbClr val="dce8f4"/>
                </a:solidFill>
                <a:ln w="1260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45" name=""/>
                <p:cNvSpPr/>
                <p:nvPr/>
              </p:nvSpPr>
              <p:spPr>
                <a:xfrm flipH="1" flipV="1" rot="17820000">
                  <a:off x="6918840" y="6090840"/>
                  <a:ext cx="209520" cy="277920"/>
                </a:xfrm>
                <a:custGeom>
                  <a:avLst/>
                  <a:gdLst>
                    <a:gd name="textAreaLeft" fmla="*/ 46080 w 209520"/>
                    <a:gd name="textAreaRight" fmla="*/ 163440 w 209520"/>
                    <a:gd name="textAreaTop" fmla="*/ 60840 h 277920"/>
                    <a:gd name="textAreaBottom" fmla="*/ 217080 h 2779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900000">
                  <a:off x="7043760" y="5880240"/>
                  <a:ext cx="312840" cy="114120"/>
                </a:xfrm>
                <a:prstGeom prst="parallelogram">
                  <a:avLst>
                    <a:gd name="adj" fmla="val 6852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7" name=""/>
                <p:cNvSpPr/>
                <p:nvPr/>
              </p:nvSpPr>
              <p:spPr>
                <a:xfrm rot="540000">
                  <a:off x="6830640" y="5934240"/>
                  <a:ext cx="320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48" name=""/>
              <p:cNvSpPr/>
              <p:nvPr/>
            </p:nvSpPr>
            <p:spPr>
              <a:xfrm>
                <a:off x="6750000" y="6032520"/>
                <a:ext cx="135000" cy="50760"/>
              </a:xfrm>
              <a:custGeom>
                <a:avLst/>
                <a:gdLst/>
                <a:ahLst/>
                <a:rect l="l" t="t" r="r" b="b"/>
                <a:pathLst>
                  <a:path w="85" h="32">
                    <a:moveTo>
                      <a:pt x="0" y="8"/>
                    </a:moveTo>
                    <a:lnTo>
                      <a:pt x="9" y="4"/>
                    </a:lnTo>
                    <a:lnTo>
                      <a:pt x="16" y="3"/>
                    </a:lnTo>
                    <a:lnTo>
                      <a:pt x="20" y="0"/>
                    </a:lnTo>
                    <a:lnTo>
                      <a:pt x="26" y="2"/>
                    </a:lnTo>
                    <a:lnTo>
                      <a:pt x="32" y="3"/>
                    </a:lnTo>
                    <a:lnTo>
                      <a:pt x="37" y="4"/>
                    </a:lnTo>
                    <a:lnTo>
                      <a:pt x="42" y="7"/>
                    </a:lnTo>
                    <a:lnTo>
                      <a:pt x="46" y="11"/>
                    </a:lnTo>
                    <a:lnTo>
                      <a:pt x="51" y="13"/>
                    </a:lnTo>
                    <a:lnTo>
                      <a:pt x="56" y="14"/>
                    </a:lnTo>
                    <a:lnTo>
                      <a:pt x="60" y="14"/>
                    </a:lnTo>
                    <a:lnTo>
                      <a:pt x="65" y="15"/>
                    </a:lnTo>
                    <a:lnTo>
                      <a:pt x="69" y="18"/>
                    </a:lnTo>
                    <a:lnTo>
                      <a:pt x="73" y="20"/>
                    </a:lnTo>
                    <a:lnTo>
                      <a:pt x="77" y="24"/>
                    </a:lnTo>
                    <a:lnTo>
                      <a:pt x="81" y="28"/>
                    </a:lnTo>
                    <a:lnTo>
                      <a:pt x="84"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349" name=""/>
          <p:cNvGrpSpPr/>
          <p:nvPr/>
        </p:nvGrpSpPr>
        <p:grpSpPr>
          <a:xfrm>
            <a:off x="1401840" y="2198520"/>
            <a:ext cx="3171240" cy="2971440"/>
            <a:chOff x="1401840" y="2198520"/>
            <a:chExt cx="3171240" cy="2971440"/>
          </a:xfrm>
        </p:grpSpPr>
        <p:sp>
          <p:nvSpPr>
            <p:cNvPr id="350" name=""/>
            <p:cNvSpPr/>
            <p:nvPr/>
          </p:nvSpPr>
          <p:spPr>
            <a:xfrm rot="2400000">
              <a:off x="1188720" y="2908440"/>
              <a:ext cx="2268360" cy="16308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3074400" y="3276000"/>
              <a:ext cx="1106640" cy="1377360"/>
              <a:chOff x="3074400" y="3276000"/>
              <a:chExt cx="1106640" cy="1377360"/>
            </a:xfrm>
          </p:grpSpPr>
          <p:grpSp>
            <p:nvGrpSpPr>
              <p:cNvPr id="352" name=""/>
              <p:cNvGrpSpPr/>
              <p:nvPr/>
            </p:nvGrpSpPr>
            <p:grpSpPr>
              <a:xfrm>
                <a:off x="3342600" y="3276000"/>
                <a:ext cx="595800" cy="1116360"/>
                <a:chOff x="3342600" y="3276000"/>
                <a:chExt cx="595800" cy="1116360"/>
              </a:xfrm>
            </p:grpSpPr>
            <p:grpSp>
              <p:nvGrpSpPr>
                <p:cNvPr id="353" name=""/>
                <p:cNvGrpSpPr/>
                <p:nvPr/>
              </p:nvGrpSpPr>
              <p:grpSpPr>
                <a:xfrm>
                  <a:off x="3342600" y="3276000"/>
                  <a:ext cx="595800" cy="1116360"/>
                  <a:chOff x="3342600" y="3276000"/>
                  <a:chExt cx="595800" cy="1116360"/>
                </a:xfrm>
              </p:grpSpPr>
              <p:sp>
                <p:nvSpPr>
                  <p:cNvPr id="354" name=""/>
                  <p:cNvSpPr/>
                  <p:nvPr/>
                </p:nvSpPr>
                <p:spPr>
                  <a:xfrm rot="5820000">
                    <a:off x="3353040" y="347328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rot="8280000">
                    <a:off x="3551400" y="3885480"/>
                    <a:ext cx="25848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rot="5820000">
                    <a:off x="3709800" y="3351240"/>
                    <a:ext cx="709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57" name=""/>
                  <p:cNvSpPr/>
                  <p:nvPr/>
                </p:nvSpPr>
                <p:spPr>
                  <a:xfrm flipH="1" flipV="1" rot="1500000">
                    <a:off x="3390840" y="3430440"/>
                    <a:ext cx="207720" cy="277560"/>
                  </a:xfrm>
                  <a:custGeom>
                    <a:avLst/>
                    <a:gdLst>
                      <a:gd name="textAreaLeft" fmla="*/ 45720 w 207720"/>
                      <a:gd name="textAreaRight" fmla="*/ 162000 w 20772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rot="6180000">
                    <a:off x="3637080" y="367596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59" name=""/>
                  <p:cNvSpPr/>
                  <p:nvPr/>
                </p:nvSpPr>
                <p:spPr>
                  <a:xfrm rot="5820000">
                    <a:off x="3735000" y="335448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60" name=""/>
                <p:cNvSpPr/>
                <p:nvPr/>
              </p:nvSpPr>
              <p:spPr>
                <a:xfrm>
                  <a:off x="3634560" y="3295080"/>
                  <a:ext cx="34560" cy="10764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3190680" y="3334320"/>
                <a:ext cx="595440" cy="1116360"/>
                <a:chOff x="3190680" y="3334320"/>
                <a:chExt cx="595440" cy="1116360"/>
              </a:xfrm>
            </p:grpSpPr>
            <p:grpSp>
              <p:nvGrpSpPr>
                <p:cNvPr id="362" name=""/>
                <p:cNvGrpSpPr/>
                <p:nvPr/>
              </p:nvGrpSpPr>
              <p:grpSpPr>
                <a:xfrm>
                  <a:off x="3190680" y="3334320"/>
                  <a:ext cx="595440" cy="1116360"/>
                  <a:chOff x="3190680" y="3334320"/>
                  <a:chExt cx="595440" cy="1116360"/>
                </a:xfrm>
              </p:grpSpPr>
              <p:sp>
                <p:nvSpPr>
                  <p:cNvPr id="363" name=""/>
                  <p:cNvSpPr/>
                  <p:nvPr/>
                </p:nvSpPr>
                <p:spPr>
                  <a:xfrm rot="5820000">
                    <a:off x="3200760" y="353160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8280000">
                    <a:off x="3399120" y="3943800"/>
                    <a:ext cx="25848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5820000">
                    <a:off x="3557160" y="3409560"/>
                    <a:ext cx="709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66" name=""/>
                  <p:cNvSpPr/>
                  <p:nvPr/>
                </p:nvSpPr>
                <p:spPr>
                  <a:xfrm flipH="1" flipV="1" rot="1500000">
                    <a:off x="3238920" y="3489480"/>
                    <a:ext cx="207360" cy="277560"/>
                  </a:xfrm>
                  <a:custGeom>
                    <a:avLst/>
                    <a:gdLst>
                      <a:gd name="textAreaLeft" fmla="*/ 45360 w 207360"/>
                      <a:gd name="textAreaRight" fmla="*/ 162000 w 2073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rot="6180000">
                    <a:off x="3484440" y="373428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8" name=""/>
                  <p:cNvSpPr/>
                  <p:nvPr/>
                </p:nvSpPr>
                <p:spPr>
                  <a:xfrm rot="5820000">
                    <a:off x="3582000" y="341280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69" name=""/>
                <p:cNvSpPr/>
                <p:nvPr/>
              </p:nvSpPr>
              <p:spPr>
                <a:xfrm>
                  <a:off x="3481920" y="3353400"/>
                  <a:ext cx="34560" cy="10764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3461760" y="3432240"/>
                <a:ext cx="708840" cy="1074240"/>
                <a:chOff x="3461760" y="3432240"/>
                <a:chExt cx="708840" cy="1074240"/>
              </a:xfrm>
            </p:grpSpPr>
            <p:grpSp>
              <p:nvGrpSpPr>
                <p:cNvPr id="371" name=""/>
                <p:cNvGrpSpPr/>
                <p:nvPr/>
              </p:nvGrpSpPr>
              <p:grpSpPr>
                <a:xfrm>
                  <a:off x="3461760" y="3432240"/>
                  <a:ext cx="708840" cy="1074240"/>
                  <a:chOff x="3461760" y="3432240"/>
                  <a:chExt cx="708840" cy="1074240"/>
                </a:xfrm>
              </p:grpSpPr>
              <p:sp>
                <p:nvSpPr>
                  <p:cNvPr id="372" name=""/>
                  <p:cNvSpPr/>
                  <p:nvPr/>
                </p:nvSpPr>
                <p:spPr>
                  <a:xfrm rot="5040000">
                    <a:off x="3449880" y="362808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rot="7500000">
                    <a:off x="3768840" y="4019760"/>
                    <a:ext cx="258480" cy="483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rot="5040000">
                    <a:off x="3759840" y="3491640"/>
                    <a:ext cx="727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75" name=""/>
                  <p:cNvSpPr/>
                  <p:nvPr/>
                </p:nvSpPr>
                <p:spPr>
                  <a:xfrm flipH="1" flipV="1" rot="720000">
                    <a:off x="3488040" y="3621600"/>
                    <a:ext cx="207720" cy="279000"/>
                  </a:xfrm>
                  <a:custGeom>
                    <a:avLst/>
                    <a:gdLst>
                      <a:gd name="textAreaLeft" fmla="*/ 45720 w 207720"/>
                      <a:gd name="textAreaRight" fmla="*/ 162000 w 207720"/>
                      <a:gd name="textAreaTop" fmla="*/ 61200 h 279000"/>
                      <a:gd name="textAreaBottom" fmla="*/ 217800 h 279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5400000">
                    <a:off x="3759840" y="3796560"/>
                    <a:ext cx="313920" cy="113760"/>
                  </a:xfrm>
                  <a:prstGeom prst="parallelogram">
                    <a:avLst>
                      <a:gd name="adj" fmla="val 6897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77" name=""/>
                  <p:cNvSpPr/>
                  <p:nvPr/>
                </p:nvSpPr>
                <p:spPr>
                  <a:xfrm rot="5040000">
                    <a:off x="3778920" y="3492720"/>
                    <a:ext cx="2952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78" name=""/>
                <p:cNvSpPr/>
                <p:nvPr/>
              </p:nvSpPr>
              <p:spPr>
                <a:xfrm>
                  <a:off x="3690000" y="3454920"/>
                  <a:ext cx="26640" cy="112320"/>
                </a:xfrm>
                <a:custGeom>
                  <a:avLst/>
                  <a:gdLst/>
                  <a:ahLst/>
                  <a:rect l="l" t="t" r="r" b="b"/>
                  <a:pathLst>
                    <a:path w="17" h="71">
                      <a:moveTo>
                        <a:pt x="2" y="0"/>
                      </a:moveTo>
                      <a:lnTo>
                        <a:pt x="4" y="6"/>
                      </a:lnTo>
                      <a:lnTo>
                        <a:pt x="7" y="10"/>
                      </a:lnTo>
                      <a:lnTo>
                        <a:pt x="11" y="14"/>
                      </a:lnTo>
                      <a:lnTo>
                        <a:pt x="13" y="18"/>
                      </a:lnTo>
                      <a:lnTo>
                        <a:pt x="13" y="24"/>
                      </a:lnTo>
                      <a:lnTo>
                        <a:pt x="8" y="28"/>
                      </a:lnTo>
                      <a:lnTo>
                        <a:pt x="16" y="32"/>
                      </a:lnTo>
                      <a:lnTo>
                        <a:pt x="14" y="36"/>
                      </a:lnTo>
                      <a:lnTo>
                        <a:pt x="8" y="40"/>
                      </a:lnTo>
                      <a:lnTo>
                        <a:pt x="8" y="46"/>
                      </a:lnTo>
                      <a:lnTo>
                        <a:pt x="10" y="49"/>
                      </a:lnTo>
                      <a:lnTo>
                        <a:pt x="11" y="54"/>
                      </a:lnTo>
                      <a:lnTo>
                        <a:pt x="13" y="58"/>
                      </a:lnTo>
                      <a:lnTo>
                        <a:pt x="11" y="64"/>
                      </a:lnTo>
                      <a:lnTo>
                        <a:pt x="4" y="68"/>
                      </a:lnTo>
                      <a:lnTo>
                        <a:pt x="0"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3585960" y="3462840"/>
                <a:ext cx="595080" cy="1116000"/>
                <a:chOff x="3585960" y="3462840"/>
                <a:chExt cx="595080" cy="1116000"/>
              </a:xfrm>
            </p:grpSpPr>
            <p:grpSp>
              <p:nvGrpSpPr>
                <p:cNvPr id="380" name=""/>
                <p:cNvGrpSpPr/>
                <p:nvPr/>
              </p:nvGrpSpPr>
              <p:grpSpPr>
                <a:xfrm>
                  <a:off x="3585960" y="3462840"/>
                  <a:ext cx="595080" cy="1116000"/>
                  <a:chOff x="3585960" y="3462840"/>
                  <a:chExt cx="595080" cy="1116000"/>
                </a:xfrm>
              </p:grpSpPr>
              <p:sp>
                <p:nvSpPr>
                  <p:cNvPr id="381" name=""/>
                  <p:cNvSpPr/>
                  <p:nvPr/>
                </p:nvSpPr>
                <p:spPr>
                  <a:xfrm rot="5820000">
                    <a:off x="3596040" y="366012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rot="8280000">
                    <a:off x="3794400" y="4072320"/>
                    <a:ext cx="25848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rot="5820000">
                    <a:off x="3952440" y="3538080"/>
                    <a:ext cx="709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84" name=""/>
                  <p:cNvSpPr/>
                  <p:nvPr/>
                </p:nvSpPr>
                <p:spPr>
                  <a:xfrm flipH="1" flipV="1" rot="1500000">
                    <a:off x="3634200" y="3618000"/>
                    <a:ext cx="207360" cy="277560"/>
                  </a:xfrm>
                  <a:custGeom>
                    <a:avLst/>
                    <a:gdLst>
                      <a:gd name="textAreaLeft" fmla="*/ 45360 w 207360"/>
                      <a:gd name="textAreaRight" fmla="*/ 162000 w 2073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6180000">
                    <a:off x="3879720" y="386280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86" name=""/>
                  <p:cNvSpPr/>
                  <p:nvPr/>
                </p:nvSpPr>
                <p:spPr>
                  <a:xfrm rot="5820000">
                    <a:off x="3977280" y="354132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87" name=""/>
                <p:cNvSpPr/>
                <p:nvPr/>
              </p:nvSpPr>
              <p:spPr>
                <a:xfrm>
                  <a:off x="3877200" y="3481920"/>
                  <a:ext cx="34560" cy="107640"/>
                </a:xfrm>
                <a:custGeom>
                  <a:avLst/>
                  <a:gdLst/>
                  <a:ahLst/>
                  <a:rect l="l" t="t" r="r" b="b"/>
                  <a:pathLst>
                    <a:path w="22" h="68">
                      <a:moveTo>
                        <a:pt x="18" y="0"/>
                      </a:moveTo>
                      <a:lnTo>
                        <a:pt x="18" y="6"/>
                      </a:lnTo>
                      <a:lnTo>
                        <a:pt x="19" y="10"/>
                      </a:lnTo>
                      <a:lnTo>
                        <a:pt x="21" y="15"/>
                      </a:lnTo>
                      <a:lnTo>
                        <a:pt x="21" y="19"/>
                      </a:lnTo>
                      <a:lnTo>
                        <a:pt x="19" y="24"/>
                      </a:lnTo>
                      <a:lnTo>
                        <a:pt x="16" y="28"/>
                      </a:lnTo>
                      <a:lnTo>
                        <a:pt x="19" y="33"/>
                      </a:lnTo>
                      <a:lnTo>
                        <a:pt x="18" y="37"/>
                      </a:lnTo>
                      <a:lnTo>
                        <a:pt x="13" y="40"/>
                      </a:lnTo>
                      <a:lnTo>
                        <a:pt x="12" y="45"/>
                      </a:lnTo>
                      <a:lnTo>
                        <a:pt x="12" y="49"/>
                      </a:lnTo>
                      <a:lnTo>
                        <a:pt x="12" y="54"/>
                      </a:lnTo>
                      <a:lnTo>
                        <a:pt x="12" y="58"/>
                      </a:lnTo>
                      <a:lnTo>
                        <a:pt x="9" y="63"/>
                      </a:lnTo>
                      <a:lnTo>
                        <a:pt x="4" y="66"/>
                      </a:lnTo>
                      <a:lnTo>
                        <a:pt x="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3136320" y="3388320"/>
                <a:ext cx="595800" cy="1116360"/>
                <a:chOff x="3136320" y="3388320"/>
                <a:chExt cx="595800" cy="1116360"/>
              </a:xfrm>
            </p:grpSpPr>
            <p:grpSp>
              <p:nvGrpSpPr>
                <p:cNvPr id="389" name=""/>
                <p:cNvGrpSpPr/>
                <p:nvPr/>
              </p:nvGrpSpPr>
              <p:grpSpPr>
                <a:xfrm>
                  <a:off x="3136320" y="3388320"/>
                  <a:ext cx="595800" cy="1116360"/>
                  <a:chOff x="3136320" y="3388320"/>
                  <a:chExt cx="595800" cy="1116360"/>
                </a:xfrm>
              </p:grpSpPr>
              <p:sp>
                <p:nvSpPr>
                  <p:cNvPr id="390" name=""/>
                  <p:cNvSpPr/>
                  <p:nvPr/>
                </p:nvSpPr>
                <p:spPr>
                  <a:xfrm flipH="1" rot="15780000">
                    <a:off x="3121200" y="358560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rot="13320000">
                    <a:off x="3263760" y="3997800"/>
                    <a:ext cx="25848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rot="15780000">
                    <a:off x="3295440" y="3463560"/>
                    <a:ext cx="709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393" name=""/>
                  <p:cNvSpPr/>
                  <p:nvPr/>
                </p:nvSpPr>
                <p:spPr>
                  <a:xfrm flipV="1" rot="20100000">
                    <a:off x="3475800" y="3543480"/>
                    <a:ext cx="207360" cy="277560"/>
                  </a:xfrm>
                  <a:custGeom>
                    <a:avLst/>
                    <a:gdLst>
                      <a:gd name="textAreaLeft" fmla="*/ 45360 w 207360"/>
                      <a:gd name="textAreaRight" fmla="*/ 162000 w 2073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rot="15420000">
                    <a:off x="3124800" y="378828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95" name=""/>
                  <p:cNvSpPr/>
                  <p:nvPr/>
                </p:nvSpPr>
                <p:spPr>
                  <a:xfrm flipH="1" rot="15780000">
                    <a:off x="3308760" y="346644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96" name=""/>
                <p:cNvSpPr/>
                <p:nvPr/>
              </p:nvSpPr>
              <p:spPr>
                <a:xfrm>
                  <a:off x="3407400" y="3407400"/>
                  <a:ext cx="34560" cy="107640"/>
                </a:xfrm>
                <a:custGeom>
                  <a:avLst/>
                  <a:gdLst/>
                  <a:ahLst/>
                  <a:rect l="l" t="t" r="r" b="b"/>
                  <a:pathLst>
                    <a:path w="22" h="68">
                      <a:moveTo>
                        <a:pt x="3" y="0"/>
                      </a:moveTo>
                      <a:lnTo>
                        <a:pt x="3" y="6"/>
                      </a:lnTo>
                      <a:lnTo>
                        <a:pt x="2" y="10"/>
                      </a:lnTo>
                      <a:lnTo>
                        <a:pt x="0" y="15"/>
                      </a:lnTo>
                      <a:lnTo>
                        <a:pt x="0" y="19"/>
                      </a:lnTo>
                      <a:lnTo>
                        <a:pt x="2" y="24"/>
                      </a:lnTo>
                      <a:lnTo>
                        <a:pt x="5" y="28"/>
                      </a:lnTo>
                      <a:lnTo>
                        <a:pt x="2" y="33"/>
                      </a:lnTo>
                      <a:lnTo>
                        <a:pt x="3" y="37"/>
                      </a:lnTo>
                      <a:lnTo>
                        <a:pt x="8" y="40"/>
                      </a:lnTo>
                      <a:lnTo>
                        <a:pt x="9" y="45"/>
                      </a:lnTo>
                      <a:lnTo>
                        <a:pt x="9" y="49"/>
                      </a:lnTo>
                      <a:lnTo>
                        <a:pt x="9" y="54"/>
                      </a:lnTo>
                      <a:lnTo>
                        <a:pt x="9" y="58"/>
                      </a:lnTo>
                      <a:lnTo>
                        <a:pt x="12" y="63"/>
                      </a:lnTo>
                      <a:lnTo>
                        <a:pt x="17" y="66"/>
                      </a:lnTo>
                      <a:lnTo>
                        <a:pt x="21"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3074400" y="3537360"/>
                <a:ext cx="596160" cy="1116000"/>
                <a:chOff x="3074400" y="3537360"/>
                <a:chExt cx="596160" cy="1116000"/>
              </a:xfrm>
            </p:grpSpPr>
            <p:grpSp>
              <p:nvGrpSpPr>
                <p:cNvPr id="398" name=""/>
                <p:cNvGrpSpPr/>
                <p:nvPr/>
              </p:nvGrpSpPr>
              <p:grpSpPr>
                <a:xfrm>
                  <a:off x="3074400" y="3537360"/>
                  <a:ext cx="596160" cy="1116000"/>
                  <a:chOff x="3074400" y="3537360"/>
                  <a:chExt cx="596160" cy="1116000"/>
                </a:xfrm>
              </p:grpSpPr>
              <p:sp>
                <p:nvSpPr>
                  <p:cNvPr id="399" name=""/>
                  <p:cNvSpPr/>
                  <p:nvPr/>
                </p:nvSpPr>
                <p:spPr>
                  <a:xfrm flipH="1" rot="15780000">
                    <a:off x="3059640" y="373464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flipH="1" rot="13320000">
                    <a:off x="3201840" y="4146480"/>
                    <a:ext cx="25848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H="1" rot="15780000">
                    <a:off x="3233520" y="3612960"/>
                    <a:ext cx="7128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02" name=""/>
                  <p:cNvSpPr/>
                  <p:nvPr/>
                </p:nvSpPr>
                <p:spPr>
                  <a:xfrm flipV="1" rot="20100000">
                    <a:off x="3414240" y="3692160"/>
                    <a:ext cx="207360" cy="277200"/>
                  </a:xfrm>
                  <a:custGeom>
                    <a:avLst/>
                    <a:gdLst>
                      <a:gd name="textAreaLeft" fmla="*/ 45360 w 207360"/>
                      <a:gd name="textAreaRight" fmla="*/ 162000 w 207360"/>
                      <a:gd name="textAreaTop" fmla="*/ 60840 h 277200"/>
                      <a:gd name="textAreaBottom" fmla="*/ 216360 h 277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rot="15420000">
                    <a:off x="3063240" y="393732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04" name=""/>
                  <p:cNvSpPr/>
                  <p:nvPr/>
                </p:nvSpPr>
                <p:spPr>
                  <a:xfrm flipH="1" rot="15780000">
                    <a:off x="3247200" y="361584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405" name=""/>
                <p:cNvSpPr/>
                <p:nvPr/>
              </p:nvSpPr>
              <p:spPr>
                <a:xfrm>
                  <a:off x="3345840" y="3556440"/>
                  <a:ext cx="34560" cy="107640"/>
                </a:xfrm>
                <a:custGeom>
                  <a:avLst/>
                  <a:gdLst/>
                  <a:ahLst/>
                  <a:rect l="l" t="t" r="r" b="b"/>
                  <a:pathLst>
                    <a:path w="22" h="68">
                      <a:moveTo>
                        <a:pt x="3" y="0"/>
                      </a:moveTo>
                      <a:lnTo>
                        <a:pt x="3" y="6"/>
                      </a:lnTo>
                      <a:lnTo>
                        <a:pt x="2" y="10"/>
                      </a:lnTo>
                      <a:lnTo>
                        <a:pt x="0" y="15"/>
                      </a:lnTo>
                      <a:lnTo>
                        <a:pt x="0" y="19"/>
                      </a:lnTo>
                      <a:lnTo>
                        <a:pt x="2" y="24"/>
                      </a:lnTo>
                      <a:lnTo>
                        <a:pt x="5" y="28"/>
                      </a:lnTo>
                      <a:lnTo>
                        <a:pt x="2" y="33"/>
                      </a:lnTo>
                      <a:lnTo>
                        <a:pt x="3" y="37"/>
                      </a:lnTo>
                      <a:lnTo>
                        <a:pt x="8" y="40"/>
                      </a:lnTo>
                      <a:lnTo>
                        <a:pt x="9" y="45"/>
                      </a:lnTo>
                      <a:lnTo>
                        <a:pt x="9" y="49"/>
                      </a:lnTo>
                      <a:lnTo>
                        <a:pt x="9" y="54"/>
                      </a:lnTo>
                      <a:lnTo>
                        <a:pt x="9" y="58"/>
                      </a:lnTo>
                      <a:lnTo>
                        <a:pt x="12" y="63"/>
                      </a:lnTo>
                      <a:lnTo>
                        <a:pt x="17" y="66"/>
                      </a:lnTo>
                      <a:lnTo>
                        <a:pt x="21"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3139560" y="3576960"/>
                <a:ext cx="700560" cy="1076040"/>
                <a:chOff x="3139560" y="3576960"/>
                <a:chExt cx="700560" cy="1076040"/>
              </a:xfrm>
            </p:grpSpPr>
            <p:grpSp>
              <p:nvGrpSpPr>
                <p:cNvPr id="407" name=""/>
                <p:cNvGrpSpPr/>
                <p:nvPr/>
              </p:nvGrpSpPr>
              <p:grpSpPr>
                <a:xfrm>
                  <a:off x="3139560" y="3576960"/>
                  <a:ext cx="700560" cy="1076040"/>
                  <a:chOff x="3139560" y="3576960"/>
                  <a:chExt cx="700560" cy="1076040"/>
                </a:xfrm>
              </p:grpSpPr>
              <p:sp>
                <p:nvSpPr>
                  <p:cNvPr id="408" name=""/>
                  <p:cNvSpPr/>
                  <p:nvPr/>
                </p:nvSpPr>
                <p:spPr>
                  <a:xfrm flipH="1" rot="16500000">
                    <a:off x="3249360" y="3771360"/>
                    <a:ext cx="599760" cy="2278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H="1" rot="14040000">
                    <a:off x="3281040" y="4165920"/>
                    <a:ext cx="25668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H="1" rot="16500000">
                    <a:off x="3463200" y="3636000"/>
                    <a:ext cx="70920" cy="867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411" name=""/>
                  <p:cNvSpPr/>
                  <p:nvPr/>
                </p:nvSpPr>
                <p:spPr>
                  <a:xfrm flipV="1" rot="20820000">
                    <a:off x="3602160" y="3761280"/>
                    <a:ext cx="209160" cy="279000"/>
                  </a:xfrm>
                  <a:custGeom>
                    <a:avLst/>
                    <a:gdLst>
                      <a:gd name="textAreaLeft" fmla="*/ 45720 w 209160"/>
                      <a:gd name="textAreaRight" fmla="*/ 163440 w 209160"/>
                      <a:gd name="textAreaTop" fmla="*/ 61200 h 279000"/>
                      <a:gd name="textAreaBottom" fmla="*/ 217800 h 279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H="1" rot="16140000">
                    <a:off x="3223440" y="3941280"/>
                    <a:ext cx="313920" cy="115560"/>
                  </a:xfrm>
                  <a:prstGeom prst="parallelogram">
                    <a:avLst>
                      <a:gd name="adj" fmla="val 67900"/>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13" name=""/>
                  <p:cNvSpPr/>
                  <p:nvPr/>
                </p:nvSpPr>
                <p:spPr>
                  <a:xfrm flipH="1" rot="16500000">
                    <a:off x="3484080" y="3635640"/>
                    <a:ext cx="2952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414" name=""/>
                <p:cNvSpPr/>
                <p:nvPr/>
              </p:nvSpPr>
              <p:spPr>
                <a:xfrm>
                  <a:off x="3588480" y="3597840"/>
                  <a:ext cx="26640" cy="110880"/>
                </a:xfrm>
                <a:custGeom>
                  <a:avLst/>
                  <a:gdLst/>
                  <a:ahLst/>
                  <a:rect l="l" t="t" r="r" b="b"/>
                  <a:pathLst>
                    <a:path w="17" h="70">
                      <a:moveTo>
                        <a:pt x="10" y="0"/>
                      </a:moveTo>
                      <a:lnTo>
                        <a:pt x="9" y="6"/>
                      </a:lnTo>
                      <a:lnTo>
                        <a:pt x="6" y="9"/>
                      </a:lnTo>
                      <a:lnTo>
                        <a:pt x="2" y="14"/>
                      </a:lnTo>
                      <a:lnTo>
                        <a:pt x="1" y="18"/>
                      </a:lnTo>
                      <a:lnTo>
                        <a:pt x="2" y="23"/>
                      </a:lnTo>
                      <a:lnTo>
                        <a:pt x="5" y="28"/>
                      </a:lnTo>
                      <a:lnTo>
                        <a:pt x="0" y="32"/>
                      </a:lnTo>
                      <a:lnTo>
                        <a:pt x="0" y="36"/>
                      </a:lnTo>
                      <a:lnTo>
                        <a:pt x="6" y="40"/>
                      </a:lnTo>
                      <a:lnTo>
                        <a:pt x="5" y="45"/>
                      </a:lnTo>
                      <a:lnTo>
                        <a:pt x="5" y="49"/>
                      </a:lnTo>
                      <a:lnTo>
                        <a:pt x="4" y="54"/>
                      </a:lnTo>
                      <a:lnTo>
                        <a:pt x="2" y="58"/>
                      </a:lnTo>
                      <a:lnTo>
                        <a:pt x="5" y="63"/>
                      </a:lnTo>
                      <a:lnTo>
                        <a:pt x="10" y="67"/>
                      </a:lnTo>
                      <a:lnTo>
                        <a:pt x="16"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5" name=""/>
            <p:cNvGrpSpPr/>
            <p:nvPr/>
          </p:nvGrpSpPr>
          <p:grpSpPr>
            <a:xfrm>
              <a:off x="3073320" y="3455640"/>
              <a:ext cx="1272600" cy="1367280"/>
              <a:chOff x="3073320" y="3455640"/>
              <a:chExt cx="1272600" cy="1367280"/>
            </a:xfrm>
          </p:grpSpPr>
          <p:grpSp>
            <p:nvGrpSpPr>
              <p:cNvPr id="416" name=""/>
              <p:cNvGrpSpPr/>
              <p:nvPr/>
            </p:nvGrpSpPr>
            <p:grpSpPr>
              <a:xfrm>
                <a:off x="3565080" y="3459960"/>
                <a:ext cx="625320" cy="1097280"/>
                <a:chOff x="3565080" y="3459960"/>
                <a:chExt cx="625320" cy="1097280"/>
              </a:xfrm>
            </p:grpSpPr>
            <p:grpSp>
              <p:nvGrpSpPr>
                <p:cNvPr id="417" name=""/>
                <p:cNvGrpSpPr/>
                <p:nvPr/>
              </p:nvGrpSpPr>
              <p:grpSpPr>
                <a:xfrm>
                  <a:off x="3565080" y="3459960"/>
                  <a:ext cx="625320" cy="1097280"/>
                  <a:chOff x="3565080" y="3459960"/>
                  <a:chExt cx="625320" cy="1097280"/>
                </a:xfrm>
              </p:grpSpPr>
              <p:sp>
                <p:nvSpPr>
                  <p:cNvPr id="418" name=""/>
                  <p:cNvSpPr/>
                  <p:nvPr/>
                </p:nvSpPr>
                <p:spPr>
                  <a:xfrm rot="7140000">
                    <a:off x="3645000" y="3663000"/>
                    <a:ext cx="5997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rot="9600000">
                    <a:off x="3639240" y="4044960"/>
                    <a:ext cx="25992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rot="7140000">
                    <a:off x="4065840" y="3588120"/>
                    <a:ext cx="71280" cy="900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21" name=""/>
                  <p:cNvSpPr/>
                  <p:nvPr/>
                </p:nvSpPr>
                <p:spPr>
                  <a:xfrm flipH="1" flipV="1" rot="2820000">
                    <a:off x="3700080" y="3562920"/>
                    <a:ext cx="207720" cy="277200"/>
                  </a:xfrm>
                  <a:custGeom>
                    <a:avLst/>
                    <a:gdLst>
                      <a:gd name="textAreaLeft" fmla="*/ 45720 w 207720"/>
                      <a:gd name="textAreaRight" fmla="*/ 162000 w 207720"/>
                      <a:gd name="textAreaTop" fmla="*/ 60840 h 277200"/>
                      <a:gd name="textAreaBottom" fmla="*/ 216360 h 277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rot="7500000">
                    <a:off x="3862440" y="3905640"/>
                    <a:ext cx="313920" cy="117000"/>
                  </a:xfrm>
                  <a:prstGeom prst="parallelogram">
                    <a:avLst>
                      <a:gd name="adj" fmla="val 6706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423" name=""/>
                  <p:cNvSpPr/>
                  <p:nvPr/>
                </p:nvSpPr>
                <p:spPr>
                  <a:xfrm rot="7140000">
                    <a:off x="4104000" y="3594600"/>
                    <a:ext cx="2844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424" name=""/>
                <p:cNvSpPr/>
                <p:nvPr/>
              </p:nvSpPr>
              <p:spPr>
                <a:xfrm>
                  <a:off x="3997800" y="3508920"/>
                  <a:ext cx="66600" cy="90360"/>
                </a:xfrm>
                <a:custGeom>
                  <a:avLst/>
                  <a:gdLst/>
                  <a:ahLst/>
                  <a:rect l="l" t="t" r="r" b="b"/>
                  <a:pathLst>
                    <a:path w="42" h="57">
                      <a:moveTo>
                        <a:pt x="41" y="0"/>
                      </a:moveTo>
                      <a:lnTo>
                        <a:pt x="39" y="6"/>
                      </a:lnTo>
                      <a:lnTo>
                        <a:pt x="39" y="10"/>
                      </a:lnTo>
                      <a:lnTo>
                        <a:pt x="39" y="15"/>
                      </a:lnTo>
                      <a:lnTo>
                        <a:pt x="37" y="19"/>
                      </a:lnTo>
                      <a:lnTo>
                        <a:pt x="33" y="23"/>
                      </a:lnTo>
                      <a:lnTo>
                        <a:pt x="29" y="26"/>
                      </a:lnTo>
                      <a:lnTo>
                        <a:pt x="30" y="31"/>
                      </a:lnTo>
                      <a:lnTo>
                        <a:pt x="28" y="35"/>
                      </a:lnTo>
                      <a:lnTo>
                        <a:pt x="22" y="36"/>
                      </a:lnTo>
                      <a:lnTo>
                        <a:pt x="19" y="40"/>
                      </a:lnTo>
                      <a:lnTo>
                        <a:pt x="17" y="44"/>
                      </a:lnTo>
                      <a:lnTo>
                        <a:pt x="16" y="48"/>
                      </a:lnTo>
                      <a:lnTo>
                        <a:pt x="14" y="52"/>
                      </a:lnTo>
                      <a:lnTo>
                        <a:pt x="9" y="55"/>
                      </a:lnTo>
                      <a:lnTo>
                        <a:pt x="4" y="56"/>
                      </a:lnTo>
                      <a:lnTo>
                        <a:pt x="0" y="56"/>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425" name=""/>
              <p:cNvGrpSpPr/>
              <p:nvPr/>
            </p:nvGrpSpPr>
            <p:grpSpPr>
              <a:xfrm>
                <a:off x="3401280" y="3455640"/>
                <a:ext cx="627840" cy="1100880"/>
                <a:chOff x="3401280" y="3455640"/>
                <a:chExt cx="627840" cy="1100880"/>
              </a:xfrm>
            </p:grpSpPr>
            <p:grpSp>
              <p:nvGrpSpPr>
                <p:cNvPr id="426" name=""/>
                <p:cNvGrpSpPr/>
                <p:nvPr/>
              </p:nvGrpSpPr>
              <p:grpSpPr>
                <a:xfrm>
                  <a:off x="3401280" y="3455640"/>
                  <a:ext cx="627840" cy="1100880"/>
                  <a:chOff x="3401280" y="3455640"/>
                  <a:chExt cx="627840" cy="1100880"/>
                </a:xfrm>
              </p:grpSpPr>
              <p:sp>
                <p:nvSpPr>
                  <p:cNvPr id="427" name=""/>
                  <p:cNvSpPr/>
                  <p:nvPr/>
                </p:nvSpPr>
                <p:spPr>
                  <a:xfrm rot="7140000">
                    <a:off x="3482640" y="3659400"/>
                    <a:ext cx="60120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9600000">
                    <a:off x="3475800" y="4043880"/>
                    <a:ext cx="25992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7140000">
                    <a:off x="3903480" y="3585960"/>
                    <a:ext cx="7128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0" name=""/>
                  <p:cNvSpPr/>
                  <p:nvPr/>
                </p:nvSpPr>
                <p:spPr>
                  <a:xfrm flipH="1" flipV="1" rot="2820000">
                    <a:off x="3536640" y="3560040"/>
                    <a:ext cx="207720" cy="277200"/>
                  </a:xfrm>
                  <a:custGeom>
                    <a:avLst/>
                    <a:gdLst>
                      <a:gd name="textAreaLeft" fmla="*/ 45720 w 207720"/>
                      <a:gd name="textAreaRight" fmla="*/ 162000 w 207720"/>
                      <a:gd name="textAreaTop" fmla="*/ 60840 h 277200"/>
                      <a:gd name="textAreaBottom" fmla="*/ 216360 h 277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7500000">
                    <a:off x="3700440" y="390420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32" name=""/>
                  <p:cNvSpPr/>
                  <p:nvPr/>
                </p:nvSpPr>
                <p:spPr>
                  <a:xfrm rot="7140000">
                    <a:off x="3939840" y="3594240"/>
                    <a:ext cx="280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433" name=""/>
                <p:cNvSpPr/>
                <p:nvPr/>
              </p:nvSpPr>
              <p:spPr>
                <a:xfrm>
                  <a:off x="3834360" y="3507840"/>
                  <a:ext cx="68040" cy="90000"/>
                </a:xfrm>
                <a:custGeom>
                  <a:avLst/>
                  <a:gdLst/>
                  <a:ahLst/>
                  <a:rect l="l" t="t" r="r" b="b"/>
                  <a:pathLst>
                    <a:path w="43" h="57">
                      <a:moveTo>
                        <a:pt x="42" y="0"/>
                      </a:moveTo>
                      <a:lnTo>
                        <a:pt x="39" y="5"/>
                      </a:lnTo>
                      <a:lnTo>
                        <a:pt x="39" y="9"/>
                      </a:lnTo>
                      <a:lnTo>
                        <a:pt x="39" y="15"/>
                      </a:lnTo>
                      <a:lnTo>
                        <a:pt x="37" y="18"/>
                      </a:lnTo>
                      <a:lnTo>
                        <a:pt x="33" y="22"/>
                      </a:lnTo>
                      <a:lnTo>
                        <a:pt x="29" y="25"/>
                      </a:lnTo>
                      <a:lnTo>
                        <a:pt x="30" y="31"/>
                      </a:lnTo>
                      <a:lnTo>
                        <a:pt x="28" y="34"/>
                      </a:lnTo>
                      <a:lnTo>
                        <a:pt x="22" y="35"/>
                      </a:lnTo>
                      <a:lnTo>
                        <a:pt x="19" y="39"/>
                      </a:lnTo>
                      <a:lnTo>
                        <a:pt x="18" y="43"/>
                      </a:lnTo>
                      <a:lnTo>
                        <a:pt x="16" y="48"/>
                      </a:lnTo>
                      <a:lnTo>
                        <a:pt x="14" y="51"/>
                      </a:lnTo>
                      <a:lnTo>
                        <a:pt x="10" y="55"/>
                      </a:lnTo>
                      <a:lnTo>
                        <a:pt x="4" y="56"/>
                      </a:lnTo>
                      <a:lnTo>
                        <a:pt x="0" y="55"/>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434" name=""/>
              <p:cNvGrpSpPr/>
              <p:nvPr/>
            </p:nvGrpSpPr>
            <p:grpSpPr>
              <a:xfrm>
                <a:off x="3659760" y="3638520"/>
                <a:ext cx="542880" cy="1130400"/>
                <a:chOff x="3659760" y="3638520"/>
                <a:chExt cx="542880" cy="1130400"/>
              </a:xfrm>
            </p:grpSpPr>
            <p:grpSp>
              <p:nvGrpSpPr>
                <p:cNvPr id="435" name=""/>
                <p:cNvGrpSpPr/>
                <p:nvPr/>
              </p:nvGrpSpPr>
              <p:grpSpPr>
                <a:xfrm>
                  <a:off x="3659760" y="3638520"/>
                  <a:ext cx="542880" cy="1130400"/>
                  <a:chOff x="3659760" y="3638520"/>
                  <a:chExt cx="542880" cy="1130400"/>
                </a:xfrm>
              </p:grpSpPr>
              <p:sp>
                <p:nvSpPr>
                  <p:cNvPr id="436" name=""/>
                  <p:cNvSpPr/>
                  <p:nvPr/>
                </p:nvSpPr>
                <p:spPr>
                  <a:xfrm rot="6360000">
                    <a:off x="3675960" y="3843360"/>
                    <a:ext cx="599760" cy="230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8820000">
                    <a:off x="3790080" y="4253400"/>
                    <a:ext cx="259920" cy="483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6360000">
                    <a:off x="4059720" y="3738960"/>
                    <a:ext cx="7236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39" name=""/>
                  <p:cNvSpPr/>
                  <p:nvPr/>
                </p:nvSpPr>
                <p:spPr>
                  <a:xfrm flipH="1" flipV="1" rot="2040000">
                    <a:off x="3720240" y="3774960"/>
                    <a:ext cx="207360" cy="281160"/>
                  </a:xfrm>
                  <a:custGeom>
                    <a:avLst/>
                    <a:gdLst>
                      <a:gd name="textAreaLeft" fmla="*/ 45360 w 207360"/>
                      <a:gd name="textAreaRight" fmla="*/ 162000 w 207360"/>
                      <a:gd name="textAreaTop" fmla="*/ 61560 h 281160"/>
                      <a:gd name="textAreaBottom" fmla="*/ 219600 h 2811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rot="6720000">
                    <a:off x="3932640" y="4064040"/>
                    <a:ext cx="313920" cy="117000"/>
                  </a:xfrm>
                  <a:prstGeom prst="parallelogram">
                    <a:avLst>
                      <a:gd name="adj" fmla="val 6706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441" name=""/>
                  <p:cNvSpPr/>
                  <p:nvPr/>
                </p:nvSpPr>
                <p:spPr>
                  <a:xfrm rot="6360000">
                    <a:off x="4089960" y="3740760"/>
                    <a:ext cx="3132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442" name=""/>
                <p:cNvSpPr/>
                <p:nvPr/>
              </p:nvSpPr>
              <p:spPr>
                <a:xfrm>
                  <a:off x="3988440" y="3670920"/>
                  <a:ext cx="51840" cy="102960"/>
                </a:xfrm>
                <a:custGeom>
                  <a:avLst/>
                  <a:gdLst/>
                  <a:ahLst/>
                  <a:rect l="l" t="t" r="r" b="b"/>
                  <a:pathLst>
                    <a:path w="33" h="65">
                      <a:moveTo>
                        <a:pt x="29" y="0"/>
                      </a:moveTo>
                      <a:lnTo>
                        <a:pt x="28" y="6"/>
                      </a:lnTo>
                      <a:lnTo>
                        <a:pt x="29" y="11"/>
                      </a:lnTo>
                      <a:lnTo>
                        <a:pt x="32" y="16"/>
                      </a:lnTo>
                      <a:lnTo>
                        <a:pt x="31" y="20"/>
                      </a:lnTo>
                      <a:lnTo>
                        <a:pt x="29" y="26"/>
                      </a:lnTo>
                      <a:lnTo>
                        <a:pt x="24" y="28"/>
                      </a:lnTo>
                      <a:lnTo>
                        <a:pt x="29" y="34"/>
                      </a:lnTo>
                      <a:lnTo>
                        <a:pt x="26" y="37"/>
                      </a:lnTo>
                      <a:lnTo>
                        <a:pt x="19" y="39"/>
                      </a:lnTo>
                      <a:lnTo>
                        <a:pt x="17" y="45"/>
                      </a:lnTo>
                      <a:lnTo>
                        <a:pt x="17" y="48"/>
                      </a:lnTo>
                      <a:lnTo>
                        <a:pt x="17" y="53"/>
                      </a:lnTo>
                      <a:lnTo>
                        <a:pt x="16" y="57"/>
                      </a:lnTo>
                      <a:lnTo>
                        <a:pt x="13" y="62"/>
                      </a:lnTo>
                      <a:lnTo>
                        <a:pt x="5" y="63"/>
                      </a:lnTo>
                      <a:lnTo>
                        <a:pt x="0" y="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
              <p:cNvGrpSpPr/>
              <p:nvPr/>
            </p:nvGrpSpPr>
            <p:grpSpPr>
              <a:xfrm>
                <a:off x="3720600" y="3724200"/>
                <a:ext cx="625320" cy="1098720"/>
                <a:chOff x="3720600" y="3724200"/>
                <a:chExt cx="625320" cy="1098720"/>
              </a:xfrm>
            </p:grpSpPr>
            <p:grpSp>
              <p:nvGrpSpPr>
                <p:cNvPr id="444" name=""/>
                <p:cNvGrpSpPr/>
                <p:nvPr/>
              </p:nvGrpSpPr>
              <p:grpSpPr>
                <a:xfrm>
                  <a:off x="3720600" y="3724200"/>
                  <a:ext cx="625320" cy="1098720"/>
                  <a:chOff x="3720600" y="3724200"/>
                  <a:chExt cx="625320" cy="1098720"/>
                </a:xfrm>
              </p:grpSpPr>
              <p:sp>
                <p:nvSpPr>
                  <p:cNvPr id="445" name=""/>
                  <p:cNvSpPr/>
                  <p:nvPr/>
                </p:nvSpPr>
                <p:spPr>
                  <a:xfrm rot="7140000">
                    <a:off x="3799800" y="3927240"/>
                    <a:ext cx="599760" cy="230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9600000">
                    <a:off x="3795120" y="4310640"/>
                    <a:ext cx="25848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7140000">
                    <a:off x="4221000" y="3852360"/>
                    <a:ext cx="7128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48" name=""/>
                  <p:cNvSpPr/>
                  <p:nvPr/>
                </p:nvSpPr>
                <p:spPr>
                  <a:xfrm flipH="1" flipV="1" rot="2820000">
                    <a:off x="3855600" y="3827520"/>
                    <a:ext cx="207360" cy="277560"/>
                  </a:xfrm>
                  <a:custGeom>
                    <a:avLst/>
                    <a:gdLst>
                      <a:gd name="textAreaLeft" fmla="*/ 45360 w 207360"/>
                      <a:gd name="textAreaRight" fmla="*/ 162000 w 2073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7500000">
                    <a:off x="4018680" y="4172400"/>
                    <a:ext cx="313920" cy="113760"/>
                  </a:xfrm>
                  <a:prstGeom prst="parallelogram">
                    <a:avLst>
                      <a:gd name="adj" fmla="val 6897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50" name=""/>
                  <p:cNvSpPr/>
                  <p:nvPr/>
                </p:nvSpPr>
                <p:spPr>
                  <a:xfrm rot="7140000">
                    <a:off x="4258800" y="3858840"/>
                    <a:ext cx="2988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451" name=""/>
                <p:cNvSpPr/>
                <p:nvPr/>
              </p:nvSpPr>
              <p:spPr>
                <a:xfrm>
                  <a:off x="4151880" y="3774240"/>
                  <a:ext cx="68040" cy="90000"/>
                </a:xfrm>
                <a:custGeom>
                  <a:avLst/>
                  <a:gdLst/>
                  <a:ahLst/>
                  <a:rect l="l" t="t" r="r" b="b"/>
                  <a:pathLst>
                    <a:path w="43" h="57">
                      <a:moveTo>
                        <a:pt x="42" y="0"/>
                      </a:moveTo>
                      <a:lnTo>
                        <a:pt x="40" y="6"/>
                      </a:lnTo>
                      <a:lnTo>
                        <a:pt x="39" y="10"/>
                      </a:lnTo>
                      <a:lnTo>
                        <a:pt x="39" y="15"/>
                      </a:lnTo>
                      <a:lnTo>
                        <a:pt x="38" y="19"/>
                      </a:lnTo>
                      <a:lnTo>
                        <a:pt x="34" y="23"/>
                      </a:lnTo>
                      <a:lnTo>
                        <a:pt x="30" y="25"/>
                      </a:lnTo>
                      <a:lnTo>
                        <a:pt x="31" y="31"/>
                      </a:lnTo>
                      <a:lnTo>
                        <a:pt x="28" y="34"/>
                      </a:lnTo>
                      <a:lnTo>
                        <a:pt x="22" y="35"/>
                      </a:lnTo>
                      <a:lnTo>
                        <a:pt x="20" y="40"/>
                      </a:lnTo>
                      <a:lnTo>
                        <a:pt x="18" y="43"/>
                      </a:lnTo>
                      <a:lnTo>
                        <a:pt x="16" y="48"/>
                      </a:lnTo>
                      <a:lnTo>
                        <a:pt x="15" y="52"/>
                      </a:lnTo>
                      <a:lnTo>
                        <a:pt x="10" y="55"/>
                      </a:lnTo>
                      <a:lnTo>
                        <a:pt x="4" y="56"/>
                      </a:lnTo>
                      <a:lnTo>
                        <a:pt x="0" y="55"/>
                      </a:lnTo>
                    </a:path>
                  </a:pathLst>
                </a:custGeom>
                <a:noFill/>
                <a:ln cap="rnd"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452" name=""/>
              <p:cNvGrpSpPr/>
              <p:nvPr/>
            </p:nvGrpSpPr>
            <p:grpSpPr>
              <a:xfrm>
                <a:off x="3187800" y="3474000"/>
                <a:ext cx="764640" cy="1030320"/>
                <a:chOff x="3187800" y="3474000"/>
                <a:chExt cx="764640" cy="1030320"/>
              </a:xfrm>
            </p:grpSpPr>
            <p:grpSp>
              <p:nvGrpSpPr>
                <p:cNvPr id="453" name=""/>
                <p:cNvGrpSpPr/>
                <p:nvPr/>
              </p:nvGrpSpPr>
              <p:grpSpPr>
                <a:xfrm>
                  <a:off x="3187800" y="3474000"/>
                  <a:ext cx="764640" cy="1030320"/>
                  <a:chOff x="3187800" y="3474000"/>
                  <a:chExt cx="764640" cy="1030320"/>
                </a:xfrm>
              </p:grpSpPr>
              <p:sp>
                <p:nvSpPr>
                  <p:cNvPr id="454" name=""/>
                  <p:cNvSpPr/>
                  <p:nvPr/>
                </p:nvSpPr>
                <p:spPr>
                  <a:xfrm flipH="1" rot="17100000">
                    <a:off x="3387240" y="3679560"/>
                    <a:ext cx="60120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rot="14640000">
                    <a:off x="3332160" y="4041360"/>
                    <a:ext cx="25776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7100000">
                    <a:off x="3638520" y="3537360"/>
                    <a:ext cx="70920" cy="903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57" name=""/>
                  <p:cNvSpPr/>
                  <p:nvPr/>
                </p:nvSpPr>
                <p:spPr>
                  <a:xfrm flipV="1" rot="21420000">
                    <a:off x="3736080" y="3699000"/>
                    <a:ext cx="209160" cy="277560"/>
                  </a:xfrm>
                  <a:custGeom>
                    <a:avLst/>
                    <a:gdLst>
                      <a:gd name="textAreaLeft" fmla="*/ 45720 w 209160"/>
                      <a:gd name="textAreaRight" fmla="*/ 163440 w 2091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flipH="1" rot="16740000">
                    <a:off x="3345840" y="3819960"/>
                    <a:ext cx="312480" cy="115560"/>
                  </a:xfrm>
                  <a:prstGeom prst="parallelogram">
                    <a:avLst>
                      <a:gd name="adj" fmla="val 6758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59" name=""/>
                  <p:cNvSpPr/>
                  <p:nvPr/>
                </p:nvSpPr>
                <p:spPr>
                  <a:xfrm flipH="1" rot="17100000">
                    <a:off x="3666240" y="3541320"/>
                    <a:ext cx="2844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460" name=""/>
                <p:cNvSpPr/>
                <p:nvPr/>
              </p:nvSpPr>
              <p:spPr>
                <a:xfrm>
                  <a:off x="3763080" y="3520080"/>
                  <a:ext cx="26640" cy="110880"/>
                </a:xfrm>
                <a:custGeom>
                  <a:avLst/>
                  <a:gdLst/>
                  <a:ahLst/>
                  <a:rect l="l" t="t" r="r" b="b"/>
                  <a:pathLst>
                    <a:path w="17" h="70">
                      <a:moveTo>
                        <a:pt x="16" y="0"/>
                      </a:moveTo>
                      <a:lnTo>
                        <a:pt x="14" y="6"/>
                      </a:lnTo>
                      <a:lnTo>
                        <a:pt x="12" y="9"/>
                      </a:lnTo>
                      <a:lnTo>
                        <a:pt x="8" y="13"/>
                      </a:lnTo>
                      <a:lnTo>
                        <a:pt x="6" y="16"/>
                      </a:lnTo>
                      <a:lnTo>
                        <a:pt x="6" y="22"/>
                      </a:lnTo>
                      <a:lnTo>
                        <a:pt x="8" y="27"/>
                      </a:lnTo>
                      <a:lnTo>
                        <a:pt x="3" y="30"/>
                      </a:lnTo>
                      <a:lnTo>
                        <a:pt x="2" y="34"/>
                      </a:lnTo>
                      <a:lnTo>
                        <a:pt x="6" y="39"/>
                      </a:lnTo>
                      <a:lnTo>
                        <a:pt x="5" y="44"/>
                      </a:lnTo>
                      <a:lnTo>
                        <a:pt x="4" y="48"/>
                      </a:lnTo>
                      <a:lnTo>
                        <a:pt x="2" y="52"/>
                      </a:lnTo>
                      <a:lnTo>
                        <a:pt x="0" y="56"/>
                      </a:lnTo>
                      <a:lnTo>
                        <a:pt x="1" y="62"/>
                      </a:lnTo>
                      <a:lnTo>
                        <a:pt x="5" y="66"/>
                      </a:lnTo>
                      <a:lnTo>
                        <a:pt x="8"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 name=""/>
              <p:cNvGrpSpPr/>
              <p:nvPr/>
            </p:nvGrpSpPr>
            <p:grpSpPr>
              <a:xfrm>
                <a:off x="3073320" y="3591360"/>
                <a:ext cx="765000" cy="1030680"/>
                <a:chOff x="3073320" y="3591360"/>
                <a:chExt cx="765000" cy="1030680"/>
              </a:xfrm>
            </p:grpSpPr>
            <p:grpSp>
              <p:nvGrpSpPr>
                <p:cNvPr id="462" name=""/>
                <p:cNvGrpSpPr/>
                <p:nvPr/>
              </p:nvGrpSpPr>
              <p:grpSpPr>
                <a:xfrm>
                  <a:off x="3073320" y="3591360"/>
                  <a:ext cx="765000" cy="1030680"/>
                  <a:chOff x="3073320" y="3591360"/>
                  <a:chExt cx="765000" cy="1030680"/>
                </a:xfrm>
              </p:grpSpPr>
              <p:sp>
                <p:nvSpPr>
                  <p:cNvPr id="463" name=""/>
                  <p:cNvSpPr/>
                  <p:nvPr/>
                </p:nvSpPr>
                <p:spPr>
                  <a:xfrm flipH="1" rot="17100000">
                    <a:off x="3274560" y="3795480"/>
                    <a:ext cx="599760" cy="2300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rot="14640000">
                    <a:off x="3216240" y="4158000"/>
                    <a:ext cx="26028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H="1" rot="17100000">
                    <a:off x="3526920" y="3652920"/>
                    <a:ext cx="70920" cy="885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466" name=""/>
                  <p:cNvSpPr/>
                  <p:nvPr/>
                </p:nvSpPr>
                <p:spPr>
                  <a:xfrm flipV="1" rot="21420000">
                    <a:off x="3623760" y="3813480"/>
                    <a:ext cx="207360" cy="277560"/>
                  </a:xfrm>
                  <a:custGeom>
                    <a:avLst/>
                    <a:gdLst>
                      <a:gd name="textAreaLeft" fmla="*/ 45360 w 207360"/>
                      <a:gd name="textAreaRight" fmla="*/ 162000 w 207360"/>
                      <a:gd name="textAreaTop" fmla="*/ 60840 h 277560"/>
                      <a:gd name="textAreaBottom" fmla="*/ 216720 h 2775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rot="16740000">
                    <a:off x="3232800" y="3936240"/>
                    <a:ext cx="313920" cy="113760"/>
                  </a:xfrm>
                  <a:prstGeom prst="parallelogram">
                    <a:avLst>
                      <a:gd name="adj" fmla="val 6897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8" name=""/>
                  <p:cNvSpPr/>
                  <p:nvPr/>
                </p:nvSpPr>
                <p:spPr>
                  <a:xfrm flipH="1" rot="17100000">
                    <a:off x="3553200" y="3654720"/>
                    <a:ext cx="2808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469" name=""/>
                <p:cNvSpPr/>
                <p:nvPr/>
              </p:nvSpPr>
              <p:spPr>
                <a:xfrm>
                  <a:off x="3650760" y="3636000"/>
                  <a:ext cx="26640" cy="109080"/>
                </a:xfrm>
                <a:custGeom>
                  <a:avLst/>
                  <a:gdLst/>
                  <a:ahLst/>
                  <a:rect l="l" t="t" r="r" b="b"/>
                  <a:pathLst>
                    <a:path w="17" h="69">
                      <a:moveTo>
                        <a:pt x="16" y="0"/>
                      </a:moveTo>
                      <a:lnTo>
                        <a:pt x="14" y="5"/>
                      </a:lnTo>
                      <a:lnTo>
                        <a:pt x="11" y="8"/>
                      </a:lnTo>
                      <a:lnTo>
                        <a:pt x="8" y="12"/>
                      </a:lnTo>
                      <a:lnTo>
                        <a:pt x="6" y="16"/>
                      </a:lnTo>
                      <a:lnTo>
                        <a:pt x="6" y="21"/>
                      </a:lnTo>
                      <a:lnTo>
                        <a:pt x="7" y="26"/>
                      </a:lnTo>
                      <a:lnTo>
                        <a:pt x="3" y="30"/>
                      </a:lnTo>
                      <a:lnTo>
                        <a:pt x="2" y="34"/>
                      </a:lnTo>
                      <a:lnTo>
                        <a:pt x="6" y="39"/>
                      </a:lnTo>
                      <a:lnTo>
                        <a:pt x="5" y="44"/>
                      </a:lnTo>
                      <a:lnTo>
                        <a:pt x="3" y="47"/>
                      </a:lnTo>
                      <a:lnTo>
                        <a:pt x="1" y="52"/>
                      </a:lnTo>
                      <a:lnTo>
                        <a:pt x="0" y="56"/>
                      </a:lnTo>
                      <a:lnTo>
                        <a:pt x="1" y="61"/>
                      </a:lnTo>
                      <a:lnTo>
                        <a:pt x="4" y="66"/>
                      </a:lnTo>
                      <a:lnTo>
                        <a:pt x="8" y="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3146760" y="3696120"/>
                <a:ext cx="857880" cy="934200"/>
                <a:chOff x="3146760" y="3696120"/>
                <a:chExt cx="857880" cy="934200"/>
              </a:xfrm>
            </p:grpSpPr>
            <p:grpSp>
              <p:nvGrpSpPr>
                <p:cNvPr id="471" name=""/>
                <p:cNvGrpSpPr/>
                <p:nvPr/>
              </p:nvGrpSpPr>
              <p:grpSpPr>
                <a:xfrm>
                  <a:off x="3146760" y="3696120"/>
                  <a:ext cx="857880" cy="934200"/>
                  <a:chOff x="3146760" y="3696120"/>
                  <a:chExt cx="857880" cy="934200"/>
                </a:xfrm>
              </p:grpSpPr>
              <p:sp>
                <p:nvSpPr>
                  <p:cNvPr id="472" name=""/>
                  <p:cNvSpPr/>
                  <p:nvPr/>
                </p:nvSpPr>
                <p:spPr>
                  <a:xfrm flipH="1" rot="17820000">
                    <a:off x="3438360" y="3900240"/>
                    <a:ext cx="599400" cy="2296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flipH="1" rot="15360000">
                    <a:off x="3283560" y="4204800"/>
                    <a:ext cx="257040" cy="483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rot="17820000">
                    <a:off x="3732120" y="3761280"/>
                    <a:ext cx="71280" cy="8712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75" name=""/>
                  <p:cNvSpPr/>
                  <p:nvPr/>
                </p:nvSpPr>
                <p:spPr>
                  <a:xfrm flipV="1" rot="540000">
                    <a:off x="3772440" y="3946320"/>
                    <a:ext cx="210960" cy="281160"/>
                  </a:xfrm>
                  <a:custGeom>
                    <a:avLst/>
                    <a:gdLst>
                      <a:gd name="textAreaLeft" fmla="*/ 46440 w 210960"/>
                      <a:gd name="textAreaRight" fmla="*/ 164520 w 210960"/>
                      <a:gd name="textAreaTop" fmla="*/ 61560 h 281160"/>
                      <a:gd name="textAreaBottom" fmla="*/ 219600 h 2811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rot="17460000">
                    <a:off x="3381480" y="3997800"/>
                    <a:ext cx="313920" cy="117000"/>
                  </a:xfrm>
                  <a:prstGeom prst="parallelogram">
                    <a:avLst>
                      <a:gd name="adj" fmla="val 6706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477" name=""/>
                  <p:cNvSpPr/>
                  <p:nvPr/>
                </p:nvSpPr>
                <p:spPr>
                  <a:xfrm flipH="1" rot="17820000">
                    <a:off x="3764520" y="3764520"/>
                    <a:ext cx="2988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478" name=""/>
                <p:cNvSpPr/>
                <p:nvPr/>
              </p:nvSpPr>
              <p:spPr>
                <a:xfrm>
                  <a:off x="3850200" y="3769200"/>
                  <a:ext cx="47520" cy="106200"/>
                </a:xfrm>
                <a:custGeom>
                  <a:avLst/>
                  <a:gdLst/>
                  <a:ahLst/>
                  <a:rect l="l" t="t" r="r" b="b"/>
                  <a:pathLst>
                    <a:path w="30" h="67">
                      <a:moveTo>
                        <a:pt x="29" y="0"/>
                      </a:moveTo>
                      <a:lnTo>
                        <a:pt x="26" y="5"/>
                      </a:lnTo>
                      <a:lnTo>
                        <a:pt x="22" y="7"/>
                      </a:lnTo>
                      <a:lnTo>
                        <a:pt x="17" y="10"/>
                      </a:lnTo>
                      <a:lnTo>
                        <a:pt x="14" y="13"/>
                      </a:lnTo>
                      <a:lnTo>
                        <a:pt x="13" y="18"/>
                      </a:lnTo>
                      <a:lnTo>
                        <a:pt x="14" y="24"/>
                      </a:lnTo>
                      <a:lnTo>
                        <a:pt x="7" y="26"/>
                      </a:lnTo>
                      <a:lnTo>
                        <a:pt x="6" y="29"/>
                      </a:lnTo>
                      <a:lnTo>
                        <a:pt x="10" y="35"/>
                      </a:lnTo>
                      <a:lnTo>
                        <a:pt x="7" y="40"/>
                      </a:lnTo>
                      <a:lnTo>
                        <a:pt x="6" y="43"/>
                      </a:lnTo>
                      <a:lnTo>
                        <a:pt x="3" y="47"/>
                      </a:lnTo>
                      <a:lnTo>
                        <a:pt x="0" y="51"/>
                      </a:lnTo>
                      <a:lnTo>
                        <a:pt x="1" y="56"/>
                      </a:lnTo>
                      <a:lnTo>
                        <a:pt x="4" y="62"/>
                      </a:lnTo>
                      <a:lnTo>
                        <a:pt x="8" y="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9" name=""/>
            <p:cNvGrpSpPr/>
            <p:nvPr/>
          </p:nvGrpSpPr>
          <p:grpSpPr>
            <a:xfrm>
              <a:off x="3184560" y="3660480"/>
              <a:ext cx="1388520" cy="1343520"/>
              <a:chOff x="3184560" y="3660480"/>
              <a:chExt cx="1388520" cy="1343520"/>
            </a:xfrm>
          </p:grpSpPr>
          <p:grpSp>
            <p:nvGrpSpPr>
              <p:cNvPr id="480" name=""/>
              <p:cNvGrpSpPr/>
              <p:nvPr/>
            </p:nvGrpSpPr>
            <p:grpSpPr>
              <a:xfrm>
                <a:off x="3713040" y="3781440"/>
                <a:ext cx="825480" cy="916920"/>
                <a:chOff x="3713040" y="3781440"/>
                <a:chExt cx="825480" cy="916920"/>
              </a:xfrm>
            </p:grpSpPr>
            <p:grpSp>
              <p:nvGrpSpPr>
                <p:cNvPr id="481" name=""/>
                <p:cNvGrpSpPr/>
                <p:nvPr/>
              </p:nvGrpSpPr>
              <p:grpSpPr>
                <a:xfrm>
                  <a:off x="3713040" y="3781440"/>
                  <a:ext cx="825480" cy="916920"/>
                  <a:chOff x="3713040" y="3781440"/>
                  <a:chExt cx="825480" cy="916920"/>
                </a:xfrm>
              </p:grpSpPr>
              <p:sp>
                <p:nvSpPr>
                  <p:cNvPr id="482" name=""/>
                  <p:cNvSpPr/>
                  <p:nvPr/>
                </p:nvSpPr>
                <p:spPr>
                  <a:xfrm rot="8580000">
                    <a:off x="3929400" y="3938760"/>
                    <a:ext cx="599760" cy="231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rot="11040000">
                    <a:off x="3729240" y="4207320"/>
                    <a:ext cx="26172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rot="8580000">
                    <a:off x="4392720" y="3941640"/>
                    <a:ext cx="74520" cy="918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85" name=""/>
                  <p:cNvSpPr/>
                  <p:nvPr/>
                </p:nvSpPr>
                <p:spPr>
                  <a:xfrm flipH="1" flipV="1" rot="4260000">
                    <a:off x="4025160" y="3792600"/>
                    <a:ext cx="209160" cy="277200"/>
                  </a:xfrm>
                  <a:custGeom>
                    <a:avLst/>
                    <a:gdLst>
                      <a:gd name="textAreaLeft" fmla="*/ 45720 w 209160"/>
                      <a:gd name="textAreaRight" fmla="*/ 163440 w 209160"/>
                      <a:gd name="textAreaTop" fmla="*/ 60840 h 277200"/>
                      <a:gd name="textAreaBottom" fmla="*/ 216360 h 277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rot="8940000">
                    <a:off x="4062600" y="4199040"/>
                    <a:ext cx="317160" cy="115560"/>
                  </a:xfrm>
                  <a:prstGeom prst="parallelogram">
                    <a:avLst>
                      <a:gd name="adj" fmla="val 68601"/>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87" name=""/>
                  <p:cNvSpPr/>
                  <p:nvPr/>
                </p:nvSpPr>
                <p:spPr>
                  <a:xfrm rot="8580000">
                    <a:off x="4442040" y="3956040"/>
                    <a:ext cx="2664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488" name=""/>
                <p:cNvSpPr/>
                <p:nvPr/>
              </p:nvSpPr>
              <p:spPr>
                <a:xfrm>
                  <a:off x="4350240" y="3858120"/>
                  <a:ext cx="96480" cy="61560"/>
                </a:xfrm>
                <a:custGeom>
                  <a:avLst/>
                  <a:gdLst/>
                  <a:ahLst/>
                  <a:rect l="l" t="t" r="r" b="b"/>
                  <a:pathLst>
                    <a:path w="61" h="39">
                      <a:moveTo>
                        <a:pt x="60" y="0"/>
                      </a:moveTo>
                      <a:lnTo>
                        <a:pt x="56" y="5"/>
                      </a:lnTo>
                      <a:lnTo>
                        <a:pt x="54" y="8"/>
                      </a:lnTo>
                      <a:lnTo>
                        <a:pt x="52" y="13"/>
                      </a:lnTo>
                      <a:lnTo>
                        <a:pt x="48" y="16"/>
                      </a:lnTo>
                      <a:lnTo>
                        <a:pt x="43" y="18"/>
                      </a:lnTo>
                      <a:lnTo>
                        <a:pt x="39" y="19"/>
                      </a:lnTo>
                      <a:lnTo>
                        <a:pt x="37" y="24"/>
                      </a:lnTo>
                      <a:lnTo>
                        <a:pt x="34" y="27"/>
                      </a:lnTo>
                      <a:lnTo>
                        <a:pt x="28" y="26"/>
                      </a:lnTo>
                      <a:lnTo>
                        <a:pt x="23" y="28"/>
                      </a:lnTo>
                      <a:lnTo>
                        <a:pt x="21" y="30"/>
                      </a:lnTo>
                      <a:lnTo>
                        <a:pt x="18" y="34"/>
                      </a:lnTo>
                      <a:lnTo>
                        <a:pt x="14" y="37"/>
                      </a:lnTo>
                      <a:lnTo>
                        <a:pt x="9" y="38"/>
                      </a:lnTo>
                      <a:lnTo>
                        <a:pt x="4" y="37"/>
                      </a:lnTo>
                      <a:lnTo>
                        <a:pt x="0" y="35"/>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489" name=""/>
              <p:cNvGrpSpPr/>
              <p:nvPr/>
            </p:nvGrpSpPr>
            <p:grpSpPr>
              <a:xfrm>
                <a:off x="3565800" y="3713400"/>
                <a:ext cx="824040" cy="918000"/>
                <a:chOff x="3565800" y="3713400"/>
                <a:chExt cx="824040" cy="918000"/>
              </a:xfrm>
            </p:grpSpPr>
            <p:grpSp>
              <p:nvGrpSpPr>
                <p:cNvPr id="490" name=""/>
                <p:cNvGrpSpPr/>
                <p:nvPr/>
              </p:nvGrpSpPr>
              <p:grpSpPr>
                <a:xfrm>
                  <a:off x="3565800" y="3713400"/>
                  <a:ext cx="824040" cy="918000"/>
                  <a:chOff x="3565800" y="3713400"/>
                  <a:chExt cx="824040" cy="918000"/>
                </a:xfrm>
              </p:grpSpPr>
              <p:sp>
                <p:nvSpPr>
                  <p:cNvPr id="491" name=""/>
                  <p:cNvSpPr/>
                  <p:nvPr/>
                </p:nvSpPr>
                <p:spPr>
                  <a:xfrm rot="8580000">
                    <a:off x="3780000" y="3871080"/>
                    <a:ext cx="60156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rot="11040000">
                    <a:off x="3582000" y="4137120"/>
                    <a:ext cx="259920" cy="4856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rot="8580000">
                    <a:off x="4244760" y="3873600"/>
                    <a:ext cx="74520" cy="903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494" name=""/>
                  <p:cNvSpPr/>
                  <p:nvPr/>
                </p:nvSpPr>
                <p:spPr>
                  <a:xfrm flipH="1" flipV="1" rot="4260000">
                    <a:off x="3878640" y="3719880"/>
                    <a:ext cx="207720" cy="279000"/>
                  </a:xfrm>
                  <a:custGeom>
                    <a:avLst/>
                    <a:gdLst>
                      <a:gd name="textAreaLeft" fmla="*/ 45720 w 207720"/>
                      <a:gd name="textAreaRight" fmla="*/ 162000 w 207720"/>
                      <a:gd name="textAreaTop" fmla="*/ 61200 h 279000"/>
                      <a:gd name="textAreaBottom" fmla="*/ 217800 h 279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rot="8940000">
                    <a:off x="3914640" y="4131000"/>
                    <a:ext cx="315720" cy="115560"/>
                  </a:xfrm>
                  <a:prstGeom prst="parallelogram">
                    <a:avLst>
                      <a:gd name="adj" fmla="val 68289"/>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6" name=""/>
                  <p:cNvSpPr/>
                  <p:nvPr/>
                </p:nvSpPr>
                <p:spPr>
                  <a:xfrm rot="8580000">
                    <a:off x="4293000" y="3889800"/>
                    <a:ext cx="2952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497" name=""/>
                <p:cNvSpPr/>
                <p:nvPr/>
              </p:nvSpPr>
              <p:spPr>
                <a:xfrm>
                  <a:off x="4202640" y="3790080"/>
                  <a:ext cx="98280" cy="61560"/>
                </a:xfrm>
                <a:custGeom>
                  <a:avLst/>
                  <a:gdLst/>
                  <a:ahLst/>
                  <a:rect l="l" t="t" r="r" b="b"/>
                  <a:pathLst>
                    <a:path w="62" h="39">
                      <a:moveTo>
                        <a:pt x="61" y="0"/>
                      </a:moveTo>
                      <a:lnTo>
                        <a:pt x="56" y="4"/>
                      </a:lnTo>
                      <a:lnTo>
                        <a:pt x="54" y="8"/>
                      </a:lnTo>
                      <a:lnTo>
                        <a:pt x="51" y="14"/>
                      </a:lnTo>
                      <a:lnTo>
                        <a:pt x="48" y="15"/>
                      </a:lnTo>
                      <a:lnTo>
                        <a:pt x="43" y="17"/>
                      </a:lnTo>
                      <a:lnTo>
                        <a:pt x="38" y="18"/>
                      </a:lnTo>
                      <a:lnTo>
                        <a:pt x="37" y="25"/>
                      </a:lnTo>
                      <a:lnTo>
                        <a:pt x="33" y="26"/>
                      </a:lnTo>
                      <a:lnTo>
                        <a:pt x="27" y="25"/>
                      </a:lnTo>
                      <a:lnTo>
                        <a:pt x="24" y="27"/>
                      </a:lnTo>
                      <a:lnTo>
                        <a:pt x="21" y="30"/>
                      </a:lnTo>
                      <a:lnTo>
                        <a:pt x="17" y="35"/>
                      </a:lnTo>
                      <a:lnTo>
                        <a:pt x="13" y="36"/>
                      </a:lnTo>
                      <a:lnTo>
                        <a:pt x="9" y="38"/>
                      </a:lnTo>
                      <a:lnTo>
                        <a:pt x="3" y="36"/>
                      </a:lnTo>
                      <a:lnTo>
                        <a:pt x="0" y="34"/>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498" name=""/>
              <p:cNvGrpSpPr/>
              <p:nvPr/>
            </p:nvGrpSpPr>
            <p:grpSpPr>
              <a:xfrm>
                <a:off x="3746520" y="3929040"/>
                <a:ext cx="719640" cy="1030680"/>
                <a:chOff x="3746520" y="3929040"/>
                <a:chExt cx="719640" cy="1030680"/>
              </a:xfrm>
            </p:grpSpPr>
            <p:grpSp>
              <p:nvGrpSpPr>
                <p:cNvPr id="499" name=""/>
                <p:cNvGrpSpPr/>
                <p:nvPr/>
              </p:nvGrpSpPr>
              <p:grpSpPr>
                <a:xfrm>
                  <a:off x="3746520" y="3929040"/>
                  <a:ext cx="719640" cy="1030680"/>
                  <a:chOff x="3746520" y="3929040"/>
                  <a:chExt cx="719640" cy="1030680"/>
                </a:xfrm>
              </p:grpSpPr>
              <p:sp>
                <p:nvSpPr>
                  <p:cNvPr id="500" name=""/>
                  <p:cNvSpPr/>
                  <p:nvPr/>
                </p:nvSpPr>
                <p:spPr>
                  <a:xfrm rot="7800000">
                    <a:off x="3885120" y="4116960"/>
                    <a:ext cx="599400" cy="231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rot="10260000">
                    <a:off x="3782520" y="4458240"/>
                    <a:ext cx="261360" cy="483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rot="7800000">
                    <a:off x="4326120" y="4077000"/>
                    <a:ext cx="75960" cy="918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03" name=""/>
                  <p:cNvSpPr/>
                  <p:nvPr/>
                </p:nvSpPr>
                <p:spPr>
                  <a:xfrm flipH="1" flipV="1" rot="3480000">
                    <a:off x="3955680" y="3990600"/>
                    <a:ext cx="210600" cy="280440"/>
                  </a:xfrm>
                  <a:custGeom>
                    <a:avLst/>
                    <a:gdLst>
                      <a:gd name="textAreaLeft" fmla="*/ 46080 w 210600"/>
                      <a:gd name="textAreaRight" fmla="*/ 164520 w 210600"/>
                      <a:gd name="textAreaTop" fmla="*/ 61560 h 280440"/>
                      <a:gd name="textAreaBottom" fmla="*/ 218880 h 2804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rot="8160000">
                    <a:off x="4062600" y="4372200"/>
                    <a:ext cx="313920" cy="114120"/>
                  </a:xfrm>
                  <a:prstGeom prst="parallelogram">
                    <a:avLst>
                      <a:gd name="adj" fmla="val 68757"/>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505" name=""/>
                  <p:cNvSpPr/>
                  <p:nvPr/>
                </p:nvSpPr>
                <p:spPr>
                  <a:xfrm rot="7800000">
                    <a:off x="4367160" y="4084920"/>
                    <a:ext cx="3312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506" name=""/>
                <p:cNvSpPr/>
                <p:nvPr/>
              </p:nvSpPr>
              <p:spPr>
                <a:xfrm>
                  <a:off x="4271040" y="3996360"/>
                  <a:ext cx="83880" cy="78840"/>
                </a:xfrm>
                <a:custGeom>
                  <a:avLst/>
                  <a:gdLst/>
                  <a:ahLst/>
                  <a:rect l="l" t="t" r="r" b="b"/>
                  <a:pathLst>
                    <a:path w="53" h="50">
                      <a:moveTo>
                        <a:pt x="52" y="0"/>
                      </a:moveTo>
                      <a:lnTo>
                        <a:pt x="48" y="4"/>
                      </a:lnTo>
                      <a:lnTo>
                        <a:pt x="47" y="9"/>
                      </a:lnTo>
                      <a:lnTo>
                        <a:pt x="48" y="15"/>
                      </a:lnTo>
                      <a:lnTo>
                        <a:pt x="46" y="19"/>
                      </a:lnTo>
                      <a:lnTo>
                        <a:pt x="42" y="23"/>
                      </a:lnTo>
                      <a:lnTo>
                        <a:pt x="36" y="22"/>
                      </a:lnTo>
                      <a:lnTo>
                        <a:pt x="38" y="30"/>
                      </a:lnTo>
                      <a:lnTo>
                        <a:pt x="35" y="31"/>
                      </a:lnTo>
                      <a:lnTo>
                        <a:pt x="27" y="31"/>
                      </a:lnTo>
                      <a:lnTo>
                        <a:pt x="23" y="35"/>
                      </a:lnTo>
                      <a:lnTo>
                        <a:pt x="22" y="38"/>
                      </a:lnTo>
                      <a:lnTo>
                        <a:pt x="20" y="42"/>
                      </a:lnTo>
                      <a:lnTo>
                        <a:pt x="17" y="46"/>
                      </a:lnTo>
                      <a:lnTo>
                        <a:pt x="12" y="49"/>
                      </a:lnTo>
                      <a:lnTo>
                        <a:pt x="5" y="47"/>
                      </a:lnTo>
                      <a:lnTo>
                        <a:pt x="0" y="46"/>
                      </a:lnTo>
                    </a:path>
                  </a:pathLst>
                </a:custGeom>
                <a:no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07" name=""/>
              <p:cNvGrpSpPr/>
              <p:nvPr/>
            </p:nvGrpSpPr>
            <p:grpSpPr>
              <a:xfrm>
                <a:off x="3749760" y="4086000"/>
                <a:ext cx="823320" cy="918000"/>
                <a:chOff x="3749760" y="4086000"/>
                <a:chExt cx="823320" cy="918000"/>
              </a:xfrm>
            </p:grpSpPr>
            <p:grpSp>
              <p:nvGrpSpPr>
                <p:cNvPr id="508" name=""/>
                <p:cNvGrpSpPr/>
                <p:nvPr/>
              </p:nvGrpSpPr>
              <p:grpSpPr>
                <a:xfrm>
                  <a:off x="3749760" y="4086000"/>
                  <a:ext cx="823320" cy="918000"/>
                  <a:chOff x="3749760" y="4086000"/>
                  <a:chExt cx="823320" cy="918000"/>
                </a:xfrm>
              </p:grpSpPr>
              <p:sp>
                <p:nvSpPr>
                  <p:cNvPr id="509" name=""/>
                  <p:cNvSpPr/>
                  <p:nvPr/>
                </p:nvSpPr>
                <p:spPr>
                  <a:xfrm rot="8580000">
                    <a:off x="3962160" y="4243680"/>
                    <a:ext cx="601560" cy="231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rot="11040000">
                    <a:off x="3765960" y="4513320"/>
                    <a:ext cx="256680" cy="4820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rot="8580000">
                    <a:off x="4426200" y="4247280"/>
                    <a:ext cx="74160" cy="900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12" name=""/>
                  <p:cNvSpPr/>
                  <p:nvPr/>
                </p:nvSpPr>
                <p:spPr>
                  <a:xfrm flipH="1" flipV="1" rot="4260000">
                    <a:off x="4061880" y="4096440"/>
                    <a:ext cx="205920" cy="277200"/>
                  </a:xfrm>
                  <a:custGeom>
                    <a:avLst/>
                    <a:gdLst>
                      <a:gd name="textAreaLeft" fmla="*/ 45000 w 205920"/>
                      <a:gd name="textAreaRight" fmla="*/ 160920 w 205920"/>
                      <a:gd name="textAreaTop" fmla="*/ 60840 h 277200"/>
                      <a:gd name="textAreaBottom" fmla="*/ 216360 h 2772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rot="8940000">
                    <a:off x="4096080" y="4503960"/>
                    <a:ext cx="317160" cy="115560"/>
                  </a:xfrm>
                  <a:prstGeom prst="parallelogram">
                    <a:avLst>
                      <a:gd name="adj" fmla="val 68601"/>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14" name=""/>
                  <p:cNvSpPr/>
                  <p:nvPr/>
                </p:nvSpPr>
                <p:spPr>
                  <a:xfrm rot="8580000">
                    <a:off x="4473720" y="4263120"/>
                    <a:ext cx="31320" cy="2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grpSp>
            <p:sp>
              <p:nvSpPr>
                <p:cNvPr id="515" name=""/>
                <p:cNvSpPr/>
                <p:nvPr/>
              </p:nvSpPr>
              <p:spPr>
                <a:xfrm>
                  <a:off x="4383720" y="4163040"/>
                  <a:ext cx="97920" cy="60120"/>
                </a:xfrm>
                <a:custGeom>
                  <a:avLst/>
                  <a:gdLst/>
                  <a:ahLst/>
                  <a:rect l="l" t="t" r="r" b="b"/>
                  <a:pathLst>
                    <a:path w="62" h="38">
                      <a:moveTo>
                        <a:pt x="61" y="0"/>
                      </a:moveTo>
                      <a:lnTo>
                        <a:pt x="56" y="5"/>
                      </a:lnTo>
                      <a:lnTo>
                        <a:pt x="54" y="9"/>
                      </a:lnTo>
                      <a:lnTo>
                        <a:pt x="52" y="13"/>
                      </a:lnTo>
                      <a:lnTo>
                        <a:pt x="49" y="16"/>
                      </a:lnTo>
                      <a:lnTo>
                        <a:pt x="44" y="19"/>
                      </a:lnTo>
                      <a:lnTo>
                        <a:pt x="39" y="19"/>
                      </a:lnTo>
                      <a:lnTo>
                        <a:pt x="38" y="25"/>
                      </a:lnTo>
                      <a:lnTo>
                        <a:pt x="34" y="26"/>
                      </a:lnTo>
                      <a:lnTo>
                        <a:pt x="28" y="25"/>
                      </a:lnTo>
                      <a:lnTo>
                        <a:pt x="24" y="29"/>
                      </a:lnTo>
                      <a:lnTo>
                        <a:pt x="21" y="30"/>
                      </a:lnTo>
                      <a:lnTo>
                        <a:pt x="17" y="34"/>
                      </a:lnTo>
                      <a:lnTo>
                        <a:pt x="15" y="37"/>
                      </a:lnTo>
                      <a:lnTo>
                        <a:pt x="9" y="37"/>
                      </a:lnTo>
                      <a:lnTo>
                        <a:pt x="3" y="36"/>
                      </a:lnTo>
                      <a:lnTo>
                        <a:pt x="0" y="33"/>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516" name=""/>
              <p:cNvGrpSpPr/>
              <p:nvPr/>
            </p:nvGrpSpPr>
            <p:grpSpPr>
              <a:xfrm>
                <a:off x="3333600" y="3660480"/>
                <a:ext cx="932400" cy="800280"/>
                <a:chOff x="3333600" y="3660480"/>
                <a:chExt cx="932400" cy="800280"/>
              </a:xfrm>
            </p:grpSpPr>
            <p:grpSp>
              <p:nvGrpSpPr>
                <p:cNvPr id="517" name=""/>
                <p:cNvGrpSpPr/>
                <p:nvPr/>
              </p:nvGrpSpPr>
              <p:grpSpPr>
                <a:xfrm>
                  <a:off x="3333600" y="3660480"/>
                  <a:ext cx="932400" cy="800280"/>
                  <a:chOff x="3333600" y="3660480"/>
                  <a:chExt cx="932400" cy="800280"/>
                </a:xfrm>
              </p:grpSpPr>
              <p:sp>
                <p:nvSpPr>
                  <p:cNvPr id="518" name=""/>
                  <p:cNvSpPr/>
                  <p:nvPr/>
                </p:nvSpPr>
                <p:spPr>
                  <a:xfrm flipH="1" rot="18540000">
                    <a:off x="3686400" y="3852000"/>
                    <a:ext cx="60192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flipH="1" rot="16080000">
                    <a:off x="3450240" y="4079160"/>
                    <a:ext cx="260280" cy="48528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rot="18540000">
                    <a:off x="4023000" y="3722760"/>
                    <a:ext cx="72720" cy="936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521" name=""/>
                  <p:cNvSpPr/>
                  <p:nvPr/>
                </p:nvSpPr>
                <p:spPr>
                  <a:xfrm flipV="1" rot="1260000">
                    <a:off x="4002840" y="3927960"/>
                    <a:ext cx="210600" cy="279360"/>
                  </a:xfrm>
                  <a:custGeom>
                    <a:avLst/>
                    <a:gdLst>
                      <a:gd name="textAreaLeft" fmla="*/ 46080 w 210600"/>
                      <a:gd name="textAreaRight" fmla="*/ 164520 w 21060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rot="18180000">
                    <a:off x="3625200" y="3911760"/>
                    <a:ext cx="314280" cy="115560"/>
                  </a:xfrm>
                  <a:prstGeom prst="parallelogram">
                    <a:avLst>
                      <a:gd name="adj" fmla="val 67978"/>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23" name=""/>
                  <p:cNvSpPr/>
                  <p:nvPr/>
                </p:nvSpPr>
                <p:spPr>
                  <a:xfrm flipH="1" rot="18540000">
                    <a:off x="4063680" y="3731400"/>
                    <a:ext cx="2988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524" name=""/>
                <p:cNvSpPr/>
                <p:nvPr/>
              </p:nvSpPr>
              <p:spPr>
                <a:xfrm>
                  <a:off x="4128120" y="3756960"/>
                  <a:ext cx="63000" cy="96480"/>
                </a:xfrm>
                <a:custGeom>
                  <a:avLst/>
                  <a:gdLst/>
                  <a:ahLst/>
                  <a:rect l="l" t="t" r="r" b="b"/>
                  <a:pathLst>
                    <a:path w="40" h="61">
                      <a:moveTo>
                        <a:pt x="39" y="0"/>
                      </a:moveTo>
                      <a:lnTo>
                        <a:pt x="35" y="5"/>
                      </a:lnTo>
                      <a:lnTo>
                        <a:pt x="32" y="7"/>
                      </a:lnTo>
                      <a:lnTo>
                        <a:pt x="26" y="9"/>
                      </a:lnTo>
                      <a:lnTo>
                        <a:pt x="24" y="11"/>
                      </a:lnTo>
                      <a:lnTo>
                        <a:pt x="21" y="16"/>
                      </a:lnTo>
                      <a:lnTo>
                        <a:pt x="20" y="22"/>
                      </a:lnTo>
                      <a:lnTo>
                        <a:pt x="15" y="23"/>
                      </a:lnTo>
                      <a:lnTo>
                        <a:pt x="12" y="25"/>
                      </a:lnTo>
                      <a:lnTo>
                        <a:pt x="14" y="32"/>
                      </a:lnTo>
                      <a:lnTo>
                        <a:pt x="11" y="36"/>
                      </a:lnTo>
                      <a:lnTo>
                        <a:pt x="9" y="40"/>
                      </a:lnTo>
                      <a:lnTo>
                        <a:pt x="5" y="42"/>
                      </a:lnTo>
                      <a:lnTo>
                        <a:pt x="2" y="45"/>
                      </a:lnTo>
                      <a:lnTo>
                        <a:pt x="0" y="51"/>
                      </a:lnTo>
                      <a:lnTo>
                        <a:pt x="2" y="56"/>
                      </a:lnTo>
                      <a:lnTo>
                        <a:pt x="3" y="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3184560" y="3717720"/>
                <a:ext cx="932400" cy="801360"/>
                <a:chOff x="3184560" y="3717720"/>
                <a:chExt cx="932400" cy="801360"/>
              </a:xfrm>
            </p:grpSpPr>
            <p:grpSp>
              <p:nvGrpSpPr>
                <p:cNvPr id="526" name=""/>
                <p:cNvGrpSpPr/>
                <p:nvPr/>
              </p:nvGrpSpPr>
              <p:grpSpPr>
                <a:xfrm>
                  <a:off x="3184560" y="3717720"/>
                  <a:ext cx="932400" cy="801360"/>
                  <a:chOff x="3184560" y="3717720"/>
                  <a:chExt cx="932400" cy="801360"/>
                </a:xfrm>
              </p:grpSpPr>
              <p:sp>
                <p:nvSpPr>
                  <p:cNvPr id="527" name=""/>
                  <p:cNvSpPr/>
                  <p:nvPr/>
                </p:nvSpPr>
                <p:spPr>
                  <a:xfrm flipH="1" rot="18540000">
                    <a:off x="3536640" y="3908520"/>
                    <a:ext cx="601920" cy="2314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rot="16080000">
                    <a:off x="3299760" y="4139280"/>
                    <a:ext cx="259920" cy="48240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rot="18540000">
                    <a:off x="3873240" y="3781800"/>
                    <a:ext cx="74160" cy="9036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530" name=""/>
                  <p:cNvSpPr/>
                  <p:nvPr/>
                </p:nvSpPr>
                <p:spPr>
                  <a:xfrm flipV="1" rot="1260000">
                    <a:off x="3854880" y="3985920"/>
                    <a:ext cx="206280" cy="279000"/>
                  </a:xfrm>
                  <a:custGeom>
                    <a:avLst/>
                    <a:gdLst>
                      <a:gd name="textAreaLeft" fmla="*/ 45360 w 206280"/>
                      <a:gd name="textAreaRight" fmla="*/ 160920 w 206280"/>
                      <a:gd name="textAreaTop" fmla="*/ 61200 h 279000"/>
                      <a:gd name="textAreaBottom" fmla="*/ 217800 h 2790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flipH="1" rot="18180000">
                    <a:off x="3475080" y="3969360"/>
                    <a:ext cx="317160" cy="113760"/>
                  </a:xfrm>
                  <a:prstGeom prst="parallelogram">
                    <a:avLst>
                      <a:gd name="adj" fmla="val 69686"/>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32" name=""/>
                  <p:cNvSpPr/>
                  <p:nvPr/>
                </p:nvSpPr>
                <p:spPr>
                  <a:xfrm flipH="1" rot="18540000">
                    <a:off x="3913560" y="3788280"/>
                    <a:ext cx="27000" cy="29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grpSp>
            <p:sp>
              <p:nvSpPr>
                <p:cNvPr id="533" name=""/>
                <p:cNvSpPr/>
                <p:nvPr/>
              </p:nvSpPr>
              <p:spPr>
                <a:xfrm>
                  <a:off x="3979080" y="3817080"/>
                  <a:ext cx="63360" cy="94680"/>
                </a:xfrm>
                <a:custGeom>
                  <a:avLst/>
                  <a:gdLst/>
                  <a:ahLst/>
                  <a:rect l="l" t="t" r="r" b="b"/>
                  <a:pathLst>
                    <a:path w="40" h="60">
                      <a:moveTo>
                        <a:pt x="39" y="0"/>
                      </a:moveTo>
                      <a:lnTo>
                        <a:pt x="35" y="3"/>
                      </a:lnTo>
                      <a:lnTo>
                        <a:pt x="30" y="6"/>
                      </a:lnTo>
                      <a:lnTo>
                        <a:pt x="27" y="8"/>
                      </a:lnTo>
                      <a:lnTo>
                        <a:pt x="23" y="11"/>
                      </a:lnTo>
                      <a:lnTo>
                        <a:pt x="21" y="16"/>
                      </a:lnTo>
                      <a:lnTo>
                        <a:pt x="20" y="20"/>
                      </a:lnTo>
                      <a:lnTo>
                        <a:pt x="14" y="22"/>
                      </a:lnTo>
                      <a:lnTo>
                        <a:pt x="12" y="26"/>
                      </a:lnTo>
                      <a:lnTo>
                        <a:pt x="14" y="32"/>
                      </a:lnTo>
                      <a:lnTo>
                        <a:pt x="11" y="36"/>
                      </a:lnTo>
                      <a:lnTo>
                        <a:pt x="8" y="37"/>
                      </a:lnTo>
                      <a:lnTo>
                        <a:pt x="3" y="41"/>
                      </a:lnTo>
                      <a:lnTo>
                        <a:pt x="1" y="45"/>
                      </a:lnTo>
                      <a:lnTo>
                        <a:pt x="0" y="50"/>
                      </a:lnTo>
                      <a:lnTo>
                        <a:pt x="0" y="55"/>
                      </a:lnTo>
                      <a:lnTo>
                        <a:pt x="4"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3210480" y="3909240"/>
                <a:ext cx="1040400" cy="711360"/>
                <a:chOff x="3210480" y="3909240"/>
                <a:chExt cx="1040400" cy="711360"/>
              </a:xfrm>
            </p:grpSpPr>
            <p:grpSp>
              <p:nvGrpSpPr>
                <p:cNvPr id="535" name=""/>
                <p:cNvGrpSpPr/>
                <p:nvPr/>
              </p:nvGrpSpPr>
              <p:grpSpPr>
                <a:xfrm>
                  <a:off x="3210480" y="3909240"/>
                  <a:ext cx="1040400" cy="711360"/>
                  <a:chOff x="3210480" y="3909240"/>
                  <a:chExt cx="1040400" cy="711360"/>
                </a:xfrm>
              </p:grpSpPr>
              <p:sp>
                <p:nvSpPr>
                  <p:cNvPr id="536" name=""/>
                  <p:cNvSpPr/>
                  <p:nvPr/>
                </p:nvSpPr>
                <p:spPr>
                  <a:xfrm flipH="1" rot="19260000">
                    <a:off x="3643560" y="4072320"/>
                    <a:ext cx="601200" cy="2311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flipH="1" rot="16800000">
                    <a:off x="3341520" y="4209120"/>
                    <a:ext cx="258480" cy="483840"/>
                  </a:xfrm>
                  <a:prstGeom prst="rtTriangle">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H="1" rot="19260000">
                    <a:off x="4018680" y="3964680"/>
                    <a:ext cx="74160" cy="90000"/>
                  </a:xfrm>
                  <a:prstGeom prst="ellipse">
                    <a:avLst/>
                  </a:prstGeom>
                  <a:solidFill>
                    <a:srgbClr val="ff9999"/>
                  </a:solidFill>
                  <a:ln w="1260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39" name=""/>
                  <p:cNvSpPr/>
                  <p:nvPr/>
                </p:nvSpPr>
                <p:spPr>
                  <a:xfrm flipV="1" rot="1980000">
                    <a:off x="3934440" y="4172040"/>
                    <a:ext cx="213840" cy="279360"/>
                  </a:xfrm>
                  <a:custGeom>
                    <a:avLst/>
                    <a:gdLst>
                      <a:gd name="textAreaLeft" fmla="*/ 46800 w 213840"/>
                      <a:gd name="textAreaRight" fmla="*/ 167040 w 213840"/>
                      <a:gd name="textAreaTop" fmla="*/ 61200 h 279360"/>
                      <a:gd name="textAreaBottom" fmla="*/ 218160 h 27936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H="1" rot="18900000">
                    <a:off x="3586320" y="4088160"/>
                    <a:ext cx="315000" cy="115560"/>
                  </a:xfrm>
                  <a:prstGeom prst="parallelogram">
                    <a:avLst>
                      <a:gd name="adj" fmla="val 68134"/>
                    </a:avLst>
                  </a:prstGeom>
                  <a:gradFill rotWithShape="0">
                    <a:gsLst>
                      <a:gs pos="0">
                        <a:srgbClr val="ff0033"/>
                      </a:gs>
                      <a:gs pos="100000">
                        <a:srgbClr val="ffff00"/>
                      </a:gs>
                    </a:gsLst>
                    <a:lin ang="108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1" name=""/>
                  <p:cNvSpPr/>
                  <p:nvPr/>
                </p:nvSpPr>
                <p:spPr>
                  <a:xfrm flipH="1" rot="19260000">
                    <a:off x="4061160" y="3974040"/>
                    <a:ext cx="32760" cy="30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sp>
              <p:nvSpPr>
                <p:cNvPr id="542" name=""/>
                <p:cNvSpPr/>
                <p:nvPr/>
              </p:nvSpPr>
              <p:spPr>
                <a:xfrm>
                  <a:off x="4110480" y="4028040"/>
                  <a:ext cx="77760" cy="83880"/>
                </a:xfrm>
                <a:custGeom>
                  <a:avLst/>
                  <a:gdLst/>
                  <a:ahLst/>
                  <a:rect l="l" t="t" r="r" b="b"/>
                  <a:pathLst>
                    <a:path w="49" h="53">
                      <a:moveTo>
                        <a:pt x="48" y="0"/>
                      </a:moveTo>
                      <a:lnTo>
                        <a:pt x="43" y="3"/>
                      </a:lnTo>
                      <a:lnTo>
                        <a:pt x="39" y="4"/>
                      </a:lnTo>
                      <a:lnTo>
                        <a:pt x="34" y="4"/>
                      </a:lnTo>
                      <a:lnTo>
                        <a:pt x="29" y="6"/>
                      </a:lnTo>
                      <a:lnTo>
                        <a:pt x="26" y="10"/>
                      </a:lnTo>
                      <a:lnTo>
                        <a:pt x="25" y="17"/>
                      </a:lnTo>
                      <a:lnTo>
                        <a:pt x="18" y="15"/>
                      </a:lnTo>
                      <a:lnTo>
                        <a:pt x="15" y="18"/>
                      </a:lnTo>
                      <a:lnTo>
                        <a:pt x="17" y="25"/>
                      </a:lnTo>
                      <a:lnTo>
                        <a:pt x="12" y="28"/>
                      </a:lnTo>
                      <a:lnTo>
                        <a:pt x="10" y="31"/>
                      </a:lnTo>
                      <a:lnTo>
                        <a:pt x="6" y="33"/>
                      </a:lnTo>
                      <a:lnTo>
                        <a:pt x="1" y="35"/>
                      </a:lnTo>
                      <a:lnTo>
                        <a:pt x="0" y="40"/>
                      </a:lnTo>
                      <a:lnTo>
                        <a:pt x="0" y="47"/>
                      </a:lnTo>
                      <a:lnTo>
                        <a:pt x="2" y="52"/>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sp>
          <p:nvSpPr>
            <p:cNvPr id="543" name=""/>
            <p:cNvSpPr/>
            <p:nvPr/>
          </p:nvSpPr>
          <p:spPr>
            <a:xfrm>
              <a:off x="2946240" y="3581280"/>
              <a:ext cx="1496520" cy="1588680"/>
            </a:xfrm>
            <a:custGeom>
              <a:avLst/>
              <a:gdLst/>
              <a:ahLst/>
              <a:rect l="l" t="t" r="r" b="b"/>
              <a:pathLst>
                <a:path w="943" h="1001">
                  <a:moveTo>
                    <a:pt x="182" y="0"/>
                  </a:moveTo>
                  <a:lnTo>
                    <a:pt x="161" y="36"/>
                  </a:lnTo>
                  <a:lnTo>
                    <a:pt x="140" y="74"/>
                  </a:lnTo>
                  <a:lnTo>
                    <a:pt x="121" y="112"/>
                  </a:lnTo>
                  <a:lnTo>
                    <a:pt x="98" y="151"/>
                  </a:lnTo>
                  <a:lnTo>
                    <a:pt x="79" y="191"/>
                  </a:lnTo>
                  <a:lnTo>
                    <a:pt x="65" y="211"/>
                  </a:lnTo>
                  <a:lnTo>
                    <a:pt x="55" y="237"/>
                  </a:lnTo>
                  <a:lnTo>
                    <a:pt x="41" y="278"/>
                  </a:lnTo>
                  <a:lnTo>
                    <a:pt x="27" y="322"/>
                  </a:lnTo>
                  <a:lnTo>
                    <a:pt x="24" y="348"/>
                  </a:lnTo>
                  <a:lnTo>
                    <a:pt x="12" y="372"/>
                  </a:lnTo>
                  <a:lnTo>
                    <a:pt x="0" y="395"/>
                  </a:lnTo>
                  <a:lnTo>
                    <a:pt x="12" y="433"/>
                  </a:lnTo>
                  <a:lnTo>
                    <a:pt x="34" y="467"/>
                  </a:lnTo>
                  <a:lnTo>
                    <a:pt x="57" y="483"/>
                  </a:lnTo>
                  <a:lnTo>
                    <a:pt x="88" y="522"/>
                  </a:lnTo>
                  <a:lnTo>
                    <a:pt x="111" y="536"/>
                  </a:lnTo>
                  <a:lnTo>
                    <a:pt x="131" y="558"/>
                  </a:lnTo>
                  <a:lnTo>
                    <a:pt x="237" y="707"/>
                  </a:lnTo>
                  <a:lnTo>
                    <a:pt x="314" y="877"/>
                  </a:lnTo>
                  <a:lnTo>
                    <a:pt x="333" y="901"/>
                  </a:lnTo>
                  <a:lnTo>
                    <a:pt x="352" y="921"/>
                  </a:lnTo>
                  <a:lnTo>
                    <a:pt x="374" y="937"/>
                  </a:lnTo>
                  <a:lnTo>
                    <a:pt x="430" y="971"/>
                  </a:lnTo>
                  <a:lnTo>
                    <a:pt x="475" y="1000"/>
                  </a:lnTo>
                  <a:lnTo>
                    <a:pt x="510" y="979"/>
                  </a:lnTo>
                  <a:lnTo>
                    <a:pt x="536" y="945"/>
                  </a:lnTo>
                  <a:lnTo>
                    <a:pt x="563" y="913"/>
                  </a:lnTo>
                  <a:lnTo>
                    <a:pt x="584" y="875"/>
                  </a:lnTo>
                  <a:lnTo>
                    <a:pt x="598" y="850"/>
                  </a:lnTo>
                  <a:lnTo>
                    <a:pt x="610" y="828"/>
                  </a:lnTo>
                  <a:lnTo>
                    <a:pt x="631" y="808"/>
                  </a:lnTo>
                  <a:lnTo>
                    <a:pt x="662" y="808"/>
                  </a:lnTo>
                  <a:lnTo>
                    <a:pt x="690" y="796"/>
                  </a:lnTo>
                  <a:lnTo>
                    <a:pt x="725" y="786"/>
                  </a:lnTo>
                  <a:lnTo>
                    <a:pt x="761" y="778"/>
                  </a:lnTo>
                  <a:lnTo>
                    <a:pt x="789" y="768"/>
                  </a:lnTo>
                  <a:lnTo>
                    <a:pt x="820" y="745"/>
                  </a:lnTo>
                  <a:lnTo>
                    <a:pt x="832" y="721"/>
                  </a:lnTo>
                  <a:lnTo>
                    <a:pt x="844" y="701"/>
                  </a:lnTo>
                  <a:lnTo>
                    <a:pt x="863" y="681"/>
                  </a:lnTo>
                  <a:lnTo>
                    <a:pt x="879" y="659"/>
                  </a:lnTo>
                  <a:lnTo>
                    <a:pt x="898" y="620"/>
                  </a:lnTo>
                  <a:lnTo>
                    <a:pt x="914" y="590"/>
                  </a:lnTo>
                  <a:lnTo>
                    <a:pt x="928" y="566"/>
                  </a:lnTo>
                  <a:lnTo>
                    <a:pt x="942" y="536"/>
                  </a:lnTo>
                  <a:lnTo>
                    <a:pt x="928" y="506"/>
                  </a:lnTo>
                  <a:lnTo>
                    <a:pt x="903" y="491"/>
                  </a:lnTo>
                  <a:lnTo>
                    <a:pt x="872" y="473"/>
                  </a:lnTo>
                  <a:lnTo>
                    <a:pt x="851" y="457"/>
                  </a:lnTo>
                  <a:lnTo>
                    <a:pt x="825" y="445"/>
                  </a:lnTo>
                  <a:lnTo>
                    <a:pt x="799" y="437"/>
                  </a:lnTo>
                  <a:lnTo>
                    <a:pt x="761" y="413"/>
                  </a:lnTo>
                  <a:lnTo>
                    <a:pt x="733" y="385"/>
                  </a:lnTo>
                  <a:lnTo>
                    <a:pt x="711" y="370"/>
                  </a:lnTo>
                  <a:lnTo>
                    <a:pt x="686" y="356"/>
                  </a:lnTo>
                  <a:lnTo>
                    <a:pt x="667" y="334"/>
                  </a:lnTo>
                  <a:lnTo>
                    <a:pt x="643" y="318"/>
                  </a:lnTo>
                  <a:lnTo>
                    <a:pt x="614" y="300"/>
                  </a:lnTo>
                  <a:lnTo>
                    <a:pt x="574" y="274"/>
                  </a:lnTo>
                  <a:lnTo>
                    <a:pt x="482" y="217"/>
                  </a:lnTo>
                  <a:lnTo>
                    <a:pt x="456" y="203"/>
                  </a:lnTo>
                  <a:lnTo>
                    <a:pt x="425" y="185"/>
                  </a:lnTo>
                  <a:lnTo>
                    <a:pt x="392" y="151"/>
                  </a:lnTo>
                  <a:lnTo>
                    <a:pt x="367" y="135"/>
                  </a:lnTo>
                  <a:lnTo>
                    <a:pt x="336" y="114"/>
                  </a:lnTo>
                  <a:lnTo>
                    <a:pt x="296" y="92"/>
                  </a:lnTo>
                  <a:lnTo>
                    <a:pt x="208" y="26"/>
                  </a:lnTo>
                  <a:lnTo>
                    <a:pt x="182" y="0"/>
                  </a:lnTo>
                  <a:lnTo>
                    <a:pt x="143" y="14"/>
                  </a:lnTo>
                  <a:lnTo>
                    <a:pt x="137" y="44"/>
                  </a:lnTo>
                  <a:lnTo>
                    <a:pt x="131" y="7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
          <p:cNvSpPr/>
          <p:nvPr/>
        </p:nvSpPr>
        <p:spPr>
          <a:xfrm>
            <a:off x="2438280" y="1752480"/>
            <a:ext cx="537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Every estimate made from monitoring will have some error</a:t>
            </a:r>
            <a:endParaRPr b="0" lang="en-US" sz="2400" spc="-1" strike="noStrike">
              <a:solidFill>
                <a:srgbClr val="000000"/>
              </a:solidFill>
              <a:latin typeface="Arial"/>
            </a:endParaRPr>
          </a:p>
        </p:txBody>
      </p:sp>
      <p:sp>
        <p:nvSpPr>
          <p:cNvPr id="545" name=""/>
          <p:cNvSpPr/>
          <p:nvPr/>
        </p:nvSpPr>
        <p:spPr>
          <a:xfrm>
            <a:off x="5219640" y="3716280"/>
            <a:ext cx="2016360" cy="1513080"/>
          </a:xfrm>
          <a:prstGeom prst="cloudCallout">
            <a:avLst>
              <a:gd name="adj1" fmla="val 21574"/>
              <a:gd name="adj2" fmla="val 98374"/>
            </a:avLst>
          </a:prstGeom>
          <a:solidFill>
            <a:srgbClr val="ffffff"/>
          </a:solidFill>
          <a:ln w="19080">
            <a:solidFill>
              <a:srgbClr val="990099"/>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You need to measure thi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546" name=""/>
          <p:cNvSpPr/>
          <p:nvPr/>
        </p:nvSpPr>
        <p:spPr>
          <a:xfrm>
            <a:off x="1409760" y="471600"/>
            <a:ext cx="2130480" cy="5844960"/>
          </a:xfrm>
          <a:custGeom>
            <a:avLst/>
            <a:gdLst/>
            <a:ahLst/>
            <a:rect l="l" t="t" r="r" b="b"/>
            <a:pathLst>
              <a:path w="5641" h="3307">
                <a:moveTo>
                  <a:pt x="0" y="3306"/>
                </a:moveTo>
                <a:lnTo>
                  <a:pt x="24" y="3306"/>
                </a:lnTo>
                <a:lnTo>
                  <a:pt x="46" y="3306"/>
                </a:lnTo>
                <a:lnTo>
                  <a:pt x="69" y="3306"/>
                </a:lnTo>
                <a:lnTo>
                  <a:pt x="91" y="3306"/>
                </a:lnTo>
                <a:lnTo>
                  <a:pt x="114" y="3306"/>
                </a:lnTo>
                <a:lnTo>
                  <a:pt x="138" y="3306"/>
                </a:lnTo>
                <a:lnTo>
                  <a:pt x="161" y="3305"/>
                </a:lnTo>
                <a:lnTo>
                  <a:pt x="183" y="3303"/>
                </a:lnTo>
                <a:lnTo>
                  <a:pt x="205" y="3300"/>
                </a:lnTo>
                <a:lnTo>
                  <a:pt x="228" y="3296"/>
                </a:lnTo>
                <a:lnTo>
                  <a:pt x="252" y="3287"/>
                </a:lnTo>
                <a:lnTo>
                  <a:pt x="274" y="3275"/>
                </a:lnTo>
                <a:lnTo>
                  <a:pt x="297" y="3257"/>
                </a:lnTo>
                <a:lnTo>
                  <a:pt x="320" y="3233"/>
                </a:lnTo>
                <a:lnTo>
                  <a:pt x="342" y="3202"/>
                </a:lnTo>
                <a:lnTo>
                  <a:pt x="366" y="3163"/>
                </a:lnTo>
                <a:lnTo>
                  <a:pt x="389" y="3116"/>
                </a:lnTo>
                <a:lnTo>
                  <a:pt x="411" y="3059"/>
                </a:lnTo>
                <a:lnTo>
                  <a:pt x="433" y="2995"/>
                </a:lnTo>
                <a:lnTo>
                  <a:pt x="456" y="2920"/>
                </a:lnTo>
                <a:lnTo>
                  <a:pt x="481" y="2837"/>
                </a:lnTo>
                <a:lnTo>
                  <a:pt x="503" y="2746"/>
                </a:lnTo>
                <a:lnTo>
                  <a:pt x="525" y="2646"/>
                </a:lnTo>
                <a:lnTo>
                  <a:pt x="548" y="2541"/>
                </a:lnTo>
                <a:lnTo>
                  <a:pt x="572" y="2431"/>
                </a:lnTo>
                <a:lnTo>
                  <a:pt x="594" y="2314"/>
                </a:lnTo>
                <a:lnTo>
                  <a:pt x="616" y="2194"/>
                </a:lnTo>
                <a:lnTo>
                  <a:pt x="639" y="2069"/>
                </a:lnTo>
                <a:lnTo>
                  <a:pt x="662" y="1947"/>
                </a:lnTo>
                <a:lnTo>
                  <a:pt x="686" y="1819"/>
                </a:lnTo>
                <a:lnTo>
                  <a:pt x="708" y="1694"/>
                </a:lnTo>
                <a:lnTo>
                  <a:pt x="731" y="1568"/>
                </a:lnTo>
                <a:lnTo>
                  <a:pt x="753" y="1444"/>
                </a:lnTo>
                <a:lnTo>
                  <a:pt x="776" y="1324"/>
                </a:lnTo>
                <a:lnTo>
                  <a:pt x="799" y="1205"/>
                </a:lnTo>
                <a:lnTo>
                  <a:pt x="822" y="1099"/>
                </a:lnTo>
                <a:lnTo>
                  <a:pt x="844" y="976"/>
                </a:lnTo>
                <a:lnTo>
                  <a:pt x="868" y="884"/>
                </a:lnTo>
                <a:lnTo>
                  <a:pt x="890" y="771"/>
                </a:lnTo>
                <a:lnTo>
                  <a:pt x="914" y="691"/>
                </a:lnTo>
                <a:lnTo>
                  <a:pt x="936" y="594"/>
                </a:lnTo>
                <a:lnTo>
                  <a:pt x="959" y="513"/>
                </a:lnTo>
                <a:lnTo>
                  <a:pt x="981" y="437"/>
                </a:lnTo>
                <a:lnTo>
                  <a:pt x="1004" y="368"/>
                </a:lnTo>
                <a:lnTo>
                  <a:pt x="1027" y="305"/>
                </a:lnTo>
                <a:lnTo>
                  <a:pt x="1051" y="249"/>
                </a:lnTo>
                <a:lnTo>
                  <a:pt x="1073" y="198"/>
                </a:lnTo>
                <a:lnTo>
                  <a:pt x="1097" y="153"/>
                </a:lnTo>
                <a:lnTo>
                  <a:pt x="1118" y="114"/>
                </a:lnTo>
                <a:lnTo>
                  <a:pt x="1142" y="82"/>
                </a:lnTo>
                <a:lnTo>
                  <a:pt x="1164" y="55"/>
                </a:lnTo>
                <a:lnTo>
                  <a:pt x="1187" y="34"/>
                </a:lnTo>
                <a:lnTo>
                  <a:pt x="1210" y="18"/>
                </a:lnTo>
                <a:lnTo>
                  <a:pt x="1234" y="7"/>
                </a:lnTo>
                <a:lnTo>
                  <a:pt x="1256" y="1"/>
                </a:lnTo>
                <a:lnTo>
                  <a:pt x="1279" y="0"/>
                </a:lnTo>
                <a:lnTo>
                  <a:pt x="1301" y="3"/>
                </a:lnTo>
                <a:lnTo>
                  <a:pt x="1325" y="10"/>
                </a:lnTo>
                <a:lnTo>
                  <a:pt x="1347" y="23"/>
                </a:lnTo>
                <a:lnTo>
                  <a:pt x="1370" y="38"/>
                </a:lnTo>
                <a:lnTo>
                  <a:pt x="1392" y="56"/>
                </a:lnTo>
                <a:lnTo>
                  <a:pt x="1416" y="79"/>
                </a:lnTo>
                <a:lnTo>
                  <a:pt x="1439" y="104"/>
                </a:lnTo>
                <a:lnTo>
                  <a:pt x="1462" y="131"/>
                </a:lnTo>
                <a:lnTo>
                  <a:pt x="1484" y="162"/>
                </a:lnTo>
                <a:lnTo>
                  <a:pt x="1507" y="195"/>
                </a:lnTo>
                <a:lnTo>
                  <a:pt x="1529" y="231"/>
                </a:lnTo>
                <a:lnTo>
                  <a:pt x="1553" y="267"/>
                </a:lnTo>
                <a:lnTo>
                  <a:pt x="1575" y="306"/>
                </a:lnTo>
                <a:lnTo>
                  <a:pt x="1599" y="346"/>
                </a:lnTo>
                <a:lnTo>
                  <a:pt x="1622" y="388"/>
                </a:lnTo>
                <a:lnTo>
                  <a:pt x="1644" y="432"/>
                </a:lnTo>
                <a:lnTo>
                  <a:pt x="1667" y="476"/>
                </a:lnTo>
                <a:lnTo>
                  <a:pt x="1690" y="522"/>
                </a:lnTo>
                <a:lnTo>
                  <a:pt x="1712" y="568"/>
                </a:lnTo>
                <a:lnTo>
                  <a:pt x="1736" y="614"/>
                </a:lnTo>
                <a:lnTo>
                  <a:pt x="1758" y="661"/>
                </a:lnTo>
                <a:lnTo>
                  <a:pt x="1781" y="710"/>
                </a:lnTo>
                <a:lnTo>
                  <a:pt x="1804" y="758"/>
                </a:lnTo>
                <a:lnTo>
                  <a:pt x="1827" y="807"/>
                </a:lnTo>
                <a:lnTo>
                  <a:pt x="1850" y="855"/>
                </a:lnTo>
                <a:lnTo>
                  <a:pt x="1873" y="903"/>
                </a:lnTo>
                <a:lnTo>
                  <a:pt x="1895" y="952"/>
                </a:lnTo>
                <a:lnTo>
                  <a:pt x="1918" y="1001"/>
                </a:lnTo>
                <a:lnTo>
                  <a:pt x="1940" y="1049"/>
                </a:lnTo>
                <a:lnTo>
                  <a:pt x="1964" y="1098"/>
                </a:lnTo>
                <a:lnTo>
                  <a:pt x="1987" y="1145"/>
                </a:lnTo>
                <a:lnTo>
                  <a:pt x="2010" y="1193"/>
                </a:lnTo>
                <a:lnTo>
                  <a:pt x="2032" y="1240"/>
                </a:lnTo>
                <a:lnTo>
                  <a:pt x="2055" y="1286"/>
                </a:lnTo>
                <a:lnTo>
                  <a:pt x="2078" y="1333"/>
                </a:lnTo>
                <a:lnTo>
                  <a:pt x="2101" y="1377"/>
                </a:lnTo>
                <a:lnTo>
                  <a:pt x="2123" y="1423"/>
                </a:lnTo>
                <a:lnTo>
                  <a:pt x="2146" y="1467"/>
                </a:lnTo>
                <a:lnTo>
                  <a:pt x="2169" y="1511"/>
                </a:lnTo>
                <a:lnTo>
                  <a:pt x="2193" y="1554"/>
                </a:lnTo>
                <a:lnTo>
                  <a:pt x="2215" y="1597"/>
                </a:lnTo>
                <a:lnTo>
                  <a:pt x="2238" y="1639"/>
                </a:lnTo>
                <a:lnTo>
                  <a:pt x="2260" y="1680"/>
                </a:lnTo>
                <a:lnTo>
                  <a:pt x="2284" y="1721"/>
                </a:lnTo>
                <a:lnTo>
                  <a:pt x="2306" y="1760"/>
                </a:lnTo>
                <a:lnTo>
                  <a:pt x="2329" y="1799"/>
                </a:lnTo>
                <a:lnTo>
                  <a:pt x="2352" y="1838"/>
                </a:lnTo>
                <a:lnTo>
                  <a:pt x="2375" y="1875"/>
                </a:lnTo>
                <a:lnTo>
                  <a:pt x="2398" y="1913"/>
                </a:lnTo>
                <a:lnTo>
                  <a:pt x="2421" y="1948"/>
                </a:lnTo>
                <a:lnTo>
                  <a:pt x="2443" y="1983"/>
                </a:lnTo>
                <a:lnTo>
                  <a:pt x="2466" y="2018"/>
                </a:lnTo>
                <a:lnTo>
                  <a:pt x="2488" y="2052"/>
                </a:lnTo>
                <a:lnTo>
                  <a:pt x="2512" y="2085"/>
                </a:lnTo>
                <a:lnTo>
                  <a:pt x="2534" y="2117"/>
                </a:lnTo>
                <a:lnTo>
                  <a:pt x="2558" y="2148"/>
                </a:lnTo>
                <a:lnTo>
                  <a:pt x="2580" y="2192"/>
                </a:lnTo>
                <a:lnTo>
                  <a:pt x="2603" y="2188"/>
                </a:lnTo>
                <a:lnTo>
                  <a:pt x="2626" y="2242"/>
                </a:lnTo>
                <a:lnTo>
                  <a:pt x="2649" y="2275"/>
                </a:lnTo>
                <a:lnTo>
                  <a:pt x="2671" y="2294"/>
                </a:lnTo>
                <a:lnTo>
                  <a:pt x="2694" y="2314"/>
                </a:lnTo>
                <a:lnTo>
                  <a:pt x="2716" y="2360"/>
                </a:lnTo>
                <a:lnTo>
                  <a:pt x="2741" y="2389"/>
                </a:lnTo>
                <a:lnTo>
                  <a:pt x="2763" y="2392"/>
                </a:lnTo>
                <a:lnTo>
                  <a:pt x="2786" y="2424"/>
                </a:lnTo>
                <a:lnTo>
                  <a:pt x="2809" y="2450"/>
                </a:lnTo>
                <a:lnTo>
                  <a:pt x="2831" y="2477"/>
                </a:lnTo>
                <a:lnTo>
                  <a:pt x="2854" y="2503"/>
                </a:lnTo>
                <a:lnTo>
                  <a:pt x="2877" y="2516"/>
                </a:lnTo>
                <a:lnTo>
                  <a:pt x="2899" y="2550"/>
                </a:lnTo>
                <a:lnTo>
                  <a:pt x="2924" y="2555"/>
                </a:lnTo>
                <a:lnTo>
                  <a:pt x="2946" y="2587"/>
                </a:lnTo>
                <a:lnTo>
                  <a:pt x="2969" y="2602"/>
                </a:lnTo>
                <a:lnTo>
                  <a:pt x="2991" y="2623"/>
                </a:lnTo>
                <a:lnTo>
                  <a:pt x="3014" y="2644"/>
                </a:lnTo>
                <a:lnTo>
                  <a:pt x="3037" y="2663"/>
                </a:lnTo>
                <a:lnTo>
                  <a:pt x="3060" y="2677"/>
                </a:lnTo>
                <a:lnTo>
                  <a:pt x="3082" y="2702"/>
                </a:lnTo>
                <a:lnTo>
                  <a:pt x="3106" y="2708"/>
                </a:lnTo>
                <a:lnTo>
                  <a:pt x="3128" y="2737"/>
                </a:lnTo>
                <a:lnTo>
                  <a:pt x="3152" y="2743"/>
                </a:lnTo>
                <a:lnTo>
                  <a:pt x="3174" y="2761"/>
                </a:lnTo>
                <a:lnTo>
                  <a:pt x="3197" y="2781"/>
                </a:lnTo>
                <a:lnTo>
                  <a:pt x="3219" y="2793"/>
                </a:lnTo>
                <a:lnTo>
                  <a:pt x="3242" y="2808"/>
                </a:lnTo>
                <a:lnTo>
                  <a:pt x="3265" y="2822"/>
                </a:lnTo>
                <a:lnTo>
                  <a:pt x="3288" y="2836"/>
                </a:lnTo>
                <a:lnTo>
                  <a:pt x="3311" y="2846"/>
                </a:lnTo>
                <a:lnTo>
                  <a:pt x="3334" y="2863"/>
                </a:lnTo>
                <a:lnTo>
                  <a:pt x="3356" y="2877"/>
                </a:lnTo>
                <a:lnTo>
                  <a:pt x="3380" y="2886"/>
                </a:lnTo>
                <a:lnTo>
                  <a:pt x="3402" y="2898"/>
                </a:lnTo>
                <a:lnTo>
                  <a:pt x="3425" y="2911"/>
                </a:lnTo>
                <a:lnTo>
                  <a:pt x="3447" y="2924"/>
                </a:lnTo>
                <a:lnTo>
                  <a:pt x="3471" y="2930"/>
                </a:lnTo>
                <a:lnTo>
                  <a:pt x="3494" y="2944"/>
                </a:lnTo>
                <a:lnTo>
                  <a:pt x="3517" y="2954"/>
                </a:lnTo>
                <a:lnTo>
                  <a:pt x="3539" y="2962"/>
                </a:lnTo>
                <a:lnTo>
                  <a:pt x="3562" y="2972"/>
                </a:lnTo>
                <a:lnTo>
                  <a:pt x="3585" y="2984"/>
                </a:lnTo>
                <a:lnTo>
                  <a:pt x="3608" y="2994"/>
                </a:lnTo>
                <a:lnTo>
                  <a:pt x="3630" y="3000"/>
                </a:lnTo>
                <a:lnTo>
                  <a:pt x="3653" y="3009"/>
                </a:lnTo>
                <a:lnTo>
                  <a:pt x="3676" y="3017"/>
                </a:lnTo>
                <a:lnTo>
                  <a:pt x="3700" y="3028"/>
                </a:lnTo>
                <a:lnTo>
                  <a:pt x="3722" y="3033"/>
                </a:lnTo>
                <a:lnTo>
                  <a:pt x="3745" y="3041"/>
                </a:lnTo>
                <a:lnTo>
                  <a:pt x="3767" y="3048"/>
                </a:lnTo>
                <a:lnTo>
                  <a:pt x="3790" y="3057"/>
                </a:lnTo>
                <a:lnTo>
                  <a:pt x="3813" y="3061"/>
                </a:lnTo>
                <a:lnTo>
                  <a:pt x="3836" y="3070"/>
                </a:lnTo>
                <a:lnTo>
                  <a:pt x="3859" y="3077"/>
                </a:lnTo>
                <a:lnTo>
                  <a:pt x="3882" y="3083"/>
                </a:lnTo>
                <a:lnTo>
                  <a:pt x="3904" y="3089"/>
                </a:lnTo>
                <a:lnTo>
                  <a:pt x="3928" y="3094"/>
                </a:lnTo>
                <a:lnTo>
                  <a:pt x="3950" y="3102"/>
                </a:lnTo>
                <a:lnTo>
                  <a:pt x="3973" y="3107"/>
                </a:lnTo>
                <a:lnTo>
                  <a:pt x="3996" y="3112"/>
                </a:lnTo>
                <a:lnTo>
                  <a:pt x="4018" y="3118"/>
                </a:lnTo>
                <a:lnTo>
                  <a:pt x="4041" y="3124"/>
                </a:lnTo>
                <a:lnTo>
                  <a:pt x="4065" y="3129"/>
                </a:lnTo>
                <a:lnTo>
                  <a:pt x="4087" y="3132"/>
                </a:lnTo>
                <a:lnTo>
                  <a:pt x="4111" y="3139"/>
                </a:lnTo>
                <a:lnTo>
                  <a:pt x="4133" y="3143"/>
                </a:lnTo>
                <a:lnTo>
                  <a:pt x="4156" y="3147"/>
                </a:lnTo>
                <a:lnTo>
                  <a:pt x="4178" y="3152"/>
                </a:lnTo>
                <a:lnTo>
                  <a:pt x="4201" y="3156"/>
                </a:lnTo>
                <a:lnTo>
                  <a:pt x="4224" y="3161"/>
                </a:lnTo>
                <a:lnTo>
                  <a:pt x="4248" y="3165"/>
                </a:lnTo>
                <a:lnTo>
                  <a:pt x="4270" y="3169"/>
                </a:lnTo>
                <a:lnTo>
                  <a:pt x="4293" y="3173"/>
                </a:lnTo>
                <a:lnTo>
                  <a:pt x="4315" y="3176"/>
                </a:lnTo>
                <a:lnTo>
                  <a:pt x="4339" y="3180"/>
                </a:lnTo>
                <a:lnTo>
                  <a:pt x="4361" y="3183"/>
                </a:lnTo>
                <a:lnTo>
                  <a:pt x="4384" y="3188"/>
                </a:lnTo>
                <a:lnTo>
                  <a:pt x="4406" y="3190"/>
                </a:lnTo>
                <a:lnTo>
                  <a:pt x="4430" y="3193"/>
                </a:lnTo>
                <a:lnTo>
                  <a:pt x="4453" y="3196"/>
                </a:lnTo>
                <a:lnTo>
                  <a:pt x="4476" y="3200"/>
                </a:lnTo>
                <a:lnTo>
                  <a:pt x="4498" y="3202"/>
                </a:lnTo>
                <a:lnTo>
                  <a:pt x="4522" y="3205"/>
                </a:lnTo>
                <a:lnTo>
                  <a:pt x="4543" y="3208"/>
                </a:lnTo>
                <a:lnTo>
                  <a:pt x="4567" y="3211"/>
                </a:lnTo>
                <a:lnTo>
                  <a:pt x="4589" y="3213"/>
                </a:lnTo>
                <a:lnTo>
                  <a:pt x="4613" y="3216"/>
                </a:lnTo>
                <a:lnTo>
                  <a:pt x="4636" y="3218"/>
                </a:lnTo>
                <a:lnTo>
                  <a:pt x="4659" y="3221"/>
                </a:lnTo>
                <a:lnTo>
                  <a:pt x="4681" y="3223"/>
                </a:lnTo>
                <a:lnTo>
                  <a:pt x="4704" y="3225"/>
                </a:lnTo>
                <a:lnTo>
                  <a:pt x="4726" y="3228"/>
                </a:lnTo>
                <a:lnTo>
                  <a:pt x="4750" y="3229"/>
                </a:lnTo>
                <a:lnTo>
                  <a:pt x="4772" y="3232"/>
                </a:lnTo>
                <a:lnTo>
                  <a:pt x="4796" y="3234"/>
                </a:lnTo>
                <a:lnTo>
                  <a:pt x="4818" y="3237"/>
                </a:lnTo>
                <a:lnTo>
                  <a:pt x="4841" y="3238"/>
                </a:lnTo>
                <a:lnTo>
                  <a:pt x="4864" y="3239"/>
                </a:lnTo>
                <a:lnTo>
                  <a:pt x="4887" y="3241"/>
                </a:lnTo>
                <a:lnTo>
                  <a:pt x="4909" y="3243"/>
                </a:lnTo>
                <a:lnTo>
                  <a:pt x="4932" y="3245"/>
                </a:lnTo>
                <a:lnTo>
                  <a:pt x="4954" y="3247"/>
                </a:lnTo>
                <a:lnTo>
                  <a:pt x="4978" y="3248"/>
                </a:lnTo>
                <a:lnTo>
                  <a:pt x="5001" y="3250"/>
                </a:lnTo>
                <a:lnTo>
                  <a:pt x="5024" y="3251"/>
                </a:lnTo>
                <a:lnTo>
                  <a:pt x="5046" y="3253"/>
                </a:lnTo>
                <a:lnTo>
                  <a:pt x="5068" y="3253"/>
                </a:lnTo>
                <a:lnTo>
                  <a:pt x="5092" y="3255"/>
                </a:lnTo>
                <a:lnTo>
                  <a:pt x="5115" y="3256"/>
                </a:lnTo>
                <a:lnTo>
                  <a:pt x="5137" y="3258"/>
                </a:lnTo>
                <a:lnTo>
                  <a:pt x="5159" y="3259"/>
                </a:lnTo>
                <a:lnTo>
                  <a:pt x="5184" y="3261"/>
                </a:lnTo>
                <a:lnTo>
                  <a:pt x="5207" y="3262"/>
                </a:lnTo>
                <a:lnTo>
                  <a:pt x="5229" y="3263"/>
                </a:lnTo>
                <a:lnTo>
                  <a:pt x="5251" y="3264"/>
                </a:lnTo>
                <a:lnTo>
                  <a:pt x="5274" y="3266"/>
                </a:lnTo>
                <a:lnTo>
                  <a:pt x="5298" y="3267"/>
                </a:lnTo>
                <a:lnTo>
                  <a:pt x="5320" y="3268"/>
                </a:lnTo>
                <a:lnTo>
                  <a:pt x="5343" y="3268"/>
                </a:lnTo>
                <a:lnTo>
                  <a:pt x="5366" y="3269"/>
                </a:lnTo>
                <a:lnTo>
                  <a:pt x="5388" y="3270"/>
                </a:lnTo>
                <a:lnTo>
                  <a:pt x="5412" y="3271"/>
                </a:lnTo>
                <a:lnTo>
                  <a:pt x="5435" y="3272"/>
                </a:lnTo>
                <a:lnTo>
                  <a:pt x="5457" y="3273"/>
                </a:lnTo>
                <a:lnTo>
                  <a:pt x="5479" y="3274"/>
                </a:lnTo>
                <a:lnTo>
                  <a:pt x="5502" y="3275"/>
                </a:lnTo>
                <a:lnTo>
                  <a:pt x="5526" y="3276"/>
                </a:lnTo>
                <a:lnTo>
                  <a:pt x="5549" y="3277"/>
                </a:lnTo>
                <a:lnTo>
                  <a:pt x="5571" y="3277"/>
                </a:lnTo>
                <a:lnTo>
                  <a:pt x="5594" y="3278"/>
                </a:lnTo>
                <a:lnTo>
                  <a:pt x="5616" y="3279"/>
                </a:lnTo>
                <a:lnTo>
                  <a:pt x="5640" y="3280"/>
                </a:lnTo>
                <a:lnTo>
                  <a:pt x="5640" y="3306"/>
                </a:lnTo>
                <a:lnTo>
                  <a:pt x="5616" y="3306"/>
                </a:lnTo>
                <a:lnTo>
                  <a:pt x="5594" y="3306"/>
                </a:lnTo>
                <a:lnTo>
                  <a:pt x="5571" y="3306"/>
                </a:lnTo>
                <a:lnTo>
                  <a:pt x="5549" y="3306"/>
                </a:lnTo>
                <a:lnTo>
                  <a:pt x="5526" y="3306"/>
                </a:lnTo>
                <a:lnTo>
                  <a:pt x="5502" y="3306"/>
                </a:lnTo>
                <a:lnTo>
                  <a:pt x="5479" y="3306"/>
                </a:lnTo>
                <a:lnTo>
                  <a:pt x="5457" y="3306"/>
                </a:lnTo>
                <a:lnTo>
                  <a:pt x="5435" y="3306"/>
                </a:lnTo>
                <a:lnTo>
                  <a:pt x="5412" y="3306"/>
                </a:lnTo>
                <a:lnTo>
                  <a:pt x="5388" y="3306"/>
                </a:lnTo>
                <a:lnTo>
                  <a:pt x="5366" y="3306"/>
                </a:lnTo>
                <a:lnTo>
                  <a:pt x="5343" y="3306"/>
                </a:lnTo>
                <a:lnTo>
                  <a:pt x="5320" y="3306"/>
                </a:lnTo>
                <a:lnTo>
                  <a:pt x="5298" y="3306"/>
                </a:lnTo>
                <a:lnTo>
                  <a:pt x="5274" y="3306"/>
                </a:lnTo>
                <a:lnTo>
                  <a:pt x="5251" y="3306"/>
                </a:lnTo>
                <a:lnTo>
                  <a:pt x="5229" y="3306"/>
                </a:lnTo>
                <a:lnTo>
                  <a:pt x="5207" y="3306"/>
                </a:lnTo>
                <a:lnTo>
                  <a:pt x="5184" y="3306"/>
                </a:lnTo>
                <a:lnTo>
                  <a:pt x="5159" y="3306"/>
                </a:lnTo>
                <a:lnTo>
                  <a:pt x="5137" y="3306"/>
                </a:lnTo>
                <a:lnTo>
                  <a:pt x="5115" y="3306"/>
                </a:lnTo>
                <a:lnTo>
                  <a:pt x="5092" y="3306"/>
                </a:lnTo>
                <a:lnTo>
                  <a:pt x="5068" y="3306"/>
                </a:lnTo>
                <a:lnTo>
                  <a:pt x="5046" y="3306"/>
                </a:lnTo>
                <a:lnTo>
                  <a:pt x="5024" y="3306"/>
                </a:lnTo>
                <a:lnTo>
                  <a:pt x="5001" y="3306"/>
                </a:lnTo>
                <a:lnTo>
                  <a:pt x="4978" y="3306"/>
                </a:lnTo>
                <a:lnTo>
                  <a:pt x="4954" y="3306"/>
                </a:lnTo>
                <a:lnTo>
                  <a:pt x="4932" y="3306"/>
                </a:lnTo>
                <a:lnTo>
                  <a:pt x="4909" y="3306"/>
                </a:lnTo>
                <a:lnTo>
                  <a:pt x="4887" y="3306"/>
                </a:lnTo>
                <a:lnTo>
                  <a:pt x="4864" y="3306"/>
                </a:lnTo>
                <a:lnTo>
                  <a:pt x="4841" y="3306"/>
                </a:lnTo>
                <a:lnTo>
                  <a:pt x="4818" y="3306"/>
                </a:lnTo>
                <a:lnTo>
                  <a:pt x="4796" y="3306"/>
                </a:lnTo>
                <a:lnTo>
                  <a:pt x="4772" y="3306"/>
                </a:lnTo>
                <a:lnTo>
                  <a:pt x="4750" y="3306"/>
                </a:lnTo>
                <a:lnTo>
                  <a:pt x="4726" y="3306"/>
                </a:lnTo>
                <a:lnTo>
                  <a:pt x="4704" y="3306"/>
                </a:lnTo>
                <a:lnTo>
                  <a:pt x="4681" y="3306"/>
                </a:lnTo>
                <a:lnTo>
                  <a:pt x="4659" y="3306"/>
                </a:lnTo>
                <a:lnTo>
                  <a:pt x="4636" y="3306"/>
                </a:lnTo>
                <a:lnTo>
                  <a:pt x="4613" y="3306"/>
                </a:lnTo>
                <a:lnTo>
                  <a:pt x="4589" y="3306"/>
                </a:lnTo>
                <a:lnTo>
                  <a:pt x="4567" y="3306"/>
                </a:lnTo>
                <a:lnTo>
                  <a:pt x="4543" y="3306"/>
                </a:lnTo>
                <a:lnTo>
                  <a:pt x="4522" y="3306"/>
                </a:lnTo>
                <a:lnTo>
                  <a:pt x="4498" y="3306"/>
                </a:lnTo>
                <a:lnTo>
                  <a:pt x="4476" y="3306"/>
                </a:lnTo>
                <a:lnTo>
                  <a:pt x="4453" y="3306"/>
                </a:lnTo>
                <a:lnTo>
                  <a:pt x="4430" y="3306"/>
                </a:lnTo>
                <a:lnTo>
                  <a:pt x="4406" y="3306"/>
                </a:lnTo>
                <a:lnTo>
                  <a:pt x="4384" y="3306"/>
                </a:lnTo>
                <a:lnTo>
                  <a:pt x="4361" y="3306"/>
                </a:lnTo>
                <a:lnTo>
                  <a:pt x="4339" y="3306"/>
                </a:lnTo>
                <a:lnTo>
                  <a:pt x="4315" y="3306"/>
                </a:lnTo>
                <a:lnTo>
                  <a:pt x="4293" y="3306"/>
                </a:lnTo>
                <a:lnTo>
                  <a:pt x="4270" y="3306"/>
                </a:lnTo>
                <a:lnTo>
                  <a:pt x="4248" y="3306"/>
                </a:lnTo>
                <a:lnTo>
                  <a:pt x="4224" y="3306"/>
                </a:lnTo>
                <a:lnTo>
                  <a:pt x="4201" y="3306"/>
                </a:lnTo>
                <a:lnTo>
                  <a:pt x="4178" y="3306"/>
                </a:lnTo>
                <a:lnTo>
                  <a:pt x="4156" y="3306"/>
                </a:lnTo>
                <a:lnTo>
                  <a:pt x="4133" y="3306"/>
                </a:lnTo>
                <a:lnTo>
                  <a:pt x="4111" y="3306"/>
                </a:lnTo>
                <a:lnTo>
                  <a:pt x="4087" y="3306"/>
                </a:lnTo>
                <a:lnTo>
                  <a:pt x="4065" y="3306"/>
                </a:lnTo>
                <a:lnTo>
                  <a:pt x="4041" y="3306"/>
                </a:lnTo>
                <a:lnTo>
                  <a:pt x="4018" y="3306"/>
                </a:lnTo>
                <a:lnTo>
                  <a:pt x="3996" y="3306"/>
                </a:lnTo>
                <a:lnTo>
                  <a:pt x="3973" y="3306"/>
                </a:lnTo>
                <a:lnTo>
                  <a:pt x="3950" y="3306"/>
                </a:lnTo>
                <a:lnTo>
                  <a:pt x="3928" y="3306"/>
                </a:lnTo>
                <a:lnTo>
                  <a:pt x="3904" y="3306"/>
                </a:lnTo>
                <a:lnTo>
                  <a:pt x="3882" y="3306"/>
                </a:lnTo>
                <a:lnTo>
                  <a:pt x="3859" y="3306"/>
                </a:lnTo>
                <a:lnTo>
                  <a:pt x="3836" y="3306"/>
                </a:lnTo>
                <a:lnTo>
                  <a:pt x="3813" y="3306"/>
                </a:lnTo>
                <a:lnTo>
                  <a:pt x="3790" y="3306"/>
                </a:lnTo>
                <a:lnTo>
                  <a:pt x="3767" y="3306"/>
                </a:lnTo>
                <a:lnTo>
                  <a:pt x="3745" y="3306"/>
                </a:lnTo>
                <a:lnTo>
                  <a:pt x="3722" y="3306"/>
                </a:lnTo>
                <a:lnTo>
                  <a:pt x="3700" y="3306"/>
                </a:lnTo>
                <a:lnTo>
                  <a:pt x="3676" y="3306"/>
                </a:lnTo>
                <a:lnTo>
                  <a:pt x="3653" y="3306"/>
                </a:lnTo>
                <a:lnTo>
                  <a:pt x="3630" y="3306"/>
                </a:lnTo>
                <a:lnTo>
                  <a:pt x="3608" y="3306"/>
                </a:lnTo>
                <a:lnTo>
                  <a:pt x="3585" y="3306"/>
                </a:lnTo>
                <a:lnTo>
                  <a:pt x="3562" y="3306"/>
                </a:lnTo>
                <a:lnTo>
                  <a:pt x="3539" y="3306"/>
                </a:lnTo>
                <a:lnTo>
                  <a:pt x="3517" y="3306"/>
                </a:lnTo>
                <a:lnTo>
                  <a:pt x="3494" y="3306"/>
                </a:lnTo>
                <a:lnTo>
                  <a:pt x="3471" y="3306"/>
                </a:lnTo>
                <a:lnTo>
                  <a:pt x="3447" y="3306"/>
                </a:lnTo>
                <a:lnTo>
                  <a:pt x="3425" y="3306"/>
                </a:lnTo>
                <a:lnTo>
                  <a:pt x="3402" y="3306"/>
                </a:lnTo>
                <a:lnTo>
                  <a:pt x="3380" y="3306"/>
                </a:lnTo>
                <a:lnTo>
                  <a:pt x="3356" y="3306"/>
                </a:lnTo>
                <a:lnTo>
                  <a:pt x="3334" y="3306"/>
                </a:lnTo>
                <a:lnTo>
                  <a:pt x="3311" y="3306"/>
                </a:lnTo>
                <a:lnTo>
                  <a:pt x="3288" y="3306"/>
                </a:lnTo>
                <a:lnTo>
                  <a:pt x="3265" y="3306"/>
                </a:lnTo>
                <a:lnTo>
                  <a:pt x="3242" y="3306"/>
                </a:lnTo>
                <a:lnTo>
                  <a:pt x="3219" y="3306"/>
                </a:lnTo>
                <a:lnTo>
                  <a:pt x="3197" y="3306"/>
                </a:lnTo>
                <a:lnTo>
                  <a:pt x="3174" y="3306"/>
                </a:lnTo>
                <a:lnTo>
                  <a:pt x="3152" y="3306"/>
                </a:lnTo>
                <a:lnTo>
                  <a:pt x="3128" y="3306"/>
                </a:lnTo>
                <a:lnTo>
                  <a:pt x="3106" y="3306"/>
                </a:lnTo>
                <a:lnTo>
                  <a:pt x="3082" y="3306"/>
                </a:lnTo>
                <a:lnTo>
                  <a:pt x="3060" y="3306"/>
                </a:lnTo>
                <a:lnTo>
                  <a:pt x="3037" y="3306"/>
                </a:lnTo>
                <a:lnTo>
                  <a:pt x="3014" y="3306"/>
                </a:lnTo>
                <a:lnTo>
                  <a:pt x="2991" y="3306"/>
                </a:lnTo>
                <a:lnTo>
                  <a:pt x="2969" y="3306"/>
                </a:lnTo>
                <a:lnTo>
                  <a:pt x="2946" y="3306"/>
                </a:lnTo>
                <a:lnTo>
                  <a:pt x="2924" y="3306"/>
                </a:lnTo>
                <a:lnTo>
                  <a:pt x="2899" y="3306"/>
                </a:lnTo>
                <a:lnTo>
                  <a:pt x="2877" y="3306"/>
                </a:lnTo>
                <a:lnTo>
                  <a:pt x="2854" y="3306"/>
                </a:lnTo>
                <a:lnTo>
                  <a:pt x="2831" y="3306"/>
                </a:lnTo>
                <a:lnTo>
                  <a:pt x="2809" y="3306"/>
                </a:lnTo>
                <a:lnTo>
                  <a:pt x="2786" y="3306"/>
                </a:lnTo>
                <a:lnTo>
                  <a:pt x="2763" y="3306"/>
                </a:lnTo>
                <a:lnTo>
                  <a:pt x="2741" y="3306"/>
                </a:lnTo>
                <a:lnTo>
                  <a:pt x="2716" y="3306"/>
                </a:lnTo>
                <a:lnTo>
                  <a:pt x="2694" y="3306"/>
                </a:lnTo>
                <a:lnTo>
                  <a:pt x="2671" y="3306"/>
                </a:lnTo>
                <a:lnTo>
                  <a:pt x="2649" y="3306"/>
                </a:lnTo>
                <a:lnTo>
                  <a:pt x="2626" y="3306"/>
                </a:lnTo>
                <a:lnTo>
                  <a:pt x="2603" y="3306"/>
                </a:lnTo>
                <a:lnTo>
                  <a:pt x="2580" y="3306"/>
                </a:lnTo>
                <a:lnTo>
                  <a:pt x="2558" y="3306"/>
                </a:lnTo>
                <a:lnTo>
                  <a:pt x="2534" y="3306"/>
                </a:lnTo>
                <a:lnTo>
                  <a:pt x="2512" y="3306"/>
                </a:lnTo>
                <a:lnTo>
                  <a:pt x="2488" y="3306"/>
                </a:lnTo>
                <a:lnTo>
                  <a:pt x="2466" y="3306"/>
                </a:lnTo>
                <a:lnTo>
                  <a:pt x="2443" y="3306"/>
                </a:lnTo>
                <a:lnTo>
                  <a:pt x="2421" y="3306"/>
                </a:lnTo>
                <a:lnTo>
                  <a:pt x="2398" y="3306"/>
                </a:lnTo>
                <a:lnTo>
                  <a:pt x="2375" y="3306"/>
                </a:lnTo>
                <a:lnTo>
                  <a:pt x="2352" y="3306"/>
                </a:lnTo>
                <a:lnTo>
                  <a:pt x="2329" y="3306"/>
                </a:lnTo>
                <a:lnTo>
                  <a:pt x="2306" y="3306"/>
                </a:lnTo>
                <a:lnTo>
                  <a:pt x="2284" y="3306"/>
                </a:lnTo>
                <a:lnTo>
                  <a:pt x="2260" y="3306"/>
                </a:lnTo>
                <a:lnTo>
                  <a:pt x="2238" y="3306"/>
                </a:lnTo>
                <a:lnTo>
                  <a:pt x="2215" y="3306"/>
                </a:lnTo>
                <a:lnTo>
                  <a:pt x="2193" y="3306"/>
                </a:lnTo>
                <a:lnTo>
                  <a:pt x="2169" y="3306"/>
                </a:lnTo>
                <a:lnTo>
                  <a:pt x="2146" y="3306"/>
                </a:lnTo>
                <a:lnTo>
                  <a:pt x="2123" y="3306"/>
                </a:lnTo>
                <a:lnTo>
                  <a:pt x="2101" y="3306"/>
                </a:lnTo>
                <a:lnTo>
                  <a:pt x="2078" y="3306"/>
                </a:lnTo>
                <a:lnTo>
                  <a:pt x="2055" y="3306"/>
                </a:lnTo>
                <a:lnTo>
                  <a:pt x="2032" y="3306"/>
                </a:lnTo>
                <a:lnTo>
                  <a:pt x="2010" y="3306"/>
                </a:lnTo>
                <a:lnTo>
                  <a:pt x="1987" y="3306"/>
                </a:lnTo>
                <a:lnTo>
                  <a:pt x="1964" y="3306"/>
                </a:lnTo>
                <a:lnTo>
                  <a:pt x="1940" y="3306"/>
                </a:lnTo>
                <a:lnTo>
                  <a:pt x="1918" y="3306"/>
                </a:lnTo>
                <a:lnTo>
                  <a:pt x="1895" y="3306"/>
                </a:lnTo>
                <a:lnTo>
                  <a:pt x="1873" y="3306"/>
                </a:lnTo>
                <a:lnTo>
                  <a:pt x="1850" y="3306"/>
                </a:lnTo>
                <a:lnTo>
                  <a:pt x="1827" y="3306"/>
                </a:lnTo>
                <a:lnTo>
                  <a:pt x="1804" y="3306"/>
                </a:lnTo>
                <a:lnTo>
                  <a:pt x="1781" y="3306"/>
                </a:lnTo>
                <a:lnTo>
                  <a:pt x="1758" y="3306"/>
                </a:lnTo>
                <a:lnTo>
                  <a:pt x="1736" y="3306"/>
                </a:lnTo>
                <a:lnTo>
                  <a:pt x="1712" y="3306"/>
                </a:lnTo>
                <a:lnTo>
                  <a:pt x="1690" y="3306"/>
                </a:lnTo>
                <a:lnTo>
                  <a:pt x="1667" y="3306"/>
                </a:lnTo>
                <a:lnTo>
                  <a:pt x="1644" y="3306"/>
                </a:lnTo>
                <a:lnTo>
                  <a:pt x="1622" y="3306"/>
                </a:lnTo>
                <a:lnTo>
                  <a:pt x="1599" y="3306"/>
                </a:lnTo>
                <a:lnTo>
                  <a:pt x="1575" y="3306"/>
                </a:lnTo>
                <a:lnTo>
                  <a:pt x="1553" y="3306"/>
                </a:lnTo>
                <a:lnTo>
                  <a:pt x="1529" y="3306"/>
                </a:lnTo>
                <a:lnTo>
                  <a:pt x="1507" y="3306"/>
                </a:lnTo>
                <a:lnTo>
                  <a:pt x="1484" y="3306"/>
                </a:lnTo>
                <a:lnTo>
                  <a:pt x="1462" y="3306"/>
                </a:lnTo>
                <a:lnTo>
                  <a:pt x="1439" y="3306"/>
                </a:lnTo>
                <a:lnTo>
                  <a:pt x="1416" y="3306"/>
                </a:lnTo>
                <a:lnTo>
                  <a:pt x="1392" y="3306"/>
                </a:lnTo>
                <a:lnTo>
                  <a:pt x="1370" y="3306"/>
                </a:lnTo>
                <a:lnTo>
                  <a:pt x="1347" y="3306"/>
                </a:lnTo>
                <a:lnTo>
                  <a:pt x="1325" y="3306"/>
                </a:lnTo>
                <a:lnTo>
                  <a:pt x="1301" y="3306"/>
                </a:lnTo>
                <a:lnTo>
                  <a:pt x="1279" y="3306"/>
                </a:lnTo>
                <a:lnTo>
                  <a:pt x="1256" y="3306"/>
                </a:lnTo>
                <a:lnTo>
                  <a:pt x="1234" y="3306"/>
                </a:lnTo>
                <a:lnTo>
                  <a:pt x="1210" y="3306"/>
                </a:lnTo>
                <a:lnTo>
                  <a:pt x="1187" y="3306"/>
                </a:lnTo>
                <a:lnTo>
                  <a:pt x="1164" y="3306"/>
                </a:lnTo>
                <a:lnTo>
                  <a:pt x="1142" y="3306"/>
                </a:lnTo>
                <a:lnTo>
                  <a:pt x="1118" y="3306"/>
                </a:lnTo>
                <a:lnTo>
                  <a:pt x="1097" y="3306"/>
                </a:lnTo>
                <a:lnTo>
                  <a:pt x="1073" y="3306"/>
                </a:lnTo>
                <a:lnTo>
                  <a:pt x="1051" y="3306"/>
                </a:lnTo>
                <a:lnTo>
                  <a:pt x="1027" y="3306"/>
                </a:lnTo>
                <a:lnTo>
                  <a:pt x="1004" y="3306"/>
                </a:lnTo>
                <a:lnTo>
                  <a:pt x="981" y="3306"/>
                </a:lnTo>
                <a:lnTo>
                  <a:pt x="959" y="3306"/>
                </a:lnTo>
                <a:lnTo>
                  <a:pt x="936" y="3306"/>
                </a:lnTo>
                <a:lnTo>
                  <a:pt x="914" y="3306"/>
                </a:lnTo>
                <a:lnTo>
                  <a:pt x="890" y="3306"/>
                </a:lnTo>
                <a:lnTo>
                  <a:pt x="868" y="3306"/>
                </a:lnTo>
                <a:lnTo>
                  <a:pt x="844" y="3306"/>
                </a:lnTo>
                <a:lnTo>
                  <a:pt x="822" y="3306"/>
                </a:lnTo>
                <a:lnTo>
                  <a:pt x="799" y="3306"/>
                </a:lnTo>
                <a:lnTo>
                  <a:pt x="776" y="3306"/>
                </a:lnTo>
                <a:lnTo>
                  <a:pt x="753" y="3306"/>
                </a:lnTo>
                <a:lnTo>
                  <a:pt x="731" y="3306"/>
                </a:lnTo>
                <a:lnTo>
                  <a:pt x="708" y="3306"/>
                </a:lnTo>
                <a:lnTo>
                  <a:pt x="686" y="3306"/>
                </a:lnTo>
                <a:lnTo>
                  <a:pt x="662" y="3306"/>
                </a:lnTo>
                <a:lnTo>
                  <a:pt x="639" y="3306"/>
                </a:lnTo>
                <a:lnTo>
                  <a:pt x="616" y="3306"/>
                </a:lnTo>
                <a:lnTo>
                  <a:pt x="594" y="3306"/>
                </a:lnTo>
                <a:lnTo>
                  <a:pt x="572" y="3306"/>
                </a:lnTo>
                <a:lnTo>
                  <a:pt x="548" y="3306"/>
                </a:lnTo>
                <a:lnTo>
                  <a:pt x="525" y="3306"/>
                </a:lnTo>
                <a:lnTo>
                  <a:pt x="503" y="3306"/>
                </a:lnTo>
                <a:lnTo>
                  <a:pt x="481" y="3306"/>
                </a:lnTo>
                <a:lnTo>
                  <a:pt x="456" y="3306"/>
                </a:lnTo>
                <a:lnTo>
                  <a:pt x="433" y="3306"/>
                </a:lnTo>
                <a:lnTo>
                  <a:pt x="411" y="3306"/>
                </a:lnTo>
                <a:lnTo>
                  <a:pt x="389" y="3306"/>
                </a:lnTo>
                <a:lnTo>
                  <a:pt x="366" y="3306"/>
                </a:lnTo>
                <a:lnTo>
                  <a:pt x="342" y="3306"/>
                </a:lnTo>
                <a:lnTo>
                  <a:pt x="320" y="3306"/>
                </a:lnTo>
                <a:lnTo>
                  <a:pt x="297" y="3306"/>
                </a:lnTo>
                <a:lnTo>
                  <a:pt x="274" y="3306"/>
                </a:lnTo>
                <a:lnTo>
                  <a:pt x="252" y="3306"/>
                </a:lnTo>
                <a:lnTo>
                  <a:pt x="228" y="3306"/>
                </a:lnTo>
                <a:lnTo>
                  <a:pt x="205" y="3306"/>
                </a:lnTo>
                <a:lnTo>
                  <a:pt x="183" y="3306"/>
                </a:lnTo>
                <a:lnTo>
                  <a:pt x="161" y="3306"/>
                </a:lnTo>
                <a:lnTo>
                  <a:pt x="138" y="3306"/>
                </a:lnTo>
                <a:lnTo>
                  <a:pt x="114" y="3306"/>
                </a:lnTo>
                <a:lnTo>
                  <a:pt x="91" y="3306"/>
                </a:lnTo>
                <a:lnTo>
                  <a:pt x="69" y="3306"/>
                </a:lnTo>
                <a:lnTo>
                  <a:pt x="46" y="3306"/>
                </a:lnTo>
                <a:lnTo>
                  <a:pt x="24" y="3306"/>
                </a:lnTo>
                <a:lnTo>
                  <a:pt x="0" y="3306"/>
                </a:lnTo>
              </a:path>
            </a:pathLst>
          </a:custGeom>
          <a:solidFill>
            <a:srgbClr val="ffff99"/>
          </a:solidFill>
          <a:ln cap="rnd" w="1260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314360" y="114480"/>
            <a:ext cx="17640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494160" y="114480"/>
            <a:ext cx="18396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681520" y="114480"/>
            <a:ext cx="18432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870680" y="114480"/>
            <a:ext cx="18432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20" y="6283440"/>
            <a:ext cx="126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Comic Sans MS"/>
              </a:rPr>
              <a:t>High</a:t>
            </a:r>
            <a:endParaRPr b="0" lang="en-US" sz="3600" spc="-1" strike="noStrike">
              <a:solidFill>
                <a:srgbClr val="000000"/>
              </a:solidFill>
              <a:latin typeface="Arial"/>
            </a:endParaRPr>
          </a:p>
        </p:txBody>
      </p:sp>
      <p:sp>
        <p:nvSpPr>
          <p:cNvPr id="552" name=""/>
          <p:cNvSpPr/>
          <p:nvPr/>
        </p:nvSpPr>
        <p:spPr>
          <a:xfrm>
            <a:off x="1852200" y="628344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Comic Sans MS"/>
              </a:rPr>
              <a:t>Good</a:t>
            </a:r>
            <a:endParaRPr b="0" lang="en-US" sz="3600" spc="-1" strike="noStrike">
              <a:solidFill>
                <a:srgbClr val="000000"/>
              </a:solidFill>
              <a:latin typeface="Arial"/>
            </a:endParaRPr>
          </a:p>
        </p:txBody>
      </p:sp>
      <p:sp>
        <p:nvSpPr>
          <p:cNvPr id="553" name=""/>
          <p:cNvSpPr/>
          <p:nvPr/>
        </p:nvSpPr>
        <p:spPr>
          <a:xfrm>
            <a:off x="3499560" y="6283440"/>
            <a:ext cx="240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33"/>
                </a:solidFill>
                <a:latin typeface="Comic Sans MS"/>
              </a:rPr>
              <a:t>Moderate</a:t>
            </a:r>
            <a:endParaRPr b="0" lang="en-US" sz="3600" spc="-1" strike="noStrike">
              <a:solidFill>
                <a:srgbClr val="000000"/>
              </a:solidFill>
              <a:latin typeface="Arial"/>
            </a:endParaRPr>
          </a:p>
        </p:txBody>
      </p:sp>
      <p:sp>
        <p:nvSpPr>
          <p:cNvPr id="554" name=""/>
          <p:cNvSpPr/>
          <p:nvPr/>
        </p:nvSpPr>
        <p:spPr>
          <a:xfrm>
            <a:off x="6128640" y="6283440"/>
            <a:ext cx="124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6600"/>
                </a:solidFill>
                <a:latin typeface="Comic Sans MS"/>
              </a:rPr>
              <a:t>Poor</a:t>
            </a:r>
            <a:endParaRPr b="0" lang="en-US" sz="3600" spc="-1" strike="noStrike">
              <a:solidFill>
                <a:srgbClr val="000000"/>
              </a:solidFill>
              <a:latin typeface="Arial"/>
            </a:endParaRPr>
          </a:p>
        </p:txBody>
      </p:sp>
      <p:sp>
        <p:nvSpPr>
          <p:cNvPr id="555" name=""/>
          <p:cNvSpPr/>
          <p:nvPr/>
        </p:nvSpPr>
        <p:spPr>
          <a:xfrm>
            <a:off x="7985880" y="6283440"/>
            <a:ext cx="105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omic Sans MS"/>
              </a:rPr>
              <a:t>Bad</a:t>
            </a:r>
            <a:endParaRPr b="0" lang="en-US" sz="3600" spc="-1" strike="noStrike">
              <a:solidFill>
                <a:srgbClr val="000000"/>
              </a:solidFill>
              <a:latin typeface="Arial"/>
            </a:endParaRPr>
          </a:p>
        </p:txBody>
      </p:sp>
      <p:sp>
        <p:nvSpPr>
          <p:cNvPr id="556" name=""/>
          <p:cNvSpPr/>
          <p:nvPr/>
        </p:nvSpPr>
        <p:spPr>
          <a:xfrm>
            <a:off x="3733920" y="685800"/>
            <a:ext cx="3862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00 % sure status is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557" name=""/>
          <p:cNvSpPr/>
          <p:nvPr/>
        </p:nvSpPr>
        <p:spPr>
          <a:xfrm>
            <a:off x="4629240" y="452520"/>
            <a:ext cx="4492440" cy="5844960"/>
          </a:xfrm>
          <a:custGeom>
            <a:avLst/>
            <a:gdLst/>
            <a:ahLst/>
            <a:rect l="l" t="t" r="r" b="b"/>
            <a:pathLst>
              <a:path w="5641" h="3307">
                <a:moveTo>
                  <a:pt x="0" y="3306"/>
                </a:moveTo>
                <a:lnTo>
                  <a:pt x="24" y="3306"/>
                </a:lnTo>
                <a:lnTo>
                  <a:pt x="46" y="3306"/>
                </a:lnTo>
                <a:lnTo>
                  <a:pt x="69" y="3306"/>
                </a:lnTo>
                <a:lnTo>
                  <a:pt x="91" y="3306"/>
                </a:lnTo>
                <a:lnTo>
                  <a:pt x="114" y="3306"/>
                </a:lnTo>
                <a:lnTo>
                  <a:pt x="138" y="3306"/>
                </a:lnTo>
                <a:lnTo>
                  <a:pt x="161" y="3305"/>
                </a:lnTo>
                <a:lnTo>
                  <a:pt x="183" y="3303"/>
                </a:lnTo>
                <a:lnTo>
                  <a:pt x="205" y="3300"/>
                </a:lnTo>
                <a:lnTo>
                  <a:pt x="228" y="3296"/>
                </a:lnTo>
                <a:lnTo>
                  <a:pt x="252" y="3287"/>
                </a:lnTo>
                <a:lnTo>
                  <a:pt x="274" y="3275"/>
                </a:lnTo>
                <a:lnTo>
                  <a:pt x="297" y="3257"/>
                </a:lnTo>
                <a:lnTo>
                  <a:pt x="320" y="3233"/>
                </a:lnTo>
                <a:lnTo>
                  <a:pt x="342" y="3202"/>
                </a:lnTo>
                <a:lnTo>
                  <a:pt x="366" y="3163"/>
                </a:lnTo>
                <a:lnTo>
                  <a:pt x="389" y="3116"/>
                </a:lnTo>
                <a:lnTo>
                  <a:pt x="411" y="3059"/>
                </a:lnTo>
                <a:lnTo>
                  <a:pt x="433" y="2995"/>
                </a:lnTo>
                <a:lnTo>
                  <a:pt x="456" y="2920"/>
                </a:lnTo>
                <a:lnTo>
                  <a:pt x="481" y="2837"/>
                </a:lnTo>
                <a:lnTo>
                  <a:pt x="503" y="2746"/>
                </a:lnTo>
                <a:lnTo>
                  <a:pt x="525" y="2646"/>
                </a:lnTo>
                <a:lnTo>
                  <a:pt x="548" y="2541"/>
                </a:lnTo>
                <a:lnTo>
                  <a:pt x="572" y="2431"/>
                </a:lnTo>
                <a:lnTo>
                  <a:pt x="594" y="2314"/>
                </a:lnTo>
                <a:lnTo>
                  <a:pt x="616" y="2194"/>
                </a:lnTo>
                <a:lnTo>
                  <a:pt x="639" y="2069"/>
                </a:lnTo>
                <a:lnTo>
                  <a:pt x="662" y="1947"/>
                </a:lnTo>
                <a:lnTo>
                  <a:pt x="686" y="1819"/>
                </a:lnTo>
                <a:lnTo>
                  <a:pt x="708" y="1694"/>
                </a:lnTo>
                <a:lnTo>
                  <a:pt x="731" y="1568"/>
                </a:lnTo>
                <a:lnTo>
                  <a:pt x="753" y="1444"/>
                </a:lnTo>
                <a:lnTo>
                  <a:pt x="776" y="1324"/>
                </a:lnTo>
                <a:lnTo>
                  <a:pt x="799" y="1205"/>
                </a:lnTo>
                <a:lnTo>
                  <a:pt x="822" y="1099"/>
                </a:lnTo>
                <a:lnTo>
                  <a:pt x="844" y="976"/>
                </a:lnTo>
                <a:lnTo>
                  <a:pt x="868" y="884"/>
                </a:lnTo>
                <a:lnTo>
                  <a:pt x="890" y="771"/>
                </a:lnTo>
                <a:lnTo>
                  <a:pt x="914" y="691"/>
                </a:lnTo>
                <a:lnTo>
                  <a:pt x="936" y="594"/>
                </a:lnTo>
                <a:lnTo>
                  <a:pt x="959" y="513"/>
                </a:lnTo>
                <a:lnTo>
                  <a:pt x="981" y="437"/>
                </a:lnTo>
                <a:lnTo>
                  <a:pt x="1004" y="368"/>
                </a:lnTo>
                <a:lnTo>
                  <a:pt x="1027" y="305"/>
                </a:lnTo>
                <a:lnTo>
                  <a:pt x="1051" y="249"/>
                </a:lnTo>
                <a:lnTo>
                  <a:pt x="1073" y="198"/>
                </a:lnTo>
                <a:lnTo>
                  <a:pt x="1097" y="153"/>
                </a:lnTo>
                <a:lnTo>
                  <a:pt x="1118" y="114"/>
                </a:lnTo>
                <a:lnTo>
                  <a:pt x="1142" y="82"/>
                </a:lnTo>
                <a:lnTo>
                  <a:pt x="1164" y="55"/>
                </a:lnTo>
                <a:lnTo>
                  <a:pt x="1187" y="34"/>
                </a:lnTo>
                <a:lnTo>
                  <a:pt x="1210" y="18"/>
                </a:lnTo>
                <a:lnTo>
                  <a:pt x="1234" y="7"/>
                </a:lnTo>
                <a:lnTo>
                  <a:pt x="1256" y="1"/>
                </a:lnTo>
                <a:lnTo>
                  <a:pt x="1279" y="0"/>
                </a:lnTo>
                <a:lnTo>
                  <a:pt x="1301" y="3"/>
                </a:lnTo>
                <a:lnTo>
                  <a:pt x="1325" y="10"/>
                </a:lnTo>
                <a:lnTo>
                  <a:pt x="1347" y="23"/>
                </a:lnTo>
                <a:lnTo>
                  <a:pt x="1370" y="38"/>
                </a:lnTo>
                <a:lnTo>
                  <a:pt x="1392" y="56"/>
                </a:lnTo>
                <a:lnTo>
                  <a:pt x="1416" y="79"/>
                </a:lnTo>
                <a:lnTo>
                  <a:pt x="1439" y="104"/>
                </a:lnTo>
                <a:lnTo>
                  <a:pt x="1462" y="131"/>
                </a:lnTo>
                <a:lnTo>
                  <a:pt x="1484" y="162"/>
                </a:lnTo>
                <a:lnTo>
                  <a:pt x="1507" y="195"/>
                </a:lnTo>
                <a:lnTo>
                  <a:pt x="1529" y="231"/>
                </a:lnTo>
                <a:lnTo>
                  <a:pt x="1553" y="267"/>
                </a:lnTo>
                <a:lnTo>
                  <a:pt x="1575" y="306"/>
                </a:lnTo>
                <a:lnTo>
                  <a:pt x="1599" y="346"/>
                </a:lnTo>
                <a:lnTo>
                  <a:pt x="1622" y="388"/>
                </a:lnTo>
                <a:lnTo>
                  <a:pt x="1644" y="432"/>
                </a:lnTo>
                <a:lnTo>
                  <a:pt x="1667" y="476"/>
                </a:lnTo>
                <a:lnTo>
                  <a:pt x="1690" y="522"/>
                </a:lnTo>
                <a:lnTo>
                  <a:pt x="1712" y="568"/>
                </a:lnTo>
                <a:lnTo>
                  <a:pt x="1736" y="614"/>
                </a:lnTo>
                <a:lnTo>
                  <a:pt x="1758" y="661"/>
                </a:lnTo>
                <a:lnTo>
                  <a:pt x="1781" y="710"/>
                </a:lnTo>
                <a:lnTo>
                  <a:pt x="1804" y="758"/>
                </a:lnTo>
                <a:lnTo>
                  <a:pt x="1827" y="807"/>
                </a:lnTo>
                <a:lnTo>
                  <a:pt x="1850" y="855"/>
                </a:lnTo>
                <a:lnTo>
                  <a:pt x="1873" y="903"/>
                </a:lnTo>
                <a:lnTo>
                  <a:pt x="1895" y="952"/>
                </a:lnTo>
                <a:lnTo>
                  <a:pt x="1918" y="1001"/>
                </a:lnTo>
                <a:lnTo>
                  <a:pt x="1940" y="1049"/>
                </a:lnTo>
                <a:lnTo>
                  <a:pt x="1964" y="1098"/>
                </a:lnTo>
                <a:lnTo>
                  <a:pt x="1987" y="1145"/>
                </a:lnTo>
                <a:lnTo>
                  <a:pt x="2010" y="1193"/>
                </a:lnTo>
                <a:lnTo>
                  <a:pt x="2032" y="1240"/>
                </a:lnTo>
                <a:lnTo>
                  <a:pt x="2055" y="1286"/>
                </a:lnTo>
                <a:lnTo>
                  <a:pt x="2078" y="1333"/>
                </a:lnTo>
                <a:lnTo>
                  <a:pt x="2101" y="1377"/>
                </a:lnTo>
                <a:lnTo>
                  <a:pt x="2123" y="1423"/>
                </a:lnTo>
                <a:lnTo>
                  <a:pt x="2146" y="1467"/>
                </a:lnTo>
                <a:lnTo>
                  <a:pt x="2169" y="1511"/>
                </a:lnTo>
                <a:lnTo>
                  <a:pt x="2193" y="1554"/>
                </a:lnTo>
                <a:lnTo>
                  <a:pt x="2215" y="1597"/>
                </a:lnTo>
                <a:lnTo>
                  <a:pt x="2238" y="1639"/>
                </a:lnTo>
                <a:lnTo>
                  <a:pt x="2260" y="1680"/>
                </a:lnTo>
                <a:lnTo>
                  <a:pt x="2284" y="1721"/>
                </a:lnTo>
                <a:lnTo>
                  <a:pt x="2306" y="1760"/>
                </a:lnTo>
                <a:lnTo>
                  <a:pt x="2329" y="1799"/>
                </a:lnTo>
                <a:lnTo>
                  <a:pt x="2352" y="1838"/>
                </a:lnTo>
                <a:lnTo>
                  <a:pt x="2375" y="1875"/>
                </a:lnTo>
                <a:lnTo>
                  <a:pt x="2398" y="1913"/>
                </a:lnTo>
                <a:lnTo>
                  <a:pt x="2421" y="1948"/>
                </a:lnTo>
                <a:lnTo>
                  <a:pt x="2443" y="1983"/>
                </a:lnTo>
                <a:lnTo>
                  <a:pt x="2466" y="2018"/>
                </a:lnTo>
                <a:lnTo>
                  <a:pt x="2488" y="2052"/>
                </a:lnTo>
                <a:lnTo>
                  <a:pt x="2512" y="2085"/>
                </a:lnTo>
                <a:lnTo>
                  <a:pt x="2534" y="2117"/>
                </a:lnTo>
                <a:lnTo>
                  <a:pt x="2558" y="2148"/>
                </a:lnTo>
                <a:lnTo>
                  <a:pt x="2580" y="2192"/>
                </a:lnTo>
                <a:lnTo>
                  <a:pt x="2603" y="2188"/>
                </a:lnTo>
                <a:lnTo>
                  <a:pt x="2626" y="2242"/>
                </a:lnTo>
                <a:lnTo>
                  <a:pt x="2649" y="2275"/>
                </a:lnTo>
                <a:lnTo>
                  <a:pt x="2671" y="2294"/>
                </a:lnTo>
                <a:lnTo>
                  <a:pt x="2694" y="2314"/>
                </a:lnTo>
                <a:lnTo>
                  <a:pt x="2716" y="2360"/>
                </a:lnTo>
                <a:lnTo>
                  <a:pt x="2741" y="2389"/>
                </a:lnTo>
                <a:lnTo>
                  <a:pt x="2763" y="2392"/>
                </a:lnTo>
                <a:lnTo>
                  <a:pt x="2786" y="2424"/>
                </a:lnTo>
                <a:lnTo>
                  <a:pt x="2809" y="2450"/>
                </a:lnTo>
                <a:lnTo>
                  <a:pt x="2831" y="2477"/>
                </a:lnTo>
                <a:lnTo>
                  <a:pt x="2854" y="2503"/>
                </a:lnTo>
                <a:lnTo>
                  <a:pt x="2877" y="2516"/>
                </a:lnTo>
                <a:lnTo>
                  <a:pt x="2899" y="2550"/>
                </a:lnTo>
                <a:lnTo>
                  <a:pt x="2924" y="2555"/>
                </a:lnTo>
                <a:lnTo>
                  <a:pt x="2946" y="2587"/>
                </a:lnTo>
                <a:lnTo>
                  <a:pt x="2969" y="2602"/>
                </a:lnTo>
                <a:lnTo>
                  <a:pt x="2991" y="2623"/>
                </a:lnTo>
                <a:lnTo>
                  <a:pt x="3014" y="2644"/>
                </a:lnTo>
                <a:lnTo>
                  <a:pt x="3037" y="2663"/>
                </a:lnTo>
                <a:lnTo>
                  <a:pt x="3060" y="2677"/>
                </a:lnTo>
                <a:lnTo>
                  <a:pt x="3082" y="2702"/>
                </a:lnTo>
                <a:lnTo>
                  <a:pt x="3106" y="2708"/>
                </a:lnTo>
                <a:lnTo>
                  <a:pt x="3128" y="2737"/>
                </a:lnTo>
                <a:lnTo>
                  <a:pt x="3152" y="2743"/>
                </a:lnTo>
                <a:lnTo>
                  <a:pt x="3174" y="2761"/>
                </a:lnTo>
                <a:lnTo>
                  <a:pt x="3197" y="2781"/>
                </a:lnTo>
                <a:lnTo>
                  <a:pt x="3219" y="2793"/>
                </a:lnTo>
                <a:lnTo>
                  <a:pt x="3242" y="2808"/>
                </a:lnTo>
                <a:lnTo>
                  <a:pt x="3265" y="2822"/>
                </a:lnTo>
                <a:lnTo>
                  <a:pt x="3288" y="2836"/>
                </a:lnTo>
                <a:lnTo>
                  <a:pt x="3311" y="2846"/>
                </a:lnTo>
                <a:lnTo>
                  <a:pt x="3334" y="2863"/>
                </a:lnTo>
                <a:lnTo>
                  <a:pt x="3356" y="2877"/>
                </a:lnTo>
                <a:lnTo>
                  <a:pt x="3380" y="2886"/>
                </a:lnTo>
                <a:lnTo>
                  <a:pt x="3402" y="2898"/>
                </a:lnTo>
                <a:lnTo>
                  <a:pt x="3425" y="2911"/>
                </a:lnTo>
                <a:lnTo>
                  <a:pt x="3447" y="2924"/>
                </a:lnTo>
                <a:lnTo>
                  <a:pt x="3471" y="2930"/>
                </a:lnTo>
                <a:lnTo>
                  <a:pt x="3494" y="2944"/>
                </a:lnTo>
                <a:lnTo>
                  <a:pt x="3517" y="2954"/>
                </a:lnTo>
                <a:lnTo>
                  <a:pt x="3539" y="2962"/>
                </a:lnTo>
                <a:lnTo>
                  <a:pt x="3562" y="2972"/>
                </a:lnTo>
                <a:lnTo>
                  <a:pt x="3585" y="2984"/>
                </a:lnTo>
                <a:lnTo>
                  <a:pt x="3608" y="2994"/>
                </a:lnTo>
                <a:lnTo>
                  <a:pt x="3630" y="3000"/>
                </a:lnTo>
                <a:lnTo>
                  <a:pt x="3653" y="3009"/>
                </a:lnTo>
                <a:lnTo>
                  <a:pt x="3676" y="3017"/>
                </a:lnTo>
                <a:lnTo>
                  <a:pt x="3700" y="3028"/>
                </a:lnTo>
                <a:lnTo>
                  <a:pt x="3722" y="3033"/>
                </a:lnTo>
                <a:lnTo>
                  <a:pt x="3745" y="3041"/>
                </a:lnTo>
                <a:lnTo>
                  <a:pt x="3767" y="3048"/>
                </a:lnTo>
                <a:lnTo>
                  <a:pt x="3790" y="3057"/>
                </a:lnTo>
                <a:lnTo>
                  <a:pt x="3813" y="3061"/>
                </a:lnTo>
                <a:lnTo>
                  <a:pt x="3836" y="3070"/>
                </a:lnTo>
                <a:lnTo>
                  <a:pt x="3859" y="3077"/>
                </a:lnTo>
                <a:lnTo>
                  <a:pt x="3882" y="3083"/>
                </a:lnTo>
                <a:lnTo>
                  <a:pt x="3904" y="3089"/>
                </a:lnTo>
                <a:lnTo>
                  <a:pt x="3928" y="3094"/>
                </a:lnTo>
                <a:lnTo>
                  <a:pt x="3950" y="3102"/>
                </a:lnTo>
                <a:lnTo>
                  <a:pt x="3973" y="3107"/>
                </a:lnTo>
                <a:lnTo>
                  <a:pt x="3996" y="3112"/>
                </a:lnTo>
                <a:lnTo>
                  <a:pt x="4018" y="3118"/>
                </a:lnTo>
                <a:lnTo>
                  <a:pt x="4041" y="3124"/>
                </a:lnTo>
                <a:lnTo>
                  <a:pt x="4065" y="3129"/>
                </a:lnTo>
                <a:lnTo>
                  <a:pt x="4087" y="3132"/>
                </a:lnTo>
                <a:lnTo>
                  <a:pt x="4111" y="3139"/>
                </a:lnTo>
                <a:lnTo>
                  <a:pt x="4133" y="3143"/>
                </a:lnTo>
                <a:lnTo>
                  <a:pt x="4156" y="3147"/>
                </a:lnTo>
                <a:lnTo>
                  <a:pt x="4178" y="3152"/>
                </a:lnTo>
                <a:lnTo>
                  <a:pt x="4201" y="3156"/>
                </a:lnTo>
                <a:lnTo>
                  <a:pt x="4224" y="3161"/>
                </a:lnTo>
                <a:lnTo>
                  <a:pt x="4248" y="3165"/>
                </a:lnTo>
                <a:lnTo>
                  <a:pt x="4270" y="3169"/>
                </a:lnTo>
                <a:lnTo>
                  <a:pt x="4293" y="3173"/>
                </a:lnTo>
                <a:lnTo>
                  <a:pt x="4315" y="3176"/>
                </a:lnTo>
                <a:lnTo>
                  <a:pt x="4339" y="3180"/>
                </a:lnTo>
                <a:lnTo>
                  <a:pt x="4361" y="3183"/>
                </a:lnTo>
                <a:lnTo>
                  <a:pt x="4384" y="3188"/>
                </a:lnTo>
                <a:lnTo>
                  <a:pt x="4406" y="3190"/>
                </a:lnTo>
                <a:lnTo>
                  <a:pt x="4430" y="3193"/>
                </a:lnTo>
                <a:lnTo>
                  <a:pt x="4453" y="3196"/>
                </a:lnTo>
                <a:lnTo>
                  <a:pt x="4476" y="3200"/>
                </a:lnTo>
                <a:lnTo>
                  <a:pt x="4498" y="3202"/>
                </a:lnTo>
                <a:lnTo>
                  <a:pt x="4522" y="3205"/>
                </a:lnTo>
                <a:lnTo>
                  <a:pt x="4543" y="3208"/>
                </a:lnTo>
                <a:lnTo>
                  <a:pt x="4567" y="3211"/>
                </a:lnTo>
                <a:lnTo>
                  <a:pt x="4589" y="3213"/>
                </a:lnTo>
                <a:lnTo>
                  <a:pt x="4613" y="3216"/>
                </a:lnTo>
                <a:lnTo>
                  <a:pt x="4636" y="3218"/>
                </a:lnTo>
                <a:lnTo>
                  <a:pt x="4659" y="3221"/>
                </a:lnTo>
                <a:lnTo>
                  <a:pt x="4681" y="3223"/>
                </a:lnTo>
                <a:lnTo>
                  <a:pt x="4704" y="3225"/>
                </a:lnTo>
                <a:lnTo>
                  <a:pt x="4726" y="3228"/>
                </a:lnTo>
                <a:lnTo>
                  <a:pt x="4750" y="3229"/>
                </a:lnTo>
                <a:lnTo>
                  <a:pt x="4772" y="3232"/>
                </a:lnTo>
                <a:lnTo>
                  <a:pt x="4796" y="3234"/>
                </a:lnTo>
                <a:lnTo>
                  <a:pt x="4818" y="3237"/>
                </a:lnTo>
                <a:lnTo>
                  <a:pt x="4841" y="3238"/>
                </a:lnTo>
                <a:lnTo>
                  <a:pt x="4864" y="3239"/>
                </a:lnTo>
                <a:lnTo>
                  <a:pt x="4887" y="3241"/>
                </a:lnTo>
                <a:lnTo>
                  <a:pt x="4909" y="3243"/>
                </a:lnTo>
                <a:lnTo>
                  <a:pt x="4932" y="3245"/>
                </a:lnTo>
                <a:lnTo>
                  <a:pt x="4954" y="3247"/>
                </a:lnTo>
                <a:lnTo>
                  <a:pt x="4978" y="3248"/>
                </a:lnTo>
                <a:lnTo>
                  <a:pt x="5001" y="3250"/>
                </a:lnTo>
                <a:lnTo>
                  <a:pt x="5024" y="3251"/>
                </a:lnTo>
                <a:lnTo>
                  <a:pt x="5046" y="3253"/>
                </a:lnTo>
                <a:lnTo>
                  <a:pt x="5068" y="3253"/>
                </a:lnTo>
                <a:lnTo>
                  <a:pt x="5092" y="3255"/>
                </a:lnTo>
                <a:lnTo>
                  <a:pt x="5115" y="3256"/>
                </a:lnTo>
                <a:lnTo>
                  <a:pt x="5137" y="3258"/>
                </a:lnTo>
                <a:lnTo>
                  <a:pt x="5159" y="3259"/>
                </a:lnTo>
                <a:lnTo>
                  <a:pt x="5184" y="3261"/>
                </a:lnTo>
                <a:lnTo>
                  <a:pt x="5207" y="3262"/>
                </a:lnTo>
                <a:lnTo>
                  <a:pt x="5229" y="3263"/>
                </a:lnTo>
                <a:lnTo>
                  <a:pt x="5251" y="3264"/>
                </a:lnTo>
                <a:lnTo>
                  <a:pt x="5274" y="3266"/>
                </a:lnTo>
                <a:lnTo>
                  <a:pt x="5298" y="3267"/>
                </a:lnTo>
                <a:lnTo>
                  <a:pt x="5320" y="3268"/>
                </a:lnTo>
                <a:lnTo>
                  <a:pt x="5343" y="3268"/>
                </a:lnTo>
                <a:lnTo>
                  <a:pt x="5366" y="3269"/>
                </a:lnTo>
                <a:lnTo>
                  <a:pt x="5388" y="3270"/>
                </a:lnTo>
                <a:lnTo>
                  <a:pt x="5412" y="3271"/>
                </a:lnTo>
                <a:lnTo>
                  <a:pt x="5435" y="3272"/>
                </a:lnTo>
                <a:lnTo>
                  <a:pt x="5457" y="3273"/>
                </a:lnTo>
                <a:lnTo>
                  <a:pt x="5479" y="3274"/>
                </a:lnTo>
                <a:lnTo>
                  <a:pt x="5502" y="3275"/>
                </a:lnTo>
                <a:lnTo>
                  <a:pt x="5526" y="3276"/>
                </a:lnTo>
                <a:lnTo>
                  <a:pt x="5549" y="3277"/>
                </a:lnTo>
                <a:lnTo>
                  <a:pt x="5571" y="3277"/>
                </a:lnTo>
                <a:lnTo>
                  <a:pt x="5594" y="3278"/>
                </a:lnTo>
                <a:lnTo>
                  <a:pt x="5616" y="3279"/>
                </a:lnTo>
                <a:lnTo>
                  <a:pt x="5640" y="3280"/>
                </a:lnTo>
                <a:lnTo>
                  <a:pt x="5640" y="3306"/>
                </a:lnTo>
                <a:lnTo>
                  <a:pt x="5616" y="3306"/>
                </a:lnTo>
                <a:lnTo>
                  <a:pt x="5594" y="3306"/>
                </a:lnTo>
                <a:lnTo>
                  <a:pt x="5571" y="3306"/>
                </a:lnTo>
                <a:lnTo>
                  <a:pt x="5549" y="3306"/>
                </a:lnTo>
                <a:lnTo>
                  <a:pt x="5526" y="3306"/>
                </a:lnTo>
                <a:lnTo>
                  <a:pt x="5502" y="3306"/>
                </a:lnTo>
                <a:lnTo>
                  <a:pt x="5479" y="3306"/>
                </a:lnTo>
                <a:lnTo>
                  <a:pt x="5457" y="3306"/>
                </a:lnTo>
                <a:lnTo>
                  <a:pt x="5435" y="3306"/>
                </a:lnTo>
                <a:lnTo>
                  <a:pt x="5412" y="3306"/>
                </a:lnTo>
                <a:lnTo>
                  <a:pt x="5388" y="3306"/>
                </a:lnTo>
                <a:lnTo>
                  <a:pt x="5366" y="3306"/>
                </a:lnTo>
                <a:lnTo>
                  <a:pt x="5343" y="3306"/>
                </a:lnTo>
                <a:lnTo>
                  <a:pt x="5320" y="3306"/>
                </a:lnTo>
                <a:lnTo>
                  <a:pt x="5298" y="3306"/>
                </a:lnTo>
                <a:lnTo>
                  <a:pt x="5274" y="3306"/>
                </a:lnTo>
                <a:lnTo>
                  <a:pt x="5251" y="3306"/>
                </a:lnTo>
                <a:lnTo>
                  <a:pt x="5229" y="3306"/>
                </a:lnTo>
                <a:lnTo>
                  <a:pt x="5207" y="3306"/>
                </a:lnTo>
                <a:lnTo>
                  <a:pt x="5184" y="3306"/>
                </a:lnTo>
                <a:lnTo>
                  <a:pt x="5159" y="3306"/>
                </a:lnTo>
                <a:lnTo>
                  <a:pt x="5137" y="3306"/>
                </a:lnTo>
                <a:lnTo>
                  <a:pt x="5115" y="3306"/>
                </a:lnTo>
                <a:lnTo>
                  <a:pt x="5092" y="3306"/>
                </a:lnTo>
                <a:lnTo>
                  <a:pt x="5068" y="3306"/>
                </a:lnTo>
                <a:lnTo>
                  <a:pt x="5046" y="3306"/>
                </a:lnTo>
                <a:lnTo>
                  <a:pt x="5024" y="3306"/>
                </a:lnTo>
                <a:lnTo>
                  <a:pt x="5001" y="3306"/>
                </a:lnTo>
                <a:lnTo>
                  <a:pt x="4978" y="3306"/>
                </a:lnTo>
                <a:lnTo>
                  <a:pt x="4954" y="3306"/>
                </a:lnTo>
                <a:lnTo>
                  <a:pt x="4932" y="3306"/>
                </a:lnTo>
                <a:lnTo>
                  <a:pt x="4909" y="3306"/>
                </a:lnTo>
                <a:lnTo>
                  <a:pt x="4887" y="3306"/>
                </a:lnTo>
                <a:lnTo>
                  <a:pt x="4864" y="3306"/>
                </a:lnTo>
                <a:lnTo>
                  <a:pt x="4841" y="3306"/>
                </a:lnTo>
                <a:lnTo>
                  <a:pt x="4818" y="3306"/>
                </a:lnTo>
                <a:lnTo>
                  <a:pt x="4796" y="3306"/>
                </a:lnTo>
                <a:lnTo>
                  <a:pt x="4772" y="3306"/>
                </a:lnTo>
                <a:lnTo>
                  <a:pt x="4750" y="3306"/>
                </a:lnTo>
                <a:lnTo>
                  <a:pt x="4726" y="3306"/>
                </a:lnTo>
                <a:lnTo>
                  <a:pt x="4704" y="3306"/>
                </a:lnTo>
                <a:lnTo>
                  <a:pt x="4681" y="3306"/>
                </a:lnTo>
                <a:lnTo>
                  <a:pt x="4659" y="3306"/>
                </a:lnTo>
                <a:lnTo>
                  <a:pt x="4636" y="3306"/>
                </a:lnTo>
                <a:lnTo>
                  <a:pt x="4613" y="3306"/>
                </a:lnTo>
                <a:lnTo>
                  <a:pt x="4589" y="3306"/>
                </a:lnTo>
                <a:lnTo>
                  <a:pt x="4567" y="3306"/>
                </a:lnTo>
                <a:lnTo>
                  <a:pt x="4543" y="3306"/>
                </a:lnTo>
                <a:lnTo>
                  <a:pt x="4522" y="3306"/>
                </a:lnTo>
                <a:lnTo>
                  <a:pt x="4498" y="3306"/>
                </a:lnTo>
                <a:lnTo>
                  <a:pt x="4476" y="3306"/>
                </a:lnTo>
                <a:lnTo>
                  <a:pt x="4453" y="3306"/>
                </a:lnTo>
                <a:lnTo>
                  <a:pt x="4430" y="3306"/>
                </a:lnTo>
                <a:lnTo>
                  <a:pt x="4406" y="3306"/>
                </a:lnTo>
                <a:lnTo>
                  <a:pt x="4384" y="3306"/>
                </a:lnTo>
                <a:lnTo>
                  <a:pt x="4361" y="3306"/>
                </a:lnTo>
                <a:lnTo>
                  <a:pt x="4339" y="3306"/>
                </a:lnTo>
                <a:lnTo>
                  <a:pt x="4315" y="3306"/>
                </a:lnTo>
                <a:lnTo>
                  <a:pt x="4293" y="3306"/>
                </a:lnTo>
                <a:lnTo>
                  <a:pt x="4270" y="3306"/>
                </a:lnTo>
                <a:lnTo>
                  <a:pt x="4248" y="3306"/>
                </a:lnTo>
                <a:lnTo>
                  <a:pt x="4224" y="3306"/>
                </a:lnTo>
                <a:lnTo>
                  <a:pt x="4201" y="3306"/>
                </a:lnTo>
                <a:lnTo>
                  <a:pt x="4178" y="3306"/>
                </a:lnTo>
                <a:lnTo>
                  <a:pt x="4156" y="3306"/>
                </a:lnTo>
                <a:lnTo>
                  <a:pt x="4133" y="3306"/>
                </a:lnTo>
                <a:lnTo>
                  <a:pt x="4111" y="3306"/>
                </a:lnTo>
                <a:lnTo>
                  <a:pt x="4087" y="3306"/>
                </a:lnTo>
                <a:lnTo>
                  <a:pt x="4065" y="3306"/>
                </a:lnTo>
                <a:lnTo>
                  <a:pt x="4041" y="3306"/>
                </a:lnTo>
                <a:lnTo>
                  <a:pt x="4018" y="3306"/>
                </a:lnTo>
                <a:lnTo>
                  <a:pt x="3996" y="3306"/>
                </a:lnTo>
                <a:lnTo>
                  <a:pt x="3973" y="3306"/>
                </a:lnTo>
                <a:lnTo>
                  <a:pt x="3950" y="3306"/>
                </a:lnTo>
                <a:lnTo>
                  <a:pt x="3928" y="3306"/>
                </a:lnTo>
                <a:lnTo>
                  <a:pt x="3904" y="3306"/>
                </a:lnTo>
                <a:lnTo>
                  <a:pt x="3882" y="3306"/>
                </a:lnTo>
                <a:lnTo>
                  <a:pt x="3859" y="3306"/>
                </a:lnTo>
                <a:lnTo>
                  <a:pt x="3836" y="3306"/>
                </a:lnTo>
                <a:lnTo>
                  <a:pt x="3813" y="3306"/>
                </a:lnTo>
                <a:lnTo>
                  <a:pt x="3790" y="3306"/>
                </a:lnTo>
                <a:lnTo>
                  <a:pt x="3767" y="3306"/>
                </a:lnTo>
                <a:lnTo>
                  <a:pt x="3745" y="3306"/>
                </a:lnTo>
                <a:lnTo>
                  <a:pt x="3722" y="3306"/>
                </a:lnTo>
                <a:lnTo>
                  <a:pt x="3700" y="3306"/>
                </a:lnTo>
                <a:lnTo>
                  <a:pt x="3676" y="3306"/>
                </a:lnTo>
                <a:lnTo>
                  <a:pt x="3653" y="3306"/>
                </a:lnTo>
                <a:lnTo>
                  <a:pt x="3630" y="3306"/>
                </a:lnTo>
                <a:lnTo>
                  <a:pt x="3608" y="3306"/>
                </a:lnTo>
                <a:lnTo>
                  <a:pt x="3585" y="3306"/>
                </a:lnTo>
                <a:lnTo>
                  <a:pt x="3562" y="3306"/>
                </a:lnTo>
                <a:lnTo>
                  <a:pt x="3539" y="3306"/>
                </a:lnTo>
                <a:lnTo>
                  <a:pt x="3517" y="3306"/>
                </a:lnTo>
                <a:lnTo>
                  <a:pt x="3494" y="3306"/>
                </a:lnTo>
                <a:lnTo>
                  <a:pt x="3471" y="3306"/>
                </a:lnTo>
                <a:lnTo>
                  <a:pt x="3447" y="3306"/>
                </a:lnTo>
                <a:lnTo>
                  <a:pt x="3425" y="3306"/>
                </a:lnTo>
                <a:lnTo>
                  <a:pt x="3402" y="3306"/>
                </a:lnTo>
                <a:lnTo>
                  <a:pt x="3380" y="3306"/>
                </a:lnTo>
                <a:lnTo>
                  <a:pt x="3356" y="3306"/>
                </a:lnTo>
                <a:lnTo>
                  <a:pt x="3334" y="3306"/>
                </a:lnTo>
                <a:lnTo>
                  <a:pt x="3311" y="3306"/>
                </a:lnTo>
                <a:lnTo>
                  <a:pt x="3288" y="3306"/>
                </a:lnTo>
                <a:lnTo>
                  <a:pt x="3265" y="3306"/>
                </a:lnTo>
                <a:lnTo>
                  <a:pt x="3242" y="3306"/>
                </a:lnTo>
                <a:lnTo>
                  <a:pt x="3219" y="3306"/>
                </a:lnTo>
                <a:lnTo>
                  <a:pt x="3197" y="3306"/>
                </a:lnTo>
                <a:lnTo>
                  <a:pt x="3174" y="3306"/>
                </a:lnTo>
                <a:lnTo>
                  <a:pt x="3152" y="3306"/>
                </a:lnTo>
                <a:lnTo>
                  <a:pt x="3128" y="3306"/>
                </a:lnTo>
                <a:lnTo>
                  <a:pt x="3106" y="3306"/>
                </a:lnTo>
                <a:lnTo>
                  <a:pt x="3082" y="3306"/>
                </a:lnTo>
                <a:lnTo>
                  <a:pt x="3060" y="3306"/>
                </a:lnTo>
                <a:lnTo>
                  <a:pt x="3037" y="3306"/>
                </a:lnTo>
                <a:lnTo>
                  <a:pt x="3014" y="3306"/>
                </a:lnTo>
                <a:lnTo>
                  <a:pt x="2991" y="3306"/>
                </a:lnTo>
                <a:lnTo>
                  <a:pt x="2969" y="3306"/>
                </a:lnTo>
                <a:lnTo>
                  <a:pt x="2946" y="3306"/>
                </a:lnTo>
                <a:lnTo>
                  <a:pt x="2924" y="3306"/>
                </a:lnTo>
                <a:lnTo>
                  <a:pt x="2899" y="3306"/>
                </a:lnTo>
                <a:lnTo>
                  <a:pt x="2877" y="3306"/>
                </a:lnTo>
                <a:lnTo>
                  <a:pt x="2854" y="3306"/>
                </a:lnTo>
                <a:lnTo>
                  <a:pt x="2831" y="3306"/>
                </a:lnTo>
                <a:lnTo>
                  <a:pt x="2809" y="3306"/>
                </a:lnTo>
                <a:lnTo>
                  <a:pt x="2786" y="3306"/>
                </a:lnTo>
                <a:lnTo>
                  <a:pt x="2763" y="3306"/>
                </a:lnTo>
                <a:lnTo>
                  <a:pt x="2741" y="3306"/>
                </a:lnTo>
                <a:lnTo>
                  <a:pt x="2716" y="3306"/>
                </a:lnTo>
                <a:lnTo>
                  <a:pt x="2694" y="3306"/>
                </a:lnTo>
                <a:lnTo>
                  <a:pt x="2671" y="3306"/>
                </a:lnTo>
                <a:lnTo>
                  <a:pt x="2649" y="3306"/>
                </a:lnTo>
                <a:lnTo>
                  <a:pt x="2626" y="3306"/>
                </a:lnTo>
                <a:lnTo>
                  <a:pt x="2603" y="3306"/>
                </a:lnTo>
                <a:lnTo>
                  <a:pt x="2580" y="3306"/>
                </a:lnTo>
                <a:lnTo>
                  <a:pt x="2558" y="3306"/>
                </a:lnTo>
                <a:lnTo>
                  <a:pt x="2534" y="3306"/>
                </a:lnTo>
                <a:lnTo>
                  <a:pt x="2512" y="3306"/>
                </a:lnTo>
                <a:lnTo>
                  <a:pt x="2488" y="3306"/>
                </a:lnTo>
                <a:lnTo>
                  <a:pt x="2466" y="3306"/>
                </a:lnTo>
                <a:lnTo>
                  <a:pt x="2443" y="3306"/>
                </a:lnTo>
                <a:lnTo>
                  <a:pt x="2421" y="3306"/>
                </a:lnTo>
                <a:lnTo>
                  <a:pt x="2398" y="3306"/>
                </a:lnTo>
                <a:lnTo>
                  <a:pt x="2375" y="3306"/>
                </a:lnTo>
                <a:lnTo>
                  <a:pt x="2352" y="3306"/>
                </a:lnTo>
                <a:lnTo>
                  <a:pt x="2329" y="3306"/>
                </a:lnTo>
                <a:lnTo>
                  <a:pt x="2306" y="3306"/>
                </a:lnTo>
                <a:lnTo>
                  <a:pt x="2284" y="3306"/>
                </a:lnTo>
                <a:lnTo>
                  <a:pt x="2260" y="3306"/>
                </a:lnTo>
                <a:lnTo>
                  <a:pt x="2238" y="3306"/>
                </a:lnTo>
                <a:lnTo>
                  <a:pt x="2215" y="3306"/>
                </a:lnTo>
                <a:lnTo>
                  <a:pt x="2193" y="3306"/>
                </a:lnTo>
                <a:lnTo>
                  <a:pt x="2169" y="3306"/>
                </a:lnTo>
                <a:lnTo>
                  <a:pt x="2146" y="3306"/>
                </a:lnTo>
                <a:lnTo>
                  <a:pt x="2123" y="3306"/>
                </a:lnTo>
                <a:lnTo>
                  <a:pt x="2101" y="3306"/>
                </a:lnTo>
                <a:lnTo>
                  <a:pt x="2078" y="3306"/>
                </a:lnTo>
                <a:lnTo>
                  <a:pt x="2055" y="3306"/>
                </a:lnTo>
                <a:lnTo>
                  <a:pt x="2032" y="3306"/>
                </a:lnTo>
                <a:lnTo>
                  <a:pt x="2010" y="3306"/>
                </a:lnTo>
                <a:lnTo>
                  <a:pt x="1987" y="3306"/>
                </a:lnTo>
                <a:lnTo>
                  <a:pt x="1964" y="3306"/>
                </a:lnTo>
                <a:lnTo>
                  <a:pt x="1940" y="3306"/>
                </a:lnTo>
                <a:lnTo>
                  <a:pt x="1918" y="3306"/>
                </a:lnTo>
                <a:lnTo>
                  <a:pt x="1895" y="3306"/>
                </a:lnTo>
                <a:lnTo>
                  <a:pt x="1873" y="3306"/>
                </a:lnTo>
                <a:lnTo>
                  <a:pt x="1850" y="3306"/>
                </a:lnTo>
                <a:lnTo>
                  <a:pt x="1827" y="3306"/>
                </a:lnTo>
                <a:lnTo>
                  <a:pt x="1804" y="3306"/>
                </a:lnTo>
                <a:lnTo>
                  <a:pt x="1781" y="3306"/>
                </a:lnTo>
                <a:lnTo>
                  <a:pt x="1758" y="3306"/>
                </a:lnTo>
                <a:lnTo>
                  <a:pt x="1736" y="3306"/>
                </a:lnTo>
                <a:lnTo>
                  <a:pt x="1712" y="3306"/>
                </a:lnTo>
                <a:lnTo>
                  <a:pt x="1690" y="3306"/>
                </a:lnTo>
                <a:lnTo>
                  <a:pt x="1667" y="3306"/>
                </a:lnTo>
                <a:lnTo>
                  <a:pt x="1644" y="3306"/>
                </a:lnTo>
                <a:lnTo>
                  <a:pt x="1622" y="3306"/>
                </a:lnTo>
                <a:lnTo>
                  <a:pt x="1599" y="3306"/>
                </a:lnTo>
                <a:lnTo>
                  <a:pt x="1575" y="3306"/>
                </a:lnTo>
                <a:lnTo>
                  <a:pt x="1553" y="3306"/>
                </a:lnTo>
                <a:lnTo>
                  <a:pt x="1529" y="3306"/>
                </a:lnTo>
                <a:lnTo>
                  <a:pt x="1507" y="3306"/>
                </a:lnTo>
                <a:lnTo>
                  <a:pt x="1484" y="3306"/>
                </a:lnTo>
                <a:lnTo>
                  <a:pt x="1462" y="3306"/>
                </a:lnTo>
                <a:lnTo>
                  <a:pt x="1439" y="3306"/>
                </a:lnTo>
                <a:lnTo>
                  <a:pt x="1416" y="3306"/>
                </a:lnTo>
                <a:lnTo>
                  <a:pt x="1392" y="3306"/>
                </a:lnTo>
                <a:lnTo>
                  <a:pt x="1370" y="3306"/>
                </a:lnTo>
                <a:lnTo>
                  <a:pt x="1347" y="3306"/>
                </a:lnTo>
                <a:lnTo>
                  <a:pt x="1325" y="3306"/>
                </a:lnTo>
                <a:lnTo>
                  <a:pt x="1301" y="3306"/>
                </a:lnTo>
                <a:lnTo>
                  <a:pt x="1279" y="3306"/>
                </a:lnTo>
                <a:lnTo>
                  <a:pt x="1256" y="3306"/>
                </a:lnTo>
                <a:lnTo>
                  <a:pt x="1234" y="3306"/>
                </a:lnTo>
                <a:lnTo>
                  <a:pt x="1210" y="3306"/>
                </a:lnTo>
                <a:lnTo>
                  <a:pt x="1187" y="3306"/>
                </a:lnTo>
                <a:lnTo>
                  <a:pt x="1164" y="3306"/>
                </a:lnTo>
                <a:lnTo>
                  <a:pt x="1142" y="3306"/>
                </a:lnTo>
                <a:lnTo>
                  <a:pt x="1118" y="3306"/>
                </a:lnTo>
                <a:lnTo>
                  <a:pt x="1097" y="3306"/>
                </a:lnTo>
                <a:lnTo>
                  <a:pt x="1073" y="3306"/>
                </a:lnTo>
                <a:lnTo>
                  <a:pt x="1051" y="3306"/>
                </a:lnTo>
                <a:lnTo>
                  <a:pt x="1027" y="3306"/>
                </a:lnTo>
                <a:lnTo>
                  <a:pt x="1004" y="3306"/>
                </a:lnTo>
                <a:lnTo>
                  <a:pt x="981" y="3306"/>
                </a:lnTo>
                <a:lnTo>
                  <a:pt x="959" y="3306"/>
                </a:lnTo>
                <a:lnTo>
                  <a:pt x="936" y="3306"/>
                </a:lnTo>
                <a:lnTo>
                  <a:pt x="914" y="3306"/>
                </a:lnTo>
                <a:lnTo>
                  <a:pt x="890" y="3306"/>
                </a:lnTo>
                <a:lnTo>
                  <a:pt x="868" y="3306"/>
                </a:lnTo>
                <a:lnTo>
                  <a:pt x="844" y="3306"/>
                </a:lnTo>
                <a:lnTo>
                  <a:pt x="822" y="3306"/>
                </a:lnTo>
                <a:lnTo>
                  <a:pt x="799" y="3306"/>
                </a:lnTo>
                <a:lnTo>
                  <a:pt x="776" y="3306"/>
                </a:lnTo>
                <a:lnTo>
                  <a:pt x="753" y="3306"/>
                </a:lnTo>
                <a:lnTo>
                  <a:pt x="731" y="3306"/>
                </a:lnTo>
                <a:lnTo>
                  <a:pt x="708" y="3306"/>
                </a:lnTo>
                <a:lnTo>
                  <a:pt x="686" y="3306"/>
                </a:lnTo>
                <a:lnTo>
                  <a:pt x="662" y="3306"/>
                </a:lnTo>
                <a:lnTo>
                  <a:pt x="639" y="3306"/>
                </a:lnTo>
                <a:lnTo>
                  <a:pt x="616" y="3306"/>
                </a:lnTo>
                <a:lnTo>
                  <a:pt x="594" y="3306"/>
                </a:lnTo>
                <a:lnTo>
                  <a:pt x="572" y="3306"/>
                </a:lnTo>
                <a:lnTo>
                  <a:pt x="548" y="3306"/>
                </a:lnTo>
                <a:lnTo>
                  <a:pt x="525" y="3306"/>
                </a:lnTo>
                <a:lnTo>
                  <a:pt x="503" y="3306"/>
                </a:lnTo>
                <a:lnTo>
                  <a:pt x="481" y="3306"/>
                </a:lnTo>
                <a:lnTo>
                  <a:pt x="456" y="3306"/>
                </a:lnTo>
                <a:lnTo>
                  <a:pt x="433" y="3306"/>
                </a:lnTo>
                <a:lnTo>
                  <a:pt x="411" y="3306"/>
                </a:lnTo>
                <a:lnTo>
                  <a:pt x="389" y="3306"/>
                </a:lnTo>
                <a:lnTo>
                  <a:pt x="366" y="3306"/>
                </a:lnTo>
                <a:lnTo>
                  <a:pt x="342" y="3306"/>
                </a:lnTo>
                <a:lnTo>
                  <a:pt x="320" y="3306"/>
                </a:lnTo>
                <a:lnTo>
                  <a:pt x="297" y="3306"/>
                </a:lnTo>
                <a:lnTo>
                  <a:pt x="274" y="3306"/>
                </a:lnTo>
                <a:lnTo>
                  <a:pt x="252" y="3306"/>
                </a:lnTo>
                <a:lnTo>
                  <a:pt x="228" y="3306"/>
                </a:lnTo>
                <a:lnTo>
                  <a:pt x="205" y="3306"/>
                </a:lnTo>
                <a:lnTo>
                  <a:pt x="183" y="3306"/>
                </a:lnTo>
                <a:lnTo>
                  <a:pt x="161" y="3306"/>
                </a:lnTo>
                <a:lnTo>
                  <a:pt x="138" y="3306"/>
                </a:lnTo>
                <a:lnTo>
                  <a:pt x="114" y="3306"/>
                </a:lnTo>
                <a:lnTo>
                  <a:pt x="91" y="3306"/>
                </a:lnTo>
                <a:lnTo>
                  <a:pt x="69" y="3306"/>
                </a:lnTo>
                <a:lnTo>
                  <a:pt x="46" y="3306"/>
                </a:lnTo>
                <a:lnTo>
                  <a:pt x="24" y="3306"/>
                </a:lnTo>
                <a:lnTo>
                  <a:pt x="0" y="3306"/>
                </a:lnTo>
              </a:path>
            </a:pathLst>
          </a:custGeom>
          <a:solidFill>
            <a:srgbClr val="ffff99"/>
          </a:solidFill>
          <a:ln cap="rnd" w="1260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314360" y="114480"/>
            <a:ext cx="17640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494160" y="114480"/>
            <a:ext cx="18396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681520" y="114480"/>
            <a:ext cx="18432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7870680" y="114480"/>
            <a:ext cx="184320" cy="6202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720" y="6283440"/>
            <a:ext cx="126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Comic Sans MS"/>
              </a:rPr>
              <a:t>High</a:t>
            </a:r>
            <a:endParaRPr b="0" lang="en-US" sz="3600" spc="-1" strike="noStrike">
              <a:solidFill>
                <a:srgbClr val="000000"/>
              </a:solidFill>
              <a:latin typeface="Arial"/>
            </a:endParaRPr>
          </a:p>
        </p:txBody>
      </p:sp>
      <p:sp>
        <p:nvSpPr>
          <p:cNvPr id="563" name=""/>
          <p:cNvSpPr/>
          <p:nvPr/>
        </p:nvSpPr>
        <p:spPr>
          <a:xfrm>
            <a:off x="1852200" y="628344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Comic Sans MS"/>
              </a:rPr>
              <a:t>Good</a:t>
            </a:r>
            <a:endParaRPr b="0" lang="en-US" sz="3600" spc="-1" strike="noStrike">
              <a:solidFill>
                <a:srgbClr val="000000"/>
              </a:solidFill>
              <a:latin typeface="Arial"/>
            </a:endParaRPr>
          </a:p>
        </p:txBody>
      </p:sp>
      <p:sp>
        <p:nvSpPr>
          <p:cNvPr id="564" name=""/>
          <p:cNvSpPr/>
          <p:nvPr/>
        </p:nvSpPr>
        <p:spPr>
          <a:xfrm>
            <a:off x="3499560" y="6283440"/>
            <a:ext cx="240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33"/>
                </a:solidFill>
                <a:latin typeface="Comic Sans MS"/>
              </a:rPr>
              <a:t>Moderate</a:t>
            </a:r>
            <a:endParaRPr b="0" lang="en-US" sz="3600" spc="-1" strike="noStrike">
              <a:solidFill>
                <a:srgbClr val="000000"/>
              </a:solidFill>
              <a:latin typeface="Arial"/>
            </a:endParaRPr>
          </a:p>
        </p:txBody>
      </p:sp>
      <p:sp>
        <p:nvSpPr>
          <p:cNvPr id="565" name=""/>
          <p:cNvSpPr/>
          <p:nvPr/>
        </p:nvSpPr>
        <p:spPr>
          <a:xfrm>
            <a:off x="6128640" y="6283440"/>
            <a:ext cx="124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6600"/>
                </a:solidFill>
                <a:latin typeface="Comic Sans MS"/>
              </a:rPr>
              <a:t>Poor</a:t>
            </a:r>
            <a:endParaRPr b="0" lang="en-US" sz="3600" spc="-1" strike="noStrike">
              <a:solidFill>
                <a:srgbClr val="000000"/>
              </a:solidFill>
              <a:latin typeface="Arial"/>
            </a:endParaRPr>
          </a:p>
        </p:txBody>
      </p:sp>
      <p:sp>
        <p:nvSpPr>
          <p:cNvPr id="566" name=""/>
          <p:cNvSpPr/>
          <p:nvPr/>
        </p:nvSpPr>
        <p:spPr>
          <a:xfrm>
            <a:off x="7985880" y="6283440"/>
            <a:ext cx="105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omic Sans MS"/>
              </a:rPr>
              <a:t>Bad</a:t>
            </a:r>
            <a:endParaRPr b="0" lang="en-US" sz="3600" spc="-1" strike="noStrike">
              <a:solidFill>
                <a:srgbClr val="000000"/>
              </a:solidFill>
              <a:latin typeface="Arial"/>
            </a:endParaRPr>
          </a:p>
        </p:txBody>
      </p:sp>
      <p:sp>
        <p:nvSpPr>
          <p:cNvPr id="567" name=""/>
          <p:cNvSpPr/>
          <p:nvPr/>
        </p:nvSpPr>
        <p:spPr>
          <a:xfrm>
            <a:off x="785880" y="1320840"/>
            <a:ext cx="397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100 % sure status is worse than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sp>
        <p:nvSpPr>
          <p:cNvPr id="568" name=""/>
          <p:cNvSpPr/>
          <p:nvPr/>
        </p:nvSpPr>
        <p:spPr>
          <a:xfrm>
            <a:off x="2340000" y="260280"/>
            <a:ext cx="2244600" cy="2921040"/>
          </a:xfrm>
          <a:custGeom>
            <a:avLst/>
            <a:gdLst/>
            <a:ahLst/>
            <a:rect l="l" t="t" r="r" b="b"/>
            <a:pathLst>
              <a:path w="5641" h="3307">
                <a:moveTo>
                  <a:pt x="0" y="3306"/>
                </a:moveTo>
                <a:lnTo>
                  <a:pt x="24" y="3306"/>
                </a:lnTo>
                <a:lnTo>
                  <a:pt x="46" y="3306"/>
                </a:lnTo>
                <a:lnTo>
                  <a:pt x="69" y="3306"/>
                </a:lnTo>
                <a:lnTo>
                  <a:pt x="91" y="3306"/>
                </a:lnTo>
                <a:lnTo>
                  <a:pt x="114" y="3306"/>
                </a:lnTo>
                <a:lnTo>
                  <a:pt x="138" y="3306"/>
                </a:lnTo>
                <a:lnTo>
                  <a:pt x="161" y="3305"/>
                </a:lnTo>
                <a:lnTo>
                  <a:pt x="183" y="3303"/>
                </a:lnTo>
                <a:lnTo>
                  <a:pt x="205" y="3300"/>
                </a:lnTo>
                <a:lnTo>
                  <a:pt x="228" y="3296"/>
                </a:lnTo>
                <a:lnTo>
                  <a:pt x="252" y="3287"/>
                </a:lnTo>
                <a:lnTo>
                  <a:pt x="274" y="3275"/>
                </a:lnTo>
                <a:lnTo>
                  <a:pt x="297" y="3257"/>
                </a:lnTo>
                <a:lnTo>
                  <a:pt x="320" y="3233"/>
                </a:lnTo>
                <a:lnTo>
                  <a:pt x="342" y="3202"/>
                </a:lnTo>
                <a:lnTo>
                  <a:pt x="366" y="3163"/>
                </a:lnTo>
                <a:lnTo>
                  <a:pt x="389" y="3116"/>
                </a:lnTo>
                <a:lnTo>
                  <a:pt x="411" y="3059"/>
                </a:lnTo>
                <a:lnTo>
                  <a:pt x="433" y="2995"/>
                </a:lnTo>
                <a:lnTo>
                  <a:pt x="456" y="2920"/>
                </a:lnTo>
                <a:lnTo>
                  <a:pt x="481" y="2837"/>
                </a:lnTo>
                <a:lnTo>
                  <a:pt x="503" y="2746"/>
                </a:lnTo>
                <a:lnTo>
                  <a:pt x="525" y="2646"/>
                </a:lnTo>
                <a:lnTo>
                  <a:pt x="548" y="2541"/>
                </a:lnTo>
                <a:lnTo>
                  <a:pt x="572" y="2431"/>
                </a:lnTo>
                <a:lnTo>
                  <a:pt x="594" y="2314"/>
                </a:lnTo>
                <a:lnTo>
                  <a:pt x="616" y="2194"/>
                </a:lnTo>
                <a:lnTo>
                  <a:pt x="639" y="2069"/>
                </a:lnTo>
                <a:lnTo>
                  <a:pt x="662" y="1947"/>
                </a:lnTo>
                <a:lnTo>
                  <a:pt x="686" y="1819"/>
                </a:lnTo>
                <a:lnTo>
                  <a:pt x="708" y="1694"/>
                </a:lnTo>
                <a:lnTo>
                  <a:pt x="731" y="1568"/>
                </a:lnTo>
                <a:lnTo>
                  <a:pt x="753" y="1444"/>
                </a:lnTo>
                <a:lnTo>
                  <a:pt x="776" y="1324"/>
                </a:lnTo>
                <a:lnTo>
                  <a:pt x="799" y="1205"/>
                </a:lnTo>
                <a:lnTo>
                  <a:pt x="822" y="1099"/>
                </a:lnTo>
                <a:lnTo>
                  <a:pt x="844" y="976"/>
                </a:lnTo>
                <a:lnTo>
                  <a:pt x="868" y="884"/>
                </a:lnTo>
                <a:lnTo>
                  <a:pt x="890" y="771"/>
                </a:lnTo>
                <a:lnTo>
                  <a:pt x="914" y="691"/>
                </a:lnTo>
                <a:lnTo>
                  <a:pt x="936" y="594"/>
                </a:lnTo>
                <a:lnTo>
                  <a:pt x="959" y="513"/>
                </a:lnTo>
                <a:lnTo>
                  <a:pt x="981" y="437"/>
                </a:lnTo>
                <a:lnTo>
                  <a:pt x="1004" y="368"/>
                </a:lnTo>
                <a:lnTo>
                  <a:pt x="1027" y="305"/>
                </a:lnTo>
                <a:lnTo>
                  <a:pt x="1051" y="249"/>
                </a:lnTo>
                <a:lnTo>
                  <a:pt x="1073" y="198"/>
                </a:lnTo>
                <a:lnTo>
                  <a:pt x="1097" y="153"/>
                </a:lnTo>
                <a:lnTo>
                  <a:pt x="1118" y="114"/>
                </a:lnTo>
                <a:lnTo>
                  <a:pt x="1142" y="82"/>
                </a:lnTo>
                <a:lnTo>
                  <a:pt x="1164" y="55"/>
                </a:lnTo>
                <a:lnTo>
                  <a:pt x="1187" y="34"/>
                </a:lnTo>
                <a:lnTo>
                  <a:pt x="1210" y="18"/>
                </a:lnTo>
                <a:lnTo>
                  <a:pt x="1234" y="7"/>
                </a:lnTo>
                <a:lnTo>
                  <a:pt x="1256" y="1"/>
                </a:lnTo>
                <a:lnTo>
                  <a:pt x="1279" y="0"/>
                </a:lnTo>
                <a:lnTo>
                  <a:pt x="1301" y="3"/>
                </a:lnTo>
                <a:lnTo>
                  <a:pt x="1325" y="10"/>
                </a:lnTo>
                <a:lnTo>
                  <a:pt x="1347" y="23"/>
                </a:lnTo>
                <a:lnTo>
                  <a:pt x="1370" y="38"/>
                </a:lnTo>
                <a:lnTo>
                  <a:pt x="1392" y="56"/>
                </a:lnTo>
                <a:lnTo>
                  <a:pt x="1416" y="79"/>
                </a:lnTo>
                <a:lnTo>
                  <a:pt x="1439" y="104"/>
                </a:lnTo>
                <a:lnTo>
                  <a:pt x="1462" y="131"/>
                </a:lnTo>
                <a:lnTo>
                  <a:pt x="1484" y="162"/>
                </a:lnTo>
                <a:lnTo>
                  <a:pt x="1507" y="195"/>
                </a:lnTo>
                <a:lnTo>
                  <a:pt x="1529" y="231"/>
                </a:lnTo>
                <a:lnTo>
                  <a:pt x="1553" y="267"/>
                </a:lnTo>
                <a:lnTo>
                  <a:pt x="1575" y="306"/>
                </a:lnTo>
                <a:lnTo>
                  <a:pt x="1599" y="346"/>
                </a:lnTo>
                <a:lnTo>
                  <a:pt x="1622" y="388"/>
                </a:lnTo>
                <a:lnTo>
                  <a:pt x="1644" y="432"/>
                </a:lnTo>
                <a:lnTo>
                  <a:pt x="1667" y="476"/>
                </a:lnTo>
                <a:lnTo>
                  <a:pt x="1690" y="522"/>
                </a:lnTo>
                <a:lnTo>
                  <a:pt x="1712" y="568"/>
                </a:lnTo>
                <a:lnTo>
                  <a:pt x="1736" y="614"/>
                </a:lnTo>
                <a:lnTo>
                  <a:pt x="1758" y="661"/>
                </a:lnTo>
                <a:lnTo>
                  <a:pt x="1781" y="710"/>
                </a:lnTo>
                <a:lnTo>
                  <a:pt x="1804" y="758"/>
                </a:lnTo>
                <a:lnTo>
                  <a:pt x="1827" y="807"/>
                </a:lnTo>
                <a:lnTo>
                  <a:pt x="1850" y="855"/>
                </a:lnTo>
                <a:lnTo>
                  <a:pt x="1873" y="903"/>
                </a:lnTo>
                <a:lnTo>
                  <a:pt x="1895" y="952"/>
                </a:lnTo>
                <a:lnTo>
                  <a:pt x="1918" y="1001"/>
                </a:lnTo>
                <a:lnTo>
                  <a:pt x="1940" y="1049"/>
                </a:lnTo>
                <a:lnTo>
                  <a:pt x="1964" y="1098"/>
                </a:lnTo>
                <a:lnTo>
                  <a:pt x="1987" y="1145"/>
                </a:lnTo>
                <a:lnTo>
                  <a:pt x="2010" y="1193"/>
                </a:lnTo>
                <a:lnTo>
                  <a:pt x="2032" y="1240"/>
                </a:lnTo>
                <a:lnTo>
                  <a:pt x="2055" y="1286"/>
                </a:lnTo>
                <a:lnTo>
                  <a:pt x="2078" y="1333"/>
                </a:lnTo>
                <a:lnTo>
                  <a:pt x="2101" y="1377"/>
                </a:lnTo>
                <a:lnTo>
                  <a:pt x="2123" y="1423"/>
                </a:lnTo>
                <a:lnTo>
                  <a:pt x="2146" y="1467"/>
                </a:lnTo>
                <a:lnTo>
                  <a:pt x="2169" y="1511"/>
                </a:lnTo>
                <a:lnTo>
                  <a:pt x="2193" y="1554"/>
                </a:lnTo>
                <a:lnTo>
                  <a:pt x="2215" y="1597"/>
                </a:lnTo>
                <a:lnTo>
                  <a:pt x="2238" y="1639"/>
                </a:lnTo>
                <a:lnTo>
                  <a:pt x="2260" y="1680"/>
                </a:lnTo>
                <a:lnTo>
                  <a:pt x="2284" y="1721"/>
                </a:lnTo>
                <a:lnTo>
                  <a:pt x="2306" y="1760"/>
                </a:lnTo>
                <a:lnTo>
                  <a:pt x="2329" y="1799"/>
                </a:lnTo>
                <a:lnTo>
                  <a:pt x="2352" y="1838"/>
                </a:lnTo>
                <a:lnTo>
                  <a:pt x="2375" y="1875"/>
                </a:lnTo>
                <a:lnTo>
                  <a:pt x="2398" y="1913"/>
                </a:lnTo>
                <a:lnTo>
                  <a:pt x="2421" y="1948"/>
                </a:lnTo>
                <a:lnTo>
                  <a:pt x="2443" y="1983"/>
                </a:lnTo>
                <a:lnTo>
                  <a:pt x="2466" y="2018"/>
                </a:lnTo>
                <a:lnTo>
                  <a:pt x="2488" y="2052"/>
                </a:lnTo>
                <a:lnTo>
                  <a:pt x="2512" y="2085"/>
                </a:lnTo>
                <a:lnTo>
                  <a:pt x="2534" y="2117"/>
                </a:lnTo>
                <a:lnTo>
                  <a:pt x="2558" y="2148"/>
                </a:lnTo>
                <a:lnTo>
                  <a:pt x="2580" y="2192"/>
                </a:lnTo>
                <a:lnTo>
                  <a:pt x="2603" y="2188"/>
                </a:lnTo>
                <a:lnTo>
                  <a:pt x="2626" y="2242"/>
                </a:lnTo>
                <a:lnTo>
                  <a:pt x="2649" y="2275"/>
                </a:lnTo>
                <a:lnTo>
                  <a:pt x="2671" y="2294"/>
                </a:lnTo>
                <a:lnTo>
                  <a:pt x="2694" y="2314"/>
                </a:lnTo>
                <a:lnTo>
                  <a:pt x="2716" y="2360"/>
                </a:lnTo>
                <a:lnTo>
                  <a:pt x="2741" y="2389"/>
                </a:lnTo>
                <a:lnTo>
                  <a:pt x="2763" y="2392"/>
                </a:lnTo>
                <a:lnTo>
                  <a:pt x="2786" y="2424"/>
                </a:lnTo>
                <a:lnTo>
                  <a:pt x="2809" y="2450"/>
                </a:lnTo>
                <a:lnTo>
                  <a:pt x="2831" y="2477"/>
                </a:lnTo>
                <a:lnTo>
                  <a:pt x="2854" y="2503"/>
                </a:lnTo>
                <a:lnTo>
                  <a:pt x="2877" y="2516"/>
                </a:lnTo>
                <a:lnTo>
                  <a:pt x="2899" y="2550"/>
                </a:lnTo>
                <a:lnTo>
                  <a:pt x="2924" y="2555"/>
                </a:lnTo>
                <a:lnTo>
                  <a:pt x="2946" y="2587"/>
                </a:lnTo>
                <a:lnTo>
                  <a:pt x="2969" y="2602"/>
                </a:lnTo>
                <a:lnTo>
                  <a:pt x="2991" y="2623"/>
                </a:lnTo>
                <a:lnTo>
                  <a:pt x="3014" y="2644"/>
                </a:lnTo>
                <a:lnTo>
                  <a:pt x="3037" y="2663"/>
                </a:lnTo>
                <a:lnTo>
                  <a:pt x="3060" y="2677"/>
                </a:lnTo>
                <a:lnTo>
                  <a:pt x="3082" y="2702"/>
                </a:lnTo>
                <a:lnTo>
                  <a:pt x="3106" y="2708"/>
                </a:lnTo>
                <a:lnTo>
                  <a:pt x="3128" y="2737"/>
                </a:lnTo>
                <a:lnTo>
                  <a:pt x="3152" y="2743"/>
                </a:lnTo>
                <a:lnTo>
                  <a:pt x="3174" y="2761"/>
                </a:lnTo>
                <a:lnTo>
                  <a:pt x="3197" y="2781"/>
                </a:lnTo>
                <a:lnTo>
                  <a:pt x="3219" y="2793"/>
                </a:lnTo>
                <a:lnTo>
                  <a:pt x="3242" y="2808"/>
                </a:lnTo>
                <a:lnTo>
                  <a:pt x="3265" y="2822"/>
                </a:lnTo>
                <a:lnTo>
                  <a:pt x="3288" y="2836"/>
                </a:lnTo>
                <a:lnTo>
                  <a:pt x="3311" y="2846"/>
                </a:lnTo>
                <a:lnTo>
                  <a:pt x="3334" y="2863"/>
                </a:lnTo>
                <a:lnTo>
                  <a:pt x="3356" y="2877"/>
                </a:lnTo>
                <a:lnTo>
                  <a:pt x="3380" y="2886"/>
                </a:lnTo>
                <a:lnTo>
                  <a:pt x="3402" y="2898"/>
                </a:lnTo>
                <a:lnTo>
                  <a:pt x="3425" y="2911"/>
                </a:lnTo>
                <a:lnTo>
                  <a:pt x="3447" y="2924"/>
                </a:lnTo>
                <a:lnTo>
                  <a:pt x="3471" y="2930"/>
                </a:lnTo>
                <a:lnTo>
                  <a:pt x="3494" y="2944"/>
                </a:lnTo>
                <a:lnTo>
                  <a:pt x="3517" y="2954"/>
                </a:lnTo>
                <a:lnTo>
                  <a:pt x="3539" y="2962"/>
                </a:lnTo>
                <a:lnTo>
                  <a:pt x="3562" y="2972"/>
                </a:lnTo>
                <a:lnTo>
                  <a:pt x="3585" y="2984"/>
                </a:lnTo>
                <a:lnTo>
                  <a:pt x="3608" y="2994"/>
                </a:lnTo>
                <a:lnTo>
                  <a:pt x="3630" y="3000"/>
                </a:lnTo>
                <a:lnTo>
                  <a:pt x="3653" y="3009"/>
                </a:lnTo>
                <a:lnTo>
                  <a:pt x="3676" y="3017"/>
                </a:lnTo>
                <a:lnTo>
                  <a:pt x="3700" y="3028"/>
                </a:lnTo>
                <a:lnTo>
                  <a:pt x="3722" y="3033"/>
                </a:lnTo>
                <a:lnTo>
                  <a:pt x="3745" y="3041"/>
                </a:lnTo>
                <a:lnTo>
                  <a:pt x="3767" y="3048"/>
                </a:lnTo>
                <a:lnTo>
                  <a:pt x="3790" y="3057"/>
                </a:lnTo>
                <a:lnTo>
                  <a:pt x="3813" y="3061"/>
                </a:lnTo>
                <a:lnTo>
                  <a:pt x="3836" y="3070"/>
                </a:lnTo>
                <a:lnTo>
                  <a:pt x="3859" y="3077"/>
                </a:lnTo>
                <a:lnTo>
                  <a:pt x="3882" y="3083"/>
                </a:lnTo>
                <a:lnTo>
                  <a:pt x="3904" y="3089"/>
                </a:lnTo>
                <a:lnTo>
                  <a:pt x="3928" y="3094"/>
                </a:lnTo>
                <a:lnTo>
                  <a:pt x="3950" y="3102"/>
                </a:lnTo>
                <a:lnTo>
                  <a:pt x="3973" y="3107"/>
                </a:lnTo>
                <a:lnTo>
                  <a:pt x="3996" y="3112"/>
                </a:lnTo>
                <a:lnTo>
                  <a:pt x="4018" y="3118"/>
                </a:lnTo>
                <a:lnTo>
                  <a:pt x="4041" y="3124"/>
                </a:lnTo>
                <a:lnTo>
                  <a:pt x="4065" y="3129"/>
                </a:lnTo>
                <a:lnTo>
                  <a:pt x="4087" y="3132"/>
                </a:lnTo>
                <a:lnTo>
                  <a:pt x="4111" y="3139"/>
                </a:lnTo>
                <a:lnTo>
                  <a:pt x="4133" y="3143"/>
                </a:lnTo>
                <a:lnTo>
                  <a:pt x="4156" y="3147"/>
                </a:lnTo>
                <a:lnTo>
                  <a:pt x="4178" y="3152"/>
                </a:lnTo>
                <a:lnTo>
                  <a:pt x="4201" y="3156"/>
                </a:lnTo>
                <a:lnTo>
                  <a:pt x="4224" y="3161"/>
                </a:lnTo>
                <a:lnTo>
                  <a:pt x="4248" y="3165"/>
                </a:lnTo>
                <a:lnTo>
                  <a:pt x="4270" y="3169"/>
                </a:lnTo>
                <a:lnTo>
                  <a:pt x="4293" y="3173"/>
                </a:lnTo>
                <a:lnTo>
                  <a:pt x="4315" y="3176"/>
                </a:lnTo>
                <a:lnTo>
                  <a:pt x="4339" y="3180"/>
                </a:lnTo>
                <a:lnTo>
                  <a:pt x="4361" y="3183"/>
                </a:lnTo>
                <a:lnTo>
                  <a:pt x="4384" y="3188"/>
                </a:lnTo>
                <a:lnTo>
                  <a:pt x="4406" y="3190"/>
                </a:lnTo>
                <a:lnTo>
                  <a:pt x="4430" y="3193"/>
                </a:lnTo>
                <a:lnTo>
                  <a:pt x="4453" y="3196"/>
                </a:lnTo>
                <a:lnTo>
                  <a:pt x="4476" y="3200"/>
                </a:lnTo>
                <a:lnTo>
                  <a:pt x="4498" y="3202"/>
                </a:lnTo>
                <a:lnTo>
                  <a:pt x="4522" y="3205"/>
                </a:lnTo>
                <a:lnTo>
                  <a:pt x="4543" y="3208"/>
                </a:lnTo>
                <a:lnTo>
                  <a:pt x="4567" y="3211"/>
                </a:lnTo>
                <a:lnTo>
                  <a:pt x="4589" y="3213"/>
                </a:lnTo>
                <a:lnTo>
                  <a:pt x="4613" y="3216"/>
                </a:lnTo>
                <a:lnTo>
                  <a:pt x="4636" y="3218"/>
                </a:lnTo>
                <a:lnTo>
                  <a:pt x="4659" y="3221"/>
                </a:lnTo>
                <a:lnTo>
                  <a:pt x="4681" y="3223"/>
                </a:lnTo>
                <a:lnTo>
                  <a:pt x="4704" y="3225"/>
                </a:lnTo>
                <a:lnTo>
                  <a:pt x="4726" y="3228"/>
                </a:lnTo>
                <a:lnTo>
                  <a:pt x="4750" y="3229"/>
                </a:lnTo>
                <a:lnTo>
                  <a:pt x="4772" y="3232"/>
                </a:lnTo>
                <a:lnTo>
                  <a:pt x="4796" y="3234"/>
                </a:lnTo>
                <a:lnTo>
                  <a:pt x="4818" y="3237"/>
                </a:lnTo>
                <a:lnTo>
                  <a:pt x="4841" y="3238"/>
                </a:lnTo>
                <a:lnTo>
                  <a:pt x="4864" y="3239"/>
                </a:lnTo>
                <a:lnTo>
                  <a:pt x="4887" y="3241"/>
                </a:lnTo>
                <a:lnTo>
                  <a:pt x="4909" y="3243"/>
                </a:lnTo>
                <a:lnTo>
                  <a:pt x="4932" y="3245"/>
                </a:lnTo>
                <a:lnTo>
                  <a:pt x="4954" y="3247"/>
                </a:lnTo>
                <a:lnTo>
                  <a:pt x="4978" y="3248"/>
                </a:lnTo>
                <a:lnTo>
                  <a:pt x="5001" y="3250"/>
                </a:lnTo>
                <a:lnTo>
                  <a:pt x="5024" y="3251"/>
                </a:lnTo>
                <a:lnTo>
                  <a:pt x="5046" y="3253"/>
                </a:lnTo>
                <a:lnTo>
                  <a:pt x="5068" y="3253"/>
                </a:lnTo>
                <a:lnTo>
                  <a:pt x="5092" y="3255"/>
                </a:lnTo>
                <a:lnTo>
                  <a:pt x="5115" y="3256"/>
                </a:lnTo>
                <a:lnTo>
                  <a:pt x="5137" y="3258"/>
                </a:lnTo>
                <a:lnTo>
                  <a:pt x="5159" y="3259"/>
                </a:lnTo>
                <a:lnTo>
                  <a:pt x="5184" y="3261"/>
                </a:lnTo>
                <a:lnTo>
                  <a:pt x="5207" y="3262"/>
                </a:lnTo>
                <a:lnTo>
                  <a:pt x="5229" y="3263"/>
                </a:lnTo>
                <a:lnTo>
                  <a:pt x="5251" y="3264"/>
                </a:lnTo>
                <a:lnTo>
                  <a:pt x="5274" y="3266"/>
                </a:lnTo>
                <a:lnTo>
                  <a:pt x="5298" y="3267"/>
                </a:lnTo>
                <a:lnTo>
                  <a:pt x="5320" y="3268"/>
                </a:lnTo>
                <a:lnTo>
                  <a:pt x="5343" y="3268"/>
                </a:lnTo>
                <a:lnTo>
                  <a:pt x="5366" y="3269"/>
                </a:lnTo>
                <a:lnTo>
                  <a:pt x="5388" y="3270"/>
                </a:lnTo>
                <a:lnTo>
                  <a:pt x="5412" y="3271"/>
                </a:lnTo>
                <a:lnTo>
                  <a:pt x="5435" y="3272"/>
                </a:lnTo>
                <a:lnTo>
                  <a:pt x="5457" y="3273"/>
                </a:lnTo>
                <a:lnTo>
                  <a:pt x="5479" y="3274"/>
                </a:lnTo>
                <a:lnTo>
                  <a:pt x="5502" y="3275"/>
                </a:lnTo>
                <a:lnTo>
                  <a:pt x="5526" y="3276"/>
                </a:lnTo>
                <a:lnTo>
                  <a:pt x="5549" y="3277"/>
                </a:lnTo>
                <a:lnTo>
                  <a:pt x="5571" y="3277"/>
                </a:lnTo>
                <a:lnTo>
                  <a:pt x="5594" y="3278"/>
                </a:lnTo>
                <a:lnTo>
                  <a:pt x="5616" y="3279"/>
                </a:lnTo>
                <a:lnTo>
                  <a:pt x="5640" y="3280"/>
                </a:lnTo>
                <a:lnTo>
                  <a:pt x="5640" y="3306"/>
                </a:lnTo>
                <a:lnTo>
                  <a:pt x="5616" y="3306"/>
                </a:lnTo>
                <a:lnTo>
                  <a:pt x="5594" y="3306"/>
                </a:lnTo>
                <a:lnTo>
                  <a:pt x="5571" y="3306"/>
                </a:lnTo>
                <a:lnTo>
                  <a:pt x="5549" y="3306"/>
                </a:lnTo>
                <a:lnTo>
                  <a:pt x="5526" y="3306"/>
                </a:lnTo>
                <a:lnTo>
                  <a:pt x="5502" y="3306"/>
                </a:lnTo>
                <a:lnTo>
                  <a:pt x="5479" y="3306"/>
                </a:lnTo>
                <a:lnTo>
                  <a:pt x="5457" y="3306"/>
                </a:lnTo>
                <a:lnTo>
                  <a:pt x="5435" y="3306"/>
                </a:lnTo>
                <a:lnTo>
                  <a:pt x="5412" y="3306"/>
                </a:lnTo>
                <a:lnTo>
                  <a:pt x="5388" y="3306"/>
                </a:lnTo>
                <a:lnTo>
                  <a:pt x="5366" y="3306"/>
                </a:lnTo>
                <a:lnTo>
                  <a:pt x="5343" y="3306"/>
                </a:lnTo>
                <a:lnTo>
                  <a:pt x="5320" y="3306"/>
                </a:lnTo>
                <a:lnTo>
                  <a:pt x="5298" y="3306"/>
                </a:lnTo>
                <a:lnTo>
                  <a:pt x="5274" y="3306"/>
                </a:lnTo>
                <a:lnTo>
                  <a:pt x="5251" y="3306"/>
                </a:lnTo>
                <a:lnTo>
                  <a:pt x="5229" y="3306"/>
                </a:lnTo>
                <a:lnTo>
                  <a:pt x="5207" y="3306"/>
                </a:lnTo>
                <a:lnTo>
                  <a:pt x="5184" y="3306"/>
                </a:lnTo>
                <a:lnTo>
                  <a:pt x="5159" y="3306"/>
                </a:lnTo>
                <a:lnTo>
                  <a:pt x="5137" y="3306"/>
                </a:lnTo>
                <a:lnTo>
                  <a:pt x="5115" y="3306"/>
                </a:lnTo>
                <a:lnTo>
                  <a:pt x="5092" y="3306"/>
                </a:lnTo>
                <a:lnTo>
                  <a:pt x="5068" y="3306"/>
                </a:lnTo>
                <a:lnTo>
                  <a:pt x="5046" y="3306"/>
                </a:lnTo>
                <a:lnTo>
                  <a:pt x="5024" y="3306"/>
                </a:lnTo>
                <a:lnTo>
                  <a:pt x="5001" y="3306"/>
                </a:lnTo>
                <a:lnTo>
                  <a:pt x="4978" y="3306"/>
                </a:lnTo>
                <a:lnTo>
                  <a:pt x="4954" y="3306"/>
                </a:lnTo>
                <a:lnTo>
                  <a:pt x="4932" y="3306"/>
                </a:lnTo>
                <a:lnTo>
                  <a:pt x="4909" y="3306"/>
                </a:lnTo>
                <a:lnTo>
                  <a:pt x="4887" y="3306"/>
                </a:lnTo>
                <a:lnTo>
                  <a:pt x="4864" y="3306"/>
                </a:lnTo>
                <a:lnTo>
                  <a:pt x="4841" y="3306"/>
                </a:lnTo>
                <a:lnTo>
                  <a:pt x="4818" y="3306"/>
                </a:lnTo>
                <a:lnTo>
                  <a:pt x="4796" y="3306"/>
                </a:lnTo>
                <a:lnTo>
                  <a:pt x="4772" y="3306"/>
                </a:lnTo>
                <a:lnTo>
                  <a:pt x="4750" y="3306"/>
                </a:lnTo>
                <a:lnTo>
                  <a:pt x="4726" y="3306"/>
                </a:lnTo>
                <a:lnTo>
                  <a:pt x="4704" y="3306"/>
                </a:lnTo>
                <a:lnTo>
                  <a:pt x="4681" y="3306"/>
                </a:lnTo>
                <a:lnTo>
                  <a:pt x="4659" y="3306"/>
                </a:lnTo>
                <a:lnTo>
                  <a:pt x="4636" y="3306"/>
                </a:lnTo>
                <a:lnTo>
                  <a:pt x="4613" y="3306"/>
                </a:lnTo>
                <a:lnTo>
                  <a:pt x="4589" y="3306"/>
                </a:lnTo>
                <a:lnTo>
                  <a:pt x="4567" y="3306"/>
                </a:lnTo>
                <a:lnTo>
                  <a:pt x="4543" y="3306"/>
                </a:lnTo>
                <a:lnTo>
                  <a:pt x="4522" y="3306"/>
                </a:lnTo>
                <a:lnTo>
                  <a:pt x="4498" y="3306"/>
                </a:lnTo>
                <a:lnTo>
                  <a:pt x="4476" y="3306"/>
                </a:lnTo>
                <a:lnTo>
                  <a:pt x="4453" y="3306"/>
                </a:lnTo>
                <a:lnTo>
                  <a:pt x="4430" y="3306"/>
                </a:lnTo>
                <a:lnTo>
                  <a:pt x="4406" y="3306"/>
                </a:lnTo>
                <a:lnTo>
                  <a:pt x="4384" y="3306"/>
                </a:lnTo>
                <a:lnTo>
                  <a:pt x="4361" y="3306"/>
                </a:lnTo>
                <a:lnTo>
                  <a:pt x="4339" y="3306"/>
                </a:lnTo>
                <a:lnTo>
                  <a:pt x="4315" y="3306"/>
                </a:lnTo>
                <a:lnTo>
                  <a:pt x="4293" y="3306"/>
                </a:lnTo>
                <a:lnTo>
                  <a:pt x="4270" y="3306"/>
                </a:lnTo>
                <a:lnTo>
                  <a:pt x="4248" y="3306"/>
                </a:lnTo>
                <a:lnTo>
                  <a:pt x="4224" y="3306"/>
                </a:lnTo>
                <a:lnTo>
                  <a:pt x="4201" y="3306"/>
                </a:lnTo>
                <a:lnTo>
                  <a:pt x="4178" y="3306"/>
                </a:lnTo>
                <a:lnTo>
                  <a:pt x="4156" y="3306"/>
                </a:lnTo>
                <a:lnTo>
                  <a:pt x="4133" y="3306"/>
                </a:lnTo>
                <a:lnTo>
                  <a:pt x="4111" y="3306"/>
                </a:lnTo>
                <a:lnTo>
                  <a:pt x="4087" y="3306"/>
                </a:lnTo>
                <a:lnTo>
                  <a:pt x="4065" y="3306"/>
                </a:lnTo>
                <a:lnTo>
                  <a:pt x="4041" y="3306"/>
                </a:lnTo>
                <a:lnTo>
                  <a:pt x="4018" y="3306"/>
                </a:lnTo>
                <a:lnTo>
                  <a:pt x="3996" y="3306"/>
                </a:lnTo>
                <a:lnTo>
                  <a:pt x="3973" y="3306"/>
                </a:lnTo>
                <a:lnTo>
                  <a:pt x="3950" y="3306"/>
                </a:lnTo>
                <a:lnTo>
                  <a:pt x="3928" y="3306"/>
                </a:lnTo>
                <a:lnTo>
                  <a:pt x="3904" y="3306"/>
                </a:lnTo>
                <a:lnTo>
                  <a:pt x="3882" y="3306"/>
                </a:lnTo>
                <a:lnTo>
                  <a:pt x="3859" y="3306"/>
                </a:lnTo>
                <a:lnTo>
                  <a:pt x="3836" y="3306"/>
                </a:lnTo>
                <a:lnTo>
                  <a:pt x="3813" y="3306"/>
                </a:lnTo>
                <a:lnTo>
                  <a:pt x="3790" y="3306"/>
                </a:lnTo>
                <a:lnTo>
                  <a:pt x="3767" y="3306"/>
                </a:lnTo>
                <a:lnTo>
                  <a:pt x="3745" y="3306"/>
                </a:lnTo>
                <a:lnTo>
                  <a:pt x="3722" y="3306"/>
                </a:lnTo>
                <a:lnTo>
                  <a:pt x="3700" y="3306"/>
                </a:lnTo>
                <a:lnTo>
                  <a:pt x="3676" y="3306"/>
                </a:lnTo>
                <a:lnTo>
                  <a:pt x="3653" y="3306"/>
                </a:lnTo>
                <a:lnTo>
                  <a:pt x="3630" y="3306"/>
                </a:lnTo>
                <a:lnTo>
                  <a:pt x="3608" y="3306"/>
                </a:lnTo>
                <a:lnTo>
                  <a:pt x="3585" y="3306"/>
                </a:lnTo>
                <a:lnTo>
                  <a:pt x="3562" y="3306"/>
                </a:lnTo>
                <a:lnTo>
                  <a:pt x="3539" y="3306"/>
                </a:lnTo>
                <a:lnTo>
                  <a:pt x="3517" y="3306"/>
                </a:lnTo>
                <a:lnTo>
                  <a:pt x="3494" y="3306"/>
                </a:lnTo>
                <a:lnTo>
                  <a:pt x="3471" y="3306"/>
                </a:lnTo>
                <a:lnTo>
                  <a:pt x="3447" y="3306"/>
                </a:lnTo>
                <a:lnTo>
                  <a:pt x="3425" y="3306"/>
                </a:lnTo>
                <a:lnTo>
                  <a:pt x="3402" y="3306"/>
                </a:lnTo>
                <a:lnTo>
                  <a:pt x="3380" y="3306"/>
                </a:lnTo>
                <a:lnTo>
                  <a:pt x="3356" y="3306"/>
                </a:lnTo>
                <a:lnTo>
                  <a:pt x="3334" y="3306"/>
                </a:lnTo>
                <a:lnTo>
                  <a:pt x="3311" y="3306"/>
                </a:lnTo>
                <a:lnTo>
                  <a:pt x="3288" y="3306"/>
                </a:lnTo>
                <a:lnTo>
                  <a:pt x="3265" y="3306"/>
                </a:lnTo>
                <a:lnTo>
                  <a:pt x="3242" y="3306"/>
                </a:lnTo>
                <a:lnTo>
                  <a:pt x="3219" y="3306"/>
                </a:lnTo>
                <a:lnTo>
                  <a:pt x="3197" y="3306"/>
                </a:lnTo>
                <a:lnTo>
                  <a:pt x="3174" y="3306"/>
                </a:lnTo>
                <a:lnTo>
                  <a:pt x="3152" y="3306"/>
                </a:lnTo>
                <a:lnTo>
                  <a:pt x="3128" y="3306"/>
                </a:lnTo>
                <a:lnTo>
                  <a:pt x="3106" y="3306"/>
                </a:lnTo>
                <a:lnTo>
                  <a:pt x="3082" y="3306"/>
                </a:lnTo>
                <a:lnTo>
                  <a:pt x="3060" y="3306"/>
                </a:lnTo>
                <a:lnTo>
                  <a:pt x="3037" y="3306"/>
                </a:lnTo>
                <a:lnTo>
                  <a:pt x="3014" y="3306"/>
                </a:lnTo>
                <a:lnTo>
                  <a:pt x="2991" y="3306"/>
                </a:lnTo>
                <a:lnTo>
                  <a:pt x="2969" y="3306"/>
                </a:lnTo>
                <a:lnTo>
                  <a:pt x="2946" y="3306"/>
                </a:lnTo>
                <a:lnTo>
                  <a:pt x="2924" y="3306"/>
                </a:lnTo>
                <a:lnTo>
                  <a:pt x="2899" y="3306"/>
                </a:lnTo>
                <a:lnTo>
                  <a:pt x="2877" y="3306"/>
                </a:lnTo>
                <a:lnTo>
                  <a:pt x="2854" y="3306"/>
                </a:lnTo>
                <a:lnTo>
                  <a:pt x="2831" y="3306"/>
                </a:lnTo>
                <a:lnTo>
                  <a:pt x="2809" y="3306"/>
                </a:lnTo>
                <a:lnTo>
                  <a:pt x="2786" y="3306"/>
                </a:lnTo>
                <a:lnTo>
                  <a:pt x="2763" y="3306"/>
                </a:lnTo>
                <a:lnTo>
                  <a:pt x="2741" y="3306"/>
                </a:lnTo>
                <a:lnTo>
                  <a:pt x="2716" y="3306"/>
                </a:lnTo>
                <a:lnTo>
                  <a:pt x="2694" y="3306"/>
                </a:lnTo>
                <a:lnTo>
                  <a:pt x="2671" y="3306"/>
                </a:lnTo>
                <a:lnTo>
                  <a:pt x="2649" y="3306"/>
                </a:lnTo>
                <a:lnTo>
                  <a:pt x="2626" y="3306"/>
                </a:lnTo>
                <a:lnTo>
                  <a:pt x="2603" y="3306"/>
                </a:lnTo>
                <a:lnTo>
                  <a:pt x="2580" y="3306"/>
                </a:lnTo>
                <a:lnTo>
                  <a:pt x="2558" y="3306"/>
                </a:lnTo>
                <a:lnTo>
                  <a:pt x="2534" y="3306"/>
                </a:lnTo>
                <a:lnTo>
                  <a:pt x="2512" y="3306"/>
                </a:lnTo>
                <a:lnTo>
                  <a:pt x="2488" y="3306"/>
                </a:lnTo>
                <a:lnTo>
                  <a:pt x="2466" y="3306"/>
                </a:lnTo>
                <a:lnTo>
                  <a:pt x="2443" y="3306"/>
                </a:lnTo>
                <a:lnTo>
                  <a:pt x="2421" y="3306"/>
                </a:lnTo>
                <a:lnTo>
                  <a:pt x="2398" y="3306"/>
                </a:lnTo>
                <a:lnTo>
                  <a:pt x="2375" y="3306"/>
                </a:lnTo>
                <a:lnTo>
                  <a:pt x="2352" y="3306"/>
                </a:lnTo>
                <a:lnTo>
                  <a:pt x="2329" y="3306"/>
                </a:lnTo>
                <a:lnTo>
                  <a:pt x="2306" y="3306"/>
                </a:lnTo>
                <a:lnTo>
                  <a:pt x="2284" y="3306"/>
                </a:lnTo>
                <a:lnTo>
                  <a:pt x="2260" y="3306"/>
                </a:lnTo>
                <a:lnTo>
                  <a:pt x="2238" y="3306"/>
                </a:lnTo>
                <a:lnTo>
                  <a:pt x="2215" y="3306"/>
                </a:lnTo>
                <a:lnTo>
                  <a:pt x="2193" y="3306"/>
                </a:lnTo>
                <a:lnTo>
                  <a:pt x="2169" y="3306"/>
                </a:lnTo>
                <a:lnTo>
                  <a:pt x="2146" y="3306"/>
                </a:lnTo>
                <a:lnTo>
                  <a:pt x="2123" y="3306"/>
                </a:lnTo>
                <a:lnTo>
                  <a:pt x="2101" y="3306"/>
                </a:lnTo>
                <a:lnTo>
                  <a:pt x="2078" y="3306"/>
                </a:lnTo>
                <a:lnTo>
                  <a:pt x="2055" y="3306"/>
                </a:lnTo>
                <a:lnTo>
                  <a:pt x="2032" y="3306"/>
                </a:lnTo>
                <a:lnTo>
                  <a:pt x="2010" y="3306"/>
                </a:lnTo>
                <a:lnTo>
                  <a:pt x="1987" y="3306"/>
                </a:lnTo>
                <a:lnTo>
                  <a:pt x="1964" y="3306"/>
                </a:lnTo>
                <a:lnTo>
                  <a:pt x="1940" y="3306"/>
                </a:lnTo>
                <a:lnTo>
                  <a:pt x="1918" y="3306"/>
                </a:lnTo>
                <a:lnTo>
                  <a:pt x="1895" y="3306"/>
                </a:lnTo>
                <a:lnTo>
                  <a:pt x="1873" y="3306"/>
                </a:lnTo>
                <a:lnTo>
                  <a:pt x="1850" y="3306"/>
                </a:lnTo>
                <a:lnTo>
                  <a:pt x="1827" y="3306"/>
                </a:lnTo>
                <a:lnTo>
                  <a:pt x="1804" y="3306"/>
                </a:lnTo>
                <a:lnTo>
                  <a:pt x="1781" y="3306"/>
                </a:lnTo>
                <a:lnTo>
                  <a:pt x="1758" y="3306"/>
                </a:lnTo>
                <a:lnTo>
                  <a:pt x="1736" y="3306"/>
                </a:lnTo>
                <a:lnTo>
                  <a:pt x="1712" y="3306"/>
                </a:lnTo>
                <a:lnTo>
                  <a:pt x="1690" y="3306"/>
                </a:lnTo>
                <a:lnTo>
                  <a:pt x="1667" y="3306"/>
                </a:lnTo>
                <a:lnTo>
                  <a:pt x="1644" y="3306"/>
                </a:lnTo>
                <a:lnTo>
                  <a:pt x="1622" y="3306"/>
                </a:lnTo>
                <a:lnTo>
                  <a:pt x="1599" y="3306"/>
                </a:lnTo>
                <a:lnTo>
                  <a:pt x="1575" y="3306"/>
                </a:lnTo>
                <a:lnTo>
                  <a:pt x="1553" y="3306"/>
                </a:lnTo>
                <a:lnTo>
                  <a:pt x="1529" y="3306"/>
                </a:lnTo>
                <a:lnTo>
                  <a:pt x="1507" y="3306"/>
                </a:lnTo>
                <a:lnTo>
                  <a:pt x="1484" y="3306"/>
                </a:lnTo>
                <a:lnTo>
                  <a:pt x="1462" y="3306"/>
                </a:lnTo>
                <a:lnTo>
                  <a:pt x="1439" y="3306"/>
                </a:lnTo>
                <a:lnTo>
                  <a:pt x="1416" y="3306"/>
                </a:lnTo>
                <a:lnTo>
                  <a:pt x="1392" y="3306"/>
                </a:lnTo>
                <a:lnTo>
                  <a:pt x="1370" y="3306"/>
                </a:lnTo>
                <a:lnTo>
                  <a:pt x="1347" y="3306"/>
                </a:lnTo>
                <a:lnTo>
                  <a:pt x="1325" y="3306"/>
                </a:lnTo>
                <a:lnTo>
                  <a:pt x="1301" y="3306"/>
                </a:lnTo>
                <a:lnTo>
                  <a:pt x="1279" y="3306"/>
                </a:lnTo>
                <a:lnTo>
                  <a:pt x="1256" y="3306"/>
                </a:lnTo>
                <a:lnTo>
                  <a:pt x="1234" y="3306"/>
                </a:lnTo>
                <a:lnTo>
                  <a:pt x="1210" y="3306"/>
                </a:lnTo>
                <a:lnTo>
                  <a:pt x="1187" y="3306"/>
                </a:lnTo>
                <a:lnTo>
                  <a:pt x="1164" y="3306"/>
                </a:lnTo>
                <a:lnTo>
                  <a:pt x="1142" y="3306"/>
                </a:lnTo>
                <a:lnTo>
                  <a:pt x="1118" y="3306"/>
                </a:lnTo>
                <a:lnTo>
                  <a:pt x="1097" y="3306"/>
                </a:lnTo>
                <a:lnTo>
                  <a:pt x="1073" y="3306"/>
                </a:lnTo>
                <a:lnTo>
                  <a:pt x="1051" y="3306"/>
                </a:lnTo>
                <a:lnTo>
                  <a:pt x="1027" y="3306"/>
                </a:lnTo>
                <a:lnTo>
                  <a:pt x="1004" y="3306"/>
                </a:lnTo>
                <a:lnTo>
                  <a:pt x="981" y="3306"/>
                </a:lnTo>
                <a:lnTo>
                  <a:pt x="959" y="3306"/>
                </a:lnTo>
                <a:lnTo>
                  <a:pt x="936" y="3306"/>
                </a:lnTo>
                <a:lnTo>
                  <a:pt x="914" y="3306"/>
                </a:lnTo>
                <a:lnTo>
                  <a:pt x="890" y="3306"/>
                </a:lnTo>
                <a:lnTo>
                  <a:pt x="868" y="3306"/>
                </a:lnTo>
                <a:lnTo>
                  <a:pt x="844" y="3306"/>
                </a:lnTo>
                <a:lnTo>
                  <a:pt x="822" y="3306"/>
                </a:lnTo>
                <a:lnTo>
                  <a:pt x="799" y="3306"/>
                </a:lnTo>
                <a:lnTo>
                  <a:pt x="776" y="3306"/>
                </a:lnTo>
                <a:lnTo>
                  <a:pt x="753" y="3306"/>
                </a:lnTo>
                <a:lnTo>
                  <a:pt x="731" y="3306"/>
                </a:lnTo>
                <a:lnTo>
                  <a:pt x="708" y="3306"/>
                </a:lnTo>
                <a:lnTo>
                  <a:pt x="686" y="3306"/>
                </a:lnTo>
                <a:lnTo>
                  <a:pt x="662" y="3306"/>
                </a:lnTo>
                <a:lnTo>
                  <a:pt x="639" y="3306"/>
                </a:lnTo>
                <a:lnTo>
                  <a:pt x="616" y="3306"/>
                </a:lnTo>
                <a:lnTo>
                  <a:pt x="594" y="3306"/>
                </a:lnTo>
                <a:lnTo>
                  <a:pt x="572" y="3306"/>
                </a:lnTo>
                <a:lnTo>
                  <a:pt x="548" y="3306"/>
                </a:lnTo>
                <a:lnTo>
                  <a:pt x="525" y="3306"/>
                </a:lnTo>
                <a:lnTo>
                  <a:pt x="503" y="3306"/>
                </a:lnTo>
                <a:lnTo>
                  <a:pt x="481" y="3306"/>
                </a:lnTo>
                <a:lnTo>
                  <a:pt x="456" y="3306"/>
                </a:lnTo>
                <a:lnTo>
                  <a:pt x="433" y="3306"/>
                </a:lnTo>
                <a:lnTo>
                  <a:pt x="411" y="3306"/>
                </a:lnTo>
                <a:lnTo>
                  <a:pt x="389" y="3306"/>
                </a:lnTo>
                <a:lnTo>
                  <a:pt x="366" y="3306"/>
                </a:lnTo>
                <a:lnTo>
                  <a:pt x="342" y="3306"/>
                </a:lnTo>
                <a:lnTo>
                  <a:pt x="320" y="3306"/>
                </a:lnTo>
                <a:lnTo>
                  <a:pt x="297" y="3306"/>
                </a:lnTo>
                <a:lnTo>
                  <a:pt x="274" y="3306"/>
                </a:lnTo>
                <a:lnTo>
                  <a:pt x="252" y="3306"/>
                </a:lnTo>
                <a:lnTo>
                  <a:pt x="228" y="3306"/>
                </a:lnTo>
                <a:lnTo>
                  <a:pt x="205" y="3306"/>
                </a:lnTo>
                <a:lnTo>
                  <a:pt x="183" y="3306"/>
                </a:lnTo>
                <a:lnTo>
                  <a:pt x="161" y="3306"/>
                </a:lnTo>
                <a:lnTo>
                  <a:pt x="138" y="3306"/>
                </a:lnTo>
                <a:lnTo>
                  <a:pt x="114" y="3306"/>
                </a:lnTo>
                <a:lnTo>
                  <a:pt x="91" y="3306"/>
                </a:lnTo>
                <a:lnTo>
                  <a:pt x="69" y="3306"/>
                </a:lnTo>
                <a:lnTo>
                  <a:pt x="46" y="3306"/>
                </a:lnTo>
                <a:lnTo>
                  <a:pt x="24" y="3306"/>
                </a:lnTo>
                <a:lnTo>
                  <a:pt x="0" y="3306"/>
                </a:lnTo>
              </a:path>
            </a:pathLst>
          </a:custGeom>
          <a:solidFill>
            <a:srgbClr val="ffff99"/>
          </a:solidFill>
          <a:ln cap="rnd" w="1260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35120" y="114480"/>
            <a:ext cx="87120" cy="3098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24120" y="114480"/>
            <a:ext cx="92160" cy="3098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2916360" y="114480"/>
            <a:ext cx="91800" cy="3098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4010040" y="114480"/>
            <a:ext cx="92160" cy="3098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382760" y="3456000"/>
            <a:ext cx="1903320" cy="1359000"/>
          </a:xfrm>
          <a:custGeom>
            <a:avLst/>
            <a:gdLst/>
            <a:ahLst/>
            <a:rect l="l" t="t" r="r" b="b"/>
            <a:pathLst>
              <a:path w="2769" h="3312">
                <a:moveTo>
                  <a:pt x="0" y="3311"/>
                </a:moveTo>
                <a:lnTo>
                  <a:pt x="11" y="3311"/>
                </a:lnTo>
                <a:lnTo>
                  <a:pt x="23" y="3311"/>
                </a:lnTo>
                <a:lnTo>
                  <a:pt x="34" y="3311"/>
                </a:lnTo>
                <a:lnTo>
                  <a:pt x="45" y="3311"/>
                </a:lnTo>
                <a:lnTo>
                  <a:pt x="56" y="3311"/>
                </a:lnTo>
                <a:lnTo>
                  <a:pt x="68" y="3311"/>
                </a:lnTo>
                <a:lnTo>
                  <a:pt x="79" y="3310"/>
                </a:lnTo>
                <a:lnTo>
                  <a:pt x="89" y="3308"/>
                </a:lnTo>
                <a:lnTo>
                  <a:pt x="100" y="3305"/>
                </a:lnTo>
                <a:lnTo>
                  <a:pt x="112" y="3300"/>
                </a:lnTo>
                <a:lnTo>
                  <a:pt x="123" y="3292"/>
                </a:lnTo>
                <a:lnTo>
                  <a:pt x="134" y="3279"/>
                </a:lnTo>
                <a:lnTo>
                  <a:pt x="146" y="3262"/>
                </a:lnTo>
                <a:lnTo>
                  <a:pt x="157" y="3238"/>
                </a:lnTo>
                <a:lnTo>
                  <a:pt x="168" y="3207"/>
                </a:lnTo>
                <a:lnTo>
                  <a:pt x="179" y="3168"/>
                </a:lnTo>
                <a:lnTo>
                  <a:pt x="191" y="3120"/>
                </a:lnTo>
                <a:lnTo>
                  <a:pt x="202" y="3064"/>
                </a:lnTo>
                <a:lnTo>
                  <a:pt x="213" y="2998"/>
                </a:lnTo>
                <a:lnTo>
                  <a:pt x="224" y="2924"/>
                </a:lnTo>
                <a:lnTo>
                  <a:pt x="236" y="2841"/>
                </a:lnTo>
                <a:lnTo>
                  <a:pt x="247" y="2750"/>
                </a:lnTo>
                <a:lnTo>
                  <a:pt x="257" y="2651"/>
                </a:lnTo>
                <a:lnTo>
                  <a:pt x="268" y="2545"/>
                </a:lnTo>
                <a:lnTo>
                  <a:pt x="280" y="2434"/>
                </a:lnTo>
                <a:lnTo>
                  <a:pt x="291" y="2318"/>
                </a:lnTo>
                <a:lnTo>
                  <a:pt x="302" y="2198"/>
                </a:lnTo>
                <a:lnTo>
                  <a:pt x="314" y="2072"/>
                </a:lnTo>
                <a:lnTo>
                  <a:pt x="325" y="1950"/>
                </a:lnTo>
                <a:lnTo>
                  <a:pt x="336" y="1821"/>
                </a:lnTo>
                <a:lnTo>
                  <a:pt x="347" y="1697"/>
                </a:lnTo>
                <a:lnTo>
                  <a:pt x="359" y="1570"/>
                </a:lnTo>
                <a:lnTo>
                  <a:pt x="370" y="1446"/>
                </a:lnTo>
                <a:lnTo>
                  <a:pt x="381" y="1326"/>
                </a:lnTo>
                <a:lnTo>
                  <a:pt x="393" y="1206"/>
                </a:lnTo>
                <a:lnTo>
                  <a:pt x="404" y="1100"/>
                </a:lnTo>
                <a:lnTo>
                  <a:pt x="415" y="978"/>
                </a:lnTo>
                <a:lnTo>
                  <a:pt x="425" y="886"/>
                </a:lnTo>
                <a:lnTo>
                  <a:pt x="437" y="773"/>
                </a:lnTo>
                <a:lnTo>
                  <a:pt x="448" y="692"/>
                </a:lnTo>
                <a:lnTo>
                  <a:pt x="459" y="595"/>
                </a:lnTo>
                <a:lnTo>
                  <a:pt x="470" y="515"/>
                </a:lnTo>
                <a:lnTo>
                  <a:pt x="482" y="438"/>
                </a:lnTo>
                <a:lnTo>
                  <a:pt x="493" y="369"/>
                </a:lnTo>
                <a:lnTo>
                  <a:pt x="504" y="306"/>
                </a:lnTo>
                <a:lnTo>
                  <a:pt x="515" y="249"/>
                </a:lnTo>
                <a:lnTo>
                  <a:pt x="527" y="199"/>
                </a:lnTo>
                <a:lnTo>
                  <a:pt x="538" y="154"/>
                </a:lnTo>
                <a:lnTo>
                  <a:pt x="549" y="115"/>
                </a:lnTo>
                <a:lnTo>
                  <a:pt x="561" y="82"/>
                </a:lnTo>
                <a:lnTo>
                  <a:pt x="572" y="55"/>
                </a:lnTo>
                <a:lnTo>
                  <a:pt x="583" y="34"/>
                </a:lnTo>
                <a:lnTo>
                  <a:pt x="594" y="19"/>
                </a:lnTo>
                <a:lnTo>
                  <a:pt x="605" y="7"/>
                </a:lnTo>
                <a:lnTo>
                  <a:pt x="616" y="2"/>
                </a:lnTo>
                <a:lnTo>
                  <a:pt x="627" y="0"/>
                </a:lnTo>
                <a:lnTo>
                  <a:pt x="638" y="4"/>
                </a:lnTo>
                <a:lnTo>
                  <a:pt x="650" y="11"/>
                </a:lnTo>
                <a:lnTo>
                  <a:pt x="661" y="22"/>
                </a:lnTo>
                <a:lnTo>
                  <a:pt x="672" y="38"/>
                </a:lnTo>
                <a:lnTo>
                  <a:pt x="684" y="57"/>
                </a:lnTo>
                <a:lnTo>
                  <a:pt x="695" y="79"/>
                </a:lnTo>
                <a:lnTo>
                  <a:pt x="706" y="104"/>
                </a:lnTo>
                <a:lnTo>
                  <a:pt x="717" y="132"/>
                </a:lnTo>
                <a:lnTo>
                  <a:pt x="729" y="163"/>
                </a:lnTo>
                <a:lnTo>
                  <a:pt x="740" y="196"/>
                </a:lnTo>
                <a:lnTo>
                  <a:pt x="751" y="230"/>
                </a:lnTo>
                <a:lnTo>
                  <a:pt x="762" y="268"/>
                </a:lnTo>
                <a:lnTo>
                  <a:pt x="773" y="307"/>
                </a:lnTo>
                <a:lnTo>
                  <a:pt x="784" y="347"/>
                </a:lnTo>
                <a:lnTo>
                  <a:pt x="795" y="390"/>
                </a:lnTo>
                <a:lnTo>
                  <a:pt x="806" y="433"/>
                </a:lnTo>
                <a:lnTo>
                  <a:pt x="818" y="478"/>
                </a:lnTo>
                <a:lnTo>
                  <a:pt x="829" y="522"/>
                </a:lnTo>
                <a:lnTo>
                  <a:pt x="840" y="568"/>
                </a:lnTo>
                <a:lnTo>
                  <a:pt x="852" y="616"/>
                </a:lnTo>
                <a:lnTo>
                  <a:pt x="863" y="663"/>
                </a:lnTo>
                <a:lnTo>
                  <a:pt x="874" y="711"/>
                </a:lnTo>
                <a:lnTo>
                  <a:pt x="885" y="759"/>
                </a:lnTo>
                <a:lnTo>
                  <a:pt x="897" y="808"/>
                </a:lnTo>
                <a:lnTo>
                  <a:pt x="908" y="857"/>
                </a:lnTo>
                <a:lnTo>
                  <a:pt x="919" y="905"/>
                </a:lnTo>
                <a:lnTo>
                  <a:pt x="931" y="954"/>
                </a:lnTo>
                <a:lnTo>
                  <a:pt x="941" y="1003"/>
                </a:lnTo>
                <a:lnTo>
                  <a:pt x="952" y="1051"/>
                </a:lnTo>
                <a:lnTo>
                  <a:pt x="963" y="1099"/>
                </a:lnTo>
                <a:lnTo>
                  <a:pt x="975" y="1147"/>
                </a:lnTo>
                <a:lnTo>
                  <a:pt x="986" y="1195"/>
                </a:lnTo>
                <a:lnTo>
                  <a:pt x="997" y="1242"/>
                </a:lnTo>
                <a:lnTo>
                  <a:pt x="1008" y="1288"/>
                </a:lnTo>
                <a:lnTo>
                  <a:pt x="1020" y="1335"/>
                </a:lnTo>
                <a:lnTo>
                  <a:pt x="1031" y="1380"/>
                </a:lnTo>
                <a:lnTo>
                  <a:pt x="1042" y="1425"/>
                </a:lnTo>
                <a:lnTo>
                  <a:pt x="1054" y="1470"/>
                </a:lnTo>
                <a:lnTo>
                  <a:pt x="1065" y="1514"/>
                </a:lnTo>
                <a:lnTo>
                  <a:pt x="1076" y="1557"/>
                </a:lnTo>
                <a:lnTo>
                  <a:pt x="1087" y="1599"/>
                </a:lnTo>
                <a:lnTo>
                  <a:pt x="1099" y="1641"/>
                </a:lnTo>
                <a:lnTo>
                  <a:pt x="1109" y="1683"/>
                </a:lnTo>
                <a:lnTo>
                  <a:pt x="1120" y="1723"/>
                </a:lnTo>
                <a:lnTo>
                  <a:pt x="1131" y="1763"/>
                </a:lnTo>
                <a:lnTo>
                  <a:pt x="1143" y="1803"/>
                </a:lnTo>
                <a:lnTo>
                  <a:pt x="1154" y="1841"/>
                </a:lnTo>
                <a:lnTo>
                  <a:pt x="1165" y="1878"/>
                </a:lnTo>
                <a:lnTo>
                  <a:pt x="1176" y="1915"/>
                </a:lnTo>
                <a:lnTo>
                  <a:pt x="1188" y="1951"/>
                </a:lnTo>
                <a:lnTo>
                  <a:pt x="1199" y="1986"/>
                </a:lnTo>
                <a:lnTo>
                  <a:pt x="1210" y="2021"/>
                </a:lnTo>
                <a:lnTo>
                  <a:pt x="1222" y="2054"/>
                </a:lnTo>
                <a:lnTo>
                  <a:pt x="1233" y="2088"/>
                </a:lnTo>
                <a:lnTo>
                  <a:pt x="1244" y="2120"/>
                </a:lnTo>
                <a:lnTo>
                  <a:pt x="1255" y="2152"/>
                </a:lnTo>
                <a:lnTo>
                  <a:pt x="1267" y="2196"/>
                </a:lnTo>
                <a:lnTo>
                  <a:pt x="1277" y="2191"/>
                </a:lnTo>
                <a:lnTo>
                  <a:pt x="1288" y="2245"/>
                </a:lnTo>
                <a:lnTo>
                  <a:pt x="1299" y="2279"/>
                </a:lnTo>
                <a:lnTo>
                  <a:pt x="1311" y="2298"/>
                </a:lnTo>
                <a:lnTo>
                  <a:pt x="1322" y="2318"/>
                </a:lnTo>
                <a:lnTo>
                  <a:pt x="1333" y="2363"/>
                </a:lnTo>
                <a:lnTo>
                  <a:pt x="1345" y="2391"/>
                </a:lnTo>
                <a:lnTo>
                  <a:pt x="1356" y="2395"/>
                </a:lnTo>
                <a:lnTo>
                  <a:pt x="1367" y="2427"/>
                </a:lnTo>
                <a:lnTo>
                  <a:pt x="1378" y="2454"/>
                </a:lnTo>
                <a:lnTo>
                  <a:pt x="1390" y="2480"/>
                </a:lnTo>
                <a:lnTo>
                  <a:pt x="1401" y="2508"/>
                </a:lnTo>
                <a:lnTo>
                  <a:pt x="1412" y="2521"/>
                </a:lnTo>
                <a:lnTo>
                  <a:pt x="1423" y="2554"/>
                </a:lnTo>
                <a:lnTo>
                  <a:pt x="1435" y="2560"/>
                </a:lnTo>
                <a:lnTo>
                  <a:pt x="1445" y="2592"/>
                </a:lnTo>
                <a:lnTo>
                  <a:pt x="1456" y="2607"/>
                </a:lnTo>
                <a:lnTo>
                  <a:pt x="1469" y="2627"/>
                </a:lnTo>
                <a:lnTo>
                  <a:pt x="1479" y="2648"/>
                </a:lnTo>
                <a:lnTo>
                  <a:pt x="1490" y="2667"/>
                </a:lnTo>
                <a:lnTo>
                  <a:pt x="1501" y="2681"/>
                </a:lnTo>
                <a:lnTo>
                  <a:pt x="1513" y="2706"/>
                </a:lnTo>
                <a:lnTo>
                  <a:pt x="1524" y="2713"/>
                </a:lnTo>
                <a:lnTo>
                  <a:pt x="1535" y="2741"/>
                </a:lnTo>
                <a:lnTo>
                  <a:pt x="1546" y="2747"/>
                </a:lnTo>
                <a:lnTo>
                  <a:pt x="1558" y="2765"/>
                </a:lnTo>
                <a:lnTo>
                  <a:pt x="1569" y="2785"/>
                </a:lnTo>
                <a:lnTo>
                  <a:pt x="1580" y="2797"/>
                </a:lnTo>
                <a:lnTo>
                  <a:pt x="1592" y="2812"/>
                </a:lnTo>
                <a:lnTo>
                  <a:pt x="1603" y="2826"/>
                </a:lnTo>
                <a:lnTo>
                  <a:pt x="1614" y="2847"/>
                </a:lnTo>
                <a:lnTo>
                  <a:pt x="1624" y="2867"/>
                </a:lnTo>
                <a:lnTo>
                  <a:pt x="1637" y="2881"/>
                </a:lnTo>
                <a:lnTo>
                  <a:pt x="1647" y="2890"/>
                </a:lnTo>
                <a:lnTo>
                  <a:pt x="1658" y="2902"/>
                </a:lnTo>
                <a:lnTo>
                  <a:pt x="1669" y="2915"/>
                </a:lnTo>
                <a:lnTo>
                  <a:pt x="1681" y="2929"/>
                </a:lnTo>
                <a:lnTo>
                  <a:pt x="1692" y="2934"/>
                </a:lnTo>
                <a:lnTo>
                  <a:pt x="1703" y="2948"/>
                </a:lnTo>
                <a:lnTo>
                  <a:pt x="1714" y="2958"/>
                </a:lnTo>
                <a:lnTo>
                  <a:pt x="1726" y="2965"/>
                </a:lnTo>
                <a:lnTo>
                  <a:pt x="1737" y="2976"/>
                </a:lnTo>
                <a:lnTo>
                  <a:pt x="1748" y="2988"/>
                </a:lnTo>
                <a:lnTo>
                  <a:pt x="1760" y="2997"/>
                </a:lnTo>
                <a:lnTo>
                  <a:pt x="1771" y="3004"/>
                </a:lnTo>
                <a:lnTo>
                  <a:pt x="1782" y="3013"/>
                </a:lnTo>
                <a:lnTo>
                  <a:pt x="1792" y="3022"/>
                </a:lnTo>
                <a:lnTo>
                  <a:pt x="1805" y="3032"/>
                </a:lnTo>
                <a:lnTo>
                  <a:pt x="1815" y="3038"/>
                </a:lnTo>
                <a:lnTo>
                  <a:pt x="1826" y="3045"/>
                </a:lnTo>
                <a:lnTo>
                  <a:pt x="1837" y="3053"/>
                </a:lnTo>
                <a:lnTo>
                  <a:pt x="1849" y="3062"/>
                </a:lnTo>
                <a:lnTo>
                  <a:pt x="1860" y="3067"/>
                </a:lnTo>
                <a:lnTo>
                  <a:pt x="1871" y="3075"/>
                </a:lnTo>
                <a:lnTo>
                  <a:pt x="1883" y="3082"/>
                </a:lnTo>
                <a:lnTo>
                  <a:pt x="1894" y="3088"/>
                </a:lnTo>
                <a:lnTo>
                  <a:pt x="1905" y="3095"/>
                </a:lnTo>
                <a:lnTo>
                  <a:pt x="1916" y="3099"/>
                </a:lnTo>
                <a:lnTo>
                  <a:pt x="1928" y="3108"/>
                </a:lnTo>
                <a:lnTo>
                  <a:pt x="1939" y="3112"/>
                </a:lnTo>
                <a:lnTo>
                  <a:pt x="1950" y="3116"/>
                </a:lnTo>
                <a:lnTo>
                  <a:pt x="1960" y="3124"/>
                </a:lnTo>
                <a:lnTo>
                  <a:pt x="1973" y="3128"/>
                </a:lnTo>
                <a:lnTo>
                  <a:pt x="1983" y="3133"/>
                </a:lnTo>
                <a:lnTo>
                  <a:pt x="1994" y="3138"/>
                </a:lnTo>
                <a:lnTo>
                  <a:pt x="2006" y="3143"/>
                </a:lnTo>
                <a:lnTo>
                  <a:pt x="2017" y="3148"/>
                </a:lnTo>
                <a:lnTo>
                  <a:pt x="2028" y="3153"/>
                </a:lnTo>
                <a:lnTo>
                  <a:pt x="2039" y="3157"/>
                </a:lnTo>
                <a:lnTo>
                  <a:pt x="2051" y="3161"/>
                </a:lnTo>
                <a:lnTo>
                  <a:pt x="2062" y="3166"/>
                </a:lnTo>
                <a:lnTo>
                  <a:pt x="2073" y="3170"/>
                </a:lnTo>
                <a:lnTo>
                  <a:pt x="2084" y="3173"/>
                </a:lnTo>
                <a:lnTo>
                  <a:pt x="2096" y="3177"/>
                </a:lnTo>
                <a:lnTo>
                  <a:pt x="2107" y="3181"/>
                </a:lnTo>
                <a:lnTo>
                  <a:pt x="2118" y="3185"/>
                </a:lnTo>
                <a:lnTo>
                  <a:pt x="2128" y="3188"/>
                </a:lnTo>
                <a:lnTo>
                  <a:pt x="2141" y="3192"/>
                </a:lnTo>
                <a:lnTo>
                  <a:pt x="2151" y="3195"/>
                </a:lnTo>
                <a:lnTo>
                  <a:pt x="2162" y="3198"/>
                </a:lnTo>
                <a:lnTo>
                  <a:pt x="2174" y="3201"/>
                </a:lnTo>
                <a:lnTo>
                  <a:pt x="2185" y="3204"/>
                </a:lnTo>
                <a:lnTo>
                  <a:pt x="2196" y="3207"/>
                </a:lnTo>
                <a:lnTo>
                  <a:pt x="2207" y="3210"/>
                </a:lnTo>
                <a:lnTo>
                  <a:pt x="2219" y="3213"/>
                </a:lnTo>
                <a:lnTo>
                  <a:pt x="2230" y="3215"/>
                </a:lnTo>
                <a:lnTo>
                  <a:pt x="2241" y="3218"/>
                </a:lnTo>
                <a:lnTo>
                  <a:pt x="2253" y="3221"/>
                </a:lnTo>
                <a:lnTo>
                  <a:pt x="2264" y="3223"/>
                </a:lnTo>
                <a:lnTo>
                  <a:pt x="2275" y="3226"/>
                </a:lnTo>
                <a:lnTo>
                  <a:pt x="2286" y="3229"/>
                </a:lnTo>
                <a:lnTo>
                  <a:pt x="2297" y="3230"/>
                </a:lnTo>
                <a:lnTo>
                  <a:pt x="2309" y="3232"/>
                </a:lnTo>
                <a:lnTo>
                  <a:pt x="2319" y="3234"/>
                </a:lnTo>
                <a:lnTo>
                  <a:pt x="2330" y="3237"/>
                </a:lnTo>
                <a:lnTo>
                  <a:pt x="2342" y="3238"/>
                </a:lnTo>
                <a:lnTo>
                  <a:pt x="2353" y="3241"/>
                </a:lnTo>
                <a:lnTo>
                  <a:pt x="2364" y="3243"/>
                </a:lnTo>
                <a:lnTo>
                  <a:pt x="2375" y="3245"/>
                </a:lnTo>
                <a:lnTo>
                  <a:pt x="2387" y="3246"/>
                </a:lnTo>
                <a:lnTo>
                  <a:pt x="2398" y="3248"/>
                </a:lnTo>
                <a:lnTo>
                  <a:pt x="2409" y="3250"/>
                </a:lnTo>
                <a:lnTo>
                  <a:pt x="2421" y="3251"/>
                </a:lnTo>
                <a:lnTo>
                  <a:pt x="2432" y="3253"/>
                </a:lnTo>
                <a:lnTo>
                  <a:pt x="2443" y="3255"/>
                </a:lnTo>
                <a:lnTo>
                  <a:pt x="2454" y="3256"/>
                </a:lnTo>
                <a:lnTo>
                  <a:pt x="2465" y="3258"/>
                </a:lnTo>
                <a:lnTo>
                  <a:pt x="2477" y="3259"/>
                </a:lnTo>
                <a:lnTo>
                  <a:pt x="2488" y="3260"/>
                </a:lnTo>
                <a:lnTo>
                  <a:pt x="2498" y="3261"/>
                </a:lnTo>
                <a:lnTo>
                  <a:pt x="2510" y="3263"/>
                </a:lnTo>
                <a:lnTo>
                  <a:pt x="2521" y="3264"/>
                </a:lnTo>
                <a:lnTo>
                  <a:pt x="2532" y="3266"/>
                </a:lnTo>
                <a:lnTo>
                  <a:pt x="2544" y="3267"/>
                </a:lnTo>
                <a:lnTo>
                  <a:pt x="2555" y="3268"/>
                </a:lnTo>
                <a:lnTo>
                  <a:pt x="2566" y="3269"/>
                </a:lnTo>
                <a:lnTo>
                  <a:pt x="2577" y="3270"/>
                </a:lnTo>
                <a:lnTo>
                  <a:pt x="2589" y="3272"/>
                </a:lnTo>
                <a:lnTo>
                  <a:pt x="2600" y="3273"/>
                </a:lnTo>
                <a:lnTo>
                  <a:pt x="2611" y="3274"/>
                </a:lnTo>
                <a:lnTo>
                  <a:pt x="2622" y="3274"/>
                </a:lnTo>
                <a:lnTo>
                  <a:pt x="2634" y="3275"/>
                </a:lnTo>
                <a:lnTo>
                  <a:pt x="2645" y="3276"/>
                </a:lnTo>
                <a:lnTo>
                  <a:pt x="2656" y="3277"/>
                </a:lnTo>
                <a:lnTo>
                  <a:pt x="2666" y="3278"/>
                </a:lnTo>
                <a:lnTo>
                  <a:pt x="2678" y="3279"/>
                </a:lnTo>
                <a:lnTo>
                  <a:pt x="2689" y="3280"/>
                </a:lnTo>
                <a:lnTo>
                  <a:pt x="2700" y="3281"/>
                </a:lnTo>
                <a:lnTo>
                  <a:pt x="2712" y="3281"/>
                </a:lnTo>
                <a:lnTo>
                  <a:pt x="2723" y="3282"/>
                </a:lnTo>
                <a:lnTo>
                  <a:pt x="2734" y="3283"/>
                </a:lnTo>
                <a:lnTo>
                  <a:pt x="2745" y="3284"/>
                </a:lnTo>
                <a:lnTo>
                  <a:pt x="2757" y="3285"/>
                </a:lnTo>
                <a:lnTo>
                  <a:pt x="2768" y="3311"/>
                </a:lnTo>
                <a:lnTo>
                  <a:pt x="2757" y="3285"/>
                </a:lnTo>
                <a:lnTo>
                  <a:pt x="2745" y="3284"/>
                </a:lnTo>
                <a:lnTo>
                  <a:pt x="2734" y="3283"/>
                </a:lnTo>
                <a:lnTo>
                  <a:pt x="2723" y="3282"/>
                </a:lnTo>
                <a:lnTo>
                  <a:pt x="2712" y="3281"/>
                </a:lnTo>
                <a:lnTo>
                  <a:pt x="2700" y="3281"/>
                </a:lnTo>
                <a:lnTo>
                  <a:pt x="2689" y="3280"/>
                </a:lnTo>
                <a:lnTo>
                  <a:pt x="2678" y="3279"/>
                </a:lnTo>
                <a:lnTo>
                  <a:pt x="2666" y="3278"/>
                </a:lnTo>
                <a:lnTo>
                  <a:pt x="2656" y="3277"/>
                </a:lnTo>
                <a:lnTo>
                  <a:pt x="2645" y="3276"/>
                </a:lnTo>
                <a:lnTo>
                  <a:pt x="2634" y="3275"/>
                </a:lnTo>
                <a:lnTo>
                  <a:pt x="2622" y="3274"/>
                </a:lnTo>
                <a:lnTo>
                  <a:pt x="2611" y="3274"/>
                </a:lnTo>
                <a:lnTo>
                  <a:pt x="2600" y="3273"/>
                </a:lnTo>
                <a:lnTo>
                  <a:pt x="2589" y="3272"/>
                </a:lnTo>
                <a:lnTo>
                  <a:pt x="2577" y="3270"/>
                </a:lnTo>
                <a:lnTo>
                  <a:pt x="2566" y="3269"/>
                </a:lnTo>
                <a:lnTo>
                  <a:pt x="2555" y="3268"/>
                </a:lnTo>
                <a:lnTo>
                  <a:pt x="2544" y="3267"/>
                </a:lnTo>
                <a:lnTo>
                  <a:pt x="2532" y="3266"/>
                </a:lnTo>
                <a:lnTo>
                  <a:pt x="2521" y="3264"/>
                </a:lnTo>
                <a:lnTo>
                  <a:pt x="2510" y="3263"/>
                </a:lnTo>
                <a:lnTo>
                  <a:pt x="2498" y="3261"/>
                </a:lnTo>
                <a:lnTo>
                  <a:pt x="2488" y="3260"/>
                </a:lnTo>
                <a:lnTo>
                  <a:pt x="2477" y="3259"/>
                </a:lnTo>
                <a:lnTo>
                  <a:pt x="2465" y="3258"/>
                </a:lnTo>
                <a:lnTo>
                  <a:pt x="2454" y="3256"/>
                </a:lnTo>
                <a:lnTo>
                  <a:pt x="2443" y="3255"/>
                </a:lnTo>
                <a:lnTo>
                  <a:pt x="2432" y="3253"/>
                </a:lnTo>
                <a:lnTo>
                  <a:pt x="2421" y="3251"/>
                </a:lnTo>
                <a:lnTo>
                  <a:pt x="2409" y="3250"/>
                </a:lnTo>
                <a:lnTo>
                  <a:pt x="2398" y="3248"/>
                </a:lnTo>
                <a:lnTo>
                  <a:pt x="2387" y="3246"/>
                </a:lnTo>
                <a:lnTo>
                  <a:pt x="2375" y="3245"/>
                </a:lnTo>
                <a:lnTo>
                  <a:pt x="2364" y="3243"/>
                </a:lnTo>
                <a:lnTo>
                  <a:pt x="2353" y="3241"/>
                </a:lnTo>
                <a:lnTo>
                  <a:pt x="2342" y="3238"/>
                </a:lnTo>
                <a:lnTo>
                  <a:pt x="2330" y="3237"/>
                </a:lnTo>
                <a:lnTo>
                  <a:pt x="2319" y="3234"/>
                </a:lnTo>
                <a:lnTo>
                  <a:pt x="2309" y="3232"/>
                </a:lnTo>
                <a:lnTo>
                  <a:pt x="2297" y="3230"/>
                </a:lnTo>
                <a:lnTo>
                  <a:pt x="2286" y="3229"/>
                </a:lnTo>
                <a:lnTo>
                  <a:pt x="2275" y="3226"/>
                </a:lnTo>
                <a:lnTo>
                  <a:pt x="2264" y="3223"/>
                </a:lnTo>
                <a:lnTo>
                  <a:pt x="2253" y="3221"/>
                </a:lnTo>
                <a:lnTo>
                  <a:pt x="2241" y="3218"/>
                </a:lnTo>
                <a:lnTo>
                  <a:pt x="2230" y="3215"/>
                </a:lnTo>
                <a:lnTo>
                  <a:pt x="2219" y="3213"/>
                </a:lnTo>
                <a:lnTo>
                  <a:pt x="2207" y="3210"/>
                </a:lnTo>
                <a:lnTo>
                  <a:pt x="2196" y="3207"/>
                </a:lnTo>
                <a:lnTo>
                  <a:pt x="2185" y="3204"/>
                </a:lnTo>
                <a:lnTo>
                  <a:pt x="2174" y="3201"/>
                </a:lnTo>
                <a:lnTo>
                  <a:pt x="2162" y="3198"/>
                </a:lnTo>
                <a:lnTo>
                  <a:pt x="2151" y="3195"/>
                </a:lnTo>
                <a:lnTo>
                  <a:pt x="2141" y="3192"/>
                </a:lnTo>
                <a:lnTo>
                  <a:pt x="2128" y="3188"/>
                </a:lnTo>
                <a:lnTo>
                  <a:pt x="2118" y="3185"/>
                </a:lnTo>
                <a:lnTo>
                  <a:pt x="2107" y="3181"/>
                </a:lnTo>
                <a:lnTo>
                  <a:pt x="2096" y="3177"/>
                </a:lnTo>
                <a:lnTo>
                  <a:pt x="2084" y="3173"/>
                </a:lnTo>
                <a:lnTo>
                  <a:pt x="2073" y="3170"/>
                </a:lnTo>
                <a:lnTo>
                  <a:pt x="2062" y="3166"/>
                </a:lnTo>
                <a:lnTo>
                  <a:pt x="2051" y="3161"/>
                </a:lnTo>
                <a:lnTo>
                  <a:pt x="2039" y="3157"/>
                </a:lnTo>
                <a:lnTo>
                  <a:pt x="2028" y="3153"/>
                </a:lnTo>
                <a:lnTo>
                  <a:pt x="2017" y="3148"/>
                </a:lnTo>
                <a:lnTo>
                  <a:pt x="2006" y="3143"/>
                </a:lnTo>
                <a:lnTo>
                  <a:pt x="1994" y="3138"/>
                </a:lnTo>
                <a:lnTo>
                  <a:pt x="1983" y="3133"/>
                </a:lnTo>
                <a:lnTo>
                  <a:pt x="1973" y="3128"/>
                </a:lnTo>
                <a:lnTo>
                  <a:pt x="1960" y="3124"/>
                </a:lnTo>
                <a:lnTo>
                  <a:pt x="1950" y="3116"/>
                </a:lnTo>
                <a:lnTo>
                  <a:pt x="1939" y="3112"/>
                </a:lnTo>
                <a:lnTo>
                  <a:pt x="1928" y="3108"/>
                </a:lnTo>
                <a:lnTo>
                  <a:pt x="1916" y="3099"/>
                </a:lnTo>
                <a:lnTo>
                  <a:pt x="1905" y="3095"/>
                </a:lnTo>
                <a:lnTo>
                  <a:pt x="1894" y="3088"/>
                </a:lnTo>
                <a:lnTo>
                  <a:pt x="1883" y="3082"/>
                </a:lnTo>
                <a:lnTo>
                  <a:pt x="1871" y="3075"/>
                </a:lnTo>
                <a:lnTo>
                  <a:pt x="1860" y="3067"/>
                </a:lnTo>
                <a:lnTo>
                  <a:pt x="1849" y="3062"/>
                </a:lnTo>
                <a:lnTo>
                  <a:pt x="1837" y="3053"/>
                </a:lnTo>
                <a:lnTo>
                  <a:pt x="1826" y="3045"/>
                </a:lnTo>
                <a:lnTo>
                  <a:pt x="1815" y="3038"/>
                </a:lnTo>
                <a:lnTo>
                  <a:pt x="1805" y="3032"/>
                </a:lnTo>
                <a:lnTo>
                  <a:pt x="1792" y="3022"/>
                </a:lnTo>
                <a:lnTo>
                  <a:pt x="1782" y="3013"/>
                </a:lnTo>
                <a:lnTo>
                  <a:pt x="1771" y="3004"/>
                </a:lnTo>
                <a:lnTo>
                  <a:pt x="1760" y="2997"/>
                </a:lnTo>
                <a:lnTo>
                  <a:pt x="1748" y="2988"/>
                </a:lnTo>
                <a:lnTo>
                  <a:pt x="1737" y="2976"/>
                </a:lnTo>
                <a:lnTo>
                  <a:pt x="1726" y="2965"/>
                </a:lnTo>
                <a:lnTo>
                  <a:pt x="1714" y="2958"/>
                </a:lnTo>
                <a:lnTo>
                  <a:pt x="1703" y="2948"/>
                </a:lnTo>
                <a:lnTo>
                  <a:pt x="1692" y="2934"/>
                </a:lnTo>
                <a:lnTo>
                  <a:pt x="1681" y="2929"/>
                </a:lnTo>
                <a:lnTo>
                  <a:pt x="1669" y="2915"/>
                </a:lnTo>
                <a:lnTo>
                  <a:pt x="1658" y="2902"/>
                </a:lnTo>
                <a:lnTo>
                  <a:pt x="1647" y="2890"/>
                </a:lnTo>
                <a:lnTo>
                  <a:pt x="1637" y="2881"/>
                </a:lnTo>
                <a:lnTo>
                  <a:pt x="1624" y="2867"/>
                </a:lnTo>
                <a:lnTo>
                  <a:pt x="1614" y="2847"/>
                </a:lnTo>
                <a:lnTo>
                  <a:pt x="1603" y="2826"/>
                </a:lnTo>
                <a:lnTo>
                  <a:pt x="1592" y="2812"/>
                </a:lnTo>
                <a:lnTo>
                  <a:pt x="1580" y="2797"/>
                </a:lnTo>
                <a:lnTo>
                  <a:pt x="1569" y="2785"/>
                </a:lnTo>
                <a:lnTo>
                  <a:pt x="1558" y="2765"/>
                </a:lnTo>
                <a:lnTo>
                  <a:pt x="1546" y="2747"/>
                </a:lnTo>
                <a:lnTo>
                  <a:pt x="1535" y="2741"/>
                </a:lnTo>
                <a:lnTo>
                  <a:pt x="1524" y="2713"/>
                </a:lnTo>
                <a:lnTo>
                  <a:pt x="1513" y="2706"/>
                </a:lnTo>
                <a:lnTo>
                  <a:pt x="1501" y="2681"/>
                </a:lnTo>
                <a:lnTo>
                  <a:pt x="1490" y="2667"/>
                </a:lnTo>
                <a:lnTo>
                  <a:pt x="1479" y="2648"/>
                </a:lnTo>
                <a:lnTo>
                  <a:pt x="1469" y="2627"/>
                </a:lnTo>
                <a:lnTo>
                  <a:pt x="1456" y="2607"/>
                </a:lnTo>
                <a:lnTo>
                  <a:pt x="1445" y="2592"/>
                </a:lnTo>
                <a:lnTo>
                  <a:pt x="1435" y="2560"/>
                </a:lnTo>
                <a:lnTo>
                  <a:pt x="1423" y="2554"/>
                </a:lnTo>
                <a:lnTo>
                  <a:pt x="1412" y="2521"/>
                </a:lnTo>
                <a:lnTo>
                  <a:pt x="1401" y="2508"/>
                </a:lnTo>
                <a:lnTo>
                  <a:pt x="1390" y="2480"/>
                </a:lnTo>
                <a:lnTo>
                  <a:pt x="1378" y="2454"/>
                </a:lnTo>
                <a:lnTo>
                  <a:pt x="1367" y="2427"/>
                </a:lnTo>
                <a:lnTo>
                  <a:pt x="1356" y="2395"/>
                </a:lnTo>
                <a:lnTo>
                  <a:pt x="1345" y="2391"/>
                </a:lnTo>
                <a:lnTo>
                  <a:pt x="1333" y="2363"/>
                </a:lnTo>
                <a:lnTo>
                  <a:pt x="1322" y="2318"/>
                </a:lnTo>
                <a:lnTo>
                  <a:pt x="1311" y="2298"/>
                </a:lnTo>
                <a:lnTo>
                  <a:pt x="1299" y="2279"/>
                </a:lnTo>
                <a:lnTo>
                  <a:pt x="1288" y="2245"/>
                </a:lnTo>
                <a:lnTo>
                  <a:pt x="1277" y="2191"/>
                </a:lnTo>
                <a:lnTo>
                  <a:pt x="1267" y="2196"/>
                </a:lnTo>
                <a:lnTo>
                  <a:pt x="1255" y="2152"/>
                </a:lnTo>
                <a:lnTo>
                  <a:pt x="1244" y="2120"/>
                </a:lnTo>
                <a:lnTo>
                  <a:pt x="1233" y="2088"/>
                </a:lnTo>
                <a:lnTo>
                  <a:pt x="1222" y="2054"/>
                </a:lnTo>
                <a:lnTo>
                  <a:pt x="1210" y="2021"/>
                </a:lnTo>
                <a:lnTo>
                  <a:pt x="1199" y="1986"/>
                </a:lnTo>
                <a:lnTo>
                  <a:pt x="1188" y="1951"/>
                </a:lnTo>
                <a:lnTo>
                  <a:pt x="1176" y="1915"/>
                </a:lnTo>
                <a:lnTo>
                  <a:pt x="1165" y="1878"/>
                </a:lnTo>
                <a:lnTo>
                  <a:pt x="1154" y="1841"/>
                </a:lnTo>
                <a:lnTo>
                  <a:pt x="1143" y="1803"/>
                </a:lnTo>
                <a:lnTo>
                  <a:pt x="1131" y="1763"/>
                </a:lnTo>
                <a:lnTo>
                  <a:pt x="1120" y="1723"/>
                </a:lnTo>
                <a:lnTo>
                  <a:pt x="1109" y="1683"/>
                </a:lnTo>
                <a:lnTo>
                  <a:pt x="1099" y="1641"/>
                </a:lnTo>
                <a:lnTo>
                  <a:pt x="1087" y="1599"/>
                </a:lnTo>
                <a:lnTo>
                  <a:pt x="1076" y="1557"/>
                </a:lnTo>
                <a:lnTo>
                  <a:pt x="1065" y="1514"/>
                </a:lnTo>
                <a:lnTo>
                  <a:pt x="1054" y="1470"/>
                </a:lnTo>
                <a:lnTo>
                  <a:pt x="1042" y="1425"/>
                </a:lnTo>
                <a:lnTo>
                  <a:pt x="1031" y="1380"/>
                </a:lnTo>
                <a:lnTo>
                  <a:pt x="1020" y="1335"/>
                </a:lnTo>
                <a:lnTo>
                  <a:pt x="1008" y="1288"/>
                </a:lnTo>
                <a:lnTo>
                  <a:pt x="997" y="1242"/>
                </a:lnTo>
                <a:lnTo>
                  <a:pt x="986" y="1195"/>
                </a:lnTo>
                <a:lnTo>
                  <a:pt x="975" y="1147"/>
                </a:lnTo>
                <a:lnTo>
                  <a:pt x="963" y="1099"/>
                </a:lnTo>
                <a:lnTo>
                  <a:pt x="952" y="1051"/>
                </a:lnTo>
                <a:lnTo>
                  <a:pt x="941" y="1003"/>
                </a:lnTo>
                <a:lnTo>
                  <a:pt x="931" y="954"/>
                </a:lnTo>
                <a:lnTo>
                  <a:pt x="919" y="905"/>
                </a:lnTo>
                <a:lnTo>
                  <a:pt x="908" y="857"/>
                </a:lnTo>
                <a:lnTo>
                  <a:pt x="897" y="808"/>
                </a:lnTo>
                <a:lnTo>
                  <a:pt x="885" y="759"/>
                </a:lnTo>
                <a:lnTo>
                  <a:pt x="874" y="711"/>
                </a:lnTo>
                <a:lnTo>
                  <a:pt x="863" y="663"/>
                </a:lnTo>
                <a:lnTo>
                  <a:pt x="852" y="616"/>
                </a:lnTo>
                <a:lnTo>
                  <a:pt x="840" y="568"/>
                </a:lnTo>
                <a:lnTo>
                  <a:pt x="829" y="522"/>
                </a:lnTo>
                <a:lnTo>
                  <a:pt x="818" y="478"/>
                </a:lnTo>
                <a:lnTo>
                  <a:pt x="806" y="433"/>
                </a:lnTo>
                <a:lnTo>
                  <a:pt x="795" y="390"/>
                </a:lnTo>
                <a:lnTo>
                  <a:pt x="784" y="347"/>
                </a:lnTo>
                <a:lnTo>
                  <a:pt x="773" y="307"/>
                </a:lnTo>
                <a:lnTo>
                  <a:pt x="762" y="268"/>
                </a:lnTo>
                <a:lnTo>
                  <a:pt x="751" y="230"/>
                </a:lnTo>
                <a:lnTo>
                  <a:pt x="740" y="196"/>
                </a:lnTo>
                <a:lnTo>
                  <a:pt x="729" y="163"/>
                </a:lnTo>
                <a:lnTo>
                  <a:pt x="717" y="132"/>
                </a:lnTo>
                <a:lnTo>
                  <a:pt x="706" y="104"/>
                </a:lnTo>
                <a:lnTo>
                  <a:pt x="695" y="79"/>
                </a:lnTo>
                <a:lnTo>
                  <a:pt x="684" y="57"/>
                </a:lnTo>
                <a:lnTo>
                  <a:pt x="672" y="38"/>
                </a:lnTo>
                <a:lnTo>
                  <a:pt x="661" y="22"/>
                </a:lnTo>
                <a:lnTo>
                  <a:pt x="650" y="11"/>
                </a:lnTo>
                <a:lnTo>
                  <a:pt x="638" y="4"/>
                </a:lnTo>
                <a:lnTo>
                  <a:pt x="627" y="0"/>
                </a:lnTo>
                <a:lnTo>
                  <a:pt x="616" y="2"/>
                </a:lnTo>
                <a:lnTo>
                  <a:pt x="605" y="7"/>
                </a:lnTo>
                <a:lnTo>
                  <a:pt x="594" y="19"/>
                </a:lnTo>
                <a:lnTo>
                  <a:pt x="583" y="34"/>
                </a:lnTo>
                <a:lnTo>
                  <a:pt x="572" y="55"/>
                </a:lnTo>
                <a:lnTo>
                  <a:pt x="561" y="82"/>
                </a:lnTo>
                <a:lnTo>
                  <a:pt x="549" y="115"/>
                </a:lnTo>
                <a:lnTo>
                  <a:pt x="538" y="154"/>
                </a:lnTo>
                <a:lnTo>
                  <a:pt x="527" y="199"/>
                </a:lnTo>
                <a:lnTo>
                  <a:pt x="515" y="249"/>
                </a:lnTo>
                <a:lnTo>
                  <a:pt x="504" y="306"/>
                </a:lnTo>
                <a:lnTo>
                  <a:pt x="493" y="369"/>
                </a:lnTo>
                <a:lnTo>
                  <a:pt x="482" y="438"/>
                </a:lnTo>
                <a:lnTo>
                  <a:pt x="470" y="515"/>
                </a:lnTo>
                <a:lnTo>
                  <a:pt x="459" y="595"/>
                </a:lnTo>
                <a:lnTo>
                  <a:pt x="448" y="692"/>
                </a:lnTo>
                <a:lnTo>
                  <a:pt x="437" y="773"/>
                </a:lnTo>
                <a:lnTo>
                  <a:pt x="425" y="886"/>
                </a:lnTo>
                <a:lnTo>
                  <a:pt x="415" y="978"/>
                </a:lnTo>
                <a:lnTo>
                  <a:pt x="404" y="1100"/>
                </a:lnTo>
                <a:lnTo>
                  <a:pt x="393" y="1206"/>
                </a:lnTo>
                <a:lnTo>
                  <a:pt x="381" y="1326"/>
                </a:lnTo>
                <a:lnTo>
                  <a:pt x="370" y="1446"/>
                </a:lnTo>
                <a:lnTo>
                  <a:pt x="359" y="1570"/>
                </a:lnTo>
                <a:lnTo>
                  <a:pt x="347" y="1697"/>
                </a:lnTo>
                <a:lnTo>
                  <a:pt x="336" y="1821"/>
                </a:lnTo>
                <a:lnTo>
                  <a:pt x="325" y="1950"/>
                </a:lnTo>
                <a:lnTo>
                  <a:pt x="314" y="2072"/>
                </a:lnTo>
                <a:lnTo>
                  <a:pt x="302" y="2198"/>
                </a:lnTo>
                <a:lnTo>
                  <a:pt x="291" y="2318"/>
                </a:lnTo>
                <a:lnTo>
                  <a:pt x="280" y="2434"/>
                </a:lnTo>
                <a:lnTo>
                  <a:pt x="268" y="2545"/>
                </a:lnTo>
                <a:lnTo>
                  <a:pt x="257" y="2651"/>
                </a:lnTo>
                <a:lnTo>
                  <a:pt x="247" y="2750"/>
                </a:lnTo>
                <a:lnTo>
                  <a:pt x="236" y="2841"/>
                </a:lnTo>
                <a:lnTo>
                  <a:pt x="224" y="2924"/>
                </a:lnTo>
                <a:lnTo>
                  <a:pt x="213" y="2998"/>
                </a:lnTo>
                <a:lnTo>
                  <a:pt x="202" y="3064"/>
                </a:lnTo>
                <a:lnTo>
                  <a:pt x="191" y="3120"/>
                </a:lnTo>
                <a:lnTo>
                  <a:pt x="179" y="3168"/>
                </a:lnTo>
                <a:lnTo>
                  <a:pt x="168" y="3207"/>
                </a:lnTo>
                <a:lnTo>
                  <a:pt x="157" y="3238"/>
                </a:lnTo>
                <a:lnTo>
                  <a:pt x="146" y="3262"/>
                </a:lnTo>
                <a:lnTo>
                  <a:pt x="134" y="3279"/>
                </a:lnTo>
                <a:lnTo>
                  <a:pt x="123" y="3292"/>
                </a:lnTo>
                <a:lnTo>
                  <a:pt x="112" y="3300"/>
                </a:lnTo>
                <a:lnTo>
                  <a:pt x="100" y="3305"/>
                </a:lnTo>
                <a:lnTo>
                  <a:pt x="89" y="3308"/>
                </a:lnTo>
                <a:lnTo>
                  <a:pt x="79" y="3310"/>
                </a:lnTo>
                <a:lnTo>
                  <a:pt x="68" y="3311"/>
                </a:lnTo>
                <a:lnTo>
                  <a:pt x="56" y="3311"/>
                </a:lnTo>
                <a:lnTo>
                  <a:pt x="45" y="3311"/>
                </a:lnTo>
                <a:lnTo>
                  <a:pt x="34" y="3311"/>
                </a:lnTo>
                <a:lnTo>
                  <a:pt x="23" y="3311"/>
                </a:lnTo>
                <a:lnTo>
                  <a:pt x="11" y="3311"/>
                </a:lnTo>
                <a:lnTo>
                  <a:pt x="0" y="3311"/>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82760" y="3456000"/>
            <a:ext cx="1906560" cy="1362240"/>
          </a:xfrm>
          <a:custGeom>
            <a:avLst/>
            <a:gdLst/>
            <a:ahLst/>
            <a:rect l="l" t="t" r="r" b="b"/>
            <a:pathLst>
              <a:path w="2775" h="3318">
                <a:moveTo>
                  <a:pt x="0" y="3317"/>
                </a:moveTo>
                <a:lnTo>
                  <a:pt x="11" y="3317"/>
                </a:lnTo>
                <a:lnTo>
                  <a:pt x="23" y="3317"/>
                </a:lnTo>
                <a:lnTo>
                  <a:pt x="34" y="3317"/>
                </a:lnTo>
                <a:lnTo>
                  <a:pt x="45" y="3317"/>
                </a:lnTo>
                <a:lnTo>
                  <a:pt x="57" y="3317"/>
                </a:lnTo>
                <a:lnTo>
                  <a:pt x="68" y="3317"/>
                </a:lnTo>
                <a:lnTo>
                  <a:pt x="79" y="3316"/>
                </a:lnTo>
                <a:lnTo>
                  <a:pt x="89" y="3314"/>
                </a:lnTo>
                <a:lnTo>
                  <a:pt x="101" y="3311"/>
                </a:lnTo>
                <a:lnTo>
                  <a:pt x="112" y="3306"/>
                </a:lnTo>
                <a:lnTo>
                  <a:pt x="123" y="3298"/>
                </a:lnTo>
                <a:lnTo>
                  <a:pt x="135" y="3285"/>
                </a:lnTo>
                <a:lnTo>
                  <a:pt x="146" y="3268"/>
                </a:lnTo>
                <a:lnTo>
                  <a:pt x="157" y="3244"/>
                </a:lnTo>
                <a:lnTo>
                  <a:pt x="168" y="3213"/>
                </a:lnTo>
                <a:lnTo>
                  <a:pt x="180" y="3173"/>
                </a:lnTo>
                <a:lnTo>
                  <a:pt x="191" y="3126"/>
                </a:lnTo>
                <a:lnTo>
                  <a:pt x="202" y="3069"/>
                </a:lnTo>
                <a:lnTo>
                  <a:pt x="214" y="3004"/>
                </a:lnTo>
                <a:lnTo>
                  <a:pt x="225" y="2930"/>
                </a:lnTo>
                <a:lnTo>
                  <a:pt x="236" y="2846"/>
                </a:lnTo>
                <a:lnTo>
                  <a:pt x="248" y="2755"/>
                </a:lnTo>
                <a:lnTo>
                  <a:pt x="258" y="2656"/>
                </a:lnTo>
                <a:lnTo>
                  <a:pt x="269" y="2550"/>
                </a:lnTo>
                <a:lnTo>
                  <a:pt x="280" y="2438"/>
                </a:lnTo>
                <a:lnTo>
                  <a:pt x="292" y="2323"/>
                </a:lnTo>
                <a:lnTo>
                  <a:pt x="303" y="2202"/>
                </a:lnTo>
                <a:lnTo>
                  <a:pt x="314" y="2076"/>
                </a:lnTo>
                <a:lnTo>
                  <a:pt x="326" y="1953"/>
                </a:lnTo>
                <a:lnTo>
                  <a:pt x="337" y="1825"/>
                </a:lnTo>
                <a:lnTo>
                  <a:pt x="348" y="1700"/>
                </a:lnTo>
                <a:lnTo>
                  <a:pt x="359" y="1573"/>
                </a:lnTo>
                <a:lnTo>
                  <a:pt x="371" y="1448"/>
                </a:lnTo>
                <a:lnTo>
                  <a:pt x="382" y="1328"/>
                </a:lnTo>
                <a:lnTo>
                  <a:pt x="393" y="1208"/>
                </a:lnTo>
                <a:lnTo>
                  <a:pt x="405" y="1102"/>
                </a:lnTo>
                <a:lnTo>
                  <a:pt x="416" y="979"/>
                </a:lnTo>
                <a:lnTo>
                  <a:pt x="426" y="887"/>
                </a:lnTo>
                <a:lnTo>
                  <a:pt x="437" y="774"/>
                </a:lnTo>
                <a:lnTo>
                  <a:pt x="449" y="693"/>
                </a:lnTo>
                <a:lnTo>
                  <a:pt x="460" y="596"/>
                </a:lnTo>
                <a:lnTo>
                  <a:pt x="471" y="516"/>
                </a:lnTo>
                <a:lnTo>
                  <a:pt x="483" y="439"/>
                </a:lnTo>
                <a:lnTo>
                  <a:pt x="494" y="370"/>
                </a:lnTo>
                <a:lnTo>
                  <a:pt x="505" y="307"/>
                </a:lnTo>
                <a:lnTo>
                  <a:pt x="517" y="250"/>
                </a:lnTo>
                <a:lnTo>
                  <a:pt x="528" y="199"/>
                </a:lnTo>
                <a:lnTo>
                  <a:pt x="539" y="154"/>
                </a:lnTo>
                <a:lnTo>
                  <a:pt x="551" y="115"/>
                </a:lnTo>
                <a:lnTo>
                  <a:pt x="562" y="83"/>
                </a:lnTo>
                <a:lnTo>
                  <a:pt x="573" y="55"/>
                </a:lnTo>
                <a:lnTo>
                  <a:pt x="584" y="34"/>
                </a:lnTo>
                <a:lnTo>
                  <a:pt x="596" y="19"/>
                </a:lnTo>
                <a:lnTo>
                  <a:pt x="606" y="8"/>
                </a:lnTo>
                <a:lnTo>
                  <a:pt x="617" y="2"/>
                </a:lnTo>
                <a:lnTo>
                  <a:pt x="629" y="0"/>
                </a:lnTo>
                <a:lnTo>
                  <a:pt x="640" y="4"/>
                </a:lnTo>
                <a:lnTo>
                  <a:pt x="651" y="11"/>
                </a:lnTo>
                <a:lnTo>
                  <a:pt x="662" y="23"/>
                </a:lnTo>
                <a:lnTo>
                  <a:pt x="674" y="38"/>
                </a:lnTo>
                <a:lnTo>
                  <a:pt x="685" y="57"/>
                </a:lnTo>
                <a:lnTo>
                  <a:pt x="696" y="79"/>
                </a:lnTo>
                <a:lnTo>
                  <a:pt x="708" y="104"/>
                </a:lnTo>
                <a:lnTo>
                  <a:pt x="719" y="132"/>
                </a:lnTo>
                <a:lnTo>
                  <a:pt x="730" y="163"/>
                </a:lnTo>
                <a:lnTo>
                  <a:pt x="742" y="196"/>
                </a:lnTo>
                <a:lnTo>
                  <a:pt x="753" y="231"/>
                </a:lnTo>
                <a:lnTo>
                  <a:pt x="764" y="268"/>
                </a:lnTo>
                <a:lnTo>
                  <a:pt x="774" y="308"/>
                </a:lnTo>
                <a:lnTo>
                  <a:pt x="786" y="348"/>
                </a:lnTo>
                <a:lnTo>
                  <a:pt x="797" y="390"/>
                </a:lnTo>
                <a:lnTo>
                  <a:pt x="808" y="433"/>
                </a:lnTo>
                <a:lnTo>
                  <a:pt x="820" y="478"/>
                </a:lnTo>
                <a:lnTo>
                  <a:pt x="831" y="523"/>
                </a:lnTo>
                <a:lnTo>
                  <a:pt x="842" y="569"/>
                </a:lnTo>
                <a:lnTo>
                  <a:pt x="853" y="617"/>
                </a:lnTo>
                <a:lnTo>
                  <a:pt x="865" y="664"/>
                </a:lnTo>
                <a:lnTo>
                  <a:pt x="876" y="712"/>
                </a:lnTo>
                <a:lnTo>
                  <a:pt x="887" y="761"/>
                </a:lnTo>
                <a:lnTo>
                  <a:pt x="899" y="810"/>
                </a:lnTo>
                <a:lnTo>
                  <a:pt x="910" y="858"/>
                </a:lnTo>
                <a:lnTo>
                  <a:pt x="921" y="907"/>
                </a:lnTo>
                <a:lnTo>
                  <a:pt x="933" y="956"/>
                </a:lnTo>
                <a:lnTo>
                  <a:pt x="943" y="1005"/>
                </a:lnTo>
                <a:lnTo>
                  <a:pt x="954" y="1053"/>
                </a:lnTo>
                <a:lnTo>
                  <a:pt x="965" y="1101"/>
                </a:lnTo>
                <a:lnTo>
                  <a:pt x="977" y="1149"/>
                </a:lnTo>
                <a:lnTo>
                  <a:pt x="988" y="1197"/>
                </a:lnTo>
                <a:lnTo>
                  <a:pt x="999" y="1244"/>
                </a:lnTo>
                <a:lnTo>
                  <a:pt x="1011" y="1291"/>
                </a:lnTo>
                <a:lnTo>
                  <a:pt x="1022" y="1338"/>
                </a:lnTo>
                <a:lnTo>
                  <a:pt x="1033" y="1383"/>
                </a:lnTo>
                <a:lnTo>
                  <a:pt x="1044" y="1428"/>
                </a:lnTo>
                <a:lnTo>
                  <a:pt x="1056" y="1473"/>
                </a:lnTo>
                <a:lnTo>
                  <a:pt x="1067" y="1517"/>
                </a:lnTo>
                <a:lnTo>
                  <a:pt x="1078" y="1560"/>
                </a:lnTo>
                <a:lnTo>
                  <a:pt x="1090" y="1602"/>
                </a:lnTo>
                <a:lnTo>
                  <a:pt x="1101" y="1644"/>
                </a:lnTo>
                <a:lnTo>
                  <a:pt x="1111" y="1686"/>
                </a:lnTo>
                <a:lnTo>
                  <a:pt x="1122" y="1726"/>
                </a:lnTo>
                <a:lnTo>
                  <a:pt x="1134" y="1766"/>
                </a:lnTo>
                <a:lnTo>
                  <a:pt x="1145" y="1806"/>
                </a:lnTo>
                <a:lnTo>
                  <a:pt x="1156" y="1844"/>
                </a:lnTo>
                <a:lnTo>
                  <a:pt x="1168" y="1882"/>
                </a:lnTo>
                <a:lnTo>
                  <a:pt x="1179" y="1918"/>
                </a:lnTo>
                <a:lnTo>
                  <a:pt x="1190" y="1955"/>
                </a:lnTo>
                <a:lnTo>
                  <a:pt x="1202" y="1990"/>
                </a:lnTo>
                <a:lnTo>
                  <a:pt x="1213" y="2024"/>
                </a:lnTo>
                <a:lnTo>
                  <a:pt x="1224" y="2058"/>
                </a:lnTo>
                <a:lnTo>
                  <a:pt x="1236" y="2092"/>
                </a:lnTo>
                <a:lnTo>
                  <a:pt x="1247" y="2124"/>
                </a:lnTo>
                <a:lnTo>
                  <a:pt x="1258" y="2156"/>
                </a:lnTo>
                <a:lnTo>
                  <a:pt x="1269" y="2200"/>
                </a:lnTo>
                <a:lnTo>
                  <a:pt x="1280" y="2195"/>
                </a:lnTo>
                <a:lnTo>
                  <a:pt x="1291" y="2249"/>
                </a:lnTo>
                <a:lnTo>
                  <a:pt x="1302" y="2283"/>
                </a:lnTo>
                <a:lnTo>
                  <a:pt x="1314" y="2302"/>
                </a:lnTo>
                <a:lnTo>
                  <a:pt x="1325" y="2322"/>
                </a:lnTo>
                <a:lnTo>
                  <a:pt x="1336" y="2368"/>
                </a:lnTo>
                <a:lnTo>
                  <a:pt x="1347" y="2396"/>
                </a:lnTo>
                <a:lnTo>
                  <a:pt x="1359" y="2400"/>
                </a:lnTo>
                <a:lnTo>
                  <a:pt x="1370" y="2431"/>
                </a:lnTo>
                <a:lnTo>
                  <a:pt x="1381" y="2459"/>
                </a:lnTo>
                <a:lnTo>
                  <a:pt x="1393" y="2484"/>
                </a:lnTo>
                <a:lnTo>
                  <a:pt x="1404" y="2512"/>
                </a:lnTo>
                <a:lnTo>
                  <a:pt x="1415" y="2525"/>
                </a:lnTo>
                <a:lnTo>
                  <a:pt x="1427" y="2559"/>
                </a:lnTo>
                <a:lnTo>
                  <a:pt x="1438" y="2565"/>
                </a:lnTo>
                <a:lnTo>
                  <a:pt x="1448" y="2597"/>
                </a:lnTo>
                <a:lnTo>
                  <a:pt x="1459" y="2612"/>
                </a:lnTo>
                <a:lnTo>
                  <a:pt x="1472" y="2632"/>
                </a:lnTo>
                <a:lnTo>
                  <a:pt x="1482" y="2653"/>
                </a:lnTo>
                <a:lnTo>
                  <a:pt x="1493" y="2672"/>
                </a:lnTo>
                <a:lnTo>
                  <a:pt x="1505" y="2686"/>
                </a:lnTo>
                <a:lnTo>
                  <a:pt x="1516" y="2711"/>
                </a:lnTo>
                <a:lnTo>
                  <a:pt x="1527" y="2718"/>
                </a:lnTo>
                <a:lnTo>
                  <a:pt x="1538" y="2746"/>
                </a:lnTo>
                <a:lnTo>
                  <a:pt x="1550" y="2752"/>
                </a:lnTo>
                <a:lnTo>
                  <a:pt x="1561" y="2770"/>
                </a:lnTo>
                <a:lnTo>
                  <a:pt x="1572" y="2790"/>
                </a:lnTo>
                <a:lnTo>
                  <a:pt x="1584" y="2802"/>
                </a:lnTo>
                <a:lnTo>
                  <a:pt x="1595" y="2817"/>
                </a:lnTo>
                <a:lnTo>
                  <a:pt x="1606" y="2831"/>
                </a:lnTo>
                <a:lnTo>
                  <a:pt x="1618" y="2852"/>
                </a:lnTo>
                <a:lnTo>
                  <a:pt x="1628" y="2872"/>
                </a:lnTo>
                <a:lnTo>
                  <a:pt x="1640" y="2886"/>
                </a:lnTo>
                <a:lnTo>
                  <a:pt x="1650" y="2895"/>
                </a:lnTo>
                <a:lnTo>
                  <a:pt x="1662" y="2907"/>
                </a:lnTo>
                <a:lnTo>
                  <a:pt x="1673" y="2920"/>
                </a:lnTo>
                <a:lnTo>
                  <a:pt x="1684" y="2934"/>
                </a:lnTo>
                <a:lnTo>
                  <a:pt x="1696" y="2939"/>
                </a:lnTo>
                <a:lnTo>
                  <a:pt x="1707" y="2953"/>
                </a:lnTo>
                <a:lnTo>
                  <a:pt x="1718" y="2963"/>
                </a:lnTo>
                <a:lnTo>
                  <a:pt x="1730" y="2971"/>
                </a:lnTo>
                <a:lnTo>
                  <a:pt x="1741" y="2981"/>
                </a:lnTo>
                <a:lnTo>
                  <a:pt x="1752" y="2993"/>
                </a:lnTo>
                <a:lnTo>
                  <a:pt x="1763" y="3003"/>
                </a:lnTo>
                <a:lnTo>
                  <a:pt x="1775" y="3009"/>
                </a:lnTo>
                <a:lnTo>
                  <a:pt x="1786" y="3019"/>
                </a:lnTo>
                <a:lnTo>
                  <a:pt x="1796" y="3027"/>
                </a:lnTo>
                <a:lnTo>
                  <a:pt x="1809" y="3037"/>
                </a:lnTo>
                <a:lnTo>
                  <a:pt x="1819" y="3043"/>
                </a:lnTo>
                <a:lnTo>
                  <a:pt x="1830" y="3051"/>
                </a:lnTo>
                <a:lnTo>
                  <a:pt x="1841" y="3059"/>
                </a:lnTo>
                <a:lnTo>
                  <a:pt x="1853" y="3067"/>
                </a:lnTo>
                <a:lnTo>
                  <a:pt x="1864" y="3072"/>
                </a:lnTo>
                <a:lnTo>
                  <a:pt x="1875" y="3081"/>
                </a:lnTo>
                <a:lnTo>
                  <a:pt x="1887" y="3087"/>
                </a:lnTo>
                <a:lnTo>
                  <a:pt x="1898" y="3094"/>
                </a:lnTo>
                <a:lnTo>
                  <a:pt x="1909" y="3100"/>
                </a:lnTo>
                <a:lnTo>
                  <a:pt x="1921" y="3105"/>
                </a:lnTo>
                <a:lnTo>
                  <a:pt x="1932" y="3113"/>
                </a:lnTo>
                <a:lnTo>
                  <a:pt x="1943" y="3118"/>
                </a:lnTo>
                <a:lnTo>
                  <a:pt x="1954" y="3122"/>
                </a:lnTo>
                <a:lnTo>
                  <a:pt x="1965" y="3129"/>
                </a:lnTo>
                <a:lnTo>
                  <a:pt x="1977" y="3134"/>
                </a:lnTo>
                <a:lnTo>
                  <a:pt x="1987" y="3139"/>
                </a:lnTo>
                <a:lnTo>
                  <a:pt x="1999" y="3143"/>
                </a:lnTo>
                <a:lnTo>
                  <a:pt x="2010" y="3149"/>
                </a:lnTo>
                <a:lnTo>
                  <a:pt x="2021" y="3154"/>
                </a:lnTo>
                <a:lnTo>
                  <a:pt x="2032" y="3158"/>
                </a:lnTo>
                <a:lnTo>
                  <a:pt x="2044" y="3163"/>
                </a:lnTo>
                <a:lnTo>
                  <a:pt x="2055" y="3167"/>
                </a:lnTo>
                <a:lnTo>
                  <a:pt x="2066" y="3172"/>
                </a:lnTo>
                <a:lnTo>
                  <a:pt x="2078" y="3175"/>
                </a:lnTo>
                <a:lnTo>
                  <a:pt x="2089" y="3179"/>
                </a:lnTo>
                <a:lnTo>
                  <a:pt x="2100" y="3183"/>
                </a:lnTo>
                <a:lnTo>
                  <a:pt x="2112" y="3187"/>
                </a:lnTo>
                <a:lnTo>
                  <a:pt x="2123" y="3190"/>
                </a:lnTo>
                <a:lnTo>
                  <a:pt x="2133" y="3194"/>
                </a:lnTo>
                <a:lnTo>
                  <a:pt x="2145" y="3198"/>
                </a:lnTo>
                <a:lnTo>
                  <a:pt x="2156" y="3201"/>
                </a:lnTo>
                <a:lnTo>
                  <a:pt x="2167" y="3203"/>
                </a:lnTo>
                <a:lnTo>
                  <a:pt x="2178" y="3207"/>
                </a:lnTo>
                <a:lnTo>
                  <a:pt x="2190" y="3210"/>
                </a:lnTo>
                <a:lnTo>
                  <a:pt x="2201" y="3213"/>
                </a:lnTo>
                <a:lnTo>
                  <a:pt x="2212" y="3216"/>
                </a:lnTo>
                <a:lnTo>
                  <a:pt x="2223" y="3219"/>
                </a:lnTo>
                <a:lnTo>
                  <a:pt x="2235" y="3221"/>
                </a:lnTo>
                <a:lnTo>
                  <a:pt x="2246" y="3224"/>
                </a:lnTo>
                <a:lnTo>
                  <a:pt x="2257" y="3227"/>
                </a:lnTo>
                <a:lnTo>
                  <a:pt x="2269" y="3229"/>
                </a:lnTo>
                <a:lnTo>
                  <a:pt x="2280" y="3232"/>
                </a:lnTo>
                <a:lnTo>
                  <a:pt x="2291" y="3234"/>
                </a:lnTo>
                <a:lnTo>
                  <a:pt x="2301" y="3236"/>
                </a:lnTo>
                <a:lnTo>
                  <a:pt x="2314" y="3238"/>
                </a:lnTo>
                <a:lnTo>
                  <a:pt x="2324" y="3240"/>
                </a:lnTo>
                <a:lnTo>
                  <a:pt x="2335" y="3243"/>
                </a:lnTo>
                <a:lnTo>
                  <a:pt x="2347" y="3244"/>
                </a:lnTo>
                <a:lnTo>
                  <a:pt x="2358" y="3247"/>
                </a:lnTo>
                <a:lnTo>
                  <a:pt x="2369" y="3249"/>
                </a:lnTo>
                <a:lnTo>
                  <a:pt x="2381" y="3250"/>
                </a:lnTo>
                <a:lnTo>
                  <a:pt x="2392" y="3252"/>
                </a:lnTo>
                <a:lnTo>
                  <a:pt x="2403" y="3254"/>
                </a:lnTo>
                <a:lnTo>
                  <a:pt x="2415" y="3256"/>
                </a:lnTo>
                <a:lnTo>
                  <a:pt x="2426" y="3257"/>
                </a:lnTo>
                <a:lnTo>
                  <a:pt x="2437" y="3259"/>
                </a:lnTo>
                <a:lnTo>
                  <a:pt x="2448" y="3261"/>
                </a:lnTo>
                <a:lnTo>
                  <a:pt x="2460" y="3262"/>
                </a:lnTo>
                <a:lnTo>
                  <a:pt x="2470" y="3264"/>
                </a:lnTo>
                <a:lnTo>
                  <a:pt x="2482" y="3264"/>
                </a:lnTo>
                <a:lnTo>
                  <a:pt x="2494" y="3266"/>
                </a:lnTo>
                <a:lnTo>
                  <a:pt x="2504" y="3267"/>
                </a:lnTo>
                <a:lnTo>
                  <a:pt x="2515" y="3269"/>
                </a:lnTo>
                <a:lnTo>
                  <a:pt x="2526" y="3270"/>
                </a:lnTo>
                <a:lnTo>
                  <a:pt x="2538" y="3272"/>
                </a:lnTo>
                <a:lnTo>
                  <a:pt x="2549" y="3273"/>
                </a:lnTo>
                <a:lnTo>
                  <a:pt x="2560" y="3274"/>
                </a:lnTo>
                <a:lnTo>
                  <a:pt x="2572" y="3275"/>
                </a:lnTo>
                <a:lnTo>
                  <a:pt x="2583" y="3276"/>
                </a:lnTo>
                <a:lnTo>
                  <a:pt x="2594" y="3278"/>
                </a:lnTo>
                <a:lnTo>
                  <a:pt x="2606" y="3279"/>
                </a:lnTo>
                <a:lnTo>
                  <a:pt x="2617" y="3279"/>
                </a:lnTo>
                <a:lnTo>
                  <a:pt x="2628" y="3280"/>
                </a:lnTo>
                <a:lnTo>
                  <a:pt x="2639" y="3281"/>
                </a:lnTo>
                <a:lnTo>
                  <a:pt x="2651" y="3282"/>
                </a:lnTo>
                <a:lnTo>
                  <a:pt x="2662" y="3283"/>
                </a:lnTo>
                <a:lnTo>
                  <a:pt x="2672" y="3284"/>
                </a:lnTo>
                <a:lnTo>
                  <a:pt x="2684" y="3285"/>
                </a:lnTo>
                <a:lnTo>
                  <a:pt x="2695" y="3286"/>
                </a:lnTo>
                <a:lnTo>
                  <a:pt x="2706" y="3287"/>
                </a:lnTo>
                <a:lnTo>
                  <a:pt x="2717" y="3287"/>
                </a:lnTo>
                <a:lnTo>
                  <a:pt x="2729" y="3288"/>
                </a:lnTo>
                <a:lnTo>
                  <a:pt x="2740" y="3289"/>
                </a:lnTo>
                <a:lnTo>
                  <a:pt x="2751" y="3290"/>
                </a:lnTo>
                <a:lnTo>
                  <a:pt x="2763" y="3291"/>
                </a:lnTo>
                <a:lnTo>
                  <a:pt x="2774" y="331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82760" y="3456000"/>
            <a:ext cx="1906560" cy="1362240"/>
          </a:xfrm>
          <a:custGeom>
            <a:avLst/>
            <a:gdLst/>
            <a:ahLst/>
            <a:rect l="l" t="t" r="r" b="b"/>
            <a:pathLst>
              <a:path w="2775" h="3318">
                <a:moveTo>
                  <a:pt x="0" y="3317"/>
                </a:moveTo>
                <a:lnTo>
                  <a:pt x="11" y="3317"/>
                </a:lnTo>
                <a:lnTo>
                  <a:pt x="23" y="3317"/>
                </a:lnTo>
                <a:lnTo>
                  <a:pt x="34" y="3317"/>
                </a:lnTo>
                <a:lnTo>
                  <a:pt x="45" y="3317"/>
                </a:lnTo>
                <a:lnTo>
                  <a:pt x="57" y="3317"/>
                </a:lnTo>
                <a:lnTo>
                  <a:pt x="68" y="3317"/>
                </a:lnTo>
                <a:lnTo>
                  <a:pt x="79" y="3316"/>
                </a:lnTo>
                <a:lnTo>
                  <a:pt x="89" y="3314"/>
                </a:lnTo>
                <a:lnTo>
                  <a:pt x="101" y="3311"/>
                </a:lnTo>
                <a:lnTo>
                  <a:pt x="112" y="3306"/>
                </a:lnTo>
                <a:lnTo>
                  <a:pt x="123" y="3298"/>
                </a:lnTo>
                <a:lnTo>
                  <a:pt x="135" y="3285"/>
                </a:lnTo>
                <a:lnTo>
                  <a:pt x="146" y="3268"/>
                </a:lnTo>
                <a:lnTo>
                  <a:pt x="157" y="3244"/>
                </a:lnTo>
                <a:lnTo>
                  <a:pt x="168" y="3213"/>
                </a:lnTo>
                <a:lnTo>
                  <a:pt x="180" y="3173"/>
                </a:lnTo>
                <a:lnTo>
                  <a:pt x="191" y="3126"/>
                </a:lnTo>
                <a:lnTo>
                  <a:pt x="202" y="3069"/>
                </a:lnTo>
                <a:lnTo>
                  <a:pt x="214" y="3004"/>
                </a:lnTo>
                <a:lnTo>
                  <a:pt x="225" y="2930"/>
                </a:lnTo>
                <a:lnTo>
                  <a:pt x="236" y="2846"/>
                </a:lnTo>
                <a:lnTo>
                  <a:pt x="248" y="2755"/>
                </a:lnTo>
                <a:lnTo>
                  <a:pt x="258" y="2656"/>
                </a:lnTo>
                <a:lnTo>
                  <a:pt x="269" y="2550"/>
                </a:lnTo>
                <a:lnTo>
                  <a:pt x="280" y="2438"/>
                </a:lnTo>
                <a:lnTo>
                  <a:pt x="292" y="2323"/>
                </a:lnTo>
                <a:lnTo>
                  <a:pt x="303" y="2202"/>
                </a:lnTo>
                <a:lnTo>
                  <a:pt x="314" y="2076"/>
                </a:lnTo>
                <a:lnTo>
                  <a:pt x="326" y="1953"/>
                </a:lnTo>
                <a:lnTo>
                  <a:pt x="337" y="1825"/>
                </a:lnTo>
                <a:lnTo>
                  <a:pt x="348" y="1700"/>
                </a:lnTo>
                <a:lnTo>
                  <a:pt x="359" y="1573"/>
                </a:lnTo>
                <a:lnTo>
                  <a:pt x="371" y="1448"/>
                </a:lnTo>
                <a:lnTo>
                  <a:pt x="382" y="1328"/>
                </a:lnTo>
                <a:lnTo>
                  <a:pt x="393" y="1208"/>
                </a:lnTo>
                <a:lnTo>
                  <a:pt x="405" y="1102"/>
                </a:lnTo>
                <a:lnTo>
                  <a:pt x="416" y="979"/>
                </a:lnTo>
                <a:lnTo>
                  <a:pt x="426" y="887"/>
                </a:lnTo>
                <a:lnTo>
                  <a:pt x="437" y="774"/>
                </a:lnTo>
                <a:lnTo>
                  <a:pt x="449" y="693"/>
                </a:lnTo>
                <a:lnTo>
                  <a:pt x="460" y="596"/>
                </a:lnTo>
                <a:lnTo>
                  <a:pt x="471" y="516"/>
                </a:lnTo>
                <a:lnTo>
                  <a:pt x="483" y="439"/>
                </a:lnTo>
                <a:lnTo>
                  <a:pt x="494" y="370"/>
                </a:lnTo>
                <a:lnTo>
                  <a:pt x="505" y="307"/>
                </a:lnTo>
                <a:lnTo>
                  <a:pt x="517" y="250"/>
                </a:lnTo>
                <a:lnTo>
                  <a:pt x="528" y="199"/>
                </a:lnTo>
                <a:lnTo>
                  <a:pt x="539" y="154"/>
                </a:lnTo>
                <a:lnTo>
                  <a:pt x="551" y="115"/>
                </a:lnTo>
                <a:lnTo>
                  <a:pt x="562" y="83"/>
                </a:lnTo>
                <a:lnTo>
                  <a:pt x="573" y="55"/>
                </a:lnTo>
                <a:lnTo>
                  <a:pt x="584" y="34"/>
                </a:lnTo>
                <a:lnTo>
                  <a:pt x="596" y="19"/>
                </a:lnTo>
                <a:lnTo>
                  <a:pt x="606" y="8"/>
                </a:lnTo>
                <a:lnTo>
                  <a:pt x="617" y="2"/>
                </a:lnTo>
                <a:lnTo>
                  <a:pt x="629" y="0"/>
                </a:lnTo>
                <a:lnTo>
                  <a:pt x="640" y="4"/>
                </a:lnTo>
                <a:lnTo>
                  <a:pt x="651" y="11"/>
                </a:lnTo>
                <a:lnTo>
                  <a:pt x="662" y="23"/>
                </a:lnTo>
                <a:lnTo>
                  <a:pt x="674" y="38"/>
                </a:lnTo>
                <a:lnTo>
                  <a:pt x="685" y="57"/>
                </a:lnTo>
                <a:lnTo>
                  <a:pt x="696" y="79"/>
                </a:lnTo>
                <a:lnTo>
                  <a:pt x="708" y="104"/>
                </a:lnTo>
                <a:lnTo>
                  <a:pt x="719" y="132"/>
                </a:lnTo>
                <a:lnTo>
                  <a:pt x="730" y="163"/>
                </a:lnTo>
                <a:lnTo>
                  <a:pt x="742" y="196"/>
                </a:lnTo>
                <a:lnTo>
                  <a:pt x="753" y="231"/>
                </a:lnTo>
                <a:lnTo>
                  <a:pt x="764" y="268"/>
                </a:lnTo>
                <a:lnTo>
                  <a:pt x="774" y="308"/>
                </a:lnTo>
                <a:lnTo>
                  <a:pt x="786" y="348"/>
                </a:lnTo>
                <a:lnTo>
                  <a:pt x="797" y="390"/>
                </a:lnTo>
                <a:lnTo>
                  <a:pt x="808" y="433"/>
                </a:lnTo>
                <a:lnTo>
                  <a:pt x="820" y="478"/>
                </a:lnTo>
                <a:lnTo>
                  <a:pt x="831" y="523"/>
                </a:lnTo>
                <a:lnTo>
                  <a:pt x="842" y="569"/>
                </a:lnTo>
                <a:lnTo>
                  <a:pt x="853" y="617"/>
                </a:lnTo>
                <a:lnTo>
                  <a:pt x="865" y="664"/>
                </a:lnTo>
                <a:lnTo>
                  <a:pt x="876" y="712"/>
                </a:lnTo>
                <a:lnTo>
                  <a:pt x="887" y="761"/>
                </a:lnTo>
                <a:lnTo>
                  <a:pt x="899" y="810"/>
                </a:lnTo>
                <a:lnTo>
                  <a:pt x="910" y="858"/>
                </a:lnTo>
                <a:lnTo>
                  <a:pt x="921" y="907"/>
                </a:lnTo>
                <a:lnTo>
                  <a:pt x="933" y="956"/>
                </a:lnTo>
                <a:lnTo>
                  <a:pt x="943" y="1005"/>
                </a:lnTo>
                <a:lnTo>
                  <a:pt x="954" y="1053"/>
                </a:lnTo>
                <a:lnTo>
                  <a:pt x="965" y="1101"/>
                </a:lnTo>
                <a:lnTo>
                  <a:pt x="977" y="1149"/>
                </a:lnTo>
                <a:lnTo>
                  <a:pt x="988" y="1197"/>
                </a:lnTo>
                <a:lnTo>
                  <a:pt x="999" y="1244"/>
                </a:lnTo>
                <a:lnTo>
                  <a:pt x="1011" y="1291"/>
                </a:lnTo>
                <a:lnTo>
                  <a:pt x="1022" y="1338"/>
                </a:lnTo>
                <a:lnTo>
                  <a:pt x="1033" y="1383"/>
                </a:lnTo>
                <a:lnTo>
                  <a:pt x="1044" y="1428"/>
                </a:lnTo>
                <a:lnTo>
                  <a:pt x="1056" y="1473"/>
                </a:lnTo>
                <a:lnTo>
                  <a:pt x="1067" y="1517"/>
                </a:lnTo>
                <a:lnTo>
                  <a:pt x="1078" y="1560"/>
                </a:lnTo>
                <a:lnTo>
                  <a:pt x="1090" y="1602"/>
                </a:lnTo>
                <a:lnTo>
                  <a:pt x="1101" y="1644"/>
                </a:lnTo>
                <a:lnTo>
                  <a:pt x="1111" y="1686"/>
                </a:lnTo>
                <a:lnTo>
                  <a:pt x="1122" y="1726"/>
                </a:lnTo>
                <a:lnTo>
                  <a:pt x="1134" y="1766"/>
                </a:lnTo>
                <a:lnTo>
                  <a:pt x="1145" y="1806"/>
                </a:lnTo>
                <a:lnTo>
                  <a:pt x="1156" y="1844"/>
                </a:lnTo>
                <a:lnTo>
                  <a:pt x="1168" y="1882"/>
                </a:lnTo>
                <a:lnTo>
                  <a:pt x="1179" y="1918"/>
                </a:lnTo>
                <a:lnTo>
                  <a:pt x="1190" y="1955"/>
                </a:lnTo>
                <a:lnTo>
                  <a:pt x="1202" y="1990"/>
                </a:lnTo>
                <a:lnTo>
                  <a:pt x="1213" y="2024"/>
                </a:lnTo>
                <a:lnTo>
                  <a:pt x="1224" y="2058"/>
                </a:lnTo>
                <a:lnTo>
                  <a:pt x="1236" y="2092"/>
                </a:lnTo>
                <a:lnTo>
                  <a:pt x="1247" y="2124"/>
                </a:lnTo>
                <a:lnTo>
                  <a:pt x="1258" y="2156"/>
                </a:lnTo>
                <a:lnTo>
                  <a:pt x="1269" y="2200"/>
                </a:lnTo>
                <a:lnTo>
                  <a:pt x="1280" y="2195"/>
                </a:lnTo>
                <a:lnTo>
                  <a:pt x="1291" y="2249"/>
                </a:lnTo>
                <a:lnTo>
                  <a:pt x="1302" y="2283"/>
                </a:lnTo>
                <a:lnTo>
                  <a:pt x="1314" y="2302"/>
                </a:lnTo>
                <a:lnTo>
                  <a:pt x="1325" y="2322"/>
                </a:lnTo>
                <a:lnTo>
                  <a:pt x="1336" y="2368"/>
                </a:lnTo>
                <a:lnTo>
                  <a:pt x="1347" y="2396"/>
                </a:lnTo>
                <a:lnTo>
                  <a:pt x="1359" y="2400"/>
                </a:lnTo>
                <a:lnTo>
                  <a:pt x="1370" y="2431"/>
                </a:lnTo>
                <a:lnTo>
                  <a:pt x="1381" y="2459"/>
                </a:lnTo>
                <a:lnTo>
                  <a:pt x="1393" y="2484"/>
                </a:lnTo>
                <a:lnTo>
                  <a:pt x="1404" y="2512"/>
                </a:lnTo>
                <a:lnTo>
                  <a:pt x="1415" y="2525"/>
                </a:lnTo>
                <a:lnTo>
                  <a:pt x="1427" y="2559"/>
                </a:lnTo>
                <a:lnTo>
                  <a:pt x="1438" y="2565"/>
                </a:lnTo>
                <a:lnTo>
                  <a:pt x="1448" y="2597"/>
                </a:lnTo>
                <a:lnTo>
                  <a:pt x="1459" y="2612"/>
                </a:lnTo>
                <a:lnTo>
                  <a:pt x="1472" y="2632"/>
                </a:lnTo>
                <a:lnTo>
                  <a:pt x="1482" y="2653"/>
                </a:lnTo>
                <a:lnTo>
                  <a:pt x="1493" y="2672"/>
                </a:lnTo>
                <a:lnTo>
                  <a:pt x="1505" y="2686"/>
                </a:lnTo>
                <a:lnTo>
                  <a:pt x="1516" y="2711"/>
                </a:lnTo>
                <a:lnTo>
                  <a:pt x="1527" y="2718"/>
                </a:lnTo>
                <a:lnTo>
                  <a:pt x="1538" y="2746"/>
                </a:lnTo>
                <a:lnTo>
                  <a:pt x="1550" y="2752"/>
                </a:lnTo>
                <a:lnTo>
                  <a:pt x="1561" y="2770"/>
                </a:lnTo>
                <a:lnTo>
                  <a:pt x="1572" y="2790"/>
                </a:lnTo>
                <a:lnTo>
                  <a:pt x="1584" y="2802"/>
                </a:lnTo>
                <a:lnTo>
                  <a:pt x="1595" y="2817"/>
                </a:lnTo>
                <a:lnTo>
                  <a:pt x="1606" y="2831"/>
                </a:lnTo>
                <a:lnTo>
                  <a:pt x="1618" y="2852"/>
                </a:lnTo>
                <a:lnTo>
                  <a:pt x="1628" y="2872"/>
                </a:lnTo>
                <a:lnTo>
                  <a:pt x="1640" y="2886"/>
                </a:lnTo>
                <a:lnTo>
                  <a:pt x="1650" y="2895"/>
                </a:lnTo>
                <a:lnTo>
                  <a:pt x="1662" y="2907"/>
                </a:lnTo>
                <a:lnTo>
                  <a:pt x="1673" y="2920"/>
                </a:lnTo>
                <a:lnTo>
                  <a:pt x="1684" y="2934"/>
                </a:lnTo>
                <a:lnTo>
                  <a:pt x="1696" y="2939"/>
                </a:lnTo>
                <a:lnTo>
                  <a:pt x="1707" y="2953"/>
                </a:lnTo>
                <a:lnTo>
                  <a:pt x="1718" y="2963"/>
                </a:lnTo>
                <a:lnTo>
                  <a:pt x="1730" y="2971"/>
                </a:lnTo>
                <a:lnTo>
                  <a:pt x="1741" y="2981"/>
                </a:lnTo>
                <a:lnTo>
                  <a:pt x="1752" y="2993"/>
                </a:lnTo>
                <a:lnTo>
                  <a:pt x="1763" y="3003"/>
                </a:lnTo>
                <a:lnTo>
                  <a:pt x="1775" y="3009"/>
                </a:lnTo>
                <a:lnTo>
                  <a:pt x="1786" y="3019"/>
                </a:lnTo>
                <a:lnTo>
                  <a:pt x="1796" y="3027"/>
                </a:lnTo>
                <a:lnTo>
                  <a:pt x="1809" y="3037"/>
                </a:lnTo>
                <a:lnTo>
                  <a:pt x="1819" y="3043"/>
                </a:lnTo>
                <a:lnTo>
                  <a:pt x="1830" y="3051"/>
                </a:lnTo>
                <a:lnTo>
                  <a:pt x="1841" y="3059"/>
                </a:lnTo>
                <a:lnTo>
                  <a:pt x="1853" y="3067"/>
                </a:lnTo>
                <a:lnTo>
                  <a:pt x="1864" y="3072"/>
                </a:lnTo>
                <a:lnTo>
                  <a:pt x="1875" y="3081"/>
                </a:lnTo>
                <a:lnTo>
                  <a:pt x="1887" y="3087"/>
                </a:lnTo>
                <a:lnTo>
                  <a:pt x="1898" y="3094"/>
                </a:lnTo>
                <a:lnTo>
                  <a:pt x="1909" y="3100"/>
                </a:lnTo>
                <a:lnTo>
                  <a:pt x="1921" y="3105"/>
                </a:lnTo>
                <a:lnTo>
                  <a:pt x="1932" y="3113"/>
                </a:lnTo>
                <a:lnTo>
                  <a:pt x="1943" y="3118"/>
                </a:lnTo>
                <a:lnTo>
                  <a:pt x="1954" y="3122"/>
                </a:lnTo>
                <a:lnTo>
                  <a:pt x="1965" y="3129"/>
                </a:lnTo>
                <a:lnTo>
                  <a:pt x="1977" y="3134"/>
                </a:lnTo>
                <a:lnTo>
                  <a:pt x="1987" y="3139"/>
                </a:lnTo>
                <a:lnTo>
                  <a:pt x="1999" y="3143"/>
                </a:lnTo>
                <a:lnTo>
                  <a:pt x="2010" y="3149"/>
                </a:lnTo>
                <a:lnTo>
                  <a:pt x="2021" y="3154"/>
                </a:lnTo>
                <a:lnTo>
                  <a:pt x="2032" y="3158"/>
                </a:lnTo>
                <a:lnTo>
                  <a:pt x="2044" y="3163"/>
                </a:lnTo>
                <a:lnTo>
                  <a:pt x="2055" y="3167"/>
                </a:lnTo>
                <a:lnTo>
                  <a:pt x="2066" y="3172"/>
                </a:lnTo>
                <a:lnTo>
                  <a:pt x="2078" y="3175"/>
                </a:lnTo>
                <a:lnTo>
                  <a:pt x="2089" y="3179"/>
                </a:lnTo>
                <a:lnTo>
                  <a:pt x="2100" y="3183"/>
                </a:lnTo>
                <a:lnTo>
                  <a:pt x="2112" y="3187"/>
                </a:lnTo>
                <a:lnTo>
                  <a:pt x="2123" y="3190"/>
                </a:lnTo>
                <a:lnTo>
                  <a:pt x="2133" y="3194"/>
                </a:lnTo>
                <a:lnTo>
                  <a:pt x="2145" y="3198"/>
                </a:lnTo>
                <a:lnTo>
                  <a:pt x="2156" y="3201"/>
                </a:lnTo>
                <a:lnTo>
                  <a:pt x="2167" y="3203"/>
                </a:lnTo>
                <a:lnTo>
                  <a:pt x="2178" y="3207"/>
                </a:lnTo>
                <a:lnTo>
                  <a:pt x="2190" y="3210"/>
                </a:lnTo>
                <a:lnTo>
                  <a:pt x="2201" y="3213"/>
                </a:lnTo>
                <a:lnTo>
                  <a:pt x="2212" y="3216"/>
                </a:lnTo>
                <a:lnTo>
                  <a:pt x="2223" y="3219"/>
                </a:lnTo>
                <a:lnTo>
                  <a:pt x="2235" y="3221"/>
                </a:lnTo>
                <a:lnTo>
                  <a:pt x="2246" y="3224"/>
                </a:lnTo>
                <a:lnTo>
                  <a:pt x="2257" y="3227"/>
                </a:lnTo>
                <a:lnTo>
                  <a:pt x="2269" y="3229"/>
                </a:lnTo>
                <a:lnTo>
                  <a:pt x="2280" y="3232"/>
                </a:lnTo>
                <a:lnTo>
                  <a:pt x="2291" y="3234"/>
                </a:lnTo>
                <a:lnTo>
                  <a:pt x="2301" y="3236"/>
                </a:lnTo>
                <a:lnTo>
                  <a:pt x="2314" y="3238"/>
                </a:lnTo>
                <a:lnTo>
                  <a:pt x="2324" y="3240"/>
                </a:lnTo>
                <a:lnTo>
                  <a:pt x="2335" y="3243"/>
                </a:lnTo>
                <a:lnTo>
                  <a:pt x="2347" y="3244"/>
                </a:lnTo>
                <a:lnTo>
                  <a:pt x="2358" y="3247"/>
                </a:lnTo>
                <a:lnTo>
                  <a:pt x="2369" y="3249"/>
                </a:lnTo>
                <a:lnTo>
                  <a:pt x="2381" y="3250"/>
                </a:lnTo>
                <a:lnTo>
                  <a:pt x="2392" y="3252"/>
                </a:lnTo>
                <a:lnTo>
                  <a:pt x="2403" y="3254"/>
                </a:lnTo>
                <a:lnTo>
                  <a:pt x="2415" y="3256"/>
                </a:lnTo>
                <a:lnTo>
                  <a:pt x="2426" y="3257"/>
                </a:lnTo>
                <a:lnTo>
                  <a:pt x="2437" y="3259"/>
                </a:lnTo>
                <a:lnTo>
                  <a:pt x="2448" y="3261"/>
                </a:lnTo>
                <a:lnTo>
                  <a:pt x="2460" y="3262"/>
                </a:lnTo>
                <a:lnTo>
                  <a:pt x="2470" y="3264"/>
                </a:lnTo>
                <a:lnTo>
                  <a:pt x="2482" y="3264"/>
                </a:lnTo>
                <a:lnTo>
                  <a:pt x="2494" y="3266"/>
                </a:lnTo>
                <a:lnTo>
                  <a:pt x="2504" y="3267"/>
                </a:lnTo>
                <a:lnTo>
                  <a:pt x="2515" y="3269"/>
                </a:lnTo>
                <a:lnTo>
                  <a:pt x="2526" y="3270"/>
                </a:lnTo>
                <a:lnTo>
                  <a:pt x="2538" y="3272"/>
                </a:lnTo>
                <a:lnTo>
                  <a:pt x="2549" y="3273"/>
                </a:lnTo>
                <a:lnTo>
                  <a:pt x="2560" y="3274"/>
                </a:lnTo>
                <a:lnTo>
                  <a:pt x="2572" y="3275"/>
                </a:lnTo>
                <a:lnTo>
                  <a:pt x="2583" y="3276"/>
                </a:lnTo>
                <a:lnTo>
                  <a:pt x="2594" y="3278"/>
                </a:lnTo>
                <a:lnTo>
                  <a:pt x="2606" y="3279"/>
                </a:lnTo>
                <a:lnTo>
                  <a:pt x="2617" y="3279"/>
                </a:lnTo>
                <a:lnTo>
                  <a:pt x="2628" y="3280"/>
                </a:lnTo>
                <a:lnTo>
                  <a:pt x="2639" y="3281"/>
                </a:lnTo>
                <a:lnTo>
                  <a:pt x="2651" y="3282"/>
                </a:lnTo>
                <a:lnTo>
                  <a:pt x="2662" y="3283"/>
                </a:lnTo>
                <a:lnTo>
                  <a:pt x="2672" y="3284"/>
                </a:lnTo>
                <a:lnTo>
                  <a:pt x="2684" y="3285"/>
                </a:lnTo>
                <a:lnTo>
                  <a:pt x="2695" y="3286"/>
                </a:lnTo>
                <a:lnTo>
                  <a:pt x="2706" y="3287"/>
                </a:lnTo>
                <a:lnTo>
                  <a:pt x="2717" y="3287"/>
                </a:lnTo>
                <a:lnTo>
                  <a:pt x="2729" y="3288"/>
                </a:lnTo>
                <a:lnTo>
                  <a:pt x="2740" y="3289"/>
                </a:lnTo>
                <a:lnTo>
                  <a:pt x="2751" y="3290"/>
                </a:lnTo>
                <a:lnTo>
                  <a:pt x="2763" y="3291"/>
                </a:lnTo>
                <a:lnTo>
                  <a:pt x="2774" y="331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200" y="3371760"/>
            <a:ext cx="3876840" cy="1441440"/>
          </a:xfrm>
          <a:custGeom>
            <a:avLst/>
            <a:gdLst/>
            <a:ahLst/>
            <a:rect l="l" t="t" r="r" b="b"/>
            <a:pathLst>
              <a:path w="5640" h="3510">
                <a:moveTo>
                  <a:pt x="0" y="0"/>
                </a:moveTo>
                <a:lnTo>
                  <a:pt x="5639" y="0"/>
                </a:lnTo>
                <a:lnTo>
                  <a:pt x="5639" y="3509"/>
                </a:lnTo>
                <a:lnTo>
                  <a:pt x="0" y="3509"/>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76200" y="3371760"/>
            <a:ext cx="3882960" cy="1443240"/>
          </a:xfrm>
          <a:custGeom>
            <a:avLst/>
            <a:gdLst/>
            <a:ahLst/>
            <a:rect l="l" t="t" r="r" b="b"/>
            <a:pathLst>
              <a:path w="5648" h="3515">
                <a:moveTo>
                  <a:pt x="0" y="0"/>
                </a:moveTo>
                <a:lnTo>
                  <a:pt x="5647" y="0"/>
                </a:lnTo>
                <a:lnTo>
                  <a:pt x="5647" y="3514"/>
                </a:lnTo>
                <a:lnTo>
                  <a:pt x="0" y="3514"/>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76200" y="3456000"/>
            <a:ext cx="3876840" cy="1357200"/>
          </a:xfrm>
          <a:custGeom>
            <a:avLst/>
            <a:gdLst/>
            <a:ahLst/>
            <a:rect l="l" t="t" r="r" b="b"/>
            <a:pathLst>
              <a:path w="5640" h="3307">
                <a:moveTo>
                  <a:pt x="0" y="3306"/>
                </a:moveTo>
                <a:lnTo>
                  <a:pt x="24" y="3306"/>
                </a:lnTo>
                <a:lnTo>
                  <a:pt x="46" y="3306"/>
                </a:lnTo>
                <a:lnTo>
                  <a:pt x="69" y="3306"/>
                </a:lnTo>
                <a:lnTo>
                  <a:pt x="91" y="3306"/>
                </a:lnTo>
                <a:lnTo>
                  <a:pt x="114" y="3306"/>
                </a:lnTo>
                <a:lnTo>
                  <a:pt x="138" y="3306"/>
                </a:lnTo>
                <a:lnTo>
                  <a:pt x="160" y="3305"/>
                </a:lnTo>
                <a:lnTo>
                  <a:pt x="183" y="3303"/>
                </a:lnTo>
                <a:lnTo>
                  <a:pt x="206" y="3300"/>
                </a:lnTo>
                <a:lnTo>
                  <a:pt x="228" y="3296"/>
                </a:lnTo>
                <a:lnTo>
                  <a:pt x="252" y="3287"/>
                </a:lnTo>
                <a:lnTo>
                  <a:pt x="274" y="3275"/>
                </a:lnTo>
                <a:lnTo>
                  <a:pt x="297" y="3257"/>
                </a:lnTo>
                <a:lnTo>
                  <a:pt x="320" y="3233"/>
                </a:lnTo>
                <a:lnTo>
                  <a:pt x="342" y="3202"/>
                </a:lnTo>
                <a:lnTo>
                  <a:pt x="366" y="3164"/>
                </a:lnTo>
                <a:lnTo>
                  <a:pt x="389" y="3116"/>
                </a:lnTo>
                <a:lnTo>
                  <a:pt x="411" y="3060"/>
                </a:lnTo>
                <a:lnTo>
                  <a:pt x="434" y="2994"/>
                </a:lnTo>
                <a:lnTo>
                  <a:pt x="456" y="2920"/>
                </a:lnTo>
                <a:lnTo>
                  <a:pt x="480" y="2837"/>
                </a:lnTo>
                <a:lnTo>
                  <a:pt x="503" y="2746"/>
                </a:lnTo>
                <a:lnTo>
                  <a:pt x="525" y="2647"/>
                </a:lnTo>
                <a:lnTo>
                  <a:pt x="548" y="2542"/>
                </a:lnTo>
                <a:lnTo>
                  <a:pt x="571" y="2430"/>
                </a:lnTo>
                <a:lnTo>
                  <a:pt x="594" y="2314"/>
                </a:lnTo>
                <a:lnTo>
                  <a:pt x="617" y="2194"/>
                </a:lnTo>
                <a:lnTo>
                  <a:pt x="639" y="2069"/>
                </a:lnTo>
                <a:lnTo>
                  <a:pt x="662" y="1947"/>
                </a:lnTo>
                <a:lnTo>
                  <a:pt x="686" y="1819"/>
                </a:lnTo>
                <a:lnTo>
                  <a:pt x="708" y="1694"/>
                </a:lnTo>
                <a:lnTo>
                  <a:pt x="731" y="1568"/>
                </a:lnTo>
                <a:lnTo>
                  <a:pt x="753" y="1444"/>
                </a:lnTo>
                <a:lnTo>
                  <a:pt x="776" y="1323"/>
                </a:lnTo>
                <a:lnTo>
                  <a:pt x="800" y="1204"/>
                </a:lnTo>
                <a:lnTo>
                  <a:pt x="822" y="1099"/>
                </a:lnTo>
                <a:lnTo>
                  <a:pt x="845" y="976"/>
                </a:lnTo>
                <a:lnTo>
                  <a:pt x="867" y="884"/>
                </a:lnTo>
                <a:lnTo>
                  <a:pt x="890" y="771"/>
                </a:lnTo>
                <a:lnTo>
                  <a:pt x="914" y="691"/>
                </a:lnTo>
                <a:lnTo>
                  <a:pt x="936" y="594"/>
                </a:lnTo>
                <a:lnTo>
                  <a:pt x="959" y="513"/>
                </a:lnTo>
                <a:lnTo>
                  <a:pt x="981" y="437"/>
                </a:lnTo>
                <a:lnTo>
                  <a:pt x="1004" y="368"/>
                </a:lnTo>
                <a:lnTo>
                  <a:pt x="1028" y="305"/>
                </a:lnTo>
                <a:lnTo>
                  <a:pt x="1050" y="248"/>
                </a:lnTo>
                <a:lnTo>
                  <a:pt x="1073" y="198"/>
                </a:lnTo>
                <a:lnTo>
                  <a:pt x="1097" y="153"/>
                </a:lnTo>
                <a:lnTo>
                  <a:pt x="1118" y="114"/>
                </a:lnTo>
                <a:lnTo>
                  <a:pt x="1142" y="81"/>
                </a:lnTo>
                <a:lnTo>
                  <a:pt x="1164" y="55"/>
                </a:lnTo>
                <a:lnTo>
                  <a:pt x="1187" y="34"/>
                </a:lnTo>
                <a:lnTo>
                  <a:pt x="1211" y="18"/>
                </a:lnTo>
                <a:lnTo>
                  <a:pt x="1233" y="7"/>
                </a:lnTo>
                <a:lnTo>
                  <a:pt x="1256" y="1"/>
                </a:lnTo>
                <a:lnTo>
                  <a:pt x="1278" y="0"/>
                </a:lnTo>
                <a:lnTo>
                  <a:pt x="1301" y="3"/>
                </a:lnTo>
                <a:lnTo>
                  <a:pt x="1325" y="10"/>
                </a:lnTo>
                <a:lnTo>
                  <a:pt x="1347" y="22"/>
                </a:lnTo>
                <a:lnTo>
                  <a:pt x="1370" y="37"/>
                </a:lnTo>
                <a:lnTo>
                  <a:pt x="1393" y="56"/>
                </a:lnTo>
                <a:lnTo>
                  <a:pt x="1415" y="79"/>
                </a:lnTo>
                <a:lnTo>
                  <a:pt x="1439" y="104"/>
                </a:lnTo>
                <a:lnTo>
                  <a:pt x="1461" y="131"/>
                </a:lnTo>
                <a:lnTo>
                  <a:pt x="1484" y="162"/>
                </a:lnTo>
                <a:lnTo>
                  <a:pt x="1507" y="195"/>
                </a:lnTo>
                <a:lnTo>
                  <a:pt x="1529" y="230"/>
                </a:lnTo>
                <a:lnTo>
                  <a:pt x="1553" y="267"/>
                </a:lnTo>
                <a:lnTo>
                  <a:pt x="1575" y="306"/>
                </a:lnTo>
                <a:lnTo>
                  <a:pt x="1598" y="347"/>
                </a:lnTo>
                <a:lnTo>
                  <a:pt x="1622" y="389"/>
                </a:lnTo>
                <a:lnTo>
                  <a:pt x="1643" y="432"/>
                </a:lnTo>
                <a:lnTo>
                  <a:pt x="1667" y="476"/>
                </a:lnTo>
                <a:lnTo>
                  <a:pt x="1690" y="522"/>
                </a:lnTo>
                <a:lnTo>
                  <a:pt x="1712" y="568"/>
                </a:lnTo>
                <a:lnTo>
                  <a:pt x="1736" y="614"/>
                </a:lnTo>
                <a:lnTo>
                  <a:pt x="1758" y="661"/>
                </a:lnTo>
                <a:lnTo>
                  <a:pt x="1781" y="710"/>
                </a:lnTo>
                <a:lnTo>
                  <a:pt x="1804" y="758"/>
                </a:lnTo>
                <a:lnTo>
                  <a:pt x="1826" y="806"/>
                </a:lnTo>
                <a:lnTo>
                  <a:pt x="1850" y="855"/>
                </a:lnTo>
                <a:lnTo>
                  <a:pt x="1873" y="904"/>
                </a:lnTo>
                <a:lnTo>
                  <a:pt x="1895" y="952"/>
                </a:lnTo>
                <a:lnTo>
                  <a:pt x="1918" y="1001"/>
                </a:lnTo>
                <a:lnTo>
                  <a:pt x="1940" y="1049"/>
                </a:lnTo>
                <a:lnTo>
                  <a:pt x="1964" y="1098"/>
                </a:lnTo>
                <a:lnTo>
                  <a:pt x="1987" y="1145"/>
                </a:lnTo>
                <a:lnTo>
                  <a:pt x="2009" y="1193"/>
                </a:lnTo>
                <a:lnTo>
                  <a:pt x="2032" y="1240"/>
                </a:lnTo>
                <a:lnTo>
                  <a:pt x="2054" y="1286"/>
                </a:lnTo>
                <a:lnTo>
                  <a:pt x="2078" y="1333"/>
                </a:lnTo>
                <a:lnTo>
                  <a:pt x="2101" y="1378"/>
                </a:lnTo>
                <a:lnTo>
                  <a:pt x="2123" y="1424"/>
                </a:lnTo>
                <a:lnTo>
                  <a:pt x="2146" y="1468"/>
                </a:lnTo>
                <a:lnTo>
                  <a:pt x="2168" y="1512"/>
                </a:lnTo>
                <a:lnTo>
                  <a:pt x="2192" y="1555"/>
                </a:lnTo>
                <a:lnTo>
                  <a:pt x="2215" y="1597"/>
                </a:lnTo>
                <a:lnTo>
                  <a:pt x="2237" y="1639"/>
                </a:lnTo>
                <a:lnTo>
                  <a:pt x="2260" y="1680"/>
                </a:lnTo>
                <a:lnTo>
                  <a:pt x="2284" y="1720"/>
                </a:lnTo>
                <a:lnTo>
                  <a:pt x="2306" y="1760"/>
                </a:lnTo>
                <a:lnTo>
                  <a:pt x="2329" y="1799"/>
                </a:lnTo>
                <a:lnTo>
                  <a:pt x="2351" y="1837"/>
                </a:lnTo>
                <a:lnTo>
                  <a:pt x="2374" y="1875"/>
                </a:lnTo>
                <a:lnTo>
                  <a:pt x="2398" y="1912"/>
                </a:lnTo>
                <a:lnTo>
                  <a:pt x="2420" y="1948"/>
                </a:lnTo>
                <a:lnTo>
                  <a:pt x="2443" y="1984"/>
                </a:lnTo>
                <a:lnTo>
                  <a:pt x="2465" y="2018"/>
                </a:lnTo>
                <a:lnTo>
                  <a:pt x="2488" y="2052"/>
                </a:lnTo>
                <a:lnTo>
                  <a:pt x="2512" y="2085"/>
                </a:lnTo>
                <a:lnTo>
                  <a:pt x="2534" y="2118"/>
                </a:lnTo>
                <a:lnTo>
                  <a:pt x="2557" y="2148"/>
                </a:lnTo>
                <a:lnTo>
                  <a:pt x="2580" y="2192"/>
                </a:lnTo>
                <a:lnTo>
                  <a:pt x="2602" y="2188"/>
                </a:lnTo>
                <a:lnTo>
                  <a:pt x="2626" y="2242"/>
                </a:lnTo>
                <a:lnTo>
                  <a:pt x="2648" y="2275"/>
                </a:lnTo>
                <a:lnTo>
                  <a:pt x="2671" y="2294"/>
                </a:lnTo>
                <a:lnTo>
                  <a:pt x="2694" y="2314"/>
                </a:lnTo>
                <a:lnTo>
                  <a:pt x="2716" y="2360"/>
                </a:lnTo>
                <a:lnTo>
                  <a:pt x="2740" y="2388"/>
                </a:lnTo>
                <a:lnTo>
                  <a:pt x="2762" y="2392"/>
                </a:lnTo>
                <a:lnTo>
                  <a:pt x="2785" y="2424"/>
                </a:lnTo>
                <a:lnTo>
                  <a:pt x="2809" y="2450"/>
                </a:lnTo>
                <a:lnTo>
                  <a:pt x="2830" y="2476"/>
                </a:lnTo>
                <a:lnTo>
                  <a:pt x="2854" y="2503"/>
                </a:lnTo>
                <a:lnTo>
                  <a:pt x="2877" y="2516"/>
                </a:lnTo>
                <a:lnTo>
                  <a:pt x="2899" y="2550"/>
                </a:lnTo>
                <a:lnTo>
                  <a:pt x="2923" y="2556"/>
                </a:lnTo>
                <a:lnTo>
                  <a:pt x="2945" y="2588"/>
                </a:lnTo>
                <a:lnTo>
                  <a:pt x="2968" y="2603"/>
                </a:lnTo>
                <a:lnTo>
                  <a:pt x="2991" y="2623"/>
                </a:lnTo>
                <a:lnTo>
                  <a:pt x="3013" y="2644"/>
                </a:lnTo>
                <a:lnTo>
                  <a:pt x="3037" y="2664"/>
                </a:lnTo>
                <a:lnTo>
                  <a:pt x="3059" y="2677"/>
                </a:lnTo>
                <a:lnTo>
                  <a:pt x="3082" y="2702"/>
                </a:lnTo>
                <a:lnTo>
                  <a:pt x="3105" y="2708"/>
                </a:lnTo>
                <a:lnTo>
                  <a:pt x="3127" y="2737"/>
                </a:lnTo>
                <a:lnTo>
                  <a:pt x="3151" y="2743"/>
                </a:lnTo>
                <a:lnTo>
                  <a:pt x="3174" y="2761"/>
                </a:lnTo>
                <a:lnTo>
                  <a:pt x="3196" y="2781"/>
                </a:lnTo>
                <a:lnTo>
                  <a:pt x="3219" y="2793"/>
                </a:lnTo>
                <a:lnTo>
                  <a:pt x="3241" y="2808"/>
                </a:lnTo>
                <a:lnTo>
                  <a:pt x="3265" y="2822"/>
                </a:lnTo>
                <a:lnTo>
                  <a:pt x="3288" y="2836"/>
                </a:lnTo>
                <a:lnTo>
                  <a:pt x="3310" y="2846"/>
                </a:lnTo>
                <a:lnTo>
                  <a:pt x="3333" y="2863"/>
                </a:lnTo>
                <a:lnTo>
                  <a:pt x="3355" y="2877"/>
                </a:lnTo>
                <a:lnTo>
                  <a:pt x="3379" y="2885"/>
                </a:lnTo>
                <a:lnTo>
                  <a:pt x="3402" y="2898"/>
                </a:lnTo>
                <a:lnTo>
                  <a:pt x="3424" y="2911"/>
                </a:lnTo>
                <a:lnTo>
                  <a:pt x="3447" y="2924"/>
                </a:lnTo>
                <a:lnTo>
                  <a:pt x="3471" y="2930"/>
                </a:lnTo>
                <a:lnTo>
                  <a:pt x="3493" y="2944"/>
                </a:lnTo>
                <a:lnTo>
                  <a:pt x="3516" y="2954"/>
                </a:lnTo>
                <a:lnTo>
                  <a:pt x="3538" y="2961"/>
                </a:lnTo>
                <a:lnTo>
                  <a:pt x="3561" y="2972"/>
                </a:lnTo>
                <a:lnTo>
                  <a:pt x="3585" y="2984"/>
                </a:lnTo>
                <a:lnTo>
                  <a:pt x="3607" y="2993"/>
                </a:lnTo>
                <a:lnTo>
                  <a:pt x="3630" y="3000"/>
                </a:lnTo>
                <a:lnTo>
                  <a:pt x="3652" y="3008"/>
                </a:lnTo>
                <a:lnTo>
                  <a:pt x="3675" y="3017"/>
                </a:lnTo>
                <a:lnTo>
                  <a:pt x="3699" y="3028"/>
                </a:lnTo>
                <a:lnTo>
                  <a:pt x="3721" y="3033"/>
                </a:lnTo>
                <a:lnTo>
                  <a:pt x="3744" y="3041"/>
                </a:lnTo>
                <a:lnTo>
                  <a:pt x="3766" y="3048"/>
                </a:lnTo>
                <a:lnTo>
                  <a:pt x="3789" y="3058"/>
                </a:lnTo>
                <a:lnTo>
                  <a:pt x="3813" y="3062"/>
                </a:lnTo>
                <a:lnTo>
                  <a:pt x="3835" y="3070"/>
                </a:lnTo>
                <a:lnTo>
                  <a:pt x="3858" y="3077"/>
                </a:lnTo>
                <a:lnTo>
                  <a:pt x="3881" y="3083"/>
                </a:lnTo>
                <a:lnTo>
                  <a:pt x="3903" y="3090"/>
                </a:lnTo>
                <a:lnTo>
                  <a:pt x="3927" y="3094"/>
                </a:lnTo>
                <a:lnTo>
                  <a:pt x="3949" y="3103"/>
                </a:lnTo>
                <a:lnTo>
                  <a:pt x="3972" y="3107"/>
                </a:lnTo>
                <a:lnTo>
                  <a:pt x="3996" y="3112"/>
                </a:lnTo>
                <a:lnTo>
                  <a:pt x="4017" y="3119"/>
                </a:lnTo>
                <a:lnTo>
                  <a:pt x="4041" y="3124"/>
                </a:lnTo>
                <a:lnTo>
                  <a:pt x="4064" y="3129"/>
                </a:lnTo>
                <a:lnTo>
                  <a:pt x="4086" y="3133"/>
                </a:lnTo>
                <a:lnTo>
                  <a:pt x="4110" y="3139"/>
                </a:lnTo>
                <a:lnTo>
                  <a:pt x="4132" y="3143"/>
                </a:lnTo>
                <a:lnTo>
                  <a:pt x="4155" y="3148"/>
                </a:lnTo>
                <a:lnTo>
                  <a:pt x="4178" y="3152"/>
                </a:lnTo>
                <a:lnTo>
                  <a:pt x="4200" y="3156"/>
                </a:lnTo>
                <a:lnTo>
                  <a:pt x="4224" y="3161"/>
                </a:lnTo>
                <a:lnTo>
                  <a:pt x="4246" y="3166"/>
                </a:lnTo>
                <a:lnTo>
                  <a:pt x="4269" y="3169"/>
                </a:lnTo>
                <a:lnTo>
                  <a:pt x="4292" y="3173"/>
                </a:lnTo>
                <a:lnTo>
                  <a:pt x="4314" y="3176"/>
                </a:lnTo>
                <a:lnTo>
                  <a:pt x="4338" y="3181"/>
                </a:lnTo>
                <a:lnTo>
                  <a:pt x="4361" y="3183"/>
                </a:lnTo>
                <a:lnTo>
                  <a:pt x="4383" y="3188"/>
                </a:lnTo>
                <a:lnTo>
                  <a:pt x="4406" y="3190"/>
                </a:lnTo>
                <a:lnTo>
                  <a:pt x="4428" y="3194"/>
                </a:lnTo>
                <a:lnTo>
                  <a:pt x="4452" y="3196"/>
                </a:lnTo>
                <a:lnTo>
                  <a:pt x="4475" y="3200"/>
                </a:lnTo>
                <a:lnTo>
                  <a:pt x="4497" y="3202"/>
                </a:lnTo>
                <a:lnTo>
                  <a:pt x="4521" y="3205"/>
                </a:lnTo>
                <a:lnTo>
                  <a:pt x="4542" y="3209"/>
                </a:lnTo>
                <a:lnTo>
                  <a:pt x="4566" y="3211"/>
                </a:lnTo>
                <a:lnTo>
                  <a:pt x="4589" y="3213"/>
                </a:lnTo>
                <a:lnTo>
                  <a:pt x="4611" y="3216"/>
                </a:lnTo>
                <a:lnTo>
                  <a:pt x="4635" y="3218"/>
                </a:lnTo>
                <a:lnTo>
                  <a:pt x="4658" y="3221"/>
                </a:lnTo>
                <a:lnTo>
                  <a:pt x="4680" y="3224"/>
                </a:lnTo>
                <a:lnTo>
                  <a:pt x="4703" y="3225"/>
                </a:lnTo>
                <a:lnTo>
                  <a:pt x="4725" y="3228"/>
                </a:lnTo>
                <a:lnTo>
                  <a:pt x="4749" y="3229"/>
                </a:lnTo>
                <a:lnTo>
                  <a:pt x="4772" y="3232"/>
                </a:lnTo>
                <a:lnTo>
                  <a:pt x="4794" y="3234"/>
                </a:lnTo>
                <a:lnTo>
                  <a:pt x="4817" y="3237"/>
                </a:lnTo>
                <a:lnTo>
                  <a:pt x="4839" y="3239"/>
                </a:lnTo>
                <a:lnTo>
                  <a:pt x="4863" y="3240"/>
                </a:lnTo>
                <a:lnTo>
                  <a:pt x="4886" y="3241"/>
                </a:lnTo>
                <a:lnTo>
                  <a:pt x="4908" y="3243"/>
                </a:lnTo>
                <a:lnTo>
                  <a:pt x="4931" y="3245"/>
                </a:lnTo>
                <a:lnTo>
                  <a:pt x="4953" y="3247"/>
                </a:lnTo>
                <a:lnTo>
                  <a:pt x="4977" y="3248"/>
                </a:lnTo>
                <a:lnTo>
                  <a:pt x="5000" y="3250"/>
                </a:lnTo>
                <a:lnTo>
                  <a:pt x="5022" y="3251"/>
                </a:lnTo>
                <a:lnTo>
                  <a:pt x="5045" y="3253"/>
                </a:lnTo>
                <a:lnTo>
                  <a:pt x="5068" y="3254"/>
                </a:lnTo>
                <a:lnTo>
                  <a:pt x="5091" y="3255"/>
                </a:lnTo>
                <a:lnTo>
                  <a:pt x="5114" y="3256"/>
                </a:lnTo>
                <a:lnTo>
                  <a:pt x="5136" y="3258"/>
                </a:lnTo>
                <a:lnTo>
                  <a:pt x="5159" y="3259"/>
                </a:lnTo>
                <a:lnTo>
                  <a:pt x="5183" y="3261"/>
                </a:lnTo>
                <a:lnTo>
                  <a:pt x="5205" y="3262"/>
                </a:lnTo>
                <a:lnTo>
                  <a:pt x="5228" y="3263"/>
                </a:lnTo>
                <a:lnTo>
                  <a:pt x="5250" y="3264"/>
                </a:lnTo>
                <a:lnTo>
                  <a:pt x="5273" y="3266"/>
                </a:lnTo>
                <a:lnTo>
                  <a:pt x="5297" y="3267"/>
                </a:lnTo>
                <a:lnTo>
                  <a:pt x="5319" y="3268"/>
                </a:lnTo>
                <a:lnTo>
                  <a:pt x="5342" y="3269"/>
                </a:lnTo>
                <a:lnTo>
                  <a:pt x="5365" y="3269"/>
                </a:lnTo>
                <a:lnTo>
                  <a:pt x="5387" y="3270"/>
                </a:lnTo>
                <a:lnTo>
                  <a:pt x="5411" y="3271"/>
                </a:lnTo>
                <a:lnTo>
                  <a:pt x="5433" y="3272"/>
                </a:lnTo>
                <a:lnTo>
                  <a:pt x="5456" y="3273"/>
                </a:lnTo>
                <a:lnTo>
                  <a:pt x="5479" y="3274"/>
                </a:lnTo>
                <a:lnTo>
                  <a:pt x="5501" y="3275"/>
                </a:lnTo>
                <a:lnTo>
                  <a:pt x="5525" y="3276"/>
                </a:lnTo>
                <a:lnTo>
                  <a:pt x="5548" y="3277"/>
                </a:lnTo>
                <a:lnTo>
                  <a:pt x="5570" y="3277"/>
                </a:lnTo>
                <a:lnTo>
                  <a:pt x="5593" y="3278"/>
                </a:lnTo>
                <a:lnTo>
                  <a:pt x="5615" y="3279"/>
                </a:lnTo>
                <a:lnTo>
                  <a:pt x="5639" y="3280"/>
                </a:lnTo>
                <a:lnTo>
                  <a:pt x="5615" y="3279"/>
                </a:lnTo>
                <a:lnTo>
                  <a:pt x="5593" y="3278"/>
                </a:lnTo>
                <a:lnTo>
                  <a:pt x="5570" y="3277"/>
                </a:lnTo>
                <a:lnTo>
                  <a:pt x="5548" y="3277"/>
                </a:lnTo>
                <a:lnTo>
                  <a:pt x="5525" y="3276"/>
                </a:lnTo>
                <a:lnTo>
                  <a:pt x="5501" y="3275"/>
                </a:lnTo>
                <a:lnTo>
                  <a:pt x="5479" y="3274"/>
                </a:lnTo>
                <a:lnTo>
                  <a:pt x="5456" y="3273"/>
                </a:lnTo>
                <a:lnTo>
                  <a:pt x="5433" y="3272"/>
                </a:lnTo>
                <a:lnTo>
                  <a:pt x="5411" y="3271"/>
                </a:lnTo>
                <a:lnTo>
                  <a:pt x="5387" y="3270"/>
                </a:lnTo>
                <a:lnTo>
                  <a:pt x="5365" y="3269"/>
                </a:lnTo>
                <a:lnTo>
                  <a:pt x="5342" y="3269"/>
                </a:lnTo>
                <a:lnTo>
                  <a:pt x="5319" y="3268"/>
                </a:lnTo>
                <a:lnTo>
                  <a:pt x="5297" y="3267"/>
                </a:lnTo>
                <a:lnTo>
                  <a:pt x="5273" y="3266"/>
                </a:lnTo>
                <a:lnTo>
                  <a:pt x="5250" y="3264"/>
                </a:lnTo>
                <a:lnTo>
                  <a:pt x="5228" y="3263"/>
                </a:lnTo>
                <a:lnTo>
                  <a:pt x="5205" y="3262"/>
                </a:lnTo>
                <a:lnTo>
                  <a:pt x="5183" y="3261"/>
                </a:lnTo>
                <a:lnTo>
                  <a:pt x="5159" y="3259"/>
                </a:lnTo>
                <a:lnTo>
                  <a:pt x="5136" y="3258"/>
                </a:lnTo>
                <a:lnTo>
                  <a:pt x="5114" y="3256"/>
                </a:lnTo>
                <a:lnTo>
                  <a:pt x="5091" y="3255"/>
                </a:lnTo>
                <a:lnTo>
                  <a:pt x="5068" y="3254"/>
                </a:lnTo>
                <a:lnTo>
                  <a:pt x="5045" y="3253"/>
                </a:lnTo>
                <a:lnTo>
                  <a:pt x="5022" y="3251"/>
                </a:lnTo>
                <a:lnTo>
                  <a:pt x="5000" y="3250"/>
                </a:lnTo>
                <a:lnTo>
                  <a:pt x="4977" y="3248"/>
                </a:lnTo>
                <a:lnTo>
                  <a:pt x="4953" y="3247"/>
                </a:lnTo>
                <a:lnTo>
                  <a:pt x="4931" y="3245"/>
                </a:lnTo>
                <a:lnTo>
                  <a:pt x="4908" y="3243"/>
                </a:lnTo>
                <a:lnTo>
                  <a:pt x="4886" y="3241"/>
                </a:lnTo>
                <a:lnTo>
                  <a:pt x="4863" y="3240"/>
                </a:lnTo>
                <a:lnTo>
                  <a:pt x="4839" y="3239"/>
                </a:lnTo>
                <a:lnTo>
                  <a:pt x="4817" y="3237"/>
                </a:lnTo>
                <a:lnTo>
                  <a:pt x="4794" y="3234"/>
                </a:lnTo>
                <a:lnTo>
                  <a:pt x="4772" y="3232"/>
                </a:lnTo>
                <a:lnTo>
                  <a:pt x="4749" y="3229"/>
                </a:lnTo>
                <a:lnTo>
                  <a:pt x="4725" y="3228"/>
                </a:lnTo>
                <a:lnTo>
                  <a:pt x="4703" y="3225"/>
                </a:lnTo>
                <a:lnTo>
                  <a:pt x="4680" y="3224"/>
                </a:lnTo>
                <a:lnTo>
                  <a:pt x="4658" y="3221"/>
                </a:lnTo>
                <a:lnTo>
                  <a:pt x="4635" y="3218"/>
                </a:lnTo>
                <a:lnTo>
                  <a:pt x="4611" y="3216"/>
                </a:lnTo>
                <a:lnTo>
                  <a:pt x="4589" y="3213"/>
                </a:lnTo>
                <a:lnTo>
                  <a:pt x="4566" y="3211"/>
                </a:lnTo>
                <a:lnTo>
                  <a:pt x="4542" y="3209"/>
                </a:lnTo>
                <a:lnTo>
                  <a:pt x="4521" y="3205"/>
                </a:lnTo>
                <a:lnTo>
                  <a:pt x="4497" y="3202"/>
                </a:lnTo>
                <a:lnTo>
                  <a:pt x="4475" y="3200"/>
                </a:lnTo>
                <a:lnTo>
                  <a:pt x="4452" y="3196"/>
                </a:lnTo>
                <a:lnTo>
                  <a:pt x="4428" y="3194"/>
                </a:lnTo>
                <a:lnTo>
                  <a:pt x="4406" y="3190"/>
                </a:lnTo>
                <a:lnTo>
                  <a:pt x="4383" y="3188"/>
                </a:lnTo>
                <a:lnTo>
                  <a:pt x="4361" y="3183"/>
                </a:lnTo>
                <a:lnTo>
                  <a:pt x="4338" y="3181"/>
                </a:lnTo>
                <a:lnTo>
                  <a:pt x="4314" y="3176"/>
                </a:lnTo>
                <a:lnTo>
                  <a:pt x="4292" y="3173"/>
                </a:lnTo>
                <a:lnTo>
                  <a:pt x="4269" y="3169"/>
                </a:lnTo>
                <a:lnTo>
                  <a:pt x="4246" y="3166"/>
                </a:lnTo>
                <a:lnTo>
                  <a:pt x="4224" y="3161"/>
                </a:lnTo>
                <a:lnTo>
                  <a:pt x="4200" y="3156"/>
                </a:lnTo>
                <a:lnTo>
                  <a:pt x="4178" y="3152"/>
                </a:lnTo>
                <a:lnTo>
                  <a:pt x="4155" y="3148"/>
                </a:lnTo>
                <a:lnTo>
                  <a:pt x="4132" y="3143"/>
                </a:lnTo>
                <a:lnTo>
                  <a:pt x="4110" y="3139"/>
                </a:lnTo>
                <a:lnTo>
                  <a:pt x="4086" y="3133"/>
                </a:lnTo>
                <a:lnTo>
                  <a:pt x="4064" y="3129"/>
                </a:lnTo>
                <a:lnTo>
                  <a:pt x="4041" y="3124"/>
                </a:lnTo>
                <a:lnTo>
                  <a:pt x="4017" y="3119"/>
                </a:lnTo>
                <a:lnTo>
                  <a:pt x="3996" y="3112"/>
                </a:lnTo>
                <a:lnTo>
                  <a:pt x="3972" y="3107"/>
                </a:lnTo>
                <a:lnTo>
                  <a:pt x="3949" y="3103"/>
                </a:lnTo>
                <a:lnTo>
                  <a:pt x="3927" y="3094"/>
                </a:lnTo>
                <a:lnTo>
                  <a:pt x="3903" y="3090"/>
                </a:lnTo>
                <a:lnTo>
                  <a:pt x="3881" y="3083"/>
                </a:lnTo>
                <a:lnTo>
                  <a:pt x="3858" y="3077"/>
                </a:lnTo>
                <a:lnTo>
                  <a:pt x="3835" y="3070"/>
                </a:lnTo>
                <a:lnTo>
                  <a:pt x="3813" y="3062"/>
                </a:lnTo>
                <a:lnTo>
                  <a:pt x="3789" y="3058"/>
                </a:lnTo>
                <a:lnTo>
                  <a:pt x="3766" y="3048"/>
                </a:lnTo>
                <a:lnTo>
                  <a:pt x="3744" y="3041"/>
                </a:lnTo>
                <a:lnTo>
                  <a:pt x="3721" y="3033"/>
                </a:lnTo>
                <a:lnTo>
                  <a:pt x="3699" y="3028"/>
                </a:lnTo>
                <a:lnTo>
                  <a:pt x="3675" y="3017"/>
                </a:lnTo>
                <a:lnTo>
                  <a:pt x="3652" y="3008"/>
                </a:lnTo>
                <a:lnTo>
                  <a:pt x="3630" y="3000"/>
                </a:lnTo>
                <a:lnTo>
                  <a:pt x="3607" y="2993"/>
                </a:lnTo>
                <a:lnTo>
                  <a:pt x="3585" y="2984"/>
                </a:lnTo>
                <a:lnTo>
                  <a:pt x="3561" y="2972"/>
                </a:lnTo>
                <a:lnTo>
                  <a:pt x="3538" y="2961"/>
                </a:lnTo>
                <a:lnTo>
                  <a:pt x="3516" y="2954"/>
                </a:lnTo>
                <a:lnTo>
                  <a:pt x="3493" y="2944"/>
                </a:lnTo>
                <a:lnTo>
                  <a:pt x="3471" y="2930"/>
                </a:lnTo>
                <a:lnTo>
                  <a:pt x="3447" y="2924"/>
                </a:lnTo>
                <a:lnTo>
                  <a:pt x="3424" y="2911"/>
                </a:lnTo>
                <a:lnTo>
                  <a:pt x="3402" y="2898"/>
                </a:lnTo>
                <a:lnTo>
                  <a:pt x="3379" y="2885"/>
                </a:lnTo>
                <a:lnTo>
                  <a:pt x="3355" y="2877"/>
                </a:lnTo>
                <a:lnTo>
                  <a:pt x="3333" y="2863"/>
                </a:lnTo>
                <a:lnTo>
                  <a:pt x="3310" y="2846"/>
                </a:lnTo>
                <a:lnTo>
                  <a:pt x="3288" y="2836"/>
                </a:lnTo>
                <a:lnTo>
                  <a:pt x="3265" y="2822"/>
                </a:lnTo>
                <a:lnTo>
                  <a:pt x="3241" y="2808"/>
                </a:lnTo>
                <a:lnTo>
                  <a:pt x="3219" y="2793"/>
                </a:lnTo>
                <a:lnTo>
                  <a:pt x="3196" y="2781"/>
                </a:lnTo>
                <a:lnTo>
                  <a:pt x="3174" y="2761"/>
                </a:lnTo>
                <a:lnTo>
                  <a:pt x="3151" y="2743"/>
                </a:lnTo>
                <a:lnTo>
                  <a:pt x="3127" y="2737"/>
                </a:lnTo>
                <a:lnTo>
                  <a:pt x="3105" y="2708"/>
                </a:lnTo>
                <a:lnTo>
                  <a:pt x="3082" y="2702"/>
                </a:lnTo>
                <a:lnTo>
                  <a:pt x="3059" y="2677"/>
                </a:lnTo>
                <a:lnTo>
                  <a:pt x="3037" y="2664"/>
                </a:lnTo>
                <a:lnTo>
                  <a:pt x="3013" y="2644"/>
                </a:lnTo>
                <a:lnTo>
                  <a:pt x="2991" y="2623"/>
                </a:lnTo>
                <a:lnTo>
                  <a:pt x="2968" y="2603"/>
                </a:lnTo>
                <a:lnTo>
                  <a:pt x="2945" y="2588"/>
                </a:lnTo>
                <a:lnTo>
                  <a:pt x="2923" y="2556"/>
                </a:lnTo>
                <a:lnTo>
                  <a:pt x="2899" y="2550"/>
                </a:lnTo>
                <a:lnTo>
                  <a:pt x="2877" y="2516"/>
                </a:lnTo>
                <a:lnTo>
                  <a:pt x="2854" y="2503"/>
                </a:lnTo>
                <a:lnTo>
                  <a:pt x="2830" y="2476"/>
                </a:lnTo>
                <a:lnTo>
                  <a:pt x="2809" y="2450"/>
                </a:lnTo>
                <a:lnTo>
                  <a:pt x="2785" y="2424"/>
                </a:lnTo>
                <a:lnTo>
                  <a:pt x="2762" y="2392"/>
                </a:lnTo>
                <a:lnTo>
                  <a:pt x="2740" y="2388"/>
                </a:lnTo>
                <a:lnTo>
                  <a:pt x="2716" y="2360"/>
                </a:lnTo>
                <a:lnTo>
                  <a:pt x="2694" y="2314"/>
                </a:lnTo>
                <a:lnTo>
                  <a:pt x="2671" y="2294"/>
                </a:lnTo>
                <a:lnTo>
                  <a:pt x="2648" y="2275"/>
                </a:lnTo>
                <a:lnTo>
                  <a:pt x="2626" y="2242"/>
                </a:lnTo>
                <a:lnTo>
                  <a:pt x="2602" y="2188"/>
                </a:lnTo>
                <a:lnTo>
                  <a:pt x="2580" y="2192"/>
                </a:lnTo>
                <a:lnTo>
                  <a:pt x="2557" y="2148"/>
                </a:lnTo>
                <a:lnTo>
                  <a:pt x="2534" y="2118"/>
                </a:lnTo>
                <a:lnTo>
                  <a:pt x="2512" y="2085"/>
                </a:lnTo>
                <a:lnTo>
                  <a:pt x="2488" y="2052"/>
                </a:lnTo>
                <a:lnTo>
                  <a:pt x="2465" y="2018"/>
                </a:lnTo>
                <a:lnTo>
                  <a:pt x="2443" y="1984"/>
                </a:lnTo>
                <a:lnTo>
                  <a:pt x="2420" y="1948"/>
                </a:lnTo>
                <a:lnTo>
                  <a:pt x="2398" y="1912"/>
                </a:lnTo>
                <a:lnTo>
                  <a:pt x="2374" y="1875"/>
                </a:lnTo>
                <a:lnTo>
                  <a:pt x="2351" y="1837"/>
                </a:lnTo>
                <a:lnTo>
                  <a:pt x="2329" y="1799"/>
                </a:lnTo>
                <a:lnTo>
                  <a:pt x="2306" y="1760"/>
                </a:lnTo>
                <a:lnTo>
                  <a:pt x="2284" y="1720"/>
                </a:lnTo>
                <a:lnTo>
                  <a:pt x="2260" y="1680"/>
                </a:lnTo>
                <a:lnTo>
                  <a:pt x="2237" y="1639"/>
                </a:lnTo>
                <a:lnTo>
                  <a:pt x="2215" y="1597"/>
                </a:lnTo>
                <a:lnTo>
                  <a:pt x="2192" y="1555"/>
                </a:lnTo>
                <a:lnTo>
                  <a:pt x="2168" y="1512"/>
                </a:lnTo>
                <a:lnTo>
                  <a:pt x="2146" y="1468"/>
                </a:lnTo>
                <a:lnTo>
                  <a:pt x="2123" y="1424"/>
                </a:lnTo>
                <a:lnTo>
                  <a:pt x="2101" y="1378"/>
                </a:lnTo>
                <a:lnTo>
                  <a:pt x="2078" y="1333"/>
                </a:lnTo>
                <a:lnTo>
                  <a:pt x="2054" y="1286"/>
                </a:lnTo>
                <a:lnTo>
                  <a:pt x="2032" y="1240"/>
                </a:lnTo>
                <a:lnTo>
                  <a:pt x="2009" y="1193"/>
                </a:lnTo>
                <a:lnTo>
                  <a:pt x="1987" y="1145"/>
                </a:lnTo>
                <a:lnTo>
                  <a:pt x="1964" y="1098"/>
                </a:lnTo>
                <a:lnTo>
                  <a:pt x="1940" y="1049"/>
                </a:lnTo>
                <a:lnTo>
                  <a:pt x="1918" y="1001"/>
                </a:lnTo>
                <a:lnTo>
                  <a:pt x="1895" y="952"/>
                </a:lnTo>
                <a:lnTo>
                  <a:pt x="1873" y="904"/>
                </a:lnTo>
                <a:lnTo>
                  <a:pt x="1850" y="855"/>
                </a:lnTo>
                <a:lnTo>
                  <a:pt x="1826" y="806"/>
                </a:lnTo>
                <a:lnTo>
                  <a:pt x="1804" y="758"/>
                </a:lnTo>
                <a:lnTo>
                  <a:pt x="1781" y="710"/>
                </a:lnTo>
                <a:lnTo>
                  <a:pt x="1758" y="661"/>
                </a:lnTo>
                <a:lnTo>
                  <a:pt x="1736" y="614"/>
                </a:lnTo>
                <a:lnTo>
                  <a:pt x="1712" y="568"/>
                </a:lnTo>
                <a:lnTo>
                  <a:pt x="1690" y="522"/>
                </a:lnTo>
                <a:lnTo>
                  <a:pt x="1667" y="476"/>
                </a:lnTo>
                <a:lnTo>
                  <a:pt x="1643" y="432"/>
                </a:lnTo>
                <a:lnTo>
                  <a:pt x="1622" y="389"/>
                </a:lnTo>
                <a:lnTo>
                  <a:pt x="1598" y="347"/>
                </a:lnTo>
                <a:lnTo>
                  <a:pt x="1575" y="306"/>
                </a:lnTo>
                <a:lnTo>
                  <a:pt x="1553" y="267"/>
                </a:lnTo>
                <a:lnTo>
                  <a:pt x="1529" y="230"/>
                </a:lnTo>
                <a:lnTo>
                  <a:pt x="1507" y="195"/>
                </a:lnTo>
                <a:lnTo>
                  <a:pt x="1484" y="162"/>
                </a:lnTo>
                <a:lnTo>
                  <a:pt x="1461" y="131"/>
                </a:lnTo>
                <a:lnTo>
                  <a:pt x="1439" y="104"/>
                </a:lnTo>
                <a:lnTo>
                  <a:pt x="1415" y="79"/>
                </a:lnTo>
                <a:lnTo>
                  <a:pt x="1393" y="56"/>
                </a:lnTo>
                <a:lnTo>
                  <a:pt x="1370" y="37"/>
                </a:lnTo>
                <a:lnTo>
                  <a:pt x="1347" y="22"/>
                </a:lnTo>
                <a:lnTo>
                  <a:pt x="1325" y="10"/>
                </a:lnTo>
                <a:lnTo>
                  <a:pt x="1301" y="3"/>
                </a:lnTo>
                <a:lnTo>
                  <a:pt x="1278" y="0"/>
                </a:lnTo>
                <a:lnTo>
                  <a:pt x="1256" y="1"/>
                </a:lnTo>
                <a:lnTo>
                  <a:pt x="1233" y="7"/>
                </a:lnTo>
                <a:lnTo>
                  <a:pt x="1211" y="18"/>
                </a:lnTo>
                <a:lnTo>
                  <a:pt x="1187" y="34"/>
                </a:lnTo>
                <a:lnTo>
                  <a:pt x="1164" y="55"/>
                </a:lnTo>
                <a:lnTo>
                  <a:pt x="1142" y="81"/>
                </a:lnTo>
                <a:lnTo>
                  <a:pt x="1118" y="114"/>
                </a:lnTo>
                <a:lnTo>
                  <a:pt x="1097" y="153"/>
                </a:lnTo>
                <a:lnTo>
                  <a:pt x="1073" y="198"/>
                </a:lnTo>
                <a:lnTo>
                  <a:pt x="1050" y="248"/>
                </a:lnTo>
                <a:lnTo>
                  <a:pt x="1028" y="305"/>
                </a:lnTo>
                <a:lnTo>
                  <a:pt x="1004" y="368"/>
                </a:lnTo>
                <a:lnTo>
                  <a:pt x="981" y="437"/>
                </a:lnTo>
                <a:lnTo>
                  <a:pt x="959" y="513"/>
                </a:lnTo>
                <a:lnTo>
                  <a:pt x="936" y="594"/>
                </a:lnTo>
                <a:lnTo>
                  <a:pt x="914" y="691"/>
                </a:lnTo>
                <a:lnTo>
                  <a:pt x="890" y="771"/>
                </a:lnTo>
                <a:lnTo>
                  <a:pt x="867" y="884"/>
                </a:lnTo>
                <a:lnTo>
                  <a:pt x="845" y="976"/>
                </a:lnTo>
                <a:lnTo>
                  <a:pt x="822" y="1099"/>
                </a:lnTo>
                <a:lnTo>
                  <a:pt x="800" y="1204"/>
                </a:lnTo>
                <a:lnTo>
                  <a:pt x="776" y="1323"/>
                </a:lnTo>
                <a:lnTo>
                  <a:pt x="753" y="1444"/>
                </a:lnTo>
                <a:lnTo>
                  <a:pt x="731" y="1568"/>
                </a:lnTo>
                <a:lnTo>
                  <a:pt x="708" y="1694"/>
                </a:lnTo>
                <a:lnTo>
                  <a:pt x="686" y="1819"/>
                </a:lnTo>
                <a:lnTo>
                  <a:pt x="662" y="1947"/>
                </a:lnTo>
                <a:lnTo>
                  <a:pt x="639" y="2069"/>
                </a:lnTo>
                <a:lnTo>
                  <a:pt x="617" y="2194"/>
                </a:lnTo>
                <a:lnTo>
                  <a:pt x="594" y="2314"/>
                </a:lnTo>
                <a:lnTo>
                  <a:pt x="571" y="2430"/>
                </a:lnTo>
                <a:lnTo>
                  <a:pt x="548" y="2542"/>
                </a:lnTo>
                <a:lnTo>
                  <a:pt x="525" y="2647"/>
                </a:lnTo>
                <a:lnTo>
                  <a:pt x="503" y="2746"/>
                </a:lnTo>
                <a:lnTo>
                  <a:pt x="480" y="2837"/>
                </a:lnTo>
                <a:lnTo>
                  <a:pt x="456" y="2920"/>
                </a:lnTo>
                <a:lnTo>
                  <a:pt x="434" y="2994"/>
                </a:lnTo>
                <a:lnTo>
                  <a:pt x="411" y="3060"/>
                </a:lnTo>
                <a:lnTo>
                  <a:pt x="389" y="3116"/>
                </a:lnTo>
                <a:lnTo>
                  <a:pt x="366" y="3164"/>
                </a:lnTo>
                <a:lnTo>
                  <a:pt x="342" y="3202"/>
                </a:lnTo>
                <a:lnTo>
                  <a:pt x="320" y="3233"/>
                </a:lnTo>
                <a:lnTo>
                  <a:pt x="297" y="3257"/>
                </a:lnTo>
                <a:lnTo>
                  <a:pt x="274" y="3275"/>
                </a:lnTo>
                <a:lnTo>
                  <a:pt x="252" y="3287"/>
                </a:lnTo>
                <a:lnTo>
                  <a:pt x="228" y="3296"/>
                </a:lnTo>
                <a:lnTo>
                  <a:pt x="206" y="3300"/>
                </a:lnTo>
                <a:lnTo>
                  <a:pt x="183" y="3303"/>
                </a:lnTo>
                <a:lnTo>
                  <a:pt x="160" y="3305"/>
                </a:lnTo>
                <a:lnTo>
                  <a:pt x="138" y="3306"/>
                </a:lnTo>
                <a:lnTo>
                  <a:pt x="114" y="3306"/>
                </a:lnTo>
                <a:lnTo>
                  <a:pt x="91" y="3306"/>
                </a:lnTo>
                <a:lnTo>
                  <a:pt x="69" y="3306"/>
                </a:lnTo>
                <a:lnTo>
                  <a:pt x="46" y="3306"/>
                </a:lnTo>
                <a:lnTo>
                  <a:pt x="24" y="3306"/>
                </a:lnTo>
                <a:lnTo>
                  <a:pt x="0" y="3306"/>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6200" y="3456000"/>
            <a:ext cx="3876840" cy="1357200"/>
          </a:xfrm>
          <a:custGeom>
            <a:avLst/>
            <a:gdLst/>
            <a:ahLst/>
            <a:rect l="l" t="t" r="r" b="b"/>
            <a:pathLst>
              <a:path w="5640" h="3307">
                <a:moveTo>
                  <a:pt x="0" y="3306"/>
                </a:moveTo>
                <a:lnTo>
                  <a:pt x="24" y="3306"/>
                </a:lnTo>
                <a:lnTo>
                  <a:pt x="46" y="3306"/>
                </a:lnTo>
                <a:lnTo>
                  <a:pt x="69" y="3306"/>
                </a:lnTo>
                <a:lnTo>
                  <a:pt x="91" y="3306"/>
                </a:lnTo>
                <a:lnTo>
                  <a:pt x="114" y="3306"/>
                </a:lnTo>
                <a:lnTo>
                  <a:pt x="138" y="3306"/>
                </a:lnTo>
                <a:lnTo>
                  <a:pt x="160" y="3305"/>
                </a:lnTo>
                <a:lnTo>
                  <a:pt x="183" y="3303"/>
                </a:lnTo>
                <a:lnTo>
                  <a:pt x="206" y="3300"/>
                </a:lnTo>
                <a:lnTo>
                  <a:pt x="228" y="3296"/>
                </a:lnTo>
                <a:lnTo>
                  <a:pt x="252" y="3287"/>
                </a:lnTo>
                <a:lnTo>
                  <a:pt x="274" y="3275"/>
                </a:lnTo>
                <a:lnTo>
                  <a:pt x="297" y="3257"/>
                </a:lnTo>
                <a:lnTo>
                  <a:pt x="320" y="3233"/>
                </a:lnTo>
                <a:lnTo>
                  <a:pt x="342" y="3202"/>
                </a:lnTo>
                <a:lnTo>
                  <a:pt x="366" y="3164"/>
                </a:lnTo>
                <a:lnTo>
                  <a:pt x="389" y="3116"/>
                </a:lnTo>
                <a:lnTo>
                  <a:pt x="411" y="3060"/>
                </a:lnTo>
                <a:lnTo>
                  <a:pt x="434" y="2994"/>
                </a:lnTo>
                <a:lnTo>
                  <a:pt x="456" y="2920"/>
                </a:lnTo>
                <a:lnTo>
                  <a:pt x="480" y="2837"/>
                </a:lnTo>
                <a:lnTo>
                  <a:pt x="503" y="2746"/>
                </a:lnTo>
                <a:lnTo>
                  <a:pt x="525" y="2647"/>
                </a:lnTo>
                <a:lnTo>
                  <a:pt x="548" y="2542"/>
                </a:lnTo>
                <a:lnTo>
                  <a:pt x="571" y="2430"/>
                </a:lnTo>
                <a:lnTo>
                  <a:pt x="594" y="2314"/>
                </a:lnTo>
                <a:lnTo>
                  <a:pt x="617" y="2194"/>
                </a:lnTo>
                <a:lnTo>
                  <a:pt x="639" y="2069"/>
                </a:lnTo>
                <a:lnTo>
                  <a:pt x="662" y="1947"/>
                </a:lnTo>
                <a:lnTo>
                  <a:pt x="686" y="1819"/>
                </a:lnTo>
                <a:lnTo>
                  <a:pt x="708" y="1694"/>
                </a:lnTo>
                <a:lnTo>
                  <a:pt x="731" y="1568"/>
                </a:lnTo>
                <a:lnTo>
                  <a:pt x="753" y="1444"/>
                </a:lnTo>
                <a:lnTo>
                  <a:pt x="776" y="1323"/>
                </a:lnTo>
                <a:lnTo>
                  <a:pt x="800" y="1204"/>
                </a:lnTo>
                <a:lnTo>
                  <a:pt x="822" y="1099"/>
                </a:lnTo>
                <a:lnTo>
                  <a:pt x="845" y="976"/>
                </a:lnTo>
                <a:lnTo>
                  <a:pt x="867" y="884"/>
                </a:lnTo>
                <a:lnTo>
                  <a:pt x="890" y="771"/>
                </a:lnTo>
                <a:lnTo>
                  <a:pt x="914" y="691"/>
                </a:lnTo>
                <a:lnTo>
                  <a:pt x="936" y="594"/>
                </a:lnTo>
                <a:lnTo>
                  <a:pt x="959" y="513"/>
                </a:lnTo>
                <a:lnTo>
                  <a:pt x="981" y="437"/>
                </a:lnTo>
                <a:lnTo>
                  <a:pt x="1004" y="368"/>
                </a:lnTo>
                <a:lnTo>
                  <a:pt x="1028" y="305"/>
                </a:lnTo>
                <a:lnTo>
                  <a:pt x="1050" y="248"/>
                </a:lnTo>
                <a:lnTo>
                  <a:pt x="1073" y="198"/>
                </a:lnTo>
                <a:lnTo>
                  <a:pt x="1097" y="153"/>
                </a:lnTo>
                <a:lnTo>
                  <a:pt x="1118" y="114"/>
                </a:lnTo>
                <a:lnTo>
                  <a:pt x="1142" y="81"/>
                </a:lnTo>
                <a:lnTo>
                  <a:pt x="1164" y="55"/>
                </a:lnTo>
                <a:lnTo>
                  <a:pt x="1187" y="34"/>
                </a:lnTo>
                <a:lnTo>
                  <a:pt x="1211" y="18"/>
                </a:lnTo>
                <a:lnTo>
                  <a:pt x="1233" y="7"/>
                </a:lnTo>
                <a:lnTo>
                  <a:pt x="1256" y="1"/>
                </a:lnTo>
                <a:lnTo>
                  <a:pt x="1278" y="0"/>
                </a:lnTo>
                <a:lnTo>
                  <a:pt x="1301" y="3"/>
                </a:lnTo>
                <a:lnTo>
                  <a:pt x="1325" y="10"/>
                </a:lnTo>
                <a:lnTo>
                  <a:pt x="1347" y="22"/>
                </a:lnTo>
                <a:lnTo>
                  <a:pt x="1370" y="37"/>
                </a:lnTo>
                <a:lnTo>
                  <a:pt x="1393" y="56"/>
                </a:lnTo>
                <a:lnTo>
                  <a:pt x="1415" y="79"/>
                </a:lnTo>
                <a:lnTo>
                  <a:pt x="1439" y="104"/>
                </a:lnTo>
                <a:lnTo>
                  <a:pt x="1461" y="131"/>
                </a:lnTo>
                <a:lnTo>
                  <a:pt x="1484" y="162"/>
                </a:lnTo>
                <a:lnTo>
                  <a:pt x="1507" y="195"/>
                </a:lnTo>
                <a:lnTo>
                  <a:pt x="1529" y="230"/>
                </a:lnTo>
                <a:lnTo>
                  <a:pt x="1553" y="267"/>
                </a:lnTo>
                <a:lnTo>
                  <a:pt x="1575" y="306"/>
                </a:lnTo>
                <a:lnTo>
                  <a:pt x="1598" y="347"/>
                </a:lnTo>
                <a:lnTo>
                  <a:pt x="1622" y="389"/>
                </a:lnTo>
                <a:lnTo>
                  <a:pt x="1643" y="432"/>
                </a:lnTo>
                <a:lnTo>
                  <a:pt x="1667" y="476"/>
                </a:lnTo>
                <a:lnTo>
                  <a:pt x="1690" y="522"/>
                </a:lnTo>
                <a:lnTo>
                  <a:pt x="1712" y="568"/>
                </a:lnTo>
                <a:lnTo>
                  <a:pt x="1736" y="614"/>
                </a:lnTo>
                <a:lnTo>
                  <a:pt x="1758" y="661"/>
                </a:lnTo>
                <a:lnTo>
                  <a:pt x="1781" y="710"/>
                </a:lnTo>
                <a:lnTo>
                  <a:pt x="1804" y="758"/>
                </a:lnTo>
                <a:lnTo>
                  <a:pt x="1826" y="806"/>
                </a:lnTo>
                <a:lnTo>
                  <a:pt x="1850" y="855"/>
                </a:lnTo>
                <a:lnTo>
                  <a:pt x="1873" y="904"/>
                </a:lnTo>
                <a:lnTo>
                  <a:pt x="1895" y="952"/>
                </a:lnTo>
                <a:lnTo>
                  <a:pt x="1918" y="1001"/>
                </a:lnTo>
                <a:lnTo>
                  <a:pt x="1940" y="1049"/>
                </a:lnTo>
                <a:lnTo>
                  <a:pt x="1964" y="1098"/>
                </a:lnTo>
                <a:lnTo>
                  <a:pt x="1987" y="1145"/>
                </a:lnTo>
                <a:lnTo>
                  <a:pt x="2009" y="1193"/>
                </a:lnTo>
                <a:lnTo>
                  <a:pt x="2032" y="1240"/>
                </a:lnTo>
                <a:lnTo>
                  <a:pt x="2054" y="1286"/>
                </a:lnTo>
                <a:lnTo>
                  <a:pt x="2078" y="1333"/>
                </a:lnTo>
                <a:lnTo>
                  <a:pt x="2101" y="1378"/>
                </a:lnTo>
                <a:lnTo>
                  <a:pt x="2123" y="1424"/>
                </a:lnTo>
                <a:lnTo>
                  <a:pt x="2146" y="1468"/>
                </a:lnTo>
                <a:lnTo>
                  <a:pt x="2168" y="1512"/>
                </a:lnTo>
                <a:lnTo>
                  <a:pt x="2192" y="1555"/>
                </a:lnTo>
                <a:lnTo>
                  <a:pt x="2215" y="1597"/>
                </a:lnTo>
                <a:lnTo>
                  <a:pt x="2237" y="1639"/>
                </a:lnTo>
                <a:lnTo>
                  <a:pt x="2260" y="1680"/>
                </a:lnTo>
                <a:lnTo>
                  <a:pt x="2284" y="1720"/>
                </a:lnTo>
                <a:lnTo>
                  <a:pt x="2306" y="1760"/>
                </a:lnTo>
                <a:lnTo>
                  <a:pt x="2329" y="1799"/>
                </a:lnTo>
                <a:lnTo>
                  <a:pt x="2351" y="1837"/>
                </a:lnTo>
                <a:lnTo>
                  <a:pt x="2374" y="1875"/>
                </a:lnTo>
                <a:lnTo>
                  <a:pt x="2398" y="1912"/>
                </a:lnTo>
                <a:lnTo>
                  <a:pt x="2420" y="1948"/>
                </a:lnTo>
                <a:lnTo>
                  <a:pt x="2443" y="1984"/>
                </a:lnTo>
                <a:lnTo>
                  <a:pt x="2465" y="2018"/>
                </a:lnTo>
                <a:lnTo>
                  <a:pt x="2488" y="2052"/>
                </a:lnTo>
                <a:lnTo>
                  <a:pt x="2512" y="2085"/>
                </a:lnTo>
                <a:lnTo>
                  <a:pt x="2534" y="2118"/>
                </a:lnTo>
                <a:lnTo>
                  <a:pt x="2557" y="2148"/>
                </a:lnTo>
                <a:lnTo>
                  <a:pt x="2580" y="2192"/>
                </a:lnTo>
                <a:lnTo>
                  <a:pt x="2602" y="2188"/>
                </a:lnTo>
                <a:lnTo>
                  <a:pt x="2626" y="2242"/>
                </a:lnTo>
                <a:lnTo>
                  <a:pt x="2648" y="2275"/>
                </a:lnTo>
                <a:lnTo>
                  <a:pt x="2671" y="2294"/>
                </a:lnTo>
                <a:lnTo>
                  <a:pt x="2694" y="2314"/>
                </a:lnTo>
                <a:lnTo>
                  <a:pt x="2716" y="2360"/>
                </a:lnTo>
                <a:lnTo>
                  <a:pt x="2740" y="2388"/>
                </a:lnTo>
                <a:lnTo>
                  <a:pt x="2762" y="2392"/>
                </a:lnTo>
                <a:lnTo>
                  <a:pt x="2785" y="2424"/>
                </a:lnTo>
                <a:lnTo>
                  <a:pt x="2809" y="2450"/>
                </a:lnTo>
                <a:lnTo>
                  <a:pt x="2830" y="2476"/>
                </a:lnTo>
                <a:lnTo>
                  <a:pt x="2854" y="2503"/>
                </a:lnTo>
                <a:lnTo>
                  <a:pt x="2877" y="2516"/>
                </a:lnTo>
                <a:lnTo>
                  <a:pt x="2899" y="2550"/>
                </a:lnTo>
                <a:lnTo>
                  <a:pt x="2923" y="2556"/>
                </a:lnTo>
                <a:lnTo>
                  <a:pt x="2945" y="2588"/>
                </a:lnTo>
                <a:lnTo>
                  <a:pt x="2968" y="2603"/>
                </a:lnTo>
                <a:lnTo>
                  <a:pt x="2991" y="2623"/>
                </a:lnTo>
                <a:lnTo>
                  <a:pt x="3013" y="2644"/>
                </a:lnTo>
                <a:lnTo>
                  <a:pt x="3037" y="2664"/>
                </a:lnTo>
                <a:lnTo>
                  <a:pt x="3059" y="2677"/>
                </a:lnTo>
                <a:lnTo>
                  <a:pt x="3082" y="2702"/>
                </a:lnTo>
                <a:lnTo>
                  <a:pt x="3105" y="2708"/>
                </a:lnTo>
                <a:lnTo>
                  <a:pt x="3127" y="2737"/>
                </a:lnTo>
                <a:lnTo>
                  <a:pt x="3151" y="2743"/>
                </a:lnTo>
                <a:lnTo>
                  <a:pt x="3174" y="2761"/>
                </a:lnTo>
                <a:lnTo>
                  <a:pt x="3196" y="2781"/>
                </a:lnTo>
                <a:lnTo>
                  <a:pt x="3219" y="2793"/>
                </a:lnTo>
                <a:lnTo>
                  <a:pt x="3241" y="2808"/>
                </a:lnTo>
                <a:lnTo>
                  <a:pt x="3265" y="2822"/>
                </a:lnTo>
                <a:lnTo>
                  <a:pt x="3288" y="2836"/>
                </a:lnTo>
                <a:lnTo>
                  <a:pt x="3310" y="2846"/>
                </a:lnTo>
                <a:lnTo>
                  <a:pt x="3333" y="2863"/>
                </a:lnTo>
                <a:lnTo>
                  <a:pt x="3355" y="2877"/>
                </a:lnTo>
                <a:lnTo>
                  <a:pt x="3379" y="2885"/>
                </a:lnTo>
                <a:lnTo>
                  <a:pt x="3402" y="2898"/>
                </a:lnTo>
                <a:lnTo>
                  <a:pt x="3424" y="2911"/>
                </a:lnTo>
                <a:lnTo>
                  <a:pt x="3447" y="2924"/>
                </a:lnTo>
                <a:lnTo>
                  <a:pt x="3471" y="2930"/>
                </a:lnTo>
                <a:lnTo>
                  <a:pt x="3493" y="2944"/>
                </a:lnTo>
                <a:lnTo>
                  <a:pt x="3516" y="2954"/>
                </a:lnTo>
                <a:lnTo>
                  <a:pt x="3538" y="2961"/>
                </a:lnTo>
                <a:lnTo>
                  <a:pt x="3561" y="2972"/>
                </a:lnTo>
                <a:lnTo>
                  <a:pt x="3585" y="2984"/>
                </a:lnTo>
                <a:lnTo>
                  <a:pt x="3607" y="2993"/>
                </a:lnTo>
                <a:lnTo>
                  <a:pt x="3630" y="3000"/>
                </a:lnTo>
                <a:lnTo>
                  <a:pt x="3652" y="3008"/>
                </a:lnTo>
                <a:lnTo>
                  <a:pt x="3675" y="3017"/>
                </a:lnTo>
                <a:lnTo>
                  <a:pt x="3699" y="3028"/>
                </a:lnTo>
                <a:lnTo>
                  <a:pt x="3721" y="3033"/>
                </a:lnTo>
                <a:lnTo>
                  <a:pt x="3744" y="3041"/>
                </a:lnTo>
                <a:lnTo>
                  <a:pt x="3766" y="3048"/>
                </a:lnTo>
                <a:lnTo>
                  <a:pt x="3789" y="3058"/>
                </a:lnTo>
                <a:lnTo>
                  <a:pt x="3813" y="3062"/>
                </a:lnTo>
                <a:lnTo>
                  <a:pt x="3835" y="3070"/>
                </a:lnTo>
                <a:lnTo>
                  <a:pt x="3858" y="3077"/>
                </a:lnTo>
                <a:lnTo>
                  <a:pt x="3881" y="3083"/>
                </a:lnTo>
                <a:lnTo>
                  <a:pt x="3903" y="3090"/>
                </a:lnTo>
                <a:lnTo>
                  <a:pt x="3927" y="3094"/>
                </a:lnTo>
                <a:lnTo>
                  <a:pt x="3949" y="3103"/>
                </a:lnTo>
                <a:lnTo>
                  <a:pt x="3972" y="3107"/>
                </a:lnTo>
                <a:lnTo>
                  <a:pt x="3996" y="3112"/>
                </a:lnTo>
                <a:lnTo>
                  <a:pt x="4017" y="3119"/>
                </a:lnTo>
                <a:lnTo>
                  <a:pt x="4041" y="3124"/>
                </a:lnTo>
                <a:lnTo>
                  <a:pt x="4064" y="3129"/>
                </a:lnTo>
                <a:lnTo>
                  <a:pt x="4086" y="3133"/>
                </a:lnTo>
                <a:lnTo>
                  <a:pt x="4110" y="3139"/>
                </a:lnTo>
                <a:lnTo>
                  <a:pt x="4132" y="3143"/>
                </a:lnTo>
                <a:lnTo>
                  <a:pt x="4155" y="3148"/>
                </a:lnTo>
                <a:lnTo>
                  <a:pt x="4178" y="3152"/>
                </a:lnTo>
                <a:lnTo>
                  <a:pt x="4200" y="3156"/>
                </a:lnTo>
                <a:lnTo>
                  <a:pt x="4224" y="3161"/>
                </a:lnTo>
                <a:lnTo>
                  <a:pt x="4246" y="3166"/>
                </a:lnTo>
                <a:lnTo>
                  <a:pt x="4269" y="3169"/>
                </a:lnTo>
                <a:lnTo>
                  <a:pt x="4292" y="3173"/>
                </a:lnTo>
                <a:lnTo>
                  <a:pt x="4314" y="3176"/>
                </a:lnTo>
                <a:lnTo>
                  <a:pt x="4338" y="3181"/>
                </a:lnTo>
                <a:lnTo>
                  <a:pt x="4361" y="3183"/>
                </a:lnTo>
                <a:lnTo>
                  <a:pt x="4383" y="3188"/>
                </a:lnTo>
                <a:lnTo>
                  <a:pt x="4406" y="3190"/>
                </a:lnTo>
                <a:lnTo>
                  <a:pt x="4428" y="3194"/>
                </a:lnTo>
                <a:lnTo>
                  <a:pt x="4452" y="3196"/>
                </a:lnTo>
                <a:lnTo>
                  <a:pt x="4475" y="3200"/>
                </a:lnTo>
                <a:lnTo>
                  <a:pt x="4497" y="3202"/>
                </a:lnTo>
                <a:lnTo>
                  <a:pt x="4521" y="3205"/>
                </a:lnTo>
                <a:lnTo>
                  <a:pt x="4542" y="3209"/>
                </a:lnTo>
                <a:lnTo>
                  <a:pt x="4566" y="3211"/>
                </a:lnTo>
                <a:lnTo>
                  <a:pt x="4589" y="3213"/>
                </a:lnTo>
                <a:lnTo>
                  <a:pt x="4611" y="3216"/>
                </a:lnTo>
                <a:lnTo>
                  <a:pt x="4635" y="3218"/>
                </a:lnTo>
                <a:lnTo>
                  <a:pt x="4658" y="3221"/>
                </a:lnTo>
                <a:lnTo>
                  <a:pt x="4680" y="3224"/>
                </a:lnTo>
                <a:lnTo>
                  <a:pt x="4703" y="3225"/>
                </a:lnTo>
                <a:lnTo>
                  <a:pt x="4725" y="3228"/>
                </a:lnTo>
                <a:lnTo>
                  <a:pt x="4749" y="3229"/>
                </a:lnTo>
                <a:lnTo>
                  <a:pt x="4772" y="3232"/>
                </a:lnTo>
                <a:lnTo>
                  <a:pt x="4794" y="3234"/>
                </a:lnTo>
                <a:lnTo>
                  <a:pt x="4817" y="3237"/>
                </a:lnTo>
                <a:lnTo>
                  <a:pt x="4839" y="3239"/>
                </a:lnTo>
                <a:lnTo>
                  <a:pt x="4863" y="3240"/>
                </a:lnTo>
                <a:lnTo>
                  <a:pt x="4886" y="3241"/>
                </a:lnTo>
                <a:lnTo>
                  <a:pt x="4908" y="3243"/>
                </a:lnTo>
                <a:lnTo>
                  <a:pt x="4931" y="3245"/>
                </a:lnTo>
                <a:lnTo>
                  <a:pt x="4953" y="3247"/>
                </a:lnTo>
                <a:lnTo>
                  <a:pt x="4977" y="3248"/>
                </a:lnTo>
                <a:lnTo>
                  <a:pt x="5000" y="3250"/>
                </a:lnTo>
                <a:lnTo>
                  <a:pt x="5022" y="3251"/>
                </a:lnTo>
                <a:lnTo>
                  <a:pt x="5045" y="3253"/>
                </a:lnTo>
                <a:lnTo>
                  <a:pt x="5068" y="3254"/>
                </a:lnTo>
                <a:lnTo>
                  <a:pt x="5091" y="3255"/>
                </a:lnTo>
                <a:lnTo>
                  <a:pt x="5114" y="3256"/>
                </a:lnTo>
                <a:lnTo>
                  <a:pt x="5136" y="3258"/>
                </a:lnTo>
                <a:lnTo>
                  <a:pt x="5159" y="3259"/>
                </a:lnTo>
                <a:lnTo>
                  <a:pt x="5183" y="3261"/>
                </a:lnTo>
                <a:lnTo>
                  <a:pt x="5205" y="3262"/>
                </a:lnTo>
                <a:lnTo>
                  <a:pt x="5228" y="3263"/>
                </a:lnTo>
                <a:lnTo>
                  <a:pt x="5250" y="3264"/>
                </a:lnTo>
                <a:lnTo>
                  <a:pt x="5273" y="3266"/>
                </a:lnTo>
                <a:lnTo>
                  <a:pt x="5297" y="3267"/>
                </a:lnTo>
                <a:lnTo>
                  <a:pt x="5319" y="3268"/>
                </a:lnTo>
                <a:lnTo>
                  <a:pt x="5342" y="3269"/>
                </a:lnTo>
                <a:lnTo>
                  <a:pt x="5365" y="3269"/>
                </a:lnTo>
                <a:lnTo>
                  <a:pt x="5387" y="3270"/>
                </a:lnTo>
                <a:lnTo>
                  <a:pt x="5411" y="3271"/>
                </a:lnTo>
                <a:lnTo>
                  <a:pt x="5433" y="3272"/>
                </a:lnTo>
                <a:lnTo>
                  <a:pt x="5456" y="3273"/>
                </a:lnTo>
                <a:lnTo>
                  <a:pt x="5479" y="3274"/>
                </a:lnTo>
                <a:lnTo>
                  <a:pt x="5501" y="3275"/>
                </a:lnTo>
                <a:lnTo>
                  <a:pt x="5525" y="3276"/>
                </a:lnTo>
                <a:lnTo>
                  <a:pt x="5548" y="3277"/>
                </a:lnTo>
                <a:lnTo>
                  <a:pt x="5570" y="3277"/>
                </a:lnTo>
                <a:lnTo>
                  <a:pt x="5593" y="3278"/>
                </a:lnTo>
                <a:lnTo>
                  <a:pt x="5615" y="3279"/>
                </a:lnTo>
                <a:lnTo>
                  <a:pt x="5639" y="3280"/>
                </a:lnTo>
                <a:lnTo>
                  <a:pt x="5615" y="3279"/>
                </a:lnTo>
                <a:lnTo>
                  <a:pt x="5593" y="3278"/>
                </a:lnTo>
                <a:lnTo>
                  <a:pt x="5570" y="3277"/>
                </a:lnTo>
                <a:lnTo>
                  <a:pt x="5548" y="3277"/>
                </a:lnTo>
                <a:lnTo>
                  <a:pt x="5525" y="3276"/>
                </a:lnTo>
                <a:lnTo>
                  <a:pt x="5501" y="3275"/>
                </a:lnTo>
                <a:lnTo>
                  <a:pt x="5479" y="3274"/>
                </a:lnTo>
                <a:lnTo>
                  <a:pt x="5456" y="3273"/>
                </a:lnTo>
                <a:lnTo>
                  <a:pt x="5433" y="3272"/>
                </a:lnTo>
                <a:lnTo>
                  <a:pt x="5411" y="3271"/>
                </a:lnTo>
                <a:lnTo>
                  <a:pt x="5387" y="3270"/>
                </a:lnTo>
                <a:lnTo>
                  <a:pt x="5365" y="3269"/>
                </a:lnTo>
                <a:lnTo>
                  <a:pt x="5342" y="3269"/>
                </a:lnTo>
                <a:lnTo>
                  <a:pt x="5319" y="3268"/>
                </a:lnTo>
                <a:lnTo>
                  <a:pt x="5297" y="3267"/>
                </a:lnTo>
                <a:lnTo>
                  <a:pt x="5273" y="3266"/>
                </a:lnTo>
                <a:lnTo>
                  <a:pt x="5250" y="3264"/>
                </a:lnTo>
                <a:lnTo>
                  <a:pt x="5228" y="3263"/>
                </a:lnTo>
                <a:lnTo>
                  <a:pt x="5205" y="3262"/>
                </a:lnTo>
                <a:lnTo>
                  <a:pt x="5183" y="3261"/>
                </a:lnTo>
                <a:lnTo>
                  <a:pt x="5159" y="3259"/>
                </a:lnTo>
                <a:lnTo>
                  <a:pt x="5136" y="3258"/>
                </a:lnTo>
                <a:lnTo>
                  <a:pt x="5114" y="3256"/>
                </a:lnTo>
                <a:lnTo>
                  <a:pt x="5091" y="3255"/>
                </a:lnTo>
                <a:lnTo>
                  <a:pt x="5068" y="3254"/>
                </a:lnTo>
                <a:lnTo>
                  <a:pt x="5045" y="3253"/>
                </a:lnTo>
                <a:lnTo>
                  <a:pt x="5022" y="3251"/>
                </a:lnTo>
                <a:lnTo>
                  <a:pt x="5000" y="3250"/>
                </a:lnTo>
                <a:lnTo>
                  <a:pt x="4977" y="3248"/>
                </a:lnTo>
                <a:lnTo>
                  <a:pt x="4953" y="3247"/>
                </a:lnTo>
                <a:lnTo>
                  <a:pt x="4931" y="3245"/>
                </a:lnTo>
                <a:lnTo>
                  <a:pt x="4908" y="3243"/>
                </a:lnTo>
                <a:lnTo>
                  <a:pt x="4886" y="3241"/>
                </a:lnTo>
                <a:lnTo>
                  <a:pt x="4863" y="3240"/>
                </a:lnTo>
                <a:lnTo>
                  <a:pt x="4839" y="3239"/>
                </a:lnTo>
                <a:lnTo>
                  <a:pt x="4817" y="3237"/>
                </a:lnTo>
                <a:lnTo>
                  <a:pt x="4794" y="3234"/>
                </a:lnTo>
                <a:lnTo>
                  <a:pt x="4772" y="3232"/>
                </a:lnTo>
                <a:lnTo>
                  <a:pt x="4749" y="3229"/>
                </a:lnTo>
                <a:lnTo>
                  <a:pt x="4725" y="3228"/>
                </a:lnTo>
                <a:lnTo>
                  <a:pt x="4703" y="3225"/>
                </a:lnTo>
                <a:lnTo>
                  <a:pt x="4680" y="3224"/>
                </a:lnTo>
                <a:lnTo>
                  <a:pt x="4658" y="3221"/>
                </a:lnTo>
                <a:lnTo>
                  <a:pt x="4635" y="3218"/>
                </a:lnTo>
                <a:lnTo>
                  <a:pt x="4611" y="3216"/>
                </a:lnTo>
                <a:lnTo>
                  <a:pt x="4589" y="3213"/>
                </a:lnTo>
                <a:lnTo>
                  <a:pt x="4566" y="3211"/>
                </a:lnTo>
                <a:lnTo>
                  <a:pt x="4542" y="3209"/>
                </a:lnTo>
                <a:lnTo>
                  <a:pt x="4521" y="3205"/>
                </a:lnTo>
                <a:lnTo>
                  <a:pt x="4497" y="3202"/>
                </a:lnTo>
                <a:lnTo>
                  <a:pt x="4475" y="3200"/>
                </a:lnTo>
                <a:lnTo>
                  <a:pt x="4452" y="3196"/>
                </a:lnTo>
                <a:lnTo>
                  <a:pt x="4428" y="3194"/>
                </a:lnTo>
                <a:lnTo>
                  <a:pt x="4406" y="3190"/>
                </a:lnTo>
                <a:lnTo>
                  <a:pt x="4383" y="3188"/>
                </a:lnTo>
                <a:lnTo>
                  <a:pt x="4361" y="3183"/>
                </a:lnTo>
                <a:lnTo>
                  <a:pt x="4338" y="3181"/>
                </a:lnTo>
                <a:lnTo>
                  <a:pt x="4314" y="3176"/>
                </a:lnTo>
                <a:lnTo>
                  <a:pt x="4292" y="3173"/>
                </a:lnTo>
                <a:lnTo>
                  <a:pt x="4269" y="3169"/>
                </a:lnTo>
                <a:lnTo>
                  <a:pt x="4246" y="3166"/>
                </a:lnTo>
                <a:lnTo>
                  <a:pt x="4224" y="3161"/>
                </a:lnTo>
                <a:lnTo>
                  <a:pt x="4200" y="3156"/>
                </a:lnTo>
                <a:lnTo>
                  <a:pt x="4178" y="3152"/>
                </a:lnTo>
                <a:lnTo>
                  <a:pt x="4155" y="3148"/>
                </a:lnTo>
                <a:lnTo>
                  <a:pt x="4132" y="3143"/>
                </a:lnTo>
                <a:lnTo>
                  <a:pt x="4110" y="3139"/>
                </a:lnTo>
                <a:lnTo>
                  <a:pt x="4086" y="3133"/>
                </a:lnTo>
                <a:lnTo>
                  <a:pt x="4064" y="3129"/>
                </a:lnTo>
                <a:lnTo>
                  <a:pt x="4041" y="3124"/>
                </a:lnTo>
                <a:lnTo>
                  <a:pt x="4017" y="3119"/>
                </a:lnTo>
                <a:lnTo>
                  <a:pt x="3996" y="3112"/>
                </a:lnTo>
                <a:lnTo>
                  <a:pt x="3972" y="3107"/>
                </a:lnTo>
                <a:lnTo>
                  <a:pt x="3949" y="3103"/>
                </a:lnTo>
                <a:lnTo>
                  <a:pt x="3927" y="3094"/>
                </a:lnTo>
                <a:lnTo>
                  <a:pt x="3903" y="3090"/>
                </a:lnTo>
                <a:lnTo>
                  <a:pt x="3881" y="3083"/>
                </a:lnTo>
                <a:lnTo>
                  <a:pt x="3858" y="3077"/>
                </a:lnTo>
                <a:lnTo>
                  <a:pt x="3835" y="3070"/>
                </a:lnTo>
                <a:lnTo>
                  <a:pt x="3813" y="3062"/>
                </a:lnTo>
                <a:lnTo>
                  <a:pt x="3789" y="3058"/>
                </a:lnTo>
                <a:lnTo>
                  <a:pt x="3766" y="3048"/>
                </a:lnTo>
                <a:lnTo>
                  <a:pt x="3744" y="3041"/>
                </a:lnTo>
                <a:lnTo>
                  <a:pt x="3721" y="3033"/>
                </a:lnTo>
                <a:lnTo>
                  <a:pt x="3699" y="3028"/>
                </a:lnTo>
                <a:lnTo>
                  <a:pt x="3675" y="3017"/>
                </a:lnTo>
                <a:lnTo>
                  <a:pt x="3652" y="3008"/>
                </a:lnTo>
                <a:lnTo>
                  <a:pt x="3630" y="3000"/>
                </a:lnTo>
                <a:lnTo>
                  <a:pt x="3607" y="2993"/>
                </a:lnTo>
                <a:lnTo>
                  <a:pt x="3585" y="2984"/>
                </a:lnTo>
                <a:lnTo>
                  <a:pt x="3561" y="2972"/>
                </a:lnTo>
                <a:lnTo>
                  <a:pt x="3538" y="2961"/>
                </a:lnTo>
                <a:lnTo>
                  <a:pt x="3516" y="2954"/>
                </a:lnTo>
                <a:lnTo>
                  <a:pt x="3493" y="2944"/>
                </a:lnTo>
                <a:lnTo>
                  <a:pt x="3471" y="2930"/>
                </a:lnTo>
                <a:lnTo>
                  <a:pt x="3447" y="2924"/>
                </a:lnTo>
                <a:lnTo>
                  <a:pt x="3424" y="2911"/>
                </a:lnTo>
                <a:lnTo>
                  <a:pt x="3402" y="2898"/>
                </a:lnTo>
                <a:lnTo>
                  <a:pt x="3379" y="2885"/>
                </a:lnTo>
                <a:lnTo>
                  <a:pt x="3355" y="2877"/>
                </a:lnTo>
                <a:lnTo>
                  <a:pt x="3333" y="2863"/>
                </a:lnTo>
                <a:lnTo>
                  <a:pt x="3310" y="2846"/>
                </a:lnTo>
                <a:lnTo>
                  <a:pt x="3288" y="2836"/>
                </a:lnTo>
                <a:lnTo>
                  <a:pt x="3265" y="2822"/>
                </a:lnTo>
                <a:lnTo>
                  <a:pt x="3241" y="2808"/>
                </a:lnTo>
                <a:lnTo>
                  <a:pt x="3219" y="2793"/>
                </a:lnTo>
                <a:lnTo>
                  <a:pt x="3196" y="2781"/>
                </a:lnTo>
                <a:lnTo>
                  <a:pt x="3174" y="2761"/>
                </a:lnTo>
                <a:lnTo>
                  <a:pt x="3151" y="2743"/>
                </a:lnTo>
                <a:lnTo>
                  <a:pt x="3127" y="2737"/>
                </a:lnTo>
                <a:lnTo>
                  <a:pt x="3105" y="2708"/>
                </a:lnTo>
                <a:lnTo>
                  <a:pt x="3082" y="2702"/>
                </a:lnTo>
                <a:lnTo>
                  <a:pt x="3059" y="2677"/>
                </a:lnTo>
                <a:lnTo>
                  <a:pt x="3037" y="2664"/>
                </a:lnTo>
                <a:lnTo>
                  <a:pt x="3013" y="2644"/>
                </a:lnTo>
                <a:lnTo>
                  <a:pt x="2991" y="2623"/>
                </a:lnTo>
                <a:lnTo>
                  <a:pt x="2968" y="2603"/>
                </a:lnTo>
                <a:lnTo>
                  <a:pt x="2945" y="2588"/>
                </a:lnTo>
                <a:lnTo>
                  <a:pt x="2923" y="2556"/>
                </a:lnTo>
                <a:lnTo>
                  <a:pt x="2899" y="2550"/>
                </a:lnTo>
                <a:lnTo>
                  <a:pt x="2877" y="2516"/>
                </a:lnTo>
                <a:lnTo>
                  <a:pt x="2854" y="2503"/>
                </a:lnTo>
                <a:lnTo>
                  <a:pt x="2830" y="2476"/>
                </a:lnTo>
                <a:lnTo>
                  <a:pt x="2809" y="2450"/>
                </a:lnTo>
                <a:lnTo>
                  <a:pt x="2785" y="2424"/>
                </a:lnTo>
                <a:lnTo>
                  <a:pt x="2762" y="2392"/>
                </a:lnTo>
                <a:lnTo>
                  <a:pt x="2740" y="2388"/>
                </a:lnTo>
                <a:lnTo>
                  <a:pt x="2716" y="2360"/>
                </a:lnTo>
                <a:lnTo>
                  <a:pt x="2694" y="2314"/>
                </a:lnTo>
                <a:lnTo>
                  <a:pt x="2671" y="2294"/>
                </a:lnTo>
                <a:lnTo>
                  <a:pt x="2648" y="2275"/>
                </a:lnTo>
                <a:lnTo>
                  <a:pt x="2626" y="2242"/>
                </a:lnTo>
                <a:lnTo>
                  <a:pt x="2602" y="2188"/>
                </a:lnTo>
                <a:lnTo>
                  <a:pt x="2580" y="2192"/>
                </a:lnTo>
                <a:lnTo>
                  <a:pt x="2557" y="2148"/>
                </a:lnTo>
                <a:lnTo>
                  <a:pt x="2534" y="2118"/>
                </a:lnTo>
                <a:lnTo>
                  <a:pt x="2512" y="2085"/>
                </a:lnTo>
                <a:lnTo>
                  <a:pt x="2488" y="2052"/>
                </a:lnTo>
                <a:lnTo>
                  <a:pt x="2465" y="2018"/>
                </a:lnTo>
                <a:lnTo>
                  <a:pt x="2443" y="1984"/>
                </a:lnTo>
                <a:lnTo>
                  <a:pt x="2420" y="1948"/>
                </a:lnTo>
                <a:lnTo>
                  <a:pt x="2398" y="1912"/>
                </a:lnTo>
                <a:lnTo>
                  <a:pt x="2374" y="1875"/>
                </a:lnTo>
                <a:lnTo>
                  <a:pt x="2351" y="1837"/>
                </a:lnTo>
                <a:lnTo>
                  <a:pt x="2329" y="1799"/>
                </a:lnTo>
                <a:lnTo>
                  <a:pt x="2306" y="1760"/>
                </a:lnTo>
                <a:lnTo>
                  <a:pt x="2284" y="1720"/>
                </a:lnTo>
                <a:lnTo>
                  <a:pt x="2260" y="1680"/>
                </a:lnTo>
                <a:lnTo>
                  <a:pt x="2237" y="1639"/>
                </a:lnTo>
                <a:lnTo>
                  <a:pt x="2215" y="1597"/>
                </a:lnTo>
                <a:lnTo>
                  <a:pt x="2192" y="1555"/>
                </a:lnTo>
                <a:lnTo>
                  <a:pt x="2168" y="1512"/>
                </a:lnTo>
                <a:lnTo>
                  <a:pt x="2146" y="1468"/>
                </a:lnTo>
                <a:lnTo>
                  <a:pt x="2123" y="1424"/>
                </a:lnTo>
                <a:lnTo>
                  <a:pt x="2101" y="1378"/>
                </a:lnTo>
                <a:lnTo>
                  <a:pt x="2078" y="1333"/>
                </a:lnTo>
                <a:lnTo>
                  <a:pt x="2054" y="1286"/>
                </a:lnTo>
                <a:lnTo>
                  <a:pt x="2032" y="1240"/>
                </a:lnTo>
                <a:lnTo>
                  <a:pt x="2009" y="1193"/>
                </a:lnTo>
                <a:lnTo>
                  <a:pt x="1987" y="1145"/>
                </a:lnTo>
                <a:lnTo>
                  <a:pt x="1964" y="1098"/>
                </a:lnTo>
                <a:lnTo>
                  <a:pt x="1940" y="1049"/>
                </a:lnTo>
                <a:lnTo>
                  <a:pt x="1918" y="1001"/>
                </a:lnTo>
                <a:lnTo>
                  <a:pt x="1895" y="952"/>
                </a:lnTo>
                <a:lnTo>
                  <a:pt x="1873" y="904"/>
                </a:lnTo>
                <a:lnTo>
                  <a:pt x="1850" y="855"/>
                </a:lnTo>
                <a:lnTo>
                  <a:pt x="1826" y="806"/>
                </a:lnTo>
                <a:lnTo>
                  <a:pt x="1804" y="758"/>
                </a:lnTo>
                <a:lnTo>
                  <a:pt x="1781" y="710"/>
                </a:lnTo>
                <a:lnTo>
                  <a:pt x="1758" y="661"/>
                </a:lnTo>
                <a:lnTo>
                  <a:pt x="1736" y="614"/>
                </a:lnTo>
                <a:lnTo>
                  <a:pt x="1712" y="568"/>
                </a:lnTo>
                <a:lnTo>
                  <a:pt x="1690" y="522"/>
                </a:lnTo>
                <a:lnTo>
                  <a:pt x="1667" y="476"/>
                </a:lnTo>
                <a:lnTo>
                  <a:pt x="1643" y="432"/>
                </a:lnTo>
                <a:lnTo>
                  <a:pt x="1622" y="389"/>
                </a:lnTo>
                <a:lnTo>
                  <a:pt x="1598" y="347"/>
                </a:lnTo>
                <a:lnTo>
                  <a:pt x="1575" y="306"/>
                </a:lnTo>
                <a:lnTo>
                  <a:pt x="1553" y="267"/>
                </a:lnTo>
                <a:lnTo>
                  <a:pt x="1529" y="230"/>
                </a:lnTo>
                <a:lnTo>
                  <a:pt x="1507" y="195"/>
                </a:lnTo>
                <a:lnTo>
                  <a:pt x="1484" y="162"/>
                </a:lnTo>
                <a:lnTo>
                  <a:pt x="1461" y="131"/>
                </a:lnTo>
                <a:lnTo>
                  <a:pt x="1439" y="104"/>
                </a:lnTo>
                <a:lnTo>
                  <a:pt x="1415" y="79"/>
                </a:lnTo>
                <a:lnTo>
                  <a:pt x="1393" y="56"/>
                </a:lnTo>
                <a:lnTo>
                  <a:pt x="1370" y="37"/>
                </a:lnTo>
                <a:lnTo>
                  <a:pt x="1347" y="22"/>
                </a:lnTo>
                <a:lnTo>
                  <a:pt x="1325" y="10"/>
                </a:lnTo>
                <a:lnTo>
                  <a:pt x="1301" y="3"/>
                </a:lnTo>
                <a:lnTo>
                  <a:pt x="1278" y="0"/>
                </a:lnTo>
                <a:lnTo>
                  <a:pt x="1256" y="1"/>
                </a:lnTo>
                <a:lnTo>
                  <a:pt x="1233" y="7"/>
                </a:lnTo>
                <a:lnTo>
                  <a:pt x="1211" y="18"/>
                </a:lnTo>
                <a:lnTo>
                  <a:pt x="1187" y="34"/>
                </a:lnTo>
                <a:lnTo>
                  <a:pt x="1164" y="55"/>
                </a:lnTo>
                <a:lnTo>
                  <a:pt x="1142" y="81"/>
                </a:lnTo>
                <a:lnTo>
                  <a:pt x="1118" y="114"/>
                </a:lnTo>
                <a:lnTo>
                  <a:pt x="1097" y="153"/>
                </a:lnTo>
                <a:lnTo>
                  <a:pt x="1073" y="198"/>
                </a:lnTo>
                <a:lnTo>
                  <a:pt x="1050" y="248"/>
                </a:lnTo>
                <a:lnTo>
                  <a:pt x="1028" y="305"/>
                </a:lnTo>
                <a:lnTo>
                  <a:pt x="1004" y="368"/>
                </a:lnTo>
                <a:lnTo>
                  <a:pt x="981" y="437"/>
                </a:lnTo>
                <a:lnTo>
                  <a:pt x="959" y="513"/>
                </a:lnTo>
                <a:lnTo>
                  <a:pt x="936" y="594"/>
                </a:lnTo>
                <a:lnTo>
                  <a:pt x="914" y="691"/>
                </a:lnTo>
                <a:lnTo>
                  <a:pt x="890" y="771"/>
                </a:lnTo>
                <a:lnTo>
                  <a:pt x="867" y="884"/>
                </a:lnTo>
                <a:lnTo>
                  <a:pt x="845" y="976"/>
                </a:lnTo>
                <a:lnTo>
                  <a:pt x="822" y="1099"/>
                </a:lnTo>
                <a:lnTo>
                  <a:pt x="800" y="1204"/>
                </a:lnTo>
                <a:lnTo>
                  <a:pt x="776" y="1323"/>
                </a:lnTo>
                <a:lnTo>
                  <a:pt x="753" y="1444"/>
                </a:lnTo>
                <a:lnTo>
                  <a:pt x="731" y="1568"/>
                </a:lnTo>
                <a:lnTo>
                  <a:pt x="708" y="1694"/>
                </a:lnTo>
                <a:lnTo>
                  <a:pt x="686" y="1819"/>
                </a:lnTo>
                <a:lnTo>
                  <a:pt x="662" y="1947"/>
                </a:lnTo>
                <a:lnTo>
                  <a:pt x="639" y="2069"/>
                </a:lnTo>
                <a:lnTo>
                  <a:pt x="617" y="2194"/>
                </a:lnTo>
                <a:lnTo>
                  <a:pt x="594" y="2314"/>
                </a:lnTo>
                <a:lnTo>
                  <a:pt x="571" y="2430"/>
                </a:lnTo>
                <a:lnTo>
                  <a:pt x="548" y="2542"/>
                </a:lnTo>
                <a:lnTo>
                  <a:pt x="525" y="2647"/>
                </a:lnTo>
                <a:lnTo>
                  <a:pt x="503" y="2746"/>
                </a:lnTo>
                <a:lnTo>
                  <a:pt x="480" y="2837"/>
                </a:lnTo>
                <a:lnTo>
                  <a:pt x="456" y="2920"/>
                </a:lnTo>
                <a:lnTo>
                  <a:pt x="434" y="2994"/>
                </a:lnTo>
                <a:lnTo>
                  <a:pt x="411" y="3060"/>
                </a:lnTo>
                <a:lnTo>
                  <a:pt x="389" y="3116"/>
                </a:lnTo>
                <a:lnTo>
                  <a:pt x="366" y="3164"/>
                </a:lnTo>
                <a:lnTo>
                  <a:pt x="342" y="3202"/>
                </a:lnTo>
                <a:lnTo>
                  <a:pt x="320" y="3233"/>
                </a:lnTo>
                <a:lnTo>
                  <a:pt x="297" y="3257"/>
                </a:lnTo>
                <a:lnTo>
                  <a:pt x="274" y="3275"/>
                </a:lnTo>
                <a:lnTo>
                  <a:pt x="252" y="3287"/>
                </a:lnTo>
                <a:lnTo>
                  <a:pt x="228" y="3296"/>
                </a:lnTo>
                <a:lnTo>
                  <a:pt x="206" y="3300"/>
                </a:lnTo>
                <a:lnTo>
                  <a:pt x="183" y="3303"/>
                </a:lnTo>
                <a:lnTo>
                  <a:pt x="160" y="3305"/>
                </a:lnTo>
                <a:lnTo>
                  <a:pt x="138" y="3306"/>
                </a:lnTo>
                <a:lnTo>
                  <a:pt x="114" y="3306"/>
                </a:lnTo>
                <a:lnTo>
                  <a:pt x="91" y="3306"/>
                </a:lnTo>
                <a:lnTo>
                  <a:pt x="69" y="3306"/>
                </a:lnTo>
                <a:lnTo>
                  <a:pt x="46" y="3306"/>
                </a:lnTo>
                <a:lnTo>
                  <a:pt x="24" y="3306"/>
                </a:lnTo>
                <a:lnTo>
                  <a:pt x="0" y="3306"/>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6200" y="3456000"/>
            <a:ext cx="3882960" cy="1359000"/>
          </a:xfrm>
          <a:custGeom>
            <a:avLst/>
            <a:gdLst/>
            <a:ahLst/>
            <a:rect l="l" t="t" r="r" b="b"/>
            <a:pathLst>
              <a:path w="5648" h="3312">
                <a:moveTo>
                  <a:pt x="0" y="3311"/>
                </a:moveTo>
                <a:lnTo>
                  <a:pt x="24" y="3311"/>
                </a:lnTo>
                <a:lnTo>
                  <a:pt x="46" y="3311"/>
                </a:lnTo>
                <a:lnTo>
                  <a:pt x="69" y="3311"/>
                </a:lnTo>
                <a:lnTo>
                  <a:pt x="92" y="3311"/>
                </a:lnTo>
                <a:lnTo>
                  <a:pt x="114" y="3311"/>
                </a:lnTo>
                <a:lnTo>
                  <a:pt x="138" y="3311"/>
                </a:lnTo>
                <a:lnTo>
                  <a:pt x="161" y="3310"/>
                </a:lnTo>
                <a:lnTo>
                  <a:pt x="183" y="3308"/>
                </a:lnTo>
                <a:lnTo>
                  <a:pt x="206" y="3305"/>
                </a:lnTo>
                <a:lnTo>
                  <a:pt x="228" y="3301"/>
                </a:lnTo>
                <a:lnTo>
                  <a:pt x="252" y="3292"/>
                </a:lnTo>
                <a:lnTo>
                  <a:pt x="275" y="3280"/>
                </a:lnTo>
                <a:lnTo>
                  <a:pt x="297" y="3262"/>
                </a:lnTo>
                <a:lnTo>
                  <a:pt x="320" y="3238"/>
                </a:lnTo>
                <a:lnTo>
                  <a:pt x="343" y="3207"/>
                </a:lnTo>
                <a:lnTo>
                  <a:pt x="366" y="3168"/>
                </a:lnTo>
                <a:lnTo>
                  <a:pt x="389" y="3121"/>
                </a:lnTo>
                <a:lnTo>
                  <a:pt x="412" y="3064"/>
                </a:lnTo>
                <a:lnTo>
                  <a:pt x="434" y="2999"/>
                </a:lnTo>
                <a:lnTo>
                  <a:pt x="457" y="2925"/>
                </a:lnTo>
                <a:lnTo>
                  <a:pt x="481" y="2841"/>
                </a:lnTo>
                <a:lnTo>
                  <a:pt x="503" y="2750"/>
                </a:lnTo>
                <a:lnTo>
                  <a:pt x="526" y="2651"/>
                </a:lnTo>
                <a:lnTo>
                  <a:pt x="549" y="2546"/>
                </a:lnTo>
                <a:lnTo>
                  <a:pt x="572" y="2434"/>
                </a:lnTo>
                <a:lnTo>
                  <a:pt x="595" y="2318"/>
                </a:lnTo>
                <a:lnTo>
                  <a:pt x="618" y="2198"/>
                </a:lnTo>
                <a:lnTo>
                  <a:pt x="640" y="2072"/>
                </a:lnTo>
                <a:lnTo>
                  <a:pt x="663" y="1950"/>
                </a:lnTo>
                <a:lnTo>
                  <a:pt x="687" y="1822"/>
                </a:lnTo>
                <a:lnTo>
                  <a:pt x="709" y="1697"/>
                </a:lnTo>
                <a:lnTo>
                  <a:pt x="732" y="1570"/>
                </a:lnTo>
                <a:lnTo>
                  <a:pt x="754" y="1446"/>
                </a:lnTo>
                <a:lnTo>
                  <a:pt x="777" y="1325"/>
                </a:lnTo>
                <a:lnTo>
                  <a:pt x="801" y="1206"/>
                </a:lnTo>
                <a:lnTo>
                  <a:pt x="823" y="1100"/>
                </a:lnTo>
                <a:lnTo>
                  <a:pt x="846" y="977"/>
                </a:lnTo>
                <a:lnTo>
                  <a:pt x="869" y="885"/>
                </a:lnTo>
                <a:lnTo>
                  <a:pt x="891" y="772"/>
                </a:lnTo>
                <a:lnTo>
                  <a:pt x="915" y="692"/>
                </a:lnTo>
                <a:lnTo>
                  <a:pt x="938" y="595"/>
                </a:lnTo>
                <a:lnTo>
                  <a:pt x="960" y="514"/>
                </a:lnTo>
                <a:lnTo>
                  <a:pt x="983" y="438"/>
                </a:lnTo>
                <a:lnTo>
                  <a:pt x="1005" y="369"/>
                </a:lnTo>
                <a:lnTo>
                  <a:pt x="1029" y="306"/>
                </a:lnTo>
                <a:lnTo>
                  <a:pt x="1052" y="249"/>
                </a:lnTo>
                <a:lnTo>
                  <a:pt x="1074" y="198"/>
                </a:lnTo>
                <a:lnTo>
                  <a:pt x="1098" y="153"/>
                </a:lnTo>
                <a:lnTo>
                  <a:pt x="1120" y="114"/>
                </a:lnTo>
                <a:lnTo>
                  <a:pt x="1143" y="82"/>
                </a:lnTo>
                <a:lnTo>
                  <a:pt x="1166" y="55"/>
                </a:lnTo>
                <a:lnTo>
                  <a:pt x="1189" y="34"/>
                </a:lnTo>
                <a:lnTo>
                  <a:pt x="1212" y="18"/>
                </a:lnTo>
                <a:lnTo>
                  <a:pt x="1235" y="7"/>
                </a:lnTo>
                <a:lnTo>
                  <a:pt x="1258" y="1"/>
                </a:lnTo>
                <a:lnTo>
                  <a:pt x="1280" y="0"/>
                </a:lnTo>
                <a:lnTo>
                  <a:pt x="1303" y="3"/>
                </a:lnTo>
                <a:lnTo>
                  <a:pt x="1327" y="10"/>
                </a:lnTo>
                <a:lnTo>
                  <a:pt x="1349" y="23"/>
                </a:lnTo>
                <a:lnTo>
                  <a:pt x="1372" y="38"/>
                </a:lnTo>
                <a:lnTo>
                  <a:pt x="1395" y="56"/>
                </a:lnTo>
                <a:lnTo>
                  <a:pt x="1417" y="79"/>
                </a:lnTo>
                <a:lnTo>
                  <a:pt x="1441" y="104"/>
                </a:lnTo>
                <a:lnTo>
                  <a:pt x="1463" y="131"/>
                </a:lnTo>
                <a:lnTo>
                  <a:pt x="1486" y="162"/>
                </a:lnTo>
                <a:lnTo>
                  <a:pt x="1509" y="195"/>
                </a:lnTo>
                <a:lnTo>
                  <a:pt x="1531" y="231"/>
                </a:lnTo>
                <a:lnTo>
                  <a:pt x="1555" y="267"/>
                </a:lnTo>
                <a:lnTo>
                  <a:pt x="1578" y="307"/>
                </a:lnTo>
                <a:lnTo>
                  <a:pt x="1600" y="347"/>
                </a:lnTo>
                <a:lnTo>
                  <a:pt x="1624" y="389"/>
                </a:lnTo>
                <a:lnTo>
                  <a:pt x="1646" y="432"/>
                </a:lnTo>
                <a:lnTo>
                  <a:pt x="1669" y="476"/>
                </a:lnTo>
                <a:lnTo>
                  <a:pt x="1692" y="522"/>
                </a:lnTo>
                <a:lnTo>
                  <a:pt x="1715" y="568"/>
                </a:lnTo>
                <a:lnTo>
                  <a:pt x="1738" y="615"/>
                </a:lnTo>
                <a:lnTo>
                  <a:pt x="1761" y="662"/>
                </a:lnTo>
                <a:lnTo>
                  <a:pt x="1784" y="711"/>
                </a:lnTo>
                <a:lnTo>
                  <a:pt x="1806" y="759"/>
                </a:lnTo>
                <a:lnTo>
                  <a:pt x="1829" y="808"/>
                </a:lnTo>
                <a:lnTo>
                  <a:pt x="1853" y="856"/>
                </a:lnTo>
                <a:lnTo>
                  <a:pt x="1875" y="905"/>
                </a:lnTo>
                <a:lnTo>
                  <a:pt x="1898" y="954"/>
                </a:lnTo>
                <a:lnTo>
                  <a:pt x="1920" y="1003"/>
                </a:lnTo>
                <a:lnTo>
                  <a:pt x="1943" y="1051"/>
                </a:lnTo>
                <a:lnTo>
                  <a:pt x="1967" y="1099"/>
                </a:lnTo>
                <a:lnTo>
                  <a:pt x="1989" y="1147"/>
                </a:lnTo>
                <a:lnTo>
                  <a:pt x="2012" y="1195"/>
                </a:lnTo>
                <a:lnTo>
                  <a:pt x="2035" y="1242"/>
                </a:lnTo>
                <a:lnTo>
                  <a:pt x="2057" y="1288"/>
                </a:lnTo>
                <a:lnTo>
                  <a:pt x="2081" y="1335"/>
                </a:lnTo>
                <a:lnTo>
                  <a:pt x="2104" y="1380"/>
                </a:lnTo>
                <a:lnTo>
                  <a:pt x="2126" y="1426"/>
                </a:lnTo>
                <a:lnTo>
                  <a:pt x="2149" y="1470"/>
                </a:lnTo>
                <a:lnTo>
                  <a:pt x="2171" y="1514"/>
                </a:lnTo>
                <a:lnTo>
                  <a:pt x="2195" y="1557"/>
                </a:lnTo>
                <a:lnTo>
                  <a:pt x="2218" y="1599"/>
                </a:lnTo>
                <a:lnTo>
                  <a:pt x="2240" y="1641"/>
                </a:lnTo>
                <a:lnTo>
                  <a:pt x="2263" y="1683"/>
                </a:lnTo>
                <a:lnTo>
                  <a:pt x="2287" y="1723"/>
                </a:lnTo>
                <a:lnTo>
                  <a:pt x="2309" y="1762"/>
                </a:lnTo>
                <a:lnTo>
                  <a:pt x="2332" y="1802"/>
                </a:lnTo>
                <a:lnTo>
                  <a:pt x="2355" y="1840"/>
                </a:lnTo>
                <a:lnTo>
                  <a:pt x="2377" y="1878"/>
                </a:lnTo>
                <a:lnTo>
                  <a:pt x="2401" y="1915"/>
                </a:lnTo>
                <a:lnTo>
                  <a:pt x="2424" y="1951"/>
                </a:lnTo>
                <a:lnTo>
                  <a:pt x="2446" y="1987"/>
                </a:lnTo>
                <a:lnTo>
                  <a:pt x="2469" y="2021"/>
                </a:lnTo>
                <a:lnTo>
                  <a:pt x="2492" y="2055"/>
                </a:lnTo>
                <a:lnTo>
                  <a:pt x="2515" y="2088"/>
                </a:lnTo>
                <a:lnTo>
                  <a:pt x="2538" y="2121"/>
                </a:lnTo>
                <a:lnTo>
                  <a:pt x="2561" y="2152"/>
                </a:lnTo>
                <a:lnTo>
                  <a:pt x="2583" y="2196"/>
                </a:lnTo>
                <a:lnTo>
                  <a:pt x="2606" y="2191"/>
                </a:lnTo>
                <a:lnTo>
                  <a:pt x="2630" y="2245"/>
                </a:lnTo>
                <a:lnTo>
                  <a:pt x="2652" y="2278"/>
                </a:lnTo>
                <a:lnTo>
                  <a:pt x="2675" y="2297"/>
                </a:lnTo>
                <a:lnTo>
                  <a:pt x="2697" y="2318"/>
                </a:lnTo>
                <a:lnTo>
                  <a:pt x="2720" y="2364"/>
                </a:lnTo>
                <a:lnTo>
                  <a:pt x="2744" y="2392"/>
                </a:lnTo>
                <a:lnTo>
                  <a:pt x="2766" y="2396"/>
                </a:lnTo>
                <a:lnTo>
                  <a:pt x="2789" y="2427"/>
                </a:lnTo>
                <a:lnTo>
                  <a:pt x="2813" y="2454"/>
                </a:lnTo>
                <a:lnTo>
                  <a:pt x="2834" y="2480"/>
                </a:lnTo>
                <a:lnTo>
                  <a:pt x="2858" y="2507"/>
                </a:lnTo>
                <a:lnTo>
                  <a:pt x="2881" y="2520"/>
                </a:lnTo>
                <a:lnTo>
                  <a:pt x="2903" y="2554"/>
                </a:lnTo>
                <a:lnTo>
                  <a:pt x="2927" y="2560"/>
                </a:lnTo>
                <a:lnTo>
                  <a:pt x="2950" y="2592"/>
                </a:lnTo>
                <a:lnTo>
                  <a:pt x="2972" y="2607"/>
                </a:lnTo>
                <a:lnTo>
                  <a:pt x="2995" y="2627"/>
                </a:lnTo>
                <a:lnTo>
                  <a:pt x="3017" y="2648"/>
                </a:lnTo>
                <a:lnTo>
                  <a:pt x="3041" y="2668"/>
                </a:lnTo>
                <a:lnTo>
                  <a:pt x="3064" y="2681"/>
                </a:lnTo>
                <a:lnTo>
                  <a:pt x="3086" y="2706"/>
                </a:lnTo>
                <a:lnTo>
                  <a:pt x="3109" y="2713"/>
                </a:lnTo>
                <a:lnTo>
                  <a:pt x="3132" y="2741"/>
                </a:lnTo>
                <a:lnTo>
                  <a:pt x="3155" y="2747"/>
                </a:lnTo>
                <a:lnTo>
                  <a:pt x="3178" y="2765"/>
                </a:lnTo>
                <a:lnTo>
                  <a:pt x="3201" y="2785"/>
                </a:lnTo>
                <a:lnTo>
                  <a:pt x="3223" y="2797"/>
                </a:lnTo>
                <a:lnTo>
                  <a:pt x="3246" y="2812"/>
                </a:lnTo>
                <a:lnTo>
                  <a:pt x="3270" y="2826"/>
                </a:lnTo>
                <a:lnTo>
                  <a:pt x="3292" y="2840"/>
                </a:lnTo>
                <a:lnTo>
                  <a:pt x="3315" y="2850"/>
                </a:lnTo>
                <a:lnTo>
                  <a:pt x="3338" y="2867"/>
                </a:lnTo>
                <a:lnTo>
                  <a:pt x="3360" y="2881"/>
                </a:lnTo>
                <a:lnTo>
                  <a:pt x="3384" y="2890"/>
                </a:lnTo>
                <a:lnTo>
                  <a:pt x="3407" y="2902"/>
                </a:lnTo>
                <a:lnTo>
                  <a:pt x="3429" y="2915"/>
                </a:lnTo>
                <a:lnTo>
                  <a:pt x="3452" y="2928"/>
                </a:lnTo>
                <a:lnTo>
                  <a:pt x="3476" y="2934"/>
                </a:lnTo>
                <a:lnTo>
                  <a:pt x="3498" y="2948"/>
                </a:lnTo>
                <a:lnTo>
                  <a:pt x="3521" y="2958"/>
                </a:lnTo>
                <a:lnTo>
                  <a:pt x="3543" y="2966"/>
                </a:lnTo>
                <a:lnTo>
                  <a:pt x="3566" y="2976"/>
                </a:lnTo>
                <a:lnTo>
                  <a:pt x="3590" y="2988"/>
                </a:lnTo>
                <a:lnTo>
                  <a:pt x="3612" y="2998"/>
                </a:lnTo>
                <a:lnTo>
                  <a:pt x="3635" y="3004"/>
                </a:lnTo>
                <a:lnTo>
                  <a:pt x="3658" y="3013"/>
                </a:lnTo>
                <a:lnTo>
                  <a:pt x="3680" y="3021"/>
                </a:lnTo>
                <a:lnTo>
                  <a:pt x="3704" y="3032"/>
                </a:lnTo>
                <a:lnTo>
                  <a:pt x="3727" y="3038"/>
                </a:lnTo>
                <a:lnTo>
                  <a:pt x="3749" y="3046"/>
                </a:lnTo>
                <a:lnTo>
                  <a:pt x="3772" y="3053"/>
                </a:lnTo>
                <a:lnTo>
                  <a:pt x="3794" y="3062"/>
                </a:lnTo>
                <a:lnTo>
                  <a:pt x="3818" y="3066"/>
                </a:lnTo>
                <a:lnTo>
                  <a:pt x="3841" y="3075"/>
                </a:lnTo>
                <a:lnTo>
                  <a:pt x="3863" y="3082"/>
                </a:lnTo>
                <a:lnTo>
                  <a:pt x="3886" y="3088"/>
                </a:lnTo>
                <a:lnTo>
                  <a:pt x="3909" y="3094"/>
                </a:lnTo>
                <a:lnTo>
                  <a:pt x="3932" y="3099"/>
                </a:lnTo>
                <a:lnTo>
                  <a:pt x="3955" y="3107"/>
                </a:lnTo>
                <a:lnTo>
                  <a:pt x="3978" y="3112"/>
                </a:lnTo>
                <a:lnTo>
                  <a:pt x="4001" y="3117"/>
                </a:lnTo>
                <a:lnTo>
                  <a:pt x="4023" y="3123"/>
                </a:lnTo>
                <a:lnTo>
                  <a:pt x="4047" y="3129"/>
                </a:lnTo>
                <a:lnTo>
                  <a:pt x="4069" y="3134"/>
                </a:lnTo>
                <a:lnTo>
                  <a:pt x="4092" y="3137"/>
                </a:lnTo>
                <a:lnTo>
                  <a:pt x="4116" y="3144"/>
                </a:lnTo>
                <a:lnTo>
                  <a:pt x="4138" y="3148"/>
                </a:lnTo>
                <a:lnTo>
                  <a:pt x="4161" y="3152"/>
                </a:lnTo>
                <a:lnTo>
                  <a:pt x="4184" y="3157"/>
                </a:lnTo>
                <a:lnTo>
                  <a:pt x="4206" y="3161"/>
                </a:lnTo>
                <a:lnTo>
                  <a:pt x="4230" y="3166"/>
                </a:lnTo>
                <a:lnTo>
                  <a:pt x="4252" y="3170"/>
                </a:lnTo>
                <a:lnTo>
                  <a:pt x="4275" y="3174"/>
                </a:lnTo>
                <a:lnTo>
                  <a:pt x="4298" y="3178"/>
                </a:lnTo>
                <a:lnTo>
                  <a:pt x="4320" y="3181"/>
                </a:lnTo>
                <a:lnTo>
                  <a:pt x="4344" y="3185"/>
                </a:lnTo>
                <a:lnTo>
                  <a:pt x="4367" y="3188"/>
                </a:lnTo>
                <a:lnTo>
                  <a:pt x="4389" y="3193"/>
                </a:lnTo>
                <a:lnTo>
                  <a:pt x="4412" y="3195"/>
                </a:lnTo>
                <a:lnTo>
                  <a:pt x="4435" y="3198"/>
                </a:lnTo>
                <a:lnTo>
                  <a:pt x="4458" y="3201"/>
                </a:lnTo>
                <a:lnTo>
                  <a:pt x="4481" y="3205"/>
                </a:lnTo>
                <a:lnTo>
                  <a:pt x="4504" y="3207"/>
                </a:lnTo>
                <a:lnTo>
                  <a:pt x="4527" y="3210"/>
                </a:lnTo>
                <a:lnTo>
                  <a:pt x="4549" y="3213"/>
                </a:lnTo>
                <a:lnTo>
                  <a:pt x="4573" y="3216"/>
                </a:lnTo>
                <a:lnTo>
                  <a:pt x="4595" y="3218"/>
                </a:lnTo>
                <a:lnTo>
                  <a:pt x="4618" y="3221"/>
                </a:lnTo>
                <a:lnTo>
                  <a:pt x="4642" y="3223"/>
                </a:lnTo>
                <a:lnTo>
                  <a:pt x="4664" y="3226"/>
                </a:lnTo>
                <a:lnTo>
                  <a:pt x="4687" y="3228"/>
                </a:lnTo>
                <a:lnTo>
                  <a:pt x="4709" y="3230"/>
                </a:lnTo>
                <a:lnTo>
                  <a:pt x="4732" y="3233"/>
                </a:lnTo>
                <a:lnTo>
                  <a:pt x="4756" y="3234"/>
                </a:lnTo>
                <a:lnTo>
                  <a:pt x="4778" y="3237"/>
                </a:lnTo>
                <a:lnTo>
                  <a:pt x="4801" y="3239"/>
                </a:lnTo>
                <a:lnTo>
                  <a:pt x="4824" y="3242"/>
                </a:lnTo>
                <a:lnTo>
                  <a:pt x="4846" y="3243"/>
                </a:lnTo>
                <a:lnTo>
                  <a:pt x="4870" y="3244"/>
                </a:lnTo>
                <a:lnTo>
                  <a:pt x="4893" y="3246"/>
                </a:lnTo>
                <a:lnTo>
                  <a:pt x="4915" y="3248"/>
                </a:lnTo>
                <a:lnTo>
                  <a:pt x="4938" y="3250"/>
                </a:lnTo>
                <a:lnTo>
                  <a:pt x="4960" y="3252"/>
                </a:lnTo>
                <a:lnTo>
                  <a:pt x="4984" y="3253"/>
                </a:lnTo>
                <a:lnTo>
                  <a:pt x="5007" y="3255"/>
                </a:lnTo>
                <a:lnTo>
                  <a:pt x="5029" y="3256"/>
                </a:lnTo>
                <a:lnTo>
                  <a:pt x="5052" y="3258"/>
                </a:lnTo>
                <a:lnTo>
                  <a:pt x="5075" y="3258"/>
                </a:lnTo>
                <a:lnTo>
                  <a:pt x="5098" y="3260"/>
                </a:lnTo>
                <a:lnTo>
                  <a:pt x="5121" y="3261"/>
                </a:lnTo>
                <a:lnTo>
                  <a:pt x="5144" y="3263"/>
                </a:lnTo>
                <a:lnTo>
                  <a:pt x="5166" y="3264"/>
                </a:lnTo>
                <a:lnTo>
                  <a:pt x="5190" y="3266"/>
                </a:lnTo>
                <a:lnTo>
                  <a:pt x="5213" y="3267"/>
                </a:lnTo>
                <a:lnTo>
                  <a:pt x="5235" y="3268"/>
                </a:lnTo>
                <a:lnTo>
                  <a:pt x="5258" y="3269"/>
                </a:lnTo>
                <a:lnTo>
                  <a:pt x="5281" y="3271"/>
                </a:lnTo>
                <a:lnTo>
                  <a:pt x="5304" y="3272"/>
                </a:lnTo>
                <a:lnTo>
                  <a:pt x="5327" y="3273"/>
                </a:lnTo>
                <a:lnTo>
                  <a:pt x="5350" y="3273"/>
                </a:lnTo>
                <a:lnTo>
                  <a:pt x="5372" y="3274"/>
                </a:lnTo>
                <a:lnTo>
                  <a:pt x="5395" y="3275"/>
                </a:lnTo>
                <a:lnTo>
                  <a:pt x="5419" y="3276"/>
                </a:lnTo>
                <a:lnTo>
                  <a:pt x="5441" y="3277"/>
                </a:lnTo>
                <a:lnTo>
                  <a:pt x="5464" y="3278"/>
                </a:lnTo>
                <a:lnTo>
                  <a:pt x="5486" y="3279"/>
                </a:lnTo>
                <a:lnTo>
                  <a:pt x="5509" y="3280"/>
                </a:lnTo>
                <a:lnTo>
                  <a:pt x="5533" y="3281"/>
                </a:lnTo>
                <a:lnTo>
                  <a:pt x="5555" y="3282"/>
                </a:lnTo>
                <a:lnTo>
                  <a:pt x="5578" y="3282"/>
                </a:lnTo>
                <a:lnTo>
                  <a:pt x="5601" y="3283"/>
                </a:lnTo>
                <a:lnTo>
                  <a:pt x="5623" y="3284"/>
                </a:lnTo>
                <a:lnTo>
                  <a:pt x="5647" y="328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409840" y="3408480"/>
            <a:ext cx="1908000" cy="1446120"/>
          </a:xfrm>
          <a:custGeom>
            <a:avLst/>
            <a:gdLst/>
            <a:ahLst/>
            <a:rect l="l" t="t" r="r" b="b"/>
            <a:pathLst>
              <a:path w="2776" h="3521">
                <a:moveTo>
                  <a:pt x="0" y="0"/>
                </a:moveTo>
                <a:lnTo>
                  <a:pt x="2775" y="0"/>
                </a:lnTo>
                <a:lnTo>
                  <a:pt x="2775" y="3520"/>
                </a:lnTo>
                <a:lnTo>
                  <a:pt x="0" y="352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2240" y="6458040"/>
            <a:ext cx="4365360" cy="0"/>
          </a:xfrm>
          <a:prstGeom prst="line">
            <a:avLst/>
          </a:prstGeom>
          <a:ln w="50760">
            <a:solidFill>
              <a:srgbClr val="dce8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1403280" y="3429000"/>
            <a:ext cx="2365560" cy="2998800"/>
          </a:xfrm>
          <a:custGeom>
            <a:avLst/>
            <a:gdLst/>
            <a:ahLst/>
            <a:rect l="l" t="t" r="r" b="b"/>
            <a:pathLst>
              <a:path w="5641" h="3307">
                <a:moveTo>
                  <a:pt x="0" y="3306"/>
                </a:moveTo>
                <a:lnTo>
                  <a:pt x="24" y="3306"/>
                </a:lnTo>
                <a:lnTo>
                  <a:pt x="46" y="3306"/>
                </a:lnTo>
                <a:lnTo>
                  <a:pt x="69" y="3306"/>
                </a:lnTo>
                <a:lnTo>
                  <a:pt x="91" y="3306"/>
                </a:lnTo>
                <a:lnTo>
                  <a:pt x="114" y="3306"/>
                </a:lnTo>
                <a:lnTo>
                  <a:pt x="138" y="3306"/>
                </a:lnTo>
                <a:lnTo>
                  <a:pt x="161" y="3305"/>
                </a:lnTo>
                <a:lnTo>
                  <a:pt x="183" y="3303"/>
                </a:lnTo>
                <a:lnTo>
                  <a:pt x="205" y="3300"/>
                </a:lnTo>
                <a:lnTo>
                  <a:pt x="228" y="3296"/>
                </a:lnTo>
                <a:lnTo>
                  <a:pt x="252" y="3287"/>
                </a:lnTo>
                <a:lnTo>
                  <a:pt x="274" y="3275"/>
                </a:lnTo>
                <a:lnTo>
                  <a:pt x="297" y="3257"/>
                </a:lnTo>
                <a:lnTo>
                  <a:pt x="320" y="3233"/>
                </a:lnTo>
                <a:lnTo>
                  <a:pt x="342" y="3202"/>
                </a:lnTo>
                <a:lnTo>
                  <a:pt x="366" y="3163"/>
                </a:lnTo>
                <a:lnTo>
                  <a:pt x="389" y="3116"/>
                </a:lnTo>
                <a:lnTo>
                  <a:pt x="411" y="3059"/>
                </a:lnTo>
                <a:lnTo>
                  <a:pt x="433" y="2995"/>
                </a:lnTo>
                <a:lnTo>
                  <a:pt x="456" y="2920"/>
                </a:lnTo>
                <a:lnTo>
                  <a:pt x="481" y="2837"/>
                </a:lnTo>
                <a:lnTo>
                  <a:pt x="503" y="2746"/>
                </a:lnTo>
                <a:lnTo>
                  <a:pt x="525" y="2646"/>
                </a:lnTo>
                <a:lnTo>
                  <a:pt x="548" y="2541"/>
                </a:lnTo>
                <a:lnTo>
                  <a:pt x="572" y="2431"/>
                </a:lnTo>
                <a:lnTo>
                  <a:pt x="594" y="2314"/>
                </a:lnTo>
                <a:lnTo>
                  <a:pt x="616" y="2194"/>
                </a:lnTo>
                <a:lnTo>
                  <a:pt x="639" y="2069"/>
                </a:lnTo>
                <a:lnTo>
                  <a:pt x="662" y="1947"/>
                </a:lnTo>
                <a:lnTo>
                  <a:pt x="686" y="1819"/>
                </a:lnTo>
                <a:lnTo>
                  <a:pt x="708" y="1694"/>
                </a:lnTo>
                <a:lnTo>
                  <a:pt x="731" y="1568"/>
                </a:lnTo>
                <a:lnTo>
                  <a:pt x="753" y="1444"/>
                </a:lnTo>
                <a:lnTo>
                  <a:pt x="776" y="1324"/>
                </a:lnTo>
                <a:lnTo>
                  <a:pt x="799" y="1205"/>
                </a:lnTo>
                <a:lnTo>
                  <a:pt x="822" y="1099"/>
                </a:lnTo>
                <a:lnTo>
                  <a:pt x="844" y="976"/>
                </a:lnTo>
                <a:lnTo>
                  <a:pt x="868" y="884"/>
                </a:lnTo>
                <a:lnTo>
                  <a:pt x="890" y="771"/>
                </a:lnTo>
                <a:lnTo>
                  <a:pt x="914" y="691"/>
                </a:lnTo>
                <a:lnTo>
                  <a:pt x="936" y="594"/>
                </a:lnTo>
                <a:lnTo>
                  <a:pt x="959" y="513"/>
                </a:lnTo>
                <a:lnTo>
                  <a:pt x="981" y="437"/>
                </a:lnTo>
                <a:lnTo>
                  <a:pt x="1004" y="368"/>
                </a:lnTo>
                <a:lnTo>
                  <a:pt x="1027" y="305"/>
                </a:lnTo>
                <a:lnTo>
                  <a:pt x="1051" y="249"/>
                </a:lnTo>
                <a:lnTo>
                  <a:pt x="1073" y="198"/>
                </a:lnTo>
                <a:lnTo>
                  <a:pt x="1097" y="153"/>
                </a:lnTo>
                <a:lnTo>
                  <a:pt x="1118" y="114"/>
                </a:lnTo>
                <a:lnTo>
                  <a:pt x="1142" y="82"/>
                </a:lnTo>
                <a:lnTo>
                  <a:pt x="1164" y="55"/>
                </a:lnTo>
                <a:lnTo>
                  <a:pt x="1187" y="34"/>
                </a:lnTo>
                <a:lnTo>
                  <a:pt x="1210" y="18"/>
                </a:lnTo>
                <a:lnTo>
                  <a:pt x="1234" y="7"/>
                </a:lnTo>
                <a:lnTo>
                  <a:pt x="1256" y="1"/>
                </a:lnTo>
                <a:lnTo>
                  <a:pt x="1279" y="0"/>
                </a:lnTo>
                <a:lnTo>
                  <a:pt x="1301" y="3"/>
                </a:lnTo>
                <a:lnTo>
                  <a:pt x="1325" y="10"/>
                </a:lnTo>
                <a:lnTo>
                  <a:pt x="1347" y="23"/>
                </a:lnTo>
                <a:lnTo>
                  <a:pt x="1370" y="38"/>
                </a:lnTo>
                <a:lnTo>
                  <a:pt x="1392" y="56"/>
                </a:lnTo>
                <a:lnTo>
                  <a:pt x="1416" y="79"/>
                </a:lnTo>
                <a:lnTo>
                  <a:pt x="1439" y="104"/>
                </a:lnTo>
                <a:lnTo>
                  <a:pt x="1462" y="131"/>
                </a:lnTo>
                <a:lnTo>
                  <a:pt x="1484" y="162"/>
                </a:lnTo>
                <a:lnTo>
                  <a:pt x="1507" y="195"/>
                </a:lnTo>
                <a:lnTo>
                  <a:pt x="1529" y="231"/>
                </a:lnTo>
                <a:lnTo>
                  <a:pt x="1553" y="267"/>
                </a:lnTo>
                <a:lnTo>
                  <a:pt x="1575" y="306"/>
                </a:lnTo>
                <a:lnTo>
                  <a:pt x="1599" y="346"/>
                </a:lnTo>
                <a:lnTo>
                  <a:pt x="1622" y="388"/>
                </a:lnTo>
                <a:lnTo>
                  <a:pt x="1644" y="432"/>
                </a:lnTo>
                <a:lnTo>
                  <a:pt x="1667" y="476"/>
                </a:lnTo>
                <a:lnTo>
                  <a:pt x="1690" y="522"/>
                </a:lnTo>
                <a:lnTo>
                  <a:pt x="1712" y="568"/>
                </a:lnTo>
                <a:lnTo>
                  <a:pt x="1736" y="614"/>
                </a:lnTo>
                <a:lnTo>
                  <a:pt x="1758" y="661"/>
                </a:lnTo>
                <a:lnTo>
                  <a:pt x="1781" y="710"/>
                </a:lnTo>
                <a:lnTo>
                  <a:pt x="1804" y="758"/>
                </a:lnTo>
                <a:lnTo>
                  <a:pt x="1827" y="807"/>
                </a:lnTo>
                <a:lnTo>
                  <a:pt x="1850" y="855"/>
                </a:lnTo>
                <a:lnTo>
                  <a:pt x="1873" y="903"/>
                </a:lnTo>
                <a:lnTo>
                  <a:pt x="1895" y="952"/>
                </a:lnTo>
                <a:lnTo>
                  <a:pt x="1918" y="1001"/>
                </a:lnTo>
                <a:lnTo>
                  <a:pt x="1940" y="1049"/>
                </a:lnTo>
                <a:lnTo>
                  <a:pt x="1964" y="1098"/>
                </a:lnTo>
                <a:lnTo>
                  <a:pt x="1987" y="1145"/>
                </a:lnTo>
                <a:lnTo>
                  <a:pt x="2010" y="1193"/>
                </a:lnTo>
                <a:lnTo>
                  <a:pt x="2032" y="1240"/>
                </a:lnTo>
                <a:lnTo>
                  <a:pt x="2055" y="1286"/>
                </a:lnTo>
                <a:lnTo>
                  <a:pt x="2078" y="1333"/>
                </a:lnTo>
                <a:lnTo>
                  <a:pt x="2101" y="1377"/>
                </a:lnTo>
                <a:lnTo>
                  <a:pt x="2123" y="1423"/>
                </a:lnTo>
                <a:lnTo>
                  <a:pt x="2146" y="1467"/>
                </a:lnTo>
                <a:lnTo>
                  <a:pt x="2169" y="1511"/>
                </a:lnTo>
                <a:lnTo>
                  <a:pt x="2193" y="1554"/>
                </a:lnTo>
                <a:lnTo>
                  <a:pt x="2215" y="1597"/>
                </a:lnTo>
                <a:lnTo>
                  <a:pt x="2238" y="1639"/>
                </a:lnTo>
                <a:lnTo>
                  <a:pt x="2260" y="1680"/>
                </a:lnTo>
                <a:lnTo>
                  <a:pt x="2284" y="1721"/>
                </a:lnTo>
                <a:lnTo>
                  <a:pt x="2306" y="1760"/>
                </a:lnTo>
                <a:lnTo>
                  <a:pt x="2329" y="1799"/>
                </a:lnTo>
                <a:lnTo>
                  <a:pt x="2352" y="1838"/>
                </a:lnTo>
                <a:lnTo>
                  <a:pt x="2375" y="1875"/>
                </a:lnTo>
                <a:lnTo>
                  <a:pt x="2398" y="1913"/>
                </a:lnTo>
                <a:lnTo>
                  <a:pt x="2421" y="1948"/>
                </a:lnTo>
                <a:lnTo>
                  <a:pt x="2443" y="1983"/>
                </a:lnTo>
                <a:lnTo>
                  <a:pt x="2466" y="2018"/>
                </a:lnTo>
                <a:lnTo>
                  <a:pt x="2488" y="2052"/>
                </a:lnTo>
                <a:lnTo>
                  <a:pt x="2512" y="2085"/>
                </a:lnTo>
                <a:lnTo>
                  <a:pt x="2534" y="2117"/>
                </a:lnTo>
                <a:lnTo>
                  <a:pt x="2558" y="2148"/>
                </a:lnTo>
                <a:lnTo>
                  <a:pt x="2580" y="2192"/>
                </a:lnTo>
                <a:lnTo>
                  <a:pt x="2603" y="2188"/>
                </a:lnTo>
                <a:lnTo>
                  <a:pt x="2626" y="2242"/>
                </a:lnTo>
                <a:lnTo>
                  <a:pt x="2649" y="2275"/>
                </a:lnTo>
                <a:lnTo>
                  <a:pt x="2671" y="2294"/>
                </a:lnTo>
                <a:lnTo>
                  <a:pt x="2694" y="2314"/>
                </a:lnTo>
                <a:lnTo>
                  <a:pt x="2716" y="2360"/>
                </a:lnTo>
                <a:lnTo>
                  <a:pt x="2741" y="2389"/>
                </a:lnTo>
                <a:lnTo>
                  <a:pt x="2763" y="2392"/>
                </a:lnTo>
                <a:lnTo>
                  <a:pt x="2786" y="2424"/>
                </a:lnTo>
                <a:lnTo>
                  <a:pt x="2809" y="2450"/>
                </a:lnTo>
                <a:lnTo>
                  <a:pt x="2831" y="2477"/>
                </a:lnTo>
                <a:lnTo>
                  <a:pt x="2854" y="2503"/>
                </a:lnTo>
                <a:lnTo>
                  <a:pt x="2877" y="2516"/>
                </a:lnTo>
                <a:lnTo>
                  <a:pt x="2899" y="2550"/>
                </a:lnTo>
                <a:lnTo>
                  <a:pt x="2924" y="2555"/>
                </a:lnTo>
                <a:lnTo>
                  <a:pt x="2946" y="2587"/>
                </a:lnTo>
                <a:lnTo>
                  <a:pt x="2969" y="2602"/>
                </a:lnTo>
                <a:lnTo>
                  <a:pt x="2991" y="2623"/>
                </a:lnTo>
                <a:lnTo>
                  <a:pt x="3014" y="2644"/>
                </a:lnTo>
                <a:lnTo>
                  <a:pt x="3037" y="2663"/>
                </a:lnTo>
                <a:lnTo>
                  <a:pt x="3060" y="2677"/>
                </a:lnTo>
                <a:lnTo>
                  <a:pt x="3082" y="2702"/>
                </a:lnTo>
                <a:lnTo>
                  <a:pt x="3106" y="2708"/>
                </a:lnTo>
                <a:lnTo>
                  <a:pt x="3128" y="2737"/>
                </a:lnTo>
                <a:lnTo>
                  <a:pt x="3152" y="2743"/>
                </a:lnTo>
                <a:lnTo>
                  <a:pt x="3174" y="2761"/>
                </a:lnTo>
                <a:lnTo>
                  <a:pt x="3197" y="2781"/>
                </a:lnTo>
                <a:lnTo>
                  <a:pt x="3219" y="2793"/>
                </a:lnTo>
                <a:lnTo>
                  <a:pt x="3242" y="2808"/>
                </a:lnTo>
                <a:lnTo>
                  <a:pt x="3265" y="2822"/>
                </a:lnTo>
                <a:lnTo>
                  <a:pt x="3288" y="2836"/>
                </a:lnTo>
                <a:lnTo>
                  <a:pt x="3311" y="2846"/>
                </a:lnTo>
                <a:lnTo>
                  <a:pt x="3334" y="2863"/>
                </a:lnTo>
                <a:lnTo>
                  <a:pt x="3356" y="2877"/>
                </a:lnTo>
                <a:lnTo>
                  <a:pt x="3380" y="2886"/>
                </a:lnTo>
                <a:lnTo>
                  <a:pt x="3402" y="2898"/>
                </a:lnTo>
                <a:lnTo>
                  <a:pt x="3425" y="2911"/>
                </a:lnTo>
                <a:lnTo>
                  <a:pt x="3447" y="2924"/>
                </a:lnTo>
                <a:lnTo>
                  <a:pt x="3471" y="2930"/>
                </a:lnTo>
                <a:lnTo>
                  <a:pt x="3494" y="2944"/>
                </a:lnTo>
                <a:lnTo>
                  <a:pt x="3517" y="2954"/>
                </a:lnTo>
                <a:lnTo>
                  <a:pt x="3539" y="2962"/>
                </a:lnTo>
                <a:lnTo>
                  <a:pt x="3562" y="2972"/>
                </a:lnTo>
                <a:lnTo>
                  <a:pt x="3585" y="2984"/>
                </a:lnTo>
                <a:lnTo>
                  <a:pt x="3608" y="2994"/>
                </a:lnTo>
                <a:lnTo>
                  <a:pt x="3630" y="3000"/>
                </a:lnTo>
                <a:lnTo>
                  <a:pt x="3653" y="3009"/>
                </a:lnTo>
                <a:lnTo>
                  <a:pt x="3676" y="3017"/>
                </a:lnTo>
                <a:lnTo>
                  <a:pt x="3700" y="3028"/>
                </a:lnTo>
                <a:lnTo>
                  <a:pt x="3722" y="3033"/>
                </a:lnTo>
                <a:lnTo>
                  <a:pt x="3745" y="3041"/>
                </a:lnTo>
                <a:lnTo>
                  <a:pt x="3767" y="3048"/>
                </a:lnTo>
                <a:lnTo>
                  <a:pt x="3790" y="3057"/>
                </a:lnTo>
                <a:lnTo>
                  <a:pt x="3813" y="3061"/>
                </a:lnTo>
                <a:lnTo>
                  <a:pt x="3836" y="3070"/>
                </a:lnTo>
                <a:lnTo>
                  <a:pt x="3859" y="3077"/>
                </a:lnTo>
                <a:lnTo>
                  <a:pt x="3882" y="3083"/>
                </a:lnTo>
                <a:lnTo>
                  <a:pt x="3904" y="3089"/>
                </a:lnTo>
                <a:lnTo>
                  <a:pt x="3928" y="3094"/>
                </a:lnTo>
                <a:lnTo>
                  <a:pt x="3950" y="3102"/>
                </a:lnTo>
                <a:lnTo>
                  <a:pt x="3973" y="3107"/>
                </a:lnTo>
                <a:lnTo>
                  <a:pt x="3996" y="3112"/>
                </a:lnTo>
                <a:lnTo>
                  <a:pt x="4018" y="3118"/>
                </a:lnTo>
                <a:lnTo>
                  <a:pt x="4041" y="3124"/>
                </a:lnTo>
                <a:lnTo>
                  <a:pt x="4065" y="3129"/>
                </a:lnTo>
                <a:lnTo>
                  <a:pt x="4087" y="3132"/>
                </a:lnTo>
                <a:lnTo>
                  <a:pt x="4111" y="3139"/>
                </a:lnTo>
                <a:lnTo>
                  <a:pt x="4133" y="3143"/>
                </a:lnTo>
                <a:lnTo>
                  <a:pt x="4156" y="3147"/>
                </a:lnTo>
                <a:lnTo>
                  <a:pt x="4178" y="3152"/>
                </a:lnTo>
                <a:lnTo>
                  <a:pt x="4201" y="3156"/>
                </a:lnTo>
                <a:lnTo>
                  <a:pt x="4224" y="3161"/>
                </a:lnTo>
                <a:lnTo>
                  <a:pt x="4248" y="3165"/>
                </a:lnTo>
                <a:lnTo>
                  <a:pt x="4270" y="3169"/>
                </a:lnTo>
                <a:lnTo>
                  <a:pt x="4293" y="3173"/>
                </a:lnTo>
                <a:lnTo>
                  <a:pt x="4315" y="3176"/>
                </a:lnTo>
                <a:lnTo>
                  <a:pt x="4339" y="3180"/>
                </a:lnTo>
                <a:lnTo>
                  <a:pt x="4361" y="3183"/>
                </a:lnTo>
                <a:lnTo>
                  <a:pt x="4384" y="3188"/>
                </a:lnTo>
                <a:lnTo>
                  <a:pt x="4406" y="3190"/>
                </a:lnTo>
                <a:lnTo>
                  <a:pt x="4430" y="3193"/>
                </a:lnTo>
                <a:lnTo>
                  <a:pt x="4453" y="3196"/>
                </a:lnTo>
                <a:lnTo>
                  <a:pt x="4476" y="3200"/>
                </a:lnTo>
                <a:lnTo>
                  <a:pt x="4498" y="3202"/>
                </a:lnTo>
                <a:lnTo>
                  <a:pt x="4522" y="3205"/>
                </a:lnTo>
                <a:lnTo>
                  <a:pt x="4543" y="3208"/>
                </a:lnTo>
                <a:lnTo>
                  <a:pt x="4567" y="3211"/>
                </a:lnTo>
                <a:lnTo>
                  <a:pt x="4589" y="3213"/>
                </a:lnTo>
                <a:lnTo>
                  <a:pt x="4613" y="3216"/>
                </a:lnTo>
                <a:lnTo>
                  <a:pt x="4636" y="3218"/>
                </a:lnTo>
                <a:lnTo>
                  <a:pt x="4659" y="3221"/>
                </a:lnTo>
                <a:lnTo>
                  <a:pt x="4681" y="3223"/>
                </a:lnTo>
                <a:lnTo>
                  <a:pt x="4704" y="3225"/>
                </a:lnTo>
                <a:lnTo>
                  <a:pt x="4726" y="3228"/>
                </a:lnTo>
                <a:lnTo>
                  <a:pt x="4750" y="3229"/>
                </a:lnTo>
                <a:lnTo>
                  <a:pt x="4772" y="3232"/>
                </a:lnTo>
                <a:lnTo>
                  <a:pt x="4796" y="3234"/>
                </a:lnTo>
                <a:lnTo>
                  <a:pt x="4818" y="3237"/>
                </a:lnTo>
                <a:lnTo>
                  <a:pt x="4841" y="3238"/>
                </a:lnTo>
                <a:lnTo>
                  <a:pt x="4864" y="3239"/>
                </a:lnTo>
                <a:lnTo>
                  <a:pt x="4887" y="3241"/>
                </a:lnTo>
                <a:lnTo>
                  <a:pt x="4909" y="3243"/>
                </a:lnTo>
                <a:lnTo>
                  <a:pt x="4932" y="3245"/>
                </a:lnTo>
                <a:lnTo>
                  <a:pt x="4954" y="3247"/>
                </a:lnTo>
                <a:lnTo>
                  <a:pt x="4978" y="3248"/>
                </a:lnTo>
                <a:lnTo>
                  <a:pt x="5001" y="3250"/>
                </a:lnTo>
                <a:lnTo>
                  <a:pt x="5024" y="3251"/>
                </a:lnTo>
                <a:lnTo>
                  <a:pt x="5046" y="3253"/>
                </a:lnTo>
                <a:lnTo>
                  <a:pt x="5068" y="3253"/>
                </a:lnTo>
                <a:lnTo>
                  <a:pt x="5092" y="3255"/>
                </a:lnTo>
                <a:lnTo>
                  <a:pt x="5115" y="3256"/>
                </a:lnTo>
                <a:lnTo>
                  <a:pt x="5137" y="3258"/>
                </a:lnTo>
                <a:lnTo>
                  <a:pt x="5159" y="3259"/>
                </a:lnTo>
                <a:lnTo>
                  <a:pt x="5184" y="3261"/>
                </a:lnTo>
                <a:lnTo>
                  <a:pt x="5207" y="3262"/>
                </a:lnTo>
                <a:lnTo>
                  <a:pt x="5229" y="3263"/>
                </a:lnTo>
                <a:lnTo>
                  <a:pt x="5251" y="3264"/>
                </a:lnTo>
                <a:lnTo>
                  <a:pt x="5274" y="3266"/>
                </a:lnTo>
                <a:lnTo>
                  <a:pt x="5298" y="3267"/>
                </a:lnTo>
                <a:lnTo>
                  <a:pt x="5320" y="3268"/>
                </a:lnTo>
                <a:lnTo>
                  <a:pt x="5343" y="3268"/>
                </a:lnTo>
                <a:lnTo>
                  <a:pt x="5366" y="3269"/>
                </a:lnTo>
                <a:lnTo>
                  <a:pt x="5388" y="3270"/>
                </a:lnTo>
                <a:lnTo>
                  <a:pt x="5412" y="3271"/>
                </a:lnTo>
                <a:lnTo>
                  <a:pt x="5435" y="3272"/>
                </a:lnTo>
                <a:lnTo>
                  <a:pt x="5457" y="3273"/>
                </a:lnTo>
                <a:lnTo>
                  <a:pt x="5479" y="3274"/>
                </a:lnTo>
                <a:lnTo>
                  <a:pt x="5502" y="3275"/>
                </a:lnTo>
                <a:lnTo>
                  <a:pt x="5526" y="3276"/>
                </a:lnTo>
                <a:lnTo>
                  <a:pt x="5549" y="3277"/>
                </a:lnTo>
                <a:lnTo>
                  <a:pt x="5571" y="3277"/>
                </a:lnTo>
                <a:lnTo>
                  <a:pt x="5594" y="3278"/>
                </a:lnTo>
                <a:lnTo>
                  <a:pt x="5616" y="3279"/>
                </a:lnTo>
                <a:lnTo>
                  <a:pt x="5640" y="3280"/>
                </a:lnTo>
                <a:lnTo>
                  <a:pt x="5640" y="3306"/>
                </a:lnTo>
                <a:lnTo>
                  <a:pt x="5616" y="3306"/>
                </a:lnTo>
                <a:lnTo>
                  <a:pt x="5594" y="3306"/>
                </a:lnTo>
                <a:lnTo>
                  <a:pt x="5571" y="3306"/>
                </a:lnTo>
                <a:lnTo>
                  <a:pt x="5549" y="3306"/>
                </a:lnTo>
                <a:lnTo>
                  <a:pt x="5526" y="3306"/>
                </a:lnTo>
                <a:lnTo>
                  <a:pt x="5502" y="3306"/>
                </a:lnTo>
                <a:lnTo>
                  <a:pt x="5479" y="3306"/>
                </a:lnTo>
                <a:lnTo>
                  <a:pt x="5457" y="3306"/>
                </a:lnTo>
                <a:lnTo>
                  <a:pt x="5435" y="3306"/>
                </a:lnTo>
                <a:lnTo>
                  <a:pt x="5412" y="3306"/>
                </a:lnTo>
                <a:lnTo>
                  <a:pt x="5388" y="3306"/>
                </a:lnTo>
                <a:lnTo>
                  <a:pt x="5366" y="3306"/>
                </a:lnTo>
                <a:lnTo>
                  <a:pt x="5343" y="3306"/>
                </a:lnTo>
                <a:lnTo>
                  <a:pt x="5320" y="3306"/>
                </a:lnTo>
                <a:lnTo>
                  <a:pt x="5298" y="3306"/>
                </a:lnTo>
                <a:lnTo>
                  <a:pt x="5274" y="3306"/>
                </a:lnTo>
                <a:lnTo>
                  <a:pt x="5251" y="3306"/>
                </a:lnTo>
                <a:lnTo>
                  <a:pt x="5229" y="3306"/>
                </a:lnTo>
                <a:lnTo>
                  <a:pt x="5207" y="3306"/>
                </a:lnTo>
                <a:lnTo>
                  <a:pt x="5184" y="3306"/>
                </a:lnTo>
                <a:lnTo>
                  <a:pt x="5159" y="3306"/>
                </a:lnTo>
                <a:lnTo>
                  <a:pt x="5137" y="3306"/>
                </a:lnTo>
                <a:lnTo>
                  <a:pt x="5115" y="3306"/>
                </a:lnTo>
                <a:lnTo>
                  <a:pt x="5092" y="3306"/>
                </a:lnTo>
                <a:lnTo>
                  <a:pt x="5068" y="3306"/>
                </a:lnTo>
                <a:lnTo>
                  <a:pt x="5046" y="3306"/>
                </a:lnTo>
                <a:lnTo>
                  <a:pt x="5024" y="3306"/>
                </a:lnTo>
                <a:lnTo>
                  <a:pt x="5001" y="3306"/>
                </a:lnTo>
                <a:lnTo>
                  <a:pt x="4978" y="3306"/>
                </a:lnTo>
                <a:lnTo>
                  <a:pt x="4954" y="3306"/>
                </a:lnTo>
                <a:lnTo>
                  <a:pt x="4932" y="3306"/>
                </a:lnTo>
                <a:lnTo>
                  <a:pt x="4909" y="3306"/>
                </a:lnTo>
                <a:lnTo>
                  <a:pt x="4887" y="3306"/>
                </a:lnTo>
                <a:lnTo>
                  <a:pt x="4864" y="3306"/>
                </a:lnTo>
                <a:lnTo>
                  <a:pt x="4841" y="3306"/>
                </a:lnTo>
                <a:lnTo>
                  <a:pt x="4818" y="3306"/>
                </a:lnTo>
                <a:lnTo>
                  <a:pt x="4796" y="3306"/>
                </a:lnTo>
                <a:lnTo>
                  <a:pt x="4772" y="3306"/>
                </a:lnTo>
                <a:lnTo>
                  <a:pt x="4750" y="3306"/>
                </a:lnTo>
                <a:lnTo>
                  <a:pt x="4726" y="3306"/>
                </a:lnTo>
                <a:lnTo>
                  <a:pt x="4704" y="3306"/>
                </a:lnTo>
                <a:lnTo>
                  <a:pt x="4681" y="3306"/>
                </a:lnTo>
                <a:lnTo>
                  <a:pt x="4659" y="3306"/>
                </a:lnTo>
                <a:lnTo>
                  <a:pt x="4636" y="3306"/>
                </a:lnTo>
                <a:lnTo>
                  <a:pt x="4613" y="3306"/>
                </a:lnTo>
                <a:lnTo>
                  <a:pt x="4589" y="3306"/>
                </a:lnTo>
                <a:lnTo>
                  <a:pt x="4567" y="3306"/>
                </a:lnTo>
                <a:lnTo>
                  <a:pt x="4543" y="3306"/>
                </a:lnTo>
                <a:lnTo>
                  <a:pt x="4522" y="3306"/>
                </a:lnTo>
                <a:lnTo>
                  <a:pt x="4498" y="3306"/>
                </a:lnTo>
                <a:lnTo>
                  <a:pt x="4476" y="3306"/>
                </a:lnTo>
                <a:lnTo>
                  <a:pt x="4453" y="3306"/>
                </a:lnTo>
                <a:lnTo>
                  <a:pt x="4430" y="3306"/>
                </a:lnTo>
                <a:lnTo>
                  <a:pt x="4406" y="3306"/>
                </a:lnTo>
                <a:lnTo>
                  <a:pt x="4384" y="3306"/>
                </a:lnTo>
                <a:lnTo>
                  <a:pt x="4361" y="3306"/>
                </a:lnTo>
                <a:lnTo>
                  <a:pt x="4339" y="3306"/>
                </a:lnTo>
                <a:lnTo>
                  <a:pt x="4315" y="3306"/>
                </a:lnTo>
                <a:lnTo>
                  <a:pt x="4293" y="3306"/>
                </a:lnTo>
                <a:lnTo>
                  <a:pt x="4270" y="3306"/>
                </a:lnTo>
                <a:lnTo>
                  <a:pt x="4248" y="3306"/>
                </a:lnTo>
                <a:lnTo>
                  <a:pt x="4224" y="3306"/>
                </a:lnTo>
                <a:lnTo>
                  <a:pt x="4201" y="3306"/>
                </a:lnTo>
                <a:lnTo>
                  <a:pt x="4178" y="3306"/>
                </a:lnTo>
                <a:lnTo>
                  <a:pt x="4156" y="3306"/>
                </a:lnTo>
                <a:lnTo>
                  <a:pt x="4133" y="3306"/>
                </a:lnTo>
                <a:lnTo>
                  <a:pt x="4111" y="3306"/>
                </a:lnTo>
                <a:lnTo>
                  <a:pt x="4087" y="3306"/>
                </a:lnTo>
                <a:lnTo>
                  <a:pt x="4065" y="3306"/>
                </a:lnTo>
                <a:lnTo>
                  <a:pt x="4041" y="3306"/>
                </a:lnTo>
                <a:lnTo>
                  <a:pt x="4018" y="3306"/>
                </a:lnTo>
                <a:lnTo>
                  <a:pt x="3996" y="3306"/>
                </a:lnTo>
                <a:lnTo>
                  <a:pt x="3973" y="3306"/>
                </a:lnTo>
                <a:lnTo>
                  <a:pt x="3950" y="3306"/>
                </a:lnTo>
                <a:lnTo>
                  <a:pt x="3928" y="3306"/>
                </a:lnTo>
                <a:lnTo>
                  <a:pt x="3904" y="3306"/>
                </a:lnTo>
                <a:lnTo>
                  <a:pt x="3882" y="3306"/>
                </a:lnTo>
                <a:lnTo>
                  <a:pt x="3859" y="3306"/>
                </a:lnTo>
                <a:lnTo>
                  <a:pt x="3836" y="3306"/>
                </a:lnTo>
                <a:lnTo>
                  <a:pt x="3813" y="3306"/>
                </a:lnTo>
                <a:lnTo>
                  <a:pt x="3790" y="3306"/>
                </a:lnTo>
                <a:lnTo>
                  <a:pt x="3767" y="3306"/>
                </a:lnTo>
                <a:lnTo>
                  <a:pt x="3745" y="3306"/>
                </a:lnTo>
                <a:lnTo>
                  <a:pt x="3722" y="3306"/>
                </a:lnTo>
                <a:lnTo>
                  <a:pt x="3700" y="3306"/>
                </a:lnTo>
                <a:lnTo>
                  <a:pt x="3676" y="3306"/>
                </a:lnTo>
                <a:lnTo>
                  <a:pt x="3653" y="3306"/>
                </a:lnTo>
                <a:lnTo>
                  <a:pt x="3630" y="3306"/>
                </a:lnTo>
                <a:lnTo>
                  <a:pt x="3608" y="3306"/>
                </a:lnTo>
                <a:lnTo>
                  <a:pt x="3585" y="3306"/>
                </a:lnTo>
                <a:lnTo>
                  <a:pt x="3562" y="3306"/>
                </a:lnTo>
                <a:lnTo>
                  <a:pt x="3539" y="3306"/>
                </a:lnTo>
                <a:lnTo>
                  <a:pt x="3517" y="3306"/>
                </a:lnTo>
                <a:lnTo>
                  <a:pt x="3494" y="3306"/>
                </a:lnTo>
                <a:lnTo>
                  <a:pt x="3471" y="3306"/>
                </a:lnTo>
                <a:lnTo>
                  <a:pt x="3447" y="3306"/>
                </a:lnTo>
                <a:lnTo>
                  <a:pt x="3425" y="3306"/>
                </a:lnTo>
                <a:lnTo>
                  <a:pt x="3402" y="3306"/>
                </a:lnTo>
                <a:lnTo>
                  <a:pt x="3380" y="3306"/>
                </a:lnTo>
                <a:lnTo>
                  <a:pt x="3356" y="3306"/>
                </a:lnTo>
                <a:lnTo>
                  <a:pt x="3334" y="3306"/>
                </a:lnTo>
                <a:lnTo>
                  <a:pt x="3311" y="3306"/>
                </a:lnTo>
                <a:lnTo>
                  <a:pt x="3288" y="3306"/>
                </a:lnTo>
                <a:lnTo>
                  <a:pt x="3265" y="3306"/>
                </a:lnTo>
                <a:lnTo>
                  <a:pt x="3242" y="3306"/>
                </a:lnTo>
                <a:lnTo>
                  <a:pt x="3219" y="3306"/>
                </a:lnTo>
                <a:lnTo>
                  <a:pt x="3197" y="3306"/>
                </a:lnTo>
                <a:lnTo>
                  <a:pt x="3174" y="3306"/>
                </a:lnTo>
                <a:lnTo>
                  <a:pt x="3152" y="3306"/>
                </a:lnTo>
                <a:lnTo>
                  <a:pt x="3128" y="3306"/>
                </a:lnTo>
                <a:lnTo>
                  <a:pt x="3106" y="3306"/>
                </a:lnTo>
                <a:lnTo>
                  <a:pt x="3082" y="3306"/>
                </a:lnTo>
                <a:lnTo>
                  <a:pt x="3060" y="3306"/>
                </a:lnTo>
                <a:lnTo>
                  <a:pt x="3037" y="3306"/>
                </a:lnTo>
                <a:lnTo>
                  <a:pt x="3014" y="3306"/>
                </a:lnTo>
                <a:lnTo>
                  <a:pt x="2991" y="3306"/>
                </a:lnTo>
                <a:lnTo>
                  <a:pt x="2969" y="3306"/>
                </a:lnTo>
                <a:lnTo>
                  <a:pt x="2946" y="3306"/>
                </a:lnTo>
                <a:lnTo>
                  <a:pt x="2924" y="3306"/>
                </a:lnTo>
                <a:lnTo>
                  <a:pt x="2899" y="3306"/>
                </a:lnTo>
                <a:lnTo>
                  <a:pt x="2877" y="3306"/>
                </a:lnTo>
                <a:lnTo>
                  <a:pt x="2854" y="3306"/>
                </a:lnTo>
                <a:lnTo>
                  <a:pt x="2831" y="3306"/>
                </a:lnTo>
                <a:lnTo>
                  <a:pt x="2809" y="3306"/>
                </a:lnTo>
                <a:lnTo>
                  <a:pt x="2786" y="3306"/>
                </a:lnTo>
                <a:lnTo>
                  <a:pt x="2763" y="3306"/>
                </a:lnTo>
                <a:lnTo>
                  <a:pt x="2741" y="3306"/>
                </a:lnTo>
                <a:lnTo>
                  <a:pt x="2716" y="3306"/>
                </a:lnTo>
                <a:lnTo>
                  <a:pt x="2694" y="3306"/>
                </a:lnTo>
                <a:lnTo>
                  <a:pt x="2671" y="3306"/>
                </a:lnTo>
                <a:lnTo>
                  <a:pt x="2649" y="3306"/>
                </a:lnTo>
                <a:lnTo>
                  <a:pt x="2626" y="3306"/>
                </a:lnTo>
                <a:lnTo>
                  <a:pt x="2603" y="3306"/>
                </a:lnTo>
                <a:lnTo>
                  <a:pt x="2580" y="3306"/>
                </a:lnTo>
                <a:lnTo>
                  <a:pt x="2558" y="3306"/>
                </a:lnTo>
                <a:lnTo>
                  <a:pt x="2534" y="3306"/>
                </a:lnTo>
                <a:lnTo>
                  <a:pt x="2512" y="3306"/>
                </a:lnTo>
                <a:lnTo>
                  <a:pt x="2488" y="3306"/>
                </a:lnTo>
                <a:lnTo>
                  <a:pt x="2466" y="3306"/>
                </a:lnTo>
                <a:lnTo>
                  <a:pt x="2443" y="3306"/>
                </a:lnTo>
                <a:lnTo>
                  <a:pt x="2421" y="3306"/>
                </a:lnTo>
                <a:lnTo>
                  <a:pt x="2398" y="3306"/>
                </a:lnTo>
                <a:lnTo>
                  <a:pt x="2375" y="3306"/>
                </a:lnTo>
                <a:lnTo>
                  <a:pt x="2352" y="3306"/>
                </a:lnTo>
                <a:lnTo>
                  <a:pt x="2329" y="3306"/>
                </a:lnTo>
                <a:lnTo>
                  <a:pt x="2306" y="3306"/>
                </a:lnTo>
                <a:lnTo>
                  <a:pt x="2284" y="3306"/>
                </a:lnTo>
                <a:lnTo>
                  <a:pt x="2260" y="3306"/>
                </a:lnTo>
                <a:lnTo>
                  <a:pt x="2238" y="3306"/>
                </a:lnTo>
                <a:lnTo>
                  <a:pt x="2215" y="3306"/>
                </a:lnTo>
                <a:lnTo>
                  <a:pt x="2193" y="3306"/>
                </a:lnTo>
                <a:lnTo>
                  <a:pt x="2169" y="3306"/>
                </a:lnTo>
                <a:lnTo>
                  <a:pt x="2146" y="3306"/>
                </a:lnTo>
                <a:lnTo>
                  <a:pt x="2123" y="3306"/>
                </a:lnTo>
                <a:lnTo>
                  <a:pt x="2101" y="3306"/>
                </a:lnTo>
                <a:lnTo>
                  <a:pt x="2078" y="3306"/>
                </a:lnTo>
                <a:lnTo>
                  <a:pt x="2055" y="3306"/>
                </a:lnTo>
                <a:lnTo>
                  <a:pt x="2032" y="3306"/>
                </a:lnTo>
                <a:lnTo>
                  <a:pt x="2010" y="3306"/>
                </a:lnTo>
                <a:lnTo>
                  <a:pt x="1987" y="3306"/>
                </a:lnTo>
                <a:lnTo>
                  <a:pt x="1964" y="3306"/>
                </a:lnTo>
                <a:lnTo>
                  <a:pt x="1940" y="3306"/>
                </a:lnTo>
                <a:lnTo>
                  <a:pt x="1918" y="3306"/>
                </a:lnTo>
                <a:lnTo>
                  <a:pt x="1895" y="3306"/>
                </a:lnTo>
                <a:lnTo>
                  <a:pt x="1873" y="3306"/>
                </a:lnTo>
                <a:lnTo>
                  <a:pt x="1850" y="3306"/>
                </a:lnTo>
                <a:lnTo>
                  <a:pt x="1827" y="3306"/>
                </a:lnTo>
                <a:lnTo>
                  <a:pt x="1804" y="3306"/>
                </a:lnTo>
                <a:lnTo>
                  <a:pt x="1781" y="3306"/>
                </a:lnTo>
                <a:lnTo>
                  <a:pt x="1758" y="3306"/>
                </a:lnTo>
                <a:lnTo>
                  <a:pt x="1736" y="3306"/>
                </a:lnTo>
                <a:lnTo>
                  <a:pt x="1712" y="3306"/>
                </a:lnTo>
                <a:lnTo>
                  <a:pt x="1690" y="3306"/>
                </a:lnTo>
                <a:lnTo>
                  <a:pt x="1667" y="3306"/>
                </a:lnTo>
                <a:lnTo>
                  <a:pt x="1644" y="3306"/>
                </a:lnTo>
                <a:lnTo>
                  <a:pt x="1622" y="3306"/>
                </a:lnTo>
                <a:lnTo>
                  <a:pt x="1599" y="3306"/>
                </a:lnTo>
                <a:lnTo>
                  <a:pt x="1575" y="3306"/>
                </a:lnTo>
                <a:lnTo>
                  <a:pt x="1553" y="3306"/>
                </a:lnTo>
                <a:lnTo>
                  <a:pt x="1529" y="3306"/>
                </a:lnTo>
                <a:lnTo>
                  <a:pt x="1507" y="3306"/>
                </a:lnTo>
                <a:lnTo>
                  <a:pt x="1484" y="3306"/>
                </a:lnTo>
                <a:lnTo>
                  <a:pt x="1462" y="3306"/>
                </a:lnTo>
                <a:lnTo>
                  <a:pt x="1439" y="3306"/>
                </a:lnTo>
                <a:lnTo>
                  <a:pt x="1416" y="3306"/>
                </a:lnTo>
                <a:lnTo>
                  <a:pt x="1392" y="3306"/>
                </a:lnTo>
                <a:lnTo>
                  <a:pt x="1370" y="3306"/>
                </a:lnTo>
                <a:lnTo>
                  <a:pt x="1347" y="3306"/>
                </a:lnTo>
                <a:lnTo>
                  <a:pt x="1325" y="3306"/>
                </a:lnTo>
                <a:lnTo>
                  <a:pt x="1301" y="3306"/>
                </a:lnTo>
                <a:lnTo>
                  <a:pt x="1279" y="3306"/>
                </a:lnTo>
                <a:lnTo>
                  <a:pt x="1256" y="3306"/>
                </a:lnTo>
                <a:lnTo>
                  <a:pt x="1234" y="3306"/>
                </a:lnTo>
                <a:lnTo>
                  <a:pt x="1210" y="3306"/>
                </a:lnTo>
                <a:lnTo>
                  <a:pt x="1187" y="3306"/>
                </a:lnTo>
                <a:lnTo>
                  <a:pt x="1164" y="3306"/>
                </a:lnTo>
                <a:lnTo>
                  <a:pt x="1142" y="3306"/>
                </a:lnTo>
                <a:lnTo>
                  <a:pt x="1118" y="3306"/>
                </a:lnTo>
                <a:lnTo>
                  <a:pt x="1097" y="3306"/>
                </a:lnTo>
                <a:lnTo>
                  <a:pt x="1073" y="3306"/>
                </a:lnTo>
                <a:lnTo>
                  <a:pt x="1051" y="3306"/>
                </a:lnTo>
                <a:lnTo>
                  <a:pt x="1027" y="3306"/>
                </a:lnTo>
                <a:lnTo>
                  <a:pt x="1004" y="3306"/>
                </a:lnTo>
                <a:lnTo>
                  <a:pt x="981" y="3306"/>
                </a:lnTo>
                <a:lnTo>
                  <a:pt x="959" y="3306"/>
                </a:lnTo>
                <a:lnTo>
                  <a:pt x="936" y="3306"/>
                </a:lnTo>
                <a:lnTo>
                  <a:pt x="914" y="3306"/>
                </a:lnTo>
                <a:lnTo>
                  <a:pt x="890" y="3306"/>
                </a:lnTo>
                <a:lnTo>
                  <a:pt x="868" y="3306"/>
                </a:lnTo>
                <a:lnTo>
                  <a:pt x="844" y="3306"/>
                </a:lnTo>
                <a:lnTo>
                  <a:pt x="822" y="3306"/>
                </a:lnTo>
                <a:lnTo>
                  <a:pt x="799" y="3306"/>
                </a:lnTo>
                <a:lnTo>
                  <a:pt x="776" y="3306"/>
                </a:lnTo>
                <a:lnTo>
                  <a:pt x="753" y="3306"/>
                </a:lnTo>
                <a:lnTo>
                  <a:pt x="731" y="3306"/>
                </a:lnTo>
                <a:lnTo>
                  <a:pt x="708" y="3306"/>
                </a:lnTo>
                <a:lnTo>
                  <a:pt x="686" y="3306"/>
                </a:lnTo>
                <a:lnTo>
                  <a:pt x="662" y="3306"/>
                </a:lnTo>
                <a:lnTo>
                  <a:pt x="639" y="3306"/>
                </a:lnTo>
                <a:lnTo>
                  <a:pt x="616" y="3306"/>
                </a:lnTo>
                <a:lnTo>
                  <a:pt x="594" y="3306"/>
                </a:lnTo>
                <a:lnTo>
                  <a:pt x="572" y="3306"/>
                </a:lnTo>
                <a:lnTo>
                  <a:pt x="548" y="3306"/>
                </a:lnTo>
                <a:lnTo>
                  <a:pt x="525" y="3306"/>
                </a:lnTo>
                <a:lnTo>
                  <a:pt x="503" y="3306"/>
                </a:lnTo>
                <a:lnTo>
                  <a:pt x="481" y="3306"/>
                </a:lnTo>
                <a:lnTo>
                  <a:pt x="456" y="3306"/>
                </a:lnTo>
                <a:lnTo>
                  <a:pt x="433" y="3306"/>
                </a:lnTo>
                <a:lnTo>
                  <a:pt x="411" y="3306"/>
                </a:lnTo>
                <a:lnTo>
                  <a:pt x="389" y="3306"/>
                </a:lnTo>
                <a:lnTo>
                  <a:pt x="366" y="3306"/>
                </a:lnTo>
                <a:lnTo>
                  <a:pt x="342" y="3306"/>
                </a:lnTo>
                <a:lnTo>
                  <a:pt x="320" y="3306"/>
                </a:lnTo>
                <a:lnTo>
                  <a:pt x="297" y="3306"/>
                </a:lnTo>
                <a:lnTo>
                  <a:pt x="274" y="3306"/>
                </a:lnTo>
                <a:lnTo>
                  <a:pt x="252" y="3306"/>
                </a:lnTo>
                <a:lnTo>
                  <a:pt x="228" y="3306"/>
                </a:lnTo>
                <a:lnTo>
                  <a:pt x="205" y="3306"/>
                </a:lnTo>
                <a:lnTo>
                  <a:pt x="183" y="3306"/>
                </a:lnTo>
                <a:lnTo>
                  <a:pt x="161" y="3306"/>
                </a:lnTo>
                <a:lnTo>
                  <a:pt x="138" y="3306"/>
                </a:lnTo>
                <a:lnTo>
                  <a:pt x="114" y="3306"/>
                </a:lnTo>
                <a:lnTo>
                  <a:pt x="91" y="3306"/>
                </a:lnTo>
                <a:lnTo>
                  <a:pt x="69" y="3306"/>
                </a:lnTo>
                <a:lnTo>
                  <a:pt x="46" y="3306"/>
                </a:lnTo>
                <a:lnTo>
                  <a:pt x="24" y="3306"/>
                </a:lnTo>
                <a:lnTo>
                  <a:pt x="0" y="3306"/>
                </a:lnTo>
              </a:path>
            </a:pathLst>
          </a:custGeom>
          <a:solidFill>
            <a:srgbClr val="ffff99"/>
          </a:solidFill>
          <a:ln cap="rnd" w="12600">
            <a:solidFill>
              <a:srgbClr val="ffff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35120" y="3314880"/>
            <a:ext cx="87120" cy="3100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824120" y="3314880"/>
            <a:ext cx="92160" cy="3100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917800" y="3314880"/>
            <a:ext cx="92160" cy="3100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011480" y="3314880"/>
            <a:ext cx="92160" cy="3100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26360" y="6453360"/>
            <a:ext cx="9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mic Sans MS"/>
              </a:rPr>
              <a:t>High</a:t>
            </a:r>
            <a:endParaRPr b="0" lang="en-US" sz="2400" spc="-1" strike="noStrike">
              <a:solidFill>
                <a:srgbClr val="000000"/>
              </a:solidFill>
              <a:latin typeface="Arial"/>
            </a:endParaRPr>
          </a:p>
        </p:txBody>
      </p:sp>
      <p:sp>
        <p:nvSpPr>
          <p:cNvPr id="589" name=""/>
          <p:cNvSpPr/>
          <p:nvPr/>
        </p:nvSpPr>
        <p:spPr>
          <a:xfrm>
            <a:off x="899640" y="6453360"/>
            <a:ext cx="9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ff33"/>
                </a:solidFill>
                <a:latin typeface="Comic Sans MS"/>
              </a:rPr>
              <a:t>Good</a:t>
            </a:r>
            <a:endParaRPr b="0" lang="en-US" sz="2400" spc="-1" strike="noStrike">
              <a:solidFill>
                <a:srgbClr val="000000"/>
              </a:solidFill>
              <a:latin typeface="Arial"/>
            </a:endParaRPr>
          </a:p>
        </p:txBody>
      </p:sp>
      <p:sp>
        <p:nvSpPr>
          <p:cNvPr id="590" name=""/>
          <p:cNvSpPr/>
          <p:nvPr/>
        </p:nvSpPr>
        <p:spPr>
          <a:xfrm>
            <a:off x="1744200" y="6453360"/>
            <a:ext cx="166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Comic Sans MS"/>
              </a:rPr>
              <a:t>Moderate</a:t>
            </a:r>
            <a:endParaRPr b="0" lang="en-US" sz="2400" spc="-1" strike="noStrike">
              <a:solidFill>
                <a:srgbClr val="000000"/>
              </a:solidFill>
              <a:latin typeface="Arial"/>
            </a:endParaRPr>
          </a:p>
        </p:txBody>
      </p:sp>
      <p:sp>
        <p:nvSpPr>
          <p:cNvPr id="591" name=""/>
          <p:cNvSpPr/>
          <p:nvPr/>
        </p:nvSpPr>
        <p:spPr>
          <a:xfrm>
            <a:off x="3182760" y="6453360"/>
            <a:ext cx="88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Comic Sans MS"/>
              </a:rPr>
              <a:t>Poor</a:t>
            </a:r>
            <a:endParaRPr b="0" lang="en-US" sz="2400" spc="-1" strike="noStrike">
              <a:solidFill>
                <a:srgbClr val="000000"/>
              </a:solidFill>
              <a:latin typeface="Arial"/>
            </a:endParaRPr>
          </a:p>
        </p:txBody>
      </p:sp>
      <p:sp>
        <p:nvSpPr>
          <p:cNvPr id="592" name=""/>
          <p:cNvSpPr/>
          <p:nvPr/>
        </p:nvSpPr>
        <p:spPr>
          <a:xfrm>
            <a:off x="4110480" y="645336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ad</a:t>
            </a:r>
            <a:endParaRPr b="0" lang="en-US" sz="2400" spc="-1" strike="noStrike">
              <a:solidFill>
                <a:srgbClr val="000000"/>
              </a:solidFill>
              <a:latin typeface="Arial"/>
            </a:endParaRPr>
          </a:p>
        </p:txBody>
      </p:sp>
      <p:sp>
        <p:nvSpPr>
          <p:cNvPr id="593" name=""/>
          <p:cNvSpPr/>
          <p:nvPr/>
        </p:nvSpPr>
        <p:spPr>
          <a:xfrm>
            <a:off x="4284720" y="1268280"/>
            <a:ext cx="4859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is is High Confide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e can be certain this water body is worse than Good</a:t>
            </a:r>
            <a:endParaRPr b="0" lang="en-US" sz="1800" spc="-1" strike="noStrike">
              <a:solidFill>
                <a:srgbClr val="000000"/>
              </a:solidFill>
              <a:latin typeface="Arial"/>
            </a:endParaRPr>
          </a:p>
        </p:txBody>
      </p:sp>
      <p:sp>
        <p:nvSpPr>
          <p:cNvPr id="594" name=""/>
          <p:cNvSpPr/>
          <p:nvPr/>
        </p:nvSpPr>
        <p:spPr>
          <a:xfrm>
            <a:off x="4284720" y="4581360"/>
            <a:ext cx="46083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is is Lower Confidence</a:t>
            </a:r>
            <a:r>
              <a:rPr b="1"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e are much less certain that this water body is worse than Good</a:t>
            </a:r>
            <a:endParaRPr b="0" lang="en-US" sz="1800" spc="-1" strike="noStrike">
              <a:solidFill>
                <a:srgbClr val="000000"/>
              </a:solidFill>
              <a:latin typeface="Arial"/>
            </a:endParaRPr>
          </a:p>
        </p:txBody>
      </p:sp>
      <p:sp>
        <p:nvSpPr>
          <p:cNvPr id="595" name=""/>
          <p:cNvSpPr/>
          <p:nvPr/>
        </p:nvSpPr>
        <p:spPr>
          <a:xfrm>
            <a:off x="4140360" y="0"/>
            <a:ext cx="5003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Both water bodies are  Moderate, 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a5c6"/>
            </a:gs>
            <a:gs pos="50000">
              <a:srgbClr val="b7d3e3"/>
            </a:gs>
            <a:gs pos="100000">
              <a:srgbClr val="6aa5c6"/>
            </a:gs>
          </a:gsLst>
          <a:lin ang="5400000"/>
        </a:gradFill>
      </p:bgPr>
    </p:bg>
    <p:spTree>
      <p:nvGrpSpPr>
        <p:cNvPr id="1" name=""/>
        <p:cNvGrpSpPr/>
        <p:nvPr/>
      </p:nvGrpSpPr>
      <p:grpSpPr>
        <a:xfrm>
          <a:off x="0" y="0"/>
          <a:ext cx="0" cy="0"/>
          <a:chOff x="0" y="0"/>
          <a:chExt cx="0" cy="0"/>
        </a:xfrm>
      </p:grpSpPr>
      <p:grpSp>
        <p:nvGrpSpPr>
          <p:cNvPr id="596" name=""/>
          <p:cNvGrpSpPr/>
          <p:nvPr/>
        </p:nvGrpSpPr>
        <p:grpSpPr>
          <a:xfrm>
            <a:off x="468360" y="907920"/>
            <a:ext cx="8206920" cy="4752720"/>
            <a:chOff x="468360" y="907920"/>
            <a:chExt cx="8206920" cy="4752720"/>
          </a:xfrm>
        </p:grpSpPr>
        <p:sp>
          <p:nvSpPr>
            <p:cNvPr id="597" name=""/>
            <p:cNvSpPr/>
            <p:nvPr/>
          </p:nvSpPr>
          <p:spPr>
            <a:xfrm>
              <a:off x="468360" y="5026680"/>
              <a:ext cx="4103280" cy="63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Bad</a:t>
              </a:r>
              <a:endParaRPr b="0" lang="en-US" sz="2200" spc="-1" strike="noStrike">
                <a:solidFill>
                  <a:srgbClr val="000000"/>
                </a:solidFill>
                <a:latin typeface="Arial"/>
              </a:endParaRPr>
            </a:p>
          </p:txBody>
        </p:sp>
        <p:sp>
          <p:nvSpPr>
            <p:cNvPr id="598" name=""/>
            <p:cNvSpPr/>
            <p:nvPr/>
          </p:nvSpPr>
          <p:spPr>
            <a:xfrm>
              <a:off x="468360" y="4392360"/>
              <a:ext cx="4103280" cy="63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Poor</a:t>
              </a:r>
              <a:endParaRPr b="0" lang="en-US" sz="2200" spc="-1" strike="noStrike">
                <a:solidFill>
                  <a:srgbClr val="000000"/>
                </a:solidFill>
                <a:latin typeface="Arial"/>
              </a:endParaRPr>
            </a:p>
          </p:txBody>
        </p:sp>
        <p:sp>
          <p:nvSpPr>
            <p:cNvPr id="599" name=""/>
            <p:cNvSpPr/>
            <p:nvPr/>
          </p:nvSpPr>
          <p:spPr>
            <a:xfrm>
              <a:off x="4571640" y="3758040"/>
              <a:ext cx="4103280" cy="19026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High confidence moderate or worse</a:t>
              </a:r>
              <a:endParaRPr b="0" lang="en-US" sz="2200" spc="-1" strike="noStrike">
                <a:solidFill>
                  <a:srgbClr val="000000"/>
                </a:solidFill>
                <a:latin typeface="Arial"/>
              </a:endParaRPr>
            </a:p>
          </p:txBody>
        </p:sp>
        <p:sp>
          <p:nvSpPr>
            <p:cNvPr id="600" name=""/>
            <p:cNvSpPr/>
            <p:nvPr/>
          </p:nvSpPr>
          <p:spPr>
            <a:xfrm>
              <a:off x="468360" y="3758040"/>
              <a:ext cx="4103280" cy="634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oderate</a:t>
              </a:r>
              <a:endParaRPr b="0" lang="en-US" sz="2200" spc="-1" strike="noStrike">
                <a:solidFill>
                  <a:srgbClr val="000000"/>
                </a:solidFill>
                <a:latin typeface="Arial"/>
              </a:endParaRPr>
            </a:p>
          </p:txBody>
        </p:sp>
        <p:sp>
          <p:nvSpPr>
            <p:cNvPr id="601" name=""/>
            <p:cNvSpPr/>
            <p:nvPr/>
          </p:nvSpPr>
          <p:spPr>
            <a:xfrm>
              <a:off x="4571640" y="2989440"/>
              <a:ext cx="4103280" cy="7682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468360" y="2989440"/>
              <a:ext cx="4103280" cy="76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Good</a:t>
              </a:r>
              <a:endParaRPr b="0" lang="en-US" sz="2200" spc="-1" strike="noStrike">
                <a:solidFill>
                  <a:srgbClr val="000000"/>
                </a:solidFill>
                <a:latin typeface="Arial"/>
              </a:endParaRPr>
            </a:p>
          </p:txBody>
        </p:sp>
        <p:sp>
          <p:nvSpPr>
            <p:cNvPr id="603" name=""/>
            <p:cNvSpPr/>
            <p:nvPr/>
          </p:nvSpPr>
          <p:spPr>
            <a:xfrm>
              <a:off x="4571640" y="2220840"/>
              <a:ext cx="4103280" cy="7686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468360" y="2220840"/>
              <a:ext cx="4103280" cy="76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Arial"/>
                  <a:ea typeface="Times New Roman"/>
                </a:rPr>
                <a:t>High</a:t>
              </a:r>
              <a:endParaRPr b="0" lang="en-US" sz="2200" spc="-1" strike="noStrike">
                <a:solidFill>
                  <a:srgbClr val="000000"/>
                </a:solidFill>
                <a:latin typeface="Arial"/>
              </a:endParaRPr>
            </a:p>
          </p:txBody>
        </p:sp>
        <p:sp>
          <p:nvSpPr>
            <p:cNvPr id="605" name=""/>
            <p:cNvSpPr/>
            <p:nvPr/>
          </p:nvSpPr>
          <p:spPr>
            <a:xfrm>
              <a:off x="4571640" y="907920"/>
              <a:ext cx="4103280" cy="131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onfidence of class</a:t>
              </a:r>
              <a:endParaRPr b="0" lang="en-US" sz="2600" spc="-1" strike="noStrike">
                <a:solidFill>
                  <a:srgbClr val="000000"/>
                </a:solidFill>
                <a:latin typeface="Arial"/>
              </a:endParaRPr>
            </a:p>
          </p:txBody>
        </p:sp>
        <p:sp>
          <p:nvSpPr>
            <p:cNvPr id="606" name=""/>
            <p:cNvSpPr/>
            <p:nvPr/>
          </p:nvSpPr>
          <p:spPr>
            <a:xfrm>
              <a:off x="468360" y="907920"/>
              <a:ext cx="4103280" cy="131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Face value classification</a:t>
              </a:r>
              <a:endParaRPr b="0" lang="en-US" sz="2600" spc="-1" strike="noStrike">
                <a:solidFill>
                  <a:srgbClr val="000000"/>
                </a:solidFill>
                <a:latin typeface="Arial"/>
              </a:endParaRPr>
            </a:p>
          </p:txBody>
        </p:sp>
        <p:sp>
          <p:nvSpPr>
            <p:cNvPr id="607" name=""/>
            <p:cNvSpPr/>
            <p:nvPr/>
          </p:nvSpPr>
          <p:spPr>
            <a:xfrm>
              <a:off x="468360" y="907920"/>
              <a:ext cx="82069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68360" y="5660640"/>
              <a:ext cx="82069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68360" y="907920"/>
              <a:ext cx="0" cy="4752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675280" y="907920"/>
              <a:ext cx="0" cy="4752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68360" y="2220840"/>
              <a:ext cx="82069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71640" y="907920"/>
              <a:ext cx="0" cy="4752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68360" y="2989440"/>
              <a:ext cx="82069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68360" y="3758040"/>
              <a:ext cx="82069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68360" y="4392360"/>
              <a:ext cx="4103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68360" y="5026680"/>
              <a:ext cx="4103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2:30:05Z</dcterms:created>
  <dc:creator>jeane</dc:creator>
  <dc:description/>
  <dc:language>en-US</dc:language>
  <cp:lastModifiedBy>GPhillips</cp:lastModifiedBy>
  <dcterms:modified xsi:type="dcterms:W3CDTF">2008-03-05T15:47:23Z</dcterms:modified>
  <cp:revision>138</cp:revision>
  <dc:subject/>
  <dc:title>UKTAG Work Programme Phase 3 2005-2006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