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090-FD36-4FA2-974D-A5631F4A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499-15D7-4B17-91E6-3485937F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CFE-7EEE-4056-B255-BA78A3F1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FC9-0C02-414F-86C6-5E5D09C1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0E3-CE46-44D9-B958-C341F46C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F4A-7B8B-4D80-AA2C-132A718C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5DD-C7AD-4759-8632-096C4B1B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229-6DBD-4765-924B-BE25A90F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152-DD98-4FC6-869B-10E51836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0ED-1AD4-4BA3-8E2E-4E4ED60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871-C7DD-4EE7-9F89-4F27F148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E5A-87E1-4E4A-AC96-CA6C3FBC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BE68-2489-4B94-93BB-E6177E43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MS planning to produce estimates of status for the first plan which makes use of all data, including pressure and impact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2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k of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S don’t feel they have enough data yet to produce a robust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MS don’t feel they have a finished biological tool sensitive to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do if there are insufficient data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water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urrogates (e.g. HM surrogates using pressure data for each water body; chemistry data without biology to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ing, using data from other systems to develop th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ing” classification – different opin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 status, where it is believed there is no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oderate status where there is a pressure, but not yet certain of the extent of the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S feel that “one out all out” (ooao) overly restrictive and likely to produce inaccurate status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nd to over-ride ooao results with expert judgement  or a weight of evidence approach. 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results aren’t as experts ex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classification is right on the boundary of a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MS will not include quality elements with poorly performing metrics in the overall classification for the first RBMP – data used to develop metric in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 generally felt that non-statistical confidence (e.g. a dried up river bed being Bad with high confidence) is sufficient to drive P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don’t have a biological classification, how do we show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our scheme – dotted line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ual information – in RBMP or on water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y-out non-monitored water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new colours – e.g. if not certain whether M/P/B, use different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 FV class, but also report confidence that class is &lt;G or &gt;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5:06:26Z</dcterms:created>
  <dc:creator>nathan.critch</dc:creator>
  <dc:description/>
  <dc:language>en-US</dc:language>
  <cp:lastModifiedBy>nathan.critch</cp:lastModifiedBy>
  <dcterms:modified xsi:type="dcterms:W3CDTF">2008-03-07T09:52:35Z</dcterms:modified>
  <cp:revision>28</cp:revision>
  <dc:subject/>
  <dc:title>How are MS planning to produce estimates of status for the first plan which makes use of all data, including pressure and impact data?</dc:title>
</cp:coreProperties>
</file>