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01800" y="6572160"/>
            <a:ext cx="70992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shop on Ecological Classification 5th + 6th March 2008, Brussels – Session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1908000" y="2997360"/>
            <a:ext cx="5537520" cy="347976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2314440" y="344340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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4041360" y="3411360"/>
            <a:ext cx="23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y 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314440" y="4268880"/>
            <a:ext cx="3426840" cy="520560"/>
            <a:chOff x="2314440" y="4268880"/>
            <a:chExt cx="3426840" cy="520560"/>
          </a:xfrm>
        </p:grpSpPr>
        <p:sp>
          <p:nvSpPr>
            <p:cNvPr id="43" name=""/>
            <p:cNvSpPr/>
            <p:nvPr/>
          </p:nvSpPr>
          <p:spPr>
            <a:xfrm>
              <a:off x="2314440" y="43005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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118760" y="4268880"/>
              <a:ext cx="162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Comm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2314440" y="5126040"/>
            <a:ext cx="4731120" cy="520560"/>
            <a:chOff x="2314440" y="5126040"/>
            <a:chExt cx="4731120" cy="520560"/>
          </a:xfrm>
        </p:grpSpPr>
        <p:sp>
          <p:nvSpPr>
            <p:cNvPr id="46" name=""/>
            <p:cNvSpPr/>
            <p:nvPr/>
          </p:nvSpPr>
          <p:spPr>
            <a:xfrm>
              <a:off x="2314440" y="51577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193280" y="5126040"/>
              <a:ext cx="285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sed but seldo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229320" y="534960"/>
            <a:ext cx="8772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quality elemen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re being used to monitor water bo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bject to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pecific pressu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ease identify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st sensitive biological quality elem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ill in tables for rivers, lakes, transitional and coastal wa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se [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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] only once per specific pressure if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468360" y="0"/>
            <a:ext cx="9029520" cy="5950080"/>
            <a:chOff x="468360" y="0"/>
            <a:chExt cx="9029520" cy="5950080"/>
          </a:xfrm>
        </p:grpSpPr>
        <p:sp>
          <p:nvSpPr>
            <p:cNvPr id="50" name=""/>
            <p:cNvSpPr/>
            <p:nvPr/>
          </p:nvSpPr>
          <p:spPr>
            <a:xfrm>
              <a:off x="7668000" y="5538600"/>
              <a:ext cx="130032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370200" y="5538600"/>
              <a:ext cx="12974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69520" y="5538600"/>
              <a:ext cx="130032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768840" y="5538600"/>
              <a:ext cx="130032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69600" y="5538600"/>
              <a:ext cx="12992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68360" y="5538600"/>
              <a:ext cx="2125800" cy="411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Toxic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668000" y="4538160"/>
              <a:ext cx="1300320" cy="100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70200" y="4538160"/>
              <a:ext cx="1297440" cy="100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069520" y="4538160"/>
              <a:ext cx="1300320" cy="100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768840" y="4538160"/>
              <a:ext cx="1300320" cy="100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469600" y="4538160"/>
              <a:ext cx="1299240" cy="100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68360" y="4538160"/>
              <a:ext cx="2125800" cy="1000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Oxygen deplet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668000" y="4126680"/>
              <a:ext cx="130032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370200" y="4126680"/>
              <a:ext cx="129744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069520" y="4126680"/>
              <a:ext cx="130032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768840" y="4126680"/>
              <a:ext cx="130032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469600" y="4126680"/>
              <a:ext cx="129924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68360" y="4126680"/>
              <a:ext cx="2125800" cy="411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Nutri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668000" y="3385440"/>
              <a:ext cx="1300320" cy="74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370200" y="3385440"/>
              <a:ext cx="1297440" cy="74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69520" y="3385440"/>
              <a:ext cx="1300320" cy="74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768840" y="3385440"/>
              <a:ext cx="1300320" cy="74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469600" y="3385440"/>
              <a:ext cx="1299240" cy="74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68360" y="3385440"/>
              <a:ext cx="2121120" cy="740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Morphology - Ban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68000" y="2693160"/>
              <a:ext cx="130032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370200" y="2693160"/>
              <a:ext cx="129744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069520" y="2693160"/>
              <a:ext cx="130032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768840" y="2693160"/>
              <a:ext cx="130032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69600" y="2693160"/>
              <a:ext cx="129924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68360" y="2693160"/>
              <a:ext cx="2125800" cy="692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Morphology – Bed Structu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668000" y="2000880"/>
              <a:ext cx="130032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370200" y="2000880"/>
              <a:ext cx="129744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69520" y="2000880"/>
              <a:ext cx="130032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768840" y="2000880"/>
              <a:ext cx="130032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469600" y="2000880"/>
              <a:ext cx="129924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68360" y="2000880"/>
              <a:ext cx="2125800" cy="692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Morphology -  Continu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668000" y="1308960"/>
              <a:ext cx="130032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370200" y="1308960"/>
              <a:ext cx="129744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069520" y="1308960"/>
              <a:ext cx="130032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768840" y="1308960"/>
              <a:ext cx="130032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69600" y="1308960"/>
              <a:ext cx="129924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68360" y="1308960"/>
              <a:ext cx="2125800" cy="691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ydrolo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68000" y="0"/>
              <a:ext cx="1300320" cy="13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is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70200" y="0"/>
              <a:ext cx="1297440" cy="13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verte-bra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069520" y="0"/>
              <a:ext cx="1300320" cy="13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enthic alga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768840" y="0"/>
              <a:ext cx="1300320" cy="13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cro-phy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75720" y="0"/>
              <a:ext cx="1428120" cy="13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hyto-plankt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8360" y="0"/>
              <a:ext cx="2125800" cy="1308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Pressu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8360" y="0"/>
              <a:ext cx="8499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68360" y="5950080"/>
              <a:ext cx="8499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8360" y="0"/>
              <a:ext cx="0" cy="59500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968320" y="0"/>
              <a:ext cx="0" cy="59500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8360" y="1308960"/>
              <a:ext cx="8499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95600" y="0"/>
              <a:ext cx="0" cy="59500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25360" y="0"/>
              <a:ext cx="0" cy="59500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69520" y="0"/>
              <a:ext cx="0" cy="59500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70200" y="0"/>
              <a:ext cx="0" cy="59500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68000" y="0"/>
              <a:ext cx="0" cy="59500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68360" y="2000880"/>
              <a:ext cx="8499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68360" y="2693160"/>
              <a:ext cx="8499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68360" y="3385440"/>
              <a:ext cx="8499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68360" y="4126680"/>
              <a:ext cx="8499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68360" y="4744800"/>
              <a:ext cx="9029520" cy="10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68360" y="5438160"/>
              <a:ext cx="8499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685440" y="12600"/>
            <a:ext cx="150048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66560" y="5950080"/>
            <a:ext cx="8498160" cy="459720"/>
            <a:chOff x="466560" y="5950080"/>
            <a:chExt cx="8498160" cy="459720"/>
          </a:xfrm>
        </p:grpSpPr>
        <p:sp>
          <p:nvSpPr>
            <p:cNvPr id="116" name=""/>
            <p:cNvSpPr/>
            <p:nvPr/>
          </p:nvSpPr>
          <p:spPr>
            <a:xfrm>
              <a:off x="466560" y="5950080"/>
              <a:ext cx="2160720" cy="459720"/>
            </a:xfrm>
            <a:prstGeom prst="rect">
              <a:avLst/>
            </a:prstGeom>
            <a:solidFill>
              <a:srgbClr val="db2e0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Arial"/>
                </a:rPr>
                <a:t>Acid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27280" y="5950080"/>
              <a:ext cx="122400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52720" y="5950080"/>
              <a:ext cx="122400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76720" y="5950080"/>
              <a:ext cx="129564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69080" y="5950080"/>
              <a:ext cx="129564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70560" y="5950080"/>
              <a:ext cx="129708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5272200" y="1504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19640" y="419580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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45240" y="5942160"/>
            <a:ext cx="7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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324000" y="7920"/>
            <a:ext cx="9102600" cy="6589800"/>
            <a:chOff x="324000" y="7920"/>
            <a:chExt cx="9102600" cy="6589800"/>
          </a:xfrm>
        </p:grpSpPr>
        <p:sp>
          <p:nvSpPr>
            <p:cNvPr id="126" name=""/>
            <p:cNvSpPr/>
            <p:nvPr/>
          </p:nvSpPr>
          <p:spPr>
            <a:xfrm>
              <a:off x="7581960" y="6142320"/>
              <a:ext cx="1311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273720" y="6142320"/>
              <a:ext cx="13082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962600" y="6142320"/>
              <a:ext cx="1311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51480" y="6142320"/>
              <a:ext cx="1311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41440" y="6142320"/>
              <a:ext cx="13100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4000" y="6142320"/>
              <a:ext cx="2143080" cy="455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Toxic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81960" y="5034240"/>
              <a:ext cx="1311120" cy="11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73720" y="5034240"/>
              <a:ext cx="1308240" cy="11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62600" y="5034240"/>
              <a:ext cx="1311120" cy="11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51480" y="5034240"/>
              <a:ext cx="1311120" cy="11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341440" y="5034240"/>
              <a:ext cx="1310040" cy="11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4000" y="5034240"/>
              <a:ext cx="2143080" cy="1108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Oxygen deplet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81960" y="4578480"/>
              <a:ext cx="13111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73720" y="4578480"/>
              <a:ext cx="1308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62600" y="4578480"/>
              <a:ext cx="13111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651480" y="4578480"/>
              <a:ext cx="13111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41440" y="4578480"/>
              <a:ext cx="13100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4000" y="4578480"/>
              <a:ext cx="2143080" cy="455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Nutri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81960" y="3757680"/>
              <a:ext cx="13111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73720" y="3757680"/>
              <a:ext cx="13082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62600" y="3757680"/>
              <a:ext cx="13111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51480" y="3757680"/>
              <a:ext cx="13111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41440" y="3757680"/>
              <a:ext cx="13100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4000" y="3757680"/>
              <a:ext cx="2138400" cy="820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cid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81960" y="2990880"/>
              <a:ext cx="131112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73720" y="2990880"/>
              <a:ext cx="130824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962600" y="2990880"/>
              <a:ext cx="131112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1480" y="2990880"/>
              <a:ext cx="131112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341440" y="2990880"/>
              <a:ext cx="131004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4000" y="2990880"/>
              <a:ext cx="2143080" cy="766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Morphology -sh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81960" y="2224080"/>
              <a:ext cx="131112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73720" y="2224080"/>
              <a:ext cx="130824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962600" y="2224080"/>
              <a:ext cx="131112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651480" y="2224080"/>
              <a:ext cx="131112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41440" y="2224080"/>
              <a:ext cx="131004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4000" y="2224080"/>
              <a:ext cx="2143080" cy="766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Morphology – Bed Structu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581960" y="1457640"/>
              <a:ext cx="1311120" cy="76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273720" y="1457640"/>
              <a:ext cx="1308240" cy="76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62600" y="1457640"/>
              <a:ext cx="1311120" cy="76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651480" y="1457640"/>
              <a:ext cx="1311120" cy="76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41440" y="1457640"/>
              <a:ext cx="1310040" cy="76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4000" y="1457640"/>
              <a:ext cx="2143080" cy="766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ydrolo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581960" y="7920"/>
              <a:ext cx="1311120" cy="14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is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273720" y="7920"/>
              <a:ext cx="1308240" cy="14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verte-bra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62600" y="7920"/>
              <a:ext cx="1311120" cy="14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enthic alga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651480" y="7920"/>
              <a:ext cx="1311120" cy="14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cro-phy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47920" y="7920"/>
              <a:ext cx="1440000" cy="14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hyto-plankt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4000" y="7920"/>
              <a:ext cx="2143080" cy="144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Pressu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4000" y="7920"/>
              <a:ext cx="85690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4000" y="6597720"/>
              <a:ext cx="85690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4000" y="7920"/>
              <a:ext cx="0" cy="65898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893080" y="7920"/>
              <a:ext cx="0" cy="65898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4000" y="1457640"/>
              <a:ext cx="85690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68520" y="7920"/>
              <a:ext cx="0" cy="65898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08360" y="7920"/>
              <a:ext cx="0" cy="65898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62600" y="7920"/>
              <a:ext cx="0" cy="65898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73720" y="7920"/>
              <a:ext cx="0" cy="65898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581960" y="7920"/>
              <a:ext cx="0" cy="65898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4000" y="2224080"/>
              <a:ext cx="85690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4000" y="2990880"/>
              <a:ext cx="85690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24000" y="3757680"/>
              <a:ext cx="85690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4000" y="4578480"/>
              <a:ext cx="85690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4000" y="5262840"/>
              <a:ext cx="9102600" cy="14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4000" y="6031080"/>
              <a:ext cx="85690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685080" y="12600"/>
            <a:ext cx="132372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70360" y="532116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id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250920" y="28440"/>
            <a:ext cx="9102600" cy="6589800"/>
            <a:chOff x="250920" y="28440"/>
            <a:chExt cx="9102600" cy="6589800"/>
          </a:xfrm>
        </p:grpSpPr>
        <p:sp>
          <p:nvSpPr>
            <p:cNvPr id="193" name=""/>
            <p:cNvSpPr/>
            <p:nvPr/>
          </p:nvSpPr>
          <p:spPr>
            <a:xfrm>
              <a:off x="7508880" y="6162840"/>
              <a:ext cx="1311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200640" y="6162840"/>
              <a:ext cx="13082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89520" y="6162840"/>
              <a:ext cx="1311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78400" y="6162840"/>
              <a:ext cx="1311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68360" y="6162840"/>
              <a:ext cx="13100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50920" y="6162840"/>
              <a:ext cx="2143080" cy="455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508880" y="5054760"/>
              <a:ext cx="1311120" cy="11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00640" y="5054760"/>
              <a:ext cx="1308240" cy="11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889520" y="5054760"/>
              <a:ext cx="1311120" cy="11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78400" y="5054760"/>
              <a:ext cx="1311120" cy="11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68360" y="5054760"/>
              <a:ext cx="1310040" cy="11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50920" y="5054760"/>
              <a:ext cx="2143080" cy="1108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Toxic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508880" y="4599000"/>
              <a:ext cx="13111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200640" y="4599000"/>
              <a:ext cx="1308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889520" y="4599000"/>
              <a:ext cx="13111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78400" y="4599000"/>
              <a:ext cx="13111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268360" y="4599000"/>
              <a:ext cx="13100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50920" y="4599000"/>
              <a:ext cx="2143080" cy="455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Oxygen deple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08880" y="3778200"/>
              <a:ext cx="13111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00640" y="3778200"/>
              <a:ext cx="13082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89520" y="3778200"/>
              <a:ext cx="13111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578400" y="3778200"/>
              <a:ext cx="13111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268360" y="3778200"/>
              <a:ext cx="13100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0920" y="3778200"/>
              <a:ext cx="2138400" cy="820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Nutri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08880" y="3011400"/>
              <a:ext cx="131112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00640" y="3011400"/>
              <a:ext cx="130824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889520" y="3011400"/>
              <a:ext cx="131112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578400" y="3011400"/>
              <a:ext cx="131112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68360" y="3011400"/>
              <a:ext cx="131004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920" y="3011400"/>
              <a:ext cx="2143080" cy="766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Morphology -sh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08880" y="2244600"/>
              <a:ext cx="131112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200640" y="2244600"/>
              <a:ext cx="130824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89520" y="2244600"/>
              <a:ext cx="131112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78400" y="2244600"/>
              <a:ext cx="131112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268360" y="2244600"/>
              <a:ext cx="131004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50920" y="2244600"/>
              <a:ext cx="2143080" cy="766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Morphology – Bed Structu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508880" y="1478160"/>
              <a:ext cx="1311120" cy="76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200640" y="1478160"/>
              <a:ext cx="1308240" cy="76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889520" y="1478160"/>
              <a:ext cx="1311120" cy="76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578400" y="1478160"/>
              <a:ext cx="1311120" cy="76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268360" y="1478160"/>
              <a:ext cx="1310040" cy="76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50920" y="1478160"/>
              <a:ext cx="2143080" cy="766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ydrolo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08880" y="28440"/>
              <a:ext cx="1311120" cy="14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is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00640" y="28440"/>
              <a:ext cx="1308240" cy="14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verte-bra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889520" y="28440"/>
              <a:ext cx="1311120" cy="14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cro alga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578400" y="28440"/>
              <a:ext cx="1311120" cy="14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gio-sper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274840" y="28440"/>
              <a:ext cx="1440000" cy="14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hyto-plankt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0920" y="28440"/>
              <a:ext cx="2143080" cy="144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Pressu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50920" y="28440"/>
              <a:ext cx="85690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0920" y="6618240"/>
              <a:ext cx="85690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0920" y="28440"/>
              <a:ext cx="0" cy="65898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820000" y="28440"/>
              <a:ext cx="0" cy="65898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50920" y="1478160"/>
              <a:ext cx="85690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395440" y="28440"/>
              <a:ext cx="0" cy="65898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35280" y="28440"/>
              <a:ext cx="0" cy="65898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889520" y="28440"/>
              <a:ext cx="0" cy="65898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200640" y="28440"/>
              <a:ext cx="0" cy="65898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08880" y="28440"/>
              <a:ext cx="0" cy="65898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0920" y="2244600"/>
              <a:ext cx="85690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50920" y="3011400"/>
              <a:ext cx="85690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0920" y="3778200"/>
              <a:ext cx="85690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0920" y="4599000"/>
              <a:ext cx="85690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0920" y="5283360"/>
              <a:ext cx="9102600" cy="14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50920" y="6051600"/>
              <a:ext cx="85690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73080" y="12600"/>
            <a:ext cx="284328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AST+TR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8:41:47Z</dcterms:created>
  <dc:creator>irmer</dc:creator>
  <dc:description/>
  <dc:language>en-US</dc:language>
  <cp:lastModifiedBy>Administrator</cp:lastModifiedBy>
  <dcterms:modified xsi:type="dcterms:W3CDTF">2008-03-06T09:34:06Z</dcterms:modified>
  <cp:revision>4</cp:revision>
  <dc:subject/>
  <dc:title>Folie 1</dc:title>
</cp:coreProperties>
</file>