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81520"/>
            <a:ext cx="71625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220968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8152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388152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23061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440" y="2209680"/>
            <a:ext cx="23061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4520" y="2209680"/>
            <a:ext cx="23061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81520"/>
            <a:ext cx="23061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440" y="3881520"/>
            <a:ext cx="23061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4520" y="3881520"/>
            <a:ext cx="23061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22096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495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2209680"/>
            <a:ext cx="3495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838080"/>
            <a:ext cx="71625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2209680"/>
            <a:ext cx="3495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8152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495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220968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388152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2209680"/>
            <a:ext cx="34952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81520"/>
            <a:ext cx="71625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096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 rot="16200000">
            <a:off x="7924320" y="990360"/>
            <a:ext cx="2209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66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cc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 rot="16200000">
            <a:off x="8343360" y="278100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66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D54E-82E8-44EF-8F29-EA2FB8FED61A}" type="datetime">
              <a:rPr b="0" lang="en-US" sz="800" spc="-1" strike="noStrike">
                <a:solidFill>
                  <a:srgbClr val="66ccff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577280" y="6172200"/>
          <a:ext cx="141444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7280" y="6172200"/>
                    <a:ext cx="1414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7440" cy="25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 Narrow"/>
              </a:rPr>
              <a:t>Applying Ecological Risk Assessment methodology in classification of water bodies for the first RB management plans</a:t>
            </a:r>
            <a:br>
              <a:rPr sz="3600"/>
            </a:br>
            <a:r>
              <a:rPr b="0" i="1" lang="en-US" sz="3200" spc="-1" strike="noStrike">
                <a:solidFill>
                  <a:srgbClr val="006600"/>
                </a:solidFill>
                <a:latin typeface="Arial Narrow"/>
              </a:rPr>
              <a:t>The Finnish weight-of-evidence approach</a:t>
            </a:r>
            <a:br>
              <a:rPr sz="3200"/>
            </a:br>
            <a:endParaRPr b="1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000" y="3933720"/>
            <a:ext cx="648036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 Narrow"/>
              </a:rPr>
              <a:t>Kari-Matti Vuor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Finnish Environment Instit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"/>
          <p:cNvSpPr/>
          <p:nvPr/>
        </p:nvSpPr>
        <p:spPr>
          <a:xfrm>
            <a:off x="1340280" y="0"/>
            <a:ext cx="67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ECOSTAT Classification Workshop 6th to 7th March 2008, Brusse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essio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6600"/>
                </a:solidFill>
                <a:latin typeface="Arial Narrow"/>
              </a:rPr>
              <a:t>Database interface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" y="638280"/>
            <a:ext cx="8142480" cy="558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1341360"/>
            <a:ext cx="770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i-FI" sz="1200" spc="-1" strike="noStrike">
                <a:solidFill>
                  <a:srgbClr val="cc0000"/>
                </a:solidFill>
                <a:latin typeface="Times New Roman"/>
              </a:rPr>
              <a:t>Typology        Hydromorphological alteration                                    Env. Loading GIS       Loading est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cc0000"/>
                </a:solidFill>
                <a:latin typeface="Times New Roman"/>
              </a:rPr>
              <a:t>Classification,   Measures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BC0DA61-F65F-4420-BCFD-747872F0F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785080" cy="64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7FD15E6-E753-4C29-B08A-826E98D036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WoE in ERA risk characterization   </a:t>
            </a:r>
            <a:br>
              <a:rPr sz="3600"/>
            </a:br>
            <a:r>
              <a:rPr b="1" lang="fi-FI" sz="2800" spc="-1" strike="noStrike">
                <a:solidFill>
                  <a:srgbClr val="006600"/>
                </a:solidFill>
                <a:latin typeface="Arial Narrow"/>
              </a:rPr>
              <a:t>Example modified after Johnston et al. 2002</a:t>
            </a: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1413000"/>
          <a:ext cx="8208720" cy="4679640"/>
        </p:xfrm>
        <a:graphic>
          <a:graphicData uri="http://schemas.openxmlformats.org/drawingml/2006/table">
            <a:tbl>
              <a:tblPr/>
              <a:tblGrid>
                <a:gridCol w="1873080"/>
                <a:gridCol w="1314360"/>
                <a:gridCol w="1082880"/>
                <a:gridCol w="1239840"/>
                <a:gridCol w="1555560"/>
                <a:gridCol w="114300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VEL OF EXPOSURE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fi-FI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NE, equal to reference conditions</a:t>
                      </a: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STA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V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VEL OF ECOLOG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FFECT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PRETATION, RISK of  failing the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BV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835280" y="371628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198900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5640" y="92880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fi-FI" sz="1200" spc="-1" strike="noStrike">
                <a:solidFill>
                  <a:srgbClr val="000000"/>
                </a:solidFill>
                <a:latin typeface="Times New Roman"/>
              </a:rPr>
              <a:t>Environ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oxicol. Chem. 21: 182-19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5013360"/>
            <a:ext cx="71928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5013360"/>
            <a:ext cx="71928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2FC68F5-195B-4E1F-A3E3-F116B5F8F0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7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Application: credibility of ecological status assessments screened against evidence on exposure to pressures</a:t>
            </a: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2209680"/>
          <a:ext cx="7684920" cy="3957840"/>
        </p:xfrm>
        <a:graphic>
          <a:graphicData uri="http://schemas.openxmlformats.org/drawingml/2006/table">
            <a:tbl>
              <a:tblPr/>
              <a:tblGrid>
                <a:gridCol w="1747800"/>
                <a:gridCol w="1235160"/>
                <a:gridCol w="1014480"/>
                <a:gridCol w="1160280"/>
                <a:gridCol w="1454040"/>
                <a:gridCol w="1073160"/>
              </a:tblGrid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 OF EXPOSURE TO PRESS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flect reference cond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idence from ecological assessments (putative statu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E STATUS (tentati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/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r/B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 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 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7020000" y="5157720"/>
            <a:ext cx="72072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5084640"/>
            <a:ext cx="71928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5364BA8-8193-4D5F-AE5C-E31BE9E7FD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6600"/>
                </a:solidFill>
                <a:latin typeface="Arial Narrow"/>
              </a:rPr>
              <a:t>Classification in practice- some Finnish experience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Excercises using fish and macroinvertebrate monitoring resul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Example: study sites, classified using available fish and macroinvertebrate data</a:t>
            </a: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9840" y="1197000"/>
            <a:ext cx="8804160" cy="6224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1484280"/>
            <a:ext cx="3240000" cy="20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83EC02A-18AD-445C-A65A-3E579DF020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6600"/>
                </a:solidFill>
                <a:latin typeface="Arial Narrow"/>
              </a:rPr>
              <a:t>Characteristics of the study sites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4000" y="2133720"/>
          <a:ext cx="8424720" cy="3827160"/>
        </p:xfrm>
        <a:graphic>
          <a:graphicData uri="http://schemas.openxmlformats.org/drawingml/2006/table">
            <a:tbl>
              <a:tblPr/>
              <a:tblGrid>
                <a:gridCol w="1461960"/>
                <a:gridCol w="1065240"/>
                <a:gridCol w="888840"/>
                <a:gridCol w="1271880"/>
                <a:gridCol w="441360"/>
                <a:gridCol w="577800"/>
                <a:gridCol w="592200"/>
                <a:gridCol w="750600"/>
                <a:gridCol w="13748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ver S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chment area km</a:t>
                      </a:r>
                      <a:r>
                        <a:rPr b="1" lang="fi-FI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at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able land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Pt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logical and morphological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yhäjoki, Irvankos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ightly mod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Kyrönjoki, Annalankos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ntly mod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stijoki, Tornikos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st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Lestijoki, Jäväjänkos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rly prist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Perhonjoki, Skataf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vily mod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Maalahdenjoki, Stolpasf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ightly mod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Maalahdenjoki, Vaasa-Korsnä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ightly mod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A96BD94-3FDD-4E01-A62B-CED57B7217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6600"/>
                </a:solidFill>
                <a:latin typeface="Arial Narrow"/>
              </a:rPr>
              <a:t>Macroinvertebrate classification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Taxonomic composi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Percent model affinity (PMA, Novak &amp; Bode 1992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Divers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Number of type-specific species (&gt;40% of ref. site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Presence of important taxonomic grou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ype-specific EPT-famil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5AC5BE1-F485-4512-A265-4B317CF4D1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6600"/>
                </a:solidFill>
                <a:latin typeface="Arial Narrow"/>
              </a:rPr>
              <a:t>Fish classification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Taxonomic composi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% tolerant, % sensitive, % cyprinid spec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Divers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pecies numb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Age structure, reprodu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Salmonid 0+ abunda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AFB9FE0-024E-4D22-8AAE-1F32163B74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7553160" cy="58737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RESULTS</a:t>
            </a:r>
            <a:br>
              <a:rPr sz="3600"/>
            </a:b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Fish and macroinvertebrate EQRs</a:t>
            </a: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357336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01640" y="33051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G/M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399800">
            <a:off x="899640" y="5876640"/>
            <a:ext cx="100800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9399800">
            <a:off x="3347640" y="5949720"/>
            <a:ext cx="100800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E480BB4-62E9-4F42-8477-BFAC7FB5C3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6600"/>
                </a:solidFill>
                <a:latin typeface="Arial Narrow"/>
              </a:rPr>
              <a:t>OUTLINE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561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ERA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What is i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Why to use in classifica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FinEQ-classification sy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Classification excercises in Finnish r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Performance and relevance of different approach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WoE-approach &gt;&lt; One-out, all out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FDAA8CC-48A4-4A58-9FE1-D63DD92118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EQRs are highly variable across pressure gradient. Sometimes OOAO is logical….</a:t>
            </a: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6797520" cy="4781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V="1">
            <a:off x="4067280" y="3284280"/>
            <a:ext cx="1296720" cy="21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3840" y="429264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The acid, 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Maalahdenjok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CC7A5A4-9F08-4219-B5CE-2DA78585C6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1" lang="fi-FI" sz="2800" spc="-1" strike="noStrike">
                <a:solidFill>
                  <a:srgbClr val="000000"/>
                </a:solidFill>
                <a:latin typeface="Arial Narrow"/>
              </a:rPr>
              <a:t>.but sometimes not</a:t>
            </a:r>
            <a:endParaRPr b="1" lang="en-US" sz="2800" spc="-1" strike="noStrike">
              <a:solidFill>
                <a:srgbClr val="006600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6797520" cy="4781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771640" y="3357720"/>
            <a:ext cx="1944720" cy="20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68560" y="364500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The Kyrönjoki ri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Fish monito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not reliable (single survey,no fi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9D20C3E-6D00-4708-9978-25BC1F9315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6600"/>
                </a:solidFill>
                <a:latin typeface="Arial Narrow"/>
              </a:rPr>
              <a:t>One out, all out &gt;&lt; Integrated status?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 Narrow"/>
              </a:rPr>
              <a:t>Or weight of evidenc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Classification results I:</a:t>
            </a:r>
            <a:br>
              <a:rPr sz="3600"/>
            </a:b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OAo downgraded (element level) 4 out of 7 sites compared to integrated assessment</a:t>
            </a:r>
            <a:br>
              <a:rPr sz="3600"/>
            </a:br>
            <a:r>
              <a:rPr b="1" lang="fi-FI" sz="2000" spc="-1" strike="noStrike">
                <a:solidFill>
                  <a:srgbClr val="006600"/>
                </a:solidFill>
                <a:latin typeface="Arial Narrow"/>
              </a:rPr>
              <a:t>unrealistic at some sites: eg. 2, the Pyhäjoki river, fish monitoring results not reliable</a:t>
            </a:r>
            <a:endParaRPr b="1" lang="en-US" sz="2000" spc="-1" strike="noStrike">
              <a:solidFill>
                <a:srgbClr val="006600"/>
              </a:solidFill>
              <a:latin typeface="Arial Narrow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2060640"/>
          <a:ext cx="7704000" cy="3884400"/>
        </p:xfrm>
        <a:graphic>
          <a:graphicData uri="http://schemas.openxmlformats.org/drawingml/2006/table">
            <a:tbl>
              <a:tblPr/>
              <a:tblGrid>
                <a:gridCol w="630000"/>
                <a:gridCol w="702000"/>
                <a:gridCol w="1769760"/>
                <a:gridCol w="720720"/>
                <a:gridCol w="516240"/>
                <a:gridCol w="514080"/>
                <a:gridCol w="617760"/>
                <a:gridCol w="1441440"/>
                <a:gridCol w="792000"/>
              </a:tblGrid>
              <a:tr h="73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Bi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ater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Hy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croinverteb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+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ation s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403280" y="3860640"/>
            <a:ext cx="36036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3860640"/>
            <a:ext cx="36036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00536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14F7F6D-7957-4521-BE87-5224C80C18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640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Classification results II:</a:t>
            </a:r>
            <a:br>
              <a:rPr sz="3600"/>
            </a:b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Physico-chemical and HyMo QEs indicate worse status than biology</a:t>
            </a:r>
            <a:br>
              <a:rPr sz="3600"/>
            </a:br>
            <a:r>
              <a:rPr b="1" lang="fi-FI" sz="2000" spc="-1" strike="noStrike">
                <a:solidFill>
                  <a:srgbClr val="006600"/>
                </a:solidFill>
                <a:latin typeface="Arial Narrow"/>
              </a:rPr>
              <a:t>biological results not representative for the whole water body at most sites!</a:t>
            </a:r>
            <a:br>
              <a:rPr sz="2000"/>
            </a:br>
            <a:r>
              <a:rPr b="1" lang="fi-FI" sz="2000" spc="-1" strike="noStrike">
                <a:solidFill>
                  <a:srgbClr val="006600"/>
                </a:solidFill>
                <a:latin typeface="Arial Narrow"/>
              </a:rPr>
              <a:t>Both one-out,all-out AND integrated assessment may be unrealistic – WoE needed!</a:t>
            </a:r>
            <a:endParaRPr b="1" lang="en-US" sz="2000" spc="-1" strike="noStrike">
              <a:solidFill>
                <a:srgbClr val="006600"/>
              </a:solidFill>
              <a:latin typeface="Arial Narrow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2060640"/>
          <a:ext cx="7684920" cy="3955680"/>
        </p:xfrm>
        <a:graphic>
          <a:graphicData uri="http://schemas.openxmlformats.org/drawingml/2006/table">
            <a:tbl>
              <a:tblPr/>
              <a:tblGrid>
                <a:gridCol w="628200"/>
                <a:gridCol w="699840"/>
                <a:gridCol w="1766520"/>
                <a:gridCol w="718920"/>
                <a:gridCol w="514440"/>
                <a:gridCol w="512640"/>
                <a:gridCol w="616680"/>
                <a:gridCol w="1437480"/>
                <a:gridCol w="790200"/>
              </a:tblGrid>
              <a:tr h="717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Bi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ater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Hy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croinverteb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+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ation s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284720" y="3141720"/>
            <a:ext cx="324000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084640"/>
            <a:ext cx="684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4941720"/>
            <a:ext cx="720108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A0675CD-19C1-4EED-ACD8-4D7A686506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705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CONCLUSIONS</a:t>
            </a:r>
            <a:br>
              <a:rPr sz="3600"/>
            </a:b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848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Biological metrics are highly variable across pressure gradi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Both One-out, All-out principle and integration of metrics/QEs may lead to unrealistic classification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Weight-of-evidence: opens the status assessment for critical discuss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Credibility of 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Relative importance of pressures and associations with effect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E approach needed for tackling heterogeneity of multiple lines of evide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4AE3B0B-98BC-4A05-A854-6D4D56A024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6600"/>
                </a:solidFill>
                <a:latin typeface="Arial Narrow"/>
              </a:rPr>
              <a:t>Thank you !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307200" cy="42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D67646F-B141-456F-91F8-29791D0F8B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6600"/>
                </a:solidFill>
                <a:latin typeface="Arial Narrow"/>
              </a:rPr>
              <a:t>ERA –what is it?</a:t>
            </a:r>
            <a:endParaRPr b="1" lang="en-US" sz="40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684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Ecological Risk Assess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Process evaluating likelihood of adverse ecological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Systematically evaluate relationships between stressors and ecological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3 steps: problem formulation, analysis, risk characteriz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Risk description (e.g. failing quality objectives): consider all available lines of evide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 Narrow"/>
              </a:rPr>
              <a:t>Long traditions in North Americ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 Narrow"/>
              </a:rPr>
              <a:t>Basin scale approaches develop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g. Ohlson D.W. and Serveiss V.B. (2007) "The integration of Ecological Risk Assessment and Structured Decision Making into Watershed Management", Integrated Environmental Assessment and Management, Vol. 3, pp. 118-128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168F5C7-7F1C-4658-90AF-9E34551823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914400"/>
            <a:ext cx="12952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836640"/>
            <a:ext cx="1447920" cy="35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457200"/>
            <a:ext cx="41148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809880"/>
            <a:ext cx="281952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00"/>
                </a:solidFill>
                <a:latin typeface="Times New Roman"/>
              </a:rPr>
              <a:t>Risk charac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838080"/>
            <a:ext cx="281952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00"/>
                </a:solidFill>
                <a:latin typeface="Times New Roman"/>
              </a:rPr>
              <a:t>Problem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1981080"/>
            <a:ext cx="2819520" cy="1676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380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A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5360" y="19810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590920"/>
            <a:ext cx="12952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Expos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2952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Eff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1600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4290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600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33600">
            <a:off x="6514920" y="5524200"/>
            <a:ext cx="381240" cy="609480"/>
          </a:xfrm>
          <a:prstGeom prst="upDownArrow">
            <a:avLst>
              <a:gd name="adj1" fmla="val 50000"/>
              <a:gd name="adj2" fmla="val 3182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5562720"/>
            <a:ext cx="3504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Times New Roman"/>
              </a:rPr>
              <a:t>Communicating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876920"/>
            <a:ext cx="457200" cy="685800"/>
          </a:xfrm>
          <a:prstGeom prst="upDownArrow">
            <a:avLst>
              <a:gd name="adj1" fmla="val 50000"/>
              <a:gd name="adj2" fmla="val 29861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410080"/>
            <a:ext cx="175248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RB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1586800">
            <a:off x="6775200" y="1141560"/>
            <a:ext cx="167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imes New Roman"/>
              </a:rPr>
              <a:t>Acquir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i-FI" sz="1800" spc="-1" strike="noStrike">
                <a:solidFill>
                  <a:srgbClr val="000000"/>
                </a:solidFill>
                <a:latin typeface="Times New Roman"/>
              </a:rPr>
              <a:t>iter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imes New Roman"/>
              </a:rPr>
              <a:t>th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343400"/>
            <a:ext cx="228600" cy="1066680"/>
          </a:xfrm>
          <a:prstGeom prst="upDownArrow">
            <a:avLst>
              <a:gd name="adj1" fmla="val 50000"/>
              <a:gd name="adj2" fmla="val 92891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99072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228600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560" y="914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990720"/>
            <a:ext cx="1214280" cy="228600"/>
          </a:xfrm>
          <a:prstGeom prst="leftRightArrow">
            <a:avLst>
              <a:gd name="adj1" fmla="val 50000"/>
              <a:gd name="adj2" fmla="val 10574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393372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2421000"/>
            <a:ext cx="3600720" cy="21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4C6808F-B1A9-4D48-80FD-945F0E5DCE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488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Why to use ERA &amp; WoE-approach ?</a:t>
            </a: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92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 Narrow"/>
              </a:rPr>
              <a:t>Uncertainties, realism: we currently (and in future) fac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Lack of reliable reference condi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Lack of accurate and comprehensive monitoring data</a:t>
            </a:r>
            <a:r>
              <a:rPr b="1" lang="fi-FI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igh spatial and temporal variation in environmental pressures and ecological conditions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either natural or anthropogenic stressors, nor organisms &amp; their responses are uniformly distributed in space and ti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In real world single organism groups/variables are mostly insufficient to demonstrate  cause-effect relations necessary for river basin management option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i-FI" sz="1800" spc="-1" strike="noStrike">
                <a:solidFill>
                  <a:srgbClr val="cc0000"/>
                </a:solidFill>
                <a:latin typeface="Arial Narrow"/>
              </a:rPr>
              <a:t>-need multiple lines of evidence</a:t>
            </a: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 to make credible classification decisions (rule out one-out, all-out principle?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 Narrow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Ecosystem, stakeholders, citize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Overall status considered, not just status of the ”weakest chain”, i.e. specific fraction/compartment of the ecosyste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Early-warning signal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A51F295-5419-419E-9ECC-F2A2741B83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Finnish Ecological Quality Assessment System (FinEQ) -background</a:t>
            </a: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Thousands of water bod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Lack of extensive (accurate and precise) monitoring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Classification decisions need to rely on ERA princip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Integrate multiple lines of evide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Quality of classifications need to be communicated to decision makers, stakeholders and citizen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Classification categories 0-4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"/>
              </a:rPr>
              <a:t>Waterbody database establish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</a:rPr>
              <a:t>All relevant pressure and impact inform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3C5751A-D442-4980-A081-6D24664E9A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3320" cy="6767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84360" y="573408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115920"/>
            <a:ext cx="215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8000"/>
                </a:solidFill>
                <a:latin typeface="Times New Roman"/>
              </a:rPr>
              <a:t>The FinE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8000"/>
                </a:solidFill>
                <a:latin typeface="Times New Roman"/>
              </a:rPr>
              <a:t>class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8000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C980FF4-2FC0-4AB3-AAF1-4FBFE604C1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The FinEQ classification system</a:t>
            </a:r>
            <a:br>
              <a:rPr sz="3600"/>
            </a:b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General principles</a:t>
            </a: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8243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Ref.conditions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patially based, modeling, historical data</a:t>
            </a:r>
            <a:r>
              <a:rPr b="0" lang="fi-FI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ert judg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Class boundaries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ollowing BSP for each metric of each BQ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Harmonization &amp;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BQEs &amp; metrics are made comparable by scoring (IBI approach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lculatory class = median scor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Supporting information: </a:t>
            </a:r>
            <a:r>
              <a:rPr b="0" lang="fi-FI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ater quality, HyMo, ecotoxicity, press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Final status class decis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sults of all metrics: database, calculatory class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EIGHT-OF-EVIDEN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grate evidence from different QUALITY ELEMENTS &amp; PRESSUR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sider UNCERTAINTI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valuate CREDIBILITY AT THE WATER BODY SCAL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640480" y="2060640"/>
            <a:ext cx="350352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64000" y="357336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3357720"/>
            <a:ext cx="863640" cy="50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F1B1304-745C-4343-8B32-A0EAB65159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932360" y="1557360"/>
            <a:ext cx="457200" cy="627120"/>
          </a:xfrm>
          <a:prstGeom prst="downArrow">
            <a:avLst>
              <a:gd name="adj1" fmla="val 50000"/>
              <a:gd name="adj2" fmla="val 342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1557360"/>
            <a:ext cx="457200" cy="625320"/>
          </a:xfrm>
          <a:prstGeom prst="downArrow">
            <a:avLst>
              <a:gd name="adj1" fmla="val 50000"/>
              <a:gd name="adj2" fmla="val 341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1125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imes New Roman"/>
              </a:rPr>
              <a:t>Exposure profile           Effect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276640"/>
            <a:ext cx="6219720" cy="32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962520"/>
            <a:ext cx="2519280" cy="119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Status class likeliho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and cred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551664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61480" y="6093000"/>
            <a:ext cx="59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ISK MANAGEMENT: WFD PROGRAMME OF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2349360"/>
            <a:ext cx="2186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Causative 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Times New Roman"/>
              </a:rPr>
              <a:t>Association betw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000000"/>
                </a:solidFill>
                <a:latin typeface="Times New Roman"/>
              </a:rPr>
              <a:t>pressures &amp;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2492280"/>
            <a:ext cx="208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Uncertaint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13000"/>
            <a:ext cx="251460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We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Times New Roman"/>
              </a:rPr>
              <a:t>of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5" idx="3"/>
            <a:endCxn id="96" idx="1"/>
          </p:cNvCxnSpPr>
          <p:nvPr/>
        </p:nvCxnSpPr>
        <p:spPr>
          <a:xfrm flipV="1">
            <a:off x="3733920" y="2707920"/>
            <a:ext cx="163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97" idx="1"/>
          </p:cNvCxnSpPr>
          <p:nvPr/>
        </p:nvCxnSpPr>
        <p:spPr>
          <a:xfrm flipH="1" rot="16200000">
            <a:off x="2756880" y="2953080"/>
            <a:ext cx="405360" cy="635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6" idx="2"/>
            <a:endCxn id="97" idx="3"/>
          </p:cNvCxnSpPr>
          <p:nvPr/>
        </p:nvCxnSpPr>
        <p:spPr>
          <a:xfrm rot="5400000">
            <a:off x="5824800" y="2889720"/>
            <a:ext cx="549720" cy="6181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7" idx="2"/>
            <a:endCxn id="92" idx="0"/>
          </p:cNvCxnSpPr>
          <p:nvPr/>
        </p:nvCxnSpPr>
        <p:spPr>
          <a:xfrm>
            <a:off x="4533480" y="3733560"/>
            <a:ext cx="3960" cy="229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9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6600"/>
                </a:solidFill>
                <a:latin typeface="Arial Narrow"/>
              </a:rPr>
              <a:t>Classification: characterize likelihood of deteriorated ecological quality by comparing multiple lines of evidence</a:t>
            </a:r>
            <a:r>
              <a:rPr b="1" lang="fi-FI" sz="3600" spc="-1" strike="noStrike">
                <a:solidFill>
                  <a:srgbClr val="0066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2321640" y="1144440"/>
            <a:ext cx="104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cc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c0000"/>
                </a:solidFill>
                <a:latin typeface="Times New Roman"/>
              </a:rPr>
              <a:t>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349360"/>
            <a:ext cx="1174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cc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c0000"/>
                </a:solidFill>
                <a:latin typeface="Times New Roman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c0000"/>
                </a:solidFill>
                <a:latin typeface="Times New Roman"/>
              </a:rPr>
              <a:t>Cred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9400" y="1125360"/>
            <a:ext cx="1978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cc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cc0000"/>
                </a:solidFill>
                <a:latin typeface="Times New Roman"/>
              </a:rPr>
              <a:t>Classific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CE20E84-CA0D-41D1-86A3-EC995598F3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06:57:18Z</dcterms:created>
  <dc:creator>ferin</dc:creator>
  <dc:description/>
  <dc:language>en-US</dc:language>
  <cp:lastModifiedBy>Kari-Matti Vuori</cp:lastModifiedBy>
  <dcterms:modified xsi:type="dcterms:W3CDTF">2008-03-06T06:13:48Z</dcterms:modified>
  <cp:revision>136</cp:revision>
  <dc:subject/>
  <dc:title>PowerPoint-esitys</dc:title>
</cp:coreProperties>
</file>