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CB57-BA33-4C76-AD48-2F5F8C2E4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14200" y="2241360"/>
            <a:ext cx="664524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14200" y="4215240"/>
            <a:ext cx="664524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AEAA-DC21-49E5-920F-731D66877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4200" y="2241360"/>
            <a:ext cx="32425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19080" y="2241360"/>
            <a:ext cx="32425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14200" y="4215240"/>
            <a:ext cx="32425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19080" y="4215240"/>
            <a:ext cx="32425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FF19-7BC7-49B1-843D-58B5340DF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14200" y="2241360"/>
            <a:ext cx="213948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0960" y="2241360"/>
            <a:ext cx="213948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07720" y="2241360"/>
            <a:ext cx="213948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14200" y="4215240"/>
            <a:ext cx="213948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0960" y="4215240"/>
            <a:ext cx="213948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07720" y="4215240"/>
            <a:ext cx="213948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3A40-A82E-4E60-B972-ECB4ECC2F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D7E5B-9390-4AC0-AF09-C1A3CA56D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14200" y="2241360"/>
            <a:ext cx="664524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EBC54-407F-43E0-9989-AA5019059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4200" y="2241360"/>
            <a:ext cx="664524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B3258-5485-450C-B9D0-6CA728361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14200" y="2241360"/>
            <a:ext cx="324252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9080" y="2241360"/>
            <a:ext cx="324252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D9174-94F4-40D0-9C98-942C2EEDB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94D2E-1471-4229-A749-E783C340F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114200" y="1294920"/>
            <a:ext cx="664524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9C289-3F35-4E1D-AE27-823BFFA20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14200" y="2241360"/>
            <a:ext cx="32425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9080" y="2241360"/>
            <a:ext cx="324252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14200" y="4215240"/>
            <a:ext cx="32425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99F9F-9DBA-4C2C-A4FB-163B9CDD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14200" y="2241360"/>
            <a:ext cx="664524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E052-7E6A-49AE-9931-020C883BE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14200" y="2241360"/>
            <a:ext cx="324252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19080" y="2241360"/>
            <a:ext cx="32425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19080" y="4215240"/>
            <a:ext cx="32425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A7BAF-A067-4366-9B37-959C5BA1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14200" y="2241360"/>
            <a:ext cx="32425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19080" y="2241360"/>
            <a:ext cx="32425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14200" y="4215240"/>
            <a:ext cx="664524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2867E-CD2F-4630-8C94-BFCF6149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14200" y="2241360"/>
            <a:ext cx="664524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114200" y="4215240"/>
            <a:ext cx="664524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3BD9A-2976-4848-873B-E82D38F70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14200" y="2241360"/>
            <a:ext cx="32425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9080" y="2241360"/>
            <a:ext cx="32425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14200" y="4215240"/>
            <a:ext cx="32425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19080" y="4215240"/>
            <a:ext cx="32425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C31C4-DEF8-4C3B-A667-1FC8EC7F6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14200" y="2241360"/>
            <a:ext cx="213948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0960" y="2241360"/>
            <a:ext cx="213948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607720" y="2241360"/>
            <a:ext cx="213948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114200" y="4215240"/>
            <a:ext cx="213948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0960" y="4215240"/>
            <a:ext cx="213948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607720" y="4215240"/>
            <a:ext cx="213948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7ECCD-F5C6-4EAE-AA3D-BB439A963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4200" y="2241360"/>
            <a:ext cx="664524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895A-238E-45DE-B359-BF53A5C5C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14200" y="2241360"/>
            <a:ext cx="324252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9080" y="2241360"/>
            <a:ext cx="324252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B2B2-CFB8-4E54-A32C-86FC972C5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F3B3-35AB-46EC-B859-8B4E750B9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14200" y="1294920"/>
            <a:ext cx="664524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CE19-C330-4E87-A719-91F965690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14200" y="2241360"/>
            <a:ext cx="32425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19080" y="2241360"/>
            <a:ext cx="324252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14200" y="4215240"/>
            <a:ext cx="32425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870E-552D-4A2E-8E5D-DFEBF32C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14200" y="2241360"/>
            <a:ext cx="324252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19080" y="2241360"/>
            <a:ext cx="32425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19080" y="4215240"/>
            <a:ext cx="32425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520D-190D-48F0-8A4E-E6E0EDD3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14200" y="2241360"/>
            <a:ext cx="32425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19080" y="2241360"/>
            <a:ext cx="32425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14200" y="4215240"/>
            <a:ext cx="664524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9253-ECC9-45DD-9E30-E5D9F847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562360" y="6464160"/>
            <a:ext cx="1104840" cy="3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1114560" y="6462720"/>
            <a:ext cx="4572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Naturvårdsverket | Swedish Environmental Protection Ag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543440" y="6463800"/>
            <a:ext cx="1320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320F6-2772-419F-A8C9-16D7CFCF2694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89000" y="195120"/>
            <a:ext cx="8759880" cy="6284880"/>
          </a:xfrm>
          <a:prstGeom prst="rect">
            <a:avLst/>
          </a:prstGeom>
          <a:noFill/>
          <a:ln w="3240">
            <a:solidFill>
              <a:srgbClr val="649b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NV_4F_PC"/>
          <p:cNvPicPr/>
          <p:nvPr/>
        </p:nvPicPr>
        <p:blipFill>
          <a:blip r:embed="rId2"/>
          <a:stretch/>
        </p:blipFill>
        <p:spPr>
          <a:xfrm>
            <a:off x="576360" y="380880"/>
            <a:ext cx="592200" cy="719280"/>
          </a:xfrm>
          <a:prstGeom prst="rect">
            <a:avLst/>
          </a:prstGeom>
          <a:ln w="0">
            <a:noFill/>
          </a:ln>
        </p:spPr>
      </p:pic>
      <p:sp>
        <p:nvSpPr>
          <p:cNvPr id="6" name="Rectangle 8"/>
          <p:cNvSpPr/>
          <p:nvPr/>
        </p:nvSpPr>
        <p:spPr>
          <a:xfrm>
            <a:off x="189000" y="6299280"/>
            <a:ext cx="8759880" cy="179280"/>
          </a:xfrm>
          <a:prstGeom prst="rect">
            <a:avLst/>
          </a:prstGeom>
          <a:solidFill>
            <a:srgbClr val="649b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1114200" y="2241360"/>
            <a:ext cx="664524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181080">
              <a:spcBef>
                <a:spcPts val="125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20800" indent="-18900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17460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33600" indent="-189000"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533600" indent="-189000"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533600" indent="-189000"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7"/>
          <p:cNvSpPr/>
          <p:nvPr/>
        </p:nvSpPr>
        <p:spPr>
          <a:xfrm>
            <a:off x="189000" y="195120"/>
            <a:ext cx="8759880" cy="6284880"/>
          </a:xfrm>
          <a:prstGeom prst="rect">
            <a:avLst/>
          </a:prstGeom>
          <a:noFill/>
          <a:ln w="3240">
            <a:solidFill>
              <a:srgbClr val="649b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NV_4F_PC"/>
          <p:cNvPicPr/>
          <p:nvPr/>
        </p:nvPicPr>
        <p:blipFill>
          <a:blip r:embed="rId2"/>
          <a:stretch/>
        </p:blipFill>
        <p:spPr>
          <a:xfrm>
            <a:off x="576360" y="380880"/>
            <a:ext cx="592200" cy="7192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"/>
          <p:cNvSpPr/>
          <p:nvPr/>
        </p:nvSpPr>
        <p:spPr>
          <a:xfrm>
            <a:off x="189000" y="6299280"/>
            <a:ext cx="8759880" cy="179280"/>
          </a:xfrm>
          <a:prstGeom prst="rect">
            <a:avLst/>
          </a:prstGeom>
          <a:solidFill>
            <a:srgbClr val="649b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114200" y="2241360"/>
            <a:ext cx="664524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181080">
              <a:spcBef>
                <a:spcPts val="125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20800" indent="-18900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17460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33600" indent="-189000"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533600" indent="-189000"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533600" indent="-189000"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89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313000" y="6462360"/>
            <a:ext cx="446256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Naturvårdsverket | Swedish Environmental Protection Ag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12F3C-0418-4B6E-A23F-DC97B9E51DB7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2960" y="1642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600" spc="-1" strike="noStrike">
                <a:solidFill>
                  <a:srgbClr val="000000"/>
                </a:solidFill>
                <a:latin typeface="Arial"/>
              </a:rPr>
              <a:t>Handling of uncertainty and lack of data in the Swedish classification system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852560" y="4149720"/>
            <a:ext cx="5168880" cy="14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Mikaela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öncz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Swedish Environmental Protection A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Classification work shop Bruss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6 February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56840" y="428760"/>
            <a:ext cx="66452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000000"/>
                </a:solidFill>
                <a:latin typeface="Arial"/>
              </a:rPr>
              <a:t>National regulations on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assification</a:t>
            </a:r>
            <a:r>
              <a:rPr b="1" lang="sv-SE" sz="2200" spc="-1" strike="noStrike">
                <a:solidFill>
                  <a:srgbClr val="000000"/>
                </a:solidFill>
                <a:latin typeface="Arial"/>
              </a:rPr>
              <a:t> and setting of objectives (NFS 2008:1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56760" y="1500120"/>
            <a:ext cx="8472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900" spc="-1" strike="noStrike">
                <a:solidFill>
                  <a:srgbClr val="000000"/>
                </a:solidFill>
                <a:latin typeface="Arial"/>
              </a:rPr>
              <a:t>Use the national assessment methods (included in the regulations as annexes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900" spc="-1" strike="noStrike">
                <a:solidFill>
                  <a:srgbClr val="000000"/>
                </a:solidFill>
                <a:latin typeface="Arial"/>
              </a:rPr>
              <a:t>If not possible due to not enough data or if the water body is not representative for the type – use expert judgement based on available knowledg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49440" indent="-381240">
              <a:spcBef>
                <a:spcPts val="6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900" spc="-1" strike="noStrike">
                <a:solidFill>
                  <a:srgbClr val="000000"/>
                </a:solidFill>
                <a:latin typeface="Arial"/>
              </a:rPr>
              <a:t>Pressure and impact  analysi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49440" indent="-381240">
              <a:spcBef>
                <a:spcPts val="6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900" spc="-1" strike="noStrike">
                <a:solidFill>
                  <a:srgbClr val="000000"/>
                </a:solidFill>
                <a:latin typeface="Arial"/>
              </a:rPr>
              <a:t>Grouping of waterbod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49440" indent="-381240">
              <a:spcBef>
                <a:spcPts val="6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900" spc="-1" strike="noStrike">
                <a:solidFill>
                  <a:srgbClr val="000000"/>
                </a:solidFill>
                <a:latin typeface="Arial"/>
              </a:rPr>
              <a:t>Modell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49440" indent="-381240">
              <a:spcBef>
                <a:spcPts val="6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900" spc="-1" strike="noStrike">
                <a:solidFill>
                  <a:srgbClr val="000000"/>
                </a:solidFill>
                <a:latin typeface="Arial"/>
              </a:rPr>
              <a:t>Documentation! Justify, how and resul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900" spc="-1" strike="noStrike">
                <a:solidFill>
                  <a:srgbClr val="000000"/>
                </a:solidFill>
                <a:latin typeface="Arial"/>
              </a:rPr>
              <a:t>Always</a:t>
            </a:r>
            <a:r>
              <a:rPr b="0" lang="sv-SE" sz="1900" spc="-1" strike="noStrike">
                <a:solidFill>
                  <a:srgbClr val="000000"/>
                </a:solidFill>
                <a:latin typeface="Arial"/>
              </a:rPr>
              <a:t> perform an analysis of reasonableness</a:t>
            </a:r>
            <a:r>
              <a:rPr b="0" i="1" lang="sv-SE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1900" spc="-1" strike="noStrike">
                <a:solidFill>
                  <a:srgbClr val="000000"/>
                </a:solidFill>
                <a:latin typeface="Arial"/>
              </a:rPr>
              <a:t>and uncertaint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900" spc="-1" strike="noStrike">
                <a:solidFill>
                  <a:srgbClr val="000000"/>
                </a:solidFill>
                <a:latin typeface="Arial"/>
              </a:rPr>
              <a:t>- I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 relevant exclude the result of that parameter – use expert judgement instea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56840" y="357120"/>
            <a:ext cx="6645240" cy="7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2000" spc="-1" strike="noStrike">
                <a:solidFill>
                  <a:srgbClr val="000000"/>
                </a:solidFill>
                <a:latin typeface="Arial"/>
              </a:rPr>
              <a:t>Assessment of reasonableness and uncertainty  </a:t>
            </a:r>
            <a:br>
              <a:rPr sz="2000"/>
            </a:br>
            <a:r>
              <a:rPr b="1" i="1" lang="sv-SE" sz="20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i="1" lang="sv-SE" sz="1800" spc="-1" strike="noStrike">
                <a:solidFill>
                  <a:srgbClr val="000000"/>
                </a:solidFill>
                <a:latin typeface="Arial"/>
              </a:rPr>
              <a:t>on parameter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13880" y="1142640"/>
            <a:ext cx="7858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4240" indent="-174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In what ca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240" indent="-174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Considerable deviant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240" indent="-174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Too littl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240" indent="-174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Results differ compared to the Water authority 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240" indent="-174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Results opposite to pressur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240" indent="-174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Very close to the boundary between G/M or H/G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240" indent="-174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the confidence interval is on both sides of the bound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240" indent="-174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240" indent="-174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rove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the assess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240" indent="-174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Pressure today and in the p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240" indent="-174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Look at trends for relevant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240" indent="-174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Complementary monitoring or monitoring of other parameters should be consider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240" indent="-174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240" indent="-1742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6T15:55:14Z</dcterms:created>
  <dc:creator>Mikaela</dc:creator>
  <dc:description/>
  <dc:language>en-US</dc:language>
  <cp:lastModifiedBy>Mikaela</cp:lastModifiedBy>
  <dcterms:modified xsi:type="dcterms:W3CDTF">2008-03-05T22:13:56Z</dcterms:modified>
  <cp:revision>26</cp:revision>
  <dc:subject/>
  <dc:title>Bild 1</dc:title>
</cp:coreProperties>
</file>