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1458-9151-4745-8561-831C97C4AB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For hydrological impacts, if the year or years for which monitoring data area available are atypically wet years, impacts will not be ident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9013-3DCC-4985-AAF3-0473F23B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BBD-911A-4CF2-9896-AFBF31B6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F6E6-8CF3-415C-A80B-D778B6E9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4B4-AB5F-4B37-AEB6-9A396730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2B55-AD11-429B-B55F-71965FB3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8799-F7DB-46A4-B3B0-E4E7D934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D2B-4B6D-495C-940E-53E39025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56C9-FB4F-43A2-AE0B-0B7259CB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CED9-F56E-4A4E-ACFE-883F6BE4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89E4-2922-4C69-B976-B564A899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FA8-9EEF-4596-9622-625FCA19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85C-1FF8-4D74-85DA-FBA7C3B2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3297-B353-4118-B863-32D483B7E3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42920" y="620640"/>
            <a:ext cx="7272360" cy="5113440"/>
            <a:chOff x="1042920" y="620640"/>
            <a:chExt cx="7272360" cy="5113440"/>
          </a:xfrm>
        </p:grpSpPr>
        <p:sp>
          <p:nvSpPr>
            <p:cNvPr id="49" name=""/>
            <p:cNvSpPr/>
            <p:nvPr/>
          </p:nvSpPr>
          <p:spPr>
            <a:xfrm>
              <a:off x="1042920" y="620640"/>
              <a:ext cx="7272360" cy="5113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38200" y="981000"/>
              <a:ext cx="648036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cc00"/>
                  </a:solidFill>
                  <a:latin typeface="Arial"/>
                </a:rPr>
                <a:t>Meeting the challenge of classification for the first river basin management plan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08760" y="4624200"/>
              <a:ext cx="454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Richard Hemsworth, U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38080" y="1765440"/>
            <a:ext cx="8102880" cy="3746520"/>
          </a:xfrm>
          <a:custGeom>
            <a:avLst/>
            <a:gdLst/>
            <a:ahLst/>
            <a:rect l="l" t="t" r="r" b="b"/>
            <a:pathLst>
              <a:path w="5104" h="2360">
                <a:moveTo>
                  <a:pt x="0" y="128"/>
                </a:moveTo>
                <a:cubicBezTo>
                  <a:pt x="91" y="37"/>
                  <a:pt x="220" y="11"/>
                  <a:pt x="344" y="0"/>
                </a:cubicBezTo>
                <a:cubicBezTo>
                  <a:pt x="416" y="6"/>
                  <a:pt x="449" y="11"/>
                  <a:pt x="512" y="24"/>
                </a:cubicBezTo>
                <a:cubicBezTo>
                  <a:pt x="559" y="47"/>
                  <a:pt x="611" y="60"/>
                  <a:pt x="656" y="88"/>
                </a:cubicBezTo>
                <a:cubicBezTo>
                  <a:pt x="720" y="127"/>
                  <a:pt x="766" y="186"/>
                  <a:pt x="824" y="232"/>
                </a:cubicBezTo>
                <a:cubicBezTo>
                  <a:pt x="838" y="260"/>
                  <a:pt x="923" y="365"/>
                  <a:pt x="952" y="384"/>
                </a:cubicBezTo>
                <a:cubicBezTo>
                  <a:pt x="977" y="433"/>
                  <a:pt x="958" y="409"/>
                  <a:pt x="1016" y="448"/>
                </a:cubicBezTo>
                <a:cubicBezTo>
                  <a:pt x="1027" y="455"/>
                  <a:pt x="1031" y="470"/>
                  <a:pt x="1040" y="480"/>
                </a:cubicBezTo>
                <a:cubicBezTo>
                  <a:pt x="1075" y="519"/>
                  <a:pt x="1119" y="560"/>
                  <a:pt x="1160" y="592"/>
                </a:cubicBezTo>
                <a:cubicBezTo>
                  <a:pt x="1280" y="685"/>
                  <a:pt x="1356" y="705"/>
                  <a:pt x="1496" y="752"/>
                </a:cubicBezTo>
                <a:cubicBezTo>
                  <a:pt x="1572" y="777"/>
                  <a:pt x="1656" y="757"/>
                  <a:pt x="1736" y="760"/>
                </a:cubicBezTo>
                <a:cubicBezTo>
                  <a:pt x="1987" y="783"/>
                  <a:pt x="1853" y="772"/>
                  <a:pt x="2136" y="792"/>
                </a:cubicBezTo>
                <a:cubicBezTo>
                  <a:pt x="2173" y="795"/>
                  <a:pt x="2248" y="800"/>
                  <a:pt x="2248" y="800"/>
                </a:cubicBezTo>
                <a:cubicBezTo>
                  <a:pt x="2352" y="821"/>
                  <a:pt x="2457" y="838"/>
                  <a:pt x="2560" y="864"/>
                </a:cubicBezTo>
                <a:cubicBezTo>
                  <a:pt x="2586" y="871"/>
                  <a:pt x="2615" y="870"/>
                  <a:pt x="2640" y="880"/>
                </a:cubicBezTo>
                <a:cubicBezTo>
                  <a:pt x="2770" y="932"/>
                  <a:pt x="2899" y="985"/>
                  <a:pt x="3024" y="1048"/>
                </a:cubicBezTo>
                <a:cubicBezTo>
                  <a:pt x="3097" y="1084"/>
                  <a:pt x="3166" y="1138"/>
                  <a:pt x="3232" y="1184"/>
                </a:cubicBezTo>
                <a:cubicBezTo>
                  <a:pt x="3316" y="1242"/>
                  <a:pt x="3406" y="1291"/>
                  <a:pt x="3488" y="1352"/>
                </a:cubicBezTo>
                <a:cubicBezTo>
                  <a:pt x="3540" y="1391"/>
                  <a:pt x="3588" y="1442"/>
                  <a:pt x="3640" y="1480"/>
                </a:cubicBezTo>
                <a:cubicBezTo>
                  <a:pt x="3710" y="1531"/>
                  <a:pt x="3786" y="1573"/>
                  <a:pt x="3856" y="1624"/>
                </a:cubicBezTo>
                <a:cubicBezTo>
                  <a:pt x="3896" y="1653"/>
                  <a:pt x="3926" y="1693"/>
                  <a:pt x="3968" y="1720"/>
                </a:cubicBezTo>
                <a:cubicBezTo>
                  <a:pt x="4045" y="1769"/>
                  <a:pt x="3988" y="1719"/>
                  <a:pt x="4056" y="1768"/>
                </a:cubicBezTo>
                <a:cubicBezTo>
                  <a:pt x="4125" y="1817"/>
                  <a:pt x="4191" y="1869"/>
                  <a:pt x="4264" y="1912"/>
                </a:cubicBezTo>
                <a:cubicBezTo>
                  <a:pt x="4529" y="2066"/>
                  <a:pt x="4885" y="2141"/>
                  <a:pt x="5104" y="2360"/>
                </a:cubicBezTo>
              </a:path>
            </a:pathLst>
          </a:custGeom>
          <a:noFill/>
          <a:ln w="5079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7240" y="338040"/>
            <a:ext cx="1508400" cy="339840"/>
          </a:xfrm>
          <a:prstGeom prst="triangle">
            <a:avLst>
              <a:gd name="adj" fmla="val 4999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51040" y="663480"/>
            <a:ext cx="88920" cy="75744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33560" y="677880"/>
            <a:ext cx="87480" cy="75564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4880" y="758880"/>
            <a:ext cx="1241280" cy="651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25600" y="749160"/>
            <a:ext cx="7920" cy="277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1120" y="758880"/>
            <a:ext cx="74520" cy="25560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2920" y="950760"/>
            <a:ext cx="326880" cy="637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80960" y="758880"/>
            <a:ext cx="20880" cy="61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5240" y="758880"/>
            <a:ext cx="23760" cy="651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6040" y="1638360"/>
            <a:ext cx="700200" cy="3251160"/>
          </a:xfrm>
          <a:custGeom>
            <a:avLst/>
            <a:gdLst/>
            <a:ahLst/>
            <a:rect l="l" t="t" r="r" b="b"/>
            <a:pathLst>
              <a:path w="441" h="2048">
                <a:moveTo>
                  <a:pt x="121" y="0"/>
                </a:moveTo>
                <a:cubicBezTo>
                  <a:pt x="75" y="12"/>
                  <a:pt x="73" y="32"/>
                  <a:pt x="41" y="64"/>
                </a:cubicBezTo>
                <a:cubicBezTo>
                  <a:pt x="0" y="166"/>
                  <a:pt x="12" y="115"/>
                  <a:pt x="1" y="216"/>
                </a:cubicBezTo>
                <a:cubicBezTo>
                  <a:pt x="9" y="329"/>
                  <a:pt x="26" y="433"/>
                  <a:pt x="105" y="520"/>
                </a:cubicBezTo>
                <a:cubicBezTo>
                  <a:pt x="219" y="646"/>
                  <a:pt x="374" y="680"/>
                  <a:pt x="441" y="848"/>
                </a:cubicBezTo>
                <a:cubicBezTo>
                  <a:pt x="438" y="899"/>
                  <a:pt x="439" y="950"/>
                  <a:pt x="433" y="1000"/>
                </a:cubicBezTo>
                <a:cubicBezTo>
                  <a:pt x="427" y="1054"/>
                  <a:pt x="387" y="1095"/>
                  <a:pt x="369" y="1144"/>
                </a:cubicBezTo>
                <a:cubicBezTo>
                  <a:pt x="328" y="1254"/>
                  <a:pt x="254" y="1348"/>
                  <a:pt x="225" y="1464"/>
                </a:cubicBezTo>
                <a:cubicBezTo>
                  <a:pt x="209" y="1606"/>
                  <a:pt x="202" y="1639"/>
                  <a:pt x="225" y="1840"/>
                </a:cubicBezTo>
                <a:cubicBezTo>
                  <a:pt x="227" y="1859"/>
                  <a:pt x="257" y="1888"/>
                  <a:pt x="257" y="1888"/>
                </a:cubicBezTo>
                <a:cubicBezTo>
                  <a:pt x="260" y="1912"/>
                  <a:pt x="260" y="1936"/>
                  <a:pt x="265" y="1960"/>
                </a:cubicBezTo>
                <a:cubicBezTo>
                  <a:pt x="271" y="1992"/>
                  <a:pt x="289" y="2016"/>
                  <a:pt x="289" y="2048"/>
                </a:cubicBezTo>
              </a:path>
            </a:pathLst>
          </a:custGeom>
          <a:noFill/>
          <a:ln w="3808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34960" y="101916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89160" y="1015920"/>
            <a:ext cx="380520" cy="416160"/>
            <a:chOff x="1289160" y="1015920"/>
            <a:chExt cx="380520" cy="416160"/>
          </a:xfrm>
        </p:grpSpPr>
        <p:sp>
          <p:nvSpPr>
            <p:cNvPr id="124" name=""/>
            <p:cNvSpPr/>
            <p:nvPr/>
          </p:nvSpPr>
          <p:spPr>
            <a:xfrm>
              <a:off x="1352520" y="1025640"/>
              <a:ext cx="17460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289160" y="1015920"/>
              <a:ext cx="380520" cy="359280"/>
              <a:chOff x="1289160" y="1015920"/>
              <a:chExt cx="380520" cy="359280"/>
            </a:xfrm>
          </p:grpSpPr>
          <p:sp>
            <p:nvSpPr>
              <p:cNvPr id="126" name=""/>
              <p:cNvSpPr/>
              <p:nvPr/>
            </p:nvSpPr>
            <p:spPr>
              <a:xfrm flipH="1" flipV="1" rot="10800000">
                <a:off x="1289880" y="1163520"/>
                <a:ext cx="376920" cy="211320"/>
              </a:xfrm>
              <a:custGeom>
                <a:avLst/>
                <a:gdLst>
                  <a:gd name="textAreaLeft" fmla="*/ 82800 w 376920"/>
                  <a:gd name="textAreaRight" fmla="*/ 294120 w 376920"/>
                  <a:gd name="textAreaTop" fmla="*/ 46440 h 211320"/>
                  <a:gd name="textAreaBottom" fmla="*/ 164880 h 21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89160" y="1015920"/>
                <a:ext cx="380520" cy="144000"/>
              </a:xfrm>
              <a:custGeom>
                <a:avLst/>
                <a:gdLst/>
                <a:ahLst/>
                <a:rect l="l" t="t" r="r" b="b"/>
                <a:pathLst>
                  <a:path w="186" h="80">
                    <a:moveTo>
                      <a:pt x="0" y="78"/>
                    </a:moveTo>
                    <a:cubicBezTo>
                      <a:pt x="21" y="39"/>
                      <a:pt x="43" y="0"/>
                      <a:pt x="74" y="0"/>
                    </a:cubicBezTo>
                    <a:cubicBezTo>
                      <a:pt x="105" y="0"/>
                      <a:pt x="167" y="67"/>
                      <a:pt x="186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 rot="21403200">
            <a:off x="1477800" y="1484280"/>
            <a:ext cx="6262920" cy="3456000"/>
          </a:xfrm>
          <a:custGeom>
            <a:avLst/>
            <a:gdLst/>
            <a:ahLst/>
            <a:rect l="l" t="t" r="r" b="b"/>
            <a:pathLst>
              <a:path w="3696" h="1690">
                <a:moveTo>
                  <a:pt x="0" y="0"/>
                </a:moveTo>
                <a:cubicBezTo>
                  <a:pt x="61" y="3"/>
                  <a:pt x="123" y="1"/>
                  <a:pt x="184" y="8"/>
                </a:cubicBezTo>
                <a:cubicBezTo>
                  <a:pt x="209" y="11"/>
                  <a:pt x="222" y="54"/>
                  <a:pt x="232" y="72"/>
                </a:cubicBezTo>
                <a:cubicBezTo>
                  <a:pt x="263" y="126"/>
                  <a:pt x="262" y="162"/>
                  <a:pt x="320" y="200"/>
                </a:cubicBezTo>
                <a:cubicBezTo>
                  <a:pt x="323" y="208"/>
                  <a:pt x="323" y="217"/>
                  <a:pt x="328" y="224"/>
                </a:cubicBezTo>
                <a:cubicBezTo>
                  <a:pt x="334" y="232"/>
                  <a:pt x="347" y="232"/>
                  <a:pt x="352" y="240"/>
                </a:cubicBezTo>
                <a:cubicBezTo>
                  <a:pt x="352" y="240"/>
                  <a:pt x="372" y="300"/>
                  <a:pt x="376" y="312"/>
                </a:cubicBezTo>
                <a:cubicBezTo>
                  <a:pt x="384" y="337"/>
                  <a:pt x="448" y="344"/>
                  <a:pt x="448" y="344"/>
                </a:cubicBezTo>
                <a:cubicBezTo>
                  <a:pt x="491" y="408"/>
                  <a:pt x="435" y="331"/>
                  <a:pt x="488" y="384"/>
                </a:cubicBezTo>
                <a:cubicBezTo>
                  <a:pt x="519" y="415"/>
                  <a:pt x="532" y="441"/>
                  <a:pt x="576" y="456"/>
                </a:cubicBezTo>
                <a:cubicBezTo>
                  <a:pt x="587" y="472"/>
                  <a:pt x="597" y="488"/>
                  <a:pt x="608" y="504"/>
                </a:cubicBezTo>
                <a:cubicBezTo>
                  <a:pt x="635" y="545"/>
                  <a:pt x="604" y="554"/>
                  <a:pt x="648" y="560"/>
                </a:cubicBezTo>
                <a:cubicBezTo>
                  <a:pt x="680" y="564"/>
                  <a:pt x="712" y="565"/>
                  <a:pt x="744" y="568"/>
                </a:cubicBezTo>
                <a:cubicBezTo>
                  <a:pt x="817" y="586"/>
                  <a:pt x="790" y="572"/>
                  <a:pt x="832" y="600"/>
                </a:cubicBezTo>
                <a:cubicBezTo>
                  <a:pt x="880" y="672"/>
                  <a:pt x="914" y="657"/>
                  <a:pt x="1008" y="664"/>
                </a:cubicBezTo>
                <a:cubicBezTo>
                  <a:pt x="1074" y="686"/>
                  <a:pt x="1135" y="722"/>
                  <a:pt x="1200" y="744"/>
                </a:cubicBezTo>
                <a:cubicBezTo>
                  <a:pt x="1394" y="737"/>
                  <a:pt x="1568" y="752"/>
                  <a:pt x="1760" y="760"/>
                </a:cubicBezTo>
                <a:cubicBezTo>
                  <a:pt x="1861" y="794"/>
                  <a:pt x="1791" y="775"/>
                  <a:pt x="1976" y="784"/>
                </a:cubicBezTo>
                <a:cubicBezTo>
                  <a:pt x="2062" y="813"/>
                  <a:pt x="1988" y="805"/>
                  <a:pt x="2136" y="816"/>
                </a:cubicBezTo>
                <a:cubicBezTo>
                  <a:pt x="2167" y="826"/>
                  <a:pt x="2179" y="851"/>
                  <a:pt x="2208" y="864"/>
                </a:cubicBezTo>
                <a:cubicBezTo>
                  <a:pt x="2244" y="879"/>
                  <a:pt x="2233" y="864"/>
                  <a:pt x="2264" y="880"/>
                </a:cubicBezTo>
                <a:cubicBezTo>
                  <a:pt x="2326" y="911"/>
                  <a:pt x="2252" y="884"/>
                  <a:pt x="2312" y="904"/>
                </a:cubicBezTo>
                <a:cubicBezTo>
                  <a:pt x="2336" y="940"/>
                  <a:pt x="2346" y="925"/>
                  <a:pt x="2376" y="952"/>
                </a:cubicBezTo>
                <a:cubicBezTo>
                  <a:pt x="2401" y="975"/>
                  <a:pt x="2420" y="1005"/>
                  <a:pt x="2448" y="1024"/>
                </a:cubicBezTo>
                <a:cubicBezTo>
                  <a:pt x="2464" y="1035"/>
                  <a:pt x="2480" y="1045"/>
                  <a:pt x="2496" y="1056"/>
                </a:cubicBezTo>
                <a:cubicBezTo>
                  <a:pt x="2504" y="1061"/>
                  <a:pt x="2520" y="1072"/>
                  <a:pt x="2520" y="1072"/>
                </a:cubicBezTo>
                <a:cubicBezTo>
                  <a:pt x="2539" y="1100"/>
                  <a:pt x="2544" y="1115"/>
                  <a:pt x="2584" y="1128"/>
                </a:cubicBezTo>
                <a:cubicBezTo>
                  <a:pt x="2600" y="1133"/>
                  <a:pt x="2616" y="1139"/>
                  <a:pt x="2632" y="1144"/>
                </a:cubicBezTo>
                <a:cubicBezTo>
                  <a:pt x="2640" y="1147"/>
                  <a:pt x="2656" y="1152"/>
                  <a:pt x="2656" y="1152"/>
                </a:cubicBezTo>
                <a:cubicBezTo>
                  <a:pt x="2733" y="1229"/>
                  <a:pt x="2635" y="1138"/>
                  <a:pt x="2704" y="1184"/>
                </a:cubicBezTo>
                <a:cubicBezTo>
                  <a:pt x="2764" y="1224"/>
                  <a:pt x="2695" y="1197"/>
                  <a:pt x="2752" y="1216"/>
                </a:cubicBezTo>
                <a:cubicBezTo>
                  <a:pt x="2798" y="1262"/>
                  <a:pt x="2855" y="1284"/>
                  <a:pt x="2912" y="1312"/>
                </a:cubicBezTo>
                <a:cubicBezTo>
                  <a:pt x="2947" y="1329"/>
                  <a:pt x="2924" y="1328"/>
                  <a:pt x="2960" y="1336"/>
                </a:cubicBezTo>
                <a:cubicBezTo>
                  <a:pt x="3001" y="1345"/>
                  <a:pt x="3050" y="1349"/>
                  <a:pt x="3088" y="1368"/>
                </a:cubicBezTo>
                <a:cubicBezTo>
                  <a:pt x="3151" y="1399"/>
                  <a:pt x="3197" y="1458"/>
                  <a:pt x="3264" y="1480"/>
                </a:cubicBezTo>
                <a:cubicBezTo>
                  <a:pt x="3314" y="1530"/>
                  <a:pt x="3375" y="1538"/>
                  <a:pt x="3440" y="1560"/>
                </a:cubicBezTo>
                <a:cubicBezTo>
                  <a:pt x="3457" y="1566"/>
                  <a:pt x="3471" y="1578"/>
                  <a:pt x="3488" y="1584"/>
                </a:cubicBezTo>
                <a:cubicBezTo>
                  <a:pt x="3505" y="1601"/>
                  <a:pt x="3537" y="1654"/>
                  <a:pt x="3552" y="1664"/>
                </a:cubicBezTo>
                <a:cubicBezTo>
                  <a:pt x="3594" y="1690"/>
                  <a:pt x="3653" y="1680"/>
                  <a:pt x="3696" y="1680"/>
                </a:cubicBezTo>
              </a:path>
            </a:pathLst>
          </a:custGeom>
          <a:noFill/>
          <a:ln w="3808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4640" y="1419120"/>
            <a:ext cx="1577880" cy="455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64184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the flow standards for poor/bad are failed, the river will dry for a period in most yea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36360" y="-243000"/>
            <a:ext cx="9288360" cy="734400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-262080" y="2475000"/>
            <a:ext cx="9479160" cy="4797360"/>
            <a:chOff x="-262080" y="2475000"/>
            <a:chExt cx="9479160" cy="4797360"/>
          </a:xfrm>
        </p:grpSpPr>
        <p:sp>
          <p:nvSpPr>
            <p:cNvPr id="133" name=""/>
            <p:cNvSpPr/>
            <p:nvPr/>
          </p:nvSpPr>
          <p:spPr>
            <a:xfrm>
              <a:off x="-262080" y="2475000"/>
              <a:ext cx="9479160" cy="4797360"/>
            </a:xfrm>
            <a:custGeom>
              <a:avLst/>
              <a:gdLst/>
              <a:ahLst/>
              <a:rect l="l" t="t" r="r" b="b"/>
              <a:pathLst>
                <a:path w="5971" h="3022">
                  <a:moveTo>
                    <a:pt x="2780" y="151"/>
                  </a:moveTo>
                  <a:cubicBezTo>
                    <a:pt x="2771" y="213"/>
                    <a:pt x="2748" y="265"/>
                    <a:pt x="2734" y="324"/>
                  </a:cubicBezTo>
                  <a:cubicBezTo>
                    <a:pt x="2725" y="361"/>
                    <a:pt x="2719" y="398"/>
                    <a:pt x="2707" y="434"/>
                  </a:cubicBezTo>
                  <a:cubicBezTo>
                    <a:pt x="2704" y="474"/>
                    <a:pt x="2705" y="514"/>
                    <a:pt x="2698" y="553"/>
                  </a:cubicBezTo>
                  <a:cubicBezTo>
                    <a:pt x="2696" y="564"/>
                    <a:pt x="2684" y="570"/>
                    <a:pt x="2679" y="580"/>
                  </a:cubicBezTo>
                  <a:cubicBezTo>
                    <a:pt x="2611" y="730"/>
                    <a:pt x="2723" y="538"/>
                    <a:pt x="2615" y="681"/>
                  </a:cubicBezTo>
                  <a:cubicBezTo>
                    <a:pt x="2583" y="723"/>
                    <a:pt x="2553" y="771"/>
                    <a:pt x="2515" y="809"/>
                  </a:cubicBezTo>
                  <a:cubicBezTo>
                    <a:pt x="2497" y="884"/>
                    <a:pt x="2439" y="900"/>
                    <a:pt x="2378" y="937"/>
                  </a:cubicBezTo>
                  <a:cubicBezTo>
                    <a:pt x="2328" y="967"/>
                    <a:pt x="2296" y="987"/>
                    <a:pt x="2240" y="1001"/>
                  </a:cubicBezTo>
                  <a:cubicBezTo>
                    <a:pt x="2197" y="1023"/>
                    <a:pt x="2158" y="1048"/>
                    <a:pt x="2112" y="1065"/>
                  </a:cubicBezTo>
                  <a:cubicBezTo>
                    <a:pt x="2055" y="1086"/>
                    <a:pt x="1994" y="1092"/>
                    <a:pt x="1948" y="1138"/>
                  </a:cubicBezTo>
                  <a:cubicBezTo>
                    <a:pt x="1910" y="1176"/>
                    <a:pt x="1895" y="1220"/>
                    <a:pt x="1856" y="1257"/>
                  </a:cubicBezTo>
                  <a:cubicBezTo>
                    <a:pt x="1834" y="1322"/>
                    <a:pt x="1785" y="1359"/>
                    <a:pt x="1747" y="1412"/>
                  </a:cubicBezTo>
                  <a:cubicBezTo>
                    <a:pt x="1739" y="1423"/>
                    <a:pt x="1737" y="1439"/>
                    <a:pt x="1728" y="1449"/>
                  </a:cubicBezTo>
                  <a:cubicBezTo>
                    <a:pt x="1707" y="1474"/>
                    <a:pt x="1626" y="1534"/>
                    <a:pt x="1591" y="1550"/>
                  </a:cubicBezTo>
                  <a:cubicBezTo>
                    <a:pt x="1548" y="1570"/>
                    <a:pt x="1498" y="1577"/>
                    <a:pt x="1454" y="1595"/>
                  </a:cubicBezTo>
                  <a:cubicBezTo>
                    <a:pt x="1399" y="1618"/>
                    <a:pt x="1338" y="1648"/>
                    <a:pt x="1280" y="1659"/>
                  </a:cubicBezTo>
                  <a:cubicBezTo>
                    <a:pt x="1244" y="1684"/>
                    <a:pt x="1204" y="1709"/>
                    <a:pt x="1162" y="1723"/>
                  </a:cubicBezTo>
                  <a:cubicBezTo>
                    <a:pt x="1131" y="1744"/>
                    <a:pt x="1106" y="1766"/>
                    <a:pt x="1070" y="1778"/>
                  </a:cubicBezTo>
                  <a:cubicBezTo>
                    <a:pt x="1032" y="1808"/>
                    <a:pt x="997" y="1836"/>
                    <a:pt x="951" y="1851"/>
                  </a:cubicBezTo>
                  <a:cubicBezTo>
                    <a:pt x="882" y="1900"/>
                    <a:pt x="965" y="1845"/>
                    <a:pt x="896" y="1879"/>
                  </a:cubicBezTo>
                  <a:cubicBezTo>
                    <a:pt x="840" y="1906"/>
                    <a:pt x="788" y="1943"/>
                    <a:pt x="732" y="1970"/>
                  </a:cubicBezTo>
                  <a:cubicBezTo>
                    <a:pt x="690" y="1991"/>
                    <a:pt x="717" y="1982"/>
                    <a:pt x="686" y="2007"/>
                  </a:cubicBezTo>
                  <a:cubicBezTo>
                    <a:pt x="657" y="2031"/>
                    <a:pt x="621" y="2049"/>
                    <a:pt x="586" y="2062"/>
                  </a:cubicBezTo>
                  <a:cubicBezTo>
                    <a:pt x="529" y="2116"/>
                    <a:pt x="457" y="2145"/>
                    <a:pt x="394" y="2190"/>
                  </a:cubicBezTo>
                  <a:cubicBezTo>
                    <a:pt x="336" y="2231"/>
                    <a:pt x="275" y="2276"/>
                    <a:pt x="211" y="2308"/>
                  </a:cubicBezTo>
                  <a:cubicBezTo>
                    <a:pt x="194" y="2360"/>
                    <a:pt x="146" y="2397"/>
                    <a:pt x="101" y="2427"/>
                  </a:cubicBezTo>
                  <a:cubicBezTo>
                    <a:pt x="84" y="2454"/>
                    <a:pt x="78" y="2478"/>
                    <a:pt x="55" y="2500"/>
                  </a:cubicBezTo>
                  <a:cubicBezTo>
                    <a:pt x="34" y="2542"/>
                    <a:pt x="22" y="2586"/>
                    <a:pt x="0" y="2628"/>
                  </a:cubicBezTo>
                  <a:cubicBezTo>
                    <a:pt x="6" y="2646"/>
                    <a:pt x="9" y="2667"/>
                    <a:pt x="19" y="2683"/>
                  </a:cubicBezTo>
                  <a:cubicBezTo>
                    <a:pt x="25" y="2692"/>
                    <a:pt x="38" y="2695"/>
                    <a:pt x="46" y="2702"/>
                  </a:cubicBezTo>
                  <a:cubicBezTo>
                    <a:pt x="108" y="2754"/>
                    <a:pt x="175" y="2766"/>
                    <a:pt x="247" y="2793"/>
                  </a:cubicBezTo>
                  <a:cubicBezTo>
                    <a:pt x="316" y="2819"/>
                    <a:pt x="365" y="2860"/>
                    <a:pt x="439" y="2875"/>
                  </a:cubicBezTo>
                  <a:cubicBezTo>
                    <a:pt x="568" y="2941"/>
                    <a:pt x="729" y="2925"/>
                    <a:pt x="869" y="2939"/>
                  </a:cubicBezTo>
                  <a:cubicBezTo>
                    <a:pt x="1095" y="2961"/>
                    <a:pt x="1318" y="2984"/>
                    <a:pt x="1546" y="2994"/>
                  </a:cubicBezTo>
                  <a:cubicBezTo>
                    <a:pt x="1716" y="3011"/>
                    <a:pt x="1887" y="3016"/>
                    <a:pt x="2058" y="3022"/>
                  </a:cubicBezTo>
                  <a:cubicBezTo>
                    <a:pt x="2294" y="3016"/>
                    <a:pt x="2483" y="3001"/>
                    <a:pt x="2707" y="2985"/>
                  </a:cubicBezTo>
                  <a:cubicBezTo>
                    <a:pt x="2840" y="2963"/>
                    <a:pt x="2974" y="2958"/>
                    <a:pt x="3109" y="2948"/>
                  </a:cubicBezTo>
                  <a:cubicBezTo>
                    <a:pt x="3170" y="2971"/>
                    <a:pt x="3095" y="2948"/>
                    <a:pt x="3191" y="2948"/>
                  </a:cubicBezTo>
                  <a:cubicBezTo>
                    <a:pt x="3456" y="2948"/>
                    <a:pt x="3722" y="2955"/>
                    <a:pt x="3987" y="2958"/>
                  </a:cubicBezTo>
                  <a:cubicBezTo>
                    <a:pt x="4516" y="2950"/>
                    <a:pt x="5039" y="2958"/>
                    <a:pt x="5568" y="2967"/>
                  </a:cubicBezTo>
                  <a:cubicBezTo>
                    <a:pt x="5730" y="2962"/>
                    <a:pt x="5830" y="2964"/>
                    <a:pt x="5971" y="2930"/>
                  </a:cubicBezTo>
                  <a:cubicBezTo>
                    <a:pt x="5953" y="2857"/>
                    <a:pt x="5946" y="2853"/>
                    <a:pt x="5888" y="2802"/>
                  </a:cubicBezTo>
                  <a:cubicBezTo>
                    <a:pt x="5847" y="2766"/>
                    <a:pt x="5879" y="2781"/>
                    <a:pt x="5834" y="2766"/>
                  </a:cubicBezTo>
                  <a:cubicBezTo>
                    <a:pt x="5802" y="2734"/>
                    <a:pt x="5767" y="2713"/>
                    <a:pt x="5733" y="2683"/>
                  </a:cubicBezTo>
                  <a:cubicBezTo>
                    <a:pt x="5696" y="2650"/>
                    <a:pt x="5672" y="2621"/>
                    <a:pt x="5632" y="2592"/>
                  </a:cubicBezTo>
                  <a:cubicBezTo>
                    <a:pt x="5604" y="2548"/>
                    <a:pt x="5553" y="2508"/>
                    <a:pt x="5514" y="2473"/>
                  </a:cubicBezTo>
                  <a:cubicBezTo>
                    <a:pt x="5433" y="2400"/>
                    <a:pt x="5354" y="2331"/>
                    <a:pt x="5267" y="2263"/>
                  </a:cubicBezTo>
                  <a:cubicBezTo>
                    <a:pt x="5256" y="2254"/>
                    <a:pt x="5241" y="2252"/>
                    <a:pt x="5230" y="2244"/>
                  </a:cubicBezTo>
                  <a:cubicBezTo>
                    <a:pt x="5169" y="2200"/>
                    <a:pt x="5116" y="2143"/>
                    <a:pt x="5056" y="2098"/>
                  </a:cubicBezTo>
                  <a:cubicBezTo>
                    <a:pt x="4977" y="2040"/>
                    <a:pt x="5024" y="2084"/>
                    <a:pt x="4983" y="2043"/>
                  </a:cubicBezTo>
                  <a:cubicBezTo>
                    <a:pt x="4960" y="1973"/>
                    <a:pt x="4910" y="1915"/>
                    <a:pt x="4864" y="1860"/>
                  </a:cubicBezTo>
                  <a:cubicBezTo>
                    <a:pt x="4826" y="1815"/>
                    <a:pt x="4855" y="1830"/>
                    <a:pt x="4810" y="1815"/>
                  </a:cubicBezTo>
                  <a:cubicBezTo>
                    <a:pt x="4760" y="1765"/>
                    <a:pt x="4650" y="1710"/>
                    <a:pt x="4581" y="1687"/>
                  </a:cubicBezTo>
                  <a:cubicBezTo>
                    <a:pt x="4542" y="1646"/>
                    <a:pt x="4480" y="1624"/>
                    <a:pt x="4426" y="1604"/>
                  </a:cubicBezTo>
                  <a:cubicBezTo>
                    <a:pt x="4408" y="1597"/>
                    <a:pt x="4371" y="1586"/>
                    <a:pt x="4371" y="1586"/>
                  </a:cubicBezTo>
                  <a:cubicBezTo>
                    <a:pt x="4343" y="1560"/>
                    <a:pt x="4312" y="1557"/>
                    <a:pt x="4279" y="1540"/>
                  </a:cubicBezTo>
                  <a:cubicBezTo>
                    <a:pt x="4247" y="1524"/>
                    <a:pt x="4232" y="1498"/>
                    <a:pt x="4197" y="1486"/>
                  </a:cubicBezTo>
                  <a:cubicBezTo>
                    <a:pt x="4144" y="1431"/>
                    <a:pt x="4068" y="1382"/>
                    <a:pt x="3996" y="1358"/>
                  </a:cubicBezTo>
                  <a:cubicBezTo>
                    <a:pt x="3964" y="1326"/>
                    <a:pt x="3947" y="1329"/>
                    <a:pt x="3914" y="1303"/>
                  </a:cubicBezTo>
                  <a:cubicBezTo>
                    <a:pt x="3849" y="1251"/>
                    <a:pt x="3948" y="1319"/>
                    <a:pt x="3868" y="1266"/>
                  </a:cubicBezTo>
                  <a:cubicBezTo>
                    <a:pt x="3848" y="1206"/>
                    <a:pt x="3876" y="1271"/>
                    <a:pt x="3831" y="1220"/>
                  </a:cubicBezTo>
                  <a:cubicBezTo>
                    <a:pt x="3811" y="1197"/>
                    <a:pt x="3794" y="1171"/>
                    <a:pt x="3776" y="1147"/>
                  </a:cubicBezTo>
                  <a:cubicBezTo>
                    <a:pt x="3750" y="1112"/>
                    <a:pt x="3735" y="1072"/>
                    <a:pt x="3712" y="1038"/>
                  </a:cubicBezTo>
                  <a:cubicBezTo>
                    <a:pt x="3705" y="1027"/>
                    <a:pt x="3692" y="1021"/>
                    <a:pt x="3685" y="1010"/>
                  </a:cubicBezTo>
                  <a:cubicBezTo>
                    <a:pt x="3655" y="967"/>
                    <a:pt x="3653" y="912"/>
                    <a:pt x="3639" y="864"/>
                  </a:cubicBezTo>
                  <a:cubicBezTo>
                    <a:pt x="3604" y="746"/>
                    <a:pt x="3542" y="625"/>
                    <a:pt x="3420" y="580"/>
                  </a:cubicBezTo>
                  <a:cubicBezTo>
                    <a:pt x="3400" y="561"/>
                    <a:pt x="3371" y="550"/>
                    <a:pt x="3356" y="526"/>
                  </a:cubicBezTo>
                  <a:cubicBezTo>
                    <a:pt x="3348" y="513"/>
                    <a:pt x="3351" y="495"/>
                    <a:pt x="3347" y="480"/>
                  </a:cubicBezTo>
                  <a:cubicBezTo>
                    <a:pt x="3340" y="452"/>
                    <a:pt x="3327" y="426"/>
                    <a:pt x="3319" y="398"/>
                  </a:cubicBezTo>
                  <a:cubicBezTo>
                    <a:pt x="3301" y="333"/>
                    <a:pt x="3301" y="257"/>
                    <a:pt x="3228" y="233"/>
                  </a:cubicBezTo>
                  <a:cubicBezTo>
                    <a:pt x="3184" y="204"/>
                    <a:pt x="3166" y="172"/>
                    <a:pt x="3118" y="160"/>
                  </a:cubicBezTo>
                  <a:cubicBezTo>
                    <a:pt x="3079" y="130"/>
                    <a:pt x="3042" y="93"/>
                    <a:pt x="2999" y="68"/>
                  </a:cubicBezTo>
                  <a:cubicBezTo>
                    <a:pt x="2945" y="37"/>
                    <a:pt x="2884" y="25"/>
                    <a:pt x="2826" y="4"/>
                  </a:cubicBezTo>
                  <a:cubicBezTo>
                    <a:pt x="2770" y="19"/>
                    <a:pt x="2801" y="0"/>
                    <a:pt x="2780" y="41"/>
                  </a:cubicBezTo>
                  <a:cubicBezTo>
                    <a:pt x="2749" y="103"/>
                    <a:pt x="2753" y="27"/>
                    <a:pt x="2780" y="151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4404240" y="3762000"/>
              <a:ext cx="1177560" cy="677520"/>
              <a:chOff x="4404240" y="3762000"/>
              <a:chExt cx="1177560" cy="67752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4496760" y="3762000"/>
                <a:ext cx="1085040" cy="677520"/>
                <a:chOff x="4496760" y="3762000"/>
                <a:chExt cx="1085040" cy="677520"/>
              </a:xfrm>
            </p:grpSpPr>
            <p:sp>
              <p:nvSpPr>
                <p:cNvPr id="136" name=""/>
                <p:cNvSpPr/>
                <p:nvPr/>
              </p:nvSpPr>
              <p:spPr>
                <a:xfrm rot="21480000">
                  <a:off x="4500360" y="4026960"/>
                  <a:ext cx="601560" cy="2286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2340000">
                  <a:off x="5202000" y="3789000"/>
                  <a:ext cx="257040" cy="48096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21480000">
                  <a:off x="4562280" y="4037040"/>
                  <a:ext cx="71280" cy="87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 flipV="1" rot="17160000">
                  <a:off x="4704840" y="4162320"/>
                  <a:ext cx="208080" cy="277560"/>
                </a:xfrm>
                <a:custGeom>
                  <a:avLst/>
                  <a:gdLst>
                    <a:gd name="textAreaLeft" fmla="*/ 45720 w 208080"/>
                    <a:gd name="textAreaRight" fmla="*/ 162360 w 208080"/>
                    <a:gd name="textAreaTop" fmla="*/ 60840 h 277560"/>
                    <a:gd name="textAreaBottom" fmla="*/ 216720 h 27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240000">
                  <a:off x="4770000" y="3922200"/>
                  <a:ext cx="310680" cy="115920"/>
                </a:xfrm>
                <a:prstGeom prst="parallelogram">
                  <a:avLst>
                    <a:gd name="adj" fmla="val 66991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21480000">
                  <a:off x="4565520" y="4044600"/>
                  <a:ext cx="29880" cy="27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4404240" y="4106880"/>
                <a:ext cx="217800" cy="8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2" y="10390"/>
                    </a:moveTo>
                    <a:arcTo wR="10800" hR="10800" stAng="-130617" swAng="55817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2" y="10390"/>
                    </a:moveTo>
                    <a:arcTo wR="10800" hR="10800" stAng="-130617" swAng="558176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359880" y="4105080"/>
              <a:ext cx="1177200" cy="675720"/>
              <a:chOff x="3359880" y="4105080"/>
              <a:chExt cx="1177200" cy="67572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3452040" y="4105080"/>
                <a:ext cx="1085040" cy="675720"/>
                <a:chOff x="3452040" y="4105080"/>
                <a:chExt cx="1085040" cy="675720"/>
              </a:xfrm>
            </p:grpSpPr>
            <p:sp>
              <p:nvSpPr>
                <p:cNvPr id="145" name=""/>
                <p:cNvSpPr/>
                <p:nvPr/>
              </p:nvSpPr>
              <p:spPr>
                <a:xfrm rot="21480000">
                  <a:off x="3455640" y="4369680"/>
                  <a:ext cx="601560" cy="2282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2340000">
                  <a:off x="4157280" y="4132080"/>
                  <a:ext cx="257040" cy="48060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21480000">
                  <a:off x="3517920" y="4379400"/>
                  <a:ext cx="71280" cy="87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 rot="17160000">
                  <a:off x="3660120" y="4503240"/>
                  <a:ext cx="207720" cy="277920"/>
                </a:xfrm>
                <a:custGeom>
                  <a:avLst/>
                  <a:gdLst>
                    <a:gd name="textAreaLeft" fmla="*/ 45720 w 207720"/>
                    <a:gd name="textAreaRight" fmla="*/ 162000 w 207720"/>
                    <a:gd name="textAreaTop" fmla="*/ 60840 h 277920"/>
                    <a:gd name="textAreaBottom" fmla="*/ 217080 h 277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rot="240000">
                  <a:off x="3725280" y="4264920"/>
                  <a:ext cx="311400" cy="115560"/>
                </a:xfrm>
                <a:prstGeom prst="parallelogram">
                  <a:avLst>
                    <a:gd name="adj" fmla="val 67355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rot="21480000">
                  <a:off x="3520800" y="4387320"/>
                  <a:ext cx="30240" cy="26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3359880" y="4449960"/>
                <a:ext cx="217800" cy="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2" y="10390"/>
                    </a:moveTo>
                    <a:arcTo wR="10800" hR="10800" stAng="-130617" swAng="55817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2" y="10390"/>
                    </a:moveTo>
                    <a:arcTo wR="10800" hR="10800" stAng="-130617" swAng="558176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794760" y="5054400"/>
              <a:ext cx="1177200" cy="676800"/>
              <a:chOff x="3794760" y="5054400"/>
              <a:chExt cx="1177200" cy="67680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3886920" y="5054400"/>
                <a:ext cx="1085040" cy="676800"/>
                <a:chOff x="3886920" y="5054400"/>
                <a:chExt cx="1085040" cy="676800"/>
              </a:xfrm>
            </p:grpSpPr>
            <p:sp>
              <p:nvSpPr>
                <p:cNvPr id="154" name=""/>
                <p:cNvSpPr/>
                <p:nvPr/>
              </p:nvSpPr>
              <p:spPr>
                <a:xfrm rot="21480000">
                  <a:off x="3890520" y="5319360"/>
                  <a:ext cx="601560" cy="2282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2340000">
                  <a:off x="4592160" y="5081400"/>
                  <a:ext cx="257040" cy="48060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21480000">
                  <a:off x="3952800" y="5329080"/>
                  <a:ext cx="71280" cy="87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 flipV="1" rot="17160000">
                  <a:off x="4095720" y="5454360"/>
                  <a:ext cx="207360" cy="277560"/>
                </a:xfrm>
                <a:custGeom>
                  <a:avLst/>
                  <a:gdLst>
                    <a:gd name="textAreaLeft" fmla="*/ 45360 w 207360"/>
                    <a:gd name="textAreaRight" fmla="*/ 162000 w 207360"/>
                    <a:gd name="textAreaTop" fmla="*/ 60840 h 277560"/>
                    <a:gd name="textAreaBottom" fmla="*/ 216720 h 27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240000">
                  <a:off x="4160520" y="5214600"/>
                  <a:ext cx="311040" cy="115560"/>
                </a:xfrm>
                <a:prstGeom prst="parallelogram">
                  <a:avLst>
                    <a:gd name="adj" fmla="val 67277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21480000">
                  <a:off x="3956040" y="5336640"/>
                  <a:ext cx="30240" cy="26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3794760" y="5399640"/>
                <a:ext cx="217800" cy="84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2" y="10390"/>
                    </a:moveTo>
                    <a:arcTo wR="10800" hR="10800" stAng="-130617" swAng="55817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2" y="10390"/>
                    </a:moveTo>
                    <a:arcTo wR="10800" hR="10800" stAng="-130617" swAng="558176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3261240" y="5333760"/>
              <a:ext cx="1177560" cy="676800"/>
              <a:chOff x="3261240" y="5333760"/>
              <a:chExt cx="1177560" cy="67680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3353760" y="5333760"/>
                <a:ext cx="1085040" cy="676800"/>
                <a:chOff x="3353760" y="5333760"/>
                <a:chExt cx="1085040" cy="676800"/>
              </a:xfrm>
            </p:grpSpPr>
            <p:sp>
              <p:nvSpPr>
                <p:cNvPr id="163" name=""/>
                <p:cNvSpPr/>
                <p:nvPr/>
              </p:nvSpPr>
              <p:spPr>
                <a:xfrm rot="21480000">
                  <a:off x="3357360" y="5599080"/>
                  <a:ext cx="601560" cy="2286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rot="2340000">
                  <a:off x="4058640" y="5360760"/>
                  <a:ext cx="257040" cy="48132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rot="21480000">
                  <a:off x="3419280" y="5608800"/>
                  <a:ext cx="71280" cy="87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flipV="1" rot="17160000">
                  <a:off x="3562200" y="5733360"/>
                  <a:ext cx="207720" cy="277560"/>
                </a:xfrm>
                <a:custGeom>
                  <a:avLst/>
                  <a:gdLst>
                    <a:gd name="textAreaLeft" fmla="*/ 45720 w 207720"/>
                    <a:gd name="textAreaRight" fmla="*/ 162000 w 207720"/>
                    <a:gd name="textAreaTop" fmla="*/ 60840 h 277560"/>
                    <a:gd name="textAreaBottom" fmla="*/ 216720 h 27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240000">
                  <a:off x="3627000" y="5494320"/>
                  <a:ext cx="310680" cy="115920"/>
                </a:xfrm>
                <a:prstGeom prst="parallelogram">
                  <a:avLst>
                    <a:gd name="adj" fmla="val 66991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21480000">
                  <a:off x="3422520" y="5616360"/>
                  <a:ext cx="29880" cy="27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3261240" y="5679000"/>
                <a:ext cx="217800" cy="8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2" y="10390"/>
                    </a:moveTo>
                    <a:arcTo wR="10800" hR="10800" stAng="-130617" swAng="55817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2" y="10390"/>
                    </a:moveTo>
                    <a:arcTo wR="10800" hR="10800" stAng="-130617" swAng="558176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794760" y="5549400"/>
              <a:ext cx="1177560" cy="677520"/>
              <a:chOff x="3794760" y="5549400"/>
              <a:chExt cx="1177560" cy="6775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3886920" y="5549400"/>
                <a:ext cx="1085400" cy="677520"/>
                <a:chOff x="3886920" y="5549400"/>
                <a:chExt cx="1085400" cy="677520"/>
              </a:xfrm>
            </p:grpSpPr>
            <p:sp>
              <p:nvSpPr>
                <p:cNvPr id="172" name=""/>
                <p:cNvSpPr/>
                <p:nvPr/>
              </p:nvSpPr>
              <p:spPr>
                <a:xfrm rot="21480000">
                  <a:off x="3890520" y="5814720"/>
                  <a:ext cx="601560" cy="2286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rot="2340000">
                  <a:off x="4592520" y="5576400"/>
                  <a:ext cx="257040" cy="48096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21480000">
                  <a:off x="3952800" y="5824440"/>
                  <a:ext cx="71280" cy="87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 flipV="1" rot="17160000">
                  <a:off x="4095360" y="5949720"/>
                  <a:ext cx="208080" cy="277560"/>
                </a:xfrm>
                <a:custGeom>
                  <a:avLst/>
                  <a:gdLst>
                    <a:gd name="textAreaLeft" fmla="*/ 45720 w 208080"/>
                    <a:gd name="textAreaRight" fmla="*/ 162360 w 208080"/>
                    <a:gd name="textAreaTop" fmla="*/ 60840 h 277560"/>
                    <a:gd name="textAreaBottom" fmla="*/ 216720 h 27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240000">
                  <a:off x="4160520" y="5709960"/>
                  <a:ext cx="311040" cy="115920"/>
                </a:xfrm>
                <a:prstGeom prst="parallelogram">
                  <a:avLst>
                    <a:gd name="adj" fmla="val 67068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21480000">
                  <a:off x="3956040" y="5832000"/>
                  <a:ext cx="30240" cy="27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3794760" y="5895000"/>
                <a:ext cx="217800" cy="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2" y="10390"/>
                    </a:moveTo>
                    <a:arcTo wR="10800" hR="10800" stAng="-130617" swAng="55817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2" y="10390"/>
                    </a:moveTo>
                    <a:arcTo wR="10800" hR="10800" stAng="-130617" swAng="558176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008880" y="4770000"/>
              <a:ext cx="1181520" cy="677160"/>
              <a:chOff x="3008880" y="4770000"/>
              <a:chExt cx="1181520" cy="6771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008880" y="4770000"/>
                <a:ext cx="1085760" cy="677160"/>
                <a:chOff x="3008880" y="4770000"/>
                <a:chExt cx="1085760" cy="677160"/>
              </a:xfrm>
            </p:grpSpPr>
            <p:sp>
              <p:nvSpPr>
                <p:cNvPr id="181" name=""/>
                <p:cNvSpPr/>
                <p:nvPr/>
              </p:nvSpPr>
              <p:spPr>
                <a:xfrm flipH="1" rot="120000">
                  <a:off x="3489120" y="5035320"/>
                  <a:ext cx="601560" cy="2282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 rot="19260000">
                  <a:off x="3131280" y="4797360"/>
                  <a:ext cx="257400" cy="48096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 rot="120000">
                  <a:off x="3956760" y="5045040"/>
                  <a:ext cx="71640" cy="87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 rot="4440000">
                  <a:off x="3678480" y="5169600"/>
                  <a:ext cx="207720" cy="277920"/>
                </a:xfrm>
                <a:custGeom>
                  <a:avLst/>
                  <a:gdLst>
                    <a:gd name="textAreaLeft" fmla="*/ 45720 w 207720"/>
                    <a:gd name="textAreaRight" fmla="*/ 162000 w 207720"/>
                    <a:gd name="textAreaTop" fmla="*/ 60840 h 277920"/>
                    <a:gd name="textAreaBottom" fmla="*/ 217080 h 277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 rot="21360000">
                  <a:off x="3509640" y="4930560"/>
                  <a:ext cx="311040" cy="115920"/>
                </a:xfrm>
                <a:prstGeom prst="parallelogram">
                  <a:avLst>
                    <a:gd name="adj" fmla="val 67068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rot="120000">
                  <a:off x="3994920" y="5052600"/>
                  <a:ext cx="30240" cy="27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3971880" y="5118120"/>
                <a:ext cx="218520" cy="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39" y="21599"/>
                    </a:moveTo>
                    <a:arcTo wR="10800" hR="10800" stAng="5451148" swAng="54775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39" y="21599"/>
                    </a:moveTo>
                    <a:arcTo wR="10800" hR="10800" stAng="5451148" swAng="547757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3134160" y="5791320"/>
              <a:ext cx="1177560" cy="676440"/>
              <a:chOff x="3134160" y="5791320"/>
              <a:chExt cx="1177560" cy="67644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3226680" y="5791320"/>
                <a:ext cx="1085040" cy="676440"/>
                <a:chOff x="3226680" y="5791320"/>
                <a:chExt cx="1085040" cy="676440"/>
              </a:xfrm>
            </p:grpSpPr>
            <p:sp>
              <p:nvSpPr>
                <p:cNvPr id="190" name=""/>
                <p:cNvSpPr/>
                <p:nvPr/>
              </p:nvSpPr>
              <p:spPr>
                <a:xfrm rot="21480000">
                  <a:off x="3230280" y="6056280"/>
                  <a:ext cx="601560" cy="2286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2340000">
                  <a:off x="3931920" y="5818320"/>
                  <a:ext cx="256680" cy="48132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21480000">
                  <a:off x="3292200" y="6066000"/>
                  <a:ext cx="71280" cy="87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flipV="1" rot="17160000">
                  <a:off x="3435120" y="6190560"/>
                  <a:ext cx="207720" cy="277560"/>
                </a:xfrm>
                <a:custGeom>
                  <a:avLst/>
                  <a:gdLst>
                    <a:gd name="textAreaLeft" fmla="*/ 45720 w 207720"/>
                    <a:gd name="textAreaRight" fmla="*/ 162000 w 207720"/>
                    <a:gd name="textAreaTop" fmla="*/ 60840 h 277560"/>
                    <a:gd name="textAreaBottom" fmla="*/ 216720 h 27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240000">
                  <a:off x="3499920" y="5951520"/>
                  <a:ext cx="310680" cy="115920"/>
                </a:xfrm>
                <a:prstGeom prst="parallelogram">
                  <a:avLst>
                    <a:gd name="adj" fmla="val 66991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21480000">
                  <a:off x="3295440" y="6073560"/>
                  <a:ext cx="29880" cy="27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3134160" y="6136200"/>
                <a:ext cx="217800" cy="8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2" y="10390"/>
                    </a:moveTo>
                    <a:arcTo wR="10800" hR="10800" stAng="-130617" swAng="55817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2" y="10390"/>
                    </a:moveTo>
                    <a:arcTo wR="10800" hR="10800" stAng="-130617" swAng="558176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2720520" y="4625640"/>
              <a:ext cx="1181520" cy="677520"/>
              <a:chOff x="2720520" y="4625640"/>
              <a:chExt cx="1181520" cy="67752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2720520" y="4625640"/>
                <a:ext cx="1085040" cy="677520"/>
                <a:chOff x="2720520" y="4625640"/>
                <a:chExt cx="1085040" cy="677520"/>
              </a:xfrm>
            </p:grpSpPr>
            <p:sp>
              <p:nvSpPr>
                <p:cNvPr id="199" name=""/>
                <p:cNvSpPr/>
                <p:nvPr/>
              </p:nvSpPr>
              <p:spPr>
                <a:xfrm flipH="1" rot="120000">
                  <a:off x="3200040" y="4890600"/>
                  <a:ext cx="601560" cy="2282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 rot="19260000">
                  <a:off x="2843280" y="4652640"/>
                  <a:ext cx="257040" cy="48132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rot="120000">
                  <a:off x="3668040" y="4900680"/>
                  <a:ext cx="71280" cy="87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V="1" rot="4440000">
                  <a:off x="3389040" y="5025960"/>
                  <a:ext cx="208080" cy="277560"/>
                </a:xfrm>
                <a:custGeom>
                  <a:avLst/>
                  <a:gdLst>
                    <a:gd name="textAreaLeft" fmla="*/ 45720 w 208080"/>
                    <a:gd name="textAreaRight" fmla="*/ 162360 w 208080"/>
                    <a:gd name="textAreaTop" fmla="*/ 60840 h 277560"/>
                    <a:gd name="textAreaBottom" fmla="*/ 216720 h 27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 rot="21360000">
                  <a:off x="3220560" y="4785840"/>
                  <a:ext cx="311040" cy="115920"/>
                </a:xfrm>
                <a:prstGeom prst="parallelogram">
                  <a:avLst>
                    <a:gd name="adj" fmla="val 67068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rot="120000">
                  <a:off x="3706920" y="4908240"/>
                  <a:ext cx="29880" cy="27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682800" y="4973760"/>
                <a:ext cx="219240" cy="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39" y="21599"/>
                    </a:moveTo>
                    <a:arcTo wR="10800" hR="10800" stAng="5451148" swAng="54775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39" y="21599"/>
                    </a:moveTo>
                    <a:arcTo wR="10800" hR="10800" stAng="5451148" swAng="547757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288520" y="5536800"/>
              <a:ext cx="1181160" cy="677160"/>
              <a:chOff x="2288520" y="5536800"/>
              <a:chExt cx="1181160" cy="6771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2288520" y="5536800"/>
                <a:ext cx="1085040" cy="677160"/>
                <a:chOff x="2288520" y="5536800"/>
                <a:chExt cx="1085040" cy="677160"/>
              </a:xfrm>
            </p:grpSpPr>
            <p:sp>
              <p:nvSpPr>
                <p:cNvPr id="208" name=""/>
                <p:cNvSpPr/>
                <p:nvPr/>
              </p:nvSpPr>
              <p:spPr>
                <a:xfrm flipH="1" rot="120000">
                  <a:off x="2767320" y="5801760"/>
                  <a:ext cx="601920" cy="2282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19260000">
                  <a:off x="2411280" y="5563800"/>
                  <a:ext cx="257040" cy="48132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rot="120000">
                  <a:off x="3236040" y="5811840"/>
                  <a:ext cx="71640" cy="87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 rot="4440000">
                  <a:off x="2957040" y="5936760"/>
                  <a:ext cx="208080" cy="277920"/>
                </a:xfrm>
                <a:custGeom>
                  <a:avLst/>
                  <a:gdLst>
                    <a:gd name="textAreaLeft" fmla="*/ 45720 w 208080"/>
                    <a:gd name="textAreaRight" fmla="*/ 162360 w 208080"/>
                    <a:gd name="textAreaTop" fmla="*/ 60840 h 277920"/>
                    <a:gd name="textAreaBottom" fmla="*/ 217080 h 277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 rot="21360000">
                  <a:off x="2788920" y="5697000"/>
                  <a:ext cx="311040" cy="115920"/>
                </a:xfrm>
                <a:prstGeom prst="parallelogram">
                  <a:avLst>
                    <a:gd name="adj" fmla="val 67068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rot="120000">
                  <a:off x="3274200" y="5819400"/>
                  <a:ext cx="30240" cy="27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3251160" y="5884920"/>
                <a:ext cx="218520" cy="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39" y="21599"/>
                    </a:moveTo>
                    <a:arcTo wR="10800" hR="10800" stAng="5451148" swAng="54775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39" y="21599"/>
                    </a:moveTo>
                    <a:arcTo wR="10800" hR="10800" stAng="5451148" swAng="547757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479320" y="5308200"/>
              <a:ext cx="1180080" cy="677520"/>
              <a:chOff x="2479320" y="5308200"/>
              <a:chExt cx="1180080" cy="67752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2479320" y="5308200"/>
                <a:ext cx="1084680" cy="677520"/>
                <a:chOff x="2479320" y="5308200"/>
                <a:chExt cx="1084680" cy="677520"/>
              </a:xfrm>
            </p:grpSpPr>
            <p:sp>
              <p:nvSpPr>
                <p:cNvPr id="217" name=""/>
                <p:cNvSpPr/>
                <p:nvPr/>
              </p:nvSpPr>
              <p:spPr>
                <a:xfrm flipH="1" rot="120000">
                  <a:off x="2958480" y="5573160"/>
                  <a:ext cx="601560" cy="2282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9260000">
                  <a:off x="2602080" y="5335200"/>
                  <a:ext cx="257040" cy="48132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120000">
                  <a:off x="3426480" y="5583240"/>
                  <a:ext cx="71280" cy="87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 rot="4440000">
                  <a:off x="3147480" y="5708520"/>
                  <a:ext cx="208080" cy="277560"/>
                </a:xfrm>
                <a:custGeom>
                  <a:avLst/>
                  <a:gdLst>
                    <a:gd name="textAreaLeft" fmla="*/ 45720 w 208080"/>
                    <a:gd name="textAreaRight" fmla="*/ 162360 w 208080"/>
                    <a:gd name="textAreaTop" fmla="*/ 60840 h 277560"/>
                    <a:gd name="textAreaBottom" fmla="*/ 216720 h 27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H="1" rot="21360000">
                  <a:off x="2978640" y="5468400"/>
                  <a:ext cx="310680" cy="115920"/>
                </a:xfrm>
                <a:prstGeom prst="parallelogram">
                  <a:avLst>
                    <a:gd name="adj" fmla="val 66991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 rot="120000">
                  <a:off x="3465360" y="5590800"/>
                  <a:ext cx="29880" cy="27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3441600" y="5656320"/>
                <a:ext cx="217800" cy="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39" y="21599"/>
                    </a:moveTo>
                    <a:arcTo wR="10800" hR="10800" stAng="5451148" swAng="54775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39" y="21599"/>
                    </a:moveTo>
                    <a:arcTo wR="10800" hR="10800" stAng="5451148" swAng="547757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4010760" y="5270040"/>
              <a:ext cx="1177560" cy="676800"/>
              <a:chOff x="4010760" y="5270040"/>
              <a:chExt cx="1177560" cy="67680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4102920" y="5270040"/>
                <a:ext cx="1085400" cy="676800"/>
                <a:chOff x="4102920" y="5270040"/>
                <a:chExt cx="1085400" cy="676800"/>
              </a:xfrm>
            </p:grpSpPr>
            <p:sp>
              <p:nvSpPr>
                <p:cNvPr id="226" name=""/>
                <p:cNvSpPr/>
                <p:nvPr/>
              </p:nvSpPr>
              <p:spPr>
                <a:xfrm rot="21480000">
                  <a:off x="4106520" y="5535360"/>
                  <a:ext cx="601560" cy="2286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2340000">
                  <a:off x="4808520" y="5297040"/>
                  <a:ext cx="257040" cy="48096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21480000">
                  <a:off x="4168800" y="5545080"/>
                  <a:ext cx="71280" cy="87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 rot="17160000">
                  <a:off x="4311720" y="5669640"/>
                  <a:ext cx="207720" cy="277560"/>
                </a:xfrm>
                <a:custGeom>
                  <a:avLst/>
                  <a:gdLst>
                    <a:gd name="textAreaLeft" fmla="*/ 45720 w 207720"/>
                    <a:gd name="textAreaRight" fmla="*/ 162000 w 207720"/>
                    <a:gd name="textAreaTop" fmla="*/ 60840 h 277560"/>
                    <a:gd name="textAreaBottom" fmla="*/ 216720 h 27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240000">
                  <a:off x="4376520" y="5430600"/>
                  <a:ext cx="311040" cy="115920"/>
                </a:xfrm>
                <a:prstGeom prst="parallelogram">
                  <a:avLst>
                    <a:gd name="adj" fmla="val 67068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21480000">
                  <a:off x="4172040" y="5552640"/>
                  <a:ext cx="30240" cy="27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4010760" y="5615640"/>
                <a:ext cx="217800" cy="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2" y="10390"/>
                    </a:moveTo>
                    <a:arcTo wR="10800" hR="10800" stAng="-130617" swAng="55817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2" y="10390"/>
                    </a:moveTo>
                    <a:arcTo wR="10800" hR="10800" stAng="-130617" swAng="558176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835880" y="4986000"/>
              <a:ext cx="1177560" cy="677520"/>
              <a:chOff x="4835880" y="4986000"/>
              <a:chExt cx="1177560" cy="6775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4928400" y="4986000"/>
                <a:ext cx="1085040" cy="677520"/>
                <a:chOff x="4928400" y="4986000"/>
                <a:chExt cx="1085040" cy="677520"/>
              </a:xfrm>
            </p:grpSpPr>
            <p:sp>
              <p:nvSpPr>
                <p:cNvPr id="235" name=""/>
                <p:cNvSpPr/>
                <p:nvPr/>
              </p:nvSpPr>
              <p:spPr>
                <a:xfrm rot="21480000">
                  <a:off x="4932000" y="5250960"/>
                  <a:ext cx="601560" cy="2286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2340000">
                  <a:off x="5633640" y="5013000"/>
                  <a:ext cx="257040" cy="48096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21480000">
                  <a:off x="4993920" y="5261040"/>
                  <a:ext cx="71280" cy="87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 rot="17160000">
                  <a:off x="5136480" y="5386320"/>
                  <a:ext cx="208080" cy="277560"/>
                </a:xfrm>
                <a:custGeom>
                  <a:avLst/>
                  <a:gdLst>
                    <a:gd name="textAreaLeft" fmla="*/ 45720 w 208080"/>
                    <a:gd name="textAreaRight" fmla="*/ 162360 w 208080"/>
                    <a:gd name="textAreaTop" fmla="*/ 60840 h 277560"/>
                    <a:gd name="textAreaBottom" fmla="*/ 216720 h 27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240000">
                  <a:off x="5201640" y="5146200"/>
                  <a:ext cx="310680" cy="115920"/>
                </a:xfrm>
                <a:prstGeom prst="parallelogram">
                  <a:avLst>
                    <a:gd name="adj" fmla="val 66991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21480000">
                  <a:off x="4997160" y="5268600"/>
                  <a:ext cx="29880" cy="27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>
                <a:off x="4835880" y="5330880"/>
                <a:ext cx="217800" cy="8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2" y="10390"/>
                    </a:moveTo>
                    <a:arcTo wR="10800" hR="10800" stAng="-130617" swAng="55817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2" y="10390"/>
                    </a:moveTo>
                    <a:arcTo wR="10800" hR="10800" stAng="-130617" swAng="558176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836240" y="5922720"/>
              <a:ext cx="1177560" cy="677520"/>
              <a:chOff x="4836240" y="5922720"/>
              <a:chExt cx="1177560" cy="67752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4928400" y="5922720"/>
                <a:ext cx="1085400" cy="677520"/>
                <a:chOff x="4928400" y="5922720"/>
                <a:chExt cx="1085400" cy="677520"/>
              </a:xfrm>
            </p:grpSpPr>
            <p:sp>
              <p:nvSpPr>
                <p:cNvPr id="244" name=""/>
                <p:cNvSpPr/>
                <p:nvPr/>
              </p:nvSpPr>
              <p:spPr>
                <a:xfrm rot="21480000">
                  <a:off x="4932000" y="6188040"/>
                  <a:ext cx="601560" cy="2286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2340000">
                  <a:off x="5634000" y="5949720"/>
                  <a:ext cx="257040" cy="48096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21480000">
                  <a:off x="4994280" y="6197760"/>
                  <a:ext cx="71280" cy="87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 rot="17160000">
                  <a:off x="5136840" y="6323040"/>
                  <a:ext cx="208080" cy="277560"/>
                </a:xfrm>
                <a:custGeom>
                  <a:avLst/>
                  <a:gdLst>
                    <a:gd name="textAreaLeft" fmla="*/ 45720 w 208080"/>
                    <a:gd name="textAreaRight" fmla="*/ 162360 w 208080"/>
                    <a:gd name="textAreaTop" fmla="*/ 60840 h 277560"/>
                    <a:gd name="textAreaBottom" fmla="*/ 216720 h 27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240000">
                  <a:off x="5202000" y="6083280"/>
                  <a:ext cx="311040" cy="115920"/>
                </a:xfrm>
                <a:prstGeom prst="parallelogram">
                  <a:avLst>
                    <a:gd name="adj" fmla="val 67068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21480000">
                  <a:off x="4997520" y="6205320"/>
                  <a:ext cx="30240" cy="27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4836240" y="6268320"/>
                <a:ext cx="217800" cy="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2" y="10390"/>
                    </a:moveTo>
                    <a:arcTo wR="10800" hR="10800" stAng="-130617" swAng="55817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2" y="10390"/>
                    </a:moveTo>
                    <a:arcTo wR="10800" hR="10800" stAng="-130617" swAng="558176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992880" y="5562360"/>
              <a:ext cx="1181520" cy="677160"/>
              <a:chOff x="992880" y="5562360"/>
              <a:chExt cx="1181520" cy="6771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992880" y="5562360"/>
                <a:ext cx="1085760" cy="677160"/>
                <a:chOff x="992880" y="5562360"/>
                <a:chExt cx="1085760" cy="677160"/>
              </a:xfrm>
            </p:grpSpPr>
            <p:sp>
              <p:nvSpPr>
                <p:cNvPr id="253" name=""/>
                <p:cNvSpPr/>
                <p:nvPr/>
              </p:nvSpPr>
              <p:spPr>
                <a:xfrm flipH="1" rot="120000">
                  <a:off x="1473120" y="5827680"/>
                  <a:ext cx="601560" cy="2282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 rot="19260000">
                  <a:off x="1115280" y="5589720"/>
                  <a:ext cx="257400" cy="48096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 rot="120000">
                  <a:off x="1940760" y="5837400"/>
                  <a:ext cx="71640" cy="87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 rot="4440000">
                  <a:off x="1662480" y="5961960"/>
                  <a:ext cx="207720" cy="277920"/>
                </a:xfrm>
                <a:custGeom>
                  <a:avLst/>
                  <a:gdLst>
                    <a:gd name="textAreaLeft" fmla="*/ 45720 w 207720"/>
                    <a:gd name="textAreaRight" fmla="*/ 162000 w 207720"/>
                    <a:gd name="textAreaTop" fmla="*/ 60840 h 277920"/>
                    <a:gd name="textAreaBottom" fmla="*/ 217080 h 277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rot="21360000">
                  <a:off x="1493640" y="5722920"/>
                  <a:ext cx="311040" cy="115920"/>
                </a:xfrm>
                <a:prstGeom prst="parallelogram">
                  <a:avLst>
                    <a:gd name="adj" fmla="val 67068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rot="120000">
                  <a:off x="1978920" y="5844960"/>
                  <a:ext cx="30240" cy="27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1955880" y="5910480"/>
                <a:ext cx="218520" cy="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39" y="21599"/>
                    </a:moveTo>
                    <a:arcTo wR="10800" hR="10800" stAng="5451148" swAng="54775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39" y="21599"/>
                    </a:moveTo>
                    <a:arcTo wR="10800" hR="10800" stAng="5451148" swAng="547757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3350160" y="6006960"/>
              <a:ext cx="1177560" cy="676440"/>
              <a:chOff x="3350160" y="6006960"/>
              <a:chExt cx="1177560" cy="67644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3442680" y="6006960"/>
                <a:ext cx="1085040" cy="676440"/>
                <a:chOff x="3442680" y="6006960"/>
                <a:chExt cx="1085040" cy="676440"/>
              </a:xfrm>
            </p:grpSpPr>
            <p:sp>
              <p:nvSpPr>
                <p:cNvPr id="262" name=""/>
                <p:cNvSpPr/>
                <p:nvPr/>
              </p:nvSpPr>
              <p:spPr>
                <a:xfrm rot="21480000">
                  <a:off x="3446280" y="6271920"/>
                  <a:ext cx="601560" cy="2286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2340000">
                  <a:off x="4147920" y="6033960"/>
                  <a:ext cx="256680" cy="48132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21480000">
                  <a:off x="3508200" y="6281640"/>
                  <a:ext cx="71280" cy="87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 rot="17160000">
                  <a:off x="3651120" y="6406200"/>
                  <a:ext cx="207720" cy="277560"/>
                </a:xfrm>
                <a:custGeom>
                  <a:avLst/>
                  <a:gdLst>
                    <a:gd name="textAreaLeft" fmla="*/ 45720 w 207720"/>
                    <a:gd name="textAreaRight" fmla="*/ 162000 w 207720"/>
                    <a:gd name="textAreaTop" fmla="*/ 60840 h 277560"/>
                    <a:gd name="textAreaBottom" fmla="*/ 216720 h 27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240000">
                  <a:off x="3715920" y="6167160"/>
                  <a:ext cx="310680" cy="115920"/>
                </a:xfrm>
                <a:prstGeom prst="parallelogram">
                  <a:avLst>
                    <a:gd name="adj" fmla="val 66991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rot="21480000">
                  <a:off x="3511440" y="6289200"/>
                  <a:ext cx="29880" cy="27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3350160" y="6351840"/>
                <a:ext cx="217800" cy="8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2" y="10390"/>
                    </a:moveTo>
                    <a:arcTo wR="10800" hR="10800" stAng="-130617" swAng="55817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2" y="10390"/>
                    </a:moveTo>
                    <a:arcTo wR="10800" hR="10800" stAng="-130617" swAng="558176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744520" y="5706720"/>
              <a:ext cx="1181520" cy="677520"/>
              <a:chOff x="5744520" y="5706720"/>
              <a:chExt cx="1181520" cy="67752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5744520" y="5706720"/>
                <a:ext cx="1085040" cy="677520"/>
                <a:chOff x="5744520" y="5706720"/>
                <a:chExt cx="1085040" cy="677520"/>
              </a:xfrm>
            </p:grpSpPr>
            <p:sp>
              <p:nvSpPr>
                <p:cNvPr id="271" name=""/>
                <p:cNvSpPr/>
                <p:nvPr/>
              </p:nvSpPr>
              <p:spPr>
                <a:xfrm flipH="1" rot="120000">
                  <a:off x="6224040" y="5971680"/>
                  <a:ext cx="601560" cy="2282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rot="19260000">
                  <a:off x="5867280" y="5733720"/>
                  <a:ext cx="257040" cy="48132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rot="120000">
                  <a:off x="6692040" y="5981760"/>
                  <a:ext cx="71280" cy="87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 rot="4440000">
                  <a:off x="6413040" y="6107040"/>
                  <a:ext cx="208080" cy="277560"/>
                </a:xfrm>
                <a:custGeom>
                  <a:avLst/>
                  <a:gdLst>
                    <a:gd name="textAreaLeft" fmla="*/ 45720 w 208080"/>
                    <a:gd name="textAreaRight" fmla="*/ 162360 w 208080"/>
                    <a:gd name="textAreaTop" fmla="*/ 60840 h 277560"/>
                    <a:gd name="textAreaBottom" fmla="*/ 216720 h 27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 rot="21360000">
                  <a:off x="6244560" y="5866920"/>
                  <a:ext cx="311040" cy="115920"/>
                </a:xfrm>
                <a:prstGeom prst="parallelogram">
                  <a:avLst>
                    <a:gd name="adj" fmla="val 67068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 rot="120000">
                  <a:off x="6730920" y="5989320"/>
                  <a:ext cx="29880" cy="27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6706800" y="6054840"/>
                <a:ext cx="219240" cy="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39" y="21599"/>
                    </a:moveTo>
                    <a:arcTo wR="10800" hR="10800" stAng="5451148" swAng="54775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39" y="21599"/>
                    </a:moveTo>
                    <a:arcTo wR="10800" hR="10800" stAng="5451148" swAng="547757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288520" y="5202000"/>
              <a:ext cx="1181160" cy="677160"/>
              <a:chOff x="2288520" y="5202000"/>
              <a:chExt cx="1181160" cy="67716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2288520" y="5202000"/>
                <a:ext cx="1085040" cy="677160"/>
                <a:chOff x="2288520" y="5202000"/>
                <a:chExt cx="1085040" cy="677160"/>
              </a:xfrm>
            </p:grpSpPr>
            <p:sp>
              <p:nvSpPr>
                <p:cNvPr id="280" name=""/>
                <p:cNvSpPr/>
                <p:nvPr/>
              </p:nvSpPr>
              <p:spPr>
                <a:xfrm flipH="1" rot="120000">
                  <a:off x="2767320" y="5466960"/>
                  <a:ext cx="601920" cy="2282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 rot="19260000">
                  <a:off x="2411280" y="5229000"/>
                  <a:ext cx="257040" cy="48132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 rot="120000">
                  <a:off x="3236040" y="5477040"/>
                  <a:ext cx="71640" cy="87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 rot="4440000">
                  <a:off x="2957040" y="5601960"/>
                  <a:ext cx="208080" cy="277920"/>
                </a:xfrm>
                <a:custGeom>
                  <a:avLst/>
                  <a:gdLst>
                    <a:gd name="textAreaLeft" fmla="*/ 45720 w 208080"/>
                    <a:gd name="textAreaRight" fmla="*/ 162360 w 208080"/>
                    <a:gd name="textAreaTop" fmla="*/ 60840 h 277920"/>
                    <a:gd name="textAreaBottom" fmla="*/ 217080 h 277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 rot="21360000">
                  <a:off x="2788920" y="5362200"/>
                  <a:ext cx="311040" cy="115920"/>
                </a:xfrm>
                <a:prstGeom prst="parallelogram">
                  <a:avLst>
                    <a:gd name="adj" fmla="val 67068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 rot="120000">
                  <a:off x="3274200" y="5484600"/>
                  <a:ext cx="30240" cy="27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"/>
              <p:cNvSpPr/>
              <p:nvPr/>
            </p:nvSpPr>
            <p:spPr>
              <a:xfrm>
                <a:off x="3251160" y="5550120"/>
                <a:ext cx="218520" cy="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39" y="21599"/>
                    </a:moveTo>
                    <a:arcTo wR="10800" hR="10800" stAng="5451148" swAng="54775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39" y="21599"/>
                    </a:moveTo>
                    <a:arcTo wR="10800" hR="10800" stAng="5451148" swAng="547757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1280160" y="5922720"/>
              <a:ext cx="1181520" cy="677160"/>
              <a:chOff x="1280160" y="5922720"/>
              <a:chExt cx="1181520" cy="67716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1280160" y="5922720"/>
                <a:ext cx="1085400" cy="677160"/>
                <a:chOff x="1280160" y="5922720"/>
                <a:chExt cx="1085400" cy="677160"/>
              </a:xfrm>
            </p:grpSpPr>
            <p:sp>
              <p:nvSpPr>
                <p:cNvPr id="289" name=""/>
                <p:cNvSpPr/>
                <p:nvPr/>
              </p:nvSpPr>
              <p:spPr>
                <a:xfrm flipH="1" rot="120000">
                  <a:off x="1759320" y="6187680"/>
                  <a:ext cx="601920" cy="2282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rot="19260000">
                  <a:off x="1402560" y="5950080"/>
                  <a:ext cx="257400" cy="48096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rot="120000">
                  <a:off x="2228040" y="6197760"/>
                  <a:ext cx="71640" cy="87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 rot="4440000">
                  <a:off x="1949040" y="6322680"/>
                  <a:ext cx="208080" cy="277920"/>
                </a:xfrm>
                <a:custGeom>
                  <a:avLst/>
                  <a:gdLst>
                    <a:gd name="textAreaLeft" fmla="*/ 45720 w 208080"/>
                    <a:gd name="textAreaRight" fmla="*/ 162360 w 208080"/>
                    <a:gd name="textAreaTop" fmla="*/ 60840 h 277920"/>
                    <a:gd name="textAreaBottom" fmla="*/ 217080 h 277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rot="21360000">
                  <a:off x="1780920" y="6082920"/>
                  <a:ext cx="311040" cy="115920"/>
                </a:xfrm>
                <a:prstGeom prst="parallelogram">
                  <a:avLst>
                    <a:gd name="adj" fmla="val 67068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 rot="120000">
                  <a:off x="2266200" y="6205320"/>
                  <a:ext cx="30240" cy="27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2243160" y="6270840"/>
                <a:ext cx="218520" cy="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39" y="21599"/>
                    </a:moveTo>
                    <a:arcTo wR="10800" hR="10800" stAng="5451148" swAng="54775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39" y="21599"/>
                    </a:moveTo>
                    <a:arcTo wR="10800" hR="10800" stAng="5451148" swAng="547757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620240" y="4193640"/>
              <a:ext cx="1177560" cy="676800"/>
              <a:chOff x="4620240" y="4193640"/>
              <a:chExt cx="1177560" cy="67680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4712400" y="4193640"/>
                <a:ext cx="1085400" cy="676800"/>
                <a:chOff x="4712400" y="4193640"/>
                <a:chExt cx="1085400" cy="676800"/>
              </a:xfrm>
            </p:grpSpPr>
            <p:sp>
              <p:nvSpPr>
                <p:cNvPr id="298" name=""/>
                <p:cNvSpPr/>
                <p:nvPr/>
              </p:nvSpPr>
              <p:spPr>
                <a:xfrm rot="21480000">
                  <a:off x="4716000" y="4458960"/>
                  <a:ext cx="601560" cy="2286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2340000">
                  <a:off x="5418000" y="4220640"/>
                  <a:ext cx="257040" cy="48096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1480000">
                  <a:off x="4778280" y="4468680"/>
                  <a:ext cx="71280" cy="87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flipV="1" rot="17160000">
                  <a:off x="4921200" y="4593240"/>
                  <a:ext cx="207720" cy="277560"/>
                </a:xfrm>
                <a:custGeom>
                  <a:avLst/>
                  <a:gdLst>
                    <a:gd name="textAreaLeft" fmla="*/ 45720 w 207720"/>
                    <a:gd name="textAreaRight" fmla="*/ 162000 w 207720"/>
                    <a:gd name="textAreaTop" fmla="*/ 60840 h 277560"/>
                    <a:gd name="textAreaBottom" fmla="*/ 216720 h 27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240000">
                  <a:off x="4986000" y="4354200"/>
                  <a:ext cx="311040" cy="115920"/>
                </a:xfrm>
                <a:prstGeom prst="parallelogram">
                  <a:avLst>
                    <a:gd name="adj" fmla="val 67068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21480000">
                  <a:off x="4781520" y="4476240"/>
                  <a:ext cx="30240" cy="27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4620240" y="4539240"/>
                <a:ext cx="217800" cy="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2" y="10390"/>
                    </a:moveTo>
                    <a:arcTo wR="10800" hR="10800" stAng="-130617" swAng="55817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2" y="10390"/>
                    </a:moveTo>
                    <a:arcTo wR="10800" hR="10800" stAng="-130617" swAng="558176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985200" y="3401280"/>
              <a:ext cx="988920" cy="528480"/>
              <a:chOff x="3985200" y="3401280"/>
              <a:chExt cx="988920" cy="52848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4064400" y="3401280"/>
                <a:ext cx="909720" cy="528480"/>
                <a:chOff x="4064400" y="3401280"/>
                <a:chExt cx="909720" cy="528480"/>
              </a:xfrm>
            </p:grpSpPr>
            <p:sp>
              <p:nvSpPr>
                <p:cNvPr id="307" name=""/>
                <p:cNvSpPr/>
                <p:nvPr/>
              </p:nvSpPr>
              <p:spPr>
                <a:xfrm rot="21480000">
                  <a:off x="4067280" y="3611160"/>
                  <a:ext cx="511920" cy="17496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2340000">
                  <a:off x="4663440" y="3429000"/>
                  <a:ext cx="218880" cy="36828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21480000">
                  <a:off x="4119840" y="3618000"/>
                  <a:ext cx="60840" cy="66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 flipV="1" rot="17160000">
                  <a:off x="4249800" y="3702600"/>
                  <a:ext cx="159120" cy="235800"/>
                </a:xfrm>
                <a:custGeom>
                  <a:avLst/>
                  <a:gdLst>
                    <a:gd name="textAreaLeft" fmla="*/ 34920 w 159120"/>
                    <a:gd name="textAreaRight" fmla="*/ 124200 w 159120"/>
                    <a:gd name="textAreaTop" fmla="*/ 51840 h 235800"/>
                    <a:gd name="textAreaBottom" fmla="*/ 183960 h 235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rot="240000">
                  <a:off x="4296240" y="3530880"/>
                  <a:ext cx="264240" cy="88560"/>
                </a:xfrm>
                <a:prstGeom prst="parallelogram">
                  <a:avLst>
                    <a:gd name="adj" fmla="val 74579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rot="21480000">
                  <a:off x="4122000" y="3624120"/>
                  <a:ext cx="25560" cy="20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3985200" y="3672000"/>
                <a:ext cx="185400" cy="64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2" y="10390"/>
                    </a:moveTo>
                    <a:arcTo wR="10800" hR="10800" stAng="-130617" swAng="55817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2" y="10390"/>
                    </a:moveTo>
                    <a:arcTo wR="10800" hR="10800" stAng="-130617" swAng="558176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4192920" y="3114000"/>
              <a:ext cx="990360" cy="527760"/>
              <a:chOff x="4192920" y="3114000"/>
              <a:chExt cx="990360" cy="52776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4192920" y="3114000"/>
                <a:ext cx="908640" cy="527760"/>
                <a:chOff x="4192920" y="3114000"/>
                <a:chExt cx="908640" cy="527760"/>
              </a:xfrm>
            </p:grpSpPr>
            <p:sp>
              <p:nvSpPr>
                <p:cNvPr id="316" name=""/>
                <p:cNvSpPr/>
                <p:nvPr/>
              </p:nvSpPr>
              <p:spPr>
                <a:xfrm flipH="1" rot="120000">
                  <a:off x="4587840" y="3323880"/>
                  <a:ext cx="510480" cy="1746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rot="19260000">
                  <a:off x="4283640" y="3141720"/>
                  <a:ext cx="218520" cy="36828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 rot="120000">
                  <a:off x="4984920" y="3330720"/>
                  <a:ext cx="60480" cy="66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 rot="4440000">
                  <a:off x="4757040" y="3414600"/>
                  <a:ext cx="158760" cy="235800"/>
                </a:xfrm>
                <a:custGeom>
                  <a:avLst/>
                  <a:gdLst>
                    <a:gd name="textAreaLeft" fmla="*/ 34920 w 158760"/>
                    <a:gd name="textAreaRight" fmla="*/ 123840 w 158760"/>
                    <a:gd name="textAreaTop" fmla="*/ 51840 h 235800"/>
                    <a:gd name="textAreaBottom" fmla="*/ 183960 h 235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 rot="21360000">
                  <a:off x="4605120" y="3243960"/>
                  <a:ext cx="263880" cy="88920"/>
                </a:xfrm>
                <a:prstGeom prst="parallelogram">
                  <a:avLst>
                    <a:gd name="adj" fmla="val 74177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rot="120000">
                  <a:off x="5016960" y="3336840"/>
                  <a:ext cx="25560" cy="201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4997880" y="3387240"/>
                <a:ext cx="185400" cy="62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39" y="21599"/>
                    </a:moveTo>
                    <a:arcTo wR="10800" hR="10800" stAng="5451148" swAng="54775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39" y="21599"/>
                    </a:moveTo>
                    <a:arcTo wR="10800" hR="10800" stAng="5451148" swAng="547757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003560" y="2761560"/>
              <a:ext cx="699480" cy="369000"/>
              <a:chOff x="4003560" y="2761560"/>
              <a:chExt cx="699480" cy="36900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4003560" y="2761560"/>
                <a:ext cx="641160" cy="369000"/>
                <a:chOff x="4003560" y="2761560"/>
                <a:chExt cx="641160" cy="369000"/>
              </a:xfrm>
            </p:grpSpPr>
            <p:sp>
              <p:nvSpPr>
                <p:cNvPr id="325" name=""/>
                <p:cNvSpPr/>
                <p:nvPr/>
              </p:nvSpPr>
              <p:spPr>
                <a:xfrm flipH="1" rot="120000">
                  <a:off x="4280760" y="2908080"/>
                  <a:ext cx="361440" cy="1220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 rot="19260000">
                  <a:off x="4066920" y="2781360"/>
                  <a:ext cx="154440" cy="25632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 rot="120000">
                  <a:off x="4563360" y="2913120"/>
                  <a:ext cx="42480" cy="46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V="1" rot="4440000">
                  <a:off x="4402440" y="2970720"/>
                  <a:ext cx="110880" cy="166680"/>
                </a:xfrm>
                <a:custGeom>
                  <a:avLst/>
                  <a:gdLst>
                    <a:gd name="textAreaLeft" fmla="*/ 24120 w 110880"/>
                    <a:gd name="textAreaRight" fmla="*/ 86760 w 110880"/>
                    <a:gd name="textAreaTop" fmla="*/ 36720 h 166680"/>
                    <a:gd name="textAreaBottom" fmla="*/ 129960 h 166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 rot="21360000">
                  <a:off x="4294080" y="2851920"/>
                  <a:ext cx="186840" cy="61560"/>
                </a:xfrm>
                <a:prstGeom prst="parallelogram">
                  <a:avLst>
                    <a:gd name="adj" fmla="val 75863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 rot="120000">
                  <a:off x="4584960" y="2917440"/>
                  <a:ext cx="176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4571640" y="2952720"/>
                <a:ext cx="131400" cy="4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39" y="21599"/>
                    </a:moveTo>
                    <a:arcTo wR="10800" hR="10800" stAng="5451148" swAng="54775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39" y="21599"/>
                    </a:moveTo>
                    <a:arcTo wR="10800" hR="10800" stAng="5451148" swAng="547757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3296520" y="4265640"/>
              <a:ext cx="1180440" cy="677160"/>
              <a:chOff x="3296520" y="4265640"/>
              <a:chExt cx="1180440" cy="67716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3296520" y="4265640"/>
                <a:ext cx="1085040" cy="677160"/>
                <a:chOff x="3296520" y="4265640"/>
                <a:chExt cx="1085040" cy="677160"/>
              </a:xfrm>
            </p:grpSpPr>
            <p:sp>
              <p:nvSpPr>
                <p:cNvPr id="334" name=""/>
                <p:cNvSpPr/>
                <p:nvPr/>
              </p:nvSpPr>
              <p:spPr>
                <a:xfrm flipH="1" rot="120000">
                  <a:off x="3776040" y="4530240"/>
                  <a:ext cx="601560" cy="2282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 rot="19260000">
                  <a:off x="3418560" y="4292640"/>
                  <a:ext cx="256680" cy="48096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 rot="120000">
                  <a:off x="4244040" y="4540320"/>
                  <a:ext cx="71280" cy="87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 rot="4440000">
                  <a:off x="3965040" y="4665600"/>
                  <a:ext cx="208080" cy="277560"/>
                </a:xfrm>
                <a:custGeom>
                  <a:avLst/>
                  <a:gdLst>
                    <a:gd name="textAreaLeft" fmla="*/ 45720 w 208080"/>
                    <a:gd name="textAreaRight" fmla="*/ 162360 w 208080"/>
                    <a:gd name="textAreaTop" fmla="*/ 60840 h 277560"/>
                    <a:gd name="textAreaBottom" fmla="*/ 216720 h 27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 rot="21360000">
                  <a:off x="3796200" y="4425480"/>
                  <a:ext cx="310680" cy="115920"/>
                </a:xfrm>
                <a:prstGeom prst="parallelogram">
                  <a:avLst>
                    <a:gd name="adj" fmla="val 66991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 rot="120000">
                  <a:off x="4282920" y="4547880"/>
                  <a:ext cx="29880" cy="27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" name=""/>
              <p:cNvSpPr/>
              <p:nvPr/>
            </p:nvSpPr>
            <p:spPr>
              <a:xfrm>
                <a:off x="4259160" y="4613400"/>
                <a:ext cx="217800" cy="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39" y="21599"/>
                    </a:moveTo>
                    <a:arcTo wR="10800" hR="10800" stAng="5451148" swAng="54775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39" y="21599"/>
                    </a:moveTo>
                    <a:arcTo wR="10800" hR="10800" stAng="5451148" swAng="547757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3728520" y="3978000"/>
              <a:ext cx="1180080" cy="677520"/>
              <a:chOff x="3728520" y="3978000"/>
              <a:chExt cx="1180080" cy="67752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3728520" y="3978000"/>
                <a:ext cx="1084680" cy="677520"/>
                <a:chOff x="3728520" y="3978000"/>
                <a:chExt cx="1084680" cy="677520"/>
              </a:xfrm>
            </p:grpSpPr>
            <p:sp>
              <p:nvSpPr>
                <p:cNvPr id="343" name=""/>
                <p:cNvSpPr/>
                <p:nvPr/>
              </p:nvSpPr>
              <p:spPr>
                <a:xfrm flipH="1" rot="120000">
                  <a:off x="4207680" y="4242960"/>
                  <a:ext cx="601560" cy="2282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rot="19260000">
                  <a:off x="3851280" y="4005000"/>
                  <a:ext cx="257040" cy="48132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rot="120000">
                  <a:off x="4675680" y="4253040"/>
                  <a:ext cx="71280" cy="87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 rot="4440000">
                  <a:off x="4396680" y="4378320"/>
                  <a:ext cx="208080" cy="277560"/>
                </a:xfrm>
                <a:custGeom>
                  <a:avLst/>
                  <a:gdLst>
                    <a:gd name="textAreaLeft" fmla="*/ 45720 w 208080"/>
                    <a:gd name="textAreaRight" fmla="*/ 162360 w 208080"/>
                    <a:gd name="textAreaTop" fmla="*/ 60840 h 277560"/>
                    <a:gd name="textAreaBottom" fmla="*/ 216720 h 27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H="1" rot="21360000">
                  <a:off x="4227840" y="4138200"/>
                  <a:ext cx="310680" cy="115920"/>
                </a:xfrm>
                <a:prstGeom prst="parallelogram">
                  <a:avLst>
                    <a:gd name="adj" fmla="val 66991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 rot="120000">
                  <a:off x="4714560" y="4260600"/>
                  <a:ext cx="29880" cy="27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"/>
              <p:cNvSpPr/>
              <p:nvPr/>
            </p:nvSpPr>
            <p:spPr>
              <a:xfrm>
                <a:off x="4690800" y="4326120"/>
                <a:ext cx="217800" cy="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39" y="21599"/>
                    </a:moveTo>
                    <a:arcTo wR="10800" hR="10800" stAng="5451148" swAng="54775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39" y="21599"/>
                    </a:moveTo>
                    <a:arcTo wR="10800" hR="10800" stAng="5451148" swAng="547757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1042920" y="476280"/>
          <a:ext cx="7128000" cy="5715000"/>
        </p:xfrm>
        <a:graphic>
          <a:graphicData uri="http://schemas.openxmlformats.org/drawingml/2006/table">
            <a:tbl>
              <a:tblPr/>
              <a:tblGrid>
                <a:gridCol w="4079880"/>
                <a:gridCol w="3048120"/>
              </a:tblGrid>
              <a:tr h="825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of risk assessment results where no suitable biological data avail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ased on risk assessment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dence of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spcAft>
                          <a:spcPts val="2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Po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igh confidence poor or wo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33"/>
                    </a:solidFill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-324000" y="0"/>
            <a:ext cx="10225080" cy="15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-252360" y="3573360"/>
            <a:ext cx="9648720" cy="34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9280" y="21096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milarly…. risk analysis for morphological pres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0920" y="19130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iver, lake, transitional and coastal water morphological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5280" y="3676680"/>
            <a:ext cx="808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define supporting conditions for high, good, moderate and poor ecologic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5280" y="5259240"/>
            <a:ext cx="808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based on literature review; advice from independent experts; and public consul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3059280"/>
            <a:ext cx="4578480" cy="37987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324000" y="-428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phological classification takes account of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14986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cological sensitivity of different water body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3280" y="2924280"/>
            <a:ext cx="42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cological risk posed by different types of mod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43280" y="5315040"/>
            <a:ext cx="43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l modifications to the water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-36360" y="-387360"/>
            <a:ext cx="10440720" cy="90756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4920" y="366840"/>
            <a:ext cx="9145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where morphological classification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00000" y="836640"/>
            <a:ext cx="7488360" cy="43927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93920" y="1522440"/>
            <a:ext cx="6500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fidence information is important to inform objective setting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5003640" y="620640"/>
            <a:ext cx="2952720" cy="1726920"/>
            <a:chOff x="5003640" y="620640"/>
            <a:chExt cx="2952720" cy="1726920"/>
          </a:xfrm>
        </p:grpSpPr>
        <p:sp>
          <p:nvSpPr>
            <p:cNvPr id="367" name=""/>
            <p:cNvSpPr/>
            <p:nvPr/>
          </p:nvSpPr>
          <p:spPr>
            <a:xfrm>
              <a:off x="5003640" y="620640"/>
              <a:ext cx="2952720" cy="17269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19280" y="1133280"/>
              <a:ext cx="2519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dium confidence or l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003640" y="2349360"/>
            <a:ext cx="2952720" cy="1726920"/>
            <a:chOff x="5003640" y="2349360"/>
            <a:chExt cx="2952720" cy="1726920"/>
          </a:xfrm>
        </p:grpSpPr>
        <p:sp>
          <p:nvSpPr>
            <p:cNvPr id="370" name=""/>
            <p:cNvSpPr/>
            <p:nvPr/>
          </p:nvSpPr>
          <p:spPr>
            <a:xfrm>
              <a:off x="5003640" y="2349360"/>
              <a:ext cx="2952720" cy="1726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11640" y="2557080"/>
              <a:ext cx="27352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ignificant risk investment in measures will be was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5003640" y="4076640"/>
            <a:ext cx="2953080" cy="172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11640" y="4076640"/>
            <a:ext cx="2735280" cy="1669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y extended d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rther monitoring &amp; assessment to reduce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187280" y="620640"/>
            <a:ext cx="2952720" cy="5182920"/>
            <a:chOff x="1187280" y="620640"/>
            <a:chExt cx="2952720" cy="5182920"/>
          </a:xfrm>
        </p:grpSpPr>
        <p:grpSp>
          <p:nvGrpSpPr>
            <p:cNvPr id="375" name=""/>
            <p:cNvGrpSpPr/>
            <p:nvPr/>
          </p:nvGrpSpPr>
          <p:grpSpPr>
            <a:xfrm>
              <a:off x="1187280" y="620640"/>
              <a:ext cx="2952720" cy="1726920"/>
              <a:chOff x="1187280" y="620640"/>
              <a:chExt cx="2952720" cy="1726920"/>
            </a:xfrm>
          </p:grpSpPr>
          <p:sp>
            <p:nvSpPr>
              <p:cNvPr id="376" name=""/>
              <p:cNvSpPr/>
              <p:nvPr/>
            </p:nvSpPr>
            <p:spPr>
              <a:xfrm>
                <a:off x="1187280" y="620640"/>
                <a:ext cx="2952720" cy="172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02920" y="1285560"/>
                <a:ext cx="251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High confiden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1187280" y="2349360"/>
              <a:ext cx="2952720" cy="1727280"/>
              <a:chOff x="1187280" y="2349360"/>
              <a:chExt cx="2952720" cy="1727280"/>
            </a:xfrm>
          </p:grpSpPr>
          <p:sp>
            <p:nvSpPr>
              <p:cNvPr id="379" name=""/>
              <p:cNvSpPr/>
              <p:nvPr/>
            </p:nvSpPr>
            <p:spPr>
              <a:xfrm>
                <a:off x="1187280" y="2349360"/>
                <a:ext cx="2952720" cy="172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02920" y="2557440"/>
                <a:ext cx="251964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ow risk investment in measures will be waste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1187280" y="4076640"/>
              <a:ext cx="2952720" cy="1726920"/>
              <a:chOff x="1187280" y="4076640"/>
              <a:chExt cx="2952720" cy="1726920"/>
            </a:xfrm>
          </p:grpSpPr>
          <p:sp>
            <p:nvSpPr>
              <p:cNvPr id="382" name=""/>
              <p:cNvSpPr/>
              <p:nvPr/>
            </p:nvSpPr>
            <p:spPr>
              <a:xfrm>
                <a:off x="1187280" y="4076640"/>
                <a:ext cx="2952720" cy="172692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285560" y="4437000"/>
                <a:ext cx="27576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mplement feasible and proportionate measu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611280" y="1052640"/>
            <a:ext cx="7920000" cy="4248000"/>
            <a:chOff x="611280" y="1052640"/>
            <a:chExt cx="7920000" cy="4248000"/>
          </a:xfrm>
        </p:grpSpPr>
        <p:sp>
          <p:nvSpPr>
            <p:cNvPr id="385" name=""/>
            <p:cNvSpPr/>
            <p:nvPr/>
          </p:nvSpPr>
          <p:spPr>
            <a:xfrm>
              <a:off x="611280" y="1052640"/>
              <a:ext cx="7920000" cy="42480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06560" y="1666800"/>
              <a:ext cx="71294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Risk assessment results can also be used to help confirm the cause of biological impact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971640" y="189000"/>
          <a:ext cx="7416360" cy="5876640"/>
        </p:xfrm>
        <a:graphic>
          <a:graphicData uri="http://schemas.openxmlformats.org/drawingml/2006/table">
            <a:tbl>
              <a:tblPr/>
              <a:tblGrid>
                <a:gridCol w="2472120"/>
                <a:gridCol w="2472120"/>
                <a:gridCol w="2472120"/>
              </a:tblGrid>
              <a:tr h="11401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of risk assessment results where suitable biological data is avail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ased on hydrological risk assessment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Class based on relevant biological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dence of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igh confidence moderate or wo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Po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Po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B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B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88" name=""/>
          <p:cNvSpPr/>
          <p:nvPr/>
        </p:nvSpPr>
        <p:spPr>
          <a:xfrm>
            <a:off x="1044720" y="1413000"/>
            <a:ext cx="2303280" cy="1439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4360" y="1728720"/>
            <a:ext cx="73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duce first classifications in mid-2008 for inclusion in draft pl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47652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for 1,000s of water bo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4738680"/>
            <a:ext cx="73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bject to pressures not considered in pre-WFD classification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9800" y="115920"/>
            <a:ext cx="44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chall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98520" y="63360"/>
            <a:ext cx="43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13413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use of risk assessment results can help meet the challenge of classification for the first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4000" y="334800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prevent the impact of certain pressures being under-re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4000" y="486900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re such results are used, providing appropriate information on confidence is important to inform objective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1280" y="12841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 the draft plans, just 1 full year of monitor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446724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ppropriate biological tools &amp; sampling methods for hydromorphological pressures still lim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8749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 the final plans, only 2 full years of monitor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60" y="4428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y is this a challeng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555920"/>
            <a:ext cx="8280360" cy="489744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144880"/>
            <a:ext cx="786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ed suitable biological data for the first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4219560"/>
            <a:ext cx="786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tential for classification results to give a misleadingly optimistic vie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9800" y="115920"/>
            <a:ext cx="26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Arial"/>
              </a:rPr>
              <a:t>The ris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04160" y="-184320"/>
            <a:ext cx="2300040" cy="5729400"/>
          </a:xfrm>
          <a:custGeom>
            <a:avLst/>
            <a:gdLst/>
            <a:ahLst/>
            <a:rect l="l" t="t" r="r" b="b"/>
            <a:pathLst>
              <a:path w="1449" h="3609">
                <a:moveTo>
                  <a:pt x="1202" y="3609"/>
                </a:moveTo>
                <a:cubicBezTo>
                  <a:pt x="1090" y="3592"/>
                  <a:pt x="982" y="3563"/>
                  <a:pt x="873" y="3535"/>
                </a:cubicBezTo>
                <a:cubicBezTo>
                  <a:pt x="822" y="3522"/>
                  <a:pt x="769" y="3525"/>
                  <a:pt x="717" y="3517"/>
                </a:cubicBezTo>
                <a:cubicBezTo>
                  <a:pt x="699" y="3511"/>
                  <a:pt x="680" y="3505"/>
                  <a:pt x="662" y="3499"/>
                </a:cubicBezTo>
                <a:cubicBezTo>
                  <a:pt x="653" y="3496"/>
                  <a:pt x="667" y="3480"/>
                  <a:pt x="671" y="3471"/>
                </a:cubicBezTo>
                <a:cubicBezTo>
                  <a:pt x="698" y="3413"/>
                  <a:pt x="727" y="3343"/>
                  <a:pt x="763" y="3289"/>
                </a:cubicBezTo>
                <a:cubicBezTo>
                  <a:pt x="734" y="3258"/>
                  <a:pt x="684" y="3250"/>
                  <a:pt x="644" y="3234"/>
                </a:cubicBezTo>
                <a:cubicBezTo>
                  <a:pt x="626" y="3227"/>
                  <a:pt x="589" y="3215"/>
                  <a:pt x="589" y="3215"/>
                </a:cubicBezTo>
                <a:cubicBezTo>
                  <a:pt x="619" y="3170"/>
                  <a:pt x="663" y="3167"/>
                  <a:pt x="708" y="3142"/>
                </a:cubicBezTo>
                <a:cubicBezTo>
                  <a:pt x="727" y="3132"/>
                  <a:pt x="763" y="3106"/>
                  <a:pt x="763" y="3106"/>
                </a:cubicBezTo>
                <a:cubicBezTo>
                  <a:pt x="788" y="3029"/>
                  <a:pt x="636" y="2979"/>
                  <a:pt x="580" y="2950"/>
                </a:cubicBezTo>
                <a:cubicBezTo>
                  <a:pt x="536" y="2927"/>
                  <a:pt x="392" y="2861"/>
                  <a:pt x="333" y="2822"/>
                </a:cubicBezTo>
                <a:cubicBezTo>
                  <a:pt x="307" y="2805"/>
                  <a:pt x="286" y="2784"/>
                  <a:pt x="260" y="2767"/>
                </a:cubicBezTo>
                <a:cubicBezTo>
                  <a:pt x="215" y="2738"/>
                  <a:pt x="165" y="2718"/>
                  <a:pt x="123" y="2685"/>
                </a:cubicBezTo>
                <a:cubicBezTo>
                  <a:pt x="86" y="2656"/>
                  <a:pt x="63" y="2632"/>
                  <a:pt x="22" y="2612"/>
                </a:cubicBezTo>
                <a:cubicBezTo>
                  <a:pt x="0" y="2547"/>
                  <a:pt x="87" y="2563"/>
                  <a:pt x="132" y="2557"/>
                </a:cubicBezTo>
                <a:cubicBezTo>
                  <a:pt x="227" y="2545"/>
                  <a:pt x="319" y="2536"/>
                  <a:pt x="415" y="2530"/>
                </a:cubicBezTo>
                <a:cubicBezTo>
                  <a:pt x="405" y="2525"/>
                  <a:pt x="361" y="2503"/>
                  <a:pt x="351" y="2493"/>
                </a:cubicBezTo>
                <a:cubicBezTo>
                  <a:pt x="343" y="2485"/>
                  <a:pt x="341" y="2473"/>
                  <a:pt x="333" y="2466"/>
                </a:cubicBezTo>
                <a:cubicBezTo>
                  <a:pt x="307" y="2443"/>
                  <a:pt x="272" y="2430"/>
                  <a:pt x="251" y="2402"/>
                </a:cubicBezTo>
                <a:cubicBezTo>
                  <a:pt x="217" y="2357"/>
                  <a:pt x="238" y="2370"/>
                  <a:pt x="196" y="2356"/>
                </a:cubicBezTo>
                <a:cubicBezTo>
                  <a:pt x="158" y="2299"/>
                  <a:pt x="206" y="2308"/>
                  <a:pt x="260" y="2301"/>
                </a:cubicBezTo>
                <a:cubicBezTo>
                  <a:pt x="313" y="2294"/>
                  <a:pt x="382" y="2288"/>
                  <a:pt x="434" y="2283"/>
                </a:cubicBezTo>
                <a:cubicBezTo>
                  <a:pt x="449" y="2277"/>
                  <a:pt x="464" y="2271"/>
                  <a:pt x="479" y="2265"/>
                </a:cubicBezTo>
                <a:cubicBezTo>
                  <a:pt x="488" y="2261"/>
                  <a:pt x="502" y="2264"/>
                  <a:pt x="507" y="2255"/>
                </a:cubicBezTo>
                <a:cubicBezTo>
                  <a:pt x="519" y="2232"/>
                  <a:pt x="415" y="2178"/>
                  <a:pt x="406" y="2173"/>
                </a:cubicBezTo>
                <a:cubicBezTo>
                  <a:pt x="314" y="2116"/>
                  <a:pt x="214" y="2078"/>
                  <a:pt x="123" y="2018"/>
                </a:cubicBezTo>
                <a:cubicBezTo>
                  <a:pt x="167" y="2009"/>
                  <a:pt x="206" y="1997"/>
                  <a:pt x="251" y="1990"/>
                </a:cubicBezTo>
                <a:cubicBezTo>
                  <a:pt x="294" y="1984"/>
                  <a:pt x="379" y="1972"/>
                  <a:pt x="379" y="1972"/>
                </a:cubicBezTo>
                <a:cubicBezTo>
                  <a:pt x="497" y="1933"/>
                  <a:pt x="367" y="1972"/>
                  <a:pt x="498" y="1945"/>
                </a:cubicBezTo>
                <a:cubicBezTo>
                  <a:pt x="528" y="1939"/>
                  <a:pt x="551" y="1918"/>
                  <a:pt x="580" y="1908"/>
                </a:cubicBezTo>
                <a:cubicBezTo>
                  <a:pt x="639" y="1928"/>
                  <a:pt x="692" y="1907"/>
                  <a:pt x="745" y="1881"/>
                </a:cubicBezTo>
                <a:cubicBezTo>
                  <a:pt x="758" y="1867"/>
                  <a:pt x="782" y="1862"/>
                  <a:pt x="790" y="1844"/>
                </a:cubicBezTo>
                <a:cubicBezTo>
                  <a:pt x="804" y="1812"/>
                  <a:pt x="805" y="1746"/>
                  <a:pt x="818" y="1707"/>
                </a:cubicBezTo>
                <a:cubicBezTo>
                  <a:pt x="809" y="1671"/>
                  <a:pt x="797" y="1635"/>
                  <a:pt x="772" y="1606"/>
                </a:cubicBezTo>
                <a:cubicBezTo>
                  <a:pt x="758" y="1590"/>
                  <a:pt x="726" y="1561"/>
                  <a:pt x="726" y="1561"/>
                </a:cubicBezTo>
                <a:cubicBezTo>
                  <a:pt x="751" y="1513"/>
                  <a:pt x="786" y="1486"/>
                  <a:pt x="836" y="1469"/>
                </a:cubicBezTo>
                <a:cubicBezTo>
                  <a:pt x="833" y="1460"/>
                  <a:pt x="834" y="1449"/>
                  <a:pt x="827" y="1442"/>
                </a:cubicBezTo>
                <a:cubicBezTo>
                  <a:pt x="804" y="1419"/>
                  <a:pt x="703" y="1393"/>
                  <a:pt x="671" y="1387"/>
                </a:cubicBezTo>
                <a:cubicBezTo>
                  <a:pt x="640" y="1366"/>
                  <a:pt x="634" y="1343"/>
                  <a:pt x="598" y="1332"/>
                </a:cubicBezTo>
                <a:cubicBezTo>
                  <a:pt x="532" y="1288"/>
                  <a:pt x="463" y="1311"/>
                  <a:pt x="388" y="1323"/>
                </a:cubicBezTo>
                <a:cubicBezTo>
                  <a:pt x="351" y="1320"/>
                  <a:pt x="309" y="1334"/>
                  <a:pt x="278" y="1314"/>
                </a:cubicBezTo>
                <a:cubicBezTo>
                  <a:pt x="262" y="1304"/>
                  <a:pt x="280" y="1276"/>
                  <a:pt x="287" y="1259"/>
                </a:cubicBezTo>
                <a:cubicBezTo>
                  <a:pt x="301" y="1225"/>
                  <a:pt x="334" y="1185"/>
                  <a:pt x="361" y="1158"/>
                </a:cubicBezTo>
                <a:cubicBezTo>
                  <a:pt x="386" y="1084"/>
                  <a:pt x="457" y="1004"/>
                  <a:pt x="534" y="985"/>
                </a:cubicBezTo>
                <a:cubicBezTo>
                  <a:pt x="608" y="947"/>
                  <a:pt x="682" y="915"/>
                  <a:pt x="763" y="902"/>
                </a:cubicBezTo>
                <a:cubicBezTo>
                  <a:pt x="781" y="896"/>
                  <a:pt x="800" y="890"/>
                  <a:pt x="818" y="884"/>
                </a:cubicBezTo>
                <a:cubicBezTo>
                  <a:pt x="827" y="881"/>
                  <a:pt x="845" y="875"/>
                  <a:pt x="845" y="875"/>
                </a:cubicBezTo>
                <a:cubicBezTo>
                  <a:pt x="870" y="877"/>
                  <a:pt x="951" y="873"/>
                  <a:pt x="991" y="893"/>
                </a:cubicBezTo>
                <a:cubicBezTo>
                  <a:pt x="1053" y="923"/>
                  <a:pt x="1134" y="1024"/>
                  <a:pt x="1174" y="1085"/>
                </a:cubicBezTo>
                <a:cubicBezTo>
                  <a:pt x="1449" y="1941"/>
                  <a:pt x="1189" y="0"/>
                  <a:pt x="1202" y="36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6021360"/>
            <a:ext cx="6778800" cy="812880"/>
          </a:xfrm>
          <a:custGeom>
            <a:avLst/>
            <a:gdLst/>
            <a:ahLst/>
            <a:rect l="l" t="t" r="r" b="b"/>
            <a:pathLst>
              <a:path w="4270" h="512">
                <a:moveTo>
                  <a:pt x="0" y="247"/>
                </a:moveTo>
                <a:cubicBezTo>
                  <a:pt x="23" y="222"/>
                  <a:pt x="17" y="225"/>
                  <a:pt x="55" y="210"/>
                </a:cubicBezTo>
                <a:cubicBezTo>
                  <a:pt x="73" y="203"/>
                  <a:pt x="110" y="192"/>
                  <a:pt x="110" y="192"/>
                </a:cubicBezTo>
                <a:cubicBezTo>
                  <a:pt x="116" y="186"/>
                  <a:pt x="119" y="174"/>
                  <a:pt x="128" y="173"/>
                </a:cubicBezTo>
                <a:cubicBezTo>
                  <a:pt x="154" y="169"/>
                  <a:pt x="221" y="196"/>
                  <a:pt x="247" y="201"/>
                </a:cubicBezTo>
                <a:cubicBezTo>
                  <a:pt x="321" y="182"/>
                  <a:pt x="248" y="205"/>
                  <a:pt x="311" y="173"/>
                </a:cubicBezTo>
                <a:cubicBezTo>
                  <a:pt x="346" y="155"/>
                  <a:pt x="393" y="152"/>
                  <a:pt x="430" y="146"/>
                </a:cubicBezTo>
                <a:cubicBezTo>
                  <a:pt x="530" y="113"/>
                  <a:pt x="591" y="255"/>
                  <a:pt x="677" y="283"/>
                </a:cubicBezTo>
                <a:cubicBezTo>
                  <a:pt x="743" y="261"/>
                  <a:pt x="807" y="232"/>
                  <a:pt x="869" y="201"/>
                </a:cubicBezTo>
                <a:cubicBezTo>
                  <a:pt x="879" y="196"/>
                  <a:pt x="888" y="190"/>
                  <a:pt x="896" y="183"/>
                </a:cubicBezTo>
                <a:cubicBezTo>
                  <a:pt x="903" y="177"/>
                  <a:pt x="906" y="168"/>
                  <a:pt x="914" y="164"/>
                </a:cubicBezTo>
                <a:cubicBezTo>
                  <a:pt x="934" y="154"/>
                  <a:pt x="958" y="156"/>
                  <a:pt x="978" y="146"/>
                </a:cubicBezTo>
                <a:cubicBezTo>
                  <a:pt x="1025" y="123"/>
                  <a:pt x="1064" y="95"/>
                  <a:pt x="1115" y="82"/>
                </a:cubicBezTo>
                <a:cubicBezTo>
                  <a:pt x="1207" y="23"/>
                  <a:pt x="1239" y="148"/>
                  <a:pt x="1317" y="173"/>
                </a:cubicBezTo>
                <a:cubicBezTo>
                  <a:pt x="1362" y="150"/>
                  <a:pt x="1356" y="138"/>
                  <a:pt x="1390" y="109"/>
                </a:cubicBezTo>
                <a:cubicBezTo>
                  <a:pt x="1466" y="45"/>
                  <a:pt x="1396" y="111"/>
                  <a:pt x="1445" y="64"/>
                </a:cubicBezTo>
                <a:cubicBezTo>
                  <a:pt x="1454" y="67"/>
                  <a:pt x="1466" y="66"/>
                  <a:pt x="1472" y="73"/>
                </a:cubicBezTo>
                <a:cubicBezTo>
                  <a:pt x="1480" y="83"/>
                  <a:pt x="1476" y="98"/>
                  <a:pt x="1481" y="109"/>
                </a:cubicBezTo>
                <a:cubicBezTo>
                  <a:pt x="1489" y="128"/>
                  <a:pt x="1500" y="146"/>
                  <a:pt x="1509" y="164"/>
                </a:cubicBezTo>
                <a:cubicBezTo>
                  <a:pt x="1521" y="212"/>
                  <a:pt x="1536" y="257"/>
                  <a:pt x="1573" y="292"/>
                </a:cubicBezTo>
                <a:cubicBezTo>
                  <a:pt x="1647" y="243"/>
                  <a:pt x="1687" y="149"/>
                  <a:pt x="1765" y="109"/>
                </a:cubicBezTo>
                <a:cubicBezTo>
                  <a:pt x="1800" y="56"/>
                  <a:pt x="1762" y="101"/>
                  <a:pt x="1810" y="73"/>
                </a:cubicBezTo>
                <a:cubicBezTo>
                  <a:pt x="1818" y="69"/>
                  <a:pt x="1821" y="59"/>
                  <a:pt x="1829" y="55"/>
                </a:cubicBezTo>
                <a:cubicBezTo>
                  <a:pt x="1846" y="46"/>
                  <a:pt x="1883" y="36"/>
                  <a:pt x="1883" y="36"/>
                </a:cubicBezTo>
                <a:cubicBezTo>
                  <a:pt x="1917" y="42"/>
                  <a:pt x="1951" y="45"/>
                  <a:pt x="1984" y="55"/>
                </a:cubicBezTo>
                <a:cubicBezTo>
                  <a:pt x="2029" y="69"/>
                  <a:pt x="2059" y="109"/>
                  <a:pt x="2094" y="137"/>
                </a:cubicBezTo>
                <a:cubicBezTo>
                  <a:pt x="2135" y="170"/>
                  <a:pt x="2185" y="193"/>
                  <a:pt x="2222" y="228"/>
                </a:cubicBezTo>
                <a:cubicBezTo>
                  <a:pt x="2273" y="215"/>
                  <a:pt x="2270" y="204"/>
                  <a:pt x="2304" y="164"/>
                </a:cubicBezTo>
                <a:cubicBezTo>
                  <a:pt x="2336" y="127"/>
                  <a:pt x="2386" y="88"/>
                  <a:pt x="2432" y="73"/>
                </a:cubicBezTo>
                <a:cubicBezTo>
                  <a:pt x="2459" y="76"/>
                  <a:pt x="2488" y="72"/>
                  <a:pt x="2514" y="82"/>
                </a:cubicBezTo>
                <a:cubicBezTo>
                  <a:pt x="2530" y="88"/>
                  <a:pt x="2537" y="109"/>
                  <a:pt x="2551" y="119"/>
                </a:cubicBezTo>
                <a:cubicBezTo>
                  <a:pt x="2562" y="127"/>
                  <a:pt x="2575" y="131"/>
                  <a:pt x="2587" y="137"/>
                </a:cubicBezTo>
                <a:cubicBezTo>
                  <a:pt x="2593" y="149"/>
                  <a:pt x="2596" y="163"/>
                  <a:pt x="2606" y="173"/>
                </a:cubicBezTo>
                <a:cubicBezTo>
                  <a:pt x="2615" y="182"/>
                  <a:pt x="2673" y="205"/>
                  <a:pt x="2688" y="210"/>
                </a:cubicBezTo>
                <a:cubicBezTo>
                  <a:pt x="2717" y="190"/>
                  <a:pt x="2742" y="167"/>
                  <a:pt x="2770" y="146"/>
                </a:cubicBezTo>
                <a:cubicBezTo>
                  <a:pt x="2794" y="75"/>
                  <a:pt x="2850" y="49"/>
                  <a:pt x="2917" y="36"/>
                </a:cubicBezTo>
                <a:cubicBezTo>
                  <a:pt x="2944" y="39"/>
                  <a:pt x="2973" y="35"/>
                  <a:pt x="2999" y="45"/>
                </a:cubicBezTo>
                <a:cubicBezTo>
                  <a:pt x="3066" y="71"/>
                  <a:pt x="3119" y="139"/>
                  <a:pt x="3182" y="173"/>
                </a:cubicBezTo>
                <a:cubicBezTo>
                  <a:pt x="3241" y="205"/>
                  <a:pt x="3306" y="226"/>
                  <a:pt x="3365" y="256"/>
                </a:cubicBezTo>
                <a:cubicBezTo>
                  <a:pt x="3369" y="255"/>
                  <a:pt x="3415" y="240"/>
                  <a:pt x="3419" y="237"/>
                </a:cubicBezTo>
                <a:cubicBezTo>
                  <a:pt x="3457" y="212"/>
                  <a:pt x="3438" y="213"/>
                  <a:pt x="3465" y="183"/>
                </a:cubicBezTo>
                <a:cubicBezTo>
                  <a:pt x="3488" y="157"/>
                  <a:pt x="3514" y="134"/>
                  <a:pt x="3538" y="109"/>
                </a:cubicBezTo>
                <a:cubicBezTo>
                  <a:pt x="3547" y="100"/>
                  <a:pt x="3593" y="77"/>
                  <a:pt x="3602" y="73"/>
                </a:cubicBezTo>
                <a:cubicBezTo>
                  <a:pt x="3620" y="66"/>
                  <a:pt x="3657" y="55"/>
                  <a:pt x="3657" y="55"/>
                </a:cubicBezTo>
                <a:cubicBezTo>
                  <a:pt x="3697" y="61"/>
                  <a:pt x="3737" y="64"/>
                  <a:pt x="3776" y="73"/>
                </a:cubicBezTo>
                <a:cubicBezTo>
                  <a:pt x="3816" y="82"/>
                  <a:pt x="3830" y="116"/>
                  <a:pt x="3867" y="128"/>
                </a:cubicBezTo>
                <a:cubicBezTo>
                  <a:pt x="3933" y="112"/>
                  <a:pt x="3919" y="83"/>
                  <a:pt x="3968" y="45"/>
                </a:cubicBezTo>
                <a:cubicBezTo>
                  <a:pt x="4013" y="10"/>
                  <a:pt x="4010" y="13"/>
                  <a:pt x="4050" y="0"/>
                </a:cubicBezTo>
                <a:cubicBezTo>
                  <a:pt x="4078" y="3"/>
                  <a:pt x="4106" y="2"/>
                  <a:pt x="4133" y="9"/>
                </a:cubicBezTo>
                <a:cubicBezTo>
                  <a:pt x="4176" y="19"/>
                  <a:pt x="4151" y="34"/>
                  <a:pt x="4169" y="64"/>
                </a:cubicBezTo>
                <a:cubicBezTo>
                  <a:pt x="4175" y="75"/>
                  <a:pt x="4188" y="82"/>
                  <a:pt x="4197" y="91"/>
                </a:cubicBezTo>
                <a:cubicBezTo>
                  <a:pt x="4209" y="164"/>
                  <a:pt x="4246" y="230"/>
                  <a:pt x="4270" y="301"/>
                </a:cubicBezTo>
                <a:cubicBezTo>
                  <a:pt x="4217" y="320"/>
                  <a:pt x="4166" y="332"/>
                  <a:pt x="4114" y="356"/>
                </a:cubicBezTo>
                <a:cubicBezTo>
                  <a:pt x="4063" y="379"/>
                  <a:pt x="4040" y="400"/>
                  <a:pt x="3986" y="411"/>
                </a:cubicBezTo>
                <a:cubicBezTo>
                  <a:pt x="3883" y="462"/>
                  <a:pt x="3852" y="435"/>
                  <a:pt x="3703" y="420"/>
                </a:cubicBezTo>
                <a:cubicBezTo>
                  <a:pt x="3565" y="406"/>
                  <a:pt x="3429" y="364"/>
                  <a:pt x="3291" y="347"/>
                </a:cubicBezTo>
                <a:cubicBezTo>
                  <a:pt x="3188" y="350"/>
                  <a:pt x="3084" y="351"/>
                  <a:pt x="2981" y="356"/>
                </a:cubicBezTo>
                <a:cubicBezTo>
                  <a:pt x="2853" y="362"/>
                  <a:pt x="2987" y="356"/>
                  <a:pt x="2917" y="384"/>
                </a:cubicBezTo>
                <a:cubicBezTo>
                  <a:pt x="2893" y="393"/>
                  <a:pt x="2843" y="402"/>
                  <a:pt x="2843" y="402"/>
                </a:cubicBezTo>
                <a:cubicBezTo>
                  <a:pt x="2831" y="408"/>
                  <a:pt x="2820" y="416"/>
                  <a:pt x="2807" y="420"/>
                </a:cubicBezTo>
                <a:cubicBezTo>
                  <a:pt x="2792" y="425"/>
                  <a:pt x="2776" y="423"/>
                  <a:pt x="2761" y="429"/>
                </a:cubicBezTo>
                <a:cubicBezTo>
                  <a:pt x="2751" y="433"/>
                  <a:pt x="2744" y="444"/>
                  <a:pt x="2734" y="448"/>
                </a:cubicBezTo>
                <a:cubicBezTo>
                  <a:pt x="2718" y="455"/>
                  <a:pt x="2652" y="464"/>
                  <a:pt x="2642" y="466"/>
                </a:cubicBezTo>
                <a:cubicBezTo>
                  <a:pt x="2585" y="494"/>
                  <a:pt x="2625" y="479"/>
                  <a:pt x="2551" y="493"/>
                </a:cubicBezTo>
                <a:cubicBezTo>
                  <a:pt x="2520" y="499"/>
                  <a:pt x="2459" y="512"/>
                  <a:pt x="2459" y="512"/>
                </a:cubicBezTo>
                <a:cubicBezTo>
                  <a:pt x="2075" y="509"/>
                  <a:pt x="1691" y="509"/>
                  <a:pt x="1307" y="503"/>
                </a:cubicBezTo>
                <a:cubicBezTo>
                  <a:pt x="1133" y="500"/>
                  <a:pt x="958" y="451"/>
                  <a:pt x="786" y="429"/>
                </a:cubicBezTo>
                <a:cubicBezTo>
                  <a:pt x="657" y="412"/>
                  <a:pt x="536" y="415"/>
                  <a:pt x="402" y="411"/>
                </a:cubicBezTo>
                <a:cubicBezTo>
                  <a:pt x="354" y="395"/>
                  <a:pt x="306" y="383"/>
                  <a:pt x="256" y="375"/>
                </a:cubicBezTo>
                <a:cubicBezTo>
                  <a:pt x="217" y="361"/>
                  <a:pt x="177" y="351"/>
                  <a:pt x="137" y="338"/>
                </a:cubicBezTo>
                <a:cubicBezTo>
                  <a:pt x="128" y="335"/>
                  <a:pt x="110" y="329"/>
                  <a:pt x="110" y="329"/>
                </a:cubicBezTo>
                <a:cubicBezTo>
                  <a:pt x="73" y="294"/>
                  <a:pt x="111" y="326"/>
                  <a:pt x="64" y="301"/>
                </a:cubicBezTo>
                <a:cubicBezTo>
                  <a:pt x="39" y="288"/>
                  <a:pt x="20" y="267"/>
                  <a:pt x="0" y="2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8960" y="1052640"/>
            <a:ext cx="5254920" cy="1241280"/>
          </a:xfrm>
          <a:custGeom>
            <a:avLst/>
            <a:gdLst/>
            <a:ahLst/>
            <a:rect l="l" t="t" r="r" b="b"/>
            <a:pathLst>
              <a:path w="3310" h="782">
                <a:moveTo>
                  <a:pt x="0" y="192"/>
                </a:moveTo>
                <a:cubicBezTo>
                  <a:pt x="49" y="241"/>
                  <a:pt x="111" y="253"/>
                  <a:pt x="165" y="293"/>
                </a:cubicBezTo>
                <a:cubicBezTo>
                  <a:pt x="175" y="301"/>
                  <a:pt x="182" y="312"/>
                  <a:pt x="192" y="320"/>
                </a:cubicBezTo>
                <a:cubicBezTo>
                  <a:pt x="209" y="334"/>
                  <a:pt x="230" y="343"/>
                  <a:pt x="247" y="357"/>
                </a:cubicBezTo>
                <a:cubicBezTo>
                  <a:pt x="264" y="371"/>
                  <a:pt x="293" y="403"/>
                  <a:pt x="293" y="403"/>
                </a:cubicBezTo>
                <a:cubicBezTo>
                  <a:pt x="338" y="355"/>
                  <a:pt x="338" y="276"/>
                  <a:pt x="375" y="220"/>
                </a:cubicBezTo>
                <a:cubicBezTo>
                  <a:pt x="433" y="278"/>
                  <a:pt x="473" y="353"/>
                  <a:pt x="530" y="412"/>
                </a:cubicBezTo>
                <a:cubicBezTo>
                  <a:pt x="547" y="459"/>
                  <a:pt x="533" y="432"/>
                  <a:pt x="585" y="485"/>
                </a:cubicBezTo>
                <a:cubicBezTo>
                  <a:pt x="696" y="599"/>
                  <a:pt x="596" y="530"/>
                  <a:pt x="668" y="576"/>
                </a:cubicBezTo>
                <a:cubicBezTo>
                  <a:pt x="680" y="558"/>
                  <a:pt x="692" y="540"/>
                  <a:pt x="704" y="522"/>
                </a:cubicBezTo>
                <a:cubicBezTo>
                  <a:pt x="709" y="514"/>
                  <a:pt x="707" y="502"/>
                  <a:pt x="713" y="494"/>
                </a:cubicBezTo>
                <a:cubicBezTo>
                  <a:pt x="731" y="470"/>
                  <a:pt x="773" y="425"/>
                  <a:pt x="796" y="403"/>
                </a:cubicBezTo>
                <a:cubicBezTo>
                  <a:pt x="808" y="415"/>
                  <a:pt x="822" y="425"/>
                  <a:pt x="832" y="439"/>
                </a:cubicBezTo>
                <a:cubicBezTo>
                  <a:pt x="869" y="488"/>
                  <a:pt x="870" y="532"/>
                  <a:pt x="924" y="549"/>
                </a:cubicBezTo>
                <a:cubicBezTo>
                  <a:pt x="956" y="501"/>
                  <a:pt x="974" y="446"/>
                  <a:pt x="997" y="394"/>
                </a:cubicBezTo>
                <a:cubicBezTo>
                  <a:pt x="1011" y="363"/>
                  <a:pt x="1027" y="333"/>
                  <a:pt x="1042" y="302"/>
                </a:cubicBezTo>
                <a:cubicBezTo>
                  <a:pt x="1048" y="290"/>
                  <a:pt x="1061" y="266"/>
                  <a:pt x="1061" y="266"/>
                </a:cubicBezTo>
                <a:cubicBezTo>
                  <a:pt x="1104" y="323"/>
                  <a:pt x="1113" y="399"/>
                  <a:pt x="1134" y="467"/>
                </a:cubicBezTo>
                <a:cubicBezTo>
                  <a:pt x="1158" y="545"/>
                  <a:pt x="1186" y="620"/>
                  <a:pt x="1216" y="695"/>
                </a:cubicBezTo>
                <a:cubicBezTo>
                  <a:pt x="1268" y="678"/>
                  <a:pt x="1277" y="634"/>
                  <a:pt x="1308" y="595"/>
                </a:cubicBezTo>
                <a:cubicBezTo>
                  <a:pt x="1324" y="575"/>
                  <a:pt x="1362" y="540"/>
                  <a:pt x="1362" y="540"/>
                </a:cubicBezTo>
                <a:cubicBezTo>
                  <a:pt x="1376" y="500"/>
                  <a:pt x="1401" y="480"/>
                  <a:pt x="1436" y="458"/>
                </a:cubicBezTo>
                <a:cubicBezTo>
                  <a:pt x="1454" y="482"/>
                  <a:pt x="1472" y="507"/>
                  <a:pt x="1490" y="531"/>
                </a:cubicBezTo>
                <a:cubicBezTo>
                  <a:pt x="1503" y="549"/>
                  <a:pt x="1545" y="567"/>
                  <a:pt x="1545" y="567"/>
                </a:cubicBezTo>
                <a:cubicBezTo>
                  <a:pt x="1563" y="564"/>
                  <a:pt x="1583" y="565"/>
                  <a:pt x="1600" y="558"/>
                </a:cubicBezTo>
                <a:cubicBezTo>
                  <a:pt x="1633" y="544"/>
                  <a:pt x="1626" y="528"/>
                  <a:pt x="1637" y="503"/>
                </a:cubicBezTo>
                <a:cubicBezTo>
                  <a:pt x="1668" y="432"/>
                  <a:pt x="1694" y="358"/>
                  <a:pt x="1737" y="293"/>
                </a:cubicBezTo>
                <a:cubicBezTo>
                  <a:pt x="1806" y="337"/>
                  <a:pt x="1814" y="396"/>
                  <a:pt x="1847" y="467"/>
                </a:cubicBezTo>
                <a:cubicBezTo>
                  <a:pt x="1876" y="530"/>
                  <a:pt x="1911" y="592"/>
                  <a:pt x="1948" y="650"/>
                </a:cubicBezTo>
                <a:cubicBezTo>
                  <a:pt x="1974" y="691"/>
                  <a:pt x="1976" y="709"/>
                  <a:pt x="2021" y="723"/>
                </a:cubicBezTo>
                <a:cubicBezTo>
                  <a:pt x="2061" y="782"/>
                  <a:pt x="2094" y="745"/>
                  <a:pt x="2130" y="704"/>
                </a:cubicBezTo>
                <a:cubicBezTo>
                  <a:pt x="2163" y="666"/>
                  <a:pt x="2202" y="627"/>
                  <a:pt x="2231" y="586"/>
                </a:cubicBezTo>
                <a:cubicBezTo>
                  <a:pt x="2265" y="537"/>
                  <a:pt x="2278" y="511"/>
                  <a:pt x="2332" y="485"/>
                </a:cubicBezTo>
                <a:cubicBezTo>
                  <a:pt x="2374" y="443"/>
                  <a:pt x="2373" y="455"/>
                  <a:pt x="2414" y="494"/>
                </a:cubicBezTo>
                <a:cubicBezTo>
                  <a:pt x="2460" y="611"/>
                  <a:pt x="2401" y="475"/>
                  <a:pt x="2460" y="576"/>
                </a:cubicBezTo>
                <a:cubicBezTo>
                  <a:pt x="2482" y="615"/>
                  <a:pt x="2475" y="624"/>
                  <a:pt x="2524" y="640"/>
                </a:cubicBezTo>
                <a:cubicBezTo>
                  <a:pt x="2594" y="570"/>
                  <a:pt x="2636" y="507"/>
                  <a:pt x="2688" y="421"/>
                </a:cubicBezTo>
                <a:cubicBezTo>
                  <a:pt x="2705" y="393"/>
                  <a:pt x="2752" y="348"/>
                  <a:pt x="2752" y="348"/>
                </a:cubicBezTo>
                <a:cubicBezTo>
                  <a:pt x="2783" y="368"/>
                  <a:pt x="2790" y="391"/>
                  <a:pt x="2825" y="403"/>
                </a:cubicBezTo>
                <a:cubicBezTo>
                  <a:pt x="2874" y="450"/>
                  <a:pt x="2925" y="491"/>
                  <a:pt x="2990" y="512"/>
                </a:cubicBezTo>
                <a:cubicBezTo>
                  <a:pt x="3048" y="483"/>
                  <a:pt x="3062" y="434"/>
                  <a:pt x="3100" y="384"/>
                </a:cubicBezTo>
                <a:cubicBezTo>
                  <a:pt x="3103" y="369"/>
                  <a:pt x="3103" y="353"/>
                  <a:pt x="3109" y="339"/>
                </a:cubicBezTo>
                <a:cubicBezTo>
                  <a:pt x="3118" y="319"/>
                  <a:pt x="3145" y="284"/>
                  <a:pt x="3145" y="284"/>
                </a:cubicBezTo>
                <a:cubicBezTo>
                  <a:pt x="3159" y="239"/>
                  <a:pt x="3170" y="211"/>
                  <a:pt x="3209" y="183"/>
                </a:cubicBezTo>
                <a:cubicBezTo>
                  <a:pt x="3239" y="141"/>
                  <a:pt x="3275" y="101"/>
                  <a:pt x="3310" y="64"/>
                </a:cubicBezTo>
                <a:cubicBezTo>
                  <a:pt x="3200" y="29"/>
                  <a:pt x="3293" y="54"/>
                  <a:pt x="3026" y="83"/>
                </a:cubicBezTo>
                <a:cubicBezTo>
                  <a:pt x="2996" y="86"/>
                  <a:pt x="2935" y="92"/>
                  <a:pt x="2935" y="92"/>
                </a:cubicBezTo>
                <a:cubicBezTo>
                  <a:pt x="2854" y="112"/>
                  <a:pt x="2770" y="135"/>
                  <a:pt x="2688" y="147"/>
                </a:cubicBezTo>
                <a:cubicBezTo>
                  <a:pt x="2630" y="155"/>
                  <a:pt x="2514" y="165"/>
                  <a:pt x="2514" y="165"/>
                </a:cubicBezTo>
                <a:cubicBezTo>
                  <a:pt x="2350" y="162"/>
                  <a:pt x="2185" y="165"/>
                  <a:pt x="2021" y="156"/>
                </a:cubicBezTo>
                <a:cubicBezTo>
                  <a:pt x="1888" y="148"/>
                  <a:pt x="1736" y="92"/>
                  <a:pt x="1609" y="55"/>
                </a:cubicBezTo>
                <a:cubicBezTo>
                  <a:pt x="1501" y="24"/>
                  <a:pt x="1391" y="15"/>
                  <a:pt x="1280" y="0"/>
                </a:cubicBezTo>
                <a:cubicBezTo>
                  <a:pt x="922" y="5"/>
                  <a:pt x="680" y="13"/>
                  <a:pt x="357" y="28"/>
                </a:cubicBezTo>
                <a:cubicBezTo>
                  <a:pt x="274" y="48"/>
                  <a:pt x="308" y="38"/>
                  <a:pt x="256" y="55"/>
                </a:cubicBezTo>
                <a:cubicBezTo>
                  <a:pt x="179" y="132"/>
                  <a:pt x="78" y="178"/>
                  <a:pt x="0" y="25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8360" y="981000"/>
            <a:ext cx="772488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ortant to ensure classifications represent best current understanding of ecological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94920" y="3500280"/>
            <a:ext cx="8064360" cy="2737080"/>
            <a:chOff x="394920" y="3500280"/>
            <a:chExt cx="8064360" cy="2737080"/>
          </a:xfrm>
        </p:grpSpPr>
        <p:sp>
          <p:nvSpPr>
            <p:cNvPr id="69" name=""/>
            <p:cNvSpPr/>
            <p:nvPr/>
          </p:nvSpPr>
          <p:spPr>
            <a:xfrm>
              <a:off x="466560" y="3500280"/>
              <a:ext cx="7848000" cy="273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4760" y="4322880"/>
              <a:ext cx="7724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00"/>
                  </a:solidFill>
                  <a:latin typeface="Arial"/>
                </a:rPr>
                <a:t>For hydromorphological pressures, use all available data, including risk assessment resul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4920" y="3500280"/>
              <a:ext cx="329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00"/>
                  </a:solidFill>
                  <a:latin typeface="Arial"/>
                </a:rPr>
                <a:t>Planned solution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7400" y="2905200"/>
            <a:ext cx="838080" cy="407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11720" y="2852640"/>
            <a:ext cx="1511280" cy="417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21080" y="5548320"/>
            <a:ext cx="3300120" cy="1452600"/>
          </a:xfrm>
          <a:custGeom>
            <a:avLst/>
            <a:gdLst/>
            <a:ahLst/>
            <a:rect l="l" t="t" r="r" b="b"/>
            <a:pathLst>
              <a:path w="2079" h="915">
                <a:moveTo>
                  <a:pt x="2078" y="135"/>
                </a:moveTo>
                <a:cubicBezTo>
                  <a:pt x="2047" y="150"/>
                  <a:pt x="2028" y="176"/>
                  <a:pt x="2000" y="195"/>
                </a:cubicBezTo>
                <a:cubicBezTo>
                  <a:pt x="1965" y="248"/>
                  <a:pt x="1924" y="318"/>
                  <a:pt x="1910" y="381"/>
                </a:cubicBezTo>
                <a:cubicBezTo>
                  <a:pt x="1894" y="454"/>
                  <a:pt x="1876" y="522"/>
                  <a:pt x="1850" y="591"/>
                </a:cubicBezTo>
                <a:cubicBezTo>
                  <a:pt x="1842" y="611"/>
                  <a:pt x="1842" y="638"/>
                  <a:pt x="1832" y="657"/>
                </a:cubicBezTo>
                <a:cubicBezTo>
                  <a:pt x="1810" y="700"/>
                  <a:pt x="1763" y="732"/>
                  <a:pt x="1730" y="765"/>
                </a:cubicBezTo>
                <a:cubicBezTo>
                  <a:pt x="1686" y="809"/>
                  <a:pt x="1644" y="860"/>
                  <a:pt x="1574" y="861"/>
                </a:cubicBezTo>
                <a:cubicBezTo>
                  <a:pt x="1382" y="865"/>
                  <a:pt x="1190" y="865"/>
                  <a:pt x="998" y="867"/>
                </a:cubicBezTo>
                <a:cubicBezTo>
                  <a:pt x="898" y="900"/>
                  <a:pt x="785" y="909"/>
                  <a:pt x="680" y="915"/>
                </a:cubicBezTo>
                <a:cubicBezTo>
                  <a:pt x="510" y="903"/>
                  <a:pt x="340" y="887"/>
                  <a:pt x="170" y="879"/>
                </a:cubicBezTo>
                <a:cubicBezTo>
                  <a:pt x="121" y="855"/>
                  <a:pt x="65" y="821"/>
                  <a:pt x="32" y="777"/>
                </a:cubicBezTo>
                <a:cubicBezTo>
                  <a:pt x="11" y="694"/>
                  <a:pt x="30" y="614"/>
                  <a:pt x="44" y="531"/>
                </a:cubicBezTo>
                <a:cubicBezTo>
                  <a:pt x="42" y="394"/>
                  <a:pt x="105" y="220"/>
                  <a:pt x="8" y="123"/>
                </a:cubicBezTo>
                <a:cubicBezTo>
                  <a:pt x="0" y="85"/>
                  <a:pt x="2" y="103"/>
                  <a:pt x="2" y="69"/>
                </a:cubicBezTo>
                <a:cubicBezTo>
                  <a:pt x="67" y="47"/>
                  <a:pt x="146" y="48"/>
                  <a:pt x="212" y="45"/>
                </a:cubicBezTo>
                <a:cubicBezTo>
                  <a:pt x="261" y="29"/>
                  <a:pt x="296" y="25"/>
                  <a:pt x="350" y="21"/>
                </a:cubicBezTo>
                <a:cubicBezTo>
                  <a:pt x="353" y="21"/>
                  <a:pt x="752" y="32"/>
                  <a:pt x="770" y="33"/>
                </a:cubicBezTo>
                <a:cubicBezTo>
                  <a:pt x="814" y="36"/>
                  <a:pt x="857" y="63"/>
                  <a:pt x="902" y="69"/>
                </a:cubicBezTo>
                <a:cubicBezTo>
                  <a:pt x="949" y="85"/>
                  <a:pt x="956" y="88"/>
                  <a:pt x="1016" y="93"/>
                </a:cubicBezTo>
                <a:cubicBezTo>
                  <a:pt x="1350" y="204"/>
                  <a:pt x="1732" y="0"/>
                  <a:pt x="2066" y="111"/>
                </a:cubicBezTo>
                <a:cubicBezTo>
                  <a:pt x="2079" y="131"/>
                  <a:pt x="2078" y="122"/>
                  <a:pt x="2078" y="1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2560" y="1343160"/>
            <a:ext cx="4657680" cy="4581360"/>
          </a:xfrm>
          <a:custGeom>
            <a:avLst/>
            <a:gdLst/>
            <a:ahLst/>
            <a:rect l="l" t="t" r="r" b="b"/>
            <a:pathLst>
              <a:path w="2934" h="2886">
                <a:moveTo>
                  <a:pt x="2911" y="942"/>
                </a:moveTo>
                <a:cubicBezTo>
                  <a:pt x="2906" y="911"/>
                  <a:pt x="2904" y="895"/>
                  <a:pt x="2887" y="870"/>
                </a:cubicBezTo>
                <a:cubicBezTo>
                  <a:pt x="2885" y="862"/>
                  <a:pt x="2883" y="854"/>
                  <a:pt x="2881" y="846"/>
                </a:cubicBezTo>
                <a:cubicBezTo>
                  <a:pt x="2877" y="834"/>
                  <a:pt x="2869" y="810"/>
                  <a:pt x="2869" y="810"/>
                </a:cubicBezTo>
                <a:cubicBezTo>
                  <a:pt x="2875" y="782"/>
                  <a:pt x="2883" y="739"/>
                  <a:pt x="2863" y="714"/>
                </a:cubicBezTo>
                <a:cubicBezTo>
                  <a:pt x="2853" y="701"/>
                  <a:pt x="2827" y="678"/>
                  <a:pt x="2827" y="678"/>
                </a:cubicBezTo>
                <a:cubicBezTo>
                  <a:pt x="2806" y="616"/>
                  <a:pt x="2782" y="542"/>
                  <a:pt x="2725" y="504"/>
                </a:cubicBezTo>
                <a:cubicBezTo>
                  <a:pt x="2713" y="486"/>
                  <a:pt x="2701" y="468"/>
                  <a:pt x="2689" y="450"/>
                </a:cubicBezTo>
                <a:cubicBezTo>
                  <a:pt x="2649" y="390"/>
                  <a:pt x="2702" y="431"/>
                  <a:pt x="2659" y="402"/>
                </a:cubicBezTo>
                <a:cubicBezTo>
                  <a:pt x="2642" y="377"/>
                  <a:pt x="2621" y="363"/>
                  <a:pt x="2593" y="354"/>
                </a:cubicBezTo>
                <a:cubicBezTo>
                  <a:pt x="2579" y="333"/>
                  <a:pt x="2549" y="300"/>
                  <a:pt x="2527" y="288"/>
                </a:cubicBezTo>
                <a:cubicBezTo>
                  <a:pt x="2516" y="282"/>
                  <a:pt x="2491" y="276"/>
                  <a:pt x="2491" y="276"/>
                </a:cubicBezTo>
                <a:cubicBezTo>
                  <a:pt x="2485" y="270"/>
                  <a:pt x="2480" y="263"/>
                  <a:pt x="2473" y="258"/>
                </a:cubicBezTo>
                <a:cubicBezTo>
                  <a:pt x="2468" y="254"/>
                  <a:pt x="2460" y="256"/>
                  <a:pt x="2455" y="252"/>
                </a:cubicBezTo>
                <a:cubicBezTo>
                  <a:pt x="2449" y="247"/>
                  <a:pt x="2449" y="238"/>
                  <a:pt x="2443" y="234"/>
                </a:cubicBezTo>
                <a:cubicBezTo>
                  <a:pt x="2432" y="227"/>
                  <a:pt x="2418" y="229"/>
                  <a:pt x="2407" y="222"/>
                </a:cubicBezTo>
                <a:cubicBezTo>
                  <a:pt x="2377" y="202"/>
                  <a:pt x="2347" y="182"/>
                  <a:pt x="2317" y="162"/>
                </a:cubicBezTo>
                <a:cubicBezTo>
                  <a:pt x="2290" y="144"/>
                  <a:pt x="2222" y="146"/>
                  <a:pt x="2197" y="144"/>
                </a:cubicBezTo>
                <a:cubicBezTo>
                  <a:pt x="2185" y="136"/>
                  <a:pt x="2179" y="121"/>
                  <a:pt x="2167" y="114"/>
                </a:cubicBezTo>
                <a:cubicBezTo>
                  <a:pt x="2135" y="94"/>
                  <a:pt x="2093" y="100"/>
                  <a:pt x="2059" y="90"/>
                </a:cubicBezTo>
                <a:cubicBezTo>
                  <a:pt x="2027" y="80"/>
                  <a:pt x="1995" y="71"/>
                  <a:pt x="1963" y="60"/>
                </a:cubicBezTo>
                <a:cubicBezTo>
                  <a:pt x="1925" y="47"/>
                  <a:pt x="1968" y="39"/>
                  <a:pt x="1909" y="36"/>
                </a:cubicBezTo>
                <a:cubicBezTo>
                  <a:pt x="1869" y="34"/>
                  <a:pt x="1829" y="32"/>
                  <a:pt x="1789" y="30"/>
                </a:cubicBezTo>
                <a:cubicBezTo>
                  <a:pt x="1783" y="28"/>
                  <a:pt x="1777" y="27"/>
                  <a:pt x="1771" y="24"/>
                </a:cubicBezTo>
                <a:cubicBezTo>
                  <a:pt x="1765" y="21"/>
                  <a:pt x="1760" y="15"/>
                  <a:pt x="1753" y="12"/>
                </a:cubicBezTo>
                <a:cubicBezTo>
                  <a:pt x="1741" y="7"/>
                  <a:pt x="1717" y="0"/>
                  <a:pt x="1717" y="0"/>
                </a:cubicBezTo>
                <a:cubicBezTo>
                  <a:pt x="1519" y="2"/>
                  <a:pt x="1321" y="2"/>
                  <a:pt x="1123" y="6"/>
                </a:cubicBezTo>
                <a:cubicBezTo>
                  <a:pt x="1087" y="7"/>
                  <a:pt x="1053" y="28"/>
                  <a:pt x="1021" y="42"/>
                </a:cubicBezTo>
                <a:cubicBezTo>
                  <a:pt x="984" y="58"/>
                  <a:pt x="946" y="62"/>
                  <a:pt x="907" y="66"/>
                </a:cubicBezTo>
                <a:cubicBezTo>
                  <a:pt x="855" y="83"/>
                  <a:pt x="871" y="84"/>
                  <a:pt x="793" y="90"/>
                </a:cubicBezTo>
                <a:cubicBezTo>
                  <a:pt x="762" y="100"/>
                  <a:pt x="734" y="116"/>
                  <a:pt x="703" y="126"/>
                </a:cubicBezTo>
                <a:cubicBezTo>
                  <a:pt x="687" y="131"/>
                  <a:pt x="671" y="133"/>
                  <a:pt x="655" y="138"/>
                </a:cubicBezTo>
                <a:cubicBezTo>
                  <a:pt x="643" y="142"/>
                  <a:pt x="619" y="150"/>
                  <a:pt x="619" y="150"/>
                </a:cubicBezTo>
                <a:cubicBezTo>
                  <a:pt x="586" y="199"/>
                  <a:pt x="629" y="143"/>
                  <a:pt x="589" y="174"/>
                </a:cubicBezTo>
                <a:cubicBezTo>
                  <a:pt x="552" y="203"/>
                  <a:pt x="555" y="217"/>
                  <a:pt x="511" y="228"/>
                </a:cubicBezTo>
                <a:cubicBezTo>
                  <a:pt x="490" y="242"/>
                  <a:pt x="483" y="261"/>
                  <a:pt x="463" y="276"/>
                </a:cubicBezTo>
                <a:cubicBezTo>
                  <a:pt x="463" y="276"/>
                  <a:pt x="418" y="306"/>
                  <a:pt x="409" y="312"/>
                </a:cubicBezTo>
                <a:cubicBezTo>
                  <a:pt x="397" y="320"/>
                  <a:pt x="385" y="328"/>
                  <a:pt x="373" y="336"/>
                </a:cubicBezTo>
                <a:cubicBezTo>
                  <a:pt x="367" y="340"/>
                  <a:pt x="355" y="348"/>
                  <a:pt x="355" y="348"/>
                </a:cubicBezTo>
                <a:cubicBezTo>
                  <a:pt x="340" y="371"/>
                  <a:pt x="330" y="371"/>
                  <a:pt x="307" y="384"/>
                </a:cubicBezTo>
                <a:cubicBezTo>
                  <a:pt x="294" y="391"/>
                  <a:pt x="283" y="400"/>
                  <a:pt x="271" y="408"/>
                </a:cubicBezTo>
                <a:cubicBezTo>
                  <a:pt x="265" y="412"/>
                  <a:pt x="253" y="420"/>
                  <a:pt x="253" y="420"/>
                </a:cubicBezTo>
                <a:cubicBezTo>
                  <a:pt x="225" y="463"/>
                  <a:pt x="199" y="510"/>
                  <a:pt x="163" y="546"/>
                </a:cubicBezTo>
                <a:cubicBezTo>
                  <a:pt x="141" y="612"/>
                  <a:pt x="176" y="512"/>
                  <a:pt x="145" y="582"/>
                </a:cubicBezTo>
                <a:cubicBezTo>
                  <a:pt x="129" y="618"/>
                  <a:pt x="121" y="646"/>
                  <a:pt x="79" y="660"/>
                </a:cubicBezTo>
                <a:cubicBezTo>
                  <a:pt x="66" y="699"/>
                  <a:pt x="60" y="745"/>
                  <a:pt x="37" y="780"/>
                </a:cubicBezTo>
                <a:cubicBezTo>
                  <a:pt x="28" y="862"/>
                  <a:pt x="0" y="959"/>
                  <a:pt x="49" y="1032"/>
                </a:cubicBezTo>
                <a:cubicBezTo>
                  <a:pt x="51" y="1094"/>
                  <a:pt x="51" y="1156"/>
                  <a:pt x="55" y="1218"/>
                </a:cubicBezTo>
                <a:cubicBezTo>
                  <a:pt x="58" y="1262"/>
                  <a:pt x="81" y="1297"/>
                  <a:pt x="91" y="1338"/>
                </a:cubicBezTo>
                <a:cubicBezTo>
                  <a:pt x="98" y="1366"/>
                  <a:pt x="103" y="1394"/>
                  <a:pt x="109" y="1422"/>
                </a:cubicBezTo>
                <a:cubicBezTo>
                  <a:pt x="113" y="1438"/>
                  <a:pt x="117" y="1454"/>
                  <a:pt x="121" y="1470"/>
                </a:cubicBezTo>
                <a:cubicBezTo>
                  <a:pt x="123" y="1478"/>
                  <a:pt x="127" y="1494"/>
                  <a:pt x="127" y="1494"/>
                </a:cubicBezTo>
                <a:cubicBezTo>
                  <a:pt x="125" y="1577"/>
                  <a:pt x="87" y="1878"/>
                  <a:pt x="151" y="1974"/>
                </a:cubicBezTo>
                <a:cubicBezTo>
                  <a:pt x="162" y="2016"/>
                  <a:pt x="178" y="2054"/>
                  <a:pt x="193" y="2094"/>
                </a:cubicBezTo>
                <a:cubicBezTo>
                  <a:pt x="216" y="2154"/>
                  <a:pt x="227" y="2219"/>
                  <a:pt x="247" y="2280"/>
                </a:cubicBezTo>
                <a:cubicBezTo>
                  <a:pt x="253" y="2356"/>
                  <a:pt x="250" y="2488"/>
                  <a:pt x="271" y="2550"/>
                </a:cubicBezTo>
                <a:cubicBezTo>
                  <a:pt x="273" y="2610"/>
                  <a:pt x="267" y="2671"/>
                  <a:pt x="277" y="2730"/>
                </a:cubicBezTo>
                <a:cubicBezTo>
                  <a:pt x="279" y="2744"/>
                  <a:pt x="304" y="2741"/>
                  <a:pt x="319" y="2742"/>
                </a:cubicBezTo>
                <a:cubicBezTo>
                  <a:pt x="375" y="2746"/>
                  <a:pt x="431" y="2746"/>
                  <a:pt x="487" y="2748"/>
                </a:cubicBezTo>
                <a:cubicBezTo>
                  <a:pt x="637" y="2773"/>
                  <a:pt x="774" y="2774"/>
                  <a:pt x="931" y="2778"/>
                </a:cubicBezTo>
                <a:cubicBezTo>
                  <a:pt x="976" y="2793"/>
                  <a:pt x="1029" y="2792"/>
                  <a:pt x="1075" y="2796"/>
                </a:cubicBezTo>
                <a:cubicBezTo>
                  <a:pt x="1104" y="2803"/>
                  <a:pt x="1128" y="2810"/>
                  <a:pt x="1159" y="2814"/>
                </a:cubicBezTo>
                <a:cubicBezTo>
                  <a:pt x="1187" y="2823"/>
                  <a:pt x="1214" y="2826"/>
                  <a:pt x="1243" y="2832"/>
                </a:cubicBezTo>
                <a:cubicBezTo>
                  <a:pt x="1348" y="2853"/>
                  <a:pt x="1447" y="2876"/>
                  <a:pt x="1555" y="2886"/>
                </a:cubicBezTo>
                <a:cubicBezTo>
                  <a:pt x="1724" y="2882"/>
                  <a:pt x="1881" y="2871"/>
                  <a:pt x="2047" y="2856"/>
                </a:cubicBezTo>
                <a:cubicBezTo>
                  <a:pt x="2112" y="2843"/>
                  <a:pt x="2179" y="2841"/>
                  <a:pt x="2245" y="2832"/>
                </a:cubicBezTo>
                <a:cubicBezTo>
                  <a:pt x="2282" y="2820"/>
                  <a:pt x="2323" y="2811"/>
                  <a:pt x="2353" y="2784"/>
                </a:cubicBezTo>
                <a:cubicBezTo>
                  <a:pt x="2368" y="2771"/>
                  <a:pt x="2395" y="2742"/>
                  <a:pt x="2395" y="2742"/>
                </a:cubicBezTo>
                <a:cubicBezTo>
                  <a:pt x="2405" y="2702"/>
                  <a:pt x="2427" y="2608"/>
                  <a:pt x="2449" y="2574"/>
                </a:cubicBezTo>
                <a:cubicBezTo>
                  <a:pt x="2455" y="2539"/>
                  <a:pt x="2463" y="2500"/>
                  <a:pt x="2473" y="2466"/>
                </a:cubicBezTo>
                <a:cubicBezTo>
                  <a:pt x="2488" y="2415"/>
                  <a:pt x="2534" y="2371"/>
                  <a:pt x="2563" y="2328"/>
                </a:cubicBezTo>
                <a:cubicBezTo>
                  <a:pt x="2577" y="2307"/>
                  <a:pt x="2595" y="2281"/>
                  <a:pt x="2611" y="2262"/>
                </a:cubicBezTo>
                <a:cubicBezTo>
                  <a:pt x="2626" y="2245"/>
                  <a:pt x="2659" y="2214"/>
                  <a:pt x="2659" y="2214"/>
                </a:cubicBezTo>
                <a:cubicBezTo>
                  <a:pt x="2661" y="2154"/>
                  <a:pt x="2660" y="2094"/>
                  <a:pt x="2665" y="2034"/>
                </a:cubicBezTo>
                <a:cubicBezTo>
                  <a:pt x="2667" y="2010"/>
                  <a:pt x="2686" y="1974"/>
                  <a:pt x="2695" y="1950"/>
                </a:cubicBezTo>
                <a:cubicBezTo>
                  <a:pt x="2708" y="1915"/>
                  <a:pt x="2713" y="1877"/>
                  <a:pt x="2725" y="1842"/>
                </a:cubicBezTo>
                <a:cubicBezTo>
                  <a:pt x="2732" y="1790"/>
                  <a:pt x="2737" y="1725"/>
                  <a:pt x="2767" y="1680"/>
                </a:cubicBezTo>
                <a:cubicBezTo>
                  <a:pt x="2774" y="1652"/>
                  <a:pt x="2782" y="1624"/>
                  <a:pt x="2791" y="1596"/>
                </a:cubicBezTo>
                <a:cubicBezTo>
                  <a:pt x="2793" y="1527"/>
                  <a:pt x="2780" y="1402"/>
                  <a:pt x="2827" y="1332"/>
                </a:cubicBezTo>
                <a:cubicBezTo>
                  <a:pt x="2833" y="1293"/>
                  <a:pt x="2848" y="1267"/>
                  <a:pt x="2857" y="1230"/>
                </a:cubicBezTo>
                <a:cubicBezTo>
                  <a:pt x="2861" y="1177"/>
                  <a:pt x="2867" y="1142"/>
                  <a:pt x="2875" y="1092"/>
                </a:cubicBezTo>
                <a:cubicBezTo>
                  <a:pt x="2881" y="1053"/>
                  <a:pt x="2878" y="993"/>
                  <a:pt x="2923" y="978"/>
                </a:cubicBezTo>
                <a:cubicBezTo>
                  <a:pt x="2927" y="965"/>
                  <a:pt x="2934" y="942"/>
                  <a:pt x="2911" y="942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1330200"/>
            <a:ext cx="4681800" cy="3095640"/>
          </a:xfrm>
          <a:prstGeom prst="blockArc">
            <a:avLst>
              <a:gd name="adj1" fmla="val 10766608"/>
              <a:gd name="adj2" fmla="val 33392"/>
              <a:gd name="adj3" fmla="val 233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54560" y="1401840"/>
            <a:ext cx="73080" cy="4103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95640" y="5276880"/>
            <a:ext cx="430200" cy="312840"/>
          </a:xfrm>
          <a:custGeom>
            <a:avLst/>
            <a:gdLst/>
            <a:ahLst/>
            <a:rect l="l" t="t" r="r" b="b"/>
            <a:pathLst>
              <a:path w="271" h="197">
                <a:moveTo>
                  <a:pt x="269" y="79"/>
                </a:moveTo>
                <a:cubicBezTo>
                  <a:pt x="260" y="163"/>
                  <a:pt x="271" y="159"/>
                  <a:pt x="214" y="197"/>
                </a:cubicBezTo>
                <a:cubicBezTo>
                  <a:pt x="171" y="194"/>
                  <a:pt x="128" y="195"/>
                  <a:pt x="86" y="188"/>
                </a:cubicBezTo>
                <a:cubicBezTo>
                  <a:pt x="54" y="182"/>
                  <a:pt x="21" y="122"/>
                  <a:pt x="4" y="97"/>
                </a:cubicBezTo>
                <a:cubicBezTo>
                  <a:pt x="17" y="4"/>
                  <a:pt x="0" y="0"/>
                  <a:pt x="95" y="15"/>
                </a:cubicBezTo>
                <a:cubicBezTo>
                  <a:pt x="128" y="48"/>
                  <a:pt x="142" y="84"/>
                  <a:pt x="168" y="124"/>
                </a:cubicBezTo>
                <a:cubicBezTo>
                  <a:pt x="173" y="131"/>
                  <a:pt x="178" y="141"/>
                  <a:pt x="186" y="143"/>
                </a:cubicBezTo>
                <a:cubicBezTo>
                  <a:pt x="204" y="148"/>
                  <a:pt x="223" y="143"/>
                  <a:pt x="241" y="143"/>
                </a:cubicBezTo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181080" y="6094440"/>
            <a:ext cx="9520200" cy="1942920"/>
          </a:xfrm>
          <a:custGeom>
            <a:avLst/>
            <a:gdLst/>
            <a:ahLst/>
            <a:rect l="l" t="t" r="r" b="b"/>
            <a:pathLst>
              <a:path w="5997" h="486">
                <a:moveTo>
                  <a:pt x="0" y="121"/>
                </a:moveTo>
                <a:cubicBezTo>
                  <a:pt x="30" y="100"/>
                  <a:pt x="39" y="77"/>
                  <a:pt x="73" y="66"/>
                </a:cubicBezTo>
                <a:cubicBezTo>
                  <a:pt x="141" y="20"/>
                  <a:pt x="216" y="51"/>
                  <a:pt x="284" y="84"/>
                </a:cubicBezTo>
                <a:cubicBezTo>
                  <a:pt x="336" y="81"/>
                  <a:pt x="388" y="82"/>
                  <a:pt x="439" y="75"/>
                </a:cubicBezTo>
                <a:cubicBezTo>
                  <a:pt x="458" y="73"/>
                  <a:pt x="494" y="57"/>
                  <a:pt x="494" y="57"/>
                </a:cubicBezTo>
                <a:cubicBezTo>
                  <a:pt x="561" y="60"/>
                  <a:pt x="628" y="61"/>
                  <a:pt x="695" y="66"/>
                </a:cubicBezTo>
                <a:cubicBezTo>
                  <a:pt x="768" y="72"/>
                  <a:pt x="836" y="134"/>
                  <a:pt x="905" y="157"/>
                </a:cubicBezTo>
                <a:cubicBezTo>
                  <a:pt x="936" y="154"/>
                  <a:pt x="967" y="155"/>
                  <a:pt x="997" y="148"/>
                </a:cubicBezTo>
                <a:cubicBezTo>
                  <a:pt x="1008" y="146"/>
                  <a:pt x="1014" y="135"/>
                  <a:pt x="1024" y="130"/>
                </a:cubicBezTo>
                <a:cubicBezTo>
                  <a:pt x="1050" y="117"/>
                  <a:pt x="1053" y="125"/>
                  <a:pt x="1079" y="111"/>
                </a:cubicBezTo>
                <a:cubicBezTo>
                  <a:pt x="1137" y="78"/>
                  <a:pt x="1162" y="54"/>
                  <a:pt x="1225" y="38"/>
                </a:cubicBezTo>
                <a:cubicBezTo>
                  <a:pt x="1268" y="41"/>
                  <a:pt x="1311" y="41"/>
                  <a:pt x="1353" y="47"/>
                </a:cubicBezTo>
                <a:cubicBezTo>
                  <a:pt x="1397" y="54"/>
                  <a:pt x="1438" y="82"/>
                  <a:pt x="1481" y="93"/>
                </a:cubicBezTo>
                <a:cubicBezTo>
                  <a:pt x="1517" y="129"/>
                  <a:pt x="1532" y="129"/>
                  <a:pt x="1582" y="139"/>
                </a:cubicBezTo>
                <a:cubicBezTo>
                  <a:pt x="1631" y="136"/>
                  <a:pt x="1679" y="135"/>
                  <a:pt x="1728" y="130"/>
                </a:cubicBezTo>
                <a:cubicBezTo>
                  <a:pt x="1785" y="124"/>
                  <a:pt x="1831" y="74"/>
                  <a:pt x="1884" y="57"/>
                </a:cubicBezTo>
                <a:cubicBezTo>
                  <a:pt x="1942" y="60"/>
                  <a:pt x="1999" y="61"/>
                  <a:pt x="2057" y="66"/>
                </a:cubicBezTo>
                <a:cubicBezTo>
                  <a:pt x="2107" y="70"/>
                  <a:pt x="2132" y="115"/>
                  <a:pt x="2176" y="130"/>
                </a:cubicBezTo>
                <a:cubicBezTo>
                  <a:pt x="2377" y="124"/>
                  <a:pt x="2562" y="99"/>
                  <a:pt x="2761" y="84"/>
                </a:cubicBezTo>
                <a:cubicBezTo>
                  <a:pt x="2801" y="87"/>
                  <a:pt x="2841" y="87"/>
                  <a:pt x="2880" y="93"/>
                </a:cubicBezTo>
                <a:cubicBezTo>
                  <a:pt x="2962" y="106"/>
                  <a:pt x="2900" y="103"/>
                  <a:pt x="2944" y="130"/>
                </a:cubicBezTo>
                <a:cubicBezTo>
                  <a:pt x="2979" y="151"/>
                  <a:pt x="3024" y="160"/>
                  <a:pt x="3063" y="166"/>
                </a:cubicBezTo>
                <a:cubicBezTo>
                  <a:pt x="3191" y="158"/>
                  <a:pt x="3185" y="159"/>
                  <a:pt x="3273" y="130"/>
                </a:cubicBezTo>
                <a:cubicBezTo>
                  <a:pt x="3298" y="113"/>
                  <a:pt x="3328" y="96"/>
                  <a:pt x="3356" y="84"/>
                </a:cubicBezTo>
                <a:cubicBezTo>
                  <a:pt x="3374" y="76"/>
                  <a:pt x="3411" y="66"/>
                  <a:pt x="3411" y="66"/>
                </a:cubicBezTo>
                <a:cubicBezTo>
                  <a:pt x="3511" y="77"/>
                  <a:pt x="3496" y="85"/>
                  <a:pt x="3575" y="111"/>
                </a:cubicBezTo>
                <a:cubicBezTo>
                  <a:pt x="3597" y="135"/>
                  <a:pt x="3617" y="147"/>
                  <a:pt x="3648" y="157"/>
                </a:cubicBezTo>
                <a:cubicBezTo>
                  <a:pt x="3735" y="239"/>
                  <a:pt x="3878" y="184"/>
                  <a:pt x="3987" y="157"/>
                </a:cubicBezTo>
                <a:cubicBezTo>
                  <a:pt x="4035" y="109"/>
                  <a:pt x="4104" y="86"/>
                  <a:pt x="4160" y="47"/>
                </a:cubicBezTo>
                <a:cubicBezTo>
                  <a:pt x="4313" y="60"/>
                  <a:pt x="4325" y="65"/>
                  <a:pt x="4499" y="57"/>
                </a:cubicBezTo>
                <a:cubicBezTo>
                  <a:pt x="4581" y="0"/>
                  <a:pt x="4677" y="69"/>
                  <a:pt x="4755" y="102"/>
                </a:cubicBezTo>
                <a:cubicBezTo>
                  <a:pt x="4773" y="109"/>
                  <a:pt x="4791" y="115"/>
                  <a:pt x="4809" y="121"/>
                </a:cubicBezTo>
                <a:cubicBezTo>
                  <a:pt x="4827" y="127"/>
                  <a:pt x="4864" y="139"/>
                  <a:pt x="4864" y="139"/>
                </a:cubicBezTo>
                <a:cubicBezTo>
                  <a:pt x="4989" y="127"/>
                  <a:pt x="4927" y="129"/>
                  <a:pt x="5011" y="102"/>
                </a:cubicBezTo>
                <a:cubicBezTo>
                  <a:pt x="5100" y="115"/>
                  <a:pt x="5139" y="149"/>
                  <a:pt x="5221" y="175"/>
                </a:cubicBezTo>
                <a:cubicBezTo>
                  <a:pt x="5254" y="169"/>
                  <a:pt x="5271" y="171"/>
                  <a:pt x="5294" y="148"/>
                </a:cubicBezTo>
                <a:cubicBezTo>
                  <a:pt x="5308" y="134"/>
                  <a:pt x="5312" y="112"/>
                  <a:pt x="5331" y="102"/>
                </a:cubicBezTo>
                <a:cubicBezTo>
                  <a:pt x="5348" y="93"/>
                  <a:pt x="5385" y="84"/>
                  <a:pt x="5385" y="84"/>
                </a:cubicBezTo>
                <a:cubicBezTo>
                  <a:pt x="5544" y="96"/>
                  <a:pt x="5465" y="93"/>
                  <a:pt x="5568" y="121"/>
                </a:cubicBezTo>
                <a:cubicBezTo>
                  <a:pt x="5606" y="157"/>
                  <a:pt x="5634" y="159"/>
                  <a:pt x="5687" y="166"/>
                </a:cubicBezTo>
                <a:cubicBezTo>
                  <a:pt x="5743" y="184"/>
                  <a:pt x="5796" y="170"/>
                  <a:pt x="5843" y="139"/>
                </a:cubicBezTo>
                <a:cubicBezTo>
                  <a:pt x="5889" y="142"/>
                  <a:pt x="5936" y="137"/>
                  <a:pt x="5980" y="148"/>
                </a:cubicBezTo>
                <a:cubicBezTo>
                  <a:pt x="5997" y="152"/>
                  <a:pt x="5987" y="197"/>
                  <a:pt x="5980" y="230"/>
                </a:cubicBezTo>
                <a:cubicBezTo>
                  <a:pt x="5965" y="306"/>
                  <a:pt x="5892" y="326"/>
                  <a:pt x="5824" y="340"/>
                </a:cubicBezTo>
                <a:cubicBezTo>
                  <a:pt x="5511" y="403"/>
                  <a:pt x="5191" y="386"/>
                  <a:pt x="4873" y="395"/>
                </a:cubicBezTo>
                <a:cubicBezTo>
                  <a:pt x="4510" y="446"/>
                  <a:pt x="4788" y="414"/>
                  <a:pt x="4032" y="395"/>
                </a:cubicBezTo>
                <a:cubicBezTo>
                  <a:pt x="3816" y="371"/>
                  <a:pt x="3600" y="309"/>
                  <a:pt x="3392" y="249"/>
                </a:cubicBezTo>
                <a:cubicBezTo>
                  <a:pt x="3275" y="215"/>
                  <a:pt x="3075" y="225"/>
                  <a:pt x="2944" y="203"/>
                </a:cubicBezTo>
                <a:cubicBezTo>
                  <a:pt x="2904" y="204"/>
                  <a:pt x="2705" y="195"/>
                  <a:pt x="2606" y="221"/>
                </a:cubicBezTo>
                <a:cubicBezTo>
                  <a:pt x="2490" y="252"/>
                  <a:pt x="2386" y="316"/>
                  <a:pt x="2268" y="340"/>
                </a:cubicBezTo>
                <a:cubicBezTo>
                  <a:pt x="2108" y="419"/>
                  <a:pt x="1924" y="461"/>
                  <a:pt x="1747" y="486"/>
                </a:cubicBezTo>
                <a:cubicBezTo>
                  <a:pt x="1628" y="478"/>
                  <a:pt x="1507" y="483"/>
                  <a:pt x="1390" y="459"/>
                </a:cubicBezTo>
                <a:cubicBezTo>
                  <a:pt x="963" y="373"/>
                  <a:pt x="556" y="236"/>
                  <a:pt x="119" y="212"/>
                </a:cubicBezTo>
                <a:cubicBezTo>
                  <a:pt x="86" y="179"/>
                  <a:pt x="60" y="143"/>
                  <a:pt x="28" y="111"/>
                </a:cubicBezTo>
                <a:cubicBezTo>
                  <a:pt x="22" y="105"/>
                  <a:pt x="17" y="90"/>
                  <a:pt x="9" y="93"/>
                </a:cubicBezTo>
                <a:cubicBezTo>
                  <a:pt x="0" y="96"/>
                  <a:pt x="3" y="112"/>
                  <a:pt x="0" y="121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500720" y="2044800"/>
            <a:ext cx="2158560" cy="3152160"/>
            <a:chOff x="4500720" y="2044800"/>
            <a:chExt cx="2158560" cy="3152160"/>
          </a:xfrm>
        </p:grpSpPr>
        <p:sp>
          <p:nvSpPr>
            <p:cNvPr id="81" name=""/>
            <p:cNvSpPr/>
            <p:nvPr/>
          </p:nvSpPr>
          <p:spPr>
            <a:xfrm>
              <a:off x="4500720" y="3346920"/>
              <a:ext cx="180360" cy="849600"/>
            </a:xfrm>
            <a:prstGeom prst="ellipse">
              <a:avLst/>
            </a:prstGeom>
            <a:solidFill>
              <a:srgbClr val="ffd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78920" y="3392280"/>
              <a:ext cx="180360" cy="698760"/>
            </a:xfrm>
            <a:prstGeom prst="ellipse">
              <a:avLst/>
            </a:prstGeom>
            <a:solidFill>
              <a:srgbClr val="ffd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13400" y="2510640"/>
              <a:ext cx="1929600" cy="2686320"/>
            </a:xfrm>
            <a:prstGeom prst="ellipse">
              <a:avLst/>
            </a:prstGeom>
            <a:solidFill>
              <a:srgbClr val="ffd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54840" y="3401640"/>
              <a:ext cx="2818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90600" y="3405960"/>
              <a:ext cx="281880" cy="41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82200" y="3443760"/>
              <a:ext cx="112680" cy="15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95280" y="3443760"/>
              <a:ext cx="112680" cy="15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14920" y="2264040"/>
              <a:ext cx="428760" cy="438480"/>
            </a:xfrm>
            <a:custGeom>
              <a:avLst/>
              <a:gdLst/>
              <a:ahLst/>
              <a:rect l="l" t="t" r="r" b="b"/>
              <a:pathLst>
                <a:path w="456" h="384">
                  <a:moveTo>
                    <a:pt x="456" y="384"/>
                  </a:moveTo>
                  <a:cubicBezTo>
                    <a:pt x="444" y="372"/>
                    <a:pt x="435" y="355"/>
                    <a:pt x="420" y="348"/>
                  </a:cubicBezTo>
                  <a:cubicBezTo>
                    <a:pt x="390" y="334"/>
                    <a:pt x="324" y="324"/>
                    <a:pt x="324" y="324"/>
                  </a:cubicBezTo>
                  <a:cubicBezTo>
                    <a:pt x="308" y="296"/>
                    <a:pt x="284" y="271"/>
                    <a:pt x="276" y="240"/>
                  </a:cubicBezTo>
                  <a:cubicBezTo>
                    <a:pt x="220" y="25"/>
                    <a:pt x="319" y="70"/>
                    <a:pt x="216" y="36"/>
                  </a:cubicBezTo>
                  <a:cubicBezTo>
                    <a:pt x="132" y="50"/>
                    <a:pt x="80" y="40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54840" y="2113200"/>
              <a:ext cx="191880" cy="506880"/>
            </a:xfrm>
            <a:custGeom>
              <a:avLst/>
              <a:gdLst/>
              <a:ahLst/>
              <a:rect l="l" t="t" r="r" b="b"/>
              <a:pathLst>
                <a:path w="204" h="444">
                  <a:moveTo>
                    <a:pt x="204" y="444"/>
                  </a:moveTo>
                  <a:cubicBezTo>
                    <a:pt x="197" y="411"/>
                    <a:pt x="173" y="317"/>
                    <a:pt x="156" y="288"/>
                  </a:cubicBezTo>
                  <a:cubicBezTo>
                    <a:pt x="130" y="242"/>
                    <a:pt x="67" y="209"/>
                    <a:pt x="24" y="180"/>
                  </a:cubicBezTo>
                  <a:cubicBezTo>
                    <a:pt x="31" y="144"/>
                    <a:pt x="48" y="109"/>
                    <a:pt x="48" y="72"/>
                  </a:cubicBezTo>
                  <a:cubicBezTo>
                    <a:pt x="48" y="24"/>
                    <a:pt x="0" y="37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38600" y="2058480"/>
              <a:ext cx="197280" cy="465840"/>
            </a:xfrm>
            <a:custGeom>
              <a:avLst/>
              <a:gdLst/>
              <a:ahLst/>
              <a:rect l="l" t="t" r="r" b="b"/>
              <a:pathLst>
                <a:path w="210" h="408">
                  <a:moveTo>
                    <a:pt x="0" y="408"/>
                  </a:moveTo>
                  <a:cubicBezTo>
                    <a:pt x="4" y="382"/>
                    <a:pt x="9" y="311"/>
                    <a:pt x="36" y="288"/>
                  </a:cubicBezTo>
                  <a:cubicBezTo>
                    <a:pt x="48" y="278"/>
                    <a:pt x="145" y="236"/>
                    <a:pt x="168" y="228"/>
                  </a:cubicBezTo>
                  <a:cubicBezTo>
                    <a:pt x="182" y="207"/>
                    <a:pt x="210" y="173"/>
                    <a:pt x="204" y="144"/>
                  </a:cubicBezTo>
                  <a:cubicBezTo>
                    <a:pt x="199" y="121"/>
                    <a:pt x="178" y="105"/>
                    <a:pt x="168" y="84"/>
                  </a:cubicBezTo>
                  <a:cubicBezTo>
                    <a:pt x="151" y="50"/>
                    <a:pt x="156" y="39"/>
                    <a:pt x="156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23880" y="2346120"/>
              <a:ext cx="214200" cy="424800"/>
            </a:xfrm>
            <a:custGeom>
              <a:avLst/>
              <a:gdLst/>
              <a:ahLst/>
              <a:rect l="l" t="t" r="r" b="b"/>
              <a:pathLst>
                <a:path w="228" h="372">
                  <a:moveTo>
                    <a:pt x="0" y="372"/>
                  </a:moveTo>
                  <a:cubicBezTo>
                    <a:pt x="4" y="332"/>
                    <a:pt x="6" y="292"/>
                    <a:pt x="12" y="252"/>
                  </a:cubicBezTo>
                  <a:cubicBezTo>
                    <a:pt x="14" y="236"/>
                    <a:pt x="13" y="217"/>
                    <a:pt x="24" y="204"/>
                  </a:cubicBezTo>
                  <a:cubicBezTo>
                    <a:pt x="35" y="190"/>
                    <a:pt x="56" y="189"/>
                    <a:pt x="72" y="180"/>
                  </a:cubicBezTo>
                  <a:cubicBezTo>
                    <a:pt x="132" y="147"/>
                    <a:pt x="128" y="147"/>
                    <a:pt x="180" y="108"/>
                  </a:cubicBezTo>
                  <a:cubicBezTo>
                    <a:pt x="194" y="66"/>
                    <a:pt x="196" y="32"/>
                    <a:pt x="228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32000" y="2044800"/>
              <a:ext cx="96480" cy="588960"/>
            </a:xfrm>
            <a:custGeom>
              <a:avLst/>
              <a:gdLst/>
              <a:ahLst/>
              <a:rect l="l" t="t" r="r" b="b"/>
              <a:pathLst>
                <a:path w="103" h="516">
                  <a:moveTo>
                    <a:pt x="0" y="516"/>
                  </a:moveTo>
                  <a:cubicBezTo>
                    <a:pt x="8" y="432"/>
                    <a:pt x="16" y="348"/>
                    <a:pt x="24" y="264"/>
                  </a:cubicBezTo>
                  <a:cubicBezTo>
                    <a:pt x="28" y="226"/>
                    <a:pt x="84" y="168"/>
                    <a:pt x="84" y="168"/>
                  </a:cubicBezTo>
                  <a:cubicBezTo>
                    <a:pt x="103" y="94"/>
                    <a:pt x="101" y="144"/>
                    <a:pt x="72" y="72"/>
                  </a:cubicBezTo>
                  <a:cubicBezTo>
                    <a:pt x="63" y="49"/>
                    <a:pt x="48" y="0"/>
                    <a:pt x="48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15760" y="2510640"/>
              <a:ext cx="372240" cy="301320"/>
            </a:xfrm>
            <a:custGeom>
              <a:avLst/>
              <a:gdLst/>
              <a:ahLst/>
              <a:rect l="l" t="t" r="r" b="b"/>
              <a:pathLst>
                <a:path w="396" h="264">
                  <a:moveTo>
                    <a:pt x="0" y="264"/>
                  </a:moveTo>
                  <a:cubicBezTo>
                    <a:pt x="85" y="207"/>
                    <a:pt x="202" y="196"/>
                    <a:pt x="300" y="180"/>
                  </a:cubicBezTo>
                  <a:cubicBezTo>
                    <a:pt x="312" y="164"/>
                    <a:pt x="326" y="149"/>
                    <a:pt x="336" y="132"/>
                  </a:cubicBezTo>
                  <a:cubicBezTo>
                    <a:pt x="364" y="84"/>
                    <a:pt x="351" y="45"/>
                    <a:pt x="396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25640" y="3758040"/>
              <a:ext cx="125640" cy="480600"/>
            </a:xfrm>
            <a:custGeom>
              <a:avLst/>
              <a:gdLst/>
              <a:ahLst/>
              <a:rect l="l" t="t" r="r" b="b"/>
              <a:pathLst>
                <a:path w="134" h="421">
                  <a:moveTo>
                    <a:pt x="86" y="0"/>
                  </a:moveTo>
                  <a:cubicBezTo>
                    <a:pt x="98" y="125"/>
                    <a:pt x="109" y="162"/>
                    <a:pt x="86" y="300"/>
                  </a:cubicBezTo>
                  <a:cubicBezTo>
                    <a:pt x="86" y="301"/>
                    <a:pt x="0" y="421"/>
                    <a:pt x="38" y="408"/>
                  </a:cubicBezTo>
                  <a:cubicBezTo>
                    <a:pt x="93" y="390"/>
                    <a:pt x="61" y="396"/>
                    <a:pt x="134" y="3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77520" y="2985840"/>
              <a:ext cx="202680" cy="127440"/>
            </a:xfrm>
            <a:custGeom>
              <a:avLst/>
              <a:gdLst/>
              <a:ahLst/>
              <a:rect l="l" t="t" r="r" b="b"/>
              <a:pathLst>
                <a:path w="216" h="112">
                  <a:moveTo>
                    <a:pt x="0" y="112"/>
                  </a:moveTo>
                  <a:cubicBezTo>
                    <a:pt x="18" y="60"/>
                    <a:pt x="36" y="8"/>
                    <a:pt x="72" y="4"/>
                  </a:cubicBezTo>
                  <a:cubicBezTo>
                    <a:pt x="108" y="0"/>
                    <a:pt x="162" y="44"/>
                    <a:pt x="216" y="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5730480" y="2974320"/>
              <a:ext cx="236880" cy="111960"/>
            </a:xfrm>
            <a:custGeom>
              <a:avLst/>
              <a:gdLst/>
              <a:ahLst/>
              <a:rect l="l" t="t" r="r" b="b"/>
              <a:pathLst>
                <a:path w="252" h="98">
                  <a:moveTo>
                    <a:pt x="0" y="98"/>
                  </a:moveTo>
                  <a:cubicBezTo>
                    <a:pt x="15" y="51"/>
                    <a:pt x="30" y="4"/>
                    <a:pt x="72" y="2"/>
                  </a:cubicBezTo>
                  <a:cubicBezTo>
                    <a:pt x="114" y="0"/>
                    <a:pt x="183" y="43"/>
                    <a:pt x="252" y="8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75440" y="4447800"/>
              <a:ext cx="586440" cy="134640"/>
            </a:xfrm>
            <a:custGeom>
              <a:avLst/>
              <a:gdLst/>
              <a:ahLst/>
              <a:rect l="l" t="t" r="r" b="b"/>
              <a:pathLst>
                <a:path w="624" h="118">
                  <a:moveTo>
                    <a:pt x="0" y="57"/>
                  </a:moveTo>
                  <a:cubicBezTo>
                    <a:pt x="48" y="33"/>
                    <a:pt x="82" y="16"/>
                    <a:pt x="134" y="0"/>
                  </a:cubicBezTo>
                  <a:cubicBezTo>
                    <a:pt x="190" y="8"/>
                    <a:pt x="225" y="25"/>
                    <a:pt x="278" y="38"/>
                  </a:cubicBezTo>
                  <a:cubicBezTo>
                    <a:pt x="442" y="118"/>
                    <a:pt x="285" y="86"/>
                    <a:pt x="624" y="8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003400" y="3294000"/>
            <a:ext cx="236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if we get another wet summer lik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252360" y="3573360"/>
            <a:ext cx="9648720" cy="34578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24000" y="0"/>
            <a:ext cx="10225080" cy="15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21096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sk analysis for hydrological pres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19130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iver flow standards and lake level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3676680"/>
            <a:ext cx="808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efine supporting conditions for high, good, moderate and poor ecologic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5086440"/>
            <a:ext cx="808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based on literature review; advice from independent experts; and public consul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24000" y="1557360"/>
            <a:ext cx="1008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324000" y="2133720"/>
            <a:ext cx="10009440" cy="48956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3933720"/>
            <a:ext cx="76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to estimate where the river flow and lake level standards are fai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26028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.using national flow modelling tool, calibrated using data from river flow gauging 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471600" y="1700280"/>
            <a:ext cx="9759960" cy="1109520"/>
          </a:xfrm>
          <a:custGeom>
            <a:avLst/>
            <a:gdLst/>
            <a:ahLst/>
            <a:rect l="l" t="t" r="r" b="b"/>
            <a:pathLst>
              <a:path w="6148" h="699">
                <a:moveTo>
                  <a:pt x="6112" y="156"/>
                </a:moveTo>
                <a:cubicBezTo>
                  <a:pt x="6084" y="138"/>
                  <a:pt x="6070" y="120"/>
                  <a:pt x="6039" y="110"/>
                </a:cubicBezTo>
                <a:cubicBezTo>
                  <a:pt x="5984" y="58"/>
                  <a:pt x="6060" y="124"/>
                  <a:pt x="5993" y="83"/>
                </a:cubicBezTo>
                <a:cubicBezTo>
                  <a:pt x="5986" y="78"/>
                  <a:pt x="5983" y="68"/>
                  <a:pt x="5975" y="64"/>
                </a:cubicBezTo>
                <a:cubicBezTo>
                  <a:pt x="5958" y="55"/>
                  <a:pt x="5920" y="46"/>
                  <a:pt x="5920" y="46"/>
                </a:cubicBezTo>
                <a:cubicBezTo>
                  <a:pt x="5879" y="54"/>
                  <a:pt x="5830" y="55"/>
                  <a:pt x="5792" y="74"/>
                </a:cubicBezTo>
                <a:cubicBezTo>
                  <a:pt x="5745" y="98"/>
                  <a:pt x="5708" y="144"/>
                  <a:pt x="5664" y="174"/>
                </a:cubicBezTo>
                <a:cubicBezTo>
                  <a:pt x="5658" y="183"/>
                  <a:pt x="5655" y="196"/>
                  <a:pt x="5646" y="202"/>
                </a:cubicBezTo>
                <a:cubicBezTo>
                  <a:pt x="5630" y="212"/>
                  <a:pt x="5591" y="220"/>
                  <a:pt x="5591" y="220"/>
                </a:cubicBezTo>
                <a:cubicBezTo>
                  <a:pt x="5560" y="217"/>
                  <a:pt x="5529" y="220"/>
                  <a:pt x="5499" y="211"/>
                </a:cubicBezTo>
                <a:cubicBezTo>
                  <a:pt x="5463" y="201"/>
                  <a:pt x="5470" y="180"/>
                  <a:pt x="5444" y="165"/>
                </a:cubicBezTo>
                <a:cubicBezTo>
                  <a:pt x="5410" y="145"/>
                  <a:pt x="5370" y="127"/>
                  <a:pt x="5335" y="110"/>
                </a:cubicBezTo>
                <a:cubicBezTo>
                  <a:pt x="5229" y="58"/>
                  <a:pt x="5118" y="31"/>
                  <a:pt x="5006" y="0"/>
                </a:cubicBezTo>
                <a:cubicBezTo>
                  <a:pt x="4930" y="3"/>
                  <a:pt x="4853" y="3"/>
                  <a:pt x="4777" y="10"/>
                </a:cubicBezTo>
                <a:cubicBezTo>
                  <a:pt x="4703" y="17"/>
                  <a:pt x="4638" y="74"/>
                  <a:pt x="4567" y="92"/>
                </a:cubicBezTo>
                <a:cubicBezTo>
                  <a:pt x="4505" y="151"/>
                  <a:pt x="4412" y="178"/>
                  <a:pt x="4329" y="192"/>
                </a:cubicBezTo>
                <a:cubicBezTo>
                  <a:pt x="4274" y="189"/>
                  <a:pt x="4219" y="191"/>
                  <a:pt x="4164" y="183"/>
                </a:cubicBezTo>
                <a:cubicBezTo>
                  <a:pt x="4136" y="179"/>
                  <a:pt x="4109" y="165"/>
                  <a:pt x="4082" y="156"/>
                </a:cubicBezTo>
                <a:cubicBezTo>
                  <a:pt x="4064" y="150"/>
                  <a:pt x="4027" y="138"/>
                  <a:pt x="4027" y="138"/>
                </a:cubicBezTo>
                <a:cubicBezTo>
                  <a:pt x="3942" y="78"/>
                  <a:pt x="4065" y="160"/>
                  <a:pt x="3963" y="110"/>
                </a:cubicBezTo>
                <a:cubicBezTo>
                  <a:pt x="3943" y="100"/>
                  <a:pt x="3926" y="86"/>
                  <a:pt x="3908" y="74"/>
                </a:cubicBezTo>
                <a:cubicBezTo>
                  <a:pt x="3873" y="51"/>
                  <a:pt x="3742" y="23"/>
                  <a:pt x="3689" y="10"/>
                </a:cubicBezTo>
                <a:cubicBezTo>
                  <a:pt x="3476" y="15"/>
                  <a:pt x="3344" y="9"/>
                  <a:pt x="3159" y="46"/>
                </a:cubicBezTo>
                <a:cubicBezTo>
                  <a:pt x="3119" y="72"/>
                  <a:pt x="3073" y="80"/>
                  <a:pt x="3031" y="101"/>
                </a:cubicBezTo>
                <a:cubicBezTo>
                  <a:pt x="2878" y="176"/>
                  <a:pt x="2716" y="237"/>
                  <a:pt x="2546" y="256"/>
                </a:cubicBezTo>
                <a:cubicBezTo>
                  <a:pt x="2503" y="253"/>
                  <a:pt x="2460" y="256"/>
                  <a:pt x="2418" y="247"/>
                </a:cubicBezTo>
                <a:cubicBezTo>
                  <a:pt x="2401" y="243"/>
                  <a:pt x="2389" y="226"/>
                  <a:pt x="2372" y="220"/>
                </a:cubicBezTo>
                <a:cubicBezTo>
                  <a:pt x="2355" y="214"/>
                  <a:pt x="2336" y="214"/>
                  <a:pt x="2318" y="211"/>
                </a:cubicBezTo>
                <a:cubicBezTo>
                  <a:pt x="2213" y="158"/>
                  <a:pt x="2104" y="97"/>
                  <a:pt x="1988" y="74"/>
                </a:cubicBezTo>
                <a:cubicBezTo>
                  <a:pt x="1936" y="47"/>
                  <a:pt x="1892" y="44"/>
                  <a:pt x="1833" y="37"/>
                </a:cubicBezTo>
                <a:cubicBezTo>
                  <a:pt x="1649" y="43"/>
                  <a:pt x="1554" y="49"/>
                  <a:pt x="1394" y="74"/>
                </a:cubicBezTo>
                <a:cubicBezTo>
                  <a:pt x="1364" y="84"/>
                  <a:pt x="1333" y="90"/>
                  <a:pt x="1303" y="101"/>
                </a:cubicBezTo>
                <a:cubicBezTo>
                  <a:pt x="1235" y="126"/>
                  <a:pt x="1173" y="160"/>
                  <a:pt x="1102" y="174"/>
                </a:cubicBezTo>
                <a:cubicBezTo>
                  <a:pt x="1067" y="197"/>
                  <a:pt x="1043" y="203"/>
                  <a:pt x="1001" y="211"/>
                </a:cubicBezTo>
                <a:cubicBezTo>
                  <a:pt x="910" y="255"/>
                  <a:pt x="811" y="225"/>
                  <a:pt x="718" y="202"/>
                </a:cubicBezTo>
                <a:cubicBezTo>
                  <a:pt x="662" y="173"/>
                  <a:pt x="597" y="150"/>
                  <a:pt x="535" y="138"/>
                </a:cubicBezTo>
                <a:cubicBezTo>
                  <a:pt x="441" y="90"/>
                  <a:pt x="553" y="144"/>
                  <a:pt x="462" y="110"/>
                </a:cubicBezTo>
                <a:cubicBezTo>
                  <a:pt x="400" y="87"/>
                  <a:pt x="343" y="53"/>
                  <a:pt x="279" y="37"/>
                </a:cubicBezTo>
                <a:cubicBezTo>
                  <a:pt x="24" y="56"/>
                  <a:pt x="96" y="5"/>
                  <a:pt x="4" y="92"/>
                </a:cubicBezTo>
                <a:cubicBezTo>
                  <a:pt x="9" y="129"/>
                  <a:pt x="0" y="173"/>
                  <a:pt x="23" y="202"/>
                </a:cubicBezTo>
                <a:cubicBezTo>
                  <a:pt x="38" y="221"/>
                  <a:pt x="58" y="221"/>
                  <a:pt x="78" y="229"/>
                </a:cubicBezTo>
                <a:cubicBezTo>
                  <a:pt x="142" y="256"/>
                  <a:pt x="178" y="267"/>
                  <a:pt x="251" y="275"/>
                </a:cubicBezTo>
                <a:cubicBezTo>
                  <a:pt x="454" y="341"/>
                  <a:pt x="655" y="417"/>
                  <a:pt x="855" y="494"/>
                </a:cubicBezTo>
                <a:cubicBezTo>
                  <a:pt x="944" y="528"/>
                  <a:pt x="1026" y="586"/>
                  <a:pt x="1120" y="604"/>
                </a:cubicBezTo>
                <a:cubicBezTo>
                  <a:pt x="1171" y="630"/>
                  <a:pt x="1196" y="633"/>
                  <a:pt x="1257" y="640"/>
                </a:cubicBezTo>
                <a:cubicBezTo>
                  <a:pt x="1417" y="699"/>
                  <a:pt x="1431" y="656"/>
                  <a:pt x="1714" y="650"/>
                </a:cubicBezTo>
                <a:cubicBezTo>
                  <a:pt x="2046" y="598"/>
                  <a:pt x="2385" y="573"/>
                  <a:pt x="2720" y="558"/>
                </a:cubicBezTo>
                <a:cubicBezTo>
                  <a:pt x="2966" y="525"/>
                  <a:pt x="2854" y="535"/>
                  <a:pt x="3058" y="522"/>
                </a:cubicBezTo>
                <a:cubicBezTo>
                  <a:pt x="3250" y="472"/>
                  <a:pt x="3473" y="487"/>
                  <a:pt x="3671" y="467"/>
                </a:cubicBezTo>
                <a:cubicBezTo>
                  <a:pt x="4480" y="385"/>
                  <a:pt x="5241" y="407"/>
                  <a:pt x="6075" y="403"/>
                </a:cubicBezTo>
                <a:cubicBezTo>
                  <a:pt x="6115" y="383"/>
                  <a:pt x="6134" y="389"/>
                  <a:pt x="6148" y="348"/>
                </a:cubicBezTo>
                <a:cubicBezTo>
                  <a:pt x="6127" y="260"/>
                  <a:pt x="6112" y="246"/>
                  <a:pt x="6112" y="156"/>
                </a:cubicBez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042920" y="620640"/>
          <a:ext cx="7201080" cy="5689800"/>
        </p:xfrm>
        <a:graphic>
          <a:graphicData uri="http://schemas.openxmlformats.org/drawingml/2006/table">
            <a:tbl>
              <a:tblPr/>
              <a:tblGrid>
                <a:gridCol w="4141800"/>
                <a:gridCol w="3059280"/>
              </a:tblGrid>
              <a:tr h="863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of risk assessment results where no suitable biological data avail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ased on risk assessment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dence of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 confidence moderate or wo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Po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B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07:59:22Z</dcterms:created>
  <dc:creator>peter.pollard</dc:creator>
  <dc:description/>
  <dc:language>en-US</dc:language>
  <cp:lastModifiedBy>peter.pollard</cp:lastModifiedBy>
  <dcterms:modified xsi:type="dcterms:W3CDTF">2008-03-05T11:16:06Z</dcterms:modified>
  <cp:revision>12</cp:revision>
  <dc:subject/>
  <dc:title>Slide 1</dc:title>
</cp:coreProperties>
</file>