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23.png" ContentType="image/png"/>
  <Override PartName="/ppt/media/image22.wmf" ContentType="image/x-wmf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9.jpeg" ContentType="image/jpeg"/>
  <Override PartName="/ppt/media/image10.jpeg" ContentType="image/jpeg"/>
  <Override PartName="/ppt/media/image12.png" ContentType="image/png"/>
  <Override PartName="/ppt/media/image11.png" ContentType="image/png"/>
  <Override PartName="/ppt/media/image9.jpeg" ContentType="image/jpeg"/>
  <Override PartName="/ppt/media/image3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7520" y="486216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E3B9F5-B850-49D1-81CB-03EB59840F55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2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n defining reference conditions it is necessary to take into ac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at the assessment is done by analysing the deviation from the typespecific biologic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ime press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ue to the deadlines set in the WF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 agreed to concentrate on best indic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 need if it is already 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2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n defining reference conditions it is necessary to take into ac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at the assessment is done by analysing the deviation from the typespecific biologic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ime press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ue to the deadlines set in the WF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 agreed to concentrate on best indic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 need if it is already 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2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n defining reference conditions it is necessary to take into ac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at the assessment is done by analysing the deviation from the typespecific biologic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ime press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ue to the deadlines set in the WF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 agreed to concentrate on best indic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 need if it is already 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7520" y="4862520"/>
            <a:ext cx="5203800" cy="4602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n defining reference conditions it is necessary to take into ac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at the assessment is done by analysing the deviation from the typespecific biologic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ime press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ue to the deadlines set in the WF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 agreed to concentrate on best indic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 need if it is already 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83822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992400"/>
            <a:ext cx="83822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99240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399240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177336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177336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99240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399240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99240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773360"/>
            <a:ext cx="83822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83822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1440" y="439560"/>
            <a:ext cx="7043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99240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773360"/>
            <a:ext cx="83822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99240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992400"/>
            <a:ext cx="83822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83822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992400"/>
            <a:ext cx="83822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99240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99240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160" y="177336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177336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99240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160" y="399240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992400"/>
            <a:ext cx="26989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83822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1440" y="439560"/>
            <a:ext cx="70437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99240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399240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773360"/>
            <a:ext cx="409032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992400"/>
            <a:ext cx="83822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9215280" y="3809520"/>
            <a:ext cx="0" cy="3048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42280" y="6551640"/>
            <a:ext cx="80172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8A632B92-7F95-478F-91FB-6AF00F542BFD}" type="slidenum">
              <a:rPr b="1" lang="de-DE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219240" y="6524640"/>
            <a:ext cx="10994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ahoma"/>
              </a:rPr>
              <a:t>20.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75480" y="257040"/>
            <a:ext cx="1254240" cy="959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773360"/>
            <a:ext cx="83822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18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0172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2076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207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207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9215280" cy="476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86640" y="6524640"/>
            <a:ext cx="693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fld id="{EA39AE0A-8F51-4CCC-91B6-99CA5808AD1E}" type="slidenum">
              <a:rPr b="1" lang="de-D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42120" y="260280"/>
            <a:ext cx="1587600" cy="1214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915660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ctr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82680" algn="ctr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573120" algn="ctr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92160" algn="ctr"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921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921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4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3640" y="549000"/>
            <a:ext cx="8569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assification of ecological status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 the 1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manage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ussels, March 6-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isela Ofenbö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deral Ministry of Agriculture, Forestry, Environment and Wat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gisela.ofenboeck@lebensministerium.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632720" cy="10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ahoma"/>
              </a:rPr>
              <a:t>Operational Monitoring</a:t>
            </a:r>
            <a:br>
              <a:rPr sz="2800"/>
            </a:br>
            <a:r>
              <a:rPr b="0" lang="de-DE" sz="2700" spc="-1" strike="noStrike">
                <a:solidFill>
                  <a:srgbClr val="3333cc"/>
                </a:solidFill>
                <a:latin typeface="Tahoma"/>
              </a:rPr>
              <a:t>selection of relevant parameters </a:t>
            </a:r>
            <a:endParaRPr b="1" lang="en-US" sz="27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32720" cy="32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ed on risk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most indicative quality element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ot all quality elements – only most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pending o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mbined pressures – combined quality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orst case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6360" y="5526000"/>
            <a:ext cx="914400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201600" y="1773360"/>
          <a:ext cx="8763120" cy="3709800"/>
        </p:xfrm>
        <a:graphic>
          <a:graphicData uri="http://schemas.openxmlformats.org/drawingml/2006/table">
            <a:tbl>
              <a:tblPr/>
              <a:tblGrid>
                <a:gridCol w="3218040"/>
                <a:gridCol w="1008000"/>
                <a:gridCol w="936360"/>
                <a:gridCol w="1008360"/>
                <a:gridCol w="936360"/>
                <a:gridCol w="863640"/>
                <a:gridCol w="79236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Pressur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physico-chemical Para-me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-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to-benth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ro-ph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-inverte-b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ation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d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1600" y="333360"/>
            <a:ext cx="8763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tional Monitor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Most indicative quality elemen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5776920"/>
            <a:ext cx="9144000" cy="1081080"/>
            <a:chOff x="0" y="5776920"/>
            <a:chExt cx="9144000" cy="108108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0" y="5776920"/>
              <a:ext cx="176364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6062760" y="5776920"/>
              <a:ext cx="209052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1752480" y="577692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8153280" y="5776920"/>
              <a:ext cx="9907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2819520" y="5776920"/>
              <a:ext cx="94284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6"/>
            <a:srcRect l="29163" t="0" r="0" b="0"/>
            <a:stretch/>
          </p:blipFill>
          <p:spPr>
            <a:xfrm>
              <a:off x="3733920" y="5776920"/>
              <a:ext cx="11458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rcRect l="14582" t="0" r="9723" b="0"/>
            <a:stretch/>
          </p:blipFill>
          <p:spPr>
            <a:xfrm>
              <a:off x="4876920" y="5776920"/>
              <a:ext cx="122544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01600" y="1954080"/>
          <a:ext cx="8763120" cy="3346560"/>
        </p:xfrm>
        <a:graphic>
          <a:graphicData uri="http://schemas.openxmlformats.org/drawingml/2006/table">
            <a:tbl>
              <a:tblPr/>
              <a:tblGrid>
                <a:gridCol w="3218040"/>
                <a:gridCol w="1008000"/>
                <a:gridCol w="936360"/>
                <a:gridCol w="1008360"/>
                <a:gridCol w="936360"/>
                <a:gridCol w="863640"/>
                <a:gridCol w="79236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morphological pressur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physico-chemical Para-me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-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to-benth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ro-ph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-inverte-b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phological alt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 bed mod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al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 pea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und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s of continu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1600" y="333360"/>
            <a:ext cx="8763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perational Monitor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Most indicative quality elemen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5776920"/>
            <a:ext cx="9144000" cy="1081080"/>
            <a:chOff x="0" y="5776920"/>
            <a:chExt cx="9144000" cy="108108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5776920"/>
              <a:ext cx="176364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6062760" y="5776920"/>
              <a:ext cx="209052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1752480" y="577692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8153280" y="5776920"/>
              <a:ext cx="9907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5"/>
            <a:stretch/>
          </p:blipFill>
          <p:spPr>
            <a:xfrm>
              <a:off x="2819520" y="5776920"/>
              <a:ext cx="94284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6"/>
            <a:srcRect l="29163" t="0" r="0" b="0"/>
            <a:stretch/>
          </p:blipFill>
          <p:spPr>
            <a:xfrm>
              <a:off x="3733920" y="5776920"/>
              <a:ext cx="11458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7"/>
            <a:srcRect l="14582" t="0" r="9723" b="0"/>
            <a:stretch/>
          </p:blipFill>
          <p:spPr>
            <a:xfrm>
              <a:off x="4876920" y="5776920"/>
              <a:ext cx="122544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2240" y="44280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Operational Monitoring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Chemical Pollution WB &gt; 100 km²</a:t>
            </a: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cc"/>
                </a:solidFill>
                <a:latin typeface="Tahoma"/>
              </a:rPr>
              <a:t>Each waterbody „at risk“ or „possible at risk“ needs</a:t>
            </a:r>
            <a:r>
              <a:rPr b="0" lang="de-AT" sz="24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400"/>
            </a:br>
            <a:r>
              <a:rPr b="1" lang="de-AT" sz="2400" spc="-1" strike="noStrike">
                <a:solidFill>
                  <a:srgbClr val="3333cc"/>
                </a:solidFill>
                <a:latin typeface="Tahoma"/>
              </a:rPr>
              <a:t>at least</a:t>
            </a:r>
            <a:r>
              <a:rPr b="0" lang="de-AT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de-AT" sz="2400" spc="-1" strike="noStrike">
                <a:solidFill>
                  <a:srgbClr val="3333cc"/>
                </a:solidFill>
                <a:latin typeface="Tahoma"/>
              </a:rPr>
              <a:t>one monitor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5840" indent="-3427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Excemption: consecutive waterbodies with diffuse pol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5840" indent="-3427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Use of Existing data (2005 –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5840" indent="-3427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198 waterbodies at risk or possibly at risk (72 specific chemical pollutants (origin mainly point sources, incl. Ammonium, Nitr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5840" indent="-3427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ampling site at end of water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1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Quality elements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hysico-chemical parameters, relevant pollutants, Macroinvertebrates, Phytobent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5351400"/>
            <a:ext cx="9144000" cy="1533600"/>
            <a:chOff x="0" y="5351400"/>
            <a:chExt cx="9144000" cy="1533600"/>
          </a:xfrm>
        </p:grpSpPr>
        <p:sp>
          <p:nvSpPr>
            <p:cNvPr id="240" name=""/>
            <p:cNvSpPr/>
            <p:nvPr/>
          </p:nvSpPr>
          <p:spPr>
            <a:xfrm>
              <a:off x="0" y="5351400"/>
              <a:ext cx="9144000" cy="153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13280" y="5400720"/>
              <a:ext cx="8345880" cy="1483920"/>
              <a:chOff x="413280" y="5400720"/>
              <a:chExt cx="8345880" cy="1483920"/>
            </a:xfrm>
          </p:grpSpPr>
          <p:pic>
            <p:nvPicPr>
              <p:cNvPr id="2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3280" y="5400720"/>
                <a:ext cx="1994400" cy="144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2200" y="5436720"/>
                <a:ext cx="1909440" cy="14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29640" y="5473080"/>
                <a:ext cx="3629520" cy="138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1440" y="189000"/>
            <a:ext cx="70437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Operational Monitoring </a:t>
            </a:r>
            <a:br>
              <a:rPr sz="28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ydromorphological pressur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Many water bodies at risk but limited number of monitoring sites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 representative monitoring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cc"/>
                </a:solidFill>
                <a:latin typeface="Tahoma"/>
              </a:rPr>
              <a:t>Groups of waterbo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275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typology: similar natural conditions with regard to the relevant BQE 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 fish typolo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2750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pressures and combinations of press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61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99"/>
                </a:solidFill>
                <a:latin typeface="Tahoma"/>
              </a:rPr>
              <a:t>28 combinations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out of 32 possible combinations</a:t>
            </a:r>
            <a:r>
              <a:rPr b="0" lang="de-DE" sz="2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261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99"/>
                </a:solidFill>
                <a:latin typeface="Tahoma"/>
              </a:rPr>
              <a:t>5 dominant combinations: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cover 60% of water bodies a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5415120"/>
            <a:ext cx="9143640" cy="1469520"/>
            <a:chOff x="0" y="5415120"/>
            <a:chExt cx="9143640" cy="14695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4411080" y="5415120"/>
              <a:ext cx="2489400" cy="146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0" y="5429160"/>
              <a:ext cx="9143640" cy="1455480"/>
              <a:chOff x="0" y="5429160"/>
              <a:chExt cx="9143640" cy="1455480"/>
            </a:xfrm>
          </p:grpSpPr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429160"/>
                <a:ext cx="2312280" cy="14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3"/>
              <a:srcRect l="0" t="19588" r="0" b="0"/>
              <a:stretch/>
            </p:blipFill>
            <p:spPr>
              <a:xfrm>
                <a:off x="2312280" y="5429160"/>
                <a:ext cx="2134800" cy="14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65920" y="5429160"/>
                <a:ext cx="2277720" cy="143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4920" y="5300280"/>
            <a:ext cx="84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600 water bodies at risk – ca. 30% monitored, ca. 400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Quality element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ish, (Macroinverteb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93840" y="1574640"/>
          <a:ext cx="8178840" cy="35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574640"/>
                    <a:ext cx="817884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79280" y="351000"/>
            <a:ext cx="704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ahoma"/>
              </a:rPr>
              <a:t>Operational Monitoring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ydromorphological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1440" y="26028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cc"/>
                </a:solidFill>
                <a:latin typeface="Tahoma"/>
              </a:rPr>
              <a:t>Classification of waterbodies </a:t>
            </a:r>
            <a:br>
              <a:rPr sz="2400"/>
            </a:b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(h</a:t>
            </a: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ydromorphological pressures)</a:t>
            </a:r>
            <a:endParaRPr b="1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00" y="5288040"/>
            <a:ext cx="3311280" cy="1569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1620720" y="1862280"/>
            <a:ext cx="7559280" cy="1566360"/>
            <a:chOff x="1620720" y="1862280"/>
            <a:chExt cx="7559280" cy="1566360"/>
          </a:xfrm>
        </p:grpSpPr>
        <p:sp>
          <p:nvSpPr>
            <p:cNvPr id="260" name=""/>
            <p:cNvSpPr/>
            <p:nvPr/>
          </p:nvSpPr>
          <p:spPr>
            <a:xfrm>
              <a:off x="2422080" y="2302920"/>
              <a:ext cx="1463760" cy="1125720"/>
            </a:xfrm>
            <a:custGeom>
              <a:avLst/>
              <a:gdLst/>
              <a:ahLst/>
              <a:rect l="l" t="t" r="r" b="b"/>
              <a:pathLst>
                <a:path w="1032" h="840">
                  <a:moveTo>
                    <a:pt x="32" y="840"/>
                  </a:moveTo>
                  <a:cubicBezTo>
                    <a:pt x="27" y="832"/>
                    <a:pt x="20" y="825"/>
                    <a:pt x="16" y="816"/>
                  </a:cubicBezTo>
                  <a:cubicBezTo>
                    <a:pt x="9" y="801"/>
                    <a:pt x="0" y="768"/>
                    <a:pt x="0" y="768"/>
                  </a:cubicBezTo>
                  <a:cubicBezTo>
                    <a:pt x="24" y="614"/>
                    <a:pt x="44" y="509"/>
                    <a:pt x="120" y="376"/>
                  </a:cubicBezTo>
                  <a:cubicBezTo>
                    <a:pt x="142" y="338"/>
                    <a:pt x="149" y="302"/>
                    <a:pt x="192" y="288"/>
                  </a:cubicBezTo>
                  <a:cubicBezTo>
                    <a:pt x="207" y="273"/>
                    <a:pt x="216" y="253"/>
                    <a:pt x="232" y="240"/>
                  </a:cubicBezTo>
                  <a:cubicBezTo>
                    <a:pt x="242" y="232"/>
                    <a:pt x="303" y="224"/>
                    <a:pt x="304" y="224"/>
                  </a:cubicBezTo>
                  <a:cubicBezTo>
                    <a:pt x="343" y="217"/>
                    <a:pt x="379" y="204"/>
                    <a:pt x="416" y="192"/>
                  </a:cubicBezTo>
                  <a:cubicBezTo>
                    <a:pt x="525" y="156"/>
                    <a:pt x="645" y="187"/>
                    <a:pt x="760" y="184"/>
                  </a:cubicBezTo>
                  <a:cubicBezTo>
                    <a:pt x="801" y="170"/>
                    <a:pt x="844" y="152"/>
                    <a:pt x="880" y="128"/>
                  </a:cubicBezTo>
                  <a:cubicBezTo>
                    <a:pt x="909" y="109"/>
                    <a:pt x="943" y="75"/>
                    <a:pt x="976" y="64"/>
                  </a:cubicBezTo>
                  <a:cubicBezTo>
                    <a:pt x="981" y="56"/>
                    <a:pt x="984" y="46"/>
                    <a:pt x="992" y="40"/>
                  </a:cubicBezTo>
                  <a:cubicBezTo>
                    <a:pt x="999" y="35"/>
                    <a:pt x="1010" y="38"/>
                    <a:pt x="1016" y="32"/>
                  </a:cubicBezTo>
                  <a:cubicBezTo>
                    <a:pt x="1017" y="31"/>
                    <a:pt x="1026" y="6"/>
                    <a:pt x="1032" y="0"/>
                  </a:cubicBezTo>
                </a:path>
              </a:pathLst>
            </a:custGeom>
            <a:noFill/>
            <a:ln w="1015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620720" y="1862280"/>
              <a:ext cx="7559280" cy="1443240"/>
              <a:chOff x="1620720" y="1862280"/>
              <a:chExt cx="7559280" cy="1443240"/>
            </a:xfrm>
          </p:grpSpPr>
          <p:sp>
            <p:nvSpPr>
              <p:cNvPr id="262" name=""/>
              <p:cNvSpPr/>
              <p:nvPr/>
            </p:nvSpPr>
            <p:spPr>
              <a:xfrm>
                <a:off x="1620720" y="1970640"/>
                <a:ext cx="6354720" cy="666000"/>
              </a:xfrm>
              <a:custGeom>
                <a:avLst/>
                <a:gdLst/>
                <a:ahLst/>
                <a:rect l="l" t="t" r="r" b="b"/>
                <a:pathLst>
                  <a:path w="4480" h="497">
                    <a:moveTo>
                      <a:pt x="0" y="497"/>
                    </a:moveTo>
                    <a:cubicBezTo>
                      <a:pt x="21" y="465"/>
                      <a:pt x="46" y="451"/>
                      <a:pt x="72" y="425"/>
                    </a:cubicBezTo>
                    <a:cubicBezTo>
                      <a:pt x="81" y="416"/>
                      <a:pt x="86" y="402"/>
                      <a:pt x="96" y="393"/>
                    </a:cubicBezTo>
                    <a:cubicBezTo>
                      <a:pt x="118" y="374"/>
                      <a:pt x="144" y="361"/>
                      <a:pt x="168" y="345"/>
                    </a:cubicBezTo>
                    <a:cubicBezTo>
                      <a:pt x="177" y="339"/>
                      <a:pt x="182" y="327"/>
                      <a:pt x="192" y="321"/>
                    </a:cubicBezTo>
                    <a:cubicBezTo>
                      <a:pt x="202" y="316"/>
                      <a:pt x="213" y="316"/>
                      <a:pt x="224" y="313"/>
                    </a:cubicBezTo>
                    <a:cubicBezTo>
                      <a:pt x="293" y="267"/>
                      <a:pt x="357" y="257"/>
                      <a:pt x="440" y="249"/>
                    </a:cubicBezTo>
                    <a:cubicBezTo>
                      <a:pt x="573" y="205"/>
                      <a:pt x="688" y="199"/>
                      <a:pt x="832" y="193"/>
                    </a:cubicBezTo>
                    <a:cubicBezTo>
                      <a:pt x="1015" y="167"/>
                      <a:pt x="1195" y="193"/>
                      <a:pt x="1376" y="209"/>
                    </a:cubicBezTo>
                    <a:cubicBezTo>
                      <a:pt x="1413" y="216"/>
                      <a:pt x="1444" y="233"/>
                      <a:pt x="1480" y="241"/>
                    </a:cubicBezTo>
                    <a:cubicBezTo>
                      <a:pt x="1541" y="255"/>
                      <a:pt x="1614" y="249"/>
                      <a:pt x="1672" y="273"/>
                    </a:cubicBezTo>
                    <a:cubicBezTo>
                      <a:pt x="1742" y="302"/>
                      <a:pt x="1796" y="340"/>
                      <a:pt x="1872" y="353"/>
                    </a:cubicBezTo>
                    <a:cubicBezTo>
                      <a:pt x="1970" y="402"/>
                      <a:pt x="2102" y="403"/>
                      <a:pt x="2208" y="417"/>
                    </a:cubicBezTo>
                    <a:cubicBezTo>
                      <a:pt x="3112" y="410"/>
                      <a:pt x="2930" y="433"/>
                      <a:pt x="3368" y="393"/>
                    </a:cubicBezTo>
                    <a:cubicBezTo>
                      <a:pt x="3404" y="386"/>
                      <a:pt x="3430" y="370"/>
                      <a:pt x="3464" y="361"/>
                    </a:cubicBezTo>
                    <a:cubicBezTo>
                      <a:pt x="3509" y="349"/>
                      <a:pt x="3555" y="340"/>
                      <a:pt x="3600" y="329"/>
                    </a:cubicBezTo>
                    <a:cubicBezTo>
                      <a:pt x="3619" y="301"/>
                      <a:pt x="3632" y="292"/>
                      <a:pt x="3664" y="281"/>
                    </a:cubicBezTo>
                    <a:cubicBezTo>
                      <a:pt x="3690" y="243"/>
                      <a:pt x="3717" y="236"/>
                      <a:pt x="3760" y="225"/>
                    </a:cubicBezTo>
                    <a:cubicBezTo>
                      <a:pt x="3792" y="201"/>
                      <a:pt x="3817" y="187"/>
                      <a:pt x="3856" y="177"/>
                    </a:cubicBezTo>
                    <a:cubicBezTo>
                      <a:pt x="3872" y="161"/>
                      <a:pt x="3896" y="153"/>
                      <a:pt x="3912" y="137"/>
                    </a:cubicBezTo>
                    <a:cubicBezTo>
                      <a:pt x="3918" y="131"/>
                      <a:pt x="3914" y="119"/>
                      <a:pt x="3920" y="113"/>
                    </a:cubicBezTo>
                    <a:cubicBezTo>
                      <a:pt x="3944" y="89"/>
                      <a:pt x="3994" y="88"/>
                      <a:pt x="4024" y="73"/>
                    </a:cubicBezTo>
                    <a:cubicBezTo>
                      <a:pt x="4104" y="33"/>
                      <a:pt x="3982" y="83"/>
                      <a:pt x="4080" y="41"/>
                    </a:cubicBezTo>
                    <a:cubicBezTo>
                      <a:pt x="4176" y="0"/>
                      <a:pt x="4402" y="17"/>
                      <a:pt x="4480" y="17"/>
                    </a:cubicBezTo>
                  </a:path>
                </a:pathLst>
              </a:custGeom>
              <a:noFill/>
              <a:ln w="10152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01680" y="2106000"/>
                <a:ext cx="0" cy="48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413840" y="1862280"/>
                <a:ext cx="0" cy="48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flipV="1">
                <a:off x="6027840" y="2590920"/>
                <a:ext cx="319320" cy="34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46880" y="2530800"/>
                <a:ext cx="383400" cy="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6899040" y="2226600"/>
                <a:ext cx="192240" cy="4680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76120" y="2530800"/>
                <a:ext cx="511920" cy="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7480" y="2937240"/>
                <a:ext cx="432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ahoma"/>
                  </a:rPr>
                  <a:t>x % within a water bod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5029920" y="2590920"/>
                <a:ext cx="1317240" cy="34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347520" y="2347200"/>
                <a:ext cx="551160" cy="58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1187280" y="963720"/>
            <a:ext cx="648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If there are different status classes within a water body – how much deviation from good status is acceptable? </a:t>
            </a:r>
            <a:r>
              <a:rPr b="0" lang="de-AT" sz="2000" spc="-1" strike="noStrike">
                <a:solidFill>
                  <a:srgbClr val="ff0000"/>
                </a:solidFill>
                <a:latin typeface="Tahoma"/>
              </a:rPr>
              <a:t>Still under discuss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2360" y="3471840"/>
            <a:ext cx="7343280" cy="1613520"/>
            <a:chOff x="1692360" y="3471840"/>
            <a:chExt cx="7343280" cy="1613520"/>
          </a:xfrm>
        </p:grpSpPr>
        <p:grpSp>
          <p:nvGrpSpPr>
            <p:cNvPr id="274" name=""/>
            <p:cNvGrpSpPr/>
            <p:nvPr/>
          </p:nvGrpSpPr>
          <p:grpSpPr>
            <a:xfrm>
              <a:off x="1692360" y="3610800"/>
              <a:ext cx="7343280" cy="1474560"/>
              <a:chOff x="1692360" y="3610800"/>
              <a:chExt cx="7343280" cy="1474560"/>
            </a:xfrm>
          </p:grpSpPr>
          <p:sp>
            <p:nvSpPr>
              <p:cNvPr id="275" name=""/>
              <p:cNvSpPr/>
              <p:nvPr/>
            </p:nvSpPr>
            <p:spPr>
              <a:xfrm>
                <a:off x="2495880" y="3907440"/>
                <a:ext cx="1468440" cy="965880"/>
              </a:xfrm>
              <a:custGeom>
                <a:avLst/>
                <a:gdLst/>
                <a:ahLst/>
                <a:rect l="l" t="t" r="r" b="b"/>
                <a:pathLst>
                  <a:path w="1032" h="840">
                    <a:moveTo>
                      <a:pt x="32" y="840"/>
                    </a:moveTo>
                    <a:cubicBezTo>
                      <a:pt x="27" y="832"/>
                      <a:pt x="20" y="825"/>
                      <a:pt x="16" y="816"/>
                    </a:cubicBezTo>
                    <a:cubicBezTo>
                      <a:pt x="9" y="801"/>
                      <a:pt x="0" y="768"/>
                      <a:pt x="0" y="768"/>
                    </a:cubicBezTo>
                    <a:cubicBezTo>
                      <a:pt x="24" y="614"/>
                      <a:pt x="44" y="509"/>
                      <a:pt x="120" y="376"/>
                    </a:cubicBezTo>
                    <a:cubicBezTo>
                      <a:pt x="142" y="338"/>
                      <a:pt x="149" y="302"/>
                      <a:pt x="192" y="288"/>
                    </a:cubicBezTo>
                    <a:cubicBezTo>
                      <a:pt x="207" y="273"/>
                      <a:pt x="216" y="253"/>
                      <a:pt x="232" y="240"/>
                    </a:cubicBezTo>
                    <a:cubicBezTo>
                      <a:pt x="242" y="232"/>
                      <a:pt x="303" y="224"/>
                      <a:pt x="304" y="224"/>
                    </a:cubicBezTo>
                    <a:cubicBezTo>
                      <a:pt x="343" y="217"/>
                      <a:pt x="379" y="204"/>
                      <a:pt x="416" y="192"/>
                    </a:cubicBezTo>
                    <a:cubicBezTo>
                      <a:pt x="525" y="156"/>
                      <a:pt x="645" y="187"/>
                      <a:pt x="760" y="184"/>
                    </a:cubicBezTo>
                    <a:cubicBezTo>
                      <a:pt x="801" y="170"/>
                      <a:pt x="844" y="152"/>
                      <a:pt x="880" y="128"/>
                    </a:cubicBezTo>
                    <a:cubicBezTo>
                      <a:pt x="909" y="109"/>
                      <a:pt x="943" y="75"/>
                      <a:pt x="976" y="64"/>
                    </a:cubicBezTo>
                    <a:cubicBezTo>
                      <a:pt x="981" y="56"/>
                      <a:pt x="984" y="46"/>
                      <a:pt x="992" y="40"/>
                    </a:cubicBezTo>
                    <a:cubicBezTo>
                      <a:pt x="999" y="35"/>
                      <a:pt x="1010" y="38"/>
                      <a:pt x="1016" y="32"/>
                    </a:cubicBezTo>
                    <a:cubicBezTo>
                      <a:pt x="1017" y="31"/>
                      <a:pt x="1026" y="6"/>
                      <a:pt x="1032" y="0"/>
                    </a:cubicBezTo>
                  </a:path>
                </a:pathLst>
              </a:custGeom>
              <a:noFill/>
              <a:ln w="10152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92360" y="3610800"/>
                <a:ext cx="6374520" cy="571680"/>
              </a:xfrm>
              <a:custGeom>
                <a:avLst/>
                <a:gdLst/>
                <a:ahLst/>
                <a:rect l="l" t="t" r="r" b="b"/>
                <a:pathLst>
                  <a:path w="4480" h="497">
                    <a:moveTo>
                      <a:pt x="0" y="497"/>
                    </a:moveTo>
                    <a:cubicBezTo>
                      <a:pt x="21" y="465"/>
                      <a:pt x="46" y="451"/>
                      <a:pt x="72" y="425"/>
                    </a:cubicBezTo>
                    <a:cubicBezTo>
                      <a:pt x="81" y="416"/>
                      <a:pt x="86" y="402"/>
                      <a:pt x="96" y="393"/>
                    </a:cubicBezTo>
                    <a:cubicBezTo>
                      <a:pt x="118" y="374"/>
                      <a:pt x="144" y="361"/>
                      <a:pt x="168" y="345"/>
                    </a:cubicBezTo>
                    <a:cubicBezTo>
                      <a:pt x="177" y="339"/>
                      <a:pt x="182" y="327"/>
                      <a:pt x="192" y="321"/>
                    </a:cubicBezTo>
                    <a:cubicBezTo>
                      <a:pt x="202" y="316"/>
                      <a:pt x="213" y="316"/>
                      <a:pt x="224" y="313"/>
                    </a:cubicBezTo>
                    <a:cubicBezTo>
                      <a:pt x="293" y="267"/>
                      <a:pt x="357" y="257"/>
                      <a:pt x="440" y="249"/>
                    </a:cubicBezTo>
                    <a:cubicBezTo>
                      <a:pt x="573" y="205"/>
                      <a:pt x="688" y="199"/>
                      <a:pt x="832" y="193"/>
                    </a:cubicBezTo>
                    <a:cubicBezTo>
                      <a:pt x="1015" y="167"/>
                      <a:pt x="1195" y="193"/>
                      <a:pt x="1376" y="209"/>
                    </a:cubicBezTo>
                    <a:cubicBezTo>
                      <a:pt x="1413" y="216"/>
                      <a:pt x="1444" y="233"/>
                      <a:pt x="1480" y="241"/>
                    </a:cubicBezTo>
                    <a:cubicBezTo>
                      <a:pt x="1541" y="255"/>
                      <a:pt x="1614" y="249"/>
                      <a:pt x="1672" y="273"/>
                    </a:cubicBezTo>
                    <a:cubicBezTo>
                      <a:pt x="1742" y="302"/>
                      <a:pt x="1796" y="340"/>
                      <a:pt x="1872" y="353"/>
                    </a:cubicBezTo>
                    <a:cubicBezTo>
                      <a:pt x="1970" y="402"/>
                      <a:pt x="2102" y="403"/>
                      <a:pt x="2208" y="417"/>
                    </a:cubicBezTo>
                    <a:cubicBezTo>
                      <a:pt x="3112" y="410"/>
                      <a:pt x="2930" y="433"/>
                      <a:pt x="3368" y="393"/>
                    </a:cubicBezTo>
                    <a:cubicBezTo>
                      <a:pt x="3404" y="386"/>
                      <a:pt x="3430" y="370"/>
                      <a:pt x="3464" y="361"/>
                    </a:cubicBezTo>
                    <a:cubicBezTo>
                      <a:pt x="3509" y="349"/>
                      <a:pt x="3555" y="340"/>
                      <a:pt x="3600" y="329"/>
                    </a:cubicBezTo>
                    <a:cubicBezTo>
                      <a:pt x="3619" y="301"/>
                      <a:pt x="3632" y="292"/>
                      <a:pt x="3664" y="281"/>
                    </a:cubicBezTo>
                    <a:cubicBezTo>
                      <a:pt x="3690" y="243"/>
                      <a:pt x="3717" y="236"/>
                      <a:pt x="3760" y="225"/>
                    </a:cubicBezTo>
                    <a:cubicBezTo>
                      <a:pt x="3792" y="201"/>
                      <a:pt x="3817" y="187"/>
                      <a:pt x="3856" y="177"/>
                    </a:cubicBezTo>
                    <a:cubicBezTo>
                      <a:pt x="3872" y="161"/>
                      <a:pt x="3896" y="153"/>
                      <a:pt x="3912" y="137"/>
                    </a:cubicBezTo>
                    <a:cubicBezTo>
                      <a:pt x="3918" y="131"/>
                      <a:pt x="3914" y="119"/>
                      <a:pt x="3920" y="113"/>
                    </a:cubicBezTo>
                    <a:cubicBezTo>
                      <a:pt x="3944" y="89"/>
                      <a:pt x="3994" y="88"/>
                      <a:pt x="4024" y="73"/>
                    </a:cubicBezTo>
                    <a:cubicBezTo>
                      <a:pt x="4104" y="33"/>
                      <a:pt x="3982" y="83"/>
                      <a:pt x="4080" y="41"/>
                    </a:cubicBezTo>
                    <a:cubicBezTo>
                      <a:pt x="4176" y="0"/>
                      <a:pt x="4402" y="17"/>
                      <a:pt x="4480" y="17"/>
                    </a:cubicBezTo>
                  </a:path>
                </a:pathLst>
              </a:custGeom>
              <a:noFill/>
              <a:ln w="10152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36560" y="4091400"/>
                <a:ext cx="1037160" cy="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00160" y="4717080"/>
                <a:ext cx="433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Tahoma"/>
                  </a:rPr>
                  <a:t>Maximum length of x mete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5713200" y="4143240"/>
                <a:ext cx="357120" cy="57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7503480" y="347184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80160" y="373176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373640" y="5516640"/>
            <a:ext cx="4770360" cy="10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042920" y="333360"/>
            <a:ext cx="704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Status of Water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93760" y="1484280"/>
            <a:ext cx="69786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 u="sng">
                <a:solidFill>
                  <a:srgbClr val="000000"/>
                </a:solidFill>
                <a:uFillTx/>
                <a:latin typeface="Arial"/>
              </a:rPr>
              <a:t>Problem: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 few monitoring results available, but classification of all water bodie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3333cc"/>
                </a:solidFill>
                <a:latin typeface="Tahoma"/>
              </a:rPr>
              <a:t>GROUPING PROCEDURE </a:t>
            </a:r>
            <a:r>
              <a:rPr b="0" lang="de-AT" sz="2000" spc="-1" strike="noStrike">
                <a:solidFill>
                  <a:srgbClr val="3333cc"/>
                </a:solidFill>
                <a:latin typeface="Tahoma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biological qualtity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physico-chemical elements from diffus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imple grouping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xpert grouping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-36360" y="-27000"/>
          <a:ext cx="792000" cy="685764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1440" y="259920"/>
            <a:ext cx="7037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Simple grouping procedure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3780000" y="3357720"/>
            <a:ext cx="4392360" cy="259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Criter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mpoundment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 &gt; 10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o flow (river at least temporally d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not enough water for fish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hydropeaking &gt; 1: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ad morphology (class 4-5) dominant (i.e. form more than 50% of water body leng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several migration barriers (Potamal and transition to Hyporhitral</a:t>
            </a: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43120" y="1319040"/>
            <a:ext cx="6465600" cy="814680"/>
          </a:xfrm>
          <a:prstGeom prst="rect">
            <a:avLst/>
          </a:prstGeom>
          <a:solidFill>
            <a:srgbClr val="ccffff">
              <a:alpha val="63000"/>
            </a:srgbClr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Is it possible to classify the status of the water body as 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 without grouping – due to 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extreme values for the pressures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6560" y="2597040"/>
            <a:ext cx="987480" cy="35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2637000"/>
            <a:ext cx="8082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95360" y="2452680"/>
            <a:ext cx="1411200" cy="615960"/>
          </a:xfrm>
          <a:prstGeom prst="leftArrow">
            <a:avLst>
              <a:gd name="adj1" fmla="val 50000"/>
              <a:gd name="adj2" fmla="val 572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76360" y="4616280"/>
            <a:ext cx="1871640" cy="7574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ba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high confi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endCxn id="289" idx="0"/>
          </p:cNvCxnSpPr>
          <p:nvPr/>
        </p:nvCxnSpPr>
        <p:spPr>
          <a:xfrm rot="5400000">
            <a:off x="3071160" y="1533240"/>
            <a:ext cx="392760" cy="1735560"/>
          </a:xfrm>
          <a:prstGeom prst="bentConnector3">
            <a:avLst>
              <a:gd name="adj1" fmla="val 49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9" idx="2"/>
            <a:endCxn id="292" idx="0"/>
          </p:cNvCxnSpPr>
          <p:nvPr/>
        </p:nvCxnSpPr>
        <p:spPr>
          <a:xfrm>
            <a:off x="2400120" y="2947680"/>
            <a:ext cx="13320" cy="16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 flipH="1" rot="16200000">
            <a:off x="4524120" y="1814760"/>
            <a:ext cx="392760" cy="1172520"/>
          </a:xfrm>
          <a:prstGeom prst="bentConnector3">
            <a:avLst>
              <a:gd name="adj1" fmla="val 49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71440" y="259920"/>
            <a:ext cx="7037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Simple grouping procedure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1058760" y="958680"/>
            <a:ext cx="6465960" cy="646200"/>
          </a:xfrm>
          <a:prstGeom prst="rect">
            <a:avLst/>
          </a:prstGeom>
          <a:solidFill>
            <a:srgbClr val="ccffff">
              <a:alpha val="63000"/>
            </a:srgbClr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Is it possible to classify the status of the water body as 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 without grouping – due to 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extreme values for the pressures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67120" y="1846440"/>
            <a:ext cx="8082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11480" y="3621240"/>
            <a:ext cx="2968920" cy="86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Same result </a:t>
            </a: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for all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 respresentative WBs </a:t>
            </a: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of the group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6960" y="2540160"/>
            <a:ext cx="1911240" cy="1152360"/>
          </a:xfrm>
          <a:prstGeom prst="rect">
            <a:avLst/>
          </a:prstGeom>
          <a:solidFill>
            <a:srgbClr val="ffff99">
              <a:alpha val="60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Risk due to 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chemical pollution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diffuse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71840" y="2540160"/>
            <a:ext cx="2229120" cy="720720"/>
          </a:xfrm>
          <a:prstGeom prst="rect">
            <a:avLst/>
          </a:prstGeom>
          <a:solidFill>
            <a:srgbClr val="ccffcc">
              <a:alpha val="62000"/>
            </a:srgbClr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Risk du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hydromorp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299" idx="0"/>
          </p:cNvCxnSpPr>
          <p:nvPr/>
        </p:nvCxnSpPr>
        <p:spPr>
          <a:xfrm>
            <a:off x="5486400" y="3274920"/>
            <a:ext cx="10080" cy="33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1276200" y="4124160"/>
            <a:ext cx="2590920" cy="1968840"/>
          </a:xfrm>
          <a:prstGeom prst="rect">
            <a:avLst/>
          </a:prstGeom>
          <a:solidFill>
            <a:srgbClr val="ffff99">
              <a:alpha val="52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Result from the downstream site is transferred to water bodies located up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high confi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0" idx="2"/>
            <a:endCxn id="303" idx="0"/>
          </p:cNvCxnSpPr>
          <p:nvPr/>
        </p:nvCxnSpPr>
        <p:spPr>
          <a:xfrm>
            <a:off x="2552400" y="3706920"/>
            <a:ext cx="198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rot="16200000">
            <a:off x="4354200" y="2026800"/>
            <a:ext cx="297720" cy="60552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rot="5400000">
            <a:off x="3359160" y="1637280"/>
            <a:ext cx="297720" cy="138492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5865840" y="5132520"/>
            <a:ext cx="88272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endCxn id="309" idx="0"/>
          </p:cNvCxnSpPr>
          <p:nvPr/>
        </p:nvCxnSpPr>
        <p:spPr>
          <a:xfrm rot="5400000">
            <a:off x="4894560" y="4462920"/>
            <a:ext cx="686520" cy="729360"/>
          </a:xfrm>
          <a:prstGeom prst="bentConnector3">
            <a:avLst>
              <a:gd name="adj1" fmla="val 51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H="1" rot="16200000">
            <a:off x="5528880" y="4550760"/>
            <a:ext cx="677160" cy="543600"/>
          </a:xfrm>
          <a:prstGeom prst="bentConnector3">
            <a:avLst>
              <a:gd name="adj1" fmla="val 53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4516560" y="5170320"/>
            <a:ext cx="714240" cy="466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7" idx="2"/>
            <a:endCxn id="298" idx="0"/>
          </p:cNvCxnSpPr>
          <p:nvPr/>
        </p:nvCxnSpPr>
        <p:spPr>
          <a:xfrm flipH="1">
            <a:off x="4271760" y="1618920"/>
            <a:ext cx="208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1440" y="477360"/>
            <a:ext cx="70437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Development of Assessment systems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iological Quality elements - Sensitivity to pressures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1440" y="1916280"/>
          <a:ext cx="8305920" cy="3605040"/>
        </p:xfrm>
        <a:graphic>
          <a:graphicData uri="http://schemas.openxmlformats.org/drawingml/2006/table">
            <a:tbl>
              <a:tblPr/>
              <a:tblGrid>
                <a:gridCol w="1957320"/>
                <a:gridCol w="1798560"/>
                <a:gridCol w="1657440"/>
                <a:gridCol w="1727280"/>
                <a:gridCol w="1165320"/>
              </a:tblGrid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ological Quality el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-morphol. pressur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tri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c pollu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idifi-c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acro-invertebrat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hytobenthos Macrophyt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84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Fis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" name=""/>
          <p:cNvGrpSpPr/>
          <p:nvPr/>
        </p:nvGrpSpPr>
        <p:grpSpPr>
          <a:xfrm>
            <a:off x="0" y="5776920"/>
            <a:ext cx="9144000" cy="1081080"/>
            <a:chOff x="0" y="5776920"/>
            <a:chExt cx="9144000" cy="10810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5776920"/>
              <a:ext cx="176364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6062760" y="5776920"/>
              <a:ext cx="209052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1752480" y="577692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53280" y="5776920"/>
              <a:ext cx="9907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2819520" y="5776920"/>
              <a:ext cx="942840" cy="10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6"/>
            <a:srcRect l="29163" t="0" r="0" b="0"/>
            <a:stretch/>
          </p:blipFill>
          <p:spPr>
            <a:xfrm>
              <a:off x="3733920" y="5776920"/>
              <a:ext cx="11458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7"/>
            <a:srcRect l="14582" t="0" r="9723" b="0"/>
            <a:stretch/>
          </p:blipFill>
          <p:spPr>
            <a:xfrm>
              <a:off x="4876920" y="5776920"/>
              <a:ext cx="122544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1440" y="259920"/>
            <a:ext cx="7037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Simple grouping procedure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1387440" y="2060640"/>
            <a:ext cx="296856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Same result </a:t>
            </a: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for all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 respresentative WBs </a:t>
            </a: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of the group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47800" y="979560"/>
            <a:ext cx="2228760" cy="720720"/>
          </a:xfrm>
          <a:prstGeom prst="rect">
            <a:avLst/>
          </a:prstGeom>
          <a:solidFill>
            <a:srgbClr val="ccffcc">
              <a:alpha val="62000"/>
            </a:srgbClr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Risk du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hydromorp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2"/>
            <a:endCxn id="313" idx="0"/>
          </p:cNvCxnSpPr>
          <p:nvPr/>
        </p:nvCxnSpPr>
        <p:spPr>
          <a:xfrm>
            <a:off x="2862360" y="1714320"/>
            <a:ext cx="1008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3241800" y="3571920"/>
            <a:ext cx="882360" cy="514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endCxn id="318" idx="0"/>
          </p:cNvCxnSpPr>
          <p:nvPr/>
        </p:nvCxnSpPr>
        <p:spPr>
          <a:xfrm rot="5400000">
            <a:off x="2270520" y="2902680"/>
            <a:ext cx="686520" cy="729360"/>
          </a:xfrm>
          <a:prstGeom prst="bentConnector3">
            <a:avLst>
              <a:gd name="adj1" fmla="val 51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/>
          <p:nvPr/>
        </p:nvCxnSpPr>
        <p:spPr>
          <a:xfrm flipH="1" rot="16200000">
            <a:off x="2905200" y="2990520"/>
            <a:ext cx="676800" cy="543600"/>
          </a:xfrm>
          <a:prstGeom prst="bentConnector3">
            <a:avLst>
              <a:gd name="adj1" fmla="val 532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1892160" y="3610080"/>
            <a:ext cx="714600" cy="466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4619520"/>
            <a:ext cx="2514600" cy="1600200"/>
          </a:xfrm>
          <a:prstGeom prst="rect">
            <a:avLst/>
          </a:prstGeom>
          <a:solidFill>
            <a:srgbClr val="ffcc00">
              <a:alpha val="35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average EQR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result for all WBs of th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hig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confi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81160" y="4632480"/>
            <a:ext cx="2814840" cy="1600200"/>
          </a:xfrm>
          <a:prstGeom prst="rect">
            <a:avLst/>
          </a:prstGeom>
          <a:solidFill>
            <a:srgbClr val="66ccff">
              <a:alpha val="51000"/>
            </a:srgbClr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average EQR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result for all WBs of th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with specification of confdence: high or 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H="1">
            <a:off x="2262960" y="4086360"/>
            <a:ext cx="540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>
            <a:off x="3636720" y="4076640"/>
            <a:ext cx="540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5364000" y="1413000"/>
            <a:ext cx="2880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 u="sng">
                <a:solidFill>
                  <a:srgbClr val="000000"/>
                </a:solidFill>
                <a:uFillTx/>
                <a:latin typeface="Tahoma"/>
              </a:rPr>
              <a:t>confidence leve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high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: distance between average and class boundary 2/3 is </a:t>
            </a:r>
            <a:r>
              <a:rPr b="0" lang="de-AT" sz="1600" spc="-1" strike="noStrike" u="sng">
                <a:solidFill>
                  <a:srgbClr val="000000"/>
                </a:solidFill>
                <a:uFillTx/>
                <a:latin typeface="Tahoma"/>
              </a:rPr>
              <a:t>more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 than ½ class wit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: distance between average and class boundary 2/3 i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Tahoma"/>
              </a:rPr>
              <a:t>less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than ½ class wit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1440" y="259920"/>
            <a:ext cx="7037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cc"/>
                </a:solidFill>
                <a:latin typeface="Tahoma"/>
              </a:rPr>
              <a:t>No monitoring data available </a:t>
            </a:r>
            <a:br>
              <a:rPr sz="2400"/>
            </a:br>
            <a:r>
              <a:rPr b="0" lang="de-AT" sz="2400" spc="-1" strike="noStrike">
                <a:solidFill>
                  <a:srgbClr val="3333cc"/>
                </a:solidFill>
                <a:latin typeface="Tahoma"/>
              </a:rPr>
              <a:t>(e.g. small rivers)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271440" y="3141720"/>
            <a:ext cx="2813040" cy="16556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000" spc="-1" strike="noStrike">
                <a:solidFill>
                  <a:srgbClr val="000000"/>
                </a:solidFill>
                <a:latin typeface="Tahoma"/>
              </a:rPr>
              <a:t>Criteri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impoundment</a:t>
            </a:r>
            <a:r>
              <a:rPr b="0" lang="de-AT" sz="1000" spc="-1" strike="noStrike">
                <a:solidFill>
                  <a:srgbClr val="000000"/>
                </a:solidFill>
                <a:latin typeface="Tahoma"/>
              </a:rPr>
              <a:t> &gt; 100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no flow (river at least temporally d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not enough water for fish mi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ahoma"/>
              </a:rPr>
              <a:t>hydropeaking &gt; 1: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ad morphology (class 4-5) dominant (i.e. form more than 50% of water body leng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26676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ahoma"/>
              </a:rPr>
              <a:t>several migration barriers (Potamal and transition to Hyporhitral</a:t>
            </a:r>
            <a:r>
              <a:rPr b="1" lang="de-AT" sz="1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8040" y="1319040"/>
            <a:ext cx="6465960" cy="814680"/>
          </a:xfrm>
          <a:prstGeom prst="rect">
            <a:avLst/>
          </a:prstGeom>
          <a:solidFill>
            <a:srgbClr val="ccffff">
              <a:alpha val="63000"/>
            </a:srgbClr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Is it possible to classify the status of the water body as 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 without grouping – due to </a:t>
            </a: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extreme values for the pressures</a:t>
            </a:r>
            <a:r>
              <a:rPr b="0" lang="de-A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41480" y="2597040"/>
            <a:ext cx="987480" cy="35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24520" y="2637000"/>
            <a:ext cx="8082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30280" y="2452680"/>
            <a:ext cx="1411200" cy="615960"/>
          </a:xfrm>
          <a:prstGeom prst="leftArrow">
            <a:avLst>
              <a:gd name="adj1" fmla="val 50000"/>
              <a:gd name="adj2" fmla="val 572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1600" spc="-1" strike="noStrike">
                <a:solidFill>
                  <a:srgbClr val="000000"/>
                </a:solidFill>
                <a:latin typeface="Tahoma"/>
              </a:rPr>
              <a:t>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11280" y="4994280"/>
            <a:ext cx="1871640" cy="7570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ahoma"/>
              </a:rPr>
              <a:t>bad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600" spc="-1" strike="noStrike">
                <a:solidFill>
                  <a:srgbClr val="000000"/>
                </a:solidFill>
                <a:latin typeface="Tahoma"/>
              </a:rPr>
              <a:t>high confi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endCxn id="328" idx="0"/>
          </p:cNvCxnSpPr>
          <p:nvPr/>
        </p:nvCxnSpPr>
        <p:spPr>
          <a:xfrm rot="5400000">
            <a:off x="4006440" y="1533240"/>
            <a:ext cx="392760" cy="1735920"/>
          </a:xfrm>
          <a:prstGeom prst="bentConnector3">
            <a:avLst>
              <a:gd name="adj1" fmla="val 49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28" idx="2"/>
            <a:endCxn id="331" idx="0"/>
          </p:cNvCxnSpPr>
          <p:nvPr/>
        </p:nvCxnSpPr>
        <p:spPr>
          <a:xfrm>
            <a:off x="3335040" y="2947680"/>
            <a:ext cx="13320" cy="203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/>
          <p:nvPr/>
        </p:nvCxnSpPr>
        <p:spPr>
          <a:xfrm flipH="1" rot="16200000">
            <a:off x="5460120" y="1814760"/>
            <a:ext cx="392760" cy="1172160"/>
          </a:xfrm>
          <a:prstGeom prst="bentConnector3">
            <a:avLst>
              <a:gd name="adj1" fmla="val 49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4997520" y="4789440"/>
            <a:ext cx="2670120" cy="916920"/>
          </a:xfrm>
          <a:prstGeom prst="rect">
            <a:avLst/>
          </a:prstGeom>
          <a:solidFill>
            <a:srgbClr val="ffff00">
              <a:alpha val="48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Tahoma"/>
              </a:rPr>
              <a:t>Moderat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(or wor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Tahoma"/>
              </a:rPr>
              <a:t>Low conf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97520" y="3429000"/>
            <a:ext cx="2670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ahoma"/>
              </a:rPr>
              <a:t>All water bodies at risk or possibly at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9" idx="2"/>
            <a:endCxn id="336" idx="0"/>
          </p:cNvCxnSpPr>
          <p:nvPr/>
        </p:nvCxnSpPr>
        <p:spPr>
          <a:xfrm>
            <a:off x="6329520" y="2948040"/>
            <a:ext cx="360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6" idx="2"/>
            <a:endCxn id="335" idx="0"/>
          </p:cNvCxnSpPr>
          <p:nvPr/>
        </p:nvCxnSpPr>
        <p:spPr>
          <a:xfrm>
            <a:off x="6332040" y="4079520"/>
            <a:ext cx="10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26920" y="-171360"/>
            <a:ext cx="7272360" cy="66927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1440" y="44280"/>
            <a:ext cx="70437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Expert grouping procedure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3632040" y="2276640"/>
            <a:ext cx="4467240" cy="2757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835280" y="1419120"/>
            <a:ext cx="135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35280" y="1419120"/>
            <a:ext cx="135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35280" y="1419120"/>
            <a:ext cx="135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11280" y="1238400"/>
          <a:ext cx="7993080" cy="5286240"/>
        </p:xfrm>
        <a:graphic>
          <a:graphicData uri="http://schemas.openxmlformats.org/drawingml/2006/table">
            <a:tbl>
              <a:tblPr/>
              <a:tblGrid>
                <a:gridCol w="1939680"/>
                <a:gridCol w="1314720"/>
                <a:gridCol w="2766960"/>
                <a:gridCol w="1971720"/>
              </a:tblGrid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category</a:t>
                      </a: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ce level of achievement / failure of quality 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ce level of correct assessment of status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lust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m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y 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ssessment with sampling dat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y hig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with data from sampling sites.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ery high confidence results from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quate sampling strat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A – meas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usibility check of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using conclus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confidence results from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ance from boundary good/mode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stical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AT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d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using conclusion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confidence results from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stical uncertai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>
                        <a:lnSpc>
                          <a:spcPct val="100000"/>
                        </a:lnSpc>
                        <a:buClr>
                          <a:srgbClr val="3333cc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confidence due to use of risk crite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1726920" cy="1114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732720" y="4005360"/>
            <a:ext cx="1655640" cy="10666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6732720" y="5300640"/>
            <a:ext cx="1726920" cy="11779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720" y="134640"/>
            <a:ext cx="70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Status classification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920" y="1413000"/>
            <a:ext cx="70437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6000" spc="-1" strike="noStrike">
                <a:solidFill>
                  <a:srgbClr val="ffff66"/>
                </a:solidFill>
                <a:latin typeface="Tahoma"/>
              </a:rPr>
              <a:t>Thank you</a:t>
            </a:r>
            <a:br>
              <a:rPr sz="6000"/>
            </a:br>
            <a:br>
              <a:rPr sz="3200"/>
            </a:br>
            <a:r>
              <a:rPr b="1" lang="de-AT" sz="3200" spc="-1" strike="noStrike">
                <a:solidFill>
                  <a:srgbClr val="ffff66"/>
                </a:solidFill>
                <a:latin typeface="Tahoma"/>
              </a:rPr>
              <a:t>for your attention</a:t>
            </a:r>
            <a:r>
              <a:rPr b="1" lang="de-AT" sz="3600" spc="-1" strike="noStrike">
                <a:solidFill>
                  <a:srgbClr val="ffff66"/>
                </a:solidFill>
                <a:latin typeface="Tahoma"/>
              </a:rPr>
              <a:t>!</a:t>
            </a: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1440" y="-27360"/>
            <a:ext cx="704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Macroinvertebrate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692280"/>
          <a:ext cx="8713800" cy="1944720"/>
        </p:xfrm>
        <a:graphic>
          <a:graphicData uri="http://schemas.openxmlformats.org/drawingml/2006/table">
            <a:tbl>
              <a:tblPr/>
              <a:tblGrid>
                <a:gridCol w="2052720"/>
                <a:gridCol w="1888920"/>
                <a:gridCol w="1736640"/>
                <a:gridCol w="1812960"/>
                <a:gridCol w="1222560"/>
              </a:tblGrid>
              <a:tr h="118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ological Quality el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-morphol. pressur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tri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c pollu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idifi-c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Macro-invertebrat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468360" y="2637000"/>
            <a:ext cx="5873760" cy="2771640"/>
            <a:chOff x="468360" y="2637000"/>
            <a:chExt cx="5873760" cy="2771640"/>
          </a:xfrm>
        </p:grpSpPr>
        <p:grpSp>
          <p:nvGrpSpPr>
            <p:cNvPr id="105" name=""/>
            <p:cNvGrpSpPr/>
            <p:nvPr/>
          </p:nvGrpSpPr>
          <p:grpSpPr>
            <a:xfrm>
              <a:off x="3102120" y="2637000"/>
              <a:ext cx="3240000" cy="1179360"/>
              <a:chOff x="3102120" y="2637000"/>
              <a:chExt cx="3240000" cy="1179360"/>
            </a:xfrm>
          </p:grpSpPr>
          <p:sp>
            <p:nvSpPr>
              <p:cNvPr id="106" name=""/>
              <p:cNvSpPr/>
              <p:nvPr/>
            </p:nvSpPr>
            <p:spPr>
              <a:xfrm>
                <a:off x="3102120" y="2637000"/>
                <a:ext cx="358560" cy="1179360"/>
              </a:xfrm>
              <a:prstGeom prst="downArrow">
                <a:avLst>
                  <a:gd name="adj1" fmla="val 50000"/>
                  <a:gd name="adj2" fmla="val 82229"/>
                </a:avLst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3317760" y="2637000"/>
                <a:ext cx="3024360" cy="475920"/>
                <a:chOff x="3317760" y="2637000"/>
                <a:chExt cx="3024360" cy="4759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317760" y="2960640"/>
                  <a:ext cx="3024360" cy="152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197760" y="2637000"/>
                  <a:ext cx="144360" cy="475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30920" y="2637000"/>
                  <a:ext cx="144360" cy="475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468360" y="3789360"/>
              <a:ext cx="4565520" cy="161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5680" indent="-2667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General Degrad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2667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ahoma"/>
                </a:rPr>
                <a:t>(Multi-metric Indic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26676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utrient Pollution and „Potamalisation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26676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ies Richness/Diversity (loss of habitats, species deficiency)Rhithralisation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53120" y="2637000"/>
            <a:ext cx="1766880" cy="2771640"/>
            <a:chOff x="5253120" y="2637000"/>
            <a:chExt cx="1766880" cy="2771640"/>
          </a:xfrm>
        </p:grpSpPr>
        <p:sp>
          <p:nvSpPr>
            <p:cNvPr id="113" name=""/>
            <p:cNvSpPr/>
            <p:nvPr/>
          </p:nvSpPr>
          <p:spPr>
            <a:xfrm>
              <a:off x="5253120" y="3789360"/>
              <a:ext cx="1766880" cy="16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Saprobic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ahoma"/>
                </a:rPr>
                <a:t>(typespecifi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45080" y="2637000"/>
              <a:ext cx="358920" cy="1179360"/>
            </a:xfrm>
            <a:prstGeom prst="downArrow">
              <a:avLst>
                <a:gd name="adj1" fmla="val 50000"/>
                <a:gd name="adj2" fmla="val 82146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174080" y="2637000"/>
            <a:ext cx="1861920" cy="2771640"/>
            <a:chOff x="7174080" y="2637000"/>
            <a:chExt cx="1861920" cy="2771640"/>
          </a:xfrm>
        </p:grpSpPr>
        <p:sp>
          <p:nvSpPr>
            <p:cNvPr id="116" name=""/>
            <p:cNvSpPr/>
            <p:nvPr/>
          </p:nvSpPr>
          <p:spPr>
            <a:xfrm>
              <a:off x="7174080" y="3789360"/>
              <a:ext cx="1861920" cy="1619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Acidification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ahoma"/>
                </a:rPr>
                <a:t>(Braukmann &amp; Bi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2637000"/>
              <a:ext cx="358920" cy="1179360"/>
            </a:xfrm>
            <a:prstGeom prst="downArrow">
              <a:avLst>
                <a:gd name="adj1" fmla="val 50000"/>
                <a:gd name="adj2" fmla="val 82146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-36360" y="5659560"/>
            <a:ext cx="9180000" cy="1225440"/>
            <a:chOff x="-36360" y="5659560"/>
            <a:chExt cx="9180000" cy="122544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5165640" y="5667480"/>
              <a:ext cx="14950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1187640" y="5667480"/>
              <a:ext cx="128448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-36360" y="5667480"/>
              <a:ext cx="125712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rcRect l="5833" t="0" r="2916" b="0"/>
            <a:stretch/>
          </p:blipFill>
          <p:spPr>
            <a:xfrm>
              <a:off x="2411280" y="5667480"/>
              <a:ext cx="133380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3712320" y="5659560"/>
              <a:ext cx="145296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6619320" y="5661000"/>
              <a:ext cx="1453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8060040" y="5667480"/>
              <a:ext cx="1083600" cy="1217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1440" y="-27360"/>
            <a:ext cx="704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Phytobenthos &amp; Macrophytes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692280"/>
          <a:ext cx="8713800" cy="1944720"/>
        </p:xfrm>
        <a:graphic>
          <a:graphicData uri="http://schemas.openxmlformats.org/drawingml/2006/table">
            <a:tbl>
              <a:tblPr/>
              <a:tblGrid>
                <a:gridCol w="2052720"/>
                <a:gridCol w="1888920"/>
                <a:gridCol w="1736640"/>
                <a:gridCol w="1812960"/>
                <a:gridCol w="1222560"/>
              </a:tblGrid>
              <a:tr h="118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ological Quality el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-morphol. pressur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tri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c pollu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idifi-c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hytobenthos Macrophyt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5181480" y="2637000"/>
            <a:ext cx="1757520" cy="2798640"/>
            <a:chOff x="5181480" y="2637000"/>
            <a:chExt cx="1757520" cy="2798640"/>
          </a:xfrm>
        </p:grpSpPr>
        <p:sp>
          <p:nvSpPr>
            <p:cNvPr id="129" name=""/>
            <p:cNvSpPr/>
            <p:nvPr/>
          </p:nvSpPr>
          <p:spPr>
            <a:xfrm>
              <a:off x="5181480" y="3816360"/>
              <a:ext cx="1757520" cy="16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ahoma"/>
                </a:rPr>
                <a:t>Phytobenth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Saprobic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360" y="2637000"/>
              <a:ext cx="358920" cy="1179360"/>
            </a:xfrm>
            <a:prstGeom prst="downArrow">
              <a:avLst>
                <a:gd name="adj1" fmla="val 50000"/>
                <a:gd name="adj2" fmla="val 82146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02160" y="2637000"/>
            <a:ext cx="3562560" cy="2798640"/>
            <a:chOff x="5402160" y="2637000"/>
            <a:chExt cx="3562560" cy="2798640"/>
          </a:xfrm>
        </p:grpSpPr>
        <p:grpSp>
          <p:nvGrpSpPr>
            <p:cNvPr id="132" name=""/>
            <p:cNvGrpSpPr/>
            <p:nvPr/>
          </p:nvGrpSpPr>
          <p:grpSpPr>
            <a:xfrm>
              <a:off x="5402160" y="2637000"/>
              <a:ext cx="3306960" cy="1179360"/>
              <a:chOff x="5402160" y="2637000"/>
              <a:chExt cx="3306960" cy="1179360"/>
            </a:xfrm>
          </p:grpSpPr>
          <p:sp>
            <p:nvSpPr>
              <p:cNvPr id="133" name=""/>
              <p:cNvSpPr/>
              <p:nvPr/>
            </p:nvSpPr>
            <p:spPr>
              <a:xfrm>
                <a:off x="5402160" y="2960640"/>
                <a:ext cx="3127320" cy="1522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11840" y="2637000"/>
                <a:ext cx="149400" cy="4759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02160" y="2637000"/>
                <a:ext cx="149400" cy="4759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50200" y="2637000"/>
                <a:ext cx="358920" cy="1179360"/>
              </a:xfrm>
              <a:prstGeom prst="downArrow">
                <a:avLst>
                  <a:gd name="adj1" fmla="val 50000"/>
                  <a:gd name="adj2" fmla="val 82146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164360" y="3816360"/>
              <a:ext cx="1800360" cy="1619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ahoma"/>
                </a:rPr>
                <a:t>Phytobenth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Reference Species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033720" y="2637000"/>
            <a:ext cx="1969920" cy="2798640"/>
            <a:chOff x="3033720" y="2637000"/>
            <a:chExt cx="1969920" cy="2798640"/>
          </a:xfrm>
        </p:grpSpPr>
        <p:sp>
          <p:nvSpPr>
            <p:cNvPr id="139" name=""/>
            <p:cNvSpPr/>
            <p:nvPr/>
          </p:nvSpPr>
          <p:spPr>
            <a:xfrm>
              <a:off x="3033720" y="3816360"/>
              <a:ext cx="1969920" cy="161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Tahoma"/>
                </a:rPr>
                <a:t>Phytobenth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Troph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2560" y="2637000"/>
              <a:ext cx="358920" cy="1179360"/>
            </a:xfrm>
            <a:prstGeom prst="downArrow">
              <a:avLst>
                <a:gd name="adj1" fmla="val 50000"/>
                <a:gd name="adj2" fmla="val 82146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0" y="5810400"/>
            <a:ext cx="9143640" cy="1147320"/>
            <a:chOff x="0" y="5810400"/>
            <a:chExt cx="9143640" cy="1147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1273680" y="5814720"/>
              <a:ext cx="109224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533760" y="5814720"/>
              <a:ext cx="95436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2366280" y="5810400"/>
              <a:ext cx="116748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0" y="5814720"/>
              <a:ext cx="127368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5828040" y="5819400"/>
              <a:ext cx="109224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8189640" y="5819400"/>
              <a:ext cx="95400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6920640" y="5814720"/>
              <a:ext cx="1167840" cy="104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4554360" y="5819400"/>
              <a:ext cx="1273320" cy="113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981000" y="2637000"/>
            <a:ext cx="3881520" cy="2798640"/>
            <a:chOff x="981000" y="2637000"/>
            <a:chExt cx="3881520" cy="2798640"/>
          </a:xfrm>
        </p:grpSpPr>
        <p:sp>
          <p:nvSpPr>
            <p:cNvPr id="151" name=""/>
            <p:cNvSpPr/>
            <p:nvPr/>
          </p:nvSpPr>
          <p:spPr>
            <a:xfrm>
              <a:off x="981000" y="3816360"/>
              <a:ext cx="1862280" cy="1619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Macrophyte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268360" y="2637000"/>
              <a:ext cx="2594160" cy="1179360"/>
              <a:chOff x="2268360" y="2637000"/>
              <a:chExt cx="2594160" cy="1179360"/>
            </a:xfrm>
          </p:grpSpPr>
          <p:sp>
            <p:nvSpPr>
              <p:cNvPr id="153" name=""/>
              <p:cNvSpPr/>
              <p:nvPr/>
            </p:nvSpPr>
            <p:spPr>
              <a:xfrm>
                <a:off x="2438280" y="2989440"/>
                <a:ext cx="2421000" cy="123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13120" y="2637000"/>
                <a:ext cx="149400" cy="475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68360" y="2989440"/>
                <a:ext cx="358920" cy="826920"/>
              </a:xfrm>
              <a:prstGeom prst="downArrow">
                <a:avLst>
                  <a:gd name="adj1" fmla="val 50000"/>
                  <a:gd name="adj2" fmla="val 57598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67000" y="2637000"/>
                <a:ext cx="189000" cy="475920"/>
              </a:xfrm>
              <a:prstGeom prst="rect">
                <a:avLst/>
              </a:prstGeom>
              <a:noFill/>
              <a:ln w="28440">
                <a:solidFill>
                  <a:srgbClr val="cc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1440" y="4428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Fish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0880" y="731880"/>
          <a:ext cx="8593200" cy="1905120"/>
        </p:xfrm>
        <a:graphic>
          <a:graphicData uri="http://schemas.openxmlformats.org/drawingml/2006/table">
            <a:tbl>
              <a:tblPr/>
              <a:tblGrid>
                <a:gridCol w="2024280"/>
                <a:gridCol w="1863720"/>
                <a:gridCol w="1711080"/>
                <a:gridCol w="1789200"/>
                <a:gridCol w="1204920"/>
              </a:tblGrid>
              <a:tr h="110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ological Quality el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ydro-morphol. pressur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tri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c pollu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idifi-c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Fis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+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303640" y="2637000"/>
            <a:ext cx="1692000" cy="2771640"/>
            <a:chOff x="2303640" y="2637000"/>
            <a:chExt cx="1692000" cy="2771640"/>
          </a:xfrm>
        </p:grpSpPr>
        <p:sp>
          <p:nvSpPr>
            <p:cNvPr id="160" name=""/>
            <p:cNvSpPr/>
            <p:nvPr/>
          </p:nvSpPr>
          <p:spPr>
            <a:xfrm>
              <a:off x="2987640" y="2637000"/>
              <a:ext cx="358920" cy="1179360"/>
            </a:xfrm>
            <a:prstGeom prst="downArrow">
              <a:avLst>
                <a:gd name="adj1" fmla="val 50000"/>
                <a:gd name="adj2" fmla="val 82146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03640" y="3789360"/>
              <a:ext cx="1692000" cy="1619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5680" indent="-2667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2667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Fish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2667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2667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00"/>
                  </a:solidFill>
                  <a:latin typeface="Tahoma"/>
                </a:rPr>
                <a:t>(FI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708360" y="2637000"/>
            <a:ext cx="4697280" cy="2771640"/>
            <a:chOff x="3708360" y="2637000"/>
            <a:chExt cx="4697280" cy="2771640"/>
          </a:xfrm>
        </p:grpSpPr>
        <p:grpSp>
          <p:nvGrpSpPr>
            <p:cNvPr id="163" name=""/>
            <p:cNvGrpSpPr/>
            <p:nvPr/>
          </p:nvGrpSpPr>
          <p:grpSpPr>
            <a:xfrm>
              <a:off x="3708360" y="2637000"/>
              <a:ext cx="4697280" cy="1152360"/>
              <a:chOff x="3708360" y="2637000"/>
              <a:chExt cx="4697280" cy="1152360"/>
            </a:xfrm>
          </p:grpSpPr>
          <p:sp>
            <p:nvSpPr>
              <p:cNvPr id="164" name=""/>
              <p:cNvSpPr/>
              <p:nvPr/>
            </p:nvSpPr>
            <p:spPr>
              <a:xfrm>
                <a:off x="5929200" y="3112920"/>
                <a:ext cx="371520" cy="676440"/>
              </a:xfrm>
              <a:prstGeom prst="downArrow">
                <a:avLst>
                  <a:gd name="adj1" fmla="val 50000"/>
                  <a:gd name="adj2" fmla="val 45518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47040" y="2637000"/>
                <a:ext cx="144360" cy="475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44000" y="2637000"/>
                <a:ext cx="144360" cy="475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0200" y="2637000"/>
                <a:ext cx="144360" cy="475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08360" y="2637000"/>
                <a:ext cx="144360" cy="475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708360" y="2997360"/>
                <a:ext cx="4697280" cy="2156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253120" y="3789360"/>
              <a:ext cx="1766880" cy="16192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b2b2b2"/>
                  </a:solidFill>
                  <a:latin typeface="Tahoma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b2b2b2"/>
                  </a:solidFill>
                  <a:latin typeface="Tahoma"/>
                </a:rPr>
                <a:t>EFI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b2b2b2"/>
                  </a:solidFill>
                  <a:latin typeface="Tahoma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0" y="5826240"/>
            <a:ext cx="9143640" cy="1081080"/>
            <a:chOff x="0" y="5826240"/>
            <a:chExt cx="9143640" cy="108108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2542680" y="5840280"/>
              <a:ext cx="204300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0" y="5837400"/>
              <a:ext cx="162072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1620720" y="5826240"/>
              <a:ext cx="92160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7101000" y="5840280"/>
              <a:ext cx="204264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4580640" y="5837400"/>
              <a:ext cx="162072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6201720" y="5826240"/>
              <a:ext cx="899280" cy="108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1440" y="226800"/>
            <a:ext cx="704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66"/>
                </a:solidFill>
                <a:latin typeface="Tahoma"/>
              </a:rPr>
              <a:t>Pressure &amp; Impact Analysis 2004:</a:t>
            </a:r>
            <a:r>
              <a:rPr b="1" lang="de-DE" sz="18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1800"/>
            </a:b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Rivers &gt; 100 km</a:t>
            </a:r>
            <a:r>
              <a:rPr b="1" lang="de-DE" sz="1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1" lang="en-US" sz="16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>
            <a:alphaModFix amt="54000"/>
          </a:blip>
          <a:stretch/>
        </p:blipFill>
        <p:spPr>
          <a:xfrm>
            <a:off x="1247760" y="1143000"/>
            <a:ext cx="6448320" cy="509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14480" y="1375560"/>
            <a:ext cx="4784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Results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6480" y="2781000"/>
            <a:ext cx="8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71960" y="278100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71960" y="2133360"/>
            <a:ext cx="5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1440" y="259920"/>
            <a:ext cx="7043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Design of monitoring system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7880" y="1363680"/>
            <a:ext cx="7131240" cy="4770000"/>
            <a:chOff x="767880" y="1363680"/>
            <a:chExt cx="7131240" cy="4770000"/>
          </a:xfrm>
        </p:grpSpPr>
        <p:sp>
          <p:nvSpPr>
            <p:cNvPr id="187" name=""/>
            <p:cNvSpPr/>
            <p:nvPr/>
          </p:nvSpPr>
          <p:spPr>
            <a:xfrm>
              <a:off x="801720" y="5131800"/>
              <a:ext cx="7097400" cy="1001880"/>
            </a:xfrm>
            <a:prstGeom prst="rect">
              <a:avLst/>
            </a:prstGeom>
            <a:solidFill>
              <a:srgbClr val="c0c0c0">
                <a:alpha val="2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7880" y="1363680"/>
              <a:ext cx="7119720" cy="3111480"/>
            </a:xfrm>
            <a:prstGeom prst="rect">
              <a:avLst/>
            </a:prstGeom>
            <a:solidFill>
              <a:srgbClr val="c0c0c0">
                <a:alpha val="2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34280" y="1820160"/>
              <a:ext cx="3347640" cy="18680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Surveillance Monitoring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73960" y="2238840"/>
              <a:ext cx="3068640" cy="418320"/>
            </a:xfrm>
            <a:prstGeom prst="roundRect">
              <a:avLst>
                <a:gd name="adj" fmla="val 4259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Ü1: sites with high relev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73960" y="3075840"/>
              <a:ext cx="3068640" cy="418320"/>
            </a:xfrm>
            <a:prstGeom prst="roundRect">
              <a:avLst>
                <a:gd name="adj" fmla="val 4259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4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Ü3: additional s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3960" y="2657160"/>
              <a:ext cx="3068640" cy="418320"/>
            </a:xfrm>
            <a:prstGeom prst="roundRect">
              <a:avLst>
                <a:gd name="adj" fmla="val 4259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4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Ü2: reference sit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9400" y="1826280"/>
              <a:ext cx="3062880" cy="2051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Operational Monitoring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28400" y="2238840"/>
              <a:ext cx="2649960" cy="627480"/>
            </a:xfrm>
            <a:prstGeom prst="roundRect">
              <a:avLst>
                <a:gd name="adj" fmla="val 4259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WB with risk (chemical / hydromorpholog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28400" y="2874240"/>
              <a:ext cx="2649960" cy="492120"/>
            </a:xfrm>
            <a:prstGeom prst="roundRect">
              <a:avLst>
                <a:gd name="adj" fmla="val 4259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540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ssessement of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28400" y="3370320"/>
              <a:ext cx="2649960" cy="391320"/>
            </a:xfrm>
            <a:prstGeom prst="roundRect">
              <a:avLst>
                <a:gd name="adj" fmla="val 4259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2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ternational oblig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10320" y="4652280"/>
              <a:ext cx="1993680" cy="3070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overla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36680" y="3827880"/>
              <a:ext cx="2649240" cy="489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300" spc="-1" strike="noStrike">
                  <a:solidFill>
                    <a:srgbClr val="000000"/>
                  </a:solidFill>
                  <a:latin typeface="Arial"/>
                </a:rPr>
                <a:t>selection of sites integrated in international networks )TNM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0" idx="1"/>
              <a:endCxn id="198" idx="1"/>
            </p:cNvCxnSpPr>
            <p:nvPr/>
          </p:nvCxnSpPr>
          <p:spPr>
            <a:xfrm flipH="1" flipV="1" rot="10800000">
              <a:off x="1173600" y="2446920"/>
              <a:ext cx="163440" cy="1639080"/>
            </a:xfrm>
            <a:prstGeom prst="bentConnector3">
              <a:avLst>
                <a:gd name="adj1" fmla="val -17130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92" idx="1"/>
              <a:endCxn id="198" idx="1"/>
            </p:cNvCxnSpPr>
            <p:nvPr/>
          </p:nvCxnSpPr>
          <p:spPr>
            <a:xfrm flipH="1" flipV="1" rot="10800000">
              <a:off x="1173600" y="2865240"/>
              <a:ext cx="163440" cy="1220760"/>
            </a:xfrm>
            <a:prstGeom prst="bentConnector3">
              <a:avLst>
                <a:gd name="adj1" fmla="val -17130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2642400" y="5506200"/>
              <a:ext cx="4052160" cy="433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vestigative 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709520" y="5056560"/>
              <a:ext cx="903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242600" y="4194720"/>
              <a:ext cx="22680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554440" y="4272840"/>
              <a:ext cx="255600" cy="32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200" y="1385280"/>
              <a:ext cx="34524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regulated by ministry (BMLFUW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1720" y="5191200"/>
              <a:ext cx="32648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regulated by provi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193" idx="2"/>
              <a:endCxn id="198" idx="3"/>
            </p:cNvCxnSpPr>
            <p:nvPr/>
          </p:nvCxnSpPr>
          <p:spPr>
            <a:xfrm rot="5400000">
              <a:off x="4979160" y="2885040"/>
              <a:ext cx="209160" cy="219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Tahoma"/>
              </a:rPr>
              <a:t>Surveillance Monitoring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557360"/>
            <a:ext cx="77202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3 different types of monitoring sit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Ü1: sites with high relev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Ü2: reference si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Ü3: additional si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permanent measurement of </a:t>
            </a:r>
            <a:r>
              <a:rPr b="1" lang="de-DE" sz="1900" spc="-1" strike="noStrike">
                <a:solidFill>
                  <a:srgbClr val="3333cc"/>
                </a:solidFill>
                <a:latin typeface="Arial"/>
              </a:rPr>
              <a:t>all paramet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riteria for selection in the legal regulation GZÜ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76 monitoring si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00000" y="4162320"/>
          <a:ext cx="6913800" cy="1211400"/>
        </p:xfrm>
        <a:graphic>
          <a:graphicData uri="http://schemas.openxmlformats.org/drawingml/2006/table">
            <a:tbl>
              <a:tblPr/>
              <a:tblGrid>
                <a:gridCol w="1728720"/>
                <a:gridCol w="1729080"/>
                <a:gridCol w="1726920"/>
                <a:gridCol w="1729080"/>
              </a:tblGrid>
              <a:tr h="60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04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71440" y="439560"/>
            <a:ext cx="7043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3333cc"/>
                </a:solidFill>
                <a:latin typeface="Tahoma"/>
              </a:rPr>
              <a:t>Operational Monitoring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2060640"/>
            <a:ext cx="83822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urface waters &gt; 100 km² monitoring 2007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surface waters 10 – 100 km² start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Selection of relevant waterbodies for 2007-2008</a:t>
            </a:r>
            <a:r>
              <a:rPr b="0" lang="de-AT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20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Based on Risk Analysis Art 5 WF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20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Includes all waterbodies &gt; 100 km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20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- at risk(3) 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20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AT" sz="2200" spc="-1" strike="noStrike">
                <a:solidFill>
                  <a:srgbClr val="000000"/>
                </a:solidFill>
                <a:latin typeface="Tahoma"/>
              </a:rPr>
              <a:t>- possibly at risk (2)</a:t>
            </a:r>
            <a:r>
              <a:rPr b="0" lang="de-A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455840"/>
            <a:ext cx="8382240" cy="75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Establish status of those water bodies identified 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Tahoma"/>
              </a:rPr>
              <a:t>as being „at ris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09:29Z</dcterms:created>
  <dc:creator>Mochar</dc:creator>
  <dc:description/>
  <dc:language>en-US</dc:language>
  <cp:lastModifiedBy>field</cp:lastModifiedBy>
  <dcterms:modified xsi:type="dcterms:W3CDTF">2008-03-05T11:23:30Z</dcterms:modified>
  <cp:revision>221</cp:revision>
  <dc:subject/>
  <dc:title>Kein Folientitel</dc:title>
</cp:coreProperties>
</file>