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3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French principles for OP river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ic monitoring of one (or more) B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ic monitoring of physico-chemical 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QE core se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essures are often manifold and complicat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ck-up assessment of achievement of GS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-64800" y="1346040"/>
            <a:ext cx="94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monitoring purposes: Should we know the relationship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ween measur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most sensitive” quality el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sure level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 is important to know what kind of impact has to be reduc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o meet the good ecological status – therefore the knowledg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the pressure response curve is of high importance, i.e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orrelation between ecological status classes and lev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f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689480" y="18576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3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cological classification in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agmatic pressure specif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lection of pressures and related BQ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sting of the approach by 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pproach seems to work for single and multiple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UK: Which QE indicate which press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rehensive list of pressure-specific QE selection presented for all water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DE: Procedure for D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st sensitive QE for a certain pressure will be selec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ZB tool is multi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toms &amp; Macrophytes for Eutroph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sh to assess contino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50560" y="2170080"/>
            <a:ext cx="86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most sensitive” quality el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being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 water bodies subject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gnificant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sure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689480" y="18576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835280" y="3549600"/>
            <a:ext cx="5544720" cy="2903760"/>
            <a:chOff x="1835280" y="3549600"/>
            <a:chExt cx="5544720" cy="2903760"/>
          </a:xfrm>
        </p:grpSpPr>
        <p:sp>
          <p:nvSpPr>
            <p:cNvPr id="52" name="Rectangle 5"/>
            <p:cNvSpPr/>
            <p:nvPr/>
          </p:nvSpPr>
          <p:spPr>
            <a:xfrm>
              <a:off x="1835280" y="3549600"/>
              <a:ext cx="5544720" cy="290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2242080" y="3895200"/>
              <a:ext cx="4732920" cy="1951200"/>
              <a:chOff x="2242080" y="3895200"/>
              <a:chExt cx="4732920" cy="1951200"/>
            </a:xfrm>
          </p:grpSpPr>
          <p:grpSp>
            <p:nvGrpSpPr>
              <p:cNvPr id="54" name="Group 7"/>
              <p:cNvGrpSpPr/>
              <p:nvPr/>
            </p:nvGrpSpPr>
            <p:grpSpPr>
              <a:xfrm>
                <a:off x="2242080" y="3895200"/>
                <a:ext cx="4104360" cy="851760"/>
                <a:chOff x="2242080" y="3895200"/>
                <a:chExt cx="4104360" cy="851760"/>
              </a:xfrm>
            </p:grpSpPr>
            <p:sp>
              <p:nvSpPr>
                <p:cNvPr id="55" name="Text Box 8"/>
                <p:cNvSpPr/>
                <p:nvPr/>
              </p:nvSpPr>
              <p:spPr>
                <a:xfrm>
                  <a:off x="2242080" y="3921480"/>
                  <a:ext cx="9154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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9"/>
                <p:cNvSpPr/>
                <p:nvPr/>
              </p:nvSpPr>
              <p:spPr>
                <a:xfrm>
                  <a:off x="3971160" y="3895200"/>
                  <a:ext cx="2375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Very comm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Group 10"/>
              <p:cNvGrpSpPr/>
              <p:nvPr/>
            </p:nvGrpSpPr>
            <p:grpSpPr>
              <a:xfrm>
                <a:off x="2242080" y="4610160"/>
                <a:ext cx="3428280" cy="520560"/>
                <a:chOff x="2242080" y="4610160"/>
                <a:chExt cx="3428280" cy="520560"/>
              </a:xfrm>
            </p:grpSpPr>
            <p:sp>
              <p:nvSpPr>
                <p:cNvPr id="58" name="Text Box 11"/>
                <p:cNvSpPr/>
                <p:nvPr/>
              </p:nvSpPr>
              <p:spPr>
                <a:xfrm>
                  <a:off x="2242080" y="4636440"/>
                  <a:ext cx="91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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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Text Box 12"/>
                <p:cNvSpPr/>
                <p:nvPr/>
              </p:nvSpPr>
              <p:spPr>
                <a:xfrm>
                  <a:off x="4047840" y="4610160"/>
                  <a:ext cx="1622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Comm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Group 13"/>
              <p:cNvGrpSpPr/>
              <p:nvPr/>
            </p:nvGrpSpPr>
            <p:grpSpPr>
              <a:xfrm>
                <a:off x="2242080" y="5325840"/>
                <a:ext cx="4732920" cy="520560"/>
                <a:chOff x="2242080" y="5325840"/>
                <a:chExt cx="4732920" cy="520560"/>
              </a:xfrm>
            </p:grpSpPr>
            <p:sp>
              <p:nvSpPr>
                <p:cNvPr id="61" name="Text Box 14"/>
                <p:cNvSpPr/>
                <p:nvPr/>
              </p:nvSpPr>
              <p:spPr>
                <a:xfrm>
                  <a:off x="2242080" y="5352120"/>
                  <a:ext cx="91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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Text Box 15"/>
                <p:cNvSpPr/>
                <p:nvPr/>
              </p:nvSpPr>
              <p:spPr>
                <a:xfrm>
                  <a:off x="4122720" y="5325840"/>
                  <a:ext cx="285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Used but seldo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" name="Text Box 16"/>
          <p:cNvSpPr/>
          <p:nvPr/>
        </p:nvSpPr>
        <p:spPr>
          <a:xfrm>
            <a:off x="255960" y="836640"/>
            <a:ext cx="82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b2e0b"/>
                </a:solidFill>
                <a:latin typeface="Arial"/>
              </a:rPr>
              <a:t>WFD requires for (operational) monitoring purposes th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b2e0b"/>
                </a:solidFill>
                <a:latin typeface="Arial"/>
              </a:rPr>
              <a:t>of quality elements most sensitive to the pressures to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db2e0b"/>
                </a:solidFill>
                <a:latin typeface="Arial"/>
              </a:rPr>
              <a:t>the water bodies ar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estionnair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3 MS returned completed questionnaires – 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have been summed to give a total (e.g.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=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es taken at face value to give an indication of commonly used Q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commonly used QE for each pressure is highlighted in </a:t>
            </a:r>
            <a:r>
              <a:rPr b="0" lang="en-GB" sz="3200" spc="-1" strike="noStrike">
                <a:solidFill>
                  <a:srgbClr val="00ff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1413000"/>
          <a:ext cx="8136000" cy="3481200"/>
        </p:xfrm>
        <a:graphic>
          <a:graphicData uri="http://schemas.openxmlformats.org/drawingml/2006/table">
            <a:tbl>
              <a:tblPr/>
              <a:tblGrid>
                <a:gridCol w="2502000"/>
                <a:gridCol w="1282680"/>
                <a:gridCol w="1127160"/>
                <a:gridCol w="1247760"/>
                <a:gridCol w="1179360"/>
                <a:gridCol w="797040"/>
              </a:tblGrid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ph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thic 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teb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continu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bed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Ban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ygen de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1484280"/>
          <a:ext cx="8064720" cy="3295800"/>
        </p:xfrm>
        <a:graphic>
          <a:graphicData uri="http://schemas.openxmlformats.org/drawingml/2006/table">
            <a:tbl>
              <a:tblPr/>
              <a:tblGrid>
                <a:gridCol w="2470320"/>
                <a:gridCol w="1265040"/>
                <a:gridCol w="1160640"/>
                <a:gridCol w="1184400"/>
                <a:gridCol w="1163520"/>
                <a:gridCol w="820800"/>
              </a:tblGrid>
              <a:tr h="63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ph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thic 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teb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bed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s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d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ygen de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1484280"/>
          <a:ext cx="8066160" cy="3379680"/>
        </p:xfrm>
        <a:graphic>
          <a:graphicData uri="http://schemas.openxmlformats.org/drawingml/2006/table">
            <a:tbl>
              <a:tblPr/>
              <a:tblGrid>
                <a:gridCol w="2519280"/>
                <a:gridCol w="1290600"/>
                <a:gridCol w="1168560"/>
                <a:gridCol w="1133280"/>
                <a:gridCol w="1186200"/>
                <a:gridCol w="768240"/>
              </a:tblGrid>
              <a:tr h="71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toplank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giospe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roal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teb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dr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bed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phology - s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tr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xygen de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1"/>
          <p:cNvSpPr/>
          <p:nvPr/>
        </p:nvSpPr>
        <p:spPr>
          <a:xfrm>
            <a:off x="901800" y="6572160"/>
            <a:ext cx="709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 on Ecological Classification 5th + 6th March 2008, Brussels – Sess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233640" y="1346040"/>
            <a:ext cx="880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most sensitive” quality el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 in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xt of possible high numbers of risk sources/pressur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 relevant most sensitive (biological) quality element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hould be monitored depending on the number of significan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ess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addition, F stated that more QE should be monitored, no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nly the most sens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689480" y="185760"/>
            <a:ext cx="56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Results of Working Grou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1:47Z</dcterms:created>
  <dc:creator>irmer</dc:creator>
  <dc:description/>
  <dc:language>en-US</dc:language>
  <cp:lastModifiedBy>auvi</cp:lastModifiedBy>
  <dcterms:modified xsi:type="dcterms:W3CDTF">2008-03-07T08:09:05Z</dcterms:modified>
  <cp:revision>28</cp:revision>
  <dc:subject/>
  <dc:title>Folie 1</dc:title>
</cp:coreProperties>
</file>