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ACA5-45E2-4452-BA85-1805E8D1C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AA7AB-6243-4595-AE3C-8DA4CDAE0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554C4-DC6E-4B3D-A051-F73855E38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A056A-51D0-4947-A0D7-C5AE54949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088D5-CF56-437B-AEE6-47D7E753EE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FFC7C-03E4-47A8-80E0-71DB018D91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39047-2C6B-4CA8-9F65-8C5E7B07C0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95C73-8D8E-4503-A4FC-A13228B6FC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AFF6C-0824-44AB-BFFA-60F4A22235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1FEDB-D051-4BC3-A325-2A577FD81E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92A8A-A88F-426C-A2B7-CD52A4F085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4F0F2-FE9F-4F6A-9492-64F7E5FF8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21697-FF89-490B-A6D7-9B2536B08F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DB27B-EC20-47FE-975B-BDFCD4B218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2C0E8-90EC-4B25-B8E3-9D99BF47F9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CDC76-47DB-45D2-91DC-DA6DB520DB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83BA0-D507-4823-9360-94F80BE7AB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5AEB1-7665-4804-8837-CF6396A29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C623E-F1CD-4A41-865A-6E511BC69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8863-29B7-43E8-B892-1FE52F4A8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92FB0-4095-408B-855A-56F212ECE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5664E-CCDE-4E71-982B-124558B61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163EC-178B-412B-B8D4-543A46F82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BC52B-BF16-4555-94D4-29C9B5F4F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49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6A7D-04A2-4F97-BDFD-E0C0365D0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219720"/>
            <a:ext cx="2162160" cy="6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4249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E9D2-9F01-45CF-8CB1-58876A744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219720"/>
            <a:ext cx="2162160" cy="6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242492"/>
                </a:solidFill>
                <a:latin typeface="Tahoma"/>
              </a:rPr>
              <a:t>Which quality elements are being used for which pressures</a:t>
            </a:r>
            <a:endParaRPr b="0" lang="en-US" sz="45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3429000"/>
            <a:ext cx="82296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242492"/>
                </a:solidFill>
                <a:latin typeface="Tahoma"/>
              </a:rPr>
              <a:t>Nathan Critchlow-Watton</a:t>
            </a:r>
            <a:br>
              <a:rPr sz="2500"/>
            </a:br>
            <a:r>
              <a:rPr b="0" lang="en-GB" sz="2500" spc="-1" strike="noStrike">
                <a:solidFill>
                  <a:srgbClr val="242492"/>
                </a:solidFill>
                <a:latin typeface="Tahoma"/>
              </a:rPr>
              <a:t>Principal Scientist</a:t>
            </a:r>
            <a:br>
              <a:rPr sz="2500"/>
            </a:br>
            <a:r>
              <a:rPr b="0" lang="en-GB" sz="2500" spc="-1" strike="noStrike">
                <a:solidFill>
                  <a:srgbClr val="242492"/>
                </a:solidFill>
                <a:latin typeface="Tahoma"/>
              </a:rPr>
              <a:t>SEP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42492"/>
                </a:solidFill>
                <a:latin typeface="Tahoma"/>
              </a:rPr>
              <a:t>How were they developed?</a:t>
            </a: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KTAG set up to manage development/refinement of “new”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sed variety of developers – in-house agency staff, academic institutions and contr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KTAG sign-off each tool as fit for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b78d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tail of all tools will shortly be available on website: www.wfduk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42492"/>
                </a:solidFill>
                <a:latin typeface="Tahoma"/>
              </a:rPr>
              <a:t>Rivers</a:t>
            </a: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49560" y="765000"/>
            <a:ext cx="60228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42492"/>
                </a:solidFill>
                <a:latin typeface="Tahoma"/>
              </a:rPr>
              <a:t>Lakes</a:t>
            </a: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84872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6"/>
            </a:gs>
            <a:gs pos="50000">
              <a:srgbClr val="b7d3e3"/>
            </a:gs>
            <a:gs pos="100000">
              <a:srgbClr val="6aa5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42492"/>
                </a:solidFill>
                <a:latin typeface="Tahoma"/>
              </a:rPr>
              <a:t>TRaC</a:t>
            </a:r>
            <a:endParaRPr b="0" lang="en-US" sz="4400" spc="-1" strike="noStrike">
              <a:solidFill>
                <a:srgbClr val="242492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919400" cy="1281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82680" y="1890720"/>
            <a:ext cx="488016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2:30:05Z</dcterms:created>
  <dc:creator>jeane</dc:creator>
  <dc:description/>
  <dc:language>en-US</dc:language>
  <cp:lastModifiedBy>nathan.critch</cp:lastModifiedBy>
  <dcterms:modified xsi:type="dcterms:W3CDTF">2008-03-05T12:57:59Z</dcterms:modified>
  <cp:revision>123</cp:revision>
  <dc:subject/>
  <dc:title>UKTAG Work Programme Phase 3 2005-2006 </dc:title>
</cp:coreProperties>
</file>