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7.png" ContentType="image/png"/>
  <Override PartName="/ppt/media/image15.png" ContentType="image/png"/>
  <Override PartName="/ppt/media/image25.wmf" ContentType="image/x-wmf"/>
  <Override PartName="/ppt/media/image22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1.wmf" ContentType="image/x-wmf"/>
  <Override PartName="/ppt/media/image19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FC99-44E8-4C5F-8C3A-1B36FE98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F371-3A7E-42C1-9551-81F84429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1011-5D93-46BE-B84F-FB276BFC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C1B5-87FE-4030-B60C-C46C0EA6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CFC2-8DA2-40B9-8CE4-EC91F4DE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730C-9B74-404F-ABA3-987F0AD1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3430-C5E9-4A08-8862-10482C3A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E94D-9C2B-41B7-9C0D-AEF20D3E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4396-D4BF-4EBC-8D54-ACAD0530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5299-64C6-40CF-BFC1-8652E8B4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18F8-80BD-4BF6-BAD2-282AC8DF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E935-F1A5-41CE-A9C3-8D1D4A95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447920" y="6553080"/>
            <a:ext cx="4948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333399"/>
                </a:solidFill>
                <a:latin typeface="Arial"/>
              </a:rPr>
              <a:t>Wasson et al. - ECOSTAT Workshop on classification, Brussels, 6-7 March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76320" y="6541920"/>
            <a:ext cx="1143000" cy="31608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0" y="5118120"/>
            <a:ext cx="523800" cy="67608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8751960" y="6583320"/>
            <a:ext cx="39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6F65-EC92-434A-BE4C-857A5B499C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4"/>
          <a:stretch/>
        </p:blipFill>
        <p:spPr>
          <a:xfrm>
            <a:off x="11160" y="5924520"/>
            <a:ext cx="598320" cy="54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51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4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5F21-1920-45D8-B413-7D33E6E35445}" type="slidenum">
              <a:rPr b="0" lang="de-DE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969320" y="5519880"/>
            <a:ext cx="941400" cy="1214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6066000"/>
            <a:ext cx="2567160" cy="666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572000" y="5759280"/>
            <a:ext cx="1197000" cy="1098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13160" cy="1935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47640" y="1197000"/>
            <a:ext cx="7391520" cy="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95280" y="333360"/>
            <a:ext cx="554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4360" y="141300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448320"/>
            <a:ext cx="12952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559116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92000" y="2997000"/>
            <a:ext cx="6985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5680" y="6329520"/>
            <a:ext cx="1519200" cy="47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76320" y="6354720"/>
            <a:ext cx="1725480" cy="477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7521480" y="6399360"/>
            <a:ext cx="1479600" cy="380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3311640" y="6402240"/>
            <a:ext cx="3136680" cy="408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1898640" y="6251400"/>
            <a:ext cx="1486080" cy="606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534920" y="68400"/>
            <a:ext cx="3432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Tahoma"/>
              </a:rPr>
              <a:t>REBECCA final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Tahoma"/>
              </a:rPr>
              <a:t>Oslo, 21-24 May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14400" y="2362320"/>
            <a:ext cx="7924680" cy="1752480"/>
          </a:xfrm>
          <a:prstGeom prst="rect">
            <a:avLst/>
          </a:prstGeom>
          <a:solidFill>
            <a:srgbClr val="fff9df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From classification to action: </a:t>
            </a:r>
            <a:br>
              <a:rPr sz="2800"/>
            </a:b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How to communicate and report the ecological status of water bodi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0520" y="4402080"/>
            <a:ext cx="242712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ean-Gabriel WAS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ertrand VILLENEU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artial FERRE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Cemagref, UR BEA/LH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Lyon,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228600"/>
            <a:ext cx="68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ECOSTAT Classification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30880" y="1563840"/>
            <a:ext cx="4290840" cy="337320"/>
          </a:xfrm>
          <a:prstGeom prst="rect">
            <a:avLst/>
          </a:prstGeom>
          <a:solidFill>
            <a:srgbClr val="bde4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Session B - Communication and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96600" y="941400"/>
            <a:ext cx="32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Brussels, 6-7 March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4760" y="4446720"/>
            <a:ext cx="289080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éphane STROFFEK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gence de l'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Rh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ône Méditerrannée &amp; C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yon,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53200" y="4413240"/>
            <a:ext cx="2419200" cy="15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abelle VIAL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Ministère de l'Ecologi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du Développement et de l'Aménagement Dur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Direction de l'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Paris,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84000" y="369720"/>
            <a:ext cx="6327720" cy="8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How to evaluate a site 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046840" y="1657440"/>
            <a:ext cx="2957040" cy="4565880"/>
            <a:chOff x="5046840" y="1657440"/>
            <a:chExt cx="2957040" cy="4565880"/>
          </a:xfrm>
        </p:grpSpPr>
        <p:sp>
          <p:nvSpPr>
            <p:cNvPr id="301" name=""/>
            <p:cNvSpPr/>
            <p:nvPr/>
          </p:nvSpPr>
          <p:spPr>
            <a:xfrm>
              <a:off x="5245200" y="2730600"/>
              <a:ext cx="1914480" cy="561960"/>
            </a:xfrm>
            <a:prstGeom prst="rect">
              <a:avLst/>
            </a:prstGeom>
            <a:solidFill>
              <a:srgbClr val="00d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054760" y="3297240"/>
              <a:ext cx="2295360" cy="885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11760" y="4186080"/>
              <a:ext cx="982800" cy="885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29280" y="5065560"/>
              <a:ext cx="345960" cy="1065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46840" y="3287880"/>
              <a:ext cx="2473200" cy="2880"/>
            </a:xfrm>
            <a:prstGeom prst="line">
              <a:avLst/>
            </a:prstGeom>
            <a:ln w="57240">
              <a:solidFill>
                <a:srgbClr val="03bf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11880" y="1854360"/>
              <a:ext cx="1582560" cy="861840"/>
            </a:xfrm>
            <a:prstGeom prst="rect">
              <a:avLst/>
            </a:prstGeom>
            <a:gradFill rotWithShape="0">
              <a:gsLst>
                <a:gs pos="0">
                  <a:srgbClr val="c8c8fe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>
              <a:off x="5400360" y="2496600"/>
              <a:ext cx="2120760" cy="11160"/>
            </a:xfrm>
            <a:prstGeom prst="line">
              <a:avLst/>
            </a:prstGeom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39120" y="1878120"/>
              <a:ext cx="0" cy="430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19320" y="2290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19320" y="5946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27880" y="6168960"/>
              <a:ext cx="223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27920" y="2232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RE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518960" y="254304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9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518960" y="312588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.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59440" y="2724120"/>
              <a:ext cx="2473200" cy="32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61040" y="1657440"/>
              <a:ext cx="94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QR-IBG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5725080" y="154944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% of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4178160" y="2739960"/>
            <a:ext cx="3356280" cy="1073160"/>
            <a:chOff x="4178160" y="2739960"/>
            <a:chExt cx="3356280" cy="1073160"/>
          </a:xfrm>
        </p:grpSpPr>
        <p:grpSp>
          <p:nvGrpSpPr>
            <p:cNvPr id="319" name=""/>
            <p:cNvGrpSpPr/>
            <p:nvPr/>
          </p:nvGrpSpPr>
          <p:grpSpPr>
            <a:xfrm>
              <a:off x="4178160" y="2739960"/>
              <a:ext cx="693720" cy="1073160"/>
              <a:chOff x="4178160" y="2739960"/>
              <a:chExt cx="693720" cy="107316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4724280" y="2851200"/>
                <a:ext cx="147600" cy="863280"/>
                <a:chOff x="4724280" y="2851200"/>
                <a:chExt cx="147600" cy="863280"/>
              </a:xfrm>
            </p:grpSpPr>
            <p:sp>
              <p:nvSpPr>
                <p:cNvPr id="321" name=""/>
                <p:cNvSpPr/>
                <p:nvPr/>
              </p:nvSpPr>
              <p:spPr>
                <a:xfrm flipH="1">
                  <a:off x="4791960" y="2851200"/>
                  <a:ext cx="11160" cy="86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724280" y="3201840"/>
                  <a:ext cx="147600" cy="16200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3" name=""/>
              <p:cNvSpPr/>
              <p:nvPr/>
            </p:nvSpPr>
            <p:spPr>
              <a:xfrm>
                <a:off x="4199760" y="3151080"/>
                <a:ext cx="613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Mea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178160" y="3538440"/>
                <a:ext cx="636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th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178160" y="2739960"/>
                <a:ext cx="636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th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4962600" y="2849400"/>
              <a:ext cx="2571840" cy="874800"/>
            </a:xfrm>
            <a:prstGeom prst="rect">
              <a:avLst/>
            </a:prstGeom>
            <a:gradFill rotWithShape="0">
              <a:gsLst>
                <a:gs pos="0">
                  <a:srgbClr val="00c600">
                    <a:alpha val="28235"/>
                  </a:srgbClr>
                </a:gs>
                <a:gs pos="100000">
                  <a:srgbClr val="ffff00">
                    <a:alpha val="27058"/>
                  </a:srgbClr>
                </a:gs>
              </a:gsLst>
              <a:lin ang="5400000"/>
            </a:gra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965840" y="2797200"/>
            <a:ext cx="2571480" cy="952200"/>
            <a:chOff x="4965840" y="2797200"/>
            <a:chExt cx="2571480" cy="952200"/>
          </a:xfrm>
        </p:grpSpPr>
        <p:sp>
          <p:nvSpPr>
            <p:cNvPr id="328" name=""/>
            <p:cNvSpPr/>
            <p:nvPr/>
          </p:nvSpPr>
          <p:spPr>
            <a:xfrm>
              <a:off x="4965840" y="2852640"/>
              <a:ext cx="2571480" cy="874800"/>
            </a:xfrm>
            <a:prstGeom prst="rect">
              <a:avLst/>
            </a:prstGeom>
            <a:gradFill rotWithShape="0">
              <a:gsLst>
                <a:gs pos="0">
                  <a:srgbClr val="00c600">
                    <a:alpha val="28235"/>
                  </a:srgbClr>
                </a:gs>
                <a:gs pos="100000">
                  <a:srgbClr val="ffff00">
                    <a:alpha val="27058"/>
                  </a:srgbClr>
                </a:gs>
              </a:gsLst>
              <a:lin ang="5400000"/>
            </a:gra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48280" y="3179520"/>
              <a:ext cx="153360" cy="15084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17920" y="3598920"/>
              <a:ext cx="153720" cy="15048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38520" y="3313080"/>
              <a:ext cx="153720" cy="15084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686200" y="2797200"/>
              <a:ext cx="153720" cy="15084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95760" y="3287520"/>
              <a:ext cx="153720" cy="15084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70600" y="3109680"/>
              <a:ext cx="153360" cy="15084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92760" y="3305160"/>
              <a:ext cx="153360" cy="15084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70440" y="3084480"/>
              <a:ext cx="153720" cy="15084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32320" y="3035160"/>
              <a:ext cx="153720" cy="15084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65640" y="3506760"/>
              <a:ext cx="153720" cy="15084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64160" y="3306600"/>
              <a:ext cx="153720" cy="15084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65120" y="2095560"/>
            <a:ext cx="3417840" cy="2925360"/>
          </a:xfrm>
          <a:prstGeom prst="rect">
            <a:avLst/>
          </a:prstGeom>
          <a:solidFill>
            <a:srgbClr val="ffffc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the EQR-IBG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on the basis of a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ngle samp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= a singl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d with a risk of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rror of 20%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The band of uncertainty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≥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lass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th the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One Out All Out ru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re variable Q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ill give the total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11160" y="5440320"/>
            <a:ext cx="4422960" cy="64260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he classification of a site should never be based on a single sampl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223560"/>
            <a:ext cx="705636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How to report the results at the EU level 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013440" y="1657440"/>
            <a:ext cx="2957040" cy="4565880"/>
            <a:chOff x="6013440" y="1657440"/>
            <a:chExt cx="2957040" cy="4565880"/>
          </a:xfrm>
        </p:grpSpPr>
        <p:sp>
          <p:nvSpPr>
            <p:cNvPr id="344" name=""/>
            <p:cNvSpPr/>
            <p:nvPr/>
          </p:nvSpPr>
          <p:spPr>
            <a:xfrm>
              <a:off x="6211800" y="2730600"/>
              <a:ext cx="1914480" cy="561960"/>
            </a:xfrm>
            <a:prstGeom prst="rect">
              <a:avLst/>
            </a:prstGeom>
            <a:solidFill>
              <a:srgbClr val="00d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21360" y="3297240"/>
              <a:ext cx="2295360" cy="885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678360" y="4186080"/>
              <a:ext cx="982800" cy="885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95880" y="5065560"/>
              <a:ext cx="345960" cy="1065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13440" y="3287880"/>
              <a:ext cx="2473200" cy="2880"/>
            </a:xfrm>
            <a:prstGeom prst="line">
              <a:avLst/>
            </a:prstGeom>
            <a:ln w="57240">
              <a:solidFill>
                <a:srgbClr val="03bf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78480" y="1854360"/>
              <a:ext cx="1582560" cy="861840"/>
            </a:xfrm>
            <a:prstGeom prst="rect">
              <a:avLst/>
            </a:prstGeom>
            <a:gradFill rotWithShape="0">
              <a:gsLst>
                <a:gs pos="0">
                  <a:srgbClr val="c8c8fe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6366960" y="2496600"/>
              <a:ext cx="2120760" cy="11160"/>
            </a:xfrm>
            <a:prstGeom prst="line">
              <a:avLst/>
            </a:prstGeom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505720" y="1878120"/>
              <a:ext cx="0" cy="430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485920" y="2290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485920" y="5946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94480" y="6168960"/>
              <a:ext cx="223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94520" y="2232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RE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485560" y="254304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0.9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485560" y="312588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0.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026040" y="2724120"/>
              <a:ext cx="2473200" cy="32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027640" y="1657440"/>
              <a:ext cx="94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EQR-IBG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6794640" y="2443320"/>
            <a:ext cx="629640" cy="1679400"/>
            <a:chOff x="6794640" y="2443320"/>
            <a:chExt cx="629640" cy="1679400"/>
          </a:xfrm>
        </p:grpSpPr>
        <p:grpSp>
          <p:nvGrpSpPr>
            <p:cNvPr id="361" name=""/>
            <p:cNvGrpSpPr/>
            <p:nvPr/>
          </p:nvGrpSpPr>
          <p:grpSpPr>
            <a:xfrm>
              <a:off x="7277040" y="3259080"/>
              <a:ext cx="147240" cy="863640"/>
              <a:chOff x="7277040" y="3259080"/>
              <a:chExt cx="147240" cy="863640"/>
            </a:xfrm>
          </p:grpSpPr>
          <p:sp>
            <p:nvSpPr>
              <p:cNvPr id="362" name=""/>
              <p:cNvSpPr/>
              <p:nvPr/>
            </p:nvSpPr>
            <p:spPr>
              <a:xfrm flipH="1">
                <a:off x="7352640" y="3259080"/>
                <a:ext cx="10440" cy="863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277040" y="3610080"/>
                <a:ext cx="147240" cy="161640"/>
              </a:xfrm>
              <a:prstGeom prst="diamond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7118280" y="2997360"/>
              <a:ext cx="147240" cy="863280"/>
              <a:chOff x="7118280" y="2997360"/>
              <a:chExt cx="147240" cy="863280"/>
            </a:xfrm>
          </p:grpSpPr>
          <p:sp>
            <p:nvSpPr>
              <p:cNvPr id="365" name=""/>
              <p:cNvSpPr/>
              <p:nvPr/>
            </p:nvSpPr>
            <p:spPr>
              <a:xfrm flipH="1">
                <a:off x="7193880" y="2997360"/>
                <a:ext cx="10440" cy="86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118280" y="3348000"/>
                <a:ext cx="147240" cy="161280"/>
              </a:xfrm>
              <a:prstGeom prst="diamond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6951600" y="2685960"/>
              <a:ext cx="147240" cy="863640"/>
              <a:chOff x="6951600" y="2685960"/>
              <a:chExt cx="147240" cy="863640"/>
            </a:xfrm>
          </p:grpSpPr>
          <p:sp>
            <p:nvSpPr>
              <p:cNvPr id="368" name=""/>
              <p:cNvSpPr/>
              <p:nvPr/>
            </p:nvSpPr>
            <p:spPr>
              <a:xfrm flipH="1">
                <a:off x="7027200" y="2685960"/>
                <a:ext cx="10440" cy="863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951600" y="3036960"/>
                <a:ext cx="147240" cy="161640"/>
              </a:xfrm>
              <a:prstGeom prst="diamond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6794640" y="2443320"/>
              <a:ext cx="147240" cy="863280"/>
              <a:chOff x="6794640" y="2443320"/>
              <a:chExt cx="147240" cy="863280"/>
            </a:xfrm>
          </p:grpSpPr>
          <p:sp>
            <p:nvSpPr>
              <p:cNvPr id="371" name=""/>
              <p:cNvSpPr/>
              <p:nvPr/>
            </p:nvSpPr>
            <p:spPr>
              <a:xfrm flipH="1">
                <a:off x="6870240" y="2443320"/>
                <a:ext cx="10440" cy="86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794640" y="2793960"/>
                <a:ext cx="147240" cy="161280"/>
              </a:xfrm>
              <a:prstGeom prst="diamond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"/>
          <p:cNvSpPr/>
          <p:nvPr/>
        </p:nvSpPr>
        <p:spPr>
          <a:xfrm>
            <a:off x="6692040" y="154944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% of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5145120" y="2739960"/>
            <a:ext cx="3355560" cy="1073160"/>
            <a:chOff x="5145120" y="2739960"/>
            <a:chExt cx="3355560" cy="1073160"/>
          </a:xfrm>
        </p:grpSpPr>
        <p:grpSp>
          <p:nvGrpSpPr>
            <p:cNvPr id="375" name=""/>
            <p:cNvGrpSpPr/>
            <p:nvPr/>
          </p:nvGrpSpPr>
          <p:grpSpPr>
            <a:xfrm>
              <a:off x="5145120" y="2739960"/>
              <a:ext cx="693000" cy="1073160"/>
              <a:chOff x="5145120" y="2739960"/>
              <a:chExt cx="693000" cy="107316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5690880" y="2851200"/>
                <a:ext cx="147240" cy="863280"/>
                <a:chOff x="5690880" y="2851200"/>
                <a:chExt cx="147240" cy="863280"/>
              </a:xfrm>
            </p:grpSpPr>
            <p:sp>
              <p:nvSpPr>
                <p:cNvPr id="377" name=""/>
                <p:cNvSpPr/>
                <p:nvPr/>
              </p:nvSpPr>
              <p:spPr>
                <a:xfrm flipH="1">
                  <a:off x="5758560" y="2851200"/>
                  <a:ext cx="10800" cy="86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690880" y="3201840"/>
                  <a:ext cx="147240" cy="16200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" name=""/>
              <p:cNvSpPr/>
              <p:nvPr/>
            </p:nvSpPr>
            <p:spPr>
              <a:xfrm>
                <a:off x="5166360" y="3151080"/>
                <a:ext cx="613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Mea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145120" y="3538440"/>
                <a:ext cx="636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1" lang="en-GB" sz="1200" spc="-1" strike="noStrike" baseline="30000">
                    <a:solidFill>
                      <a:srgbClr val="000000"/>
                    </a:solidFill>
                    <a:latin typeface="Arial"/>
                  </a:rPr>
                  <a:t>th</a:t>
                </a: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145120" y="2739960"/>
                <a:ext cx="636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r>
                  <a:rPr b="1" lang="en-GB" sz="1200" spc="-1" strike="noStrike" baseline="30000">
                    <a:solidFill>
                      <a:srgbClr val="000000"/>
                    </a:solidFill>
                    <a:latin typeface="Arial"/>
                  </a:rPr>
                  <a:t>th</a:t>
                </a: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5929200" y="2849400"/>
              <a:ext cx="2571480" cy="874800"/>
            </a:xfrm>
            <a:prstGeom prst="rect">
              <a:avLst/>
            </a:prstGeom>
            <a:gradFill rotWithShape="0">
              <a:gsLst>
                <a:gs pos="0">
                  <a:srgbClr val="00c600">
                    <a:alpha val="28235"/>
                  </a:srgbClr>
                </a:gs>
                <a:gs pos="100000">
                  <a:srgbClr val="ffff00">
                    <a:alpha val="27058"/>
                  </a:srgbClr>
                </a:gs>
              </a:gsLst>
              <a:lin ang="5400000"/>
            </a:gra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217440" y="2036880"/>
            <a:ext cx="4592520" cy="1402200"/>
          </a:xfrm>
          <a:prstGeom prst="rect">
            <a:avLst/>
          </a:prstGeom>
          <a:solidFill>
            <a:srgbClr val="ffffc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idering only the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"Good status boundary",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 the basis of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ingle samp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= a single year), and with a risk of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rror of 20%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about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2/3 of the sites in the Good -Moderate range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(i.e. about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1/3 of the total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 number of sites)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annot be reliably classified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as ≥ or &lt; Go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242680" y="1928880"/>
            <a:ext cx="2370600" cy="3811320"/>
            <a:chOff x="5242680" y="1928880"/>
            <a:chExt cx="2370600" cy="3811320"/>
          </a:xfrm>
        </p:grpSpPr>
        <p:grpSp>
          <p:nvGrpSpPr>
            <p:cNvPr id="385" name=""/>
            <p:cNvGrpSpPr/>
            <p:nvPr/>
          </p:nvGrpSpPr>
          <p:grpSpPr>
            <a:xfrm>
              <a:off x="5242680" y="1928880"/>
              <a:ext cx="1540440" cy="1227240"/>
              <a:chOff x="5242680" y="1928880"/>
              <a:chExt cx="1540440" cy="1227240"/>
            </a:xfrm>
          </p:grpSpPr>
          <p:grpSp>
            <p:nvGrpSpPr>
              <p:cNvPr id="386" name=""/>
              <p:cNvGrpSpPr/>
              <p:nvPr/>
            </p:nvGrpSpPr>
            <p:grpSpPr>
              <a:xfrm>
                <a:off x="6459480" y="1928880"/>
                <a:ext cx="323640" cy="1227240"/>
                <a:chOff x="6459480" y="1928880"/>
                <a:chExt cx="323640" cy="1227240"/>
              </a:xfrm>
            </p:grpSpPr>
            <p:grpSp>
              <p:nvGrpSpPr>
                <p:cNvPr id="387" name=""/>
                <p:cNvGrpSpPr/>
                <p:nvPr/>
              </p:nvGrpSpPr>
              <p:grpSpPr>
                <a:xfrm>
                  <a:off x="6635520" y="2292480"/>
                  <a:ext cx="147600" cy="863640"/>
                  <a:chOff x="6635520" y="2292480"/>
                  <a:chExt cx="147600" cy="86364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 flipH="1">
                    <a:off x="6711840" y="2292480"/>
                    <a:ext cx="10800" cy="863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6635520" y="2643480"/>
                    <a:ext cx="147600" cy="161640"/>
                  </a:xfrm>
                  <a:prstGeom prst="diamond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"/>
                <p:cNvGrpSpPr/>
                <p:nvPr/>
              </p:nvGrpSpPr>
              <p:grpSpPr>
                <a:xfrm>
                  <a:off x="6459480" y="1928880"/>
                  <a:ext cx="147600" cy="863640"/>
                  <a:chOff x="6459480" y="1928880"/>
                  <a:chExt cx="147600" cy="86364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 flipH="1">
                    <a:off x="6535800" y="1928880"/>
                    <a:ext cx="10800" cy="863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6459480" y="2279880"/>
                    <a:ext cx="147600" cy="161640"/>
                  </a:xfrm>
                  <a:prstGeom prst="diamond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3" name=""/>
              <p:cNvSpPr/>
              <p:nvPr/>
            </p:nvSpPr>
            <p:spPr>
              <a:xfrm>
                <a:off x="5242680" y="195732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Reliably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≥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Goo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5737680" y="3473280"/>
              <a:ext cx="1875600" cy="2266920"/>
              <a:chOff x="5737680" y="3473280"/>
              <a:chExt cx="1875600" cy="226692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6799320" y="3473280"/>
                <a:ext cx="813960" cy="2195640"/>
                <a:chOff x="6799320" y="3473280"/>
                <a:chExt cx="813960" cy="2195640"/>
              </a:xfrm>
            </p:grpSpPr>
            <p:grpSp>
              <p:nvGrpSpPr>
                <p:cNvPr id="396" name=""/>
                <p:cNvGrpSpPr/>
                <p:nvPr/>
              </p:nvGrpSpPr>
              <p:grpSpPr>
                <a:xfrm>
                  <a:off x="7465680" y="3473280"/>
                  <a:ext cx="147600" cy="863640"/>
                  <a:chOff x="7465680" y="3473280"/>
                  <a:chExt cx="147600" cy="86364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 flipH="1">
                    <a:off x="7542000" y="3473280"/>
                    <a:ext cx="10800" cy="863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7465680" y="3824280"/>
                    <a:ext cx="147600" cy="161640"/>
                  </a:xfrm>
                  <a:prstGeom prst="diamond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" name=""/>
                <p:cNvGrpSpPr/>
                <p:nvPr/>
              </p:nvGrpSpPr>
              <p:grpSpPr>
                <a:xfrm>
                  <a:off x="7005600" y="4354560"/>
                  <a:ext cx="147240" cy="863640"/>
                  <a:chOff x="7005600" y="4354560"/>
                  <a:chExt cx="147240" cy="86364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 flipH="1">
                    <a:off x="7081200" y="4354560"/>
                    <a:ext cx="10440" cy="863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7005600" y="4705560"/>
                    <a:ext cx="147240" cy="161640"/>
                  </a:xfrm>
                  <a:prstGeom prst="diamond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"/>
                <p:cNvGrpSpPr/>
                <p:nvPr/>
              </p:nvGrpSpPr>
              <p:grpSpPr>
                <a:xfrm>
                  <a:off x="7137360" y="4805280"/>
                  <a:ext cx="147240" cy="863640"/>
                  <a:chOff x="7137360" y="4805280"/>
                  <a:chExt cx="147240" cy="86364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 flipH="1">
                    <a:off x="7212960" y="4805280"/>
                    <a:ext cx="10440" cy="863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7137360" y="5156280"/>
                    <a:ext cx="147240" cy="161640"/>
                  </a:xfrm>
                  <a:prstGeom prst="diamond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6799320" y="3943440"/>
                  <a:ext cx="147240" cy="863640"/>
                  <a:chOff x="6799320" y="3943440"/>
                  <a:chExt cx="147240" cy="86364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flipH="1">
                    <a:off x="6874920" y="3943440"/>
                    <a:ext cx="10440" cy="863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6799320" y="4294440"/>
                    <a:ext cx="147240" cy="161640"/>
                  </a:xfrm>
                  <a:prstGeom prst="diamond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8" name=""/>
              <p:cNvSpPr/>
              <p:nvPr/>
            </p:nvSpPr>
            <p:spPr>
              <a:xfrm>
                <a:off x="5737680" y="515952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Reliably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&lt; Goo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9" name=""/>
          <p:cNvGrpSpPr/>
          <p:nvPr/>
        </p:nvGrpSpPr>
        <p:grpSpPr>
          <a:xfrm>
            <a:off x="272880" y="3962520"/>
            <a:ext cx="4890960" cy="1774800"/>
            <a:chOff x="272880" y="3962520"/>
            <a:chExt cx="4890960" cy="1774800"/>
          </a:xfrm>
        </p:grpSpPr>
        <p:sp>
          <p:nvSpPr>
            <p:cNvPr id="410" name=""/>
            <p:cNvSpPr/>
            <p:nvPr/>
          </p:nvSpPr>
          <p:spPr>
            <a:xfrm>
              <a:off x="272880" y="3962520"/>
              <a:ext cx="4847400" cy="642600"/>
            </a:xfrm>
            <a:prstGeom prst="rect">
              <a:avLst/>
            </a:prstGeom>
            <a:solidFill>
              <a:srgbClr val="ffffc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or given site at a given date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(single year) the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uncertainty is very hig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70440" y="4911840"/>
              <a:ext cx="3893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99"/>
                  </a:solidFill>
                  <a:latin typeface="Arial"/>
                </a:rPr>
                <a:t>Only the statistical evaluations are reliabl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74480" y="168120"/>
            <a:ext cx="7259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What can be reported at the EU level 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12440" y="2833560"/>
            <a:ext cx="3987720" cy="3448080"/>
          </a:xfrm>
          <a:prstGeom prst="rect">
            <a:avLst/>
          </a:prstGeom>
          <a:solidFill>
            <a:srgbClr val="f0ffb5"/>
          </a:soli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tatistical resul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t a given tim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.e. 2010, 2015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% of sit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or WB) per class (H, G, M, P, B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 the level of MS, districts, eventually large typ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fficient numb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water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certain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this classification can be evalu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22800" y="2839680"/>
            <a:ext cx="3810240" cy="3427560"/>
          </a:xfrm>
          <a:prstGeom prst="rect">
            <a:avLst/>
          </a:prstGeom>
          <a:solidFill>
            <a:srgbClr val="a9ffcf"/>
          </a:soli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emporal tren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ring a management pla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some key indicato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 of sites (WB) i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or + Ba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 of site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≥ Goo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 of sites a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tat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tistical significan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the trend can be evalu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0440" y="2017800"/>
            <a:ext cx="849456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For a given WB with monitoring site(s) at a given time 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class and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hat uncertainty if different QE are close to the boundary ?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What implications for water managers 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735120" y="2041560"/>
            <a:ext cx="2485800" cy="4276440"/>
            <a:chOff x="735120" y="2041560"/>
            <a:chExt cx="2485800" cy="4276440"/>
          </a:xfrm>
        </p:grpSpPr>
        <p:sp>
          <p:nvSpPr>
            <p:cNvPr id="418" name=""/>
            <p:cNvSpPr/>
            <p:nvPr/>
          </p:nvSpPr>
          <p:spPr>
            <a:xfrm>
              <a:off x="933480" y="2917800"/>
              <a:ext cx="1914480" cy="561960"/>
            </a:xfrm>
            <a:prstGeom prst="rect">
              <a:avLst/>
            </a:prstGeom>
            <a:solidFill>
              <a:srgbClr val="00d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43040" y="3484440"/>
              <a:ext cx="2295360" cy="885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0040" y="4373280"/>
              <a:ext cx="982800" cy="885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17560" y="5252760"/>
              <a:ext cx="345960" cy="1065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35120" y="3475080"/>
              <a:ext cx="2473200" cy="2880"/>
            </a:xfrm>
            <a:prstGeom prst="line">
              <a:avLst/>
            </a:prstGeom>
            <a:ln w="57240">
              <a:solidFill>
                <a:srgbClr val="03bf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100160" y="2041560"/>
              <a:ext cx="1582560" cy="861840"/>
            </a:xfrm>
            <a:prstGeom prst="rect">
              <a:avLst/>
            </a:prstGeom>
            <a:gradFill rotWithShape="0">
              <a:gsLst>
                <a:gs pos="0">
                  <a:srgbClr val="c8c8fe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flipV="1">
              <a:off x="1107720" y="2673360"/>
              <a:ext cx="1571400" cy="1440"/>
            </a:xfrm>
            <a:prstGeom prst="line">
              <a:avLst/>
            </a:prstGeom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47720" y="2911320"/>
              <a:ext cx="2473200" cy="32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130400" y="4229280"/>
            <a:ext cx="7242120" cy="2189160"/>
            <a:chOff x="1130400" y="4229280"/>
            <a:chExt cx="7242120" cy="2189160"/>
          </a:xfrm>
        </p:grpSpPr>
        <p:sp>
          <p:nvSpPr>
            <p:cNvPr id="427" name=""/>
            <p:cNvSpPr/>
            <p:nvPr/>
          </p:nvSpPr>
          <p:spPr>
            <a:xfrm>
              <a:off x="1130400" y="4340160"/>
              <a:ext cx="1584360" cy="2078280"/>
            </a:xfrm>
            <a:prstGeom prst="ellipse">
              <a:avLst/>
            </a:prstGeom>
            <a:noFill/>
            <a:ln w="57240">
              <a:solidFill>
                <a:srgbClr val="e376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02040" y="4856040"/>
              <a:ext cx="1352520" cy="371520"/>
            </a:xfrm>
            <a:prstGeom prst="rightArrow">
              <a:avLst>
                <a:gd name="adj1" fmla="val 50000"/>
                <a:gd name="adj2" fmla="val 91013"/>
              </a:avLst>
            </a:prstGeom>
            <a:solidFill>
              <a:srgbClr val="e376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72000" y="4229280"/>
              <a:ext cx="3565440" cy="916920"/>
            </a:xfrm>
            <a:prstGeom prst="rect">
              <a:avLst/>
            </a:prstGeom>
            <a:solidFill>
              <a:srgbClr val="ffcf0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Urbanization 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- Pollution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(organic, toxi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+ Physical alterations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(HMW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72000" y="5207040"/>
              <a:ext cx="3800520" cy="703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000" spc="-1" strike="noStrike">
                  <a:solidFill>
                    <a:srgbClr val="000000"/>
                  </a:solidFill>
                  <a:latin typeface="Arial"/>
                </a:rPr>
                <a:t>Restoration : </a:t>
              </a:r>
              <a:r>
                <a:rPr b="0" i="1" lang="fr-FR" sz="2000" spc="-1" strike="noStrike">
                  <a:solidFill>
                    <a:srgbClr val="000000"/>
                  </a:solidFill>
                  <a:latin typeface="Arial"/>
                </a:rPr>
                <a:t>heavy</a:t>
              </a:r>
              <a:r>
                <a:rPr b="1" i="1" lang="fr-F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fr-FR" sz="2000" spc="-1" strike="noStrike">
                  <a:solidFill>
                    <a:srgbClr val="000000"/>
                  </a:solidFill>
                  <a:latin typeface="Arial"/>
                </a:rPr>
                <a:t>actions</a:t>
              </a:r>
              <a:r>
                <a:rPr b="1" i="1" lang="fr-F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fr-FR" sz="2000" spc="-1" strike="noStrike">
                  <a:solidFill>
                    <a:srgbClr val="000000"/>
                  </a:solidFill>
                  <a:latin typeface="Arial"/>
                </a:rPr>
                <a:t>are</a:t>
              </a:r>
              <a:r>
                <a:rPr b="1" i="1" lang="fr-F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fr-FR" sz="2000" spc="-1" strike="noStrike">
                  <a:solidFill>
                    <a:srgbClr val="000000"/>
                  </a:solidFill>
                  <a:latin typeface="Arial"/>
                </a:rPr>
                <a:t>necessary</a:t>
              </a:r>
              <a:r>
                <a:rPr b="1" i="1" lang="fr-F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fr-FR" sz="2000" spc="-1" strike="noStrike">
                  <a:solidFill>
                    <a:srgbClr val="000000"/>
                  </a:solidFill>
                  <a:latin typeface="Arial"/>
                </a:rPr>
                <a:t>at the WB lev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939960" y="1854360"/>
            <a:ext cx="7657920" cy="1675440"/>
            <a:chOff x="939960" y="1854360"/>
            <a:chExt cx="7657920" cy="1675440"/>
          </a:xfrm>
        </p:grpSpPr>
        <p:sp>
          <p:nvSpPr>
            <p:cNvPr id="432" name=""/>
            <p:cNvSpPr/>
            <p:nvPr/>
          </p:nvSpPr>
          <p:spPr>
            <a:xfrm>
              <a:off x="939960" y="1889280"/>
              <a:ext cx="1947600" cy="1079280"/>
            </a:xfrm>
            <a:prstGeom prst="ellipse">
              <a:avLst/>
            </a:prstGeom>
            <a:noFill/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57560" y="2198520"/>
              <a:ext cx="1268280" cy="371520"/>
            </a:xfrm>
            <a:prstGeom prst="rightArrow">
              <a:avLst>
                <a:gd name="adj1" fmla="val 50000"/>
                <a:gd name="adj2" fmla="val 85344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552920" y="1854360"/>
              <a:ext cx="3170160" cy="642600"/>
            </a:xfrm>
            <a:prstGeom prst="rect">
              <a:avLst/>
            </a:prstGeom>
            <a:solidFill>
              <a:srgbClr val="ffcf0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More natural a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Low intensity agricul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38520" y="2521080"/>
              <a:ext cx="4059360" cy="10087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000" spc="-1" strike="noStrike">
                  <a:solidFill>
                    <a:srgbClr val="000000"/>
                  </a:solidFill>
                  <a:latin typeface="Arial"/>
                </a:rPr>
                <a:t>Conservation : </a:t>
              </a:r>
              <a:r>
                <a:rPr b="0" i="1" lang="fr-FR" sz="2000" spc="-1" strike="noStrike">
                  <a:solidFill>
                    <a:srgbClr val="000000"/>
                  </a:solidFill>
                  <a:latin typeface="Arial"/>
                </a:rPr>
                <a:t>No degradation; biological reservoirs for resilience and recolonization (good statu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What implications for water managers 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735120" y="2041560"/>
            <a:ext cx="2485800" cy="4276440"/>
            <a:chOff x="735120" y="2041560"/>
            <a:chExt cx="2485800" cy="4276440"/>
          </a:xfrm>
        </p:grpSpPr>
        <p:sp>
          <p:nvSpPr>
            <p:cNvPr id="438" name=""/>
            <p:cNvSpPr/>
            <p:nvPr/>
          </p:nvSpPr>
          <p:spPr>
            <a:xfrm>
              <a:off x="933480" y="2917800"/>
              <a:ext cx="1914480" cy="561960"/>
            </a:xfrm>
            <a:prstGeom prst="rect">
              <a:avLst/>
            </a:prstGeom>
            <a:solidFill>
              <a:srgbClr val="00d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43040" y="3484440"/>
              <a:ext cx="2295360" cy="885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400040" y="4373280"/>
              <a:ext cx="982800" cy="885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17560" y="5252760"/>
              <a:ext cx="345960" cy="1065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5120" y="3475080"/>
              <a:ext cx="2473200" cy="2880"/>
            </a:xfrm>
            <a:prstGeom prst="line">
              <a:avLst/>
            </a:prstGeom>
            <a:ln w="57240">
              <a:solidFill>
                <a:srgbClr val="03bf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100160" y="2041560"/>
              <a:ext cx="1582560" cy="861840"/>
            </a:xfrm>
            <a:prstGeom prst="rect">
              <a:avLst/>
            </a:prstGeom>
            <a:gradFill rotWithShape="0">
              <a:gsLst>
                <a:gs pos="0">
                  <a:srgbClr val="c8c8fe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1107720" y="2673360"/>
              <a:ext cx="1571400" cy="1440"/>
            </a:xfrm>
            <a:prstGeom prst="line">
              <a:avLst/>
            </a:prstGeom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47720" y="2911320"/>
              <a:ext cx="2473200" cy="32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666720" y="2976480"/>
            <a:ext cx="8004240" cy="1376280"/>
            <a:chOff x="666720" y="2976480"/>
            <a:chExt cx="8004240" cy="1376280"/>
          </a:xfrm>
        </p:grpSpPr>
        <p:sp>
          <p:nvSpPr>
            <p:cNvPr id="447" name=""/>
            <p:cNvSpPr/>
            <p:nvPr/>
          </p:nvSpPr>
          <p:spPr>
            <a:xfrm>
              <a:off x="3119400" y="3098880"/>
              <a:ext cx="1058760" cy="1008000"/>
            </a:xfrm>
            <a:prstGeom prst="rightArrow">
              <a:avLst>
                <a:gd name="adj1" fmla="val 50000"/>
                <a:gd name="adj2" fmla="val 2625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666720" y="2976480"/>
              <a:ext cx="2448000" cy="1376280"/>
              <a:chOff x="666720" y="2976480"/>
              <a:chExt cx="2448000" cy="1376280"/>
            </a:xfrm>
          </p:grpSpPr>
          <p:sp>
            <p:nvSpPr>
              <p:cNvPr id="449" name=""/>
              <p:cNvSpPr/>
              <p:nvPr/>
            </p:nvSpPr>
            <p:spPr>
              <a:xfrm>
                <a:off x="666720" y="2976480"/>
                <a:ext cx="2448000" cy="1376280"/>
              </a:xfrm>
              <a:prstGeom prst="rect">
                <a:avLst/>
              </a:prstGeom>
              <a:gradFill rotWithShape="0">
                <a:gsLst>
                  <a:gs pos="0">
                    <a:srgbClr val="00c600">
                      <a:alpha val="43137"/>
                    </a:srgbClr>
                  </a:gs>
                  <a:gs pos="100000">
                    <a:srgbClr val="ffff00"/>
                  </a:gs>
                </a:gsLst>
                <a:lin ang="5400000"/>
              </a:gra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123920" y="3429000"/>
                <a:ext cx="154080" cy="150840"/>
              </a:xfrm>
              <a:prstGeom prst="diamond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946080" y="3943440"/>
                <a:ext cx="154080" cy="150840"/>
              </a:xfrm>
              <a:prstGeom prst="diamond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066680" y="3657600"/>
                <a:ext cx="154080" cy="150840"/>
              </a:xfrm>
              <a:prstGeom prst="diamond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314360" y="3141720"/>
                <a:ext cx="154080" cy="150840"/>
              </a:xfrm>
              <a:prstGeom prst="diamond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887480" y="3787920"/>
                <a:ext cx="154080" cy="150840"/>
              </a:xfrm>
              <a:prstGeom prst="diamond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682640" y="3352680"/>
                <a:ext cx="154080" cy="150840"/>
              </a:xfrm>
              <a:prstGeom prst="diamond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494000" y="3940200"/>
                <a:ext cx="153720" cy="150840"/>
              </a:xfrm>
              <a:prstGeom prst="diamond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98600" y="3429000"/>
                <a:ext cx="154080" cy="150840"/>
              </a:xfrm>
              <a:prstGeom prst="diamond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822400" y="3278160"/>
                <a:ext cx="154080" cy="150840"/>
              </a:xfrm>
              <a:prstGeom prst="diamond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354400" y="3903840"/>
                <a:ext cx="153720" cy="150480"/>
              </a:xfrm>
              <a:prstGeom prst="diamond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47800" y="3986280"/>
                <a:ext cx="154080" cy="150840"/>
              </a:xfrm>
              <a:prstGeom prst="diamond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4338720" y="3233880"/>
              <a:ext cx="4332240" cy="703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Arial"/>
                </a:rPr>
                <a:t>WB cannot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neither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Arial"/>
                </a:rPr>
                <a:t> be classified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nor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Arial"/>
                </a:rPr>
                <a:t> managed individually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4064040" y="1835280"/>
            <a:ext cx="4863960" cy="4624200"/>
            <a:chOff x="4064040" y="1835280"/>
            <a:chExt cx="4863960" cy="4624200"/>
          </a:xfrm>
        </p:grpSpPr>
        <p:sp>
          <p:nvSpPr>
            <p:cNvPr id="463" name=""/>
            <p:cNvSpPr/>
            <p:nvPr/>
          </p:nvSpPr>
          <p:spPr>
            <a:xfrm>
              <a:off x="4349880" y="1835280"/>
              <a:ext cx="4554360" cy="1281960"/>
            </a:xfrm>
            <a:prstGeom prst="rect">
              <a:avLst/>
            </a:prstGeom>
            <a:solidFill>
              <a:srgbClr val="ffcf0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ame multi-pressures context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low to moderate intens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ollution, habitat alte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gricultural landsca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Importance of local physical habit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64040" y="4170240"/>
              <a:ext cx="4863960" cy="22892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Arial"/>
                </a:rPr>
                <a:t>Landscape Management :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Arial"/>
                </a:rPr>
                <a:t>multiple actions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, at the basin scale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Integrated policies oriented towards 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Arial"/>
                </a:rPr>
                <a:t>driving forces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 : agriculture (BMP), urban development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GB" sz="2000" spc="-1" strike="noStrike">
                  <a:solidFill>
                    <a:srgbClr val="000000"/>
                  </a:solidFill>
                  <a:latin typeface="Arial"/>
                </a:rPr>
                <a:t>Improve ecosystem resilience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: habitat, riparian corridor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581040" y="2305080"/>
            <a:ext cx="2579760" cy="1570320"/>
            <a:chOff x="581040" y="2305080"/>
            <a:chExt cx="2579760" cy="1570320"/>
          </a:xfrm>
        </p:grpSpPr>
        <p:sp>
          <p:nvSpPr>
            <p:cNvPr id="466" name=""/>
            <p:cNvSpPr/>
            <p:nvPr/>
          </p:nvSpPr>
          <p:spPr>
            <a:xfrm>
              <a:off x="1601640" y="2305080"/>
              <a:ext cx="530280" cy="1249200"/>
            </a:xfrm>
            <a:prstGeom prst="upArrow">
              <a:avLst>
                <a:gd name="adj1" fmla="val 50000"/>
                <a:gd name="adj2" fmla="val 5889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1040" y="3476520"/>
              <a:ext cx="25797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Move up the who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450800" y="2271600"/>
            <a:ext cx="207180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3366"/>
                </a:solidFill>
                <a:latin typeface="Tahoma"/>
              </a:rPr>
              <a:t>Mer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3366"/>
                </a:solidFill>
                <a:latin typeface="Tahoma"/>
              </a:rPr>
              <a:t>Tha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3366"/>
                </a:solidFill>
                <a:latin typeface="Tahoma"/>
              </a:rPr>
              <a:t>Da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3366"/>
                </a:solidFill>
                <a:latin typeface="Tahoma"/>
              </a:rPr>
              <a:t>Graz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3366"/>
                </a:solidFill>
                <a:latin typeface="Tahoma"/>
              </a:rPr>
              <a:t>Gra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3366"/>
                </a:solidFill>
                <a:latin typeface="Tahoma"/>
              </a:rPr>
              <a:t>Obrig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3366"/>
                </a:solidFill>
                <a:latin typeface="Tahoma"/>
              </a:rPr>
              <a:t>Hv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3366"/>
                </a:solidFill>
                <a:latin typeface="Tahoma"/>
              </a:rPr>
              <a:t>Tak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3366"/>
                </a:solidFill>
                <a:latin typeface="Tahoma"/>
              </a:rPr>
              <a:t>Multume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3366"/>
                </a:solidFill>
                <a:latin typeface="Tahoma"/>
              </a:rPr>
              <a:t>Köszönö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3366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2813040" y="1814400"/>
            <a:ext cx="4594320" cy="31798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4022640" y="5141880"/>
            <a:ext cx="34243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lyon.cemagref.fr/bea/lhq/index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600200" y="228600"/>
            <a:ext cx="68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ECOSTAT Classification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96600" y="941400"/>
            <a:ext cx="32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Brussels, 6-7 March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19323600">
            <a:off x="4925520" y="3017880"/>
            <a:ext cx="190800" cy="533520"/>
          </a:xfrm>
          <a:prstGeom prst="downArrow">
            <a:avLst>
              <a:gd name="adj1" fmla="val 50000"/>
              <a:gd name="adj2" fmla="val 69906"/>
            </a:avLst>
          </a:prstGeom>
          <a:solidFill>
            <a:srgbClr val="d9020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454640" y="2770200"/>
            <a:ext cx="10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23915"/>
                </a:solidFill>
                <a:latin typeface="Tahoma"/>
              </a:rPr>
              <a:t>Bru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914400" y="2362320"/>
            <a:ext cx="7924680" cy="1752480"/>
          </a:xfrm>
          <a:prstGeom prst="rect">
            <a:avLst/>
          </a:prstGeom>
          <a:solidFill>
            <a:srgbClr val="fff9d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mbining the results for different quality elements </a:t>
            </a:r>
            <a:br>
              <a:rPr sz="36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pplication of the one-out, all-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600200" y="228600"/>
            <a:ext cx="68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ECOSTAT Classification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919760" y="1563840"/>
            <a:ext cx="3801960" cy="337320"/>
          </a:xfrm>
          <a:prstGeom prst="rect">
            <a:avLst/>
          </a:prstGeom>
          <a:solidFill>
            <a:srgbClr val="bde4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Introduction to Break-out Session 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196600" y="941400"/>
            <a:ext cx="32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Brussels, 6-7 March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072600" y="4371840"/>
            <a:ext cx="391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333399"/>
                </a:solidFill>
                <a:latin typeface="Arial"/>
              </a:rPr>
              <a:t>Some question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283680"/>
            <a:ext cx="76359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Combining the different QE : </a:t>
            </a:r>
            <a:br>
              <a:rPr sz="4400"/>
            </a:b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One-Out, All-Out 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n we ensure the comparability between MS without </a:t>
            </a: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a common set of Quality Elemen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biological, physico-chemical, and chemical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ysico-chemical Q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 what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rincipl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adjust the PC classifications to the biological classifications (checking procedure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emical Q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what 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criter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include or not a specific pollutant in the monitor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944640" y="2362320"/>
            <a:ext cx="7924680" cy="1752480"/>
          </a:xfrm>
          <a:prstGeom prst="rect">
            <a:avLst/>
          </a:prstGeom>
          <a:solidFill>
            <a:srgbClr val="fff9d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atial variation in classificatio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arge WB and groups of W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600200" y="228600"/>
            <a:ext cx="68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ECOSTAT Classification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919760" y="1563840"/>
            <a:ext cx="3801960" cy="337320"/>
          </a:xfrm>
          <a:prstGeom prst="rect">
            <a:avLst/>
          </a:prstGeom>
          <a:solidFill>
            <a:srgbClr val="bde4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Introduction to Break-out Session 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196600" y="941400"/>
            <a:ext cx="32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Brussels, 6-7 March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072960" y="4371840"/>
            <a:ext cx="38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333399"/>
                </a:solidFill>
                <a:latin typeface="Arial"/>
              </a:rPr>
              <a:t>Many question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50560" y="283680"/>
            <a:ext cx="76359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Spatial variation and classifications of water bod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atial vs temporal aggregation of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f. CIS workshop 2007, Paris, Paul LATOUR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rul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classify a water bod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use the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worst situation?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maximum impact in the WB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an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average stat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water body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onsequences for the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ati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st site or average of si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mpor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worst season or annual me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criteria for the representativeness of a s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hysico-Chemical Q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continuo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variation, modelling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ydro-morphologic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lterations: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discontinuous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heterogeneo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57440" y="336240"/>
            <a:ext cx="68421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How to communicate the results …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37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To the water managers and the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efu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derive management polic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able an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centi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ac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To the European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hievement of the WF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tu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83880" y="5945040"/>
            <a:ext cx="4952520" cy="368280"/>
          </a:xfrm>
          <a:prstGeom prst="rect">
            <a:avLst/>
          </a:prstGeom>
          <a:solidFill>
            <a:srgbClr val="ffffc3"/>
          </a:solidFill>
          <a:ln w="6480">
            <a:solidFill>
              <a:srgbClr val="fff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333399"/>
                </a:solidFill>
                <a:latin typeface="Arial"/>
              </a:rPr>
              <a:t>Examples from river invertebrates in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954000" y="2195640"/>
            <a:ext cx="7915320" cy="2116080"/>
          </a:xfrm>
          <a:prstGeom prst="rect">
            <a:avLst/>
          </a:prstGeom>
          <a:solidFill>
            <a:srgbClr val="fff9d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stimates of status without monitoring data? 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essures - impact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600200" y="228600"/>
            <a:ext cx="68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ECOSTAT Classification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919760" y="1563840"/>
            <a:ext cx="3801960" cy="337320"/>
          </a:xfrm>
          <a:prstGeom prst="rect">
            <a:avLst/>
          </a:prstGeom>
          <a:solidFill>
            <a:srgbClr val="bde4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Introduction to Break-out Session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196600" y="941400"/>
            <a:ext cx="32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Brussels, 6-7 March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959200" y="4591080"/>
            <a:ext cx="414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333399"/>
                </a:solidFill>
                <a:latin typeface="Arial"/>
              </a:rPr>
              <a:t>What can be do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314000" y="3543120"/>
            <a:ext cx="7061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cological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 statu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based on invertebrates</a:t>
            </a:r>
            <a:br>
              <a:rPr sz="2400"/>
            </a:b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rance, Slovakia, Estonia</a:t>
            </a: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06240" y="2101680"/>
            <a:ext cx="828180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23915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c23915"/>
                </a:solidFill>
                <a:latin typeface="Arial"/>
              </a:rPr>
              <a:t>Spatial extrapolation models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23915"/>
                </a:solidFill>
                <a:latin typeface="Arial"/>
              </a:rPr>
              <a:t>Decision trees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666520" y="304920"/>
            <a:ext cx="554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Pressure data : Land co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371600" y="5130720"/>
            <a:ext cx="6095880" cy="703800"/>
          </a:xfrm>
          <a:prstGeom prst="rect">
            <a:avLst/>
          </a:prstGeom>
          <a:solidFill>
            <a:srgbClr val="b5f2f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Tahoma"/>
              </a:rPr>
              <a:t>evaluation of land cover pressure according to CORINE Land Cover (44 catego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4681440" y="1312920"/>
            <a:ext cx="4271040" cy="3809160"/>
            <a:chOff x="4681440" y="1312920"/>
            <a:chExt cx="4271040" cy="3809160"/>
          </a:xfrm>
        </p:grpSpPr>
        <p:sp>
          <p:nvSpPr>
            <p:cNvPr id="501" name=""/>
            <p:cNvSpPr/>
            <p:nvPr/>
          </p:nvSpPr>
          <p:spPr>
            <a:xfrm>
              <a:off x="5257800" y="1312920"/>
              <a:ext cx="2427120" cy="70380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3366"/>
                  </a:solidFill>
                  <a:latin typeface="Tahoma"/>
                </a:rPr>
                <a:t>For each biological site (e.g. IBGN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4681440" y="2226960"/>
              <a:ext cx="4271040" cy="2895120"/>
              <a:chOff x="4681440" y="2226960"/>
              <a:chExt cx="4271040" cy="2895120"/>
            </a:xfrm>
          </p:grpSpPr>
          <p:sp>
            <p:nvSpPr>
              <p:cNvPr id="503" name=""/>
              <p:cNvSpPr/>
              <p:nvPr/>
            </p:nvSpPr>
            <p:spPr>
              <a:xfrm>
                <a:off x="6095880" y="4665240"/>
                <a:ext cx="381240" cy="456840"/>
              </a:xfrm>
              <a:prstGeom prst="downArrow">
                <a:avLst>
                  <a:gd name="adj1" fmla="val 50000"/>
                  <a:gd name="adj2" fmla="val 29958"/>
                </a:avLst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4681440" y="2226960"/>
                <a:ext cx="4271040" cy="2209320"/>
                <a:chOff x="4681440" y="2226960"/>
                <a:chExt cx="4271040" cy="2209320"/>
              </a:xfrm>
            </p:grpSpPr>
            <p:pic>
              <p:nvPicPr>
                <p:cNvPr id="505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05520" y="2836440"/>
                  <a:ext cx="2911320" cy="159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6" name=""/>
                <p:cNvSpPr/>
                <p:nvPr/>
              </p:nvSpPr>
              <p:spPr>
                <a:xfrm>
                  <a:off x="4681440" y="2226960"/>
                  <a:ext cx="4271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3366"/>
                      </a:solidFill>
                      <a:latin typeface="Tahoma"/>
                    </a:rPr>
                    <a:t>Delimitation of a « riparian buffer"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07" name=""/>
          <p:cNvGrpSpPr/>
          <p:nvPr/>
        </p:nvGrpSpPr>
        <p:grpSpPr>
          <a:xfrm>
            <a:off x="564120" y="1160640"/>
            <a:ext cx="4201200" cy="3961800"/>
            <a:chOff x="564120" y="1160640"/>
            <a:chExt cx="4201200" cy="3961800"/>
          </a:xfrm>
        </p:grpSpPr>
        <p:grpSp>
          <p:nvGrpSpPr>
            <p:cNvPr id="508" name=""/>
            <p:cNvGrpSpPr/>
            <p:nvPr/>
          </p:nvGrpSpPr>
          <p:grpSpPr>
            <a:xfrm>
              <a:off x="564120" y="1160640"/>
              <a:ext cx="4201200" cy="3774240"/>
              <a:chOff x="564120" y="1160640"/>
              <a:chExt cx="4201200" cy="377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564120" y="1160640"/>
                <a:ext cx="4201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3366"/>
                    </a:solidFill>
                    <a:latin typeface="Tahoma"/>
                  </a:rPr>
                  <a:t>Calculation of the catchment are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1846080"/>
                <a:ext cx="3504960" cy="308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1" name=""/>
            <p:cNvSpPr/>
            <p:nvPr/>
          </p:nvSpPr>
          <p:spPr>
            <a:xfrm rot="21599400">
              <a:off x="2438280" y="4665240"/>
              <a:ext cx="380880" cy="456840"/>
            </a:xfrm>
            <a:prstGeom prst="downArrow">
              <a:avLst>
                <a:gd name="adj1" fmla="val 50000"/>
                <a:gd name="adj2" fmla="val 29986"/>
              </a:avLst>
            </a:prstGeom>
            <a:solidFill>
              <a:srgbClr val="00cc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787320" y="5888160"/>
            <a:ext cx="7567560" cy="675360"/>
          </a:xfrm>
          <a:prstGeom prst="rect">
            <a:avLst/>
          </a:prstGeom>
          <a:solidFill>
            <a:srgbClr val="ffffc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Tahoma"/>
              </a:rPr>
              <a:t>Input data could be improved with chemical modelling (PEGAS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Tahoma"/>
              </a:rPr>
              <a:t>and large scale hydro-morphological pressures (SYRAH-Fr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Input data for the mod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0" y="1271520"/>
            <a:ext cx="8269200" cy="5586480"/>
            <a:chOff x="0" y="1271520"/>
            <a:chExt cx="8269200" cy="5586480"/>
          </a:xfrm>
        </p:grpSpPr>
        <p:pic>
          <p:nvPicPr>
            <p:cNvPr id="515" name="" descr=""/>
            <p:cNvPicPr/>
            <p:nvPr/>
          </p:nvPicPr>
          <p:blipFill>
            <a:blip r:embed="rId1"/>
            <a:stretch/>
          </p:blipFill>
          <p:spPr>
            <a:xfrm>
              <a:off x="0" y="1752480"/>
              <a:ext cx="510552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5243400" y="1460520"/>
              <a:ext cx="3025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3366"/>
                  </a:solidFill>
                  <a:latin typeface="Tahoma"/>
                </a:rPr>
                <a:t>PLS regression mod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3366"/>
                  </a:solidFill>
                  <a:latin typeface="Tahoma"/>
                </a:rPr>
                <a:t>EQR-IBGN = ƒ (</a:t>
              </a:r>
              <a:r>
                <a:rPr b="0" lang="fr-FR" sz="2000" spc="-1" strike="noStrike">
                  <a:solidFill>
                    <a:srgbClr val="003366"/>
                  </a:solidFill>
                  <a:latin typeface="Tahoma"/>
                </a:rPr>
                <a:t>CORINE</a:t>
              </a:r>
              <a:r>
                <a:rPr b="1" lang="fr-FR" sz="2000" spc="-1" strike="noStrike">
                  <a:solidFill>
                    <a:srgbClr val="003366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1887480" y="1271520"/>
              <a:ext cx="2784600" cy="5035680"/>
              <a:chOff x="1887480" y="1271520"/>
              <a:chExt cx="2784600" cy="503568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1887480" y="1271520"/>
                <a:ext cx="2230920" cy="5035680"/>
                <a:chOff x="1887480" y="1271520"/>
                <a:chExt cx="2230920" cy="5035680"/>
              </a:xfrm>
            </p:grpSpPr>
            <p:sp>
              <p:nvSpPr>
                <p:cNvPr id="519" name=""/>
                <p:cNvSpPr/>
                <p:nvPr/>
              </p:nvSpPr>
              <p:spPr>
                <a:xfrm flipH="1">
                  <a:off x="2909520" y="1290600"/>
                  <a:ext cx="11160" cy="50166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050640" y="1278000"/>
                  <a:ext cx="1067760" cy="398880"/>
                </a:xfrm>
                <a:prstGeom prst="rect">
                  <a:avLst/>
                </a:prstGeom>
                <a:solidFill>
                  <a:srgbClr val="f7f5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d90202"/>
                      </a:solidFill>
                      <a:latin typeface="Tahoma"/>
                    </a:rPr>
                    <a:t>+ effec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887480" y="1271520"/>
                  <a:ext cx="1003680" cy="398880"/>
                </a:xfrm>
                <a:prstGeom prst="rect">
                  <a:avLst/>
                </a:prstGeom>
                <a:solidFill>
                  <a:srgbClr val="f7f5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d90202"/>
                      </a:solidFill>
                      <a:latin typeface="Tahoma"/>
                    </a:rPr>
                    <a:t>- effec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2" name=""/>
              <p:cNvSpPr/>
              <p:nvPr/>
            </p:nvSpPr>
            <p:spPr>
              <a:xfrm>
                <a:off x="3468600" y="2413080"/>
                <a:ext cx="1203480" cy="398880"/>
              </a:xfrm>
              <a:prstGeom prst="rect">
                <a:avLst/>
              </a:prstGeom>
              <a:solidFill>
                <a:srgbClr val="f7f5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Tahoma"/>
                  </a:rPr>
                  <a:t>R</a:t>
                </a:r>
                <a:r>
                  <a:rPr b="1" lang="en-US" sz="2000" spc="-1" strike="noStrike" baseline="30000">
                    <a:solidFill>
                      <a:srgbClr val="003366"/>
                    </a:solidFill>
                    <a:latin typeface="Tahoma"/>
                  </a:rPr>
                  <a:t>2 </a:t>
                </a:r>
                <a:r>
                  <a:rPr b="1" lang="en-US" sz="2000" spc="-1" strike="noStrike">
                    <a:solidFill>
                      <a:srgbClr val="003366"/>
                    </a:solidFill>
                    <a:latin typeface="Tahoma"/>
                  </a:rPr>
                  <a:t>= 25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3" name=""/>
          <p:cNvGrpSpPr/>
          <p:nvPr/>
        </p:nvGrpSpPr>
        <p:grpSpPr>
          <a:xfrm>
            <a:off x="5238720" y="2908440"/>
            <a:ext cx="3719520" cy="3381120"/>
            <a:chOff x="5238720" y="2908440"/>
            <a:chExt cx="3719520" cy="3381120"/>
          </a:xfrm>
        </p:grpSpPr>
        <p:grpSp>
          <p:nvGrpSpPr>
            <p:cNvPr id="524" name=""/>
            <p:cNvGrpSpPr/>
            <p:nvPr/>
          </p:nvGrpSpPr>
          <p:grpSpPr>
            <a:xfrm>
              <a:off x="5334120" y="2908440"/>
              <a:ext cx="3581280" cy="1389600"/>
              <a:chOff x="5334120" y="2908440"/>
              <a:chExt cx="3581280" cy="1389600"/>
            </a:xfrm>
          </p:grpSpPr>
          <p:sp>
            <p:nvSpPr>
              <p:cNvPr id="525" name=""/>
              <p:cNvSpPr/>
              <p:nvPr/>
            </p:nvSpPr>
            <p:spPr>
              <a:xfrm>
                <a:off x="5334120" y="3289320"/>
                <a:ext cx="3581280" cy="1008720"/>
              </a:xfrm>
              <a:prstGeom prst="rect">
                <a:avLst/>
              </a:prstGeom>
              <a:solidFill>
                <a:srgbClr val="f7f7f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3366"/>
                    </a:solidFill>
                    <a:latin typeface="Tahoma"/>
                  </a:rPr>
                  <a:t>Groups of CORINE categories according to their impact on IBG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629400" y="2908440"/>
                <a:ext cx="152280" cy="304920"/>
              </a:xfrm>
              <a:prstGeom prst="downArrow">
                <a:avLst>
                  <a:gd name="adj1" fmla="val 50000"/>
                  <a:gd name="adj2" fmla="val 50059"/>
                </a:avLst>
              </a:prstGeom>
              <a:solidFill>
                <a:srgbClr val="00cc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7" name="" descr=""/>
            <p:cNvPicPr/>
            <p:nvPr/>
          </p:nvPicPr>
          <p:blipFill>
            <a:blip r:embed="rId2"/>
            <a:stretch/>
          </p:blipFill>
          <p:spPr>
            <a:xfrm>
              <a:off x="5238720" y="4351320"/>
              <a:ext cx="3719520" cy="1938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"/>
          <p:cNvGrpSpPr/>
          <p:nvPr/>
        </p:nvGrpSpPr>
        <p:grpSpPr>
          <a:xfrm>
            <a:off x="5375160" y="1430280"/>
            <a:ext cx="3579840" cy="5039280"/>
            <a:chOff x="5375160" y="1430280"/>
            <a:chExt cx="3579840" cy="5039280"/>
          </a:xfrm>
        </p:grpSpPr>
        <p:grpSp>
          <p:nvGrpSpPr>
            <p:cNvPr id="529" name=""/>
            <p:cNvGrpSpPr/>
            <p:nvPr/>
          </p:nvGrpSpPr>
          <p:grpSpPr>
            <a:xfrm>
              <a:off x="5375160" y="1430280"/>
              <a:ext cx="3579840" cy="5039280"/>
              <a:chOff x="5375160" y="1430280"/>
              <a:chExt cx="3579840" cy="50392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5375160" y="1639800"/>
                <a:ext cx="3579840" cy="4829760"/>
                <a:chOff x="5375160" y="1639800"/>
                <a:chExt cx="3579840" cy="4829760"/>
              </a:xfrm>
            </p:grpSpPr>
            <p:pic>
              <p:nvPicPr>
                <p:cNvPr id="53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754600" y="1639800"/>
                  <a:ext cx="3200400" cy="3139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2" name=""/>
                <p:cNvSpPr/>
                <p:nvPr/>
              </p:nvSpPr>
              <p:spPr>
                <a:xfrm>
                  <a:off x="5375160" y="5135400"/>
                  <a:ext cx="3453120" cy="1334160"/>
                </a:xfrm>
                <a:prstGeom prst="rect">
                  <a:avLst/>
                </a:prstGeom>
                <a:solidFill>
                  <a:srgbClr val="b5f2f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3366"/>
                      </a:solidFill>
                      <a:latin typeface="Tahoma"/>
                    </a:rPr>
                    <a:t>probability of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3366"/>
                      </a:solidFill>
                      <a:latin typeface="Tahoma"/>
                    </a:rPr>
                    <a:t>≥ </a:t>
                  </a:r>
                  <a:r>
                    <a:rPr b="1" lang="en-GB" sz="1800" spc="-1" strike="noStrike">
                      <a:solidFill>
                        <a:srgbClr val="003366"/>
                      </a:solidFill>
                      <a:latin typeface="Tahoma"/>
                    </a:rPr>
                    <a:t>Good or &lt; Good status </a:t>
                  </a:r>
                  <a:r>
                    <a:rPr b="0" lang="en-GB" sz="1800" spc="-1" strike="noStrike">
                      <a:solidFill>
                        <a:srgbClr val="003366"/>
                      </a:solidFill>
                      <a:latin typeface="Tahoma"/>
                    </a:rPr>
                    <a:t>for</a:t>
                  </a:r>
                  <a:r>
                    <a:rPr b="1" lang="en-GB" sz="1800" spc="-1" strike="noStrike">
                      <a:solidFill>
                        <a:srgbClr val="003366"/>
                      </a:solidFill>
                      <a:latin typeface="Tahoma"/>
                    </a:rPr>
                    <a:t> Invertebrate index of each sub-basi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"/>
              <p:cNvSpPr/>
              <p:nvPr/>
            </p:nvSpPr>
            <p:spPr>
              <a:xfrm>
                <a:off x="6032520" y="1430280"/>
                <a:ext cx="2160720" cy="368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3366"/>
                    </a:solidFill>
                    <a:latin typeface="Tahoma"/>
                  </a:rPr>
                  <a:t>3 </a:t>
                </a:r>
                <a:r>
                  <a:rPr b="0" lang="en-GB" sz="1800" spc="-1" strike="noStrike">
                    <a:solidFill>
                      <a:srgbClr val="003366"/>
                    </a:solidFill>
                    <a:latin typeface="Tahoma"/>
                  </a:rPr>
                  <a:t>- </a:t>
                </a:r>
                <a:r>
                  <a:rPr b="1" lang="en-GB" sz="1800" spc="-1" strike="noStrike">
                    <a:solidFill>
                      <a:srgbClr val="003366"/>
                    </a:solidFill>
                    <a:latin typeface="Tahoma"/>
                  </a:rPr>
                  <a:t>Mapp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6870600" y="4492440"/>
              <a:ext cx="952560" cy="26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882480" y="4586040"/>
              <a:ext cx="43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Tahoma"/>
                </a:rPr>
                <a:t>goo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792480" y="4446360"/>
              <a:ext cx="648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Tahoma"/>
                </a:rPr>
                <a:t>Not goo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451560" y="4340160"/>
              <a:ext cx="49536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98760" y="369360"/>
            <a:ext cx="736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ahoma"/>
              </a:rPr>
              <a:t>Spatial extrapolation princi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216000" y="1427040"/>
            <a:ext cx="3502080" cy="5155560"/>
            <a:chOff x="216000" y="1427040"/>
            <a:chExt cx="3502080" cy="5155560"/>
          </a:xfrm>
        </p:grpSpPr>
        <p:grpSp>
          <p:nvGrpSpPr>
            <p:cNvPr id="540" name=""/>
            <p:cNvGrpSpPr/>
            <p:nvPr/>
          </p:nvGrpSpPr>
          <p:grpSpPr>
            <a:xfrm>
              <a:off x="299880" y="1427040"/>
              <a:ext cx="3418200" cy="5155560"/>
              <a:chOff x="299880" y="1427040"/>
              <a:chExt cx="3418200" cy="5155560"/>
            </a:xfrm>
          </p:grpSpPr>
          <p:pic>
            <p:nvPicPr>
              <p:cNvPr id="54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99880" y="2484360"/>
                <a:ext cx="3048120" cy="275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2" name=""/>
              <p:cNvSpPr/>
              <p:nvPr/>
            </p:nvSpPr>
            <p:spPr>
              <a:xfrm>
                <a:off x="466560" y="1427040"/>
                <a:ext cx="2616480" cy="9169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3366"/>
                    </a:solidFill>
                    <a:latin typeface="Tahoma"/>
                  </a:rPr>
                  <a:t>1 - Construction and validation of a model - </a:t>
                </a:r>
                <a:r>
                  <a:rPr b="0" lang="fr-FR" sz="1800" spc="-1" strike="noStrike">
                    <a:solidFill>
                      <a:srgbClr val="003366"/>
                    </a:solidFill>
                    <a:latin typeface="Tahoma"/>
                  </a:rPr>
                  <a:t>Decision tre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3720" y="5248440"/>
                <a:ext cx="3294360" cy="1334160"/>
              </a:xfrm>
              <a:prstGeom prst="rect">
                <a:avLst/>
              </a:prstGeom>
              <a:solidFill>
                <a:srgbClr val="b5f2f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3366"/>
                    </a:solidFill>
                    <a:latin typeface="Tahoma"/>
                  </a:rPr>
                  <a:t>Predict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3366"/>
                    </a:solidFill>
                    <a:latin typeface="Tahoma"/>
                  </a:rPr>
                  <a:t>≥ </a:t>
                </a:r>
                <a:r>
                  <a:rPr b="1" lang="en-GB" sz="1800" spc="-1" strike="noStrike">
                    <a:solidFill>
                      <a:srgbClr val="003366"/>
                    </a:solidFill>
                    <a:latin typeface="Tahoma"/>
                  </a:rPr>
                  <a:t>Good or &lt; Good</a:t>
                </a:r>
                <a:r>
                  <a:rPr b="1" lang="fr-FR" sz="1800" spc="-1" strike="noStrike">
                    <a:solidFill>
                      <a:srgbClr val="003366"/>
                    </a:solidFill>
                    <a:latin typeface="Tahoma"/>
                  </a:rPr>
                  <a:t> status of a site</a:t>
                </a:r>
                <a:r>
                  <a:rPr b="0" lang="fr-FR" sz="1800" spc="-1" strike="noStrike">
                    <a:solidFill>
                      <a:srgbClr val="003366"/>
                    </a:solidFill>
                    <a:latin typeface="Tahoma"/>
                  </a:rPr>
                  <a:t> </a:t>
                </a:r>
                <a:r>
                  <a:rPr b="1" lang="fr-FR" sz="1800" spc="-1" strike="noStrike">
                    <a:solidFill>
                      <a:srgbClr val="003366"/>
                    </a:solidFill>
                    <a:latin typeface="Tahoma"/>
                  </a:rPr>
                  <a:t>according to the land cover of the bas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>
              <a:off x="216000" y="378144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Tahoma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17440" y="4873680"/>
              <a:ext cx="60984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Tahoma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43280" y="4886280"/>
              <a:ext cx="5713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Tahoma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29080" y="4911840"/>
              <a:ext cx="5713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Tahoma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2480" y="2759040"/>
              <a:ext cx="4003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Tahoma"/>
                </a:rPr>
                <a:t>Y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84360" y="2746440"/>
              <a:ext cx="3834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Tahoma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928600" y="4016520"/>
              <a:ext cx="3834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Tahoma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814400" y="3990960"/>
              <a:ext cx="4003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Tahoma"/>
                </a:rPr>
                <a:t>Y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19120" y="4575240"/>
              <a:ext cx="3834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Tahoma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433160" y="4575240"/>
              <a:ext cx="4003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Tahoma"/>
                </a:rPr>
                <a:t>Y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247920" y="1327320"/>
            <a:ext cx="3083040" cy="2790360"/>
            <a:chOff x="3247920" y="1327320"/>
            <a:chExt cx="3083040" cy="2790360"/>
          </a:xfrm>
        </p:grpSpPr>
        <p:sp>
          <p:nvSpPr>
            <p:cNvPr id="555" name=""/>
            <p:cNvSpPr/>
            <p:nvPr/>
          </p:nvSpPr>
          <p:spPr>
            <a:xfrm flipH="1">
              <a:off x="4435200" y="2882880"/>
              <a:ext cx="6480" cy="331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3247920" y="1327320"/>
              <a:ext cx="3083040" cy="2790360"/>
              <a:chOff x="3247920" y="1327320"/>
              <a:chExt cx="3083040" cy="2790360"/>
            </a:xfrm>
          </p:grpSpPr>
          <p:sp>
            <p:nvSpPr>
              <p:cNvPr id="557" name=""/>
              <p:cNvSpPr/>
              <p:nvPr/>
            </p:nvSpPr>
            <p:spPr>
              <a:xfrm>
                <a:off x="3524040" y="1327320"/>
                <a:ext cx="2114640" cy="1554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66"/>
                    </a:solidFill>
                    <a:latin typeface="Tahoma"/>
                  </a:rPr>
                  <a:t> </a:t>
                </a:r>
                <a:r>
                  <a:rPr b="1" lang="fr-FR" sz="1600" spc="-1" strike="noStrike">
                    <a:solidFill>
                      <a:srgbClr val="003366"/>
                    </a:solidFill>
                    <a:latin typeface="Tahoma"/>
                  </a:rPr>
                  <a:t>2 </a:t>
                </a:r>
                <a:r>
                  <a:rPr b="0" lang="fr-FR" sz="1600" spc="-1" strike="noStrike">
                    <a:solidFill>
                      <a:srgbClr val="003366"/>
                    </a:solidFill>
                    <a:latin typeface="Tahoma"/>
                  </a:rPr>
                  <a:t>– </a:t>
                </a:r>
                <a:r>
                  <a:rPr b="1" lang="fr-FR" sz="1600" spc="-1" strike="noStrike">
                    <a:solidFill>
                      <a:srgbClr val="003366"/>
                    </a:solidFill>
                    <a:latin typeface="Tahoma"/>
                  </a:rPr>
                  <a:t>Extrapolation </a:t>
                </a:r>
                <a:r>
                  <a:rPr b="0" lang="fr-FR" sz="1600" spc="-1" strike="noStrike">
                    <a:solidFill>
                      <a:srgbClr val="003366"/>
                    </a:solidFill>
                    <a:latin typeface="Tahoma"/>
                  </a:rPr>
                  <a:t>validated tree is applied to the basins of the </a:t>
                </a:r>
                <a:r>
                  <a:rPr b="1" lang="fr-FR" sz="1600" spc="-1" strike="noStrike">
                    <a:solidFill>
                      <a:srgbClr val="003366"/>
                    </a:solidFill>
                    <a:latin typeface="Tahoma"/>
                  </a:rPr>
                  <a:t>Hydrographic Zon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8" name=""/>
              <p:cNvGrpSpPr/>
              <p:nvPr/>
            </p:nvGrpSpPr>
            <p:grpSpPr>
              <a:xfrm>
                <a:off x="3247920" y="3409920"/>
                <a:ext cx="3083040" cy="707760"/>
                <a:chOff x="3247920" y="3409920"/>
                <a:chExt cx="3083040" cy="70776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3247920" y="3642840"/>
                  <a:ext cx="3083040" cy="304560"/>
                </a:xfrm>
                <a:prstGeom prst="rightArrow">
                  <a:avLst>
                    <a:gd name="adj1" fmla="val 50000"/>
                    <a:gd name="adj2" fmla="val 253073"/>
                  </a:avLst>
                </a:prstGeom>
                <a:solidFill>
                  <a:srgbClr val="f7f599"/>
                </a:solidFill>
                <a:ln w="1584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833640" y="3409920"/>
                  <a:ext cx="1349640" cy="707760"/>
                </a:xfrm>
                <a:prstGeom prst="rect">
                  <a:avLst/>
                </a:prstGeom>
                <a:solidFill>
                  <a:srgbClr val="f7f599"/>
                </a:solidFill>
                <a:ln w="255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003366"/>
                      </a:solidFill>
                      <a:latin typeface="Tahoma"/>
                    </a:rPr>
                    <a:t>Land co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003366"/>
                      </a:solidFill>
                      <a:latin typeface="Tahoma"/>
                    </a:rPr>
                    <a:t>of HZ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514600" y="151920"/>
            <a:ext cx="63244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Probability of "≥ Good status" </a:t>
            </a:r>
            <a:br>
              <a:rPr sz="2800"/>
            </a:b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for IBG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3456000" y="1252440"/>
            <a:ext cx="5688000" cy="5380200"/>
            <a:chOff x="3456000" y="1252440"/>
            <a:chExt cx="5688000" cy="5380200"/>
          </a:xfrm>
        </p:grpSpPr>
        <p:grpSp>
          <p:nvGrpSpPr>
            <p:cNvPr id="563" name=""/>
            <p:cNvGrpSpPr/>
            <p:nvPr/>
          </p:nvGrpSpPr>
          <p:grpSpPr>
            <a:xfrm>
              <a:off x="4116240" y="1415880"/>
              <a:ext cx="5027760" cy="5216760"/>
              <a:chOff x="4116240" y="1415880"/>
              <a:chExt cx="5027760" cy="5216760"/>
            </a:xfrm>
          </p:grpSpPr>
          <p:pic>
            <p:nvPicPr>
              <p:cNvPr id="564" name="" descr=""/>
              <p:cNvPicPr/>
              <p:nvPr/>
            </p:nvPicPr>
            <p:blipFill>
              <a:blip r:embed="rId1"/>
              <a:srcRect l="0" t="0" r="3060" b="0"/>
              <a:stretch/>
            </p:blipFill>
            <p:spPr>
              <a:xfrm>
                <a:off x="4116240" y="1415880"/>
                <a:ext cx="5027760" cy="5216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65" name=""/>
              <p:cNvGrpSpPr/>
              <p:nvPr/>
            </p:nvGrpSpPr>
            <p:grpSpPr>
              <a:xfrm>
                <a:off x="5221800" y="3997080"/>
                <a:ext cx="3492000" cy="2181240"/>
                <a:chOff x="5221800" y="3997080"/>
                <a:chExt cx="3492000" cy="218124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7759800" y="3997080"/>
                  <a:ext cx="928440" cy="100332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897600">
                  <a:off x="5272200" y="5321160"/>
                  <a:ext cx="1484280" cy="58572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102440" y="5445000"/>
                  <a:ext cx="161136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d90202"/>
                      </a:solidFill>
                      <a:latin typeface="Tahoma"/>
                    </a:rPr>
                    <a:t>model not valid in high mountain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9" name=""/>
              <p:cNvSpPr/>
              <p:nvPr/>
            </p:nvSpPr>
            <p:spPr>
              <a:xfrm>
                <a:off x="5349960" y="6037200"/>
                <a:ext cx="3193920" cy="520200"/>
              </a:xfrm>
              <a:prstGeom prst="rect">
                <a:avLst/>
              </a:prstGeom>
              <a:solidFill>
                <a:srgbClr val="f7f5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3366"/>
                    </a:solidFill>
                    <a:latin typeface="Tahoma"/>
                  </a:rPr>
                  <a:t>« grey » zones correspond to areas of intensive agricultu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3456000" y="1252440"/>
              <a:ext cx="2939760" cy="1385280"/>
              <a:chOff x="3456000" y="1252440"/>
              <a:chExt cx="2939760" cy="1385280"/>
            </a:xfrm>
          </p:grpSpPr>
          <p:sp>
            <p:nvSpPr>
              <p:cNvPr id="571" name=""/>
              <p:cNvSpPr/>
              <p:nvPr/>
            </p:nvSpPr>
            <p:spPr>
              <a:xfrm>
                <a:off x="3733560" y="1252440"/>
                <a:ext cx="2662200" cy="48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3366"/>
                    </a:solidFill>
                    <a:latin typeface="Tahoma"/>
                  </a:rPr>
                  <a:t> </a:t>
                </a:r>
                <a:r>
                  <a:rPr b="1" lang="fr-FR" sz="1400" spc="-1" strike="noStrike">
                    <a:solidFill>
                      <a:srgbClr val="003366"/>
                    </a:solidFill>
                    <a:latin typeface="Tahoma"/>
                  </a:rPr>
                  <a:t>High probability of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3366"/>
                    </a:solidFill>
                    <a:latin typeface="Tahoma"/>
                  </a:rPr>
                  <a:t> </a:t>
                </a:r>
                <a:r>
                  <a:rPr b="1" lang="fr-FR" sz="1400" spc="-1" strike="noStrike">
                    <a:solidFill>
                      <a:srgbClr val="003366"/>
                    </a:solidFill>
                    <a:latin typeface="Tahoma"/>
                  </a:rPr>
                  <a:t>"&lt; Good" statu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57440" y="1366920"/>
                <a:ext cx="334800" cy="255600"/>
              </a:xfrm>
              <a:prstGeom prst="rect">
                <a:avLst/>
              </a:prstGeom>
              <a:solidFill>
                <a:srgbClr val="7d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56000" y="1827360"/>
                <a:ext cx="357120" cy="27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457440" y="2227320"/>
                <a:ext cx="355680" cy="269640"/>
              </a:xfrm>
              <a:prstGeom prst="rect">
                <a:avLst/>
              </a:prstGeom>
              <a:solidFill>
                <a:srgbClr val="eaa51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732120" y="1849320"/>
                <a:ext cx="239076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3366"/>
                    </a:solidFill>
                    <a:latin typeface="Tahoma"/>
                  </a:rPr>
                  <a:t> </a:t>
                </a:r>
                <a:r>
                  <a:rPr b="1" lang="fr-FR" sz="1400" spc="-1" strike="noStrike">
                    <a:solidFill>
                      <a:srgbClr val="003366"/>
                    </a:solidFill>
                    <a:latin typeface="Tahoma"/>
                  </a:rPr>
                  <a:t>Probably "Good"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789360" y="2168640"/>
                <a:ext cx="1995480" cy="46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3366"/>
                    </a:solidFill>
                    <a:latin typeface="Tahoma"/>
                  </a:rPr>
                  <a:t>Uncertainty: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3366"/>
                    </a:solidFill>
                    <a:latin typeface="Tahoma"/>
                  </a:rPr>
                  <a:t>6% below G/M limi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7" name=""/>
          <p:cNvSpPr/>
          <p:nvPr/>
        </p:nvSpPr>
        <p:spPr>
          <a:xfrm>
            <a:off x="511200" y="4822920"/>
            <a:ext cx="4505400" cy="1751400"/>
          </a:xfrm>
          <a:prstGeom prst="rect">
            <a:avLst/>
          </a:prstGeom>
          <a:solidFill>
            <a:srgbClr val="b5f2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Tahoma"/>
              </a:rPr>
              <a:t>Importance of validation </a:t>
            </a:r>
            <a:r>
              <a:rPr b="0" lang="en-GB" sz="1800" spc="-1" strike="noStrike">
                <a:solidFill>
                  <a:srgbClr val="003366"/>
                </a:solidFill>
                <a:latin typeface="Tahoma"/>
              </a:rPr>
              <a:t>(to evaluate </a:t>
            </a:r>
            <a:r>
              <a:rPr b="1" lang="en-GB" sz="1800" spc="-1" strike="noStrike">
                <a:solidFill>
                  <a:srgbClr val="003366"/>
                </a:solidFill>
                <a:latin typeface="Tahoma"/>
              </a:rPr>
              <a:t>error</a:t>
            </a:r>
            <a:r>
              <a:rPr b="0" lang="en-GB" sz="1800" spc="-1" strike="noStrike">
                <a:solidFill>
                  <a:srgbClr val="003366"/>
                </a:solidFill>
                <a:latin typeface="Tahoma"/>
              </a:rPr>
              <a:t> and </a:t>
            </a:r>
            <a:r>
              <a:rPr b="1" lang="en-GB" sz="1800" spc="-1" strike="noStrike">
                <a:solidFill>
                  <a:srgbClr val="003366"/>
                </a:solidFill>
                <a:latin typeface="Tahoma"/>
              </a:rPr>
              <a:t>bias</a:t>
            </a:r>
            <a:r>
              <a:rPr b="0" lang="en-GB" sz="1800" spc="-1" strike="noStrike">
                <a:solidFill>
                  <a:srgbClr val="003366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Tahoma"/>
              </a:rPr>
              <a:t>If not biased, model valid at large scale, </a:t>
            </a:r>
            <a:r>
              <a:rPr b="0" lang="en-GB" sz="1800" spc="-1" strike="noStrike">
                <a:solidFill>
                  <a:srgbClr val="003366"/>
                </a:solidFill>
                <a:latin typeface="Tahoma"/>
              </a:rPr>
              <a:t>but high error at the loc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Tahoma"/>
              </a:rPr>
              <a:t>A statistical evaluation is rel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20640" y="1770120"/>
            <a:ext cx="2586240" cy="2806560"/>
            <a:chOff x="620640" y="1770120"/>
            <a:chExt cx="2586240" cy="2806560"/>
          </a:xfrm>
        </p:grpSpPr>
        <p:pic>
          <p:nvPicPr>
            <p:cNvPr id="579" name="" descr=""/>
            <p:cNvPicPr/>
            <p:nvPr/>
          </p:nvPicPr>
          <p:blipFill>
            <a:blip r:embed="rId2"/>
            <a:srcRect l="2835" t="0" r="10151" b="4057"/>
            <a:stretch/>
          </p:blipFill>
          <p:spPr>
            <a:xfrm>
              <a:off x="620640" y="2627280"/>
              <a:ext cx="258624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675360" y="1770120"/>
              <a:ext cx="2424240" cy="611640"/>
            </a:xfrm>
            <a:prstGeom prst="rect">
              <a:avLst/>
            </a:prstGeom>
            <a:solidFill>
              <a:srgbClr val="a9ffc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3333cc"/>
                  </a:solidFill>
                  <a:latin typeface="Arial"/>
                </a:rPr>
                <a:t>Validation</a:t>
              </a:r>
              <a:r>
                <a:rPr b="1" lang="fr-FR" sz="1600" spc="-1" strike="noStrike">
                  <a:solidFill>
                    <a:srgbClr val="3333cc"/>
                  </a:solidFill>
                  <a:latin typeface="Arial"/>
                </a:rPr>
                <a:t> : 1800 si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cc"/>
                  </a:solidFill>
                  <a:latin typeface="Arial"/>
                </a:rPr>
                <a:t>predicted / observ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1069920" y="3454560"/>
            <a:ext cx="1878120" cy="733680"/>
            <a:chOff x="1069920" y="3454560"/>
            <a:chExt cx="1878120" cy="733680"/>
          </a:xfrm>
        </p:grpSpPr>
        <p:grpSp>
          <p:nvGrpSpPr>
            <p:cNvPr id="582" name=""/>
            <p:cNvGrpSpPr/>
            <p:nvPr/>
          </p:nvGrpSpPr>
          <p:grpSpPr>
            <a:xfrm>
              <a:off x="1395360" y="3789360"/>
              <a:ext cx="1184400" cy="398880"/>
              <a:chOff x="1395360" y="3789360"/>
              <a:chExt cx="1184400" cy="398880"/>
            </a:xfrm>
          </p:grpSpPr>
          <p:sp>
            <p:nvSpPr>
              <p:cNvPr id="583" name=""/>
              <p:cNvSpPr/>
              <p:nvPr/>
            </p:nvSpPr>
            <p:spPr>
              <a:xfrm>
                <a:off x="1395360" y="3871440"/>
                <a:ext cx="0" cy="27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579760" y="3846240"/>
                <a:ext cx="0" cy="27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655280" y="378936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Arial"/>
                  </a:rPr>
                  <a:t>Bia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1069920" y="3454560"/>
              <a:ext cx="63036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red G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obs   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325240" y="3454560"/>
              <a:ext cx="62280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red B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obs   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1761120" y="2759040"/>
            <a:ext cx="1169640" cy="1047960"/>
            <a:chOff x="1761120" y="2759040"/>
            <a:chExt cx="1169640" cy="1047960"/>
          </a:xfrm>
        </p:grpSpPr>
        <p:sp>
          <p:nvSpPr>
            <p:cNvPr id="589" name=""/>
            <p:cNvSpPr/>
            <p:nvPr/>
          </p:nvSpPr>
          <p:spPr>
            <a:xfrm>
              <a:off x="1977840" y="2759040"/>
              <a:ext cx="0" cy="520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128320" y="2795400"/>
              <a:ext cx="802440" cy="398880"/>
            </a:xfrm>
            <a:prstGeom prst="rect">
              <a:avLst/>
            </a:prstGeom>
            <a:noFill/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61120" y="3348000"/>
              <a:ext cx="520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P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O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920" y="190440"/>
            <a:ext cx="759456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Spatial extrapolation models:</a:t>
            </a:r>
            <a:br>
              <a:rPr sz="4400"/>
            </a:b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What use? What quality criteria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S should be </a:t>
            </a: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allow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to report ecological statu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 the basis of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atial extrapolation models - even in 20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quality criteria for these model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put data (land cover, pressures…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istical modelling metho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Arial"/>
              </a:rPr>
              <a:t>Valid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error and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to report the resul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a given WB :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redicted status +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groups of WB :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Statistical evaluation + (b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dels, data, err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i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ust be made expli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1450800" y="2271600"/>
            <a:ext cx="207180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3366"/>
                </a:solidFill>
                <a:latin typeface="Tahoma"/>
              </a:rPr>
              <a:t>Mer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3366"/>
                </a:solidFill>
                <a:latin typeface="Tahoma"/>
              </a:rPr>
              <a:t>Tha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3366"/>
                </a:solidFill>
                <a:latin typeface="Tahoma"/>
              </a:rPr>
              <a:t>Da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3366"/>
                </a:solidFill>
                <a:latin typeface="Tahoma"/>
              </a:rPr>
              <a:t>Graz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3366"/>
                </a:solidFill>
                <a:latin typeface="Tahoma"/>
              </a:rPr>
              <a:t>Gra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3366"/>
                </a:solidFill>
                <a:latin typeface="Tahoma"/>
              </a:rPr>
              <a:t>Obrig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3366"/>
                </a:solidFill>
                <a:latin typeface="Tahoma"/>
              </a:rPr>
              <a:t>Hv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3366"/>
                </a:solidFill>
                <a:latin typeface="Tahoma"/>
              </a:rPr>
              <a:t>Tak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3366"/>
                </a:solidFill>
                <a:latin typeface="Tahoma"/>
              </a:rPr>
              <a:t>Multume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3366"/>
                </a:solidFill>
                <a:latin typeface="Tahoma"/>
              </a:rPr>
              <a:t>Köszönö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3366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2813040" y="1814400"/>
            <a:ext cx="4594320" cy="31798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022640" y="5141520"/>
            <a:ext cx="34243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lyon.cemagref.fr/bea/lhq/index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600200" y="228600"/>
            <a:ext cx="68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ECOSTAT Classification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196600" y="941400"/>
            <a:ext cx="32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Brussels, 6-7 March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rot="19323600">
            <a:off x="4925520" y="3017880"/>
            <a:ext cx="190800" cy="533520"/>
          </a:xfrm>
          <a:prstGeom prst="downArrow">
            <a:avLst>
              <a:gd name="adj1" fmla="val 50000"/>
              <a:gd name="adj2" fmla="val 69906"/>
            </a:avLst>
          </a:prstGeom>
          <a:solidFill>
            <a:srgbClr val="d9020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454640" y="2770200"/>
            <a:ext cx="10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23915"/>
                </a:solidFill>
                <a:latin typeface="Tahoma"/>
              </a:rPr>
              <a:t>Bru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The present situ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810120" y="1081080"/>
            <a:ext cx="1815840" cy="5243040"/>
            <a:chOff x="6810120" y="1081080"/>
            <a:chExt cx="1815840" cy="5243040"/>
          </a:xfrm>
        </p:grpSpPr>
        <p:grpSp>
          <p:nvGrpSpPr>
            <p:cNvPr id="201" name=""/>
            <p:cNvGrpSpPr/>
            <p:nvPr/>
          </p:nvGrpSpPr>
          <p:grpSpPr>
            <a:xfrm>
              <a:off x="6824520" y="2761920"/>
              <a:ext cx="1789200" cy="1792440"/>
              <a:chOff x="6824520" y="2761920"/>
              <a:chExt cx="1789200" cy="1792440"/>
            </a:xfrm>
          </p:grpSpPr>
          <p:pic>
            <p:nvPicPr>
              <p:cNvPr id="202" name="" descr=""/>
              <p:cNvPicPr/>
              <p:nvPr/>
            </p:nvPicPr>
            <p:blipFill>
              <a:blip r:embed="rId1"/>
              <a:stretch/>
            </p:blipFill>
            <p:spPr>
              <a:xfrm rot="5400000">
                <a:off x="6822720" y="2763360"/>
                <a:ext cx="1792440" cy="178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7671240" y="3909600"/>
                <a:ext cx="924480" cy="52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able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alcair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6810120" y="1081080"/>
              <a:ext cx="1815840" cy="1803240"/>
              <a:chOff x="6810120" y="1081080"/>
              <a:chExt cx="1815840" cy="1803240"/>
            </a:xfrm>
          </p:grpSpPr>
          <p:pic>
            <p:nvPicPr>
              <p:cNvPr id="205" name="" descr=""/>
              <p:cNvPicPr/>
              <p:nvPr/>
            </p:nvPicPr>
            <p:blipFill>
              <a:blip r:embed="rId2"/>
              <a:stretch/>
            </p:blipFill>
            <p:spPr>
              <a:xfrm rot="5400000">
                <a:off x="6808320" y="1082520"/>
                <a:ext cx="1803240" cy="179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7656120" y="2147760"/>
                <a:ext cx="969840" cy="52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assif Centr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6824520" y="4520880"/>
              <a:ext cx="1800000" cy="1803240"/>
              <a:chOff x="6824520" y="4520880"/>
              <a:chExt cx="1800000" cy="1803240"/>
            </a:xfrm>
          </p:grpSpPr>
          <p:pic>
            <p:nvPicPr>
              <p:cNvPr id="208" name="" descr=""/>
              <p:cNvPicPr/>
              <p:nvPr/>
            </p:nvPicPr>
            <p:blipFill>
              <a:blip r:embed="rId3"/>
              <a:stretch/>
            </p:blipFill>
            <p:spPr>
              <a:xfrm rot="5400000">
                <a:off x="6822720" y="4522320"/>
                <a:ext cx="1803240" cy="180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7344000" y="5900400"/>
                <a:ext cx="123084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Méditerrané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6865920" y="2795400"/>
              <a:ext cx="172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64480" y="4481280"/>
              <a:ext cx="172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39760" y="2255760"/>
            <a:ext cx="241308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iver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ults of the ecological status classification 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vertebrat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an EQR-IBG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per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ata : 1995-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600 sites from "old" monitoring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738520" y="2227320"/>
            <a:ext cx="3711600" cy="3716280"/>
            <a:chOff x="2738520" y="2227320"/>
            <a:chExt cx="3711600" cy="3716280"/>
          </a:xfrm>
        </p:grpSpPr>
        <p:pic>
          <p:nvPicPr>
            <p:cNvPr id="214" name="" descr=""/>
            <p:cNvPicPr/>
            <p:nvPr/>
          </p:nvPicPr>
          <p:blipFill>
            <a:blip r:embed="rId4"/>
            <a:stretch/>
          </p:blipFill>
          <p:spPr>
            <a:xfrm rot="5400000">
              <a:off x="2736000" y="2229480"/>
              <a:ext cx="3716280" cy="3711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15" name=""/>
            <p:cNvSpPr/>
            <p:nvPr/>
          </p:nvSpPr>
          <p:spPr>
            <a:xfrm>
              <a:off x="5029920" y="4879800"/>
              <a:ext cx="112860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lob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rcRect l="0" t="2609" r="6985" b="0"/>
          <a:stretch/>
        </p:blipFill>
        <p:spPr>
          <a:xfrm>
            <a:off x="4259160" y="1984320"/>
            <a:ext cx="4327560" cy="43182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What pressures are acting 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41280" y="4527720"/>
            <a:ext cx="18766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iver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ification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vertebrat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an EQR-IB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09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579920" y="3747960"/>
            <a:ext cx="4364640" cy="1803240"/>
            <a:chOff x="4579920" y="3747960"/>
            <a:chExt cx="4364640" cy="1803240"/>
          </a:xfrm>
        </p:grpSpPr>
        <p:sp>
          <p:nvSpPr>
            <p:cNvPr id="220" name=""/>
            <p:cNvSpPr/>
            <p:nvPr/>
          </p:nvSpPr>
          <p:spPr>
            <a:xfrm>
              <a:off x="4579920" y="3747960"/>
              <a:ext cx="3862440" cy="579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0000" y="4970520"/>
              <a:ext cx="147456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99"/>
                  </a:solidFill>
                  <a:latin typeface="Arial"/>
                </a:rPr>
                <a:t>Urbanis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99"/>
                  </a:solidFill>
                  <a:latin typeface="Arial"/>
                </a:rPr>
                <a:t>and poll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793040" y="2125800"/>
            <a:ext cx="1697040" cy="3577320"/>
            <a:chOff x="4793040" y="2125800"/>
            <a:chExt cx="1697040" cy="3577320"/>
          </a:xfrm>
        </p:grpSpPr>
        <p:sp>
          <p:nvSpPr>
            <p:cNvPr id="223" name=""/>
            <p:cNvSpPr/>
            <p:nvPr/>
          </p:nvSpPr>
          <p:spPr>
            <a:xfrm flipV="1">
              <a:off x="5895360" y="2451600"/>
              <a:ext cx="594720" cy="325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793040" y="2125800"/>
              <a:ext cx="137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99"/>
                  </a:solidFill>
                  <a:latin typeface="Arial"/>
                </a:rPr>
                <a:t>Agricultur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99"/>
                  </a:solidFill>
                  <a:latin typeface="Arial"/>
                </a:rPr>
                <a:t>pressu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18960" y="2171880"/>
            <a:ext cx="2990880" cy="1554120"/>
          </a:xfrm>
          <a:prstGeom prst="rect">
            <a:avLst/>
          </a:prstGeom>
          <a:solidFill>
            <a:srgbClr val="ffffc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Relationships betw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EQR-IBGN and pres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Land cover: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 basin and riparian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Pollution: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 Organic and nutrient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7360" y="3852720"/>
            <a:ext cx="287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CA on pressures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15520" y="6062760"/>
            <a:ext cx="20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ariables canonical we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rcRect l="0" t="2444" r="5221" b="0"/>
          <a:stretch/>
        </p:blipFill>
        <p:spPr>
          <a:xfrm>
            <a:off x="4192560" y="1913040"/>
            <a:ext cx="4653000" cy="46418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920" y="307440"/>
            <a:ext cx="774216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How IBGN classes are related to pressures 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74280" y="6181560"/>
            <a:ext cx="259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viduals scores and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39800" y="5383080"/>
            <a:ext cx="18766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iver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ification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vertebrat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an EQR-IB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09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8960" y="2171880"/>
            <a:ext cx="2773440" cy="580680"/>
          </a:xfrm>
          <a:prstGeom prst="rect">
            <a:avLst/>
          </a:prstGeom>
          <a:solidFill>
            <a:srgbClr val="ffffc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Relationships betw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EQR-IBGN and pres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1440" y="2860560"/>
            <a:ext cx="26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tween groups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6080" y="3429000"/>
            <a:ext cx="3060360" cy="1008720"/>
          </a:xfrm>
          <a:prstGeom prst="rect">
            <a:avLst/>
          </a:prstGeom>
          <a:solidFill>
            <a:srgbClr val="ffffc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Distribution of sites and classes along the pressure gra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272120" y="2219400"/>
            <a:ext cx="4080240" cy="3033360"/>
            <a:chOff x="4272120" y="2219400"/>
            <a:chExt cx="4080240" cy="3033360"/>
          </a:xfrm>
        </p:grpSpPr>
        <p:sp>
          <p:nvSpPr>
            <p:cNvPr id="236" name=""/>
            <p:cNvSpPr/>
            <p:nvPr/>
          </p:nvSpPr>
          <p:spPr>
            <a:xfrm flipV="1">
              <a:off x="4484520" y="2711160"/>
              <a:ext cx="938520" cy="2536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72120" y="4149360"/>
              <a:ext cx="3058200" cy="384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77800" y="4672080"/>
              <a:ext cx="1474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99"/>
                  </a:solidFill>
                  <a:latin typeface="Arial"/>
                </a:rPr>
                <a:t>Urbanis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99"/>
                  </a:solidFill>
                  <a:latin typeface="Arial"/>
                </a:rPr>
                <a:t>and poll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70560" y="2219400"/>
              <a:ext cx="137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99"/>
                  </a:solidFill>
                  <a:latin typeface="Arial"/>
                </a:rPr>
                <a:t>Agricultur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99"/>
                  </a:solidFill>
                  <a:latin typeface="Arial"/>
                </a:rPr>
                <a:t>pressu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rcRect l="0" t="2457" r="5567" b="0"/>
          <a:stretch/>
        </p:blipFill>
        <p:spPr>
          <a:xfrm>
            <a:off x="4103640" y="1960560"/>
            <a:ext cx="4611600" cy="46227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920" y="307440"/>
            <a:ext cx="774216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How IBGN classes are related to pressures 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74280" y="6170760"/>
            <a:ext cx="259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viduals scores and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86040" y="5292720"/>
            <a:ext cx="1876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iver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ification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vertebrat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an EQR-IB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09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8960" y="2171880"/>
            <a:ext cx="2773440" cy="580680"/>
          </a:xfrm>
          <a:prstGeom prst="rect">
            <a:avLst/>
          </a:prstGeom>
          <a:solidFill>
            <a:srgbClr val="ffffc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Relationships betw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EQR-IBGN and pres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1440" y="2860560"/>
            <a:ext cx="26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tween groups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194360" y="2219400"/>
            <a:ext cx="4080240" cy="3033360"/>
            <a:chOff x="4194360" y="2219400"/>
            <a:chExt cx="4080240" cy="3033360"/>
          </a:xfrm>
        </p:grpSpPr>
        <p:sp>
          <p:nvSpPr>
            <p:cNvPr id="247" name=""/>
            <p:cNvSpPr/>
            <p:nvPr/>
          </p:nvSpPr>
          <p:spPr>
            <a:xfrm flipV="1">
              <a:off x="4406760" y="2711160"/>
              <a:ext cx="938520" cy="2536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94360" y="4149360"/>
              <a:ext cx="3058200" cy="384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00040" y="4672080"/>
              <a:ext cx="1474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99"/>
                  </a:solidFill>
                  <a:latin typeface="Arial"/>
                </a:rPr>
                <a:t>Urbanis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99"/>
                  </a:solidFill>
                  <a:latin typeface="Arial"/>
                </a:rPr>
                <a:t>and poll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92800" y="2219400"/>
              <a:ext cx="137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99"/>
                  </a:solidFill>
                  <a:latin typeface="Arial"/>
                </a:rPr>
                <a:t>Agricultur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99"/>
                  </a:solidFill>
                  <a:latin typeface="Arial"/>
                </a:rPr>
                <a:t>pressu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16080" y="3429000"/>
            <a:ext cx="3217680" cy="1313640"/>
          </a:xfrm>
          <a:prstGeom prst="rect">
            <a:avLst/>
          </a:prstGeom>
          <a:solidFill>
            <a:srgbClr val="ffffc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High Status IBG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Low pollut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More natural land cover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(basin and ripari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rcRect l="0" t="2457" r="5354" b="0"/>
          <a:stretch/>
        </p:blipFill>
        <p:spPr>
          <a:xfrm>
            <a:off x="4108320" y="1962000"/>
            <a:ext cx="4641840" cy="46418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920" y="307440"/>
            <a:ext cx="774216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How IBGN classes are related to pressures 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74280" y="6170760"/>
            <a:ext cx="259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viduals scores and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36720" y="5213520"/>
            <a:ext cx="1876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iver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ification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vertebrat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an EQR-IB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09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8960" y="2171880"/>
            <a:ext cx="2773440" cy="580680"/>
          </a:xfrm>
          <a:prstGeom prst="rect">
            <a:avLst/>
          </a:prstGeom>
          <a:solidFill>
            <a:srgbClr val="ffffc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Relationships betw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EQR-IBGN and pres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1440" y="2860560"/>
            <a:ext cx="26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tween groups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221360" y="2232000"/>
            <a:ext cx="4080240" cy="3033360"/>
            <a:chOff x="4221360" y="2232000"/>
            <a:chExt cx="4080240" cy="3033360"/>
          </a:xfrm>
        </p:grpSpPr>
        <p:sp>
          <p:nvSpPr>
            <p:cNvPr id="259" name=""/>
            <p:cNvSpPr/>
            <p:nvPr/>
          </p:nvSpPr>
          <p:spPr>
            <a:xfrm flipV="1">
              <a:off x="4433760" y="2723760"/>
              <a:ext cx="938520" cy="2536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21360" y="4161960"/>
              <a:ext cx="3058200" cy="384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27040" y="4684680"/>
              <a:ext cx="1474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99"/>
                  </a:solidFill>
                  <a:latin typeface="Arial"/>
                </a:rPr>
                <a:t>Urbanis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99"/>
                  </a:solidFill>
                  <a:latin typeface="Arial"/>
                </a:rPr>
                <a:t>and poll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19800" y="2232000"/>
              <a:ext cx="137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99"/>
                  </a:solidFill>
                  <a:latin typeface="Arial"/>
                </a:rPr>
                <a:t>Agricultur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99"/>
                  </a:solidFill>
                  <a:latin typeface="Arial"/>
                </a:rPr>
                <a:t>pressu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28680" y="3429000"/>
            <a:ext cx="3205080" cy="1618560"/>
          </a:xfrm>
          <a:prstGeom prst="rect">
            <a:avLst/>
          </a:prstGeom>
          <a:solidFill>
            <a:srgbClr val="ffffc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oor and Bad Status IBG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- Medium to high levels of urbanization and pol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rcRect l="0" t="2260" r="5376" b="0"/>
          <a:stretch/>
        </p:blipFill>
        <p:spPr>
          <a:xfrm>
            <a:off x="4119480" y="1974960"/>
            <a:ext cx="4630680" cy="46418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920" y="307440"/>
            <a:ext cx="774216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How IBGN classes are related to pressures 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74280" y="6170760"/>
            <a:ext cx="259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dividuals scores and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79640" y="5423040"/>
            <a:ext cx="1876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iver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ssification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vertebrat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an EQR-IB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09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8960" y="2171880"/>
            <a:ext cx="2773440" cy="580680"/>
          </a:xfrm>
          <a:prstGeom prst="rect">
            <a:avLst/>
          </a:prstGeom>
          <a:solidFill>
            <a:srgbClr val="ffffc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Relationships betw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EQR-IBGN and pres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1440" y="2860560"/>
            <a:ext cx="26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tween groups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286520" y="2257560"/>
            <a:ext cx="4079880" cy="3033360"/>
            <a:chOff x="4286520" y="2257560"/>
            <a:chExt cx="4079880" cy="3033360"/>
          </a:xfrm>
        </p:grpSpPr>
        <p:sp>
          <p:nvSpPr>
            <p:cNvPr id="271" name=""/>
            <p:cNvSpPr/>
            <p:nvPr/>
          </p:nvSpPr>
          <p:spPr>
            <a:xfrm flipV="1">
              <a:off x="4498560" y="2749320"/>
              <a:ext cx="938160" cy="2536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86520" y="4187520"/>
              <a:ext cx="3057840" cy="384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91840" y="4710240"/>
              <a:ext cx="1474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99"/>
                  </a:solidFill>
                  <a:latin typeface="Arial"/>
                </a:rPr>
                <a:t>Urbanis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99"/>
                  </a:solidFill>
                  <a:latin typeface="Arial"/>
                </a:rPr>
                <a:t>and poll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84600" y="2257560"/>
              <a:ext cx="137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99"/>
                  </a:solidFill>
                  <a:latin typeface="Arial"/>
                </a:rPr>
                <a:t>Agricultur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99"/>
                  </a:solidFill>
                  <a:latin typeface="Arial"/>
                </a:rPr>
                <a:t>pressu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316080" y="3429000"/>
            <a:ext cx="3571560" cy="1923480"/>
          </a:xfrm>
          <a:prstGeom prst="rect">
            <a:avLst/>
          </a:prstGeom>
          <a:solidFill>
            <a:srgbClr val="ffffc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Good and Moderate Status IBG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onfounded in the pressures gra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Low pollution le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Agricultural 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00160" y="270000"/>
            <a:ext cx="623088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Taking into account the uncertainty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6120" y="2117880"/>
            <a:ext cx="4295880" cy="916920"/>
          </a:xfrm>
          <a:prstGeom prst="rect">
            <a:avLst/>
          </a:prstGeom>
          <a:solidFill>
            <a:srgbClr val="ffffc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certain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error ƒ{method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+ natural variability ƒ{season, year, 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+ anthropogenic variability ƒ{pressures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20720" y="4983120"/>
            <a:ext cx="3711600" cy="1372680"/>
            <a:chOff x="720720" y="4983120"/>
            <a:chExt cx="3711600" cy="1372680"/>
          </a:xfrm>
        </p:grpSpPr>
        <p:sp>
          <p:nvSpPr>
            <p:cNvPr id="279" name=""/>
            <p:cNvSpPr/>
            <p:nvPr/>
          </p:nvSpPr>
          <p:spPr>
            <a:xfrm>
              <a:off x="720720" y="4983120"/>
              <a:ext cx="2116080" cy="1372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National classification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(average all typ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H/G: 0.9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G/M: 0.8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M/P: 0.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/B: 0.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28880" y="5081760"/>
              <a:ext cx="1603440" cy="115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Class rang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EQR-IBG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Good: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0.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Moderate: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0.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oor: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0.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770360" y="878040"/>
            <a:ext cx="3938760" cy="2290680"/>
            <a:chOff x="4770360" y="878040"/>
            <a:chExt cx="3938760" cy="2290680"/>
          </a:xfrm>
        </p:grpSpPr>
        <p:grpSp>
          <p:nvGrpSpPr>
            <p:cNvPr id="282" name=""/>
            <p:cNvGrpSpPr/>
            <p:nvPr/>
          </p:nvGrpSpPr>
          <p:grpSpPr>
            <a:xfrm>
              <a:off x="6372360" y="878040"/>
              <a:ext cx="2336760" cy="2290680"/>
              <a:chOff x="6372360" y="878040"/>
              <a:chExt cx="2336760" cy="2290680"/>
            </a:xfrm>
          </p:grpSpPr>
          <p:pic>
            <p:nvPicPr>
              <p:cNvPr id="283" name="" descr=""/>
              <p:cNvPicPr/>
              <p:nvPr/>
            </p:nvPicPr>
            <p:blipFill>
              <a:blip r:embed="rId1"/>
              <a:srcRect l="15034" t="2904" r="23515" b="10845"/>
              <a:stretch/>
            </p:blipFill>
            <p:spPr>
              <a:xfrm>
                <a:off x="6372360" y="878040"/>
                <a:ext cx="2244600" cy="22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481960" y="2736720"/>
                <a:ext cx="227160" cy="432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5" name=""/>
            <p:cNvSpPr/>
            <p:nvPr/>
          </p:nvSpPr>
          <p:spPr>
            <a:xfrm>
              <a:off x="4770360" y="1913040"/>
              <a:ext cx="2176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Sites with ≥ 10 IBGN val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no temporal tre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74 sites - 1950 samp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873680" y="3043080"/>
            <a:ext cx="3725640" cy="3659400"/>
            <a:chOff x="4873680" y="3043080"/>
            <a:chExt cx="3725640" cy="3659400"/>
          </a:xfrm>
        </p:grpSpPr>
        <p:pic>
          <p:nvPicPr>
            <p:cNvPr id="287" name="" descr=""/>
            <p:cNvPicPr/>
            <p:nvPr/>
          </p:nvPicPr>
          <p:blipFill>
            <a:blip r:embed="rId3"/>
            <a:srcRect l="3708" t="11141" r="11119" b="6587"/>
            <a:stretch/>
          </p:blipFill>
          <p:spPr>
            <a:xfrm>
              <a:off x="4873680" y="3103560"/>
              <a:ext cx="3725640" cy="35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95880" y="3043080"/>
              <a:ext cx="1545840" cy="1159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BGN samples: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histogram of the 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eviations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from the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 median value of the s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82560" y="3200400"/>
            <a:ext cx="7207200" cy="3087720"/>
            <a:chOff x="682560" y="3200400"/>
            <a:chExt cx="7207200" cy="3087720"/>
          </a:xfrm>
        </p:grpSpPr>
        <p:sp>
          <p:nvSpPr>
            <p:cNvPr id="290" name=""/>
            <p:cNvSpPr/>
            <p:nvPr/>
          </p:nvSpPr>
          <p:spPr>
            <a:xfrm>
              <a:off x="682560" y="3200400"/>
              <a:ext cx="3724200" cy="1526400"/>
            </a:xfrm>
            <a:prstGeom prst="rect">
              <a:avLst/>
            </a:prstGeom>
            <a:solidFill>
              <a:srgbClr val="a9ffc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333399"/>
                  </a:solidFill>
                  <a:latin typeface="Arial"/>
                </a:rPr>
                <a:t>For a given si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333399"/>
                  </a:solidFill>
                  <a:latin typeface="Arial"/>
                </a:rPr>
                <a:t>80% of the samples</a:t>
              </a:r>
              <a:r>
                <a:rPr b="0" lang="fr-FR" sz="20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3399"/>
                  </a:solidFill>
                  <a:latin typeface="Arial"/>
                </a:rPr>
                <a:t>lie in the range (-2,+2) IBG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333399"/>
                  </a:solidFill>
                  <a:latin typeface="Arial"/>
                </a:rPr>
                <a:t>i.e. Median ± 0.12 EQR-IBG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99"/>
                  </a:solidFill>
                  <a:latin typeface="Arial"/>
                </a:rPr>
                <a:t>(90%</a:t>
              </a:r>
              <a:r>
                <a:rPr b="0" lang="fr-FR" sz="1600" spc="-1" strike="noStrike">
                  <a:solidFill>
                    <a:srgbClr val="333399"/>
                  </a:solidFill>
                  <a:latin typeface="Arial"/>
                </a:rPr>
                <a:t> in the range </a:t>
              </a:r>
              <a:r>
                <a:rPr b="1" lang="fr-FR" sz="1600" spc="-1" strike="noStrike">
                  <a:solidFill>
                    <a:srgbClr val="333399"/>
                  </a:solidFill>
                  <a:latin typeface="Arial"/>
                </a:rPr>
                <a:t>Mean ± 0.18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5153040" y="4970520"/>
              <a:ext cx="2736720" cy="1317600"/>
              <a:chOff x="5153040" y="4970520"/>
              <a:chExt cx="2736720" cy="1317600"/>
            </a:xfrm>
          </p:grpSpPr>
          <p:sp>
            <p:nvSpPr>
              <p:cNvPr id="292" name=""/>
              <p:cNvSpPr/>
              <p:nvPr/>
            </p:nvSpPr>
            <p:spPr>
              <a:xfrm flipV="1">
                <a:off x="5153040" y="4974840"/>
                <a:ext cx="2550960" cy="11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620040" y="5016600"/>
                <a:ext cx="10800" cy="1249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35960" y="4970520"/>
                <a:ext cx="11160" cy="1301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153040" y="5621400"/>
                <a:ext cx="273672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381720" y="5641920"/>
                <a:ext cx="9720" cy="64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870680" y="5641920"/>
                <a:ext cx="0" cy="625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 rot="5400000">
              <a:off x="4373280" y="4523040"/>
              <a:ext cx="384120" cy="796680"/>
            </a:xfrm>
            <a:custGeom>
              <a:avLst/>
              <a:gdLst>
                <a:gd name="textAreaLeft" fmla="*/ 128160 w 384120"/>
                <a:gd name="textAreaRight" fmla="*/ 329040 w 384120"/>
                <a:gd name="textAreaTop" fmla="*/ 459000 h 796680"/>
                <a:gd name="textAreaBottom" fmla="*/ 682560 h 79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9ffc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9T15:28:30Z</dcterms:created>
  <dc:creator>Jean-Gabriel WASSON</dc:creator>
  <dc:description/>
  <dc:language>en-US</dc:language>
  <cp:lastModifiedBy>peter.pollard</cp:lastModifiedBy>
  <dcterms:modified xsi:type="dcterms:W3CDTF">2008-03-06T06:01:41Z</dcterms:modified>
  <cp:revision>148</cp:revision>
  <dc:subject/>
  <dc:title>Présentation PowerPoint</dc:title>
</cp:coreProperties>
</file>