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E55-037D-4149-AE5C-ECD5A677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EC7-828D-4799-B6C1-EDCFD8CB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F7B-67F0-42A3-BEB5-096E0D5B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6FC-4BD7-41B7-A760-086B09EE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6A8-0230-4254-985D-3515A761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A7E-3DDE-4AF0-A98C-20C9E398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AD5-B168-4EF2-8C53-90652ACC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DF0-E101-49BE-9536-27675054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842-4117-46C7-B067-05DAD49C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EFF-7198-4BBD-9EB1-39BE4215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FF6-4905-4365-87AB-4BF74E8F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216-7AC2-4942-9D88-509DE6C4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DEAE-2F58-419C-A7B4-C7D817E57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49520" y="1700280"/>
            <a:ext cx="5626080" cy="455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5320" y="260280"/>
            <a:ext cx="839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Confidence is importan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76040" y="101520"/>
            <a:ext cx="888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is can be useful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3280" y="1403280"/>
            <a:ext cx="42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ing an ov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63280" y="2419200"/>
            <a:ext cx="67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tecting national or regional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63640" y="3436920"/>
            <a:ext cx="69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the case for national or regional measu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63640" y="4941720"/>
            <a:ext cx="804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asures can ‘benefit’ individual water bodies where confidence is not sufficiently high for targeted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5499000"/>
            <a:ext cx="410364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  <a:ea typeface="Times New Roman"/>
              </a:rPr>
              <a:t>B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4863960"/>
            <a:ext cx="410364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  <a:ea typeface="Times New Roman"/>
              </a:rPr>
              <a:t>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4230720"/>
            <a:ext cx="4103640" cy="19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fidence moderate or worse = ‘high’; ‘medium’ or ‘low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4230720"/>
            <a:ext cx="4103640" cy="63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ode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460680"/>
            <a:ext cx="4103640" cy="7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3460680"/>
            <a:ext cx="4103640" cy="7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  <a:ea typeface="Times New Roman"/>
              </a:rPr>
              <a:t>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2692440"/>
            <a:ext cx="4103640" cy="76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2692440"/>
            <a:ext cx="4103640" cy="76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  <a:ea typeface="Times New Roman"/>
              </a:rPr>
              <a:t>Hi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1379520"/>
            <a:ext cx="4103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fidence of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8360" y="1379520"/>
            <a:ext cx="4103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ace value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1379520"/>
            <a:ext cx="8207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6132600"/>
            <a:ext cx="8207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8360" y="1379520"/>
            <a:ext cx="0" cy="4753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675640" y="1379520"/>
            <a:ext cx="0" cy="4753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2692440"/>
            <a:ext cx="8207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1379520"/>
            <a:ext cx="0" cy="4753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3460680"/>
            <a:ext cx="8207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8360" y="4230720"/>
            <a:ext cx="8207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4863960"/>
            <a:ext cx="4103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5499000"/>
            <a:ext cx="4103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3640" y="222120"/>
            <a:ext cx="792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the ‘after’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-304920" y="3089160"/>
            <a:ext cx="9812520" cy="3926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7880" y="858960"/>
            <a:ext cx="806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likely to be several options used, at least for the 2008/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8160" y="3586320"/>
            <a:ext cx="51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parency import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93760" y="4554360"/>
            <a:ext cx="46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has been d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93760" y="54658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follow up a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95440" y="263520"/>
            <a:ext cx="2452680" cy="1914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54240" y="263520"/>
            <a:ext cx="2452680" cy="19144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13400" y="264960"/>
            <a:ext cx="2452680" cy="1914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8360" y="687240"/>
            <a:ext cx="216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56120" y="687240"/>
            <a:ext cx="224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um 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92600" y="689040"/>
            <a:ext cx="229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19120" y="2179440"/>
            <a:ext cx="7561080" cy="3809520"/>
            <a:chOff x="519120" y="2179440"/>
            <a:chExt cx="7561080" cy="3809520"/>
          </a:xfrm>
        </p:grpSpPr>
        <p:sp>
          <p:nvSpPr>
            <p:cNvPr id="324" name=""/>
            <p:cNvSpPr/>
            <p:nvPr/>
          </p:nvSpPr>
          <p:spPr>
            <a:xfrm>
              <a:off x="682560" y="3424320"/>
              <a:ext cx="7236000" cy="256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92160" y="4108320"/>
              <a:ext cx="66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ssess &amp; control risk of deterior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9120" y="5041800"/>
              <a:ext cx="756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ut delay expensive measures until confidence improv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2560" y="2178720"/>
              <a:ext cx="7236000" cy="1244520"/>
            </a:xfrm>
            <a:custGeom>
              <a:avLst/>
              <a:gdLst>
                <a:gd name="textAreaLeft" fmla="*/ 1928520 w 7236000"/>
                <a:gd name="textAreaRight" fmla="*/ 5307480 w 7236000"/>
                <a:gd name="textAreaTop" fmla="*/ 331560 h 1244520"/>
                <a:gd name="textAreaBottom" fmla="*/ 91296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388" y="21600"/>
                  </a:lnTo>
                  <a:lnTo>
                    <a:pt x="7212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61960" y="2749680"/>
              <a:ext cx="5359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ioritise for further monitoring &amp; analys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7920" y="1109520"/>
            <a:ext cx="7256520" cy="454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1640" y="1506600"/>
            <a:ext cx="58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al chemical and physicochemical quality ele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15800" y="1036800"/>
            <a:ext cx="827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ot possible to set a type-specific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utri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tandard that is right for all water bodies in a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5800" y="3584520"/>
            <a:ext cx="82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will always be mismatch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5800" y="5033880"/>
            <a:ext cx="82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cale of the problem is different for different supporting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62040" y="706320"/>
            <a:ext cx="732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ral different options for setting standards for nutrients are being u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2040" y="3159000"/>
            <a:ext cx="732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lications for classification and management are differ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2040" y="5062680"/>
            <a:ext cx="732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ption used affects the confidence that a failure means an imp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344600" y="536400"/>
            <a:ext cx="88920" cy="5399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52360" y="1901880"/>
            <a:ext cx="2220840" cy="1568520"/>
            <a:chOff x="252360" y="1901880"/>
            <a:chExt cx="2220840" cy="1568520"/>
          </a:xfrm>
        </p:grpSpPr>
        <p:sp>
          <p:nvSpPr>
            <p:cNvPr id="339" name=""/>
            <p:cNvSpPr/>
            <p:nvPr/>
          </p:nvSpPr>
          <p:spPr>
            <a:xfrm>
              <a:off x="252360" y="1901880"/>
              <a:ext cx="2220840" cy="15685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7520" y="2271600"/>
              <a:ext cx="2089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st sensitive water body just goo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846840" y="1901880"/>
            <a:ext cx="2249640" cy="1568520"/>
            <a:chOff x="6846840" y="1901880"/>
            <a:chExt cx="2249640" cy="1568520"/>
          </a:xfrm>
        </p:grpSpPr>
        <p:sp>
          <p:nvSpPr>
            <p:cNvPr id="342" name=""/>
            <p:cNvSpPr/>
            <p:nvPr/>
          </p:nvSpPr>
          <p:spPr>
            <a:xfrm>
              <a:off x="6861240" y="1901880"/>
              <a:ext cx="2220840" cy="15685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46840" y="2295720"/>
              <a:ext cx="2249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east sensitive water body just goo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566640" y="3463920"/>
            <a:ext cx="8301240" cy="15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77800" y="3935520"/>
            <a:ext cx="40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ots of mismatches – very low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7800" y="5056200"/>
            <a:ext cx="37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ut will control risk of deterioration &amp; deliver rest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216320" y="536400"/>
            <a:ext cx="88920" cy="5399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43200" y="536400"/>
            <a:ext cx="4334040" cy="6063120"/>
            <a:chOff x="3643200" y="536400"/>
            <a:chExt cx="4334040" cy="6063120"/>
          </a:xfrm>
        </p:grpSpPr>
        <p:sp>
          <p:nvSpPr>
            <p:cNvPr id="349" name=""/>
            <p:cNvSpPr/>
            <p:nvPr/>
          </p:nvSpPr>
          <p:spPr>
            <a:xfrm>
              <a:off x="7888320" y="536400"/>
              <a:ext cx="88920" cy="5399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43200" y="3792600"/>
              <a:ext cx="418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Few mismatches – fairly high confide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16320" y="4799160"/>
              <a:ext cx="3613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Not useful for controlling risk of deterioration or as a restoration targe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52360" y="1901880"/>
            <a:ext cx="2220840" cy="1568520"/>
            <a:chOff x="252360" y="1901880"/>
            <a:chExt cx="2220840" cy="1568520"/>
          </a:xfrm>
        </p:grpSpPr>
        <p:sp>
          <p:nvSpPr>
            <p:cNvPr id="353" name=""/>
            <p:cNvSpPr/>
            <p:nvPr/>
          </p:nvSpPr>
          <p:spPr>
            <a:xfrm>
              <a:off x="252360" y="1901880"/>
              <a:ext cx="2220840" cy="15685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7520" y="2271600"/>
              <a:ext cx="2089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st sensitive water body just goo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846840" y="1901880"/>
            <a:ext cx="2249640" cy="1568520"/>
            <a:chOff x="6846840" y="1901880"/>
            <a:chExt cx="2249640" cy="1568520"/>
          </a:xfrm>
        </p:grpSpPr>
        <p:sp>
          <p:nvSpPr>
            <p:cNvPr id="356" name=""/>
            <p:cNvSpPr/>
            <p:nvPr/>
          </p:nvSpPr>
          <p:spPr>
            <a:xfrm>
              <a:off x="6861240" y="1901880"/>
              <a:ext cx="2220840" cy="15685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46840" y="2295720"/>
              <a:ext cx="2249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east sensitive water body just goo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566640" y="3463920"/>
            <a:ext cx="8301240" cy="15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1162080"/>
            <a:ext cx="9680400" cy="3336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6120" y="1219320"/>
            <a:ext cx="755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one thinks it is appropriate to take expensive measures without reasonably high confidence that there is truly a probl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360" y="5108400"/>
            <a:ext cx="884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is no requirement to fix things that are not bro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404640"/>
            <a:ext cx="4824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is always going to be uncertainty in classific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572000"/>
            <a:ext cx="48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is particularly the case for the first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573880" y="620640"/>
            <a:ext cx="1941120" cy="5779800"/>
            <a:chOff x="5573880" y="620640"/>
            <a:chExt cx="1941120" cy="5779800"/>
          </a:xfrm>
        </p:grpSpPr>
        <p:sp>
          <p:nvSpPr>
            <p:cNvPr id="46" name=""/>
            <p:cNvSpPr/>
            <p:nvPr/>
          </p:nvSpPr>
          <p:spPr>
            <a:xfrm flipV="1">
              <a:off x="6049440" y="620280"/>
              <a:ext cx="974520" cy="1180800"/>
            </a:xfrm>
            <a:custGeom>
              <a:avLst/>
              <a:gdLst>
                <a:gd name="textAreaLeft" fmla="*/ 349560 w 974520"/>
                <a:gd name="textAreaRight" fmla="*/ 624960 w 974520"/>
                <a:gd name="textAreaTop" fmla="*/ 423720 h 1180800"/>
                <a:gd name="textAreaBottom" fmla="*/ 757080 h 118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5573880" y="1801440"/>
              <a:ext cx="1941120" cy="1152720"/>
            </a:xfrm>
            <a:custGeom>
              <a:avLst/>
              <a:gdLst>
                <a:gd name="textAreaLeft" fmla="*/ 426600 w 1941120"/>
                <a:gd name="textAreaRight" fmla="*/ 1514520 w 1941120"/>
                <a:gd name="textAreaTop" fmla="*/ 253440 h 1152720"/>
                <a:gd name="textAreaBottom" fmla="*/ 8992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73880" y="2946240"/>
              <a:ext cx="1941120" cy="1152720"/>
            </a:xfrm>
            <a:custGeom>
              <a:avLst/>
              <a:gdLst>
                <a:gd name="textAreaLeft" fmla="*/ 426600 w 1941120"/>
                <a:gd name="textAreaRight" fmla="*/ 1514520 w 1941120"/>
                <a:gd name="textAreaTop" fmla="*/ 253440 h 1152720"/>
                <a:gd name="textAreaBottom" fmla="*/ 8992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49440" y="4098960"/>
              <a:ext cx="974520" cy="1152720"/>
            </a:xfrm>
            <a:custGeom>
              <a:avLst/>
              <a:gdLst>
                <a:gd name="textAreaLeft" fmla="*/ 288000 w 974520"/>
                <a:gd name="textAreaRight" fmla="*/ 686520 w 974520"/>
                <a:gd name="textAreaTop" fmla="*/ 340560 h 1152720"/>
                <a:gd name="textAreaBottom" fmla="*/ 81216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263" y="21600"/>
                  </a:lnTo>
                  <a:lnTo>
                    <a:pt x="8337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25640" y="5247720"/>
              <a:ext cx="219600" cy="1152720"/>
            </a:xfrm>
            <a:custGeom>
              <a:avLst/>
              <a:gdLst>
                <a:gd name="textAreaLeft" fmla="*/ 78840 w 219600"/>
                <a:gd name="textAreaRight" fmla="*/ 140760 w 219600"/>
                <a:gd name="textAreaTop" fmla="*/ 413640 h 1152720"/>
                <a:gd name="textAreaBottom" fmla="*/ 739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145120" y="2584440"/>
            <a:ext cx="2859120" cy="9572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04720" y="533520"/>
            <a:ext cx="8277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 the moment, the checking procedure does not solve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4720" y="3855960"/>
            <a:ext cx="8277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because it says revise the type-specific physicochemical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9160" y="163440"/>
            <a:ext cx="879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osal that the outcome of the checking procedure could also be to revise statu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91960" y="2530440"/>
            <a:ext cx="889020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.after checking confi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re is no evidence of biological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 upward trend in nutrient concent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 reason to expect delayed biological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72960" y="16812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is unlikely to be sufficient time and data to apply a checking procedure to all cases for the 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2960" y="3668760"/>
            <a:ext cx="8291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re are different approaches to the use of physicochemical results in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257040" y="196920"/>
            <a:ext cx="2820960" cy="1272960"/>
            <a:chOff x="257040" y="196920"/>
            <a:chExt cx="2820960" cy="1272960"/>
          </a:xfrm>
        </p:grpSpPr>
        <p:sp>
          <p:nvSpPr>
            <p:cNvPr id="369" name=""/>
            <p:cNvSpPr/>
            <p:nvPr/>
          </p:nvSpPr>
          <p:spPr>
            <a:xfrm>
              <a:off x="257040" y="196920"/>
              <a:ext cx="2820960" cy="1272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7040" y="284040"/>
              <a:ext cx="282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ne-out, all-out at face value + indicate ‘low’ confiden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224080" y="1882800"/>
            <a:ext cx="2820960" cy="1273320"/>
            <a:chOff x="2224080" y="1882800"/>
            <a:chExt cx="2820960" cy="1273320"/>
          </a:xfrm>
        </p:grpSpPr>
        <p:sp>
          <p:nvSpPr>
            <p:cNvPr id="372" name=""/>
            <p:cNvSpPr/>
            <p:nvPr/>
          </p:nvSpPr>
          <p:spPr>
            <a:xfrm>
              <a:off x="2224080" y="1882800"/>
              <a:ext cx="2820960" cy="1273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13000" y="1971720"/>
              <a:ext cx="2643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ne-out, all-out if high confidence standard fail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191120" y="3568680"/>
            <a:ext cx="2820960" cy="1273320"/>
            <a:chOff x="4191120" y="3568680"/>
            <a:chExt cx="2820960" cy="1273320"/>
          </a:xfrm>
        </p:grpSpPr>
        <p:sp>
          <p:nvSpPr>
            <p:cNvPr id="375" name=""/>
            <p:cNvSpPr/>
            <p:nvPr/>
          </p:nvSpPr>
          <p:spPr>
            <a:xfrm>
              <a:off x="4191120" y="3568680"/>
              <a:ext cx="2820960" cy="1273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0040" y="3656160"/>
              <a:ext cx="2643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combine physicochemical quality elemen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157800" y="5256360"/>
            <a:ext cx="2820960" cy="1272960"/>
            <a:chOff x="6157800" y="5256360"/>
            <a:chExt cx="2820960" cy="1272960"/>
          </a:xfrm>
        </p:grpSpPr>
        <p:sp>
          <p:nvSpPr>
            <p:cNvPr id="378" name=""/>
            <p:cNvSpPr/>
            <p:nvPr/>
          </p:nvSpPr>
          <p:spPr>
            <a:xfrm>
              <a:off x="6157800" y="5256360"/>
              <a:ext cx="2820960" cy="1272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46720" y="5678280"/>
              <a:ext cx="264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ot using at al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85760" y="3325680"/>
            <a:ext cx="9380520" cy="8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87920" y="403200"/>
            <a:ext cx="294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with the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7640" y="5241960"/>
            <a:ext cx="33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nsistent with the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01760" y="1206360"/>
            <a:ext cx="791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 States are classifying using different numbers of elements to assess the impact of the same pressure or combination of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1760" y="2952720"/>
            <a:ext cx="791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ill produce different overall results because of the effect of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2120" y="27936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-out, all-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01760" y="4543560"/>
            <a:ext cx="791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appropriate to consider whether some harmonisation is possible for 2015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1760" y="5591160"/>
            <a:ext cx="791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complicated because our monitoring tools and monitoring strategies ar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3013200"/>
            <a:ext cx="9491760" cy="269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760" y="401760"/>
            <a:ext cx="38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7920" y="32846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arency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8280" y="4465800"/>
            <a:ext cx="817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appropriate follow up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189000"/>
            <a:ext cx="755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 one thinks it is appropriate to take expensive measures without reasonably high confidence that there is truly a probl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-324000" y="4510080"/>
            <a:ext cx="10009080" cy="1942920"/>
            <a:chOff x="-324000" y="4510080"/>
            <a:chExt cx="10009080" cy="1942920"/>
          </a:xfrm>
        </p:grpSpPr>
        <p:sp>
          <p:nvSpPr>
            <p:cNvPr id="54" name=""/>
            <p:cNvSpPr/>
            <p:nvPr/>
          </p:nvSpPr>
          <p:spPr>
            <a:xfrm>
              <a:off x="-324000" y="4510080"/>
              <a:ext cx="10009080" cy="194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640" y="4825800"/>
              <a:ext cx="8064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t would be disproportionate to do so!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708360" y="3634920"/>
            <a:ext cx="1462320" cy="441000"/>
            <a:chOff x="3708360" y="3634920"/>
            <a:chExt cx="1462320" cy="441000"/>
          </a:xfrm>
        </p:grpSpPr>
        <p:sp>
          <p:nvSpPr>
            <p:cNvPr id="57" name=""/>
            <p:cNvSpPr/>
            <p:nvPr/>
          </p:nvSpPr>
          <p:spPr>
            <a:xfrm>
              <a:off x="3943800" y="3823920"/>
              <a:ext cx="991800" cy="46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40000">
              <a:off x="4935600" y="3641760"/>
              <a:ext cx="219960" cy="42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9" y="21440"/>
                  </a:moveTo>
                  <a:arcTo wR="10800" hR="10800" stAng="5992196" swAng="9317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9" y="21440"/>
                  </a:moveTo>
                  <a:arcTo wR="10800" hR="10800" stAng="5992196" swAng="931747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40000">
              <a:off x="4556160" y="3681360"/>
              <a:ext cx="312840" cy="3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45" y="20001"/>
                  </a:moveTo>
                  <a:arcTo wR="10800" hR="10800" stAng="7294636" swAng="6895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5145" y="20001"/>
                  </a:moveTo>
                  <a:arcTo wR="10800" hR="10800" stAng="7294636" swAng="689523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40000">
              <a:off x="4282560" y="3675240"/>
              <a:ext cx="319680" cy="34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39" y="20058"/>
                  </a:moveTo>
                  <a:arcTo wR="10800" hR="10800" stAng="7259494" swAng="69666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239" y="20058"/>
                  </a:moveTo>
                  <a:arcTo wR="10800" hR="10800" stAng="7259494" swAng="6966662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40000">
              <a:off x="4433760" y="3678480"/>
              <a:ext cx="312840" cy="34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57" y="20009"/>
                  </a:moveTo>
                  <a:arcTo wR="10800" hR="10800" stAng="7289984" swAng="6904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5157" y="20009"/>
                  </a:moveTo>
                  <a:arcTo wR="10800" hR="10800" stAng="7289984" swAng="690468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240000">
              <a:off x="4175280" y="3674880"/>
              <a:ext cx="314280" cy="3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21" y="19986"/>
                  </a:moveTo>
                  <a:arcTo wR="10800" hR="10800" stAng="7303626" swAng="6909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5121" y="19986"/>
                  </a:moveTo>
                  <a:arcTo wR="10800" hR="10800" stAng="7303626" swAng="690954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40000">
              <a:off x="4675320" y="3700800"/>
              <a:ext cx="314280" cy="34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07" y="19978"/>
                  </a:moveTo>
                  <a:arcTo wR="10800" hR="10800" stAng="7308543" swAng="6900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5107" y="19978"/>
                  </a:moveTo>
                  <a:arcTo wR="10800" hR="10800" stAng="7308543" swAng="690027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40000">
              <a:off x="4066200" y="3655080"/>
              <a:ext cx="312840" cy="3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58" y="20129"/>
                  </a:moveTo>
                  <a:arcTo wR="10800" hR="10800" stAng="7215386" swAng="7051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5358" y="20129"/>
                  </a:moveTo>
                  <a:arcTo wR="10800" hR="10800" stAng="7215386" swAng="705195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08360" y="3661200"/>
              <a:ext cx="285480" cy="29088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7" y="8"/>
                  </a:moveTo>
                  <a:lnTo>
                    <a:pt x="62" y="11"/>
                  </a:lnTo>
                  <a:lnTo>
                    <a:pt x="58" y="14"/>
                  </a:lnTo>
                  <a:lnTo>
                    <a:pt x="52" y="13"/>
                  </a:lnTo>
                  <a:lnTo>
                    <a:pt x="50" y="17"/>
                  </a:lnTo>
                  <a:lnTo>
                    <a:pt x="46" y="17"/>
                  </a:lnTo>
                  <a:lnTo>
                    <a:pt x="42" y="20"/>
                  </a:lnTo>
                  <a:lnTo>
                    <a:pt x="38" y="22"/>
                  </a:lnTo>
                  <a:lnTo>
                    <a:pt x="34" y="23"/>
                  </a:lnTo>
                  <a:lnTo>
                    <a:pt x="30" y="25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6" y="38"/>
                  </a:lnTo>
                  <a:lnTo>
                    <a:pt x="21" y="38"/>
                  </a:lnTo>
                  <a:lnTo>
                    <a:pt x="17" y="39"/>
                  </a:lnTo>
                  <a:lnTo>
                    <a:pt x="11" y="39"/>
                  </a:lnTo>
                  <a:lnTo>
                    <a:pt x="7" y="46"/>
                  </a:lnTo>
                  <a:lnTo>
                    <a:pt x="4" y="53"/>
                  </a:lnTo>
                  <a:lnTo>
                    <a:pt x="3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0" y="68"/>
                  </a:lnTo>
                  <a:lnTo>
                    <a:pt x="16" y="70"/>
                  </a:lnTo>
                  <a:lnTo>
                    <a:pt x="21" y="73"/>
                  </a:lnTo>
                  <a:lnTo>
                    <a:pt x="27" y="76"/>
                  </a:lnTo>
                  <a:lnTo>
                    <a:pt x="32" y="79"/>
                  </a:lnTo>
                  <a:lnTo>
                    <a:pt x="40" y="85"/>
                  </a:lnTo>
                  <a:lnTo>
                    <a:pt x="49" y="87"/>
                  </a:lnTo>
                  <a:lnTo>
                    <a:pt x="52" y="87"/>
                  </a:lnTo>
                  <a:lnTo>
                    <a:pt x="57" y="88"/>
                  </a:lnTo>
                  <a:lnTo>
                    <a:pt x="74" y="90"/>
                  </a:lnTo>
                  <a:lnTo>
                    <a:pt x="89" y="92"/>
                  </a:lnTo>
                  <a:lnTo>
                    <a:pt x="90" y="88"/>
                  </a:lnTo>
                  <a:lnTo>
                    <a:pt x="89" y="85"/>
                  </a:lnTo>
                  <a:lnTo>
                    <a:pt x="88" y="81"/>
                  </a:lnTo>
                  <a:lnTo>
                    <a:pt x="85" y="75"/>
                  </a:lnTo>
                  <a:lnTo>
                    <a:pt x="84" y="73"/>
                  </a:lnTo>
                  <a:lnTo>
                    <a:pt x="84" y="70"/>
                  </a:lnTo>
                  <a:lnTo>
                    <a:pt x="82" y="63"/>
                  </a:lnTo>
                  <a:lnTo>
                    <a:pt x="80" y="61"/>
                  </a:lnTo>
                  <a:lnTo>
                    <a:pt x="80" y="57"/>
                  </a:lnTo>
                  <a:lnTo>
                    <a:pt x="80" y="51"/>
                  </a:lnTo>
                  <a:lnTo>
                    <a:pt x="80" y="43"/>
                  </a:lnTo>
                  <a:lnTo>
                    <a:pt x="79" y="33"/>
                  </a:lnTo>
                  <a:lnTo>
                    <a:pt x="84" y="31"/>
                  </a:lnTo>
                  <a:lnTo>
                    <a:pt x="87" y="28"/>
                  </a:lnTo>
                  <a:lnTo>
                    <a:pt x="87" y="25"/>
                  </a:lnTo>
                  <a:lnTo>
                    <a:pt x="87" y="22"/>
                  </a:lnTo>
                  <a:lnTo>
                    <a:pt x="87" y="18"/>
                  </a:lnTo>
                  <a:lnTo>
                    <a:pt x="87" y="15"/>
                  </a:lnTo>
                  <a:lnTo>
                    <a:pt x="89" y="13"/>
                  </a:lnTo>
                  <a:lnTo>
                    <a:pt x="89" y="9"/>
                  </a:lnTo>
                  <a:lnTo>
                    <a:pt x="90" y="6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4"/>
                  </a:lnTo>
                  <a:lnTo>
                    <a:pt x="73" y="7"/>
                  </a:lnTo>
                  <a:lnTo>
                    <a:pt x="71" y="10"/>
                  </a:lnTo>
                  <a:lnTo>
                    <a:pt x="67" y="8"/>
                  </a:lnTo>
                  <a:lnTo>
                    <a:pt x="67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63480" y="949320"/>
            <a:ext cx="772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fidence is being estimated using statistical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480" y="41022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assessing the weight of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5280" y="287496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6720" y="3160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l agree results that are very obviously wrong can be discarde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720" y="3808440"/>
            <a:ext cx="784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This is a small part of the proble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89000" y="1847880"/>
            <a:ext cx="4513320" cy="2016000"/>
            <a:chOff x="189000" y="1847880"/>
            <a:chExt cx="4513320" cy="2016000"/>
          </a:xfrm>
        </p:grpSpPr>
        <p:sp>
          <p:nvSpPr>
            <p:cNvPr id="72" name=""/>
            <p:cNvSpPr/>
            <p:nvPr/>
          </p:nvSpPr>
          <p:spPr>
            <a:xfrm>
              <a:off x="223920" y="1847880"/>
              <a:ext cx="4444920" cy="2016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9000" y="2138400"/>
              <a:ext cx="4513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efore classific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.so only high confidence failures are record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89000" y="1206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There are proposals to take confidence into account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583160" y="4205160"/>
            <a:ext cx="4444920" cy="2016000"/>
            <a:chOff x="4583160" y="4205160"/>
            <a:chExt cx="4444920" cy="2016000"/>
          </a:xfrm>
        </p:grpSpPr>
        <p:sp>
          <p:nvSpPr>
            <p:cNvPr id="76" name=""/>
            <p:cNvSpPr/>
            <p:nvPr/>
          </p:nvSpPr>
          <p:spPr>
            <a:xfrm>
              <a:off x="4583160" y="4205160"/>
              <a:ext cx="4444920" cy="2016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0800" y="4436640"/>
              <a:ext cx="4411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fter classific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 all face value failures are record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402000" y="3300480"/>
            <a:ext cx="2674800" cy="1239840"/>
            <a:chOff x="3402000" y="3300480"/>
            <a:chExt cx="2674800" cy="1239840"/>
          </a:xfrm>
        </p:grpSpPr>
        <p:sp>
          <p:nvSpPr>
            <p:cNvPr id="79" name=""/>
            <p:cNvSpPr/>
            <p:nvPr/>
          </p:nvSpPr>
          <p:spPr>
            <a:xfrm>
              <a:off x="3402000" y="3300480"/>
              <a:ext cx="2674800" cy="1239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02000" y="3387600"/>
              <a:ext cx="267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nd a bit of bo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477720" y="3941640"/>
            <a:ext cx="9375480" cy="1617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231840" y="1212840"/>
            <a:ext cx="9375840" cy="161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9200" y="1312920"/>
            <a:ext cx="827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ided the confidence is linked to the follow up action…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00" y="4148280"/>
            <a:ext cx="78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principally a presentational 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85000" y="565956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7378560" y="636480"/>
            <a:ext cx="1441440" cy="5528880"/>
            <a:chOff x="7378560" y="636480"/>
            <a:chExt cx="1441440" cy="5528880"/>
          </a:xfrm>
        </p:grpSpPr>
        <p:sp>
          <p:nvSpPr>
            <p:cNvPr id="87" name=""/>
            <p:cNvSpPr/>
            <p:nvPr/>
          </p:nvSpPr>
          <p:spPr>
            <a:xfrm>
              <a:off x="7378560" y="636480"/>
              <a:ext cx="1441440" cy="10951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78560" y="1745280"/>
              <a:ext cx="1441440" cy="1095120"/>
            </a:xfrm>
            <a:prstGeom prst="rect">
              <a:avLst/>
            </a:prstGeom>
            <a:solidFill>
              <a:srgbClr val="00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78560" y="2854440"/>
              <a:ext cx="1441440" cy="10929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78560" y="3961800"/>
              <a:ext cx="1441440" cy="10947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78560" y="5070600"/>
              <a:ext cx="1441440" cy="10947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778880" y="2199600"/>
            <a:ext cx="738000" cy="223200"/>
            <a:chOff x="7778880" y="2199600"/>
            <a:chExt cx="738000" cy="223200"/>
          </a:xfrm>
        </p:grpSpPr>
        <p:sp>
          <p:nvSpPr>
            <p:cNvPr id="93" name=""/>
            <p:cNvSpPr/>
            <p:nvPr/>
          </p:nvSpPr>
          <p:spPr>
            <a:xfrm>
              <a:off x="7897680" y="2295720"/>
              <a:ext cx="501120" cy="23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40000">
              <a:off x="8398800" y="2202840"/>
              <a:ext cx="110520" cy="21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9" y="21440"/>
                  </a:moveTo>
                  <a:arcTo wR="10800" hR="10800" stAng="5992196" swAng="9317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9" y="21440"/>
                  </a:moveTo>
                  <a:arcTo wR="10800" hR="10800" stAng="5992196" swAng="9317479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40000">
              <a:off x="8206920" y="2223360"/>
              <a:ext cx="157320" cy="1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45" y="20001"/>
                  </a:moveTo>
                  <a:arcTo wR="10800" hR="10800" stAng="7294636" swAng="6895237"/>
                  <a:lnTo>
                    <a:pt x="10800" y="10800"/>
                  </a:lnTo>
                  <a:close/>
                </a:path>
                <a:path fill="none" w="21600" h="21600">
                  <a:moveTo>
                    <a:pt x="5145" y="20001"/>
                  </a:moveTo>
                  <a:arcTo wR="10800" hR="10800" stAng="7294636" swAng="689523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40000">
              <a:off x="8069040" y="2220480"/>
              <a:ext cx="160920" cy="17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239" y="20058"/>
                  </a:moveTo>
                  <a:arcTo wR="10800" hR="10800" stAng="7259494" swAng="6966662"/>
                  <a:lnTo>
                    <a:pt x="10800" y="10800"/>
                  </a:lnTo>
                  <a:close/>
                </a:path>
                <a:path fill="none" w="21600" h="21600">
                  <a:moveTo>
                    <a:pt x="5239" y="20058"/>
                  </a:moveTo>
                  <a:arcTo wR="10800" hR="10800" stAng="7259494" swAng="6966662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40000">
              <a:off x="8145360" y="2221920"/>
              <a:ext cx="157320" cy="17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57" y="20009"/>
                  </a:moveTo>
                  <a:arcTo wR="10800" hR="10800" stAng="7289984" swAng="6904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5157" y="20009"/>
                  </a:moveTo>
                  <a:arcTo wR="10800" hR="10800" stAng="7289984" swAng="690468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40000">
              <a:off x="8015040" y="2220120"/>
              <a:ext cx="158040" cy="17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21" y="19986"/>
                  </a:moveTo>
                  <a:arcTo wR="10800" hR="10800" stAng="7303626" swAng="6909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5121" y="19986"/>
                  </a:moveTo>
                  <a:arcTo wR="10800" hR="10800" stAng="7303626" swAng="690954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40000">
              <a:off x="8267400" y="2233080"/>
              <a:ext cx="158040" cy="17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07" y="19978"/>
                  </a:moveTo>
                  <a:arcTo wR="10800" hR="10800" stAng="7308543" swAng="6900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5107" y="19978"/>
                  </a:moveTo>
                  <a:arcTo wR="10800" hR="10800" stAng="7308543" swAng="690027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40000">
              <a:off x="7959600" y="2210040"/>
              <a:ext cx="157320" cy="1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58" y="20129"/>
                  </a:moveTo>
                  <a:arcTo wR="10800" hR="10800" stAng="7215386" swAng="7051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5358" y="20129"/>
                  </a:moveTo>
                  <a:arcTo wR="10800" hR="10800" stAng="7215386" swAng="7051958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8880" y="2213280"/>
              <a:ext cx="144000" cy="1476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67" y="8"/>
                  </a:moveTo>
                  <a:lnTo>
                    <a:pt x="62" y="11"/>
                  </a:lnTo>
                  <a:lnTo>
                    <a:pt x="58" y="14"/>
                  </a:lnTo>
                  <a:lnTo>
                    <a:pt x="52" y="13"/>
                  </a:lnTo>
                  <a:lnTo>
                    <a:pt x="50" y="17"/>
                  </a:lnTo>
                  <a:lnTo>
                    <a:pt x="46" y="17"/>
                  </a:lnTo>
                  <a:lnTo>
                    <a:pt x="42" y="20"/>
                  </a:lnTo>
                  <a:lnTo>
                    <a:pt x="38" y="22"/>
                  </a:lnTo>
                  <a:lnTo>
                    <a:pt x="34" y="23"/>
                  </a:lnTo>
                  <a:lnTo>
                    <a:pt x="30" y="25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6" y="38"/>
                  </a:lnTo>
                  <a:lnTo>
                    <a:pt x="21" y="38"/>
                  </a:lnTo>
                  <a:lnTo>
                    <a:pt x="17" y="39"/>
                  </a:lnTo>
                  <a:lnTo>
                    <a:pt x="11" y="39"/>
                  </a:lnTo>
                  <a:lnTo>
                    <a:pt x="7" y="46"/>
                  </a:lnTo>
                  <a:lnTo>
                    <a:pt x="4" y="53"/>
                  </a:lnTo>
                  <a:lnTo>
                    <a:pt x="3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0" y="68"/>
                  </a:lnTo>
                  <a:lnTo>
                    <a:pt x="16" y="70"/>
                  </a:lnTo>
                  <a:lnTo>
                    <a:pt x="21" y="73"/>
                  </a:lnTo>
                  <a:lnTo>
                    <a:pt x="27" y="76"/>
                  </a:lnTo>
                  <a:lnTo>
                    <a:pt x="32" y="79"/>
                  </a:lnTo>
                  <a:lnTo>
                    <a:pt x="40" y="85"/>
                  </a:lnTo>
                  <a:lnTo>
                    <a:pt x="49" y="87"/>
                  </a:lnTo>
                  <a:lnTo>
                    <a:pt x="52" y="87"/>
                  </a:lnTo>
                  <a:lnTo>
                    <a:pt x="57" y="88"/>
                  </a:lnTo>
                  <a:lnTo>
                    <a:pt x="74" y="90"/>
                  </a:lnTo>
                  <a:lnTo>
                    <a:pt x="89" y="92"/>
                  </a:lnTo>
                  <a:lnTo>
                    <a:pt x="90" y="88"/>
                  </a:lnTo>
                  <a:lnTo>
                    <a:pt x="89" y="85"/>
                  </a:lnTo>
                  <a:lnTo>
                    <a:pt x="88" y="81"/>
                  </a:lnTo>
                  <a:lnTo>
                    <a:pt x="85" y="75"/>
                  </a:lnTo>
                  <a:lnTo>
                    <a:pt x="84" y="73"/>
                  </a:lnTo>
                  <a:lnTo>
                    <a:pt x="84" y="70"/>
                  </a:lnTo>
                  <a:lnTo>
                    <a:pt x="82" y="63"/>
                  </a:lnTo>
                  <a:lnTo>
                    <a:pt x="80" y="61"/>
                  </a:lnTo>
                  <a:lnTo>
                    <a:pt x="80" y="57"/>
                  </a:lnTo>
                  <a:lnTo>
                    <a:pt x="80" y="51"/>
                  </a:lnTo>
                  <a:lnTo>
                    <a:pt x="80" y="43"/>
                  </a:lnTo>
                  <a:lnTo>
                    <a:pt x="79" y="33"/>
                  </a:lnTo>
                  <a:lnTo>
                    <a:pt x="84" y="31"/>
                  </a:lnTo>
                  <a:lnTo>
                    <a:pt x="87" y="28"/>
                  </a:lnTo>
                  <a:lnTo>
                    <a:pt x="87" y="25"/>
                  </a:lnTo>
                  <a:lnTo>
                    <a:pt x="87" y="22"/>
                  </a:lnTo>
                  <a:lnTo>
                    <a:pt x="87" y="18"/>
                  </a:lnTo>
                  <a:lnTo>
                    <a:pt x="87" y="15"/>
                  </a:lnTo>
                  <a:lnTo>
                    <a:pt x="89" y="13"/>
                  </a:lnTo>
                  <a:lnTo>
                    <a:pt x="89" y="9"/>
                  </a:lnTo>
                  <a:lnTo>
                    <a:pt x="90" y="6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6" y="4"/>
                  </a:lnTo>
                  <a:lnTo>
                    <a:pt x="73" y="7"/>
                  </a:lnTo>
                  <a:lnTo>
                    <a:pt x="71" y="10"/>
                  </a:lnTo>
                  <a:lnTo>
                    <a:pt x="67" y="8"/>
                  </a:lnTo>
                  <a:lnTo>
                    <a:pt x="67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981920" y="5229360"/>
            <a:ext cx="268200" cy="494640"/>
            <a:chOff x="7981920" y="5229360"/>
            <a:chExt cx="268200" cy="494640"/>
          </a:xfrm>
        </p:grpSpPr>
        <p:sp>
          <p:nvSpPr>
            <p:cNvPr id="103" name=""/>
            <p:cNvSpPr/>
            <p:nvPr/>
          </p:nvSpPr>
          <p:spPr>
            <a:xfrm>
              <a:off x="8026560" y="5395680"/>
              <a:ext cx="158760" cy="3283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5000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53560" y="5446440"/>
              <a:ext cx="109440" cy="24084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50400" y="5500440"/>
              <a:ext cx="99720" cy="10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96120" y="5535360"/>
              <a:ext cx="42840" cy="34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81920" y="5500440"/>
              <a:ext cx="100080" cy="10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83720" y="5535360"/>
              <a:ext cx="42840" cy="34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8086320" y="5229360"/>
              <a:ext cx="20520" cy="1742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61200" y="5632200"/>
              <a:ext cx="57240" cy="457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94600" y="5621040"/>
              <a:ext cx="3024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995960" y="5643360"/>
              <a:ext cx="57240" cy="457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486560" y="777960"/>
            <a:ext cx="1294560" cy="697320"/>
            <a:chOff x="7486560" y="777960"/>
            <a:chExt cx="1294560" cy="697320"/>
          </a:xfrm>
        </p:grpSpPr>
        <p:sp>
          <p:nvSpPr>
            <p:cNvPr id="114" name=""/>
            <p:cNvSpPr/>
            <p:nvPr/>
          </p:nvSpPr>
          <p:spPr>
            <a:xfrm>
              <a:off x="7583400" y="1038240"/>
              <a:ext cx="668520" cy="2365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460000">
              <a:off x="8367480" y="809280"/>
              <a:ext cx="284040" cy="501480"/>
            </a:xfrm>
            <a:prstGeom prst="rtTriangle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30920" y="1033560"/>
              <a:ext cx="81000" cy="91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 rot="17280000">
              <a:off x="7805520" y="1176120"/>
              <a:ext cx="230400" cy="288720"/>
            </a:xfrm>
            <a:custGeom>
              <a:avLst/>
              <a:gdLst>
                <a:gd name="textAreaLeft" fmla="*/ 50400 w 230400"/>
                <a:gd name="textAreaRight" fmla="*/ 180000 w 230400"/>
                <a:gd name="textAreaTop" fmla="*/ 63360 h 288720"/>
                <a:gd name="textAreaBottom" fmla="*/ 22536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3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360000">
              <a:off x="7887960" y="932040"/>
              <a:ext cx="345960" cy="120600"/>
            </a:xfrm>
            <a:prstGeom prst="parallelogram">
              <a:avLst>
                <a:gd name="adj" fmla="val 71703"/>
              </a:avLst>
            </a:prstGeom>
            <a:gradFill rotWithShape="0">
              <a:gsLst>
                <a:gs pos="0">
                  <a:srgbClr val="ff003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23000" y="1057320"/>
              <a:ext cx="33480" cy="28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7486560" y="1111680"/>
              <a:ext cx="2379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3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3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507440" y="4271400"/>
            <a:ext cx="1235880" cy="560160"/>
            <a:chOff x="7507440" y="4271400"/>
            <a:chExt cx="1235880" cy="560160"/>
          </a:xfrm>
        </p:grpSpPr>
        <p:sp>
          <p:nvSpPr>
            <p:cNvPr id="122" name=""/>
            <p:cNvSpPr/>
            <p:nvPr/>
          </p:nvSpPr>
          <p:spPr>
            <a:xfrm rot="1080000">
              <a:off x="7527600" y="4368600"/>
              <a:ext cx="668160" cy="237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3540000">
              <a:off x="8311680" y="4329000"/>
              <a:ext cx="285840" cy="501480"/>
            </a:xfrm>
            <a:prstGeom prst="rtTriangle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">
              <a:off x="7612200" y="4292640"/>
              <a:ext cx="810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 rot="18360000">
              <a:off x="7752600" y="4474440"/>
              <a:ext cx="180720" cy="330120"/>
            </a:xfrm>
            <a:custGeom>
              <a:avLst/>
              <a:gdLst>
                <a:gd name="textAreaLeft" fmla="*/ 39600 w 180720"/>
                <a:gd name="textAreaRight" fmla="*/ 141120 w 180720"/>
                <a:gd name="textAreaTop" fmla="*/ 72360 h 330120"/>
                <a:gd name="textAreaBottom" fmla="*/ 25776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3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440000">
              <a:off x="7867440" y="4361040"/>
              <a:ext cx="371520" cy="81000"/>
            </a:xfrm>
            <a:prstGeom prst="parallelogram">
              <a:avLst>
                <a:gd name="adj" fmla="val 114645"/>
              </a:avLst>
            </a:prstGeom>
            <a:gradFill rotWithShape="0">
              <a:gsLst>
                <a:gs pos="0">
                  <a:srgbClr val="ff003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">
              <a:off x="7621560" y="4319640"/>
              <a:ext cx="3492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40560" y="4408560"/>
              <a:ext cx="117720" cy="61920"/>
            </a:xfrm>
            <a:custGeom>
              <a:avLst/>
              <a:gdLst/>
              <a:ahLst/>
              <a:rect l="l" t="t" r="r" b="b"/>
              <a:pathLst>
                <a:path w="74" h="39">
                  <a:moveTo>
                    <a:pt x="0" y="0"/>
                  </a:moveTo>
                  <a:lnTo>
                    <a:pt x="5" y="2"/>
                  </a:lnTo>
                  <a:lnTo>
                    <a:pt x="14" y="2"/>
                  </a:lnTo>
                  <a:lnTo>
                    <a:pt x="20" y="4"/>
                  </a:lnTo>
                  <a:lnTo>
                    <a:pt x="24" y="8"/>
                  </a:lnTo>
                  <a:lnTo>
                    <a:pt x="26" y="17"/>
                  </a:lnTo>
                  <a:lnTo>
                    <a:pt x="30" y="19"/>
                  </a:lnTo>
                  <a:lnTo>
                    <a:pt x="42" y="22"/>
                  </a:lnTo>
                  <a:lnTo>
                    <a:pt x="48" y="24"/>
                  </a:lnTo>
                  <a:lnTo>
                    <a:pt x="52" y="23"/>
                  </a:lnTo>
                  <a:lnTo>
                    <a:pt x="59" y="19"/>
                  </a:lnTo>
                  <a:lnTo>
                    <a:pt x="62" y="21"/>
                  </a:lnTo>
                  <a:lnTo>
                    <a:pt x="67" y="22"/>
                  </a:lnTo>
                  <a:lnTo>
                    <a:pt x="69" y="29"/>
                  </a:lnTo>
                  <a:lnTo>
                    <a:pt x="73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658640" y="3162960"/>
            <a:ext cx="902520" cy="606960"/>
            <a:chOff x="7658640" y="3162960"/>
            <a:chExt cx="902520" cy="606960"/>
          </a:xfrm>
        </p:grpSpPr>
        <p:grpSp>
          <p:nvGrpSpPr>
            <p:cNvPr id="130" name=""/>
            <p:cNvGrpSpPr/>
            <p:nvPr/>
          </p:nvGrpSpPr>
          <p:grpSpPr>
            <a:xfrm>
              <a:off x="7850880" y="3162960"/>
              <a:ext cx="710280" cy="488880"/>
              <a:chOff x="7850880" y="3162960"/>
              <a:chExt cx="710280" cy="488880"/>
            </a:xfrm>
          </p:grpSpPr>
          <p:sp>
            <p:nvSpPr>
              <p:cNvPr id="131" name=""/>
              <p:cNvSpPr/>
              <p:nvPr/>
            </p:nvSpPr>
            <p:spPr>
              <a:xfrm flipH="1" rot="20273400">
                <a:off x="7874640" y="3277800"/>
                <a:ext cx="661680" cy="258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292800">
                <a:off x="8234280" y="3447000"/>
                <a:ext cx="151200" cy="149760"/>
              </a:xfrm>
              <a:custGeom>
                <a:avLst/>
                <a:gdLst>
                  <a:gd name="textAreaLeft" fmla="*/ 33120 w 151200"/>
                  <a:gd name="textAreaRight" fmla="*/ 118080 w 151200"/>
                  <a:gd name="textAreaTop" fmla="*/ 32760 h 149760"/>
                  <a:gd name="textAreaBottom" fmla="*/ 117000 h 14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00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20273400">
                <a:off x="8341200" y="3190320"/>
                <a:ext cx="98280" cy="105840"/>
              </a:xfrm>
              <a:prstGeom prst="ellipse">
                <a:avLst/>
              </a:prstGeom>
              <a:solidFill>
                <a:srgbClr val="ff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20273400">
                <a:off x="8408520" y="3242880"/>
                <a:ext cx="3996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rot="20273400">
                <a:off x="8382240" y="3303360"/>
                <a:ext cx="151200" cy="63720"/>
              </a:xfrm>
              <a:custGeom>
                <a:avLst/>
                <a:gdLst/>
                <a:ahLst/>
                <a:rect l="l" t="t" r="r" b="b"/>
                <a:pathLst>
                  <a:path w="83" h="35">
                    <a:moveTo>
                      <a:pt x="0" y="0"/>
                    </a:moveTo>
                    <a:lnTo>
                      <a:pt x="8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32" y="4"/>
                    </a:lnTo>
                    <a:lnTo>
                      <a:pt x="38" y="8"/>
                    </a:lnTo>
                    <a:lnTo>
                      <a:pt x="44" y="10"/>
                    </a:lnTo>
                    <a:lnTo>
                      <a:pt x="48" y="16"/>
                    </a:lnTo>
                    <a:lnTo>
                      <a:pt x="54" y="18"/>
                    </a:lnTo>
                    <a:lnTo>
                      <a:pt x="58" y="24"/>
                    </a:lnTo>
                    <a:lnTo>
                      <a:pt x="64" y="28"/>
                    </a:lnTo>
                    <a:lnTo>
                      <a:pt x="70" y="30"/>
                    </a:lnTo>
                    <a:lnTo>
                      <a:pt x="76" y="34"/>
                    </a:lnTo>
                    <a:lnTo>
                      <a:pt x="82" y="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flipH="1" rot="20273400">
              <a:off x="7899840" y="3228480"/>
              <a:ext cx="297000" cy="136800"/>
            </a:xfrm>
            <a:custGeom>
              <a:avLst/>
              <a:gdLst/>
              <a:ahLst/>
              <a:rect l="l" t="t" r="r" b="b"/>
              <a:pathLst>
                <a:path w="163" h="75">
                  <a:moveTo>
                    <a:pt x="0" y="63"/>
                  </a:moveTo>
                  <a:lnTo>
                    <a:pt x="10" y="58"/>
                  </a:lnTo>
                  <a:lnTo>
                    <a:pt x="18" y="52"/>
                  </a:lnTo>
                  <a:lnTo>
                    <a:pt x="25" y="52"/>
                  </a:lnTo>
                  <a:lnTo>
                    <a:pt x="33" y="52"/>
                  </a:lnTo>
                  <a:lnTo>
                    <a:pt x="41" y="52"/>
                  </a:lnTo>
                  <a:lnTo>
                    <a:pt x="48" y="52"/>
                  </a:lnTo>
                  <a:lnTo>
                    <a:pt x="56" y="52"/>
                  </a:lnTo>
                  <a:lnTo>
                    <a:pt x="64" y="52"/>
                  </a:lnTo>
                  <a:lnTo>
                    <a:pt x="72" y="52"/>
                  </a:lnTo>
                  <a:lnTo>
                    <a:pt x="79" y="58"/>
                  </a:lnTo>
                  <a:lnTo>
                    <a:pt x="87" y="63"/>
                  </a:lnTo>
                  <a:lnTo>
                    <a:pt x="95" y="68"/>
                  </a:lnTo>
                  <a:lnTo>
                    <a:pt x="102" y="68"/>
                  </a:lnTo>
                  <a:lnTo>
                    <a:pt x="110" y="74"/>
                  </a:lnTo>
                  <a:lnTo>
                    <a:pt x="118" y="74"/>
                  </a:lnTo>
                  <a:lnTo>
                    <a:pt x="120" y="58"/>
                  </a:lnTo>
                  <a:lnTo>
                    <a:pt x="126" y="42"/>
                  </a:lnTo>
                  <a:lnTo>
                    <a:pt x="136" y="37"/>
                  </a:lnTo>
                  <a:lnTo>
                    <a:pt x="146" y="31"/>
                  </a:lnTo>
                  <a:lnTo>
                    <a:pt x="154" y="31"/>
                  </a:lnTo>
                  <a:lnTo>
                    <a:pt x="162" y="31"/>
                  </a:lnTo>
                  <a:lnTo>
                    <a:pt x="154" y="26"/>
                  </a:lnTo>
                  <a:lnTo>
                    <a:pt x="146" y="26"/>
                  </a:lnTo>
                  <a:lnTo>
                    <a:pt x="146" y="10"/>
                  </a:lnTo>
                  <a:lnTo>
                    <a:pt x="138" y="15"/>
                  </a:lnTo>
                  <a:lnTo>
                    <a:pt x="133" y="31"/>
                  </a:lnTo>
                  <a:lnTo>
                    <a:pt x="126" y="15"/>
                  </a:lnTo>
                  <a:lnTo>
                    <a:pt x="120" y="0"/>
                  </a:lnTo>
                  <a:lnTo>
                    <a:pt x="113" y="15"/>
                  </a:lnTo>
                  <a:lnTo>
                    <a:pt x="108" y="31"/>
                  </a:lnTo>
                  <a:lnTo>
                    <a:pt x="100" y="42"/>
                  </a:lnTo>
                  <a:lnTo>
                    <a:pt x="95" y="26"/>
                  </a:lnTo>
                  <a:lnTo>
                    <a:pt x="87" y="31"/>
                  </a:lnTo>
                  <a:lnTo>
                    <a:pt x="79" y="37"/>
                  </a:lnTo>
                  <a:lnTo>
                    <a:pt x="72" y="26"/>
                  </a:lnTo>
                  <a:lnTo>
                    <a:pt x="64" y="15"/>
                  </a:lnTo>
                  <a:lnTo>
                    <a:pt x="56" y="10"/>
                  </a:lnTo>
                  <a:lnTo>
                    <a:pt x="54" y="26"/>
                  </a:lnTo>
                  <a:lnTo>
                    <a:pt x="46" y="37"/>
                  </a:lnTo>
                  <a:lnTo>
                    <a:pt x="38" y="37"/>
                  </a:lnTo>
                  <a:lnTo>
                    <a:pt x="30" y="21"/>
                  </a:lnTo>
                  <a:lnTo>
                    <a:pt x="23" y="21"/>
                  </a:lnTo>
                  <a:lnTo>
                    <a:pt x="15" y="31"/>
                  </a:lnTo>
                  <a:lnTo>
                    <a:pt x="7" y="42"/>
                  </a:lnTo>
                  <a:lnTo>
                    <a:pt x="0" y="63"/>
                  </a:lnTo>
                  <a:lnTo>
                    <a:pt x="0" y="63"/>
                  </a:lnTo>
                </a:path>
              </a:pathLst>
            </a:custGeom>
            <a:solidFill>
              <a:srgbClr val="00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20273400">
              <a:off x="7716240" y="3396600"/>
              <a:ext cx="206280" cy="347040"/>
            </a:xfrm>
            <a:custGeom>
              <a:avLst/>
              <a:gdLst/>
              <a:ahLst/>
              <a:rect l="l" t="t" r="r" b="b"/>
              <a:pathLst>
                <a:path w="113" h="190">
                  <a:moveTo>
                    <a:pt x="16" y="60"/>
                  </a:moveTo>
                  <a:lnTo>
                    <a:pt x="25" y="50"/>
                  </a:lnTo>
                  <a:lnTo>
                    <a:pt x="29" y="45"/>
                  </a:lnTo>
                  <a:lnTo>
                    <a:pt x="34" y="41"/>
                  </a:lnTo>
                  <a:lnTo>
                    <a:pt x="40" y="37"/>
                  </a:lnTo>
                  <a:lnTo>
                    <a:pt x="45" y="33"/>
                  </a:lnTo>
                  <a:lnTo>
                    <a:pt x="49" y="27"/>
                  </a:lnTo>
                  <a:lnTo>
                    <a:pt x="57" y="24"/>
                  </a:lnTo>
                  <a:lnTo>
                    <a:pt x="62" y="20"/>
                  </a:lnTo>
                  <a:lnTo>
                    <a:pt x="71" y="15"/>
                  </a:lnTo>
                  <a:lnTo>
                    <a:pt x="80" y="11"/>
                  </a:lnTo>
                  <a:lnTo>
                    <a:pt x="88" y="3"/>
                  </a:lnTo>
                  <a:lnTo>
                    <a:pt x="95" y="0"/>
                  </a:lnTo>
                  <a:lnTo>
                    <a:pt x="100" y="6"/>
                  </a:lnTo>
                  <a:lnTo>
                    <a:pt x="106" y="10"/>
                  </a:lnTo>
                  <a:lnTo>
                    <a:pt x="105" y="17"/>
                  </a:lnTo>
                  <a:lnTo>
                    <a:pt x="101" y="22"/>
                  </a:lnTo>
                  <a:lnTo>
                    <a:pt x="105" y="30"/>
                  </a:lnTo>
                  <a:lnTo>
                    <a:pt x="106" y="38"/>
                  </a:lnTo>
                  <a:lnTo>
                    <a:pt x="100" y="42"/>
                  </a:lnTo>
                  <a:lnTo>
                    <a:pt x="103" y="52"/>
                  </a:lnTo>
                  <a:lnTo>
                    <a:pt x="107" y="57"/>
                  </a:lnTo>
                  <a:lnTo>
                    <a:pt x="111" y="65"/>
                  </a:lnTo>
                  <a:lnTo>
                    <a:pt x="112" y="73"/>
                  </a:lnTo>
                  <a:lnTo>
                    <a:pt x="112" y="81"/>
                  </a:lnTo>
                  <a:lnTo>
                    <a:pt x="107" y="85"/>
                  </a:lnTo>
                  <a:lnTo>
                    <a:pt x="98" y="90"/>
                  </a:lnTo>
                  <a:lnTo>
                    <a:pt x="90" y="93"/>
                  </a:lnTo>
                  <a:lnTo>
                    <a:pt x="83" y="96"/>
                  </a:lnTo>
                  <a:lnTo>
                    <a:pt x="79" y="101"/>
                  </a:lnTo>
                  <a:lnTo>
                    <a:pt x="73" y="105"/>
                  </a:lnTo>
                  <a:lnTo>
                    <a:pt x="68" y="109"/>
                  </a:lnTo>
                  <a:lnTo>
                    <a:pt x="62" y="113"/>
                  </a:lnTo>
                  <a:lnTo>
                    <a:pt x="58" y="121"/>
                  </a:lnTo>
                  <a:lnTo>
                    <a:pt x="54" y="126"/>
                  </a:lnTo>
                  <a:lnTo>
                    <a:pt x="50" y="132"/>
                  </a:lnTo>
                  <a:lnTo>
                    <a:pt x="47" y="137"/>
                  </a:lnTo>
                  <a:lnTo>
                    <a:pt x="43" y="143"/>
                  </a:lnTo>
                  <a:lnTo>
                    <a:pt x="38" y="147"/>
                  </a:lnTo>
                  <a:lnTo>
                    <a:pt x="34" y="152"/>
                  </a:lnTo>
                  <a:lnTo>
                    <a:pt x="31" y="158"/>
                  </a:lnTo>
                  <a:lnTo>
                    <a:pt x="27" y="163"/>
                  </a:lnTo>
                  <a:lnTo>
                    <a:pt x="24" y="169"/>
                  </a:lnTo>
                  <a:lnTo>
                    <a:pt x="22" y="175"/>
                  </a:lnTo>
                  <a:lnTo>
                    <a:pt x="21" y="182"/>
                  </a:lnTo>
                  <a:lnTo>
                    <a:pt x="19" y="189"/>
                  </a:lnTo>
                  <a:lnTo>
                    <a:pt x="14" y="183"/>
                  </a:lnTo>
                  <a:lnTo>
                    <a:pt x="10" y="176"/>
                  </a:lnTo>
                  <a:lnTo>
                    <a:pt x="8" y="166"/>
                  </a:lnTo>
                  <a:lnTo>
                    <a:pt x="4" y="159"/>
                  </a:lnTo>
                  <a:lnTo>
                    <a:pt x="4" y="150"/>
                  </a:lnTo>
                  <a:lnTo>
                    <a:pt x="0" y="143"/>
                  </a:lnTo>
                  <a:lnTo>
                    <a:pt x="1" y="136"/>
                  </a:lnTo>
                  <a:lnTo>
                    <a:pt x="1" y="128"/>
                  </a:lnTo>
                  <a:lnTo>
                    <a:pt x="0" y="120"/>
                  </a:lnTo>
                  <a:lnTo>
                    <a:pt x="4" y="114"/>
                  </a:lnTo>
                  <a:lnTo>
                    <a:pt x="7" y="109"/>
                  </a:lnTo>
                  <a:lnTo>
                    <a:pt x="9" y="102"/>
                  </a:lnTo>
                  <a:lnTo>
                    <a:pt x="10" y="95"/>
                  </a:lnTo>
                  <a:lnTo>
                    <a:pt x="10" y="87"/>
                  </a:lnTo>
                  <a:lnTo>
                    <a:pt x="5" y="81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16" y="60"/>
                  </a:lnTo>
                  <a:lnTo>
                    <a:pt x="16" y="60"/>
                  </a:lnTo>
                </a:path>
              </a:pathLst>
            </a:custGeom>
            <a:solidFill>
              <a:srgbClr val="00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20273400">
              <a:off x="8198640" y="3402000"/>
              <a:ext cx="25200" cy="2556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20273400">
              <a:off x="8096040" y="3411720"/>
              <a:ext cx="25560" cy="2556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20273400">
              <a:off x="8064720" y="3499560"/>
              <a:ext cx="25200" cy="2556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4160" y="866880"/>
            <a:ext cx="6683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Although the ‘after classification’ approach means more individual water bodies will be placed in the wrong class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4160" y="1517760"/>
            <a:ext cx="5725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ace value results can give a more accurate estimate of the total </a:t>
            </a:r>
            <a:r>
              <a:rPr b="1" lang="en-US" sz="4400" spc="-1" strike="noStrike">
                <a:solidFill>
                  <a:srgbClr val="ff3300"/>
                </a:solidFill>
                <a:latin typeface="Verdana"/>
              </a:rPr>
              <a:t>number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of water bodies in each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621400" y="1193760"/>
            <a:ext cx="1459440" cy="5528880"/>
            <a:chOff x="5621400" y="1193760"/>
            <a:chExt cx="1459440" cy="5528880"/>
          </a:xfrm>
        </p:grpSpPr>
        <p:grpSp>
          <p:nvGrpSpPr>
            <p:cNvPr id="144" name=""/>
            <p:cNvGrpSpPr/>
            <p:nvPr/>
          </p:nvGrpSpPr>
          <p:grpSpPr>
            <a:xfrm>
              <a:off x="5621400" y="1193760"/>
              <a:ext cx="1441440" cy="5528880"/>
              <a:chOff x="5621400" y="1193760"/>
              <a:chExt cx="1441440" cy="5528880"/>
            </a:xfrm>
          </p:grpSpPr>
          <p:sp>
            <p:nvSpPr>
              <p:cNvPr id="145" name=""/>
              <p:cNvSpPr/>
              <p:nvPr/>
            </p:nvSpPr>
            <p:spPr>
              <a:xfrm>
                <a:off x="5621400" y="1193760"/>
                <a:ext cx="1441440" cy="10951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21400" y="2302560"/>
                <a:ext cx="1441440" cy="1095120"/>
              </a:xfrm>
              <a:prstGeom prst="rect">
                <a:avLst/>
              </a:prstGeom>
              <a:solidFill>
                <a:srgbClr val="00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621400" y="3411720"/>
                <a:ext cx="1441440" cy="10929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621400" y="4519080"/>
                <a:ext cx="1441440" cy="10947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21400" y="5627880"/>
                <a:ext cx="1441440" cy="109476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000840" y="6128640"/>
              <a:ext cx="738000" cy="223200"/>
              <a:chOff x="6000840" y="6128640"/>
              <a:chExt cx="738000" cy="223200"/>
            </a:xfrm>
          </p:grpSpPr>
          <p:sp>
            <p:nvSpPr>
              <p:cNvPr id="151" name=""/>
              <p:cNvSpPr/>
              <p:nvPr/>
            </p:nvSpPr>
            <p:spPr>
              <a:xfrm>
                <a:off x="6119640" y="6224760"/>
                <a:ext cx="501120" cy="23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40000">
                <a:off x="6620760" y="6131880"/>
                <a:ext cx="110520" cy="21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949" y="21440"/>
                    </a:moveTo>
                    <a:arcTo wR="10800" hR="10800" stAng="5992196" swAng="93174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949" y="21440"/>
                    </a:moveTo>
                    <a:arcTo wR="10800" hR="10800" stAng="5992196" swAng="9317479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40000">
                <a:off x="6428880" y="6152400"/>
                <a:ext cx="1573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145" y="20001"/>
                    </a:moveTo>
                    <a:arcTo wR="10800" hR="10800" stAng="7294636" swAng="68952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145" y="20001"/>
                    </a:moveTo>
                    <a:arcTo wR="10800" hR="10800" stAng="7294636" swAng="6895237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40000">
                <a:off x="6291000" y="6149520"/>
                <a:ext cx="160920" cy="177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239" y="20058"/>
                    </a:moveTo>
                    <a:arcTo wR="10800" hR="10800" stAng="7259494" swAng="69666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239" y="20058"/>
                    </a:moveTo>
                    <a:arcTo wR="10800" hR="10800" stAng="7259494" swAng="6966662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40000">
                <a:off x="6367320" y="6150960"/>
                <a:ext cx="157320" cy="17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157" y="20009"/>
                    </a:moveTo>
                    <a:arcTo wR="10800" hR="10800" stAng="7289984" swAng="69046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157" y="20009"/>
                    </a:moveTo>
                    <a:arcTo wR="10800" hR="10800" stAng="7289984" swAng="6904688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40000">
                <a:off x="6237000" y="6149160"/>
                <a:ext cx="158040" cy="17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121" y="19986"/>
                    </a:moveTo>
                    <a:arcTo wR="10800" hR="10800" stAng="7303626" swAng="69095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121" y="19986"/>
                    </a:moveTo>
                    <a:arcTo wR="10800" hR="10800" stAng="7303626" swAng="6909543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40000">
                <a:off x="6489360" y="6162120"/>
                <a:ext cx="158040" cy="17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107" y="19978"/>
                    </a:moveTo>
                    <a:arcTo wR="10800" hR="10800" stAng="7308543" swAng="69002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107" y="19978"/>
                    </a:moveTo>
                    <a:arcTo wR="10800" hR="10800" stAng="7308543" swAng="6900278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40000">
                <a:off x="6181560" y="6139080"/>
                <a:ext cx="15732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58" y="20129"/>
                    </a:moveTo>
                    <a:arcTo wR="10800" hR="10800" stAng="7215386" swAng="70519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58" y="20129"/>
                    </a:moveTo>
                    <a:arcTo wR="10800" hR="10800" stAng="7215386" swAng="7051958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00840" y="6142320"/>
                <a:ext cx="144000" cy="147600"/>
              </a:xfrm>
              <a:custGeom>
                <a:avLst/>
                <a:gdLst/>
                <a:ahLst/>
                <a:rect l="l" t="t" r="r" b="b"/>
                <a:pathLst>
                  <a:path w="91" h="93">
                    <a:moveTo>
                      <a:pt x="67" y="8"/>
                    </a:moveTo>
                    <a:lnTo>
                      <a:pt x="62" y="11"/>
                    </a:lnTo>
                    <a:lnTo>
                      <a:pt x="58" y="14"/>
                    </a:lnTo>
                    <a:lnTo>
                      <a:pt x="52" y="13"/>
                    </a:lnTo>
                    <a:lnTo>
                      <a:pt x="50" y="17"/>
                    </a:lnTo>
                    <a:lnTo>
                      <a:pt x="46" y="17"/>
                    </a:lnTo>
                    <a:lnTo>
                      <a:pt x="42" y="20"/>
                    </a:lnTo>
                    <a:lnTo>
                      <a:pt x="38" y="22"/>
                    </a:lnTo>
                    <a:lnTo>
                      <a:pt x="34" y="23"/>
                    </a:lnTo>
                    <a:lnTo>
                      <a:pt x="30" y="25"/>
                    </a:lnTo>
                    <a:lnTo>
                      <a:pt x="28" y="30"/>
                    </a:lnTo>
                    <a:lnTo>
                      <a:pt x="25" y="33"/>
                    </a:lnTo>
                    <a:lnTo>
                      <a:pt x="26" y="38"/>
                    </a:lnTo>
                    <a:lnTo>
                      <a:pt x="21" y="38"/>
                    </a:lnTo>
                    <a:lnTo>
                      <a:pt x="17" y="39"/>
                    </a:lnTo>
                    <a:lnTo>
                      <a:pt x="11" y="39"/>
                    </a:lnTo>
                    <a:lnTo>
                      <a:pt x="7" y="46"/>
                    </a:lnTo>
                    <a:lnTo>
                      <a:pt x="4" y="53"/>
                    </a:lnTo>
                    <a:lnTo>
                      <a:pt x="3" y="55"/>
                    </a:lnTo>
                    <a:lnTo>
                      <a:pt x="2" y="58"/>
                    </a:lnTo>
                    <a:lnTo>
                      <a:pt x="2" y="61"/>
                    </a:lnTo>
                    <a:lnTo>
                      <a:pt x="0" y="64"/>
                    </a:lnTo>
                    <a:lnTo>
                      <a:pt x="6" y="68"/>
                    </a:lnTo>
                    <a:lnTo>
                      <a:pt x="10" y="68"/>
                    </a:lnTo>
                    <a:lnTo>
                      <a:pt x="16" y="70"/>
                    </a:lnTo>
                    <a:lnTo>
                      <a:pt x="21" y="73"/>
                    </a:lnTo>
                    <a:lnTo>
                      <a:pt x="27" y="76"/>
                    </a:lnTo>
                    <a:lnTo>
                      <a:pt x="32" y="79"/>
                    </a:lnTo>
                    <a:lnTo>
                      <a:pt x="40" y="85"/>
                    </a:lnTo>
                    <a:lnTo>
                      <a:pt x="49" y="87"/>
                    </a:lnTo>
                    <a:lnTo>
                      <a:pt x="52" y="87"/>
                    </a:lnTo>
                    <a:lnTo>
                      <a:pt x="57" y="88"/>
                    </a:lnTo>
                    <a:lnTo>
                      <a:pt x="74" y="90"/>
                    </a:lnTo>
                    <a:lnTo>
                      <a:pt x="89" y="92"/>
                    </a:lnTo>
                    <a:lnTo>
                      <a:pt x="90" y="88"/>
                    </a:lnTo>
                    <a:lnTo>
                      <a:pt x="89" y="85"/>
                    </a:lnTo>
                    <a:lnTo>
                      <a:pt x="88" y="81"/>
                    </a:lnTo>
                    <a:lnTo>
                      <a:pt x="85" y="75"/>
                    </a:lnTo>
                    <a:lnTo>
                      <a:pt x="84" y="73"/>
                    </a:lnTo>
                    <a:lnTo>
                      <a:pt x="84" y="70"/>
                    </a:lnTo>
                    <a:lnTo>
                      <a:pt x="82" y="63"/>
                    </a:lnTo>
                    <a:lnTo>
                      <a:pt x="80" y="61"/>
                    </a:lnTo>
                    <a:lnTo>
                      <a:pt x="80" y="57"/>
                    </a:lnTo>
                    <a:lnTo>
                      <a:pt x="80" y="51"/>
                    </a:lnTo>
                    <a:lnTo>
                      <a:pt x="80" y="43"/>
                    </a:lnTo>
                    <a:lnTo>
                      <a:pt x="79" y="33"/>
                    </a:lnTo>
                    <a:lnTo>
                      <a:pt x="84" y="31"/>
                    </a:lnTo>
                    <a:lnTo>
                      <a:pt x="87" y="28"/>
                    </a:lnTo>
                    <a:lnTo>
                      <a:pt x="87" y="25"/>
                    </a:lnTo>
                    <a:lnTo>
                      <a:pt x="87" y="22"/>
                    </a:lnTo>
                    <a:lnTo>
                      <a:pt x="87" y="18"/>
                    </a:lnTo>
                    <a:lnTo>
                      <a:pt x="87" y="15"/>
                    </a:lnTo>
                    <a:lnTo>
                      <a:pt x="89" y="13"/>
                    </a:lnTo>
                    <a:lnTo>
                      <a:pt x="89" y="9"/>
                    </a:lnTo>
                    <a:lnTo>
                      <a:pt x="90" y="6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82" y="1"/>
                    </a:lnTo>
                    <a:lnTo>
                      <a:pt x="79" y="1"/>
                    </a:lnTo>
                    <a:lnTo>
                      <a:pt x="76" y="4"/>
                    </a:lnTo>
                    <a:lnTo>
                      <a:pt x="73" y="7"/>
                    </a:lnTo>
                    <a:lnTo>
                      <a:pt x="71" y="10"/>
                    </a:lnTo>
                    <a:lnTo>
                      <a:pt x="67" y="8"/>
                    </a:lnTo>
                    <a:lnTo>
                      <a:pt x="67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246720" y="3644640"/>
              <a:ext cx="268200" cy="495720"/>
              <a:chOff x="6246720" y="3644640"/>
              <a:chExt cx="268200" cy="495720"/>
            </a:xfrm>
          </p:grpSpPr>
          <p:sp>
            <p:nvSpPr>
              <p:cNvPr id="161" name=""/>
              <p:cNvSpPr/>
              <p:nvPr/>
            </p:nvSpPr>
            <p:spPr>
              <a:xfrm>
                <a:off x="6291360" y="3811680"/>
                <a:ext cx="158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18360" y="3862440"/>
                <a:ext cx="10944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15200" y="3916440"/>
                <a:ext cx="99720" cy="10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460920" y="3951360"/>
                <a:ext cx="42840" cy="3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46720" y="3916440"/>
                <a:ext cx="100080" cy="10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248520" y="3951360"/>
                <a:ext cx="42840" cy="34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6351120" y="3644640"/>
                <a:ext cx="20520" cy="17460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26000" y="4048200"/>
                <a:ext cx="57240" cy="460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59400" y="4037040"/>
                <a:ext cx="302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6260760" y="4059360"/>
                <a:ext cx="57240" cy="460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787000" y="1335240"/>
              <a:ext cx="1293840" cy="697320"/>
              <a:chOff x="5787000" y="1335240"/>
              <a:chExt cx="1293840" cy="697320"/>
            </a:xfrm>
          </p:grpSpPr>
          <p:sp>
            <p:nvSpPr>
              <p:cNvPr id="172" name=""/>
              <p:cNvSpPr/>
              <p:nvPr/>
            </p:nvSpPr>
            <p:spPr>
              <a:xfrm>
                <a:off x="5883480" y="1595520"/>
                <a:ext cx="668160" cy="23652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460000">
                <a:off x="6667200" y="1366560"/>
                <a:ext cx="283680" cy="501480"/>
              </a:xfrm>
              <a:prstGeom prst="rtTriangle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ffff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30640" y="1590840"/>
                <a:ext cx="80640" cy="91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 rot="17280000">
                <a:off x="6105240" y="1733400"/>
                <a:ext cx="230400" cy="288720"/>
              </a:xfrm>
              <a:custGeom>
                <a:avLst/>
                <a:gdLst>
                  <a:gd name="textAreaLeft" fmla="*/ 50400 w 230400"/>
                  <a:gd name="textAreaRight" fmla="*/ 180000 w 230400"/>
                  <a:gd name="textAreaTop" fmla="*/ 63360 h 288720"/>
                  <a:gd name="textAreaBottom" fmla="*/ 22536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33"/>
                  </a:gs>
                  <a:gs pos="100000">
                    <a:srgbClr val="ffff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360000">
                <a:off x="6187680" y="1489320"/>
                <a:ext cx="345600" cy="120600"/>
              </a:xfrm>
              <a:prstGeom prst="parallelogram">
                <a:avLst>
                  <a:gd name="adj" fmla="val 71628"/>
                </a:avLst>
              </a:prstGeom>
              <a:gradFill rotWithShape="0">
                <a:gsLst>
                  <a:gs pos="0">
                    <a:srgbClr val="ff0033"/>
                  </a:gs>
                  <a:gs pos="100000">
                    <a:srgbClr val="ffff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22720" y="1614600"/>
                <a:ext cx="33120" cy="28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00000">
                <a:off x="5787000" y="1668960"/>
                <a:ext cx="237240" cy="9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538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5385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803920" y="2615760"/>
              <a:ext cx="1235880" cy="560160"/>
              <a:chOff x="5803920" y="2615760"/>
              <a:chExt cx="1235880" cy="560160"/>
            </a:xfrm>
          </p:grpSpPr>
          <p:sp>
            <p:nvSpPr>
              <p:cNvPr id="180" name=""/>
              <p:cNvSpPr/>
              <p:nvPr/>
            </p:nvSpPr>
            <p:spPr>
              <a:xfrm rot="1080000">
                <a:off x="5824080" y="2712960"/>
                <a:ext cx="668160" cy="23796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3540000">
                <a:off x="6608160" y="2673360"/>
                <a:ext cx="285840" cy="501480"/>
              </a:xfrm>
              <a:prstGeom prst="rtTriangle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ffff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080000">
                <a:off x="5908680" y="2637000"/>
                <a:ext cx="810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 rot="18360000">
                <a:off x="6049080" y="2818800"/>
                <a:ext cx="180720" cy="330120"/>
              </a:xfrm>
              <a:custGeom>
                <a:avLst/>
                <a:gdLst>
                  <a:gd name="textAreaLeft" fmla="*/ 39600 w 180720"/>
                  <a:gd name="textAreaRight" fmla="*/ 141120 w 180720"/>
                  <a:gd name="textAreaTop" fmla="*/ 72360 h 330120"/>
                  <a:gd name="textAreaBottom" fmla="*/ 257760 h 33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33"/>
                  </a:gs>
                  <a:gs pos="100000">
                    <a:srgbClr val="ffff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440000">
                <a:off x="6163920" y="2705400"/>
                <a:ext cx="371520" cy="81000"/>
              </a:xfrm>
              <a:prstGeom prst="parallelogram">
                <a:avLst>
                  <a:gd name="adj" fmla="val 114645"/>
                </a:avLst>
              </a:prstGeom>
              <a:gradFill rotWithShape="0">
                <a:gsLst>
                  <a:gs pos="0">
                    <a:srgbClr val="ff0033"/>
                  </a:gs>
                  <a:gs pos="100000">
                    <a:srgbClr val="ffff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080000">
                <a:off x="5918040" y="2664000"/>
                <a:ext cx="3492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37040" y="2752920"/>
                <a:ext cx="117720" cy="61920"/>
              </a:xfrm>
              <a:custGeom>
                <a:avLst/>
                <a:gdLst/>
                <a:ahLst/>
                <a:rect l="l" t="t" r="r" b="b"/>
                <a:pathLst>
                  <a:path w="74" h="39">
                    <a:moveTo>
                      <a:pt x="0" y="0"/>
                    </a:moveTo>
                    <a:lnTo>
                      <a:pt x="5" y="2"/>
                    </a:lnTo>
                    <a:lnTo>
                      <a:pt x="14" y="2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6" y="17"/>
                    </a:lnTo>
                    <a:lnTo>
                      <a:pt x="30" y="19"/>
                    </a:lnTo>
                    <a:lnTo>
                      <a:pt x="42" y="22"/>
                    </a:lnTo>
                    <a:lnTo>
                      <a:pt x="48" y="24"/>
                    </a:lnTo>
                    <a:lnTo>
                      <a:pt x="52" y="23"/>
                    </a:lnTo>
                    <a:lnTo>
                      <a:pt x="59" y="19"/>
                    </a:lnTo>
                    <a:lnTo>
                      <a:pt x="62" y="21"/>
                    </a:lnTo>
                    <a:lnTo>
                      <a:pt x="67" y="22"/>
                    </a:lnTo>
                    <a:lnTo>
                      <a:pt x="69" y="29"/>
                    </a:lnTo>
                    <a:lnTo>
                      <a:pt x="73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858640" y="4809240"/>
              <a:ext cx="902520" cy="606960"/>
              <a:chOff x="5858640" y="4809240"/>
              <a:chExt cx="902520" cy="60696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6050880" y="4809240"/>
                <a:ext cx="710280" cy="488880"/>
                <a:chOff x="6050880" y="4809240"/>
                <a:chExt cx="710280" cy="488880"/>
              </a:xfrm>
            </p:grpSpPr>
            <p:sp>
              <p:nvSpPr>
                <p:cNvPr id="189" name=""/>
                <p:cNvSpPr/>
                <p:nvPr/>
              </p:nvSpPr>
              <p:spPr>
                <a:xfrm flipH="1" rot="20273400">
                  <a:off x="6074640" y="4924080"/>
                  <a:ext cx="661680" cy="258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 rot="292800">
                  <a:off x="6434280" y="5093280"/>
                  <a:ext cx="151200" cy="149760"/>
                </a:xfrm>
                <a:custGeom>
                  <a:avLst/>
                  <a:gdLst>
                    <a:gd name="textAreaLeft" fmla="*/ 33120 w 151200"/>
                    <a:gd name="textAreaRight" fmla="*/ 118080 w 151200"/>
                    <a:gd name="textAreaTop" fmla="*/ 32760 h 149760"/>
                    <a:gd name="textAreaBottom" fmla="*/ 117000 h 14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solidFill>
                  <a:srgbClr val="00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rot="20273400">
                  <a:off x="6541200" y="4836600"/>
                  <a:ext cx="98280" cy="105840"/>
                </a:xfrm>
                <a:prstGeom prst="ellipse">
                  <a:avLst/>
                </a:prstGeom>
                <a:solidFill>
                  <a:srgbClr val="ff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rot="20273400">
                  <a:off x="6608520" y="4889160"/>
                  <a:ext cx="39960" cy="36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rot="20273400">
                  <a:off x="6582240" y="4949640"/>
                  <a:ext cx="151200" cy="63720"/>
                </a:xfrm>
                <a:custGeom>
                  <a:avLst/>
                  <a:gdLst/>
                  <a:ahLst/>
                  <a:rect l="l" t="t" r="r" b="b"/>
                  <a:pathLst>
                    <a:path w="83" h="35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2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0"/>
                      </a:lnTo>
                      <a:lnTo>
                        <a:pt x="48" y="16"/>
                      </a:lnTo>
                      <a:lnTo>
                        <a:pt x="54" y="18"/>
                      </a:lnTo>
                      <a:lnTo>
                        <a:pt x="58" y="24"/>
                      </a:lnTo>
                      <a:lnTo>
                        <a:pt x="64" y="28"/>
                      </a:lnTo>
                      <a:lnTo>
                        <a:pt x="70" y="30"/>
                      </a:lnTo>
                      <a:lnTo>
                        <a:pt x="76" y="34"/>
                      </a:lnTo>
                      <a:lnTo>
                        <a:pt x="82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 flipH="1" rot="20273400">
                <a:off x="6099840" y="4874760"/>
                <a:ext cx="297000" cy="136800"/>
              </a:xfrm>
              <a:custGeom>
                <a:avLst/>
                <a:gdLst/>
                <a:ahLst/>
                <a:rect l="l" t="t" r="r" b="b"/>
                <a:pathLst>
                  <a:path w="163" h="75">
                    <a:moveTo>
                      <a:pt x="0" y="63"/>
                    </a:moveTo>
                    <a:lnTo>
                      <a:pt x="10" y="58"/>
                    </a:lnTo>
                    <a:lnTo>
                      <a:pt x="18" y="52"/>
                    </a:lnTo>
                    <a:lnTo>
                      <a:pt x="25" y="52"/>
                    </a:lnTo>
                    <a:lnTo>
                      <a:pt x="33" y="52"/>
                    </a:lnTo>
                    <a:lnTo>
                      <a:pt x="41" y="52"/>
                    </a:lnTo>
                    <a:lnTo>
                      <a:pt x="48" y="52"/>
                    </a:lnTo>
                    <a:lnTo>
                      <a:pt x="56" y="52"/>
                    </a:lnTo>
                    <a:lnTo>
                      <a:pt x="64" y="52"/>
                    </a:lnTo>
                    <a:lnTo>
                      <a:pt x="72" y="52"/>
                    </a:lnTo>
                    <a:lnTo>
                      <a:pt x="79" y="58"/>
                    </a:lnTo>
                    <a:lnTo>
                      <a:pt x="87" y="63"/>
                    </a:lnTo>
                    <a:lnTo>
                      <a:pt x="95" y="68"/>
                    </a:lnTo>
                    <a:lnTo>
                      <a:pt x="102" y="68"/>
                    </a:lnTo>
                    <a:lnTo>
                      <a:pt x="110" y="74"/>
                    </a:lnTo>
                    <a:lnTo>
                      <a:pt x="118" y="74"/>
                    </a:lnTo>
                    <a:lnTo>
                      <a:pt x="120" y="58"/>
                    </a:lnTo>
                    <a:lnTo>
                      <a:pt x="126" y="42"/>
                    </a:lnTo>
                    <a:lnTo>
                      <a:pt x="136" y="37"/>
                    </a:lnTo>
                    <a:lnTo>
                      <a:pt x="146" y="31"/>
                    </a:lnTo>
                    <a:lnTo>
                      <a:pt x="154" y="31"/>
                    </a:lnTo>
                    <a:lnTo>
                      <a:pt x="162" y="31"/>
                    </a:lnTo>
                    <a:lnTo>
                      <a:pt x="154" y="26"/>
                    </a:lnTo>
                    <a:lnTo>
                      <a:pt x="146" y="26"/>
                    </a:lnTo>
                    <a:lnTo>
                      <a:pt x="146" y="10"/>
                    </a:lnTo>
                    <a:lnTo>
                      <a:pt x="138" y="15"/>
                    </a:lnTo>
                    <a:lnTo>
                      <a:pt x="133" y="31"/>
                    </a:lnTo>
                    <a:lnTo>
                      <a:pt x="126" y="15"/>
                    </a:lnTo>
                    <a:lnTo>
                      <a:pt x="120" y="0"/>
                    </a:lnTo>
                    <a:lnTo>
                      <a:pt x="113" y="15"/>
                    </a:lnTo>
                    <a:lnTo>
                      <a:pt x="108" y="31"/>
                    </a:lnTo>
                    <a:lnTo>
                      <a:pt x="100" y="42"/>
                    </a:lnTo>
                    <a:lnTo>
                      <a:pt x="95" y="26"/>
                    </a:lnTo>
                    <a:lnTo>
                      <a:pt x="87" y="31"/>
                    </a:lnTo>
                    <a:lnTo>
                      <a:pt x="79" y="37"/>
                    </a:lnTo>
                    <a:lnTo>
                      <a:pt x="72" y="26"/>
                    </a:lnTo>
                    <a:lnTo>
                      <a:pt x="64" y="15"/>
                    </a:lnTo>
                    <a:lnTo>
                      <a:pt x="56" y="10"/>
                    </a:lnTo>
                    <a:lnTo>
                      <a:pt x="54" y="26"/>
                    </a:lnTo>
                    <a:lnTo>
                      <a:pt x="46" y="37"/>
                    </a:lnTo>
                    <a:lnTo>
                      <a:pt x="38" y="37"/>
                    </a:lnTo>
                    <a:lnTo>
                      <a:pt x="30" y="21"/>
                    </a:lnTo>
                    <a:lnTo>
                      <a:pt x="23" y="21"/>
                    </a:lnTo>
                    <a:lnTo>
                      <a:pt x="15" y="31"/>
                    </a:lnTo>
                    <a:lnTo>
                      <a:pt x="7" y="42"/>
                    </a:lnTo>
                    <a:lnTo>
                      <a:pt x="0" y="63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00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20273400">
                <a:off x="5916240" y="5042880"/>
                <a:ext cx="206280" cy="34704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6" y="60"/>
                    </a:moveTo>
                    <a:lnTo>
                      <a:pt x="25" y="50"/>
                    </a:lnTo>
                    <a:lnTo>
                      <a:pt x="29" y="45"/>
                    </a:lnTo>
                    <a:lnTo>
                      <a:pt x="34" y="41"/>
                    </a:lnTo>
                    <a:lnTo>
                      <a:pt x="40" y="37"/>
                    </a:lnTo>
                    <a:lnTo>
                      <a:pt x="45" y="33"/>
                    </a:lnTo>
                    <a:lnTo>
                      <a:pt x="49" y="27"/>
                    </a:lnTo>
                    <a:lnTo>
                      <a:pt x="57" y="24"/>
                    </a:lnTo>
                    <a:lnTo>
                      <a:pt x="62" y="20"/>
                    </a:lnTo>
                    <a:lnTo>
                      <a:pt x="71" y="15"/>
                    </a:lnTo>
                    <a:lnTo>
                      <a:pt x="80" y="11"/>
                    </a:lnTo>
                    <a:lnTo>
                      <a:pt x="88" y="3"/>
                    </a:lnTo>
                    <a:lnTo>
                      <a:pt x="95" y="0"/>
                    </a:lnTo>
                    <a:lnTo>
                      <a:pt x="100" y="6"/>
                    </a:lnTo>
                    <a:lnTo>
                      <a:pt x="106" y="10"/>
                    </a:lnTo>
                    <a:lnTo>
                      <a:pt x="105" y="17"/>
                    </a:lnTo>
                    <a:lnTo>
                      <a:pt x="101" y="22"/>
                    </a:lnTo>
                    <a:lnTo>
                      <a:pt x="105" y="30"/>
                    </a:lnTo>
                    <a:lnTo>
                      <a:pt x="106" y="38"/>
                    </a:lnTo>
                    <a:lnTo>
                      <a:pt x="100" y="42"/>
                    </a:lnTo>
                    <a:lnTo>
                      <a:pt x="103" y="52"/>
                    </a:lnTo>
                    <a:lnTo>
                      <a:pt x="107" y="57"/>
                    </a:lnTo>
                    <a:lnTo>
                      <a:pt x="111" y="65"/>
                    </a:lnTo>
                    <a:lnTo>
                      <a:pt x="112" y="73"/>
                    </a:lnTo>
                    <a:lnTo>
                      <a:pt x="112" y="81"/>
                    </a:lnTo>
                    <a:lnTo>
                      <a:pt x="107" y="85"/>
                    </a:lnTo>
                    <a:lnTo>
                      <a:pt x="98" y="90"/>
                    </a:lnTo>
                    <a:lnTo>
                      <a:pt x="90" y="93"/>
                    </a:lnTo>
                    <a:lnTo>
                      <a:pt x="83" y="96"/>
                    </a:lnTo>
                    <a:lnTo>
                      <a:pt x="79" y="101"/>
                    </a:lnTo>
                    <a:lnTo>
                      <a:pt x="73" y="105"/>
                    </a:lnTo>
                    <a:lnTo>
                      <a:pt x="68" y="109"/>
                    </a:lnTo>
                    <a:lnTo>
                      <a:pt x="62" y="113"/>
                    </a:lnTo>
                    <a:lnTo>
                      <a:pt x="58" y="121"/>
                    </a:lnTo>
                    <a:lnTo>
                      <a:pt x="54" y="126"/>
                    </a:lnTo>
                    <a:lnTo>
                      <a:pt x="50" y="132"/>
                    </a:lnTo>
                    <a:lnTo>
                      <a:pt x="47" y="137"/>
                    </a:lnTo>
                    <a:lnTo>
                      <a:pt x="43" y="143"/>
                    </a:lnTo>
                    <a:lnTo>
                      <a:pt x="38" y="147"/>
                    </a:lnTo>
                    <a:lnTo>
                      <a:pt x="34" y="152"/>
                    </a:lnTo>
                    <a:lnTo>
                      <a:pt x="31" y="158"/>
                    </a:lnTo>
                    <a:lnTo>
                      <a:pt x="27" y="163"/>
                    </a:lnTo>
                    <a:lnTo>
                      <a:pt x="24" y="169"/>
                    </a:lnTo>
                    <a:lnTo>
                      <a:pt x="22" y="175"/>
                    </a:lnTo>
                    <a:lnTo>
                      <a:pt x="21" y="182"/>
                    </a:lnTo>
                    <a:lnTo>
                      <a:pt x="19" y="189"/>
                    </a:lnTo>
                    <a:lnTo>
                      <a:pt x="14" y="183"/>
                    </a:lnTo>
                    <a:lnTo>
                      <a:pt x="10" y="176"/>
                    </a:lnTo>
                    <a:lnTo>
                      <a:pt x="8" y="166"/>
                    </a:lnTo>
                    <a:lnTo>
                      <a:pt x="4" y="159"/>
                    </a:lnTo>
                    <a:lnTo>
                      <a:pt x="4" y="150"/>
                    </a:lnTo>
                    <a:lnTo>
                      <a:pt x="0" y="143"/>
                    </a:lnTo>
                    <a:lnTo>
                      <a:pt x="1" y="136"/>
                    </a:lnTo>
                    <a:lnTo>
                      <a:pt x="1" y="128"/>
                    </a:lnTo>
                    <a:lnTo>
                      <a:pt x="0" y="120"/>
                    </a:lnTo>
                    <a:lnTo>
                      <a:pt x="4" y="114"/>
                    </a:lnTo>
                    <a:lnTo>
                      <a:pt x="7" y="109"/>
                    </a:lnTo>
                    <a:lnTo>
                      <a:pt x="9" y="102"/>
                    </a:lnTo>
                    <a:lnTo>
                      <a:pt x="10" y="95"/>
                    </a:lnTo>
                    <a:lnTo>
                      <a:pt x="10" y="87"/>
                    </a:lnTo>
                    <a:lnTo>
                      <a:pt x="5" y="81"/>
                    </a:lnTo>
                    <a:lnTo>
                      <a:pt x="1" y="74"/>
                    </a:lnTo>
                    <a:lnTo>
                      <a:pt x="1" y="66"/>
                    </a:lnTo>
                    <a:lnTo>
                      <a:pt x="16" y="60"/>
                    </a:lnTo>
                    <a:lnTo>
                      <a:pt x="16" y="60"/>
                    </a:lnTo>
                  </a:path>
                </a:pathLst>
              </a:custGeom>
              <a:solidFill>
                <a:srgbClr val="00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20273400">
                <a:off x="6398640" y="5048280"/>
                <a:ext cx="25200" cy="2556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20273400">
                <a:off x="6296040" y="5058000"/>
                <a:ext cx="25560" cy="2556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20273400">
                <a:off x="6264720" y="5145840"/>
                <a:ext cx="25200" cy="25560"/>
              </a:xfrm>
              <a:prstGeom prst="ellipse">
                <a:avLst/>
              </a:pr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5815440" y="701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378560" y="703440"/>
            <a:ext cx="1443240" cy="6019560"/>
            <a:chOff x="7378560" y="703440"/>
            <a:chExt cx="1443240" cy="6019560"/>
          </a:xfrm>
        </p:grpSpPr>
        <p:grpSp>
          <p:nvGrpSpPr>
            <p:cNvPr id="201" name=""/>
            <p:cNvGrpSpPr/>
            <p:nvPr/>
          </p:nvGrpSpPr>
          <p:grpSpPr>
            <a:xfrm>
              <a:off x="7378560" y="1193760"/>
              <a:ext cx="1443240" cy="5529240"/>
              <a:chOff x="7378560" y="1193760"/>
              <a:chExt cx="1443240" cy="5529240"/>
            </a:xfrm>
          </p:grpSpPr>
          <p:sp>
            <p:nvSpPr>
              <p:cNvPr id="202" name=""/>
              <p:cNvSpPr/>
              <p:nvPr/>
            </p:nvSpPr>
            <p:spPr>
              <a:xfrm>
                <a:off x="7380360" y="4130640"/>
                <a:ext cx="1441440" cy="9493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78560" y="5095800"/>
                <a:ext cx="1441440" cy="9064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78560" y="5931000"/>
                <a:ext cx="1441440" cy="79200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7885080" y="6212880"/>
                <a:ext cx="739080" cy="223200"/>
                <a:chOff x="7885080" y="6212880"/>
                <a:chExt cx="739080" cy="2232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8004240" y="6309000"/>
                  <a:ext cx="501480" cy="237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40000">
                  <a:off x="8505360" y="6216480"/>
                  <a:ext cx="111240" cy="216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49" y="21440"/>
                      </a:moveTo>
                      <a:arcTo wR="10800" hR="10800" stAng="5992196" swAng="93174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49" y="21440"/>
                      </a:moveTo>
                      <a:arcTo wR="10800" hR="10800" stAng="5992196" swAng="9317479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240000">
                  <a:off x="8313480" y="6236640"/>
                  <a:ext cx="158040" cy="174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45" y="20001"/>
                      </a:moveTo>
                      <a:arcTo wR="10800" hR="10800" stAng="7294636" swAng="68952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45" y="20001"/>
                      </a:moveTo>
                      <a:arcTo wR="10800" hR="10800" stAng="7294636" swAng="6895237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240000">
                  <a:off x="8175600" y="6234120"/>
                  <a:ext cx="16164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39" y="20058"/>
                      </a:moveTo>
                      <a:arcTo wR="10800" hR="10800" stAng="7259494" swAng="69666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39" y="20058"/>
                      </a:moveTo>
                      <a:arcTo wR="10800" hR="10800" stAng="7259494" swAng="6966662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240000">
                  <a:off x="8251920" y="6235200"/>
                  <a:ext cx="158040" cy="17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57" y="20009"/>
                      </a:moveTo>
                      <a:arcTo wR="10800" hR="10800" stAng="7289984" swAng="69046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57" y="20009"/>
                      </a:moveTo>
                      <a:arcTo wR="10800" hR="10800" stAng="7289984" swAng="6904688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240000">
                  <a:off x="8121600" y="6233400"/>
                  <a:ext cx="158760" cy="17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21" y="19986"/>
                      </a:moveTo>
                      <a:arcTo wR="10800" hR="10800" stAng="7303626" swAng="69095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21" y="19986"/>
                      </a:moveTo>
                      <a:arcTo wR="10800" hR="10800" stAng="7303626" swAng="6909543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240000">
                  <a:off x="8373960" y="6246360"/>
                  <a:ext cx="158760" cy="17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07" y="19978"/>
                      </a:moveTo>
                      <a:arcTo wR="10800" hR="10800" stAng="7308543" swAng="690027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07" y="19978"/>
                      </a:moveTo>
                      <a:arcTo wR="10800" hR="10800" stAng="7308543" swAng="6900278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240000">
                  <a:off x="8066160" y="6223320"/>
                  <a:ext cx="158040" cy="177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58" y="20129"/>
                      </a:moveTo>
                      <a:arcTo wR="10800" hR="10800" stAng="7215386" swAng="7051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58" y="20129"/>
                      </a:moveTo>
                      <a:arcTo wR="10800" hR="10800" stAng="7215386" swAng="7051958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885080" y="6226560"/>
                  <a:ext cx="144360" cy="147600"/>
                </a:xfrm>
                <a:custGeom>
                  <a:avLst/>
                  <a:gdLst/>
                  <a:ahLst/>
                  <a:rect l="l" t="t" r="r" b="b"/>
                  <a:pathLst>
                    <a:path w="91" h="93">
                      <a:moveTo>
                        <a:pt x="67" y="8"/>
                      </a:moveTo>
                      <a:lnTo>
                        <a:pt x="62" y="11"/>
                      </a:lnTo>
                      <a:lnTo>
                        <a:pt x="58" y="14"/>
                      </a:lnTo>
                      <a:lnTo>
                        <a:pt x="52" y="13"/>
                      </a:lnTo>
                      <a:lnTo>
                        <a:pt x="50" y="17"/>
                      </a:lnTo>
                      <a:lnTo>
                        <a:pt x="46" y="17"/>
                      </a:lnTo>
                      <a:lnTo>
                        <a:pt x="42" y="20"/>
                      </a:lnTo>
                      <a:lnTo>
                        <a:pt x="38" y="22"/>
                      </a:lnTo>
                      <a:lnTo>
                        <a:pt x="34" y="23"/>
                      </a:lnTo>
                      <a:lnTo>
                        <a:pt x="30" y="25"/>
                      </a:lnTo>
                      <a:lnTo>
                        <a:pt x="28" y="30"/>
                      </a:lnTo>
                      <a:lnTo>
                        <a:pt x="25" y="33"/>
                      </a:lnTo>
                      <a:lnTo>
                        <a:pt x="26" y="38"/>
                      </a:lnTo>
                      <a:lnTo>
                        <a:pt x="21" y="38"/>
                      </a:lnTo>
                      <a:lnTo>
                        <a:pt x="17" y="39"/>
                      </a:lnTo>
                      <a:lnTo>
                        <a:pt x="11" y="39"/>
                      </a:lnTo>
                      <a:lnTo>
                        <a:pt x="7" y="46"/>
                      </a:lnTo>
                      <a:lnTo>
                        <a:pt x="4" y="53"/>
                      </a:lnTo>
                      <a:lnTo>
                        <a:pt x="3" y="55"/>
                      </a:lnTo>
                      <a:lnTo>
                        <a:pt x="2" y="58"/>
                      </a:lnTo>
                      <a:lnTo>
                        <a:pt x="2" y="61"/>
                      </a:lnTo>
                      <a:lnTo>
                        <a:pt x="0" y="64"/>
                      </a:lnTo>
                      <a:lnTo>
                        <a:pt x="6" y="68"/>
                      </a:lnTo>
                      <a:lnTo>
                        <a:pt x="10" y="68"/>
                      </a:lnTo>
                      <a:lnTo>
                        <a:pt x="16" y="70"/>
                      </a:lnTo>
                      <a:lnTo>
                        <a:pt x="21" y="73"/>
                      </a:lnTo>
                      <a:lnTo>
                        <a:pt x="27" y="76"/>
                      </a:lnTo>
                      <a:lnTo>
                        <a:pt x="32" y="79"/>
                      </a:lnTo>
                      <a:lnTo>
                        <a:pt x="40" y="85"/>
                      </a:lnTo>
                      <a:lnTo>
                        <a:pt x="49" y="87"/>
                      </a:lnTo>
                      <a:lnTo>
                        <a:pt x="52" y="87"/>
                      </a:lnTo>
                      <a:lnTo>
                        <a:pt x="57" y="88"/>
                      </a:lnTo>
                      <a:lnTo>
                        <a:pt x="74" y="90"/>
                      </a:lnTo>
                      <a:lnTo>
                        <a:pt x="89" y="92"/>
                      </a:lnTo>
                      <a:lnTo>
                        <a:pt x="90" y="88"/>
                      </a:lnTo>
                      <a:lnTo>
                        <a:pt x="89" y="85"/>
                      </a:lnTo>
                      <a:lnTo>
                        <a:pt x="88" y="81"/>
                      </a:lnTo>
                      <a:lnTo>
                        <a:pt x="85" y="75"/>
                      </a:lnTo>
                      <a:lnTo>
                        <a:pt x="84" y="73"/>
                      </a:lnTo>
                      <a:lnTo>
                        <a:pt x="84" y="70"/>
                      </a:lnTo>
                      <a:lnTo>
                        <a:pt x="82" y="63"/>
                      </a:lnTo>
                      <a:lnTo>
                        <a:pt x="80" y="61"/>
                      </a:lnTo>
                      <a:lnTo>
                        <a:pt x="80" y="57"/>
                      </a:lnTo>
                      <a:lnTo>
                        <a:pt x="80" y="51"/>
                      </a:lnTo>
                      <a:lnTo>
                        <a:pt x="80" y="43"/>
                      </a:lnTo>
                      <a:lnTo>
                        <a:pt x="79" y="33"/>
                      </a:lnTo>
                      <a:lnTo>
                        <a:pt x="84" y="31"/>
                      </a:lnTo>
                      <a:lnTo>
                        <a:pt x="87" y="28"/>
                      </a:lnTo>
                      <a:lnTo>
                        <a:pt x="87" y="25"/>
                      </a:lnTo>
                      <a:lnTo>
                        <a:pt x="87" y="22"/>
                      </a:lnTo>
                      <a:lnTo>
                        <a:pt x="87" y="18"/>
                      </a:lnTo>
                      <a:lnTo>
                        <a:pt x="87" y="15"/>
                      </a:lnTo>
                      <a:lnTo>
                        <a:pt x="89" y="13"/>
                      </a:lnTo>
                      <a:lnTo>
                        <a:pt x="89" y="9"/>
                      </a:lnTo>
                      <a:lnTo>
                        <a:pt x="90" y="6"/>
                      </a:lnTo>
                      <a:lnTo>
                        <a:pt x="90" y="0"/>
                      </a:lnTo>
                      <a:lnTo>
                        <a:pt x="87" y="0"/>
                      </a:lnTo>
                      <a:lnTo>
                        <a:pt x="82" y="1"/>
                      </a:lnTo>
                      <a:lnTo>
                        <a:pt x="79" y="1"/>
                      </a:lnTo>
                      <a:lnTo>
                        <a:pt x="76" y="4"/>
                      </a:lnTo>
                      <a:lnTo>
                        <a:pt x="73" y="7"/>
                      </a:lnTo>
                      <a:lnTo>
                        <a:pt x="71" y="10"/>
                      </a:lnTo>
                      <a:lnTo>
                        <a:pt x="67" y="8"/>
                      </a:lnTo>
                      <a:lnTo>
                        <a:pt x="67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7380360" y="2978280"/>
                <a:ext cx="1441440" cy="1179360"/>
              </a:xfrm>
              <a:prstGeom prst="rect">
                <a:avLst/>
              </a:prstGeom>
              <a:solidFill>
                <a:srgbClr val="00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78560" y="1193760"/>
                <a:ext cx="1441440" cy="17845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7499880" y="1290600"/>
                <a:ext cx="1293840" cy="697320"/>
                <a:chOff x="7499880" y="1290600"/>
                <a:chExt cx="1293840" cy="6973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596360" y="1550880"/>
                  <a:ext cx="668160" cy="2365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2460000">
                  <a:off x="8380080" y="1321920"/>
                  <a:ext cx="283680" cy="50148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643520" y="1546200"/>
                  <a:ext cx="80640" cy="91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 flipV="1" rot="17280000">
                  <a:off x="7818120" y="1688760"/>
                  <a:ext cx="230400" cy="288720"/>
                </a:xfrm>
                <a:custGeom>
                  <a:avLst/>
                  <a:gdLst>
                    <a:gd name="textAreaLeft" fmla="*/ 50400 w 230400"/>
                    <a:gd name="textAreaRight" fmla="*/ 180000 w 230400"/>
                    <a:gd name="textAreaTop" fmla="*/ 63360 h 288720"/>
                    <a:gd name="textAreaBottom" fmla="*/ 225360 h 28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360000">
                  <a:off x="7900560" y="1444680"/>
                  <a:ext cx="345600" cy="120600"/>
                </a:xfrm>
                <a:prstGeom prst="parallelogram">
                  <a:avLst>
                    <a:gd name="adj" fmla="val 71628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635600" y="1569960"/>
                  <a:ext cx="33120" cy="28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10800000">
                  <a:off x="7499880" y="1624320"/>
                  <a:ext cx="23724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538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5385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504200" y="2669760"/>
                <a:ext cx="1235880" cy="560160"/>
                <a:chOff x="7504200" y="2669760"/>
                <a:chExt cx="1235880" cy="560160"/>
              </a:xfrm>
            </p:grpSpPr>
            <p:sp>
              <p:nvSpPr>
                <p:cNvPr id="226" name=""/>
                <p:cNvSpPr/>
                <p:nvPr/>
              </p:nvSpPr>
              <p:spPr>
                <a:xfrm rot="1080000">
                  <a:off x="7524360" y="2766960"/>
                  <a:ext cx="668160" cy="23796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3540000">
                  <a:off x="8308440" y="2727360"/>
                  <a:ext cx="285840" cy="50148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1080000">
                  <a:off x="7608960" y="2691000"/>
                  <a:ext cx="81000" cy="93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 rot="18360000">
                  <a:off x="7749360" y="2872800"/>
                  <a:ext cx="180720" cy="330120"/>
                </a:xfrm>
                <a:custGeom>
                  <a:avLst/>
                  <a:gdLst>
                    <a:gd name="textAreaLeft" fmla="*/ 39600 w 180720"/>
                    <a:gd name="textAreaRight" fmla="*/ 141120 w 180720"/>
                    <a:gd name="textAreaTop" fmla="*/ 72360 h 330120"/>
                    <a:gd name="textAreaBottom" fmla="*/ 257760 h 330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440000">
                  <a:off x="7864200" y="2759400"/>
                  <a:ext cx="371520" cy="81000"/>
                </a:xfrm>
                <a:prstGeom prst="parallelogram">
                  <a:avLst>
                    <a:gd name="adj" fmla="val 114645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080000">
                  <a:off x="7618320" y="2718000"/>
                  <a:ext cx="3492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537320" y="2806920"/>
                  <a:ext cx="117720" cy="61920"/>
                </a:xfrm>
                <a:custGeom>
                  <a:avLst/>
                  <a:gdLst/>
                  <a:ahLst/>
                  <a:rect l="l" t="t" r="r" b="b"/>
                  <a:pathLst>
                    <a:path w="74" h="39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14" y="2"/>
                      </a:lnTo>
                      <a:lnTo>
                        <a:pt x="20" y="4"/>
                      </a:lnTo>
                      <a:lnTo>
                        <a:pt x="24" y="8"/>
                      </a:lnTo>
                      <a:lnTo>
                        <a:pt x="26" y="17"/>
                      </a:lnTo>
                      <a:lnTo>
                        <a:pt x="30" y="19"/>
                      </a:lnTo>
                      <a:lnTo>
                        <a:pt x="42" y="22"/>
                      </a:lnTo>
                      <a:lnTo>
                        <a:pt x="48" y="24"/>
                      </a:lnTo>
                      <a:lnTo>
                        <a:pt x="52" y="23"/>
                      </a:lnTo>
                      <a:lnTo>
                        <a:pt x="59" y="19"/>
                      </a:lnTo>
                      <a:lnTo>
                        <a:pt x="62" y="21"/>
                      </a:lnTo>
                      <a:lnTo>
                        <a:pt x="67" y="22"/>
                      </a:lnTo>
                      <a:lnTo>
                        <a:pt x="69" y="29"/>
                      </a:lnTo>
                      <a:lnTo>
                        <a:pt x="73" y="3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8317080" y="3706560"/>
                <a:ext cx="268200" cy="495720"/>
                <a:chOff x="8317080" y="3706560"/>
                <a:chExt cx="268200" cy="4957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8361720" y="3873600"/>
                  <a:ext cx="15876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388720" y="3924360"/>
                  <a:ext cx="109440" cy="24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485560" y="3978360"/>
                  <a:ext cx="99720" cy="10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531280" y="4013280"/>
                  <a:ext cx="42840" cy="349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317080" y="3978360"/>
                  <a:ext cx="100080" cy="10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318880" y="4013280"/>
                  <a:ext cx="42840" cy="349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>
                  <a:off x="8421480" y="3706560"/>
                  <a:ext cx="20520" cy="174600"/>
                </a:xfrm>
                <a:prstGeom prst="line">
                  <a:avLst/>
                </a:prstGeom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8496360" y="4110120"/>
                  <a:ext cx="57240" cy="46080"/>
                </a:xfrm>
                <a:prstGeom prst="line">
                  <a:avLst/>
                </a:prstGeom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429760" y="4098960"/>
                  <a:ext cx="30240" cy="38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8331120" y="4121280"/>
                  <a:ext cx="57240" cy="46080"/>
                </a:xfrm>
                <a:prstGeom prst="line">
                  <a:avLst/>
                </a:prstGeom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7740720" y="5781240"/>
                <a:ext cx="738000" cy="222840"/>
                <a:chOff x="7740720" y="5781240"/>
                <a:chExt cx="738000" cy="2228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7859520" y="5877000"/>
                  <a:ext cx="501120" cy="234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240000">
                  <a:off x="8360640" y="5784480"/>
                  <a:ext cx="1105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949" y="21440"/>
                      </a:moveTo>
                      <a:arcTo wR="10800" hR="10800" stAng="5992196" swAng="93174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949" y="21440"/>
                      </a:moveTo>
                      <a:arcTo wR="10800" hR="10800" stAng="5992196" swAng="9317479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240000">
                  <a:off x="8168400" y="5804640"/>
                  <a:ext cx="157320" cy="174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45" y="20001"/>
                      </a:moveTo>
                      <a:arcTo wR="10800" hR="10800" stAng="7294636" swAng="68952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45" y="20001"/>
                      </a:moveTo>
                      <a:arcTo wR="10800" hR="10800" stAng="7294636" swAng="6895237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40000">
                  <a:off x="8030880" y="5801760"/>
                  <a:ext cx="16092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39" y="20058"/>
                      </a:moveTo>
                      <a:arcTo wR="10800" hR="10800" stAng="7259494" swAng="69666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39" y="20058"/>
                      </a:moveTo>
                      <a:arcTo wR="10800" hR="10800" stAng="7259494" swAng="6966662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40000">
                  <a:off x="8107200" y="5803200"/>
                  <a:ext cx="157320" cy="175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57" y="20009"/>
                      </a:moveTo>
                      <a:arcTo wR="10800" hR="10800" stAng="7289984" swAng="69046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57" y="20009"/>
                      </a:moveTo>
                      <a:arcTo wR="10800" hR="10800" stAng="7289984" swAng="6904688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40000">
                  <a:off x="7976880" y="5801400"/>
                  <a:ext cx="158040" cy="177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21" y="19986"/>
                      </a:moveTo>
                      <a:arcTo wR="10800" hR="10800" stAng="7303626" swAng="69095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21" y="19986"/>
                      </a:moveTo>
                      <a:arcTo wR="10800" hR="10800" stAng="7303626" swAng="6909543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40000">
                  <a:off x="8229240" y="5814720"/>
                  <a:ext cx="158040" cy="175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07" y="19978"/>
                      </a:moveTo>
                      <a:arcTo wR="10800" hR="10800" stAng="7308543" swAng="690027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07" y="19978"/>
                      </a:moveTo>
                      <a:arcTo wR="10800" hR="10800" stAng="7308543" swAng="6900278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40000">
                  <a:off x="7921440" y="5791680"/>
                  <a:ext cx="15732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58" y="20129"/>
                      </a:moveTo>
                      <a:arcTo wR="10800" hR="10800" stAng="7215386" swAng="7051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58" y="20129"/>
                      </a:moveTo>
                      <a:arcTo wR="10800" hR="10800" stAng="7215386" swAng="7051958"/>
                    </a:path>
                  </a:pathLst>
                </a:custGeom>
                <a:noFill/>
                <a:ln cap="rnd"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740720" y="5794560"/>
                  <a:ext cx="144000" cy="147240"/>
                </a:xfrm>
                <a:custGeom>
                  <a:avLst/>
                  <a:gdLst/>
                  <a:ahLst/>
                  <a:rect l="l" t="t" r="r" b="b"/>
                  <a:pathLst>
                    <a:path w="91" h="93">
                      <a:moveTo>
                        <a:pt x="67" y="8"/>
                      </a:moveTo>
                      <a:lnTo>
                        <a:pt x="62" y="11"/>
                      </a:lnTo>
                      <a:lnTo>
                        <a:pt x="58" y="14"/>
                      </a:lnTo>
                      <a:lnTo>
                        <a:pt x="52" y="13"/>
                      </a:lnTo>
                      <a:lnTo>
                        <a:pt x="50" y="17"/>
                      </a:lnTo>
                      <a:lnTo>
                        <a:pt x="46" y="17"/>
                      </a:lnTo>
                      <a:lnTo>
                        <a:pt x="42" y="20"/>
                      </a:lnTo>
                      <a:lnTo>
                        <a:pt x="38" y="22"/>
                      </a:lnTo>
                      <a:lnTo>
                        <a:pt x="34" y="23"/>
                      </a:lnTo>
                      <a:lnTo>
                        <a:pt x="30" y="25"/>
                      </a:lnTo>
                      <a:lnTo>
                        <a:pt x="28" y="30"/>
                      </a:lnTo>
                      <a:lnTo>
                        <a:pt x="25" y="33"/>
                      </a:lnTo>
                      <a:lnTo>
                        <a:pt x="26" y="38"/>
                      </a:lnTo>
                      <a:lnTo>
                        <a:pt x="21" y="38"/>
                      </a:lnTo>
                      <a:lnTo>
                        <a:pt x="17" y="39"/>
                      </a:lnTo>
                      <a:lnTo>
                        <a:pt x="11" y="39"/>
                      </a:lnTo>
                      <a:lnTo>
                        <a:pt x="7" y="46"/>
                      </a:lnTo>
                      <a:lnTo>
                        <a:pt x="4" y="53"/>
                      </a:lnTo>
                      <a:lnTo>
                        <a:pt x="3" y="55"/>
                      </a:lnTo>
                      <a:lnTo>
                        <a:pt x="2" y="58"/>
                      </a:lnTo>
                      <a:lnTo>
                        <a:pt x="2" y="61"/>
                      </a:lnTo>
                      <a:lnTo>
                        <a:pt x="0" y="64"/>
                      </a:lnTo>
                      <a:lnTo>
                        <a:pt x="6" y="68"/>
                      </a:lnTo>
                      <a:lnTo>
                        <a:pt x="10" y="68"/>
                      </a:lnTo>
                      <a:lnTo>
                        <a:pt x="16" y="70"/>
                      </a:lnTo>
                      <a:lnTo>
                        <a:pt x="21" y="73"/>
                      </a:lnTo>
                      <a:lnTo>
                        <a:pt x="27" y="76"/>
                      </a:lnTo>
                      <a:lnTo>
                        <a:pt x="32" y="79"/>
                      </a:lnTo>
                      <a:lnTo>
                        <a:pt x="40" y="85"/>
                      </a:lnTo>
                      <a:lnTo>
                        <a:pt x="49" y="87"/>
                      </a:lnTo>
                      <a:lnTo>
                        <a:pt x="52" y="87"/>
                      </a:lnTo>
                      <a:lnTo>
                        <a:pt x="57" y="88"/>
                      </a:lnTo>
                      <a:lnTo>
                        <a:pt x="74" y="90"/>
                      </a:lnTo>
                      <a:lnTo>
                        <a:pt x="89" y="92"/>
                      </a:lnTo>
                      <a:lnTo>
                        <a:pt x="90" y="88"/>
                      </a:lnTo>
                      <a:lnTo>
                        <a:pt x="89" y="85"/>
                      </a:lnTo>
                      <a:lnTo>
                        <a:pt x="88" y="81"/>
                      </a:lnTo>
                      <a:lnTo>
                        <a:pt x="85" y="75"/>
                      </a:lnTo>
                      <a:lnTo>
                        <a:pt x="84" y="73"/>
                      </a:lnTo>
                      <a:lnTo>
                        <a:pt x="84" y="70"/>
                      </a:lnTo>
                      <a:lnTo>
                        <a:pt x="82" y="63"/>
                      </a:lnTo>
                      <a:lnTo>
                        <a:pt x="80" y="61"/>
                      </a:lnTo>
                      <a:lnTo>
                        <a:pt x="80" y="57"/>
                      </a:lnTo>
                      <a:lnTo>
                        <a:pt x="80" y="51"/>
                      </a:lnTo>
                      <a:lnTo>
                        <a:pt x="80" y="43"/>
                      </a:lnTo>
                      <a:lnTo>
                        <a:pt x="79" y="33"/>
                      </a:lnTo>
                      <a:lnTo>
                        <a:pt x="84" y="31"/>
                      </a:lnTo>
                      <a:lnTo>
                        <a:pt x="87" y="28"/>
                      </a:lnTo>
                      <a:lnTo>
                        <a:pt x="87" y="25"/>
                      </a:lnTo>
                      <a:lnTo>
                        <a:pt x="87" y="22"/>
                      </a:lnTo>
                      <a:lnTo>
                        <a:pt x="87" y="18"/>
                      </a:lnTo>
                      <a:lnTo>
                        <a:pt x="87" y="15"/>
                      </a:lnTo>
                      <a:lnTo>
                        <a:pt x="89" y="13"/>
                      </a:lnTo>
                      <a:lnTo>
                        <a:pt x="89" y="9"/>
                      </a:lnTo>
                      <a:lnTo>
                        <a:pt x="90" y="6"/>
                      </a:lnTo>
                      <a:lnTo>
                        <a:pt x="90" y="0"/>
                      </a:lnTo>
                      <a:lnTo>
                        <a:pt x="87" y="0"/>
                      </a:lnTo>
                      <a:lnTo>
                        <a:pt x="82" y="1"/>
                      </a:lnTo>
                      <a:lnTo>
                        <a:pt x="79" y="1"/>
                      </a:lnTo>
                      <a:lnTo>
                        <a:pt x="76" y="4"/>
                      </a:lnTo>
                      <a:lnTo>
                        <a:pt x="73" y="7"/>
                      </a:lnTo>
                      <a:lnTo>
                        <a:pt x="71" y="10"/>
                      </a:lnTo>
                      <a:lnTo>
                        <a:pt x="67" y="8"/>
                      </a:lnTo>
                      <a:lnTo>
                        <a:pt x="67" y="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566840" y="4872960"/>
                <a:ext cx="902160" cy="606240"/>
                <a:chOff x="7566840" y="4872960"/>
                <a:chExt cx="902160" cy="60624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7758720" y="4872960"/>
                  <a:ext cx="710280" cy="488880"/>
                  <a:chOff x="7758720" y="4872960"/>
                  <a:chExt cx="710280" cy="4888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flipH="1" rot="20273400">
                    <a:off x="7782840" y="4987800"/>
                    <a:ext cx="661320" cy="2592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V="1" rot="292800">
                    <a:off x="8141760" y="5157360"/>
                    <a:ext cx="151200" cy="149400"/>
                  </a:xfrm>
                  <a:custGeom>
                    <a:avLst/>
                    <a:gdLst>
                      <a:gd name="textAreaLeft" fmla="*/ 33120 w 151200"/>
                      <a:gd name="textAreaRight" fmla="*/ 118080 w 151200"/>
                      <a:gd name="textAreaTop" fmla="*/ 32760 h 149400"/>
                      <a:gd name="textAreaBottom" fmla="*/ 116640 h 149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1" y="21600"/>
                        </a:lnTo>
                        <a:lnTo>
                          <a:pt x="5399" y="21600"/>
                        </a:lnTo>
                        <a:close/>
                      </a:path>
                    </a:pathLst>
                  </a:custGeom>
                  <a:solidFill>
                    <a:srgbClr val="00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0273400">
                    <a:off x="8248680" y="4900680"/>
                    <a:ext cx="98280" cy="105840"/>
                  </a:xfrm>
                  <a:prstGeom prst="ellipse">
                    <a:avLst/>
                  </a:prstGeom>
                  <a:solidFill>
                    <a:srgbClr val="ff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rot="20273400">
                    <a:off x="8316000" y="4952880"/>
                    <a:ext cx="39960" cy="36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rot="20273400">
                    <a:off x="8289000" y="5013360"/>
                    <a:ext cx="1512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35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20" y="0"/>
                        </a:lnTo>
                        <a:lnTo>
                          <a:pt x="26" y="2"/>
                        </a:lnTo>
                        <a:lnTo>
                          <a:pt x="32" y="4"/>
                        </a:lnTo>
                        <a:lnTo>
                          <a:pt x="38" y="8"/>
                        </a:lnTo>
                        <a:lnTo>
                          <a:pt x="44" y="10"/>
                        </a:lnTo>
                        <a:lnTo>
                          <a:pt x="48" y="16"/>
                        </a:lnTo>
                        <a:lnTo>
                          <a:pt x="54" y="18"/>
                        </a:lnTo>
                        <a:lnTo>
                          <a:pt x="58" y="24"/>
                        </a:lnTo>
                        <a:lnTo>
                          <a:pt x="64" y="28"/>
                        </a:lnTo>
                        <a:lnTo>
                          <a:pt x="70" y="30"/>
                        </a:lnTo>
                        <a:lnTo>
                          <a:pt x="76" y="34"/>
                        </a:lnTo>
                        <a:lnTo>
                          <a:pt x="82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 flipH="1" rot="20273400">
                  <a:off x="7807320" y="4938480"/>
                  <a:ext cx="297000" cy="136800"/>
                </a:xfrm>
                <a:custGeom>
                  <a:avLst/>
                  <a:gdLst/>
                  <a:ahLst/>
                  <a:rect l="l" t="t" r="r" b="b"/>
                  <a:pathLst>
                    <a:path w="163" h="75">
                      <a:moveTo>
                        <a:pt x="0" y="63"/>
                      </a:moveTo>
                      <a:lnTo>
                        <a:pt x="10" y="58"/>
                      </a:lnTo>
                      <a:lnTo>
                        <a:pt x="18" y="52"/>
                      </a:lnTo>
                      <a:lnTo>
                        <a:pt x="25" y="52"/>
                      </a:lnTo>
                      <a:lnTo>
                        <a:pt x="33" y="52"/>
                      </a:lnTo>
                      <a:lnTo>
                        <a:pt x="41" y="52"/>
                      </a:lnTo>
                      <a:lnTo>
                        <a:pt x="48" y="52"/>
                      </a:lnTo>
                      <a:lnTo>
                        <a:pt x="56" y="52"/>
                      </a:lnTo>
                      <a:lnTo>
                        <a:pt x="64" y="52"/>
                      </a:lnTo>
                      <a:lnTo>
                        <a:pt x="72" y="52"/>
                      </a:lnTo>
                      <a:lnTo>
                        <a:pt x="79" y="58"/>
                      </a:lnTo>
                      <a:lnTo>
                        <a:pt x="87" y="63"/>
                      </a:lnTo>
                      <a:lnTo>
                        <a:pt x="95" y="68"/>
                      </a:lnTo>
                      <a:lnTo>
                        <a:pt x="102" y="68"/>
                      </a:lnTo>
                      <a:lnTo>
                        <a:pt x="110" y="74"/>
                      </a:lnTo>
                      <a:lnTo>
                        <a:pt x="118" y="74"/>
                      </a:lnTo>
                      <a:lnTo>
                        <a:pt x="120" y="58"/>
                      </a:lnTo>
                      <a:lnTo>
                        <a:pt x="126" y="42"/>
                      </a:lnTo>
                      <a:lnTo>
                        <a:pt x="136" y="37"/>
                      </a:lnTo>
                      <a:lnTo>
                        <a:pt x="146" y="31"/>
                      </a:lnTo>
                      <a:lnTo>
                        <a:pt x="154" y="31"/>
                      </a:lnTo>
                      <a:lnTo>
                        <a:pt x="162" y="31"/>
                      </a:lnTo>
                      <a:lnTo>
                        <a:pt x="154" y="26"/>
                      </a:lnTo>
                      <a:lnTo>
                        <a:pt x="146" y="26"/>
                      </a:lnTo>
                      <a:lnTo>
                        <a:pt x="146" y="10"/>
                      </a:lnTo>
                      <a:lnTo>
                        <a:pt x="138" y="15"/>
                      </a:lnTo>
                      <a:lnTo>
                        <a:pt x="133" y="31"/>
                      </a:lnTo>
                      <a:lnTo>
                        <a:pt x="126" y="15"/>
                      </a:lnTo>
                      <a:lnTo>
                        <a:pt x="120" y="0"/>
                      </a:lnTo>
                      <a:lnTo>
                        <a:pt x="113" y="15"/>
                      </a:lnTo>
                      <a:lnTo>
                        <a:pt x="108" y="31"/>
                      </a:lnTo>
                      <a:lnTo>
                        <a:pt x="100" y="42"/>
                      </a:lnTo>
                      <a:lnTo>
                        <a:pt x="95" y="26"/>
                      </a:lnTo>
                      <a:lnTo>
                        <a:pt x="87" y="31"/>
                      </a:lnTo>
                      <a:lnTo>
                        <a:pt x="79" y="37"/>
                      </a:lnTo>
                      <a:lnTo>
                        <a:pt x="72" y="26"/>
                      </a:lnTo>
                      <a:lnTo>
                        <a:pt x="64" y="15"/>
                      </a:lnTo>
                      <a:lnTo>
                        <a:pt x="56" y="10"/>
                      </a:lnTo>
                      <a:lnTo>
                        <a:pt x="54" y="26"/>
                      </a:lnTo>
                      <a:lnTo>
                        <a:pt x="46" y="37"/>
                      </a:lnTo>
                      <a:lnTo>
                        <a:pt x="38" y="37"/>
                      </a:lnTo>
                      <a:lnTo>
                        <a:pt x="30" y="21"/>
                      </a:lnTo>
                      <a:lnTo>
                        <a:pt x="23" y="21"/>
                      </a:lnTo>
                      <a:lnTo>
                        <a:pt x="15" y="31"/>
                      </a:lnTo>
                      <a:lnTo>
                        <a:pt x="7" y="42"/>
                      </a:lnTo>
                      <a:lnTo>
                        <a:pt x="0" y="63"/>
                      </a:lnTo>
                      <a:lnTo>
                        <a:pt x="0" y="63"/>
                      </a:lnTo>
                    </a:path>
                  </a:pathLst>
                </a:custGeom>
                <a:solidFill>
                  <a:srgbClr val="00ff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rot="20273400">
                  <a:off x="7624440" y="5106600"/>
                  <a:ext cx="205920" cy="346680"/>
                </a:xfrm>
                <a:custGeom>
                  <a:avLst/>
                  <a:gdLst/>
                  <a:ahLst/>
                  <a:rect l="l" t="t" r="r" b="b"/>
                  <a:pathLst>
                    <a:path w="113" h="190">
                      <a:moveTo>
                        <a:pt x="16" y="60"/>
                      </a:moveTo>
                      <a:lnTo>
                        <a:pt x="25" y="50"/>
                      </a:lnTo>
                      <a:lnTo>
                        <a:pt x="29" y="45"/>
                      </a:lnTo>
                      <a:lnTo>
                        <a:pt x="34" y="41"/>
                      </a:lnTo>
                      <a:lnTo>
                        <a:pt x="40" y="37"/>
                      </a:lnTo>
                      <a:lnTo>
                        <a:pt x="45" y="33"/>
                      </a:lnTo>
                      <a:lnTo>
                        <a:pt x="49" y="27"/>
                      </a:lnTo>
                      <a:lnTo>
                        <a:pt x="57" y="24"/>
                      </a:lnTo>
                      <a:lnTo>
                        <a:pt x="62" y="20"/>
                      </a:lnTo>
                      <a:lnTo>
                        <a:pt x="71" y="15"/>
                      </a:lnTo>
                      <a:lnTo>
                        <a:pt x="80" y="11"/>
                      </a:lnTo>
                      <a:lnTo>
                        <a:pt x="88" y="3"/>
                      </a:lnTo>
                      <a:lnTo>
                        <a:pt x="95" y="0"/>
                      </a:lnTo>
                      <a:lnTo>
                        <a:pt x="100" y="6"/>
                      </a:lnTo>
                      <a:lnTo>
                        <a:pt x="106" y="10"/>
                      </a:lnTo>
                      <a:lnTo>
                        <a:pt x="105" y="17"/>
                      </a:lnTo>
                      <a:lnTo>
                        <a:pt x="101" y="22"/>
                      </a:lnTo>
                      <a:lnTo>
                        <a:pt x="105" y="30"/>
                      </a:lnTo>
                      <a:lnTo>
                        <a:pt x="106" y="38"/>
                      </a:lnTo>
                      <a:lnTo>
                        <a:pt x="100" y="42"/>
                      </a:lnTo>
                      <a:lnTo>
                        <a:pt x="103" y="52"/>
                      </a:lnTo>
                      <a:lnTo>
                        <a:pt x="107" y="57"/>
                      </a:lnTo>
                      <a:lnTo>
                        <a:pt x="111" y="65"/>
                      </a:lnTo>
                      <a:lnTo>
                        <a:pt x="112" y="73"/>
                      </a:lnTo>
                      <a:lnTo>
                        <a:pt x="112" y="81"/>
                      </a:lnTo>
                      <a:lnTo>
                        <a:pt x="107" y="85"/>
                      </a:lnTo>
                      <a:lnTo>
                        <a:pt x="98" y="90"/>
                      </a:lnTo>
                      <a:lnTo>
                        <a:pt x="90" y="93"/>
                      </a:lnTo>
                      <a:lnTo>
                        <a:pt x="83" y="96"/>
                      </a:lnTo>
                      <a:lnTo>
                        <a:pt x="79" y="101"/>
                      </a:lnTo>
                      <a:lnTo>
                        <a:pt x="73" y="105"/>
                      </a:lnTo>
                      <a:lnTo>
                        <a:pt x="68" y="109"/>
                      </a:lnTo>
                      <a:lnTo>
                        <a:pt x="62" y="113"/>
                      </a:lnTo>
                      <a:lnTo>
                        <a:pt x="58" y="121"/>
                      </a:lnTo>
                      <a:lnTo>
                        <a:pt x="54" y="126"/>
                      </a:lnTo>
                      <a:lnTo>
                        <a:pt x="50" y="132"/>
                      </a:lnTo>
                      <a:lnTo>
                        <a:pt x="47" y="137"/>
                      </a:lnTo>
                      <a:lnTo>
                        <a:pt x="43" y="143"/>
                      </a:lnTo>
                      <a:lnTo>
                        <a:pt x="38" y="147"/>
                      </a:lnTo>
                      <a:lnTo>
                        <a:pt x="34" y="152"/>
                      </a:lnTo>
                      <a:lnTo>
                        <a:pt x="31" y="158"/>
                      </a:lnTo>
                      <a:lnTo>
                        <a:pt x="27" y="163"/>
                      </a:lnTo>
                      <a:lnTo>
                        <a:pt x="24" y="169"/>
                      </a:lnTo>
                      <a:lnTo>
                        <a:pt x="22" y="175"/>
                      </a:lnTo>
                      <a:lnTo>
                        <a:pt x="21" y="182"/>
                      </a:lnTo>
                      <a:lnTo>
                        <a:pt x="19" y="189"/>
                      </a:lnTo>
                      <a:lnTo>
                        <a:pt x="14" y="183"/>
                      </a:lnTo>
                      <a:lnTo>
                        <a:pt x="10" y="176"/>
                      </a:lnTo>
                      <a:lnTo>
                        <a:pt x="8" y="166"/>
                      </a:lnTo>
                      <a:lnTo>
                        <a:pt x="4" y="159"/>
                      </a:lnTo>
                      <a:lnTo>
                        <a:pt x="4" y="150"/>
                      </a:lnTo>
                      <a:lnTo>
                        <a:pt x="0" y="143"/>
                      </a:lnTo>
                      <a:lnTo>
                        <a:pt x="1" y="136"/>
                      </a:lnTo>
                      <a:lnTo>
                        <a:pt x="1" y="128"/>
                      </a:lnTo>
                      <a:lnTo>
                        <a:pt x="0" y="120"/>
                      </a:lnTo>
                      <a:lnTo>
                        <a:pt x="4" y="114"/>
                      </a:lnTo>
                      <a:lnTo>
                        <a:pt x="7" y="109"/>
                      </a:lnTo>
                      <a:lnTo>
                        <a:pt x="9" y="102"/>
                      </a:lnTo>
                      <a:lnTo>
                        <a:pt x="10" y="95"/>
                      </a:lnTo>
                      <a:lnTo>
                        <a:pt x="10" y="87"/>
                      </a:lnTo>
                      <a:lnTo>
                        <a:pt x="5" y="81"/>
                      </a:lnTo>
                      <a:lnTo>
                        <a:pt x="1" y="74"/>
                      </a:lnTo>
                      <a:lnTo>
                        <a:pt x="1" y="66"/>
                      </a:lnTo>
                      <a:lnTo>
                        <a:pt x="16" y="60"/>
                      </a:lnTo>
                      <a:lnTo>
                        <a:pt x="16" y="60"/>
                      </a:lnTo>
                    </a:path>
                  </a:pathLst>
                </a:custGeom>
                <a:solidFill>
                  <a:srgbClr val="00ff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rot="20273400">
                  <a:off x="8106120" y="5112000"/>
                  <a:ext cx="25200" cy="25560"/>
                </a:xfrm>
                <a:prstGeom prst="ellipse">
                  <a:avLst/>
                </a:prstGeom>
                <a:solidFill>
                  <a:srgbClr val="ff6633"/>
                </a:solidFill>
                <a:ln w="12600">
                  <a:solidFill>
                    <a:srgbClr val="ff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rot="20273400">
                  <a:off x="8003520" y="5121720"/>
                  <a:ext cx="25560" cy="25560"/>
                </a:xfrm>
                <a:prstGeom prst="ellipse">
                  <a:avLst/>
                </a:prstGeom>
                <a:solidFill>
                  <a:srgbClr val="ff6633"/>
                </a:solidFill>
                <a:ln w="12600">
                  <a:solidFill>
                    <a:srgbClr val="ff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rot="20273400">
                  <a:off x="7972560" y="5209560"/>
                  <a:ext cx="25200" cy="25560"/>
                </a:xfrm>
                <a:prstGeom prst="ellipse">
                  <a:avLst/>
                </a:prstGeom>
                <a:solidFill>
                  <a:srgbClr val="ff6633"/>
                </a:solidFill>
                <a:ln w="12600">
                  <a:solidFill>
                    <a:srgbClr val="ff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8101080" y="4138200"/>
                <a:ext cx="268200" cy="495720"/>
                <a:chOff x="8101080" y="4138200"/>
                <a:chExt cx="268200" cy="4957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8145720" y="4305240"/>
                  <a:ext cx="15876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172720" y="4356000"/>
                  <a:ext cx="109440" cy="24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269560" y="4410000"/>
                  <a:ext cx="99720" cy="10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15280" y="4444920"/>
                  <a:ext cx="42840" cy="349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101080" y="4410000"/>
                  <a:ext cx="100080" cy="10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102880" y="4444920"/>
                  <a:ext cx="42840" cy="349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8205480" y="4138200"/>
                  <a:ext cx="20520" cy="174600"/>
                </a:xfrm>
                <a:prstGeom prst="line">
                  <a:avLst/>
                </a:prstGeom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280360" y="4541760"/>
                  <a:ext cx="57240" cy="46080"/>
                </a:xfrm>
                <a:prstGeom prst="line">
                  <a:avLst/>
                </a:prstGeom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213760" y="4530600"/>
                  <a:ext cx="30240" cy="381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8115120" y="4552920"/>
                  <a:ext cx="57240" cy="46080"/>
                </a:xfrm>
                <a:prstGeom prst="line">
                  <a:avLst/>
                </a:prstGeom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414200" y="3173040"/>
                <a:ext cx="1235880" cy="560160"/>
                <a:chOff x="7414200" y="3173040"/>
                <a:chExt cx="1235880" cy="560160"/>
              </a:xfrm>
            </p:grpSpPr>
            <p:sp>
              <p:nvSpPr>
                <p:cNvPr id="278" name=""/>
                <p:cNvSpPr/>
                <p:nvPr/>
              </p:nvSpPr>
              <p:spPr>
                <a:xfrm flipH="1" rot="20520000">
                  <a:off x="7961040" y="3270240"/>
                  <a:ext cx="668160" cy="23760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 rot="18060000">
                  <a:off x="7559280" y="3230640"/>
                  <a:ext cx="285840" cy="50148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 rot="20520000">
                  <a:off x="8463960" y="3194280"/>
                  <a:ext cx="81000" cy="93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 rot="3240000">
                  <a:off x="8223480" y="3376080"/>
                  <a:ext cx="180720" cy="330120"/>
                </a:xfrm>
                <a:custGeom>
                  <a:avLst/>
                  <a:gdLst>
                    <a:gd name="textAreaLeft" fmla="*/ 39600 w 180720"/>
                    <a:gd name="textAreaRight" fmla="*/ 141120 w 180720"/>
                    <a:gd name="textAreaTop" fmla="*/ 72360 h 330120"/>
                    <a:gd name="textAreaBottom" fmla="*/ 257760 h 330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1" y="21600"/>
                      </a:lnTo>
                      <a:lnTo>
                        <a:pt x="5399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rot="20160000">
                  <a:off x="7917840" y="3262680"/>
                  <a:ext cx="371520" cy="81000"/>
                </a:xfrm>
                <a:prstGeom prst="parallelogram">
                  <a:avLst>
                    <a:gd name="adj" fmla="val 114645"/>
                  </a:avLst>
                </a:prstGeom>
                <a:gradFill rotWithShape="0">
                  <a:gsLst>
                    <a:gs pos="0">
                      <a:srgbClr val="ff0033"/>
                    </a:gs>
                    <a:gs pos="100000">
                      <a:srgbClr val="ffff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 rot="20520000">
                  <a:off x="8500320" y="3221280"/>
                  <a:ext cx="34920" cy="27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8498880" y="3310200"/>
                  <a:ext cx="117720" cy="61920"/>
                </a:xfrm>
                <a:custGeom>
                  <a:avLst/>
                  <a:gdLst/>
                  <a:ahLst/>
                  <a:rect l="l" t="t" r="r" b="b"/>
                  <a:pathLst>
                    <a:path w="74" h="39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14" y="2"/>
                      </a:lnTo>
                      <a:lnTo>
                        <a:pt x="20" y="4"/>
                      </a:lnTo>
                      <a:lnTo>
                        <a:pt x="24" y="8"/>
                      </a:lnTo>
                      <a:lnTo>
                        <a:pt x="26" y="17"/>
                      </a:lnTo>
                      <a:lnTo>
                        <a:pt x="30" y="19"/>
                      </a:lnTo>
                      <a:lnTo>
                        <a:pt x="42" y="22"/>
                      </a:lnTo>
                      <a:lnTo>
                        <a:pt x="48" y="24"/>
                      </a:lnTo>
                      <a:lnTo>
                        <a:pt x="52" y="23"/>
                      </a:lnTo>
                      <a:lnTo>
                        <a:pt x="59" y="19"/>
                      </a:lnTo>
                      <a:lnTo>
                        <a:pt x="62" y="21"/>
                      </a:lnTo>
                      <a:lnTo>
                        <a:pt x="67" y="22"/>
                      </a:lnTo>
                      <a:lnTo>
                        <a:pt x="69" y="29"/>
                      </a:lnTo>
                      <a:lnTo>
                        <a:pt x="73" y="3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7562880" y="70344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fore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5:25:23Z</dcterms:created>
  <dc:creator>peter.pollard</dc:creator>
  <dc:description/>
  <dc:language>en-US</dc:language>
  <cp:lastModifiedBy>peter.pollard</cp:lastModifiedBy>
  <dcterms:modified xsi:type="dcterms:W3CDTF">2008-03-07T08:13:29Z</dcterms:modified>
  <cp:revision>17</cp:revision>
  <dc:subject/>
  <dc:title>Slide 1</dc:title>
</cp:coreProperties>
</file>