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344-A598-4D32-BEC9-0773813B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894-3727-4B23-84DA-B3B6438F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0AD-4788-41B5-8F95-8FC8937D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AC0-2126-4A00-B03D-BB8BD563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6E2-8550-4083-91F0-9AEB396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381-0DD1-4197-9128-3FE3E68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3D5-954E-416F-8FBA-458F45B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F70-533A-43B5-9776-FD396AFA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333-9577-42E4-B53E-BC298F95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F58-272F-4E7D-8718-7C100510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BCC-302D-4D6F-A686-1BBDE9B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E0C-496C-4290-843F-117E710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96A-62DB-43AD-A09F-D57E6A8CE7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2198520"/>
            <a:ext cx="800100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trophic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pollu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morphological degrad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degrad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idific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vention for Session A: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67680" y="115920"/>
            <a:ext cx="1763640" cy="53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942840"/>
            <a:ext cx="8404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perational monitoring in rivers in Germany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dicators for assessing the main stressor ar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17840" y="2301840"/>
            <a:ext cx="1008000" cy="26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9880" y="2104920"/>
            <a:ext cx="115272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19520" y="2928960"/>
            <a:ext cx="110628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648320" y="3649680"/>
            <a:ext cx="110628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276720" y="4441680"/>
            <a:ext cx="110628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648320" y="4292640"/>
            <a:ext cx="1224000" cy="50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362320" y="5089680"/>
            <a:ext cx="1106280" cy="35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172200" y="3500280"/>
            <a:ext cx="1224000" cy="50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733920" y="5157720"/>
            <a:ext cx="57600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iver basin district analysis 2004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kelihood to reach the good ecological status in rivers</a:t>
            </a: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360" y="233856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mary reasons for failing the 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dromp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ther pollu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889440" cy="2630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93840" y="5661000"/>
            <a:ext cx="137016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t at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97080" y="5950080"/>
            <a:ext cx="129528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sibly at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79800" y="5373720"/>
            <a:ext cx="160020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t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6560" y="544500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5734080"/>
            <a:ext cx="144360" cy="144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6021360"/>
            <a:ext cx="144360" cy="1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vention for Session A: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920" y="511200"/>
            <a:ext cx="8404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Number of operational monitoring sites in rivers in the Federal State “Hess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38200" y="60818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croinverteb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6095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6297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croph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608184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hytoplank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1905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258920"/>
            <a:ext cx="8064360" cy="501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6200000">
            <a:off x="-838440" y="3618000"/>
            <a:ext cx="3124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ber of monitoring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1736640"/>
            <a:ext cx="1008000" cy="3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1008000" cy="26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516720" y="17002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516720" y="2205000"/>
            <a:ext cx="1150920" cy="36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03280" y="6148440"/>
            <a:ext cx="201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kroinverteb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8320" y="6297480"/>
            <a:ext cx="6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542916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(7 x per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27000"/>
            <a:ext cx="9144000" cy="3049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vention for Session A: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8348760" y="108000"/>
            <a:ext cx="637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04:14Z</dcterms:created>
  <dc:creator> </dc:creator>
  <dc:description/>
  <dc:language>en-US</dc:language>
  <cp:lastModifiedBy>janetc</cp:lastModifiedBy>
  <dcterms:modified xsi:type="dcterms:W3CDTF">2008-03-04T09:14:16Z</dcterms:modified>
  <cp:revision>140</cp:revision>
  <dc:subject/>
  <dc:title>PowerPoint-Präsentation</dc:title>
</cp:coreProperties>
</file>