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6BE-AF5A-4A86-B382-E41DF4E0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215-AC2B-4625-BA95-C7F026D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6D0-A72A-48D2-9F08-9B1B505B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8E0-4028-40D8-8DE1-3435B3CA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F1F-2FDC-49C7-839D-27B60155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B30-91E1-44CF-BB4B-87782AD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7B7-4105-4DFE-9E34-F4C8824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7E3-F4F8-4BE8-B260-F56220D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82D-DBCA-4D8F-AF81-2A03F54D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FA2-0D87-4A7E-8272-340CB101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6EF-A415-4557-AF3C-F46E8C1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8BB-69A9-4415-850F-4590B3E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682E-0B09-469F-9FC5-31D15F78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13280" y="2287440"/>
            <a:ext cx="27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ssion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50028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Ideas on presenting classification 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404640"/>
            <a:ext cx="62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STAT Classification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067280" y="5661000"/>
          <a:ext cx="901440" cy="78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5661000"/>
                    <a:ext cx="9014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2133720"/>
            <a:ext cx="750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Are Member States planning to present disaggregated classification resul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2000" y="2133720"/>
            <a:ext cx="619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What types of disaggregated results are Member States planning to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133720"/>
            <a:ext cx="750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What benefits do Member States see in presenting disaggregated resul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32000" y="213372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Are Member States planning to present information on confidence and prec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32000" y="213372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How are Member States planning to present information on confidence of c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32000" y="213372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6. Are Member States content with the Cion’s proposals for WISE repor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20:37Z</dcterms:created>
  <dc:creator>peter.pollard</dc:creator>
  <dc:description/>
  <dc:language>en-US</dc:language>
  <cp:lastModifiedBy>peter.pollard</cp:lastModifiedBy>
  <dcterms:modified xsi:type="dcterms:W3CDTF">2008-03-05T16:46:00Z</dcterms:modified>
  <cp:revision>2</cp:revision>
  <dc:subject/>
  <dc:title>Slide 1</dc:title>
</cp:coreProperties>
</file>