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BDF-2889-4EBA-8C7C-F1AD3E3E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964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E25-E3E0-4173-8B12-039E4EB0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566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96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566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35E-B3B1-4CD1-8C6A-67C98214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0452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0452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A11-E1E5-46E4-9663-14FCC19C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B0D0-76F2-4118-857D-01D5215F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FA0C-7C7B-4916-B945-3EEA5AC9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87B4-1EDC-459C-A94D-14AA3176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566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981E-899B-4812-8E61-D861E4EB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A03F-9EF9-4F05-AF38-86D2B671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4741-8D86-45BE-A912-81483D9A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6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96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CAD9-D9B9-4FC4-9800-9A5A4A13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6C0-1B2C-4151-9444-1BDB4240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6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566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406F-8D3B-4E7D-9B87-4D833FA6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66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964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F5CD-E2B1-4E9F-8EFC-E305267A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964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A6A4-6093-454B-BA89-428C3228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66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96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566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10C0-7695-4AA9-AA5B-FB592842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0452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0452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D9F5-1153-4E57-9F28-312D8A97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03A-18A0-4416-9810-109AE90B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6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1F0-FAD7-486E-89F0-BE630AB0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167-0AF6-4734-9D85-5A659707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399-1B7C-4255-A3AC-A6FF26D4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6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96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CC7-3148-48B7-B27A-57454BBF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566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566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2C7-0A62-46B9-8DE9-84B8AAFA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66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964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FBF-3956-4F87-BCB1-62BA4F2B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B28D-E0FD-449C-98D4-3F06A0C83E4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FDEF-03CA-44CA-820A-BB08C1A731A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78920" y="1484280"/>
            <a:ext cx="2411640" cy="649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66"/>
                </a:solidFill>
                <a:latin typeface="Garamond"/>
              </a:rPr>
              <a:t>BQE Result Class </a:t>
            </a:r>
            <a:r>
              <a:rPr b="1" lang="en-US" sz="2000" spc="-1" strike="noStrike">
                <a:solidFill>
                  <a:srgbClr val="ffff66"/>
                </a:solidFill>
                <a:latin typeface="Garamond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66"/>
                </a:solidFill>
                <a:latin typeface="Garamond"/>
              </a:rPr>
              <a:t>One-out, all-ou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25092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Garamond"/>
              </a:rPr>
              <a:t>ES classification in Slovaki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20640"/>
            <a:ext cx="759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PosterBodoni BT"/>
              </a:rPr>
              <a:t>National Reference Laboratory for Waters,Water Research Institu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PosterBodoni BT"/>
              </a:rPr>
              <a:t>Slovak Hydrometeorological Institu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661000"/>
            <a:ext cx="49323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PosterBodoni BT"/>
              </a:rPr>
              <a:t>ES Result Class </a:t>
            </a:r>
            <a:r>
              <a:rPr b="1" lang="en-US" sz="2400" spc="-1" strike="noStrike">
                <a:solidFill>
                  <a:srgbClr val="ff0000"/>
                </a:solidFill>
                <a:latin typeface="PosterBodoni BT"/>
              </a:rPr>
              <a:t>= </a:t>
            </a:r>
            <a:r>
              <a:rPr b="1" lang="sk-SK" sz="2400" spc="-1" strike="noStrike">
                <a:solidFill>
                  <a:srgbClr val="ff0000"/>
                </a:solidFill>
                <a:latin typeface="PosterBodoni BT"/>
              </a:rPr>
              <a:t>BQE</a:t>
            </a:r>
            <a:r>
              <a:rPr b="1" lang="en-US" sz="2400" spc="-1" strike="noStrike">
                <a:solidFill>
                  <a:srgbClr val="ff0000"/>
                </a:solidFill>
                <a:latin typeface="PosterBodoni BT"/>
              </a:rPr>
              <a:t> </a:t>
            </a:r>
            <a:r>
              <a:rPr b="1" lang="sk-SK" sz="2400" spc="-1" strike="noStrike">
                <a:solidFill>
                  <a:srgbClr val="ff0000"/>
                </a:solidFill>
                <a:latin typeface="PosterBodoni BT"/>
              </a:rPr>
              <a:t>Result </a:t>
            </a:r>
            <a:r>
              <a:rPr b="1" lang="sk-SK" sz="2400" spc="-1" strike="noStrike">
                <a:solidFill>
                  <a:srgbClr val="ff0000"/>
                </a:solidFill>
                <a:latin typeface="PosterBodoni BT"/>
              </a:rPr>
              <a:t>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1197000"/>
            <a:ext cx="3889440" cy="121464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66ff66"/>
                </a:solidFill>
                <a:latin typeface="Garamond"/>
              </a:rPr>
              <a:t>G PhCh QE </a:t>
            </a:r>
            <a:r>
              <a:rPr b="1" lang="sk-SK" sz="2400" spc="-1" strike="noStrike">
                <a:solidFill>
                  <a:srgbClr val="66ff66"/>
                </a:solidFill>
                <a:latin typeface="Garamond"/>
              </a:rPr>
              <a:t>Result Class</a:t>
            </a:r>
            <a:r>
              <a:rPr b="1" lang="sk-SK" sz="2400" spc="-1" strike="noStrike">
                <a:solidFill>
                  <a:srgbClr val="66ff66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66ff66"/>
                </a:solidFill>
                <a:latin typeface="Garamond"/>
              </a:rPr>
              <a:t>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66ff66"/>
                </a:solidFill>
                <a:latin typeface="Garamond"/>
              </a:rPr>
              <a:t>worst value of 12 QE</a:t>
            </a:r>
            <a:r>
              <a:rPr b="1" lang="sk-SK" sz="2000" spc="-1" strike="noStrike">
                <a:solidFill>
                  <a:srgbClr val="66ff66"/>
                </a:solidFill>
                <a:latin typeface="Garamond"/>
              </a:rPr>
              <a:t> classes -  </a:t>
            </a:r>
            <a:r>
              <a:rPr b="1" lang="sk-SK" sz="2400" spc="-1" strike="noStrike">
                <a:solidFill>
                  <a:srgbClr val="ff3300"/>
                </a:solidFill>
                <a:latin typeface="Garamond"/>
              </a:rPr>
              <a:t>P90</a:t>
            </a:r>
            <a:r>
              <a:rPr b="0" lang="sk-SK" sz="2000" spc="-1" strike="noStrike">
                <a:solidFill>
                  <a:srgbClr val="66ff66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76360" y="2565360"/>
            <a:ext cx="14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43280" y="1341360"/>
            <a:ext cx="4316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PosterBodoni BT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619280" y="1989000"/>
            <a:ext cx="1440000" cy="3527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19640" y="1341360"/>
            <a:ext cx="4316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osterBodoni BT"/>
              </a:rPr>
              <a:t>&l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11640" y="2349360"/>
            <a:ext cx="4032360" cy="87372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ff66"/>
                </a:solidFill>
                <a:latin typeface="Garamond"/>
              </a:rPr>
              <a:t>G PhCh QE </a:t>
            </a:r>
            <a:r>
              <a:rPr b="1" lang="sk-SK" sz="2000" spc="-1" strike="noStrike">
                <a:solidFill>
                  <a:srgbClr val="66ff66"/>
                </a:solidFill>
                <a:latin typeface="Garamond"/>
              </a:rPr>
              <a:t>Result Class</a:t>
            </a:r>
            <a:r>
              <a:rPr b="1" lang="sk-SK" sz="2000" spc="-1" strike="noStrike">
                <a:solidFill>
                  <a:srgbClr val="66ff66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6ff66"/>
                </a:solidFill>
                <a:latin typeface="Garamond"/>
              </a:rPr>
              <a:t>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66ff66"/>
                </a:solidFill>
                <a:latin typeface="Garamond"/>
              </a:rPr>
              <a:t>worst value of 12 QE</a:t>
            </a:r>
            <a:r>
              <a:rPr b="1" lang="sk-SK" sz="2000" spc="-1" strike="noStrike">
                <a:solidFill>
                  <a:srgbClr val="66ff66"/>
                </a:solidFill>
                <a:latin typeface="Garamond"/>
              </a:rPr>
              <a:t> classes -  </a:t>
            </a:r>
            <a:r>
              <a:rPr b="1" lang="sk-SK" sz="2400" spc="-1" strike="noStrike">
                <a:solidFill>
                  <a:srgbClr val="ff3300"/>
                </a:solidFill>
                <a:latin typeface="Garamond"/>
              </a:rPr>
              <a:t>P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3429000"/>
            <a:ext cx="3995640" cy="873720"/>
          </a:xfrm>
          <a:prstGeom prst="rect">
            <a:avLst/>
          </a:prstGeom>
          <a:noFill/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ff66"/>
                </a:solidFill>
                <a:latin typeface="Garamond"/>
              </a:rPr>
              <a:t>G PhCh QE </a:t>
            </a:r>
            <a:r>
              <a:rPr b="1" lang="sk-SK" sz="2000" spc="-1" strike="noStrike">
                <a:solidFill>
                  <a:srgbClr val="66ff66"/>
                </a:solidFill>
                <a:latin typeface="Garamond"/>
              </a:rPr>
              <a:t>Result Class</a:t>
            </a:r>
            <a:r>
              <a:rPr b="1" lang="sk-SK" sz="2000" spc="-1" strike="noStrike">
                <a:solidFill>
                  <a:srgbClr val="66ff66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66ff66"/>
                </a:solidFill>
                <a:latin typeface="Garamond"/>
              </a:rPr>
              <a:t>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66ff66"/>
                </a:solidFill>
                <a:latin typeface="Garamond"/>
              </a:rPr>
              <a:t>worst value of 12 QE</a:t>
            </a:r>
            <a:r>
              <a:rPr b="1" lang="sk-SK" sz="2000" spc="-1" strike="noStrike">
                <a:solidFill>
                  <a:srgbClr val="66ff66"/>
                </a:solidFill>
                <a:latin typeface="Garamond"/>
              </a:rPr>
              <a:t> classes -  </a:t>
            </a:r>
            <a:r>
              <a:rPr b="1" lang="sk-SK" sz="2400" spc="-1" strike="noStrike">
                <a:solidFill>
                  <a:srgbClr val="ff3300"/>
                </a:solidFill>
                <a:latin typeface="Garamond"/>
              </a:rPr>
              <a:t>P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51640" y="1989000"/>
            <a:ext cx="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306864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4221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PosterBodoni BT"/>
              </a:rPr>
              <a:t>checking procedure</a:t>
            </a:r>
            <a:r>
              <a:rPr b="0" lang="sk-SK" sz="2000" spc="-1" strike="noStrike">
                <a:solidFill>
                  <a:srgbClr val="ffffff"/>
                </a:solidFill>
                <a:latin typeface="PosterBodoni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003280" y="5732640"/>
            <a:ext cx="360360" cy="1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84720" y="5229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PosterBodoni BT"/>
              </a:rPr>
              <a:t>That </a:t>
            </a:r>
            <a:r>
              <a:rPr b="1" lang="sk-SK" sz="2000" spc="-1" strike="noStrike">
                <a:solidFill>
                  <a:srgbClr val="ffffff"/>
                </a:solidFill>
                <a:latin typeface="Garamond"/>
              </a:rPr>
              <a:t>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88000" y="4581360"/>
            <a:ext cx="4356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Garamond"/>
              </a:rPr>
              <a:t>(measured data, EQS boundaries, trends, sources of pollution, classification schemes .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35640" y="5373720"/>
            <a:ext cx="4067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PosterBodoni BT"/>
              </a:rPr>
              <a:t>1-year operational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Garamond"/>
              </a:rPr>
              <a:t>(12x-given WB, reprez. site, QE.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96000" y="602136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ff33"/>
                </a:solidFill>
                <a:latin typeface="Garamond"/>
              </a:rPr>
              <a:t>If confirmed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6391440"/>
            <a:ext cx="69120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PosterBodoni BT"/>
              </a:rPr>
              <a:t>ES Result Class </a:t>
            </a:r>
            <a:r>
              <a:rPr b="1" lang="en-US" sz="2400" spc="-1" strike="noStrike">
                <a:solidFill>
                  <a:srgbClr val="ff0000"/>
                </a:solidFill>
                <a:latin typeface="PosterBodoni BT"/>
              </a:rPr>
              <a:t>= </a:t>
            </a:r>
            <a:r>
              <a:rPr b="1" lang="sk-SK" sz="2400" spc="-1" strike="noStrike">
                <a:solidFill>
                  <a:srgbClr val="ff0000"/>
                </a:solidFill>
                <a:latin typeface="PosterBodoni BT"/>
              </a:rPr>
              <a:t>G </a:t>
            </a:r>
            <a:r>
              <a:rPr b="1" lang="sk-SK" sz="2400" spc="-1" strike="noStrike">
                <a:solidFill>
                  <a:srgbClr val="ff0000"/>
                </a:solidFill>
                <a:latin typeface="PosterBodoni BT"/>
              </a:rPr>
              <a:t>PhCh</a:t>
            </a:r>
            <a:r>
              <a:rPr b="1" lang="en-US" sz="2400" spc="-1" strike="noStrike">
                <a:solidFill>
                  <a:srgbClr val="ff0000"/>
                </a:solidFill>
                <a:latin typeface="PosterBodoni BT"/>
              </a:rPr>
              <a:t> </a:t>
            </a:r>
            <a:r>
              <a:rPr b="1" lang="sk-SK" sz="2400" spc="-1" strike="noStrike">
                <a:solidFill>
                  <a:srgbClr val="ff0000"/>
                </a:solidFill>
                <a:latin typeface="PosterBodoni BT"/>
              </a:rPr>
              <a:t>Result </a:t>
            </a:r>
            <a:r>
              <a:rPr b="1" lang="sk-SK" sz="2400" spc="-1" strike="noStrike">
                <a:solidFill>
                  <a:srgbClr val="ff0000"/>
                </a:solidFill>
                <a:latin typeface="PosterBodoni BT"/>
              </a:rPr>
              <a:t>Class +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205000"/>
            <a:ext cx="305928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99"/>
                </a:solidFill>
                <a:latin typeface="Garamond"/>
              </a:rPr>
              <a:t>all typ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99"/>
                </a:solidFill>
                <a:latin typeface="Garamond"/>
              </a:rPr>
              <a:t>benthic macroinvertebr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99"/>
                </a:solidFill>
                <a:latin typeface="Garamond"/>
              </a:rPr>
              <a:t>phytobenth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99"/>
                </a:solidFill>
                <a:latin typeface="Garamond"/>
              </a:rPr>
              <a:t>f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99"/>
                </a:solidFill>
                <a:latin typeface="Garamond"/>
              </a:rPr>
              <a:t>up to 200 m a.s.l.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99"/>
                </a:solidFill>
                <a:latin typeface="Garamond"/>
              </a:rPr>
              <a:t>phytoplank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99"/>
                </a:solidFill>
                <a:latin typeface="Garamond"/>
              </a:rPr>
              <a:t>macrophy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35280" y="1989000"/>
            <a:ext cx="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87640" y="2492280"/>
            <a:ext cx="4320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PosterBodoni BT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64000" y="2492280"/>
            <a:ext cx="43164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osterBodoni BT"/>
              </a:rPr>
              <a:t>&l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87640" y="3789360"/>
            <a:ext cx="4320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PosterBodoni BT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35280" y="3789360"/>
            <a:ext cx="4320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osterBodoni BT"/>
              </a:rPr>
              <a:t>&l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123640" y="3213000"/>
            <a:ext cx="863640" cy="2303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314172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26920" y="4508640"/>
            <a:ext cx="360360" cy="1008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08720" y="414972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80000" y="5084640"/>
            <a:ext cx="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028000" y="1197000"/>
            <a:ext cx="12970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99ff"/>
                </a:solidFill>
                <a:latin typeface="PosterBodoni BT"/>
              </a:rPr>
              <a:t>specific pollut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99ff"/>
                </a:solidFill>
                <a:latin typeface="PosterBodoni BT"/>
              </a:rPr>
              <a:t>(AAC/MA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191628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PosterBodoni BT"/>
              </a:rPr>
              <a:t>checking 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04480" y="3044880"/>
            <a:ext cx="27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PosterBodoni BT"/>
              </a:rPr>
              <a:t>checking 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6021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13080" y="1413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PosterBodoni BT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Garamond"/>
              </a:rPr>
              <a:t>PROPOSAL of ES classification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Garamond"/>
              </a:rPr>
              <a:t>using RELEVANT SUBSTANCES for SR</a:t>
            </a:r>
            <a:br>
              <a:rPr sz="3600"/>
            </a:br>
            <a:r>
              <a:rPr b="1" lang="sk-SK" sz="3600" spc="-1" strike="noStrike">
                <a:solidFill>
                  <a:srgbClr val="0099ff"/>
                </a:solidFill>
                <a:latin typeface="Garamond"/>
              </a:rPr>
              <a:t>(specific pollutant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Garamond"/>
              </a:rPr>
              <a:t>26 RelS – 22 specific synthetic </a:t>
            </a:r>
            <a:r>
              <a:rPr b="0" lang="sk-SK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Garamond"/>
              </a:rPr>
              <a:t>       – </a:t>
            </a:r>
            <a:r>
              <a:rPr b="0" lang="sk-SK" sz="2000" spc="-1" strike="noStrike">
                <a:solidFill>
                  <a:srgbClr val="ffffff"/>
                </a:solidFill>
                <a:latin typeface="Garamond"/>
              </a:rPr>
              <a:t>4 heavy metals (As, Cr, Cu, Zn) – </a:t>
            </a:r>
            <a:r>
              <a:rPr b="1" lang="sk-SK" sz="2000" spc="-1" strike="noStrike">
                <a:solidFill>
                  <a:srgbClr val="ffffff"/>
                </a:solidFill>
                <a:latin typeface="Garamond"/>
              </a:rPr>
              <a:t>NEED of „background-level“</a:t>
            </a:r>
            <a:r>
              <a:rPr b="0" lang="sk-SK" sz="2000" spc="-1" strike="noStrike">
                <a:solidFill>
                  <a:srgbClr val="ffffff"/>
                </a:solidFill>
                <a:latin typeface="Garamond"/>
              </a:rPr>
              <a:t> (end of 2008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"/>
          <p:cNvSpPr/>
          <p:nvPr/>
        </p:nvSpPr>
        <p:spPr>
          <a:xfrm>
            <a:off x="3059280" y="2492280"/>
            <a:ext cx="3168360" cy="106956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99ff"/>
                </a:solidFill>
                <a:latin typeface="Garamond"/>
              </a:rPr>
              <a:t>RelS </a:t>
            </a:r>
            <a:r>
              <a:rPr b="1" lang="sk-SK" sz="2400" spc="-1" strike="noStrike">
                <a:solidFill>
                  <a:srgbClr val="0099ff"/>
                </a:solidFill>
                <a:latin typeface="Garamond"/>
              </a:rPr>
              <a:t>Result Class</a:t>
            </a:r>
            <a:r>
              <a:rPr b="1" lang="sk-SK" sz="2400" spc="-1" strike="noStrike">
                <a:solidFill>
                  <a:srgbClr val="0099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Garamond"/>
              </a:rPr>
              <a:t>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99ff"/>
                </a:solidFill>
                <a:latin typeface="Garamond"/>
              </a:rPr>
              <a:t>worst value of 26 QE</a:t>
            </a:r>
            <a:r>
              <a:rPr b="1" lang="sk-SK" sz="2000" spc="-1" strike="noStrike">
                <a:solidFill>
                  <a:srgbClr val="0099ff"/>
                </a:solidFill>
                <a:latin typeface="Garamond"/>
              </a:rPr>
              <a:t> 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256536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3300"/>
                </a:solidFill>
                <a:latin typeface="Garamond"/>
              </a:rPr>
              <a:t>AAC – long-term </a:t>
            </a:r>
            <a:r>
              <a:rPr b="0" lang="sk-SK" sz="2000" spc="-1" strike="noStrike">
                <a:solidFill>
                  <a:srgbClr val="ff3300"/>
                </a:solidFill>
                <a:latin typeface="Garamond"/>
              </a:rPr>
              <a:t>imp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sk-SK" sz="2000" spc="-1" strike="noStrike">
                <a:solidFill>
                  <a:srgbClr val="ff3300"/>
                </a:solidFill>
                <a:latin typeface="Garamond"/>
              </a:rPr>
              <a:t>MAC – short-term </a:t>
            </a:r>
            <a:r>
              <a:rPr b="0" lang="sk-SK" sz="2000" spc="-1" strike="noStrike">
                <a:solidFill>
                  <a:srgbClr val="ff3300"/>
                </a:solidFill>
                <a:latin typeface="Garamond"/>
              </a:rPr>
              <a:t>imp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2492280"/>
            <a:ext cx="1403280" cy="615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Garamond"/>
              </a:rPr>
              <a:t>AA-EQ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Garamond"/>
              </a:rPr>
              <a:t>MAC-EQ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92360" y="2565360"/>
            <a:ext cx="50472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PosterBodoni BT"/>
              </a:rPr>
              <a:t>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5300640"/>
            <a:ext cx="51483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PosterBodoni BT"/>
              </a:rPr>
              <a:t>ES Result Class </a:t>
            </a:r>
            <a:r>
              <a:rPr b="1" lang="en-US" sz="2400" spc="-1" strike="noStrike">
                <a:solidFill>
                  <a:srgbClr val="ff0000"/>
                </a:solidFill>
                <a:latin typeface="PosterBodoni BT"/>
              </a:rPr>
              <a:t>= </a:t>
            </a:r>
            <a:r>
              <a:rPr b="1" lang="sk-SK" sz="2400" spc="-1" strike="noStrike">
                <a:solidFill>
                  <a:srgbClr val="ff0000"/>
                </a:solidFill>
                <a:latin typeface="PosterBodoni BT"/>
              </a:rPr>
              <a:t>BQE</a:t>
            </a:r>
            <a:r>
              <a:rPr b="1" lang="en-US" sz="2400" spc="-1" strike="noStrike">
                <a:solidFill>
                  <a:srgbClr val="ff0000"/>
                </a:solidFill>
                <a:latin typeface="PosterBodoni BT"/>
              </a:rPr>
              <a:t> </a:t>
            </a:r>
            <a:r>
              <a:rPr b="1" lang="sk-SK" sz="2400" spc="-1" strike="noStrike">
                <a:solidFill>
                  <a:srgbClr val="ff0000"/>
                </a:solidFill>
                <a:latin typeface="PosterBodoni BT"/>
              </a:rPr>
              <a:t>Result </a:t>
            </a:r>
            <a:r>
              <a:rPr b="1" lang="sk-SK" sz="2400" spc="-1" strike="noStrike">
                <a:solidFill>
                  <a:srgbClr val="ff0000"/>
                </a:solidFill>
                <a:latin typeface="PosterBodoni BT"/>
              </a:rPr>
              <a:t>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900000" y="3357720"/>
            <a:ext cx="720720" cy="187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11280" y="2565360"/>
            <a:ext cx="4320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osterBodoni BT"/>
              </a:rPr>
              <a:t>&l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484000" y="3284640"/>
            <a:ext cx="71640" cy="18730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27280" y="4076640"/>
            <a:ext cx="1819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PosterBodoni BT"/>
              </a:rPr>
              <a:t>That year    </a:t>
            </a:r>
            <a:r>
              <a:rPr b="1" lang="sk-SK" sz="2400" spc="-1" strike="noStrike">
                <a:solidFill>
                  <a:srgbClr val="ff3300"/>
                </a:solidFill>
                <a:latin typeface="PosterBodoni BT"/>
              </a:rPr>
              <a:t>+</a:t>
            </a:r>
            <a:r>
              <a:rPr b="1" lang="sk-SK" sz="2000" spc="-1" strike="noStrike">
                <a:solidFill>
                  <a:srgbClr val="ff3300"/>
                </a:solidFill>
                <a:latin typeface="PosterBodoni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48360" y="335772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4005360"/>
            <a:ext cx="37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PosterBodoni BT"/>
              </a:rPr>
              <a:t>- checking 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PosterBodoni BT"/>
              </a:rPr>
              <a:t>- 1-year operational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91280" y="551664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99ff"/>
                </a:solidFill>
                <a:latin typeface="PosterBodoni BT"/>
              </a:rPr>
              <a:t>If confirmed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32720" y="4869000"/>
            <a:ext cx="0" cy="115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56000" y="6237360"/>
            <a:ext cx="65880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3300"/>
                </a:solidFill>
                <a:latin typeface="PosterBodoni BT"/>
              </a:rPr>
              <a:t>ES Result Class </a:t>
            </a:r>
            <a:r>
              <a:rPr b="1" lang="en-US" sz="2400" spc="-1" strike="noStrike">
                <a:solidFill>
                  <a:srgbClr val="ff3300"/>
                </a:solidFill>
                <a:latin typeface="PosterBodoni BT"/>
              </a:rPr>
              <a:t>= </a:t>
            </a:r>
            <a:r>
              <a:rPr b="1" lang="sk-SK" sz="2400" spc="-1" strike="noStrike">
                <a:solidFill>
                  <a:srgbClr val="ff3300"/>
                </a:solidFill>
                <a:latin typeface="PosterBodoni BT"/>
              </a:rPr>
              <a:t>RelS </a:t>
            </a:r>
            <a:r>
              <a:rPr b="1" lang="sk-SK" sz="2400" spc="-1" strike="noStrike">
                <a:solidFill>
                  <a:srgbClr val="ff3300"/>
                </a:solidFill>
                <a:latin typeface="PosterBodoni BT"/>
              </a:rPr>
              <a:t>Result Class</a:t>
            </a:r>
            <a:r>
              <a:rPr b="1" lang="sk-SK" sz="2400" spc="-1" strike="noStrike">
                <a:solidFill>
                  <a:srgbClr val="ff3300"/>
                </a:solidFill>
                <a:latin typeface="PosterBodoni BT"/>
              </a:rPr>
              <a:t> +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26:42Z</dcterms:created>
  <dc:creator>Ferdinand Šporka</dc:creator>
  <dc:description/>
  <dc:language>en-US</dc:language>
  <cp:lastModifiedBy>janetc</cp:lastModifiedBy>
  <dcterms:modified xsi:type="dcterms:W3CDTF">2008-03-03T12:33:00Z</dcterms:modified>
  <cp:revision>303</cp:revision>
  <dc:subject/>
  <dc:title>Snímka 1</dc:title>
</cp:coreProperties>
</file>