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907588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51E-E9AC-42FC-80CA-D0041CF2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CE4-730C-4685-A9EB-C92D7BD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794-4FF4-4CA2-A074-9904A3A5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F41-6DFE-48BD-91A6-B6832965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3DC-ADCC-4C3D-AF78-BA1D5C08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D5C9-EA1B-4B0C-BDC6-8A982938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0F5-DDAF-42E8-A0C6-18152A0E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276B-FBE9-42E4-8689-B81F5FC6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ABC0-529D-40A6-BB2D-A2E06A2D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2D9D-824A-43E9-851A-57DBDA9C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F508-8724-479F-9A13-ED62FE3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069-AB25-43D1-89D8-2A9B97F2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01C-0C01-4BE5-9392-7CACB226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5994-2768-484E-AEA7-E254199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E0DB-9186-42D9-AC65-A72FA48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0B45-549A-42C3-9B28-BF311921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22B6-F12F-4079-B691-F3D525B6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6FB7-57BA-4A24-A8A6-C68702A5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CF3F-FB47-4B6A-ACE5-18D8937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B79D-FB2A-46E5-A106-D83B1EEE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88CF-C387-4E4B-AAEF-697C3045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C924-B792-43E2-879C-9E19B96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40A-0795-4A43-BC69-BCEE4F5F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2AD7-A217-4B74-AEEE-D246C4F3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26E4-3FC0-4FC8-B045-0AB159A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ADBB-9234-420A-9E6E-11828CA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9F60-2D1D-4A2A-8582-BF3F047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DA37-7104-4510-AFBC-D69A912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39B9-472C-48AE-B992-D30721AD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5CAB-F2B3-4730-84B8-53EB84F9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116E-3894-4FB7-9B0C-BBF32772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72D5-C9CD-4931-BEC3-81AA55C3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72A4-C8DC-4535-9CEA-294BDB9D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842-3814-428E-9315-8E4A88EE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D6D7-80BB-48B4-960C-B8A3549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6F2A-7D80-4FA0-B127-CFC614F6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F9300-8FB7-4E72-93F5-78A9541A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EE85-9358-4A3A-8999-B7A61D4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F6FF-D4D6-4F06-87FD-158C5A0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A9D4-4314-44AF-9682-3D51946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6542-10FC-4632-98EC-397BAFDD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7103-0E88-417C-BCC6-38813ADE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414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5000" y="224136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2078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414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5000" y="4215240"/>
            <a:ext cx="23173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B0C0-63D9-410D-80BD-041E7EB7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232-1496-4DA7-87C4-FB24566F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07800" y="1294920"/>
            <a:ext cx="719748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5E8-FB23-4C91-925A-EE7ACBAB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F3B-4C3E-4044-802B-4DD7789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6000" y="421524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616-F5F0-48D8-A210-57650854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78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6000" y="2241360"/>
            <a:ext cx="35121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7800" y="4215240"/>
            <a:ext cx="7197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94E-1148-4B98-BFDF-0D21B90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25680" y="6464160"/>
            <a:ext cx="11970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4D9-0DE5-4531-BBBF-262BD0B1A226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208160" y="646272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172000" y="6463800"/>
            <a:ext cx="143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93C0-9411-409C-862D-3DD3D763A65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1207800" y="2241360"/>
            <a:ext cx="71974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8680" y="1798200"/>
            <a:ext cx="61182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07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8EC5-5007-4E5E-8B38-EF4830201DE7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505240" y="6462360"/>
            <a:ext cx="48355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98F1-E3C3-402B-BBA0-568BAEA461A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4840" y="1258920"/>
            <a:ext cx="948996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7800" y="129492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6025680" y="6464160"/>
            <a:ext cx="11970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51A3-5FB8-4FB8-8945-0E326715CA5D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208160" y="646380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8172000" y="6463800"/>
            <a:ext cx="143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0A69-3A42-4FBA-BF05-9A16B40A776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1209600" y="2242800"/>
            <a:ext cx="71978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4840" y="1258920"/>
            <a:ext cx="948996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98280" y="1798200"/>
            <a:ext cx="6118200" cy="90036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56970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799B-E695-495B-A96C-05E7EB241CE8}" type="datetime">
              <a:rPr b="0" lang="sv-SE" sz="12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1"/>
          </p:nvPr>
        </p:nvSpPr>
        <p:spPr>
          <a:xfrm>
            <a:off x="2066760" y="6462720"/>
            <a:ext cx="5734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C91D-773B-460E-B9CC-8A9FB9D60FB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840" y="195120"/>
            <a:ext cx="948996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3880" y="380880"/>
            <a:ext cx="641520" cy="71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4840" y="6299280"/>
            <a:ext cx="948996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28520" y="1052640"/>
            <a:ext cx="61182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Combination rules for parameters</a:t>
            </a:r>
            <a:br>
              <a:rPr sz="2800"/>
            </a:b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- a Swedi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928520" y="4221000"/>
            <a:ext cx="626436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alin Gunnars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wedish 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6 March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9800" y="2708280"/>
            <a:ext cx="69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(N</a:t>
            </a:r>
            <a:r>
              <a:rPr b="0" lang="da-DK" sz="20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)  = (N</a:t>
            </a:r>
            <a:r>
              <a:rPr b="0" lang="da-DK" sz="2000" spc="-1" strike="noStrike">
                <a:solidFill>
                  <a:srgbClr val="0000ff"/>
                </a:solidFill>
                <a:latin typeface="Arial"/>
              </a:rPr>
              <a:t>lower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) + </a:t>
            </a: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(EQR</a:t>
            </a:r>
            <a:r>
              <a:rPr b="0" lang="da-DK" sz="2000" spc="-1" strike="noStrike" u="sng">
                <a:solidFill>
                  <a:srgbClr val="0000ff"/>
                </a:solidFill>
                <a:uFillTx/>
                <a:latin typeface="Arial"/>
              </a:rPr>
              <a:t>calc</a:t>
            </a: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. - EQR</a:t>
            </a:r>
            <a:r>
              <a:rPr b="0" lang="da-DK" sz="2000" spc="-1" strike="noStrike" u="sng">
                <a:solidFill>
                  <a:srgbClr val="0000ff"/>
                </a:solidFill>
                <a:uFillTx/>
                <a:latin typeface="Arial"/>
              </a:rPr>
              <a:t>lower</a:t>
            </a:r>
            <a:r>
              <a:rPr b="0" lang="da-DK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(EQR</a:t>
            </a:r>
            <a:r>
              <a:rPr b="0" lang="da-DK" sz="2000" spc="-1" strike="noStrike">
                <a:solidFill>
                  <a:srgbClr val="0000ff"/>
                </a:solidFill>
                <a:latin typeface="Arial"/>
              </a:rPr>
              <a:t>upper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 - EQR</a:t>
            </a:r>
            <a:r>
              <a:rPr b="0" lang="da-DK" sz="2000" spc="-1" strike="noStrike">
                <a:solidFill>
                  <a:srgbClr val="0000ff"/>
                </a:solidFill>
                <a:latin typeface="Arial"/>
              </a:rPr>
              <a:t>lower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505E-3600-4E83-BF7E-3605B1FF653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84658E-65BB-48E3-B755-E203B2CAD89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48880" y="2781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(N</a:t>
            </a:r>
            <a:r>
              <a:rPr b="0" lang="da-DK" sz="18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)  = (</a:t>
            </a:r>
            <a:r>
              <a:rPr b="0" lang="da-DK" sz="2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da-DK" sz="1800" spc="-1" strike="noStrike">
                <a:solidFill>
                  <a:srgbClr val="cc0000"/>
                </a:solidFill>
                <a:latin typeface="Arial"/>
              </a:rPr>
              <a:t>lower</a:t>
            </a:r>
            <a:r>
              <a:rPr b="0" lang="da-DK" sz="2400" spc="-1" strike="noStrike">
                <a:solidFill>
                  <a:srgbClr val="0000ff"/>
                </a:solidFill>
                <a:latin typeface="Arial"/>
              </a:rPr>
              <a:t>) + </a:t>
            </a:r>
            <a:r>
              <a:rPr b="0" lang="da-DK" sz="2400" spc="-1" strike="noStrike" u="sng">
                <a:solidFill>
                  <a:srgbClr val="009900"/>
                </a:solidFill>
                <a:uFillTx/>
                <a:latin typeface="Arial"/>
              </a:rPr>
              <a:t>(EQR</a:t>
            </a:r>
            <a:r>
              <a:rPr b="0" lang="da-DK" sz="1800" spc="-1" strike="noStrike" u="sng">
                <a:solidFill>
                  <a:srgbClr val="009900"/>
                </a:solidFill>
                <a:uFillTx/>
                <a:latin typeface="Arial"/>
              </a:rPr>
              <a:t>calc</a:t>
            </a:r>
            <a:r>
              <a:rPr b="0" lang="da-DK" sz="2400" spc="-1" strike="noStrike" u="sng">
                <a:solidFill>
                  <a:srgbClr val="009900"/>
                </a:solidFill>
                <a:uFillTx/>
                <a:latin typeface="Arial"/>
              </a:rPr>
              <a:t>. - EQR</a:t>
            </a:r>
            <a:r>
              <a:rPr b="0" lang="da-DK" sz="1800" spc="-1" strike="noStrike" u="sng">
                <a:solidFill>
                  <a:srgbClr val="009900"/>
                </a:solidFill>
                <a:uFillTx/>
                <a:latin typeface="Arial"/>
              </a:rPr>
              <a:t>lower</a:t>
            </a:r>
            <a:r>
              <a:rPr b="0" lang="da-DK" sz="2400" spc="-1" strike="noStrike" u="sng">
                <a:solidFill>
                  <a:srgbClr val="0099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              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(EQR</a:t>
            </a:r>
            <a:r>
              <a:rPr b="0" lang="da-DK" sz="1800" spc="-1" strike="noStrike">
                <a:solidFill>
                  <a:srgbClr val="009900"/>
                </a:solidFill>
                <a:latin typeface="Arial"/>
              </a:rPr>
              <a:t>upper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 - EQR</a:t>
            </a:r>
            <a:r>
              <a:rPr b="0" lang="da-DK" sz="1800" spc="-1" strike="noStrike">
                <a:solidFill>
                  <a:srgbClr val="009900"/>
                </a:solidFill>
                <a:latin typeface="Arial"/>
              </a:rPr>
              <a:t>lower</a:t>
            </a:r>
            <a:r>
              <a:rPr b="0" lang="da-DK" sz="24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sv-SE" sz="16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= weighted status class value for each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sv-SE" sz="1600" spc="-1" strike="noStrike">
                <a:solidFill>
                  <a:srgbClr val="cc0000"/>
                </a:solidFill>
                <a:latin typeface="Arial"/>
              </a:rPr>
              <a:t>lower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= first number (</a:t>
            </a:r>
            <a:r>
              <a:rPr b="0" lang="sv-SE" sz="1800" spc="-1" strike="noStrike">
                <a:solidFill>
                  <a:srgbClr val="cc0000"/>
                </a:solidFill>
                <a:latin typeface="Arial"/>
              </a:rPr>
              <a:t>whole nr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) of the numerical value for the status class acc. to table abo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00"/>
                </a:solidFill>
                <a:latin typeface="Arial"/>
              </a:rPr>
              <a:t>EQR</a:t>
            </a:r>
            <a:r>
              <a:rPr b="0" lang="sv-SE" sz="1600" spc="-1" strike="noStrike">
                <a:solidFill>
                  <a:srgbClr val="009900"/>
                </a:solidFill>
                <a:latin typeface="Arial"/>
              </a:rPr>
              <a:t>calc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.= calculated EQR value from the classifi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9900"/>
                </a:solidFill>
                <a:latin typeface="Arial"/>
              </a:rPr>
              <a:t>EQR</a:t>
            </a:r>
            <a:r>
              <a:rPr b="0" lang="sv-SE" sz="1600" spc="-1" strike="noStrike">
                <a:solidFill>
                  <a:srgbClr val="009900"/>
                </a:solidFill>
                <a:latin typeface="Arial"/>
              </a:rPr>
              <a:t>lower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v-SE" sz="1800" spc="-1" strike="noStrike">
                <a:solidFill>
                  <a:srgbClr val="009900"/>
                </a:solidFill>
                <a:latin typeface="Arial"/>
              </a:rPr>
              <a:t>EQR</a:t>
            </a:r>
            <a:r>
              <a:rPr b="0" lang="sv-SE" sz="1600" spc="-1" strike="noStrike">
                <a:solidFill>
                  <a:srgbClr val="009900"/>
                </a:solidFill>
                <a:latin typeface="Arial"/>
              </a:rPr>
              <a:t>upper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= EQR for lower and upper class limit for corresponding class, from EQR-tables.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QR 0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00160" y="404640"/>
          <a:ext cx="5761080" cy="2190600"/>
        </p:xfrm>
        <a:graphic>
          <a:graphicData uri="http://schemas.openxmlformats.org/drawingml/2006/table">
            <a:tbl>
              <a:tblPr/>
              <a:tblGrid>
                <a:gridCol w="2736720"/>
                <a:gridCol w="302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4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od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3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2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1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629-952D-4F45-9E4F-7000A3B143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B7181-E62B-4153-AE3B-4660C9BDAC3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80880" y="404280"/>
            <a:ext cx="7197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07800" y="1412640"/>
            <a:ext cx="7197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Step 1)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he combination shall be based on classified status for the parameters biovolym and klorofyll 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or each parameter a weighted class value (</a:t>
            </a:r>
            <a:r>
              <a:rPr b="0" lang="sv-SE" sz="2000" spc="-1" strike="noStrike">
                <a:solidFill>
                  <a:srgbClr val="0000ff"/>
                </a:solidFill>
                <a:latin typeface="Arial"/>
              </a:rPr>
              <a:t>Nclas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) is calculated through the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Step 2)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alculate the meanvalue of the numerical classifications (</a:t>
            </a:r>
            <a:r>
              <a:rPr b="0" lang="sv-SE" sz="2000" spc="-1" strike="noStrike">
                <a:solidFill>
                  <a:srgbClr val="0000ff"/>
                </a:solidFill>
                <a:latin typeface="Arial"/>
              </a:rPr>
              <a:t>Nclass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) for biovolym and klorofyll 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combined classification of the QE phytoplank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6880" y="4365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F3D-311C-46D0-BEFB-543A7F5963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8C5C0-E207-445D-AF43-61AC1D319D33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16:01Z</dcterms:created>
  <dc:creator>Joakim Dahl</dc:creator>
  <dc:description>Tom mall för PowerPoint presentation 2005-02-15</dc:description>
  <dc:language>en-US</dc:language>
  <cp:lastModifiedBy>janetc</cp:lastModifiedBy>
  <dcterms:modified xsi:type="dcterms:W3CDTF">2008-03-05T09:40:15Z</dcterms:modified>
  <cp:revision>177</cp:revision>
  <dc:subject/>
  <dc:title>Bild 1</dc:title>
</cp:coreProperties>
</file>