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67344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6734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6734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15238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15238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6734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6734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6734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5E1-FF62-43B2-9484-135115BE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1F5-F740-486E-91B2-E7BFD272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59A-5A69-417C-929C-66D7FB1A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281-2EC4-475D-8088-3D03020E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817-8DD2-4E2A-B893-80CD9F5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BB7-BE54-4C0B-B6E7-6434AB4B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36734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AE6-D845-4922-8228-D9AF0EC5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36734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7F2-AD92-4ADF-AED2-65280B4D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67344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DD3-8E8E-4AF7-AE89-B75C32C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367344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BC1-3D39-4D9E-A9FF-9E651B2E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6734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36734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EF5-C71C-4AAD-816E-94C3C00B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5238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5238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36734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36734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36734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ADD-D417-4F0E-A342-208B29C5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6734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67344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67344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66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39966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66cc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339966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498C-7602-4F9D-90A6-F224FDC7C8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339966"/>
              </a:buClr>
              <a:buFont typeface="Zapf Dingba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66cc"/>
              </a:buClr>
              <a:buFont typeface="Zapf Dingba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339966"/>
              </a:buClr>
              <a:buFont typeface="Zapf Dingba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Zapf 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ft Standards f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emical elements supporting the biological element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Irish riv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257800"/>
            <a:ext cx="5790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rtin McGarrig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ECOSTAT Classification Workshop, Brussels, 6/7 March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ndards based on Good &amp; High Status Biology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752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14800" y="1600200"/>
          <a:ext cx="5029200" cy="70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600200"/>
                    <a:ext cx="50292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91120" y="2743200"/>
          <a:ext cx="4952880" cy="159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743200"/>
                    <a:ext cx="495288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91120" y="4572000"/>
          <a:ext cx="4952880" cy="465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4572000"/>
                    <a:ext cx="49528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" y="1143000"/>
          <a:ext cx="3247920" cy="5486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143000"/>
                    <a:ext cx="3247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160" y="2014560"/>
          <a:ext cx="906768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2014560"/>
                    <a:ext cx="90676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ass/Fail Compliance Rules -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095480"/>
          <a:ext cx="8229600" cy="53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95480"/>
                    <a:ext cx="822960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ass/Fail Compliance Rules -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095480"/>
          <a:ext cx="8076960" cy="53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95480"/>
                    <a:ext cx="807696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ass/Fail Compliance Rules -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990720"/>
          <a:ext cx="8305920" cy="53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0592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5:10:20Z</dcterms:created>
  <dc:creator>EPA</dc:creator>
  <dc:description/>
  <dc:language>en-US</dc:language>
  <cp:lastModifiedBy>mcgarrig</cp:lastModifiedBy>
  <dcterms:modified xsi:type="dcterms:W3CDTF">2008-03-06T11:09:59Z</dcterms:modified>
  <cp:revision>112</cp:revision>
  <dc:subject/>
  <dc:title>Lake Classification Tools</dc:title>
</cp:coreProperties>
</file>