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0005-C826-419F-8082-DD9FF7531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CDCD-F592-407A-A31F-D08690506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re Member States planning to account for spatial variation in classification (a) within (large) water bodies; and (b) when deciding on classification of water bodies that have been grouped for monitoring and assessment purpo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86C1-F385-4F30-946D-0C703AD3B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the Q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dence based on expert judgem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rac use risk assessment data to infer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5D1E-7996-411E-8D49-FA89A8D50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significant is this water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8840-2F93-443B-9BA2-827315725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significant is this water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C6A0-A726-4099-B695-630415C0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5A7D-3E4D-48C7-B503-3561181A4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E5C7-EBE9-4D6E-82A8-5ADE32C17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ought that Percent or km below Good Status but do we need standard cri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4817-506E-4E77-9101-081EC1D6C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B distribution is built ontyp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5D1-11F1-4EDE-BAD5-201F29A24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where data needed for specific QE. Eg for diatoms where measures for diffuse pollutnats.Basic view look at one pressures and not all the pressures, need to take s imple v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group if criteria for typology and risk assessment and proximity (same catch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24A7-0D2D-4B55-84B6-ED743B1E8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where data needed for specific QE. Eg for diatoms where measures for diffuse pollutnats.Basic view look at one pressures and not all the pressures, need to take s imple v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group if criteria for typology and risk assessment and proximity (same catch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ADD-F553-45FF-BB55-F74CD9B5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E2F-59ED-448F-B376-9425F0F3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D31-DEC8-4E5E-8483-904B3C82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983-EEB7-4174-B36E-1A133DA6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784-C525-44EB-A6AC-6BFEAADE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09E-AB8F-45B2-A9A7-6D0E9C15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866-587D-4F83-A442-858528BF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B70-5BE5-4270-B57F-88AB31D4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AA5-DEB1-4D8A-BDC8-ACF76A7A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D7E-BCDF-44CD-A2C9-3F95FABE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816-CD11-4B94-9CA2-D84EA0B1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A47-3D07-440D-8E3E-57BED9ED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DBFD-0E6E-4AB7-8859-17288F9B5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600200" y="228600"/>
            <a:ext cx="68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OSTAT Classificatio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919760" y="1563840"/>
            <a:ext cx="3801960" cy="580680"/>
          </a:xfrm>
          <a:prstGeom prst="rect">
            <a:avLst/>
          </a:prstGeom>
          <a:solidFill>
            <a:srgbClr val="bde4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ort from Break-out Session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196600" y="941400"/>
            <a:ext cx="32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6-7 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619280" y="2349360"/>
            <a:ext cx="59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patial variation in classification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large WBs and groups of W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 you intend to group water bodies together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Group or not to Gro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t at ris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 a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monitoring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have a lot of small WBs then will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ciples of grouping discussed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sures, risk assessment, typology, within a catchment, proximity, flow in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e of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dence would be on expert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no pres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ame type and pres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raC water cannot group if have point sources of pollu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to use 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Ss agreed to use grouping if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iffuse pollu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agreed to use grouping if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hydromorpholo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bate around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cale of group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:1 or 1:many or many: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bate about how to calculate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ance on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ance on significant spatial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of a WB has to fail good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 is the Commission happy to accept the differences across M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1 Do you consider spatial variation to be a problem in your member state?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1258920" y="1430280"/>
          <a:ext cx="6553080" cy="481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30280"/>
                    <a:ext cx="655308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you consider spatial variation to be a problem in your member state?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002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know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atural vari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fore know there is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Ss do not see it as a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bi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ce in the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umb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siz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WBs between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s have waterbodies with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ifferent ecologic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ercentages of these vary in some MS (some estimated as high as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litting water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rge numbers – administrativ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t judgement and case by case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nstant un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needed to report progress e.g. total k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good or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that would miss requirement to implement PO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fish or macrophytes there is less need for spl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2 Have water bodies been designed to have the same quality at all locations within their bound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1476360" y="1484280"/>
          <a:ext cx="5905440" cy="430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590544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ve water bodies been designed to have the same quality at all locations within their bound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ne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water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Ss used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WQ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define 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y still be variation i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s used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hysical da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delineate WBs e.g. catchment area, geology, change in al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rucial differ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way MSs implemented the directive and has a consequence on how Europe class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link to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intercalib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in most cases not focused on water body level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3 – what is the most important information to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258920" y="1557360"/>
          <a:ext cx="705816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705816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3 – what is the most important information to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able change of approach for Monitoring programmes for rivers, lakes and Transitional and Coastal waters (Tr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kes and TraC – designed to take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le WB scal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vers –debate about monitoring for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ndividual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icult in rivers as changes go along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4 Do you have monitoring data for all of your WB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1042920" y="1197000"/>
          <a:ext cx="676908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676908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5 Do you intend to group WB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1332000" y="1268280"/>
          <a:ext cx="6840360" cy="502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268280"/>
                    <a:ext cx="684036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2:02:19Z</dcterms:created>
  <dc:creator>janetc</dc:creator>
  <dc:description/>
  <dc:language>en-US</dc:language>
  <cp:lastModifiedBy>auvi</cp:lastModifiedBy>
  <dcterms:modified xsi:type="dcterms:W3CDTF">2008-03-07T10:01:17Z</dcterms:modified>
  <cp:revision>13</cp:revision>
  <dc:subject/>
  <dc:title>Slide 1</dc:title>
</cp:coreProperties>
</file>