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627280" y="765000"/>
            <a:ext cx="6307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pperplate Gothic Bold"/>
              </a:rPr>
              <a:t>CLASSIFICATION OF RIVERS AND LAK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cc"/>
                </a:solidFill>
                <a:latin typeface="Copperplate Gothic Bold"/>
              </a:rPr>
              <a:t>I</a:t>
            </a:r>
            <a:r>
              <a:rPr b="0" lang="en-US" sz="3200" spc="-1" strike="noStrike">
                <a:solidFill>
                  <a:srgbClr val="0000cc"/>
                </a:solidFill>
                <a:latin typeface="Copperplate Gothic Bold"/>
              </a:rPr>
              <a:t>N EST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2700360" y="2708280"/>
            <a:ext cx="5904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2800" spc="-1" strike="noStrike">
                <a:solidFill>
                  <a:srgbClr val="0000cc"/>
                </a:solidFill>
                <a:latin typeface="Arial"/>
              </a:rPr>
              <a:t>Peeter Marks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IS WORKSHOP ON NATIONAL CLASSIFICATION SYSTEMS FOR THE ASSESSMENT OF THE ECOLOGICAL STATUS OF SURFACE W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aris, 11-12 Jun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Type II: shallow lakes with medium hardness water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Chemical and physicochemical quality elements</a:t>
            </a:r>
            <a:r>
              <a:rPr b="1" lang="et-EE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4360" y="1916280"/>
          <a:ext cx="8002440" cy="4122720"/>
        </p:xfrm>
        <a:graphic>
          <a:graphicData uri="http://schemas.openxmlformats.org/drawingml/2006/table">
            <a:tbl>
              <a:tblPr/>
              <a:tblGrid>
                <a:gridCol w="1144440"/>
                <a:gridCol w="1141560"/>
                <a:gridCol w="1170000"/>
                <a:gridCol w="1008000"/>
                <a:gridCol w="1252440"/>
                <a:gridCol w="1141560"/>
                <a:gridCol w="1144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</a:t>
                      </a:r>
                      <a:r>
                        <a:rPr b="1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7 or &gt;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7 or &gt;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7 or &gt;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-grams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60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80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-grams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-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700-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000-1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chi dep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&lt;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Type II: shallow lakes with medium hardness water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00cc"/>
                </a:solidFill>
                <a:latin typeface="Arial"/>
              </a:rPr>
              <a:t>Biological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 quality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Plant community</a:t>
            </a:r>
            <a:r>
              <a:rPr b="0" lang="et-EE" sz="2000" spc="-1" strike="noStrike">
                <a:solidFill>
                  <a:srgbClr val="0000cc"/>
                </a:solidFill>
                <a:latin typeface="Arial"/>
              </a:rPr>
              <a:t> -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More important taxa by turns of  abun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Potamogeton perfoliatus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and/or </a:t>
            </a: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P.lucens</a:t>
            </a:r>
            <a:r>
              <a:rPr b="0" i="1" lang="et-EE" sz="2000" spc="-1" strike="noStrike">
                <a:solidFill>
                  <a:srgbClr val="0000cc"/>
                </a:solidFill>
                <a:latin typeface="Arial"/>
              </a:rPr>
              <a:t>, r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elative abundance</a:t>
            </a:r>
            <a:r>
              <a:rPr b="0" lang="et-EE" sz="2000" spc="-1" strike="noStrike">
                <a:solidFill>
                  <a:srgbClr val="0000cc"/>
                </a:solidFill>
                <a:latin typeface="Arial"/>
              </a:rPr>
              <a:t> -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Braun-Blanquet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 scale (0–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Charophyta and/or Bryophyta</a:t>
            </a:r>
            <a:r>
              <a:rPr b="0" lang="et-EE" sz="2000" spc="-1" strike="noStrike">
                <a:solidFill>
                  <a:srgbClr val="0000cc"/>
                </a:solidFill>
                <a:latin typeface="Arial"/>
              </a:rPr>
              <a:t>, r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elative abundance </a:t>
            </a:r>
            <a:r>
              <a:rPr b="0" lang="et-EE" sz="2000" spc="-1" strike="noStrike">
                <a:solidFill>
                  <a:srgbClr val="0000cc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Braun-Blanquet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 scale (0–5)</a:t>
            </a: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eratophyllids and/or lemnids</a:t>
            </a:r>
            <a:r>
              <a:rPr b="0" lang="et-EE" sz="2000" spc="-1" strike="noStrike">
                <a:solidFill>
                  <a:srgbClr val="0000cc"/>
                </a:solidFill>
                <a:latin typeface="Arial"/>
              </a:rPr>
              <a:t>, r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elative abundance</a:t>
            </a:r>
            <a:r>
              <a:rPr b="0" lang="et-EE" sz="2000" spc="-1" strike="noStrike">
                <a:solidFill>
                  <a:srgbClr val="0000cc"/>
                </a:solidFill>
                <a:latin typeface="Arial"/>
              </a:rPr>
              <a:t> - </a:t>
            </a: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Braun-Blanquet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 scale (0–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Large green philamentous algae, abundance</a:t>
            </a:r>
            <a:r>
              <a:rPr b="0" lang="et-EE" sz="2000" spc="-1" strike="noStrike">
                <a:solidFill>
                  <a:srgbClr val="0000cc"/>
                </a:solidFill>
                <a:latin typeface="Arial"/>
              </a:rPr>
              <a:t> - a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bundance scale 0–5 related to abundance of other hydroph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Chlorophyll a content of the water column</a:t>
            </a:r>
            <a:r>
              <a:rPr b="0" lang="et-EE" sz="2000" spc="-1" strike="noStrike">
                <a:solidFill>
                  <a:srgbClr val="0000cc"/>
                </a:solidFill>
                <a:latin typeface="Arial"/>
              </a:rPr>
              <a:t> -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micrograms/l</a:t>
            </a:r>
            <a:r>
              <a:rPr b="0" lang="et-EE" sz="2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Surface layer (0.5m) Chlorophyll a content</a:t>
            </a:r>
            <a:r>
              <a:rPr b="0" lang="et-EE" sz="2000" spc="-1" strike="noStrike">
                <a:solidFill>
                  <a:srgbClr val="0000cc"/>
                </a:solidFill>
                <a:latin typeface="Arial"/>
              </a:rPr>
              <a:t> -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micrograms/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Phytoplankton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Phytoplankton compound quo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Macroinvertebrates</a:t>
            </a:r>
            <a:r>
              <a:rPr b="0" lang="et-EE" sz="3200" spc="-1" strike="noStrike">
                <a:solidFill>
                  <a:srgbClr val="0000cc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0" lang="et-EE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Number of tax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0" lang="et-EE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Number of sensitive taxa (EPT)</a:t>
            </a:r>
            <a:r>
              <a:rPr b="0" lang="et-EE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t-EE" sz="32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0" i="1" lang="et-EE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cc"/>
                </a:solidFill>
                <a:latin typeface="Arial"/>
              </a:rPr>
              <a:t>Shannon </a:t>
            </a: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diversity index</a:t>
            </a:r>
            <a:r>
              <a:rPr b="0" lang="et-EE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0" lang="et-EE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ean sensitivity of tax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(ASPT)</a:t>
            </a:r>
            <a:r>
              <a:rPr b="0" lang="et-EE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0" lang="et-EE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cidity index</a:t>
            </a:r>
            <a:r>
              <a:rPr b="0" lang="et-EE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The ecological status assessment of a lake is based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on quality indicators,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not on qualit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07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From each quality element (biological, hydromorphological and physicochemical) at least one quality indicator shall be represen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At least seven quality indicators shall be used and all indicators are of equal relative import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The final assessment is based on 2/3 of indicat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It means that some indicators (up to 1/3 of total number of used indicators) can exert lower value than that in the final assessm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Hydromorphological quality indic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changes of water lev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status of the protection zo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structure of the lake shor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lake depth vari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The final assessment of hydromorphological status is given as expert judge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ake Viljan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058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ake Ulj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03280" y="981000"/>
            <a:ext cx="6408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74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Lake Viljan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cc"/>
                </a:solidFill>
                <a:latin typeface="Arial"/>
              </a:rPr>
              <a:t>type III - </a:t>
            </a:r>
            <a:r>
              <a:rPr b="0" lang="en-GB" sz="1600" spc="-1" strike="noStrike">
                <a:solidFill>
                  <a:srgbClr val="0000cc"/>
                </a:solidFill>
                <a:latin typeface="Arial"/>
              </a:rPr>
              <a:t>deep </a:t>
            </a:r>
            <a:r>
              <a:rPr b="0" lang="et-EE" sz="1600" spc="-1" strike="noStrike">
                <a:solidFill>
                  <a:srgbClr val="0000cc"/>
                </a:solidFill>
                <a:latin typeface="Arial"/>
              </a:rPr>
              <a:t>stratified </a:t>
            </a:r>
            <a:r>
              <a:rPr b="0" lang="en-GB" sz="1600" spc="-1" strike="noStrike">
                <a:solidFill>
                  <a:srgbClr val="0000cc"/>
                </a:solidFill>
                <a:latin typeface="Arial"/>
              </a:rPr>
              <a:t>lakes with medium water</a:t>
            </a:r>
            <a:r>
              <a:rPr b="0" lang="et-EE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cc"/>
                </a:solidFill>
                <a:latin typeface="Arial"/>
              </a:rPr>
              <a:t>hardn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cc"/>
                </a:solidFill>
                <a:latin typeface="Arial"/>
              </a:rPr>
              <a:t>Total status – g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Lake Ulj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cc"/>
                </a:solidFill>
                <a:latin typeface="Arial"/>
              </a:rPr>
              <a:t>type V - </a:t>
            </a:r>
            <a:br>
              <a:rPr sz="1600"/>
            </a:br>
            <a:r>
              <a:rPr b="0" lang="et-EE" sz="1600" spc="-1" strike="noStrike">
                <a:solidFill>
                  <a:srgbClr val="0000cc"/>
                </a:solidFill>
                <a:latin typeface="Arial"/>
              </a:rPr>
              <a:t>softwater light coloured lak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t-EE" sz="1600" spc="-1" strike="noStrike">
                <a:solidFill>
                  <a:srgbClr val="0000cc"/>
                </a:solidFill>
                <a:latin typeface="Arial"/>
              </a:rPr>
              <a:t>Total status - mod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76720" y="260280"/>
          <a:ext cx="5410080" cy="598320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. 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ke Ulja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ke Viljand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chi dep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 a, su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µ</a:t>
                      </a: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 a, water colou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µ</a:t>
                      </a: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toplankton compound quoti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toplankton community</a:t>
                      </a: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715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-inverte-br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nnon D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diti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of tax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00cc"/>
                </a:solidFill>
                <a:latin typeface="Arial"/>
              </a:rPr>
              <a:t>Estonian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0755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7274 rivers 10 – 25 k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98 rivers 25-10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6 rivers &gt; 10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The only large river in European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cept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i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River Narva (catchment area 56  200 km</a:t>
            </a:r>
            <a:r>
              <a:rPr b="0" lang="en-GB" sz="2400" spc="-1" strike="noStrike" baseline="30000">
                <a:solidFill>
                  <a:srgbClr val="0000cc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Rivers in Estonia have been investigated mainly from hydrological and hydrochemical viewpo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ore systematic studies of biota of 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Estonian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rivers started only during 1990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re was no river typology suitable for purposes of WFD befo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resent typolog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should be dealt as preliminary ver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 particular the boundary between darkwater humic rivers and 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light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water rivers should be checked and possibly shifted toward more humic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Estonian river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8075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type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 I A –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dark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water and humic rivers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(CODMn 90th percentile 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value over 25 mgO/l) with catchment area 10–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100 km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type I B –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light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water and low organic content (CODMn 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90 percentile value under 25 mgO/l) rivers with 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catchment area 10–100 km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type II A –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dark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water and humic rivers with catchment 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area 100–1000 km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type II B –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light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water rivers, catchment area 100 -1000 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km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type III A –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dark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water and humic rivers, catchment area 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1000–10 000 km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type III B –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light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water rivers, catchment area 1000 – 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10000 km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type IV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– rivers with catchment area over 10 000 km2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The aim of the presen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o give an overview about Estonian classification system for rivers and l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o get possible feedback and suggestions to improve our classific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Biological quality elements used in Estonian river classificatio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15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Phytobenthos</a:t>
            </a: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, three diatoms indexes, which are indifferent for the river type and show mainly water quality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cc"/>
                </a:solidFill>
                <a:latin typeface="Arial"/>
              </a:rPr>
              <a:t>IPS - Specific Polluosensitivity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cc"/>
                </a:solidFill>
                <a:latin typeface="Arial"/>
              </a:rPr>
              <a:t>WAT – Watanabe ind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cc"/>
                </a:solidFill>
                <a:latin typeface="Arial"/>
              </a:rPr>
              <a:t>TDI – Trophic Diatom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The samples shall be taken in summer during low-water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The assembled status assessment is given as arithmetic mean of three index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Phytobenthos</a:t>
            </a:r>
            <a:r>
              <a:rPr b="1" lang="et-EE" sz="3600" spc="-1" strike="noStrike">
                <a:solidFill>
                  <a:srgbClr val="0000cc"/>
                </a:solidFill>
                <a:latin typeface="Arial"/>
              </a:rPr>
              <a:t>, class bound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cc"/>
                </a:solidFill>
                <a:latin typeface="Arial"/>
              </a:rPr>
              <a:t>The same boundaries for all rive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4360" y="2708280"/>
          <a:ext cx="8002440" cy="3030480"/>
        </p:xfrm>
        <a:graphic>
          <a:graphicData uri="http://schemas.openxmlformats.org/drawingml/2006/table">
            <a:tbl>
              <a:tblPr/>
              <a:tblGrid>
                <a:gridCol w="1333440"/>
                <a:gridCol w="1041480"/>
                <a:gridCol w="1627200"/>
                <a:gridCol w="1333440"/>
                <a:gridCol w="1333440"/>
                <a:gridCol w="1333440"/>
              </a:tblGrid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&gt;1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0–&gt;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–6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6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4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7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Macroinvertebrates</a:t>
            </a:r>
            <a:br>
              <a:rPr sz="3600"/>
            </a:br>
            <a:r>
              <a:rPr b="1" lang="et-EE" sz="2400" spc="-1" strike="noStrike">
                <a:solidFill>
                  <a:srgbClr val="0000cc"/>
                </a:solidFill>
                <a:latin typeface="Arial"/>
              </a:rPr>
              <a:t>River types 1A and 1 B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11280" y="1844640"/>
          <a:ext cx="8075520" cy="4321080"/>
        </p:xfrm>
        <a:graphic>
          <a:graphicData uri="http://schemas.openxmlformats.org/drawingml/2006/table">
            <a:tbl>
              <a:tblPr/>
              <a:tblGrid>
                <a:gridCol w="1108080"/>
                <a:gridCol w="1550880"/>
                <a:gridCol w="1184400"/>
                <a:gridCol w="1411200"/>
                <a:gridCol w="1409760"/>
                <a:gridCol w="1411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tax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26 (r</a:t>
                      </a: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hr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6 (potamal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-23 (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-14 (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-17 (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-11 (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7 (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1 (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7 (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1 (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ensitive taxa (EP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2 (r</a:t>
                      </a: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hr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8 (potamal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10 (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7  (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8 (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5 (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8 (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5 (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8 (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5 (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nnon diversity 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2,1(lime-stone bedroc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,7 (sand-stone bedroc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-1,9 (li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-2,4 (san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,9-1,4 (li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2,4-1,8 (san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,4 (li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,8 (san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,4 (li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,8 (san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,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</a:t>
                      </a: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hr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,5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otamal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-5,3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-4.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-4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-3,7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4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3,7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4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3,7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F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Macroinvertebra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The macroinvertebrates classification for rivers can be applied if the samples are taken in April-May and/or September/Novemb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The assembled status assessment is given </a:t>
            </a:r>
            <a:r>
              <a:rPr b="0" lang="et-EE" sz="2800" spc="-1" strike="noStrike">
                <a:solidFill>
                  <a:srgbClr val="0000cc"/>
                </a:solidFill>
                <a:latin typeface="Arial"/>
              </a:rPr>
              <a:t>on the basis</a:t>
            </a: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 of five macroinvertebrates  index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cc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Type-specific species – all species in a river section except „occasional visitors“. The river section is for these species a habitat, spawning ground or migration ro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Indicator species – typical species for the river section, which occurrence and status have a priority importance in assessment the status of the river s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An age structure of indicator species is assessed in the following age groups: 0+ (</a:t>
            </a:r>
            <a:r>
              <a:rPr b="0" lang="et-EE" sz="2000" spc="-1" strike="noStrike">
                <a:solidFill>
                  <a:srgbClr val="0000cc"/>
                </a:solidFill>
                <a:latin typeface="Arial"/>
              </a:rPr>
              <a:t>one summer old)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  <a:ea typeface="宋体"/>
              </a:rPr>
              <a:t>; 1+ (two summer old); </a:t>
            </a:r>
            <a:r>
              <a:rPr b="0" lang="et-EE" sz="2000" spc="-1" strike="noStrike">
                <a:solidFill>
                  <a:srgbClr val="0000cc"/>
                </a:solidFill>
                <a:latin typeface="Arial"/>
              </a:rPr>
              <a:t>older specimen &gt;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  <a:ea typeface="宋体"/>
              </a:rPr>
              <a:t>1+</a:t>
            </a:r>
            <a:r>
              <a:rPr b="0" lang="et-E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Prerequisite for assessment is the existence of suitable habitats for age groups and occurrence of age groups is anticipated consequently from life-cycle of th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Type-specific and indicator species are determined separately for each river type. The determination is based on fish typology of rivers, where the rivers are divided into sub-types taking into account fish’s requirements for habitats and living condi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In certain cases, when a species is absent because of natural reasons, an expert can make changes in the list of type-specific and indicator species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cc"/>
                </a:solidFill>
                <a:latin typeface="Arial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For all river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36480" y="1557360"/>
          <a:ext cx="8507520" cy="48560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45440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or speci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00–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80–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50–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-specific speci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–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80–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60–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40–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structure of indicator speci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species with three age groups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8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6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50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species with t</a:t>
                      </a: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ge </a:t>
                      </a: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s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00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80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50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Hydromorphological quality indi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longitudinal and lateral continuity of the riv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river depth and width variation, river slope and  river widt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structure and substrate of the river b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quantity and dynamics of water flow in low-water period and during the y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structure and extent of the riparian zo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existence of flood pl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The final assessment of hydromorphological status is given as expert jud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Chemical and physicochemical </a:t>
            </a:r>
            <a:br>
              <a:rPr sz="3200"/>
            </a:b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qualit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Lightwater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rivers with low humic substances content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, Types 1B, 2B and 3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2060640"/>
          <a:ext cx="8208720" cy="3995640"/>
        </p:xfrm>
        <a:graphic>
          <a:graphicData uri="http://schemas.openxmlformats.org/drawingml/2006/table">
            <a:tbl>
              <a:tblPr/>
              <a:tblGrid>
                <a:gridCol w="1172880"/>
                <a:gridCol w="1490760"/>
                <a:gridCol w="854280"/>
                <a:gridCol w="1172880"/>
                <a:gridCol w="1209960"/>
                <a:gridCol w="1134720"/>
                <a:gridCol w="1173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GB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 %, </a:t>
                      </a:r>
                      <a:r>
                        <a:rPr b="0" lang="et-E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percent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60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5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</a:t>
                      </a:r>
                      <a:r>
                        <a:rPr b="0" lang="et-E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O</a:t>
                      </a:r>
                      <a:r>
                        <a:rPr b="0" lang="en-GB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l (75%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-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-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N/l (75%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-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-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-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l (7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4-0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,06-0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,08-0,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,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6 or &gt;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4000" y="189000"/>
            <a:ext cx="38113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iver Väike-Emajõ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croinvertebrate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cc"/>
                </a:solidFill>
                <a:latin typeface="Arial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cc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cc"/>
                </a:solidFill>
                <a:latin typeface="Arial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3673440" cy="1657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859280" y="4221000"/>
            <a:ext cx="374508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883040" y="2349360"/>
            <a:ext cx="3649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cc"/>
                </a:solidFill>
                <a:latin typeface="Arial"/>
              </a:rPr>
              <a:t>River Väike Emajõgi</a:t>
            </a:r>
            <a:br>
              <a:rPr sz="2000"/>
            </a:b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Phytobenthos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, three diatoms index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16000" y="1600200"/>
            <a:ext cx="7272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Estonia belong</a:t>
            </a:r>
            <a:r>
              <a:rPr b="0" lang="et-EE" sz="32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to Central /Baltic GI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237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rea 43 432 km</a:t>
            </a:r>
            <a:r>
              <a:rPr b="0" lang="et-E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1, 34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Population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31 persons per km</a:t>
            </a:r>
            <a:r>
              <a:rPr b="0" lang="et-E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87640" y="928800"/>
            <a:ext cx="5699160" cy="514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32360" y="4076640"/>
            <a:ext cx="2087640" cy="1008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451640" y="4508640"/>
            <a:ext cx="1008000" cy="360360"/>
          </a:xfrm>
          <a:prstGeom prst="leftArrow">
            <a:avLst>
              <a:gd name="adj1" fmla="val 50000"/>
              <a:gd name="adj2" fmla="val 69930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cc"/>
                </a:solidFill>
                <a:latin typeface="Arial"/>
              </a:rPr>
              <a:t>River Väike Emajõgi</a:t>
            </a:r>
            <a:br>
              <a:rPr sz="2400"/>
            </a:br>
            <a:r>
              <a:rPr b="1" lang="et-EE" sz="2400" spc="-1" strike="noStrike">
                <a:solidFill>
                  <a:srgbClr val="0000cc"/>
                </a:solidFill>
                <a:latin typeface="Arial"/>
              </a:rPr>
              <a:t>Water quality (mean values, mg/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648320" y="1600200"/>
          <a:ext cx="4038480" cy="452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89000"/>
            <a:ext cx="38113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iver </a:t>
            </a:r>
            <a:r>
              <a:rPr b="1" lang="et-EE" sz="2400" spc="-1" strike="noStrike">
                <a:solidFill>
                  <a:srgbClr val="0000cc"/>
                </a:solidFill>
                <a:latin typeface="Arial"/>
              </a:rPr>
              <a:t>Pär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croinvertebrate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cc"/>
                </a:solidFill>
                <a:latin typeface="Arial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cc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cc"/>
                </a:solidFill>
                <a:latin typeface="Arial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754440" cy="1584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932360" y="2349360"/>
            <a:ext cx="3754440" cy="1727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859280" y="4292640"/>
            <a:ext cx="38275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cc"/>
                </a:solidFill>
                <a:latin typeface="Arial"/>
              </a:rPr>
              <a:t>River Pärnu</a:t>
            </a:r>
            <a:br>
              <a:rPr sz="2800"/>
            </a:b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Phytobenthos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, three diatoms index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5640" y="1600200"/>
            <a:ext cx="7931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cc"/>
                </a:solidFill>
                <a:latin typeface="Arial"/>
              </a:rPr>
              <a:t>River Pärnu</a:t>
            </a:r>
            <a:br>
              <a:rPr sz="2400"/>
            </a:br>
            <a:r>
              <a:rPr b="1" lang="et-EE" sz="2400" spc="-1" strike="noStrike">
                <a:solidFill>
                  <a:srgbClr val="0000cc"/>
                </a:solidFill>
                <a:latin typeface="Arial"/>
              </a:rPr>
              <a:t>Water quality (mean values, mg/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648320" y="1600200"/>
          <a:ext cx="4038480" cy="452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problems encountered during the compilation of the c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07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stonia is a small country and main attention of monitoring has been given to larger rivers. Therefore it is difficult to compile good database on reference water bod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number of monitored lakes and rivers is not very high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, because financial and </a:t>
            </a:r>
            <a:r>
              <a:rPr b="1" lang="et-EE" sz="2400" spc="-1" strike="noStrike">
                <a:solidFill>
                  <a:srgbClr val="0000cc"/>
                </a:solidFill>
                <a:latin typeface="Arial"/>
              </a:rPr>
              <a:t>also human resources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 are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ampling sites for biological and hydrochemical monitoring of rivers have been different in former times – therefore there were difficulties in comparing class boundaries for biological and chemical quality elements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problems encountered during the compilation of the c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07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water quality of Estonian rivers has improved during last 1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Hydromorphological monitoring for rivers will start only this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oday hydromorphological factors (dams, land reclamation, draining) have often more impact on biological quality elements than water quality h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conditions of changing water quality and scarce hydromorphological data </a:t>
            </a:r>
            <a:r>
              <a:rPr b="1" lang="et-EE" sz="3600" spc="-1" strike="noStrike">
                <a:solidFill>
                  <a:srgbClr val="0000cc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ifficult to find out reasons for lower than good biological qu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ccidental pollution (for example manure was spread on snow) can have considerable impact on biota, but not recorded in chemical monitoring</a:t>
            </a:r>
            <a:r>
              <a:rPr b="0" lang="et-E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t-EE" sz="3600" spc="-1" strike="noStrike">
                <a:solidFill>
                  <a:srgbClr val="0000cc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ifficult to find out reasons for lower than good biological qu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Estonian classification syste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was compiled during second half of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nd slightly modified this year taking into consideration the results of intercalibration </a:t>
            </a:r>
            <a:r>
              <a:rPr b="0" lang="et-EE" sz="3200" spc="-1" strike="noStrike">
                <a:solidFill>
                  <a:srgbClr val="0000cc"/>
                </a:solidFill>
                <a:latin typeface="Arial"/>
              </a:rPr>
              <a:t>in ECOS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t is decided to test it this year and make corrections, if needed, nex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00cc"/>
                </a:solidFill>
                <a:latin typeface="Arial"/>
              </a:rPr>
              <a:t>General </a:t>
            </a: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principles of surface water status assessmen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6711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The assessment of the status of a water body shall be based on monitoring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In absence of monitoring data, assessment can be based on an expert judgement, taking into account reference conditions, pressures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general impression of a water body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The assessment can be also based on modell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In case of contradictions between physicochemical and biological quality indicators, the final status assessment can be based on expert judg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Water bodies of the same type and similar pressure can be grouped and the status assessment based on compari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In case there is no evidence of pressure and impact, the status assessment can be based on expert judg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00cc"/>
                </a:solidFill>
                <a:latin typeface="Arial"/>
              </a:rPr>
              <a:t>Estonian l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There are more than 1200 lakes (&gt;1 ha) in Est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Two large lakes, Lake Peipsi and Lake Võrtsjä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Estonian lakes have been investigated for more than 10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Estonian 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Limnologists Society c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el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brated its centennial in 200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Therefore Estonian lake typology is relatively well </a:t>
            </a:r>
            <a:r>
              <a:rPr b="0" lang="et-EE" sz="2400" spc="-1" strike="noStrike">
                <a:solidFill>
                  <a:srgbClr val="0000cc"/>
                </a:solidFill>
                <a:latin typeface="Arial"/>
              </a:rPr>
              <a:t>elaborated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Present typology for purposes of WFD is derived from more detailed and sophisticated former typ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00000" y="274680"/>
            <a:ext cx="7786800" cy="6394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59480" y="2081160"/>
            <a:ext cx="11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21337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00"/>
                </a:solidFill>
                <a:latin typeface="Arial"/>
              </a:rPr>
              <a:t>L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00"/>
                </a:solidFill>
                <a:latin typeface="Arial"/>
              </a:rPr>
              <a:t>Peip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2560" y="4653000"/>
            <a:ext cx="16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00"/>
                </a:solidFill>
                <a:latin typeface="Arial"/>
              </a:rPr>
              <a:t>Lake Võrtsjä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Estonian lak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075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type I –</a:t>
            </a: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 calcareous lakes (alkalinity  &gt;240 HCO3 mg/l,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nductivity</a:t>
            </a:r>
            <a:r>
              <a:rPr b="0" lang="et-EE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&gt;400 µS/c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type II</a:t>
            </a: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 – shallow lakes with medium water hardness (unstratified, alkalinity 80–240 HCO3 mg/l,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nductivity</a:t>
            </a: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 165-400 µS/c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type III</a:t>
            </a: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 – deep lakes with medium water hardness (stratified, alkalinity 80–240 HCO3 mg/l,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nductivity</a:t>
            </a: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 165-400 µS/c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 IV –</a:t>
            </a: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 softwater (alkalinity &lt;80 HCO3 mg/l,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nductivity</a:t>
            </a: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 &lt;165 µS/cm) dark coloured lakes (absorbance factor at 400 nm </a:t>
            </a:r>
            <a:r>
              <a:rPr b="0" lang="et-EE" sz="1800" spc="-1" strike="noStrike">
                <a:solidFill>
                  <a:srgbClr val="0000cc"/>
                </a:solidFill>
                <a:latin typeface="Arial"/>
              </a:rPr>
              <a:t>&gt;</a:t>
            </a: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4 m-1, colour </a:t>
            </a:r>
            <a:r>
              <a:rPr b="0" lang="et-EE" sz="1800" spc="-1" strike="noStrike">
                <a:solidFill>
                  <a:srgbClr val="0000cc"/>
                </a:solidFill>
                <a:latin typeface="Arial"/>
              </a:rPr>
              <a:t>&gt;</a:t>
            </a: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type V</a:t>
            </a: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 – softwater (alkalinity &lt;80 HCO3 mg/l,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nductivity</a:t>
            </a: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 &lt;165 µS/cm) light coloured lakes (absorbance factor at 400 nm ≤ 4 m-1, colour ≤ 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type VI </a:t>
            </a: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– Lake Võrtsjärv – medium hardness (unstratified) shallow light coloured lake (absorbance factor at 400 nm ≤ 4 m-1, colour ≤ 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type VII</a:t>
            </a: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 – </a:t>
            </a:r>
            <a:r>
              <a:rPr b="0" lang="et-EE" sz="1800" spc="-1" strike="noStrike">
                <a:solidFill>
                  <a:srgbClr val="0000cc"/>
                </a:solidFill>
                <a:latin typeface="Arial"/>
              </a:rPr>
              <a:t>Lake </a:t>
            </a: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Peipsi</a:t>
            </a:r>
            <a:r>
              <a:rPr b="0" lang="et-EE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– medium hardness (unstratified) shallow light coloured lake (absorbance factor at 400 nm ≤ 4 m-1, colour ≤ 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 VIII – </a:t>
            </a: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coastal lakes (distance from the sea </a:t>
            </a:r>
            <a:r>
              <a:rPr b="0" lang="et-EE" sz="1800" spc="-1" strike="noStrike">
                <a:solidFill>
                  <a:srgbClr val="0000cc"/>
                </a:solidFill>
                <a:latin typeface="Arial"/>
              </a:rPr>
              <a:t>&lt;</a:t>
            </a: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5 km) – medium depth (</a:t>
            </a:r>
            <a:r>
              <a:rPr b="0" lang="et-EE" sz="1800" spc="-1" strike="noStrike">
                <a:solidFill>
                  <a:srgbClr val="0000cc"/>
                </a:solidFill>
                <a:latin typeface="Arial"/>
              </a:rPr>
              <a:t>&lt; </a:t>
            </a: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1m) light coloured lakes (absorbance factor at 400 nm ≤ 4 m-1, colour ≤ 8), content of chlorines &gt;25 mg/l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Assessment of the ecological </a:t>
            </a:r>
            <a:br>
              <a:rPr sz="3600"/>
            </a:b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status of lakes</a:t>
            </a: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Biological quality elements a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composition, abundance and biomass of phytoplankt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composition and abundance of  macrovegetat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composition and abundance of benthic invertebrate fau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Chemical and physicochemical quality elements</a:t>
            </a:r>
            <a:r>
              <a:rPr b="1" lang="et-EE" sz="2400" spc="-1" strike="noStrike">
                <a:solidFill>
                  <a:srgbClr val="0000cc"/>
                </a:solidFill>
                <a:latin typeface="Arial"/>
              </a:rPr>
              <a:t>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transparenc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range of metalimn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acidification statu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nutrient condi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8:08:01Z</dcterms:created>
  <dc:creator>kasutaja</dc:creator>
  <dc:description/>
  <dc:language>en-US</dc:language>
  <cp:lastModifiedBy>Utilisateur</cp:lastModifiedBy>
  <dcterms:modified xsi:type="dcterms:W3CDTF">2007-06-11T07:20:05Z</dcterms:modified>
  <cp:revision>35</cp:revision>
  <dc:subject/>
  <dc:title>Slide 1</dc:title>
</cp:coreProperties>
</file>