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672-F783-49D0-9672-29A969D6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A79-9498-40AC-9729-DF343FD6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446-4119-4A64-A70E-6B3A82F2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14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50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78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14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50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A8F-C9EA-4DD7-9B6D-E47569F8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7DC1-D1A9-4FAF-A550-1152640E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0FD5-D9EB-4FA1-9E64-102D825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543D-9515-4609-A0A4-66E1E5C4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BD8D-D33A-42D1-8024-7BA71EC2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C9FC-0BC9-41B4-BFC9-592AFB83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07800" y="1294920"/>
            <a:ext cx="71974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FA48-0E2E-430C-8C32-CDEF0EFF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B4C3-76F7-4E8E-B982-B2E20B61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A8F-F91D-4551-A9BF-26F3E212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5F28-BB99-4418-BECB-EA37C020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3FB2-CE38-4DE5-AEC9-3DCA5EA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7DEC-1164-4362-BAF0-A804031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FF9C-28ED-494A-8CC3-129FF339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14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50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078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14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50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C6A9-AC21-43FD-987D-9284F32C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345E-A50D-408C-BE6A-5867E0C3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9FD9-06C4-4493-8622-961DDA63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8520-5602-42B7-9978-904DBA7E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F433-BB2A-4DCE-AC2A-73253757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AB22-60EB-4623-AE8F-08335A0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C72-D5E9-4836-A3B6-BCCA195F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07800" y="1294920"/>
            <a:ext cx="71974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AF63-3D5C-4A57-92CA-4248C551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D0B8-0DAF-4DD3-9C14-533D0FB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DA71-AE83-42AD-8337-72AED238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94C6-1217-44AE-A1C7-ED73179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6DB1-F01F-4444-86C2-5D4C5F45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8243E-25EA-49CD-BB47-DABA66DE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14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750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2078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14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750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512C-21C6-4355-A877-2EAEDBBE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1096-BD5B-4AAC-A08A-4EDC0DE8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587A-27F7-431E-98E2-906330FE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1E02-A939-4114-AD5A-BA9898E5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1C3-025A-44C9-AB1B-BA0409D4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2C84-BC1E-490A-9B14-E9A79188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BECF-2F0B-4692-94D8-0685985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207800" y="1294920"/>
            <a:ext cx="71974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06F7-C30C-404B-AE03-18CAE8D6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E853-A6D6-4A09-AC3F-98582824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542C-D60B-4FC2-9A0D-8D650BE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FB38-99B8-4F76-A5AA-2D2DE04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E43E-29A0-4FAB-95CE-85036363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26F0-3276-4E88-99AC-26C2A9EF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414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50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2078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414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50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0B1E-2B35-48F8-9202-76CB5508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DB8-C98B-4F75-91A9-D6F6B761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07800" y="1294920"/>
            <a:ext cx="71974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395-6905-42B4-9C1D-3BF5BA24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E5D-DCCA-4AB0-B6A6-9C022C8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659-4135-45F0-9F81-8796446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04D-F5FB-4544-91D4-FFAEA444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25680" y="6464160"/>
            <a:ext cx="11970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B00-EBF9-44D6-8118-EB19F136DD93}" type="datetime">
              <a:rPr b="0" lang="sv-SE" sz="12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208160" y="646272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172000" y="6463800"/>
            <a:ext cx="143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780-6024-4C29-BE03-77423BFC942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40" y="195120"/>
            <a:ext cx="948996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23880" y="380880"/>
            <a:ext cx="64152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04840" y="6299280"/>
            <a:ext cx="948996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8680" y="1798200"/>
            <a:ext cx="61182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07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09FF-729C-4D13-BB9B-817F0EAB733C}" type="datetime">
              <a:rPr b="0" lang="sv-SE" sz="12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505240" y="6462360"/>
            <a:ext cx="48355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36B9-25FB-40CB-8022-EE8B3073755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195120"/>
            <a:ext cx="948996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3880" y="380880"/>
            <a:ext cx="641520" cy="71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4840" y="6299280"/>
            <a:ext cx="948996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840" y="1258920"/>
            <a:ext cx="9489960" cy="518004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6025680" y="6464160"/>
            <a:ext cx="11970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B92D-3148-4A97-BB82-E20A4488E8C6}" type="datetime">
              <a:rPr b="0" lang="sv-SE" sz="12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208160" y="646380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8172000" y="6463800"/>
            <a:ext cx="143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7C4-6922-4D2E-9373-9849A3C307D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195120"/>
            <a:ext cx="948996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3880" y="380880"/>
            <a:ext cx="64152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4840" y="6299280"/>
            <a:ext cx="948996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1209600" y="2242800"/>
            <a:ext cx="71978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4840" y="1258920"/>
            <a:ext cx="9489960" cy="518004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98280" y="1798200"/>
            <a:ext cx="6118200" cy="90036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56970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9F81-62E7-40FC-ABCD-E4D060548162}" type="datetime">
              <a:rPr b="0" lang="sv-SE" sz="12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11"/>
          </p:nvPr>
        </p:nvSpPr>
        <p:spPr>
          <a:xfrm>
            <a:off x="2066760" y="6462720"/>
            <a:ext cx="5734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DB4-20CA-4458-8463-BBB2A9689F7A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4840" y="195120"/>
            <a:ext cx="948996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3880" y="380880"/>
            <a:ext cx="641520" cy="71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4840" y="6299280"/>
            <a:ext cx="948996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28520" y="105264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ecological status in Swe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928520" y="4652640"/>
            <a:ext cx="61182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in Gunnarsson, Swedish 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68520" y="3429000"/>
            <a:ext cx="6842160" cy="576360"/>
            <a:chOff x="1568520" y="3429000"/>
            <a:chExt cx="6842160" cy="576360"/>
          </a:xfrm>
        </p:grpSpPr>
        <p:sp>
          <p:nvSpPr>
            <p:cNvPr id="180" name=""/>
            <p:cNvSpPr/>
            <p:nvPr/>
          </p:nvSpPr>
          <p:spPr>
            <a:xfrm>
              <a:off x="1568520" y="3429000"/>
              <a:ext cx="1296720" cy="57636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65240" y="3429000"/>
              <a:ext cx="1297080" cy="57636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60880" y="3429000"/>
              <a:ext cx="1297080" cy="5763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ODE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56160" y="3429000"/>
              <a:ext cx="1656000" cy="576360"/>
            </a:xfrm>
            <a:prstGeom prst="rect">
              <a:avLst/>
            </a:prstGeom>
            <a:solidFill>
              <a:srgbClr val="ff66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O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13600" y="3429000"/>
              <a:ext cx="1297080" cy="57636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B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55800" y="2565360"/>
            <a:ext cx="720720" cy="720720"/>
            <a:chOff x="1855800" y="2565360"/>
            <a:chExt cx="720720" cy="720720"/>
          </a:xfrm>
        </p:grpSpPr>
        <p:sp>
          <p:nvSpPr>
            <p:cNvPr id="186" name=""/>
            <p:cNvSpPr/>
            <p:nvPr/>
          </p:nvSpPr>
          <p:spPr>
            <a:xfrm>
              <a:off x="1855800" y="2565360"/>
              <a:ext cx="720720" cy="72072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6040" y="2985840"/>
              <a:ext cx="479520" cy="1782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0"/>
                  </a:moveTo>
                  <a:cubicBezTo>
                    <a:pt x="45" y="68"/>
                    <a:pt x="91" y="136"/>
                    <a:pt x="136" y="136"/>
                  </a:cubicBezTo>
                  <a:cubicBezTo>
                    <a:pt x="181" y="136"/>
                    <a:pt x="249" y="23"/>
                    <a:pt x="272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35440" y="2745000"/>
              <a:ext cx="119880" cy="120240"/>
            </a:xfrm>
            <a:prstGeom prst="ellipse">
              <a:avLst/>
            </a:prstGeom>
            <a:solidFill>
              <a:srgbClr val="649bcd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76280" y="2745000"/>
              <a:ext cx="119880" cy="120240"/>
            </a:xfrm>
            <a:prstGeom prst="ellipse">
              <a:avLst/>
            </a:prstGeom>
            <a:solidFill>
              <a:srgbClr val="649bcd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96280" y="2805840"/>
              <a:ext cx="59040" cy="59400"/>
            </a:xfrm>
            <a:prstGeom prst="ellipse">
              <a:avLst/>
            </a:prstGeom>
            <a:solidFill>
              <a:srgbClr val="0000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35680" y="2805840"/>
              <a:ext cx="59400" cy="59400"/>
            </a:xfrm>
            <a:prstGeom prst="ellipse">
              <a:avLst/>
            </a:prstGeom>
            <a:solidFill>
              <a:srgbClr val="0000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400880" y="2565360"/>
            <a:ext cx="719280" cy="719280"/>
            <a:chOff x="7400880" y="2565360"/>
            <a:chExt cx="719280" cy="719280"/>
          </a:xfrm>
        </p:grpSpPr>
        <p:sp>
          <p:nvSpPr>
            <p:cNvPr id="193" name=""/>
            <p:cNvSpPr/>
            <p:nvPr/>
          </p:nvSpPr>
          <p:spPr>
            <a:xfrm>
              <a:off x="7400880" y="2565360"/>
              <a:ext cx="719280" cy="7192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519320" y="2984760"/>
              <a:ext cx="478800" cy="1188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0"/>
                  </a:moveTo>
                  <a:cubicBezTo>
                    <a:pt x="45" y="68"/>
                    <a:pt x="91" y="136"/>
                    <a:pt x="136" y="136"/>
                  </a:cubicBezTo>
                  <a:cubicBezTo>
                    <a:pt x="181" y="136"/>
                    <a:pt x="249" y="23"/>
                    <a:pt x="272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0160" y="2744640"/>
              <a:ext cx="119880" cy="119880"/>
            </a:xfrm>
            <a:prstGeom prst="ellipse">
              <a:avLst/>
            </a:prstGeom>
            <a:solidFill>
              <a:srgbClr val="ff99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20640" y="2744640"/>
              <a:ext cx="119880" cy="119880"/>
            </a:xfrm>
            <a:prstGeom prst="ellipse">
              <a:avLst/>
            </a:prstGeom>
            <a:solidFill>
              <a:srgbClr val="ff99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79680" y="2805120"/>
              <a:ext cx="59400" cy="59400"/>
            </a:xfrm>
            <a:prstGeom prst="ellipse">
              <a:avLst/>
            </a:prstGeom>
            <a:solidFill>
              <a:srgbClr val="ff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39920" y="2805120"/>
              <a:ext cx="59040" cy="59400"/>
            </a:xfrm>
            <a:prstGeom prst="ellipse">
              <a:avLst/>
            </a:prstGeom>
            <a:solidFill>
              <a:srgbClr val="ff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961240" y="2565360"/>
            <a:ext cx="720720" cy="720720"/>
            <a:chOff x="5961240" y="2565360"/>
            <a:chExt cx="720720" cy="720720"/>
          </a:xfrm>
        </p:grpSpPr>
        <p:sp>
          <p:nvSpPr>
            <p:cNvPr id="200" name=""/>
            <p:cNvSpPr/>
            <p:nvPr/>
          </p:nvSpPr>
          <p:spPr>
            <a:xfrm>
              <a:off x="5961240" y="2565360"/>
              <a:ext cx="720720" cy="72072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140880" y="2985840"/>
              <a:ext cx="359640" cy="1188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0"/>
                  </a:moveTo>
                  <a:cubicBezTo>
                    <a:pt x="45" y="68"/>
                    <a:pt x="91" y="136"/>
                    <a:pt x="136" y="136"/>
                  </a:cubicBezTo>
                  <a:cubicBezTo>
                    <a:pt x="181" y="136"/>
                    <a:pt x="249" y="23"/>
                    <a:pt x="272" y="0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40880" y="2745000"/>
              <a:ext cx="120240" cy="120240"/>
            </a:xfrm>
            <a:prstGeom prst="ellipse">
              <a:avLst/>
            </a:prstGeom>
            <a:solidFill>
              <a:srgbClr val="ffcc99"/>
            </a:soli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81720" y="2745000"/>
              <a:ext cx="120240" cy="120240"/>
            </a:xfrm>
            <a:prstGeom prst="ellipse">
              <a:avLst/>
            </a:prstGeom>
            <a:solidFill>
              <a:srgbClr val="ffcc99"/>
            </a:soli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0280" y="2745000"/>
              <a:ext cx="59040" cy="59040"/>
            </a:xfrm>
            <a:prstGeom prst="ellipse">
              <a:avLst/>
            </a:prstGeom>
            <a:solidFill>
              <a:srgbClr val="ff6600">
                <a:alpha val="74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00280" y="2745000"/>
              <a:ext cx="59400" cy="59040"/>
            </a:xfrm>
            <a:prstGeom prst="ellipse">
              <a:avLst/>
            </a:prstGeom>
            <a:solidFill>
              <a:srgbClr val="ff6600">
                <a:alpha val="74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448160" y="2565360"/>
            <a:ext cx="720720" cy="720720"/>
            <a:chOff x="4448160" y="2565360"/>
            <a:chExt cx="720720" cy="720720"/>
          </a:xfrm>
        </p:grpSpPr>
        <p:sp>
          <p:nvSpPr>
            <p:cNvPr id="207" name=""/>
            <p:cNvSpPr/>
            <p:nvPr/>
          </p:nvSpPr>
          <p:spPr>
            <a:xfrm>
              <a:off x="4448160" y="2565360"/>
              <a:ext cx="720720" cy="72072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627800" y="3045240"/>
              <a:ext cx="359640" cy="5904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0"/>
                  </a:moveTo>
                  <a:cubicBezTo>
                    <a:pt x="45" y="68"/>
                    <a:pt x="91" y="136"/>
                    <a:pt x="136" y="136"/>
                  </a:cubicBezTo>
                  <a:cubicBezTo>
                    <a:pt x="181" y="136"/>
                    <a:pt x="249" y="23"/>
                    <a:pt x="272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27800" y="2745000"/>
              <a:ext cx="120240" cy="12024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68640" y="2745000"/>
              <a:ext cx="120240" cy="12024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8040" y="2805840"/>
              <a:ext cx="59040" cy="59400"/>
            </a:xfrm>
            <a:prstGeom prst="ellipse">
              <a:avLst/>
            </a:prstGeom>
            <a:solidFill>
              <a:srgbClr val="ffff00">
                <a:alpha val="7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89000" y="2805840"/>
              <a:ext cx="59040" cy="59400"/>
            </a:xfrm>
            <a:prstGeom prst="ellipse">
              <a:avLst/>
            </a:prstGeom>
            <a:solidFill>
              <a:srgbClr val="ffff00">
                <a:alpha val="7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152880" y="2565360"/>
            <a:ext cx="718920" cy="719280"/>
            <a:chOff x="3152880" y="2565360"/>
            <a:chExt cx="718920" cy="719280"/>
          </a:xfrm>
        </p:grpSpPr>
        <p:sp>
          <p:nvSpPr>
            <p:cNvPr id="214" name=""/>
            <p:cNvSpPr/>
            <p:nvPr/>
          </p:nvSpPr>
          <p:spPr>
            <a:xfrm>
              <a:off x="3152880" y="2565360"/>
              <a:ext cx="718920" cy="71928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32160" y="3044520"/>
              <a:ext cx="358560" cy="5904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0"/>
                  </a:moveTo>
                  <a:cubicBezTo>
                    <a:pt x="45" y="68"/>
                    <a:pt x="91" y="136"/>
                    <a:pt x="136" y="136"/>
                  </a:cubicBezTo>
                  <a:cubicBezTo>
                    <a:pt x="181" y="136"/>
                    <a:pt x="249" y="23"/>
                    <a:pt x="272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32160" y="2744640"/>
              <a:ext cx="119880" cy="119880"/>
            </a:xfrm>
            <a:prstGeom prst="ellipse">
              <a:avLst/>
            </a:prstGeom>
            <a:solidFill>
              <a:srgbClr val="ccffcc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72280" y="2744640"/>
              <a:ext cx="119880" cy="119880"/>
            </a:xfrm>
            <a:prstGeom prst="ellipse">
              <a:avLst/>
            </a:prstGeom>
            <a:solidFill>
              <a:srgbClr val="ccffcc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32160" y="2805120"/>
              <a:ext cx="59040" cy="59400"/>
            </a:xfrm>
            <a:prstGeom prst="ellipse">
              <a:avLst/>
            </a:prstGeom>
            <a:solidFill>
              <a:srgbClr val="008000">
                <a:alpha val="74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0840" y="2805120"/>
              <a:ext cx="59400" cy="59400"/>
            </a:xfrm>
            <a:prstGeom prst="ellipse">
              <a:avLst/>
            </a:prstGeom>
            <a:solidFill>
              <a:srgbClr val="008000">
                <a:alpha val="74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V="1">
            <a:off x="4160880" y="2276640"/>
            <a:ext cx="0" cy="201600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7E2D-0016-4BD7-83D0-69E7670E201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4744262-AD89-44FC-BE92-EAC72898D468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07800" y="476280"/>
            <a:ext cx="40323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Informationdivi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424160" y="1844640"/>
          <a:ext cx="7197480" cy="3778200"/>
        </p:xfrm>
        <a:graphic>
          <a:graphicData uri="http://schemas.openxmlformats.org/drawingml/2006/table">
            <a:tbl>
              <a:tblPr/>
              <a:tblGrid>
                <a:gridCol w="4608360"/>
                <a:gridCol w="365040"/>
                <a:gridCol w="222408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ondiv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lassification has been done for all relevant parameters based on data according to the demands in the assessment metho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3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lassification has been done based on both data and expert judge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8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lassification has been done based only on expert judgem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1352520" y="2708280"/>
            <a:ext cx="734544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52520" y="3716280"/>
            <a:ext cx="734544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2520" y="4724280"/>
            <a:ext cx="7345440" cy="79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13B-6388-44B9-8FE8-5DF001B4628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842B9-48D4-4C15-A50A-89BB489CF363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07800" y="260280"/>
            <a:ext cx="8497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§§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sv-SE" sz="2600" spc="-1" strike="noStrike">
                <a:solidFill>
                  <a:srgbClr val="0066ff"/>
                </a:solidFill>
                <a:latin typeface="Arial"/>
              </a:rPr>
              <a:t>3 kap. 5 - 7 §§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08160" y="2060640"/>
            <a:ext cx="7416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66ff"/>
                </a:solidFill>
                <a:latin typeface="Arial"/>
              </a:rPr>
              <a:t>3 and 5 §§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If a class boundary or a reference value has been justified based on 2 kap. 9 - 11 these values shall be mentioned in particular, as a part of the environmental quality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7 § The environmental quality standards shall be accounted for in VISS (Water Information System Sweden) or correspon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The definition used in Sweden is that environmental quality standards are </a:t>
            </a:r>
            <a:r>
              <a:rPr b="0" lang="sv-SE" sz="2200" spc="-1" strike="noStrike">
                <a:solidFill>
                  <a:srgbClr val="cc0000"/>
                </a:solidFill>
                <a:latin typeface="Arial"/>
              </a:rPr>
              <a:t>legally binding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limits for an environmental status which may not be infringed, after a specified d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96F-87BA-4BF3-B230-434300EF91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EFE59-E515-4350-9A73-5B6EDEB831A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65600" y="2349360"/>
            <a:ext cx="446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Thank you for listening!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24160" y="37893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368520" y="3357720"/>
            <a:ext cx="278136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Questions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EB9-41C7-4BB2-96D3-D9B6106ECF4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0CCA2-18A3-43F0-8753-1F62B21B6AFC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The Swedish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roposal on Regulation, General advice and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egaly binding parts of the assessment methods in the regulation, more in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xpert judgement as complement – also reg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irculation now: 2 April – 15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45C-CDFF-42F6-9B40-DA82D7BC6D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D484A-1C13-4821-9BCC-70A13B07294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sv-SE" sz="2600" spc="-1" strike="noStrike">
                <a:solidFill>
                  <a:srgbClr val="0066ff"/>
                </a:solidFill>
                <a:latin typeface="Arial"/>
              </a:rPr>
              <a:t>2 kap. 4 §</a:t>
            </a:r>
            <a:br>
              <a:rPr sz="2600"/>
            </a:b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Assessment metho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07800" y="2565000"/>
            <a:ext cx="74898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Basel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assessment methods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hall be used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if nothing else is admitted according to §§ 7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B9A-3A5B-4062-841E-5735FD4057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2CBD3-CE9F-4006-895E-0A118A45F5D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51000" y="198432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81240" y="256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1240" y="393372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9440" y="3692520"/>
            <a:ext cx="4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57960" y="4005360"/>
            <a:ext cx="43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57960" y="4653000"/>
            <a:ext cx="43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57960" y="5300640"/>
            <a:ext cx="46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59160" y="5635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10360" y="3632040"/>
            <a:ext cx="43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10360" y="5635800"/>
            <a:ext cx="43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10360" y="4927680"/>
            <a:ext cx="43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10360" y="4221000"/>
            <a:ext cx="43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4880" y="2133720"/>
            <a:ext cx="4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73600" y="1413000"/>
            <a:ext cx="4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16160" y="333360"/>
            <a:ext cx="1672920" cy="295200"/>
            <a:chOff x="2216160" y="333360"/>
            <a:chExt cx="1672920" cy="295200"/>
          </a:xfrm>
        </p:grpSpPr>
        <p:sp>
          <p:nvSpPr>
            <p:cNvPr id="240" name=""/>
            <p:cNvSpPr/>
            <p:nvPr/>
          </p:nvSpPr>
          <p:spPr>
            <a:xfrm>
              <a:off x="2216160" y="333360"/>
              <a:ext cx="167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. What category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16160" y="333360"/>
              <a:ext cx="1672920" cy="295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216160" y="865080"/>
            <a:ext cx="1672920" cy="293760"/>
            <a:chOff x="2216160" y="865080"/>
            <a:chExt cx="1672920" cy="293760"/>
          </a:xfrm>
        </p:grpSpPr>
        <p:sp>
          <p:nvSpPr>
            <p:cNvPr id="243" name=""/>
            <p:cNvSpPr/>
            <p:nvPr/>
          </p:nvSpPr>
          <p:spPr>
            <a:xfrm>
              <a:off x="2216160" y="865080"/>
              <a:ext cx="167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2. What typ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16160" y="865080"/>
              <a:ext cx="1672920" cy="293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216160" y="1393920"/>
            <a:ext cx="1672920" cy="459000"/>
            <a:chOff x="2216160" y="1393920"/>
            <a:chExt cx="1672920" cy="459000"/>
          </a:xfrm>
        </p:grpSpPr>
        <p:sp>
          <p:nvSpPr>
            <p:cNvPr id="246" name=""/>
            <p:cNvSpPr/>
            <p:nvPr/>
          </p:nvSpPr>
          <p:spPr>
            <a:xfrm>
              <a:off x="2216160" y="1393920"/>
              <a:ext cx="167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3. Is there Ass M för all QE in the typ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16160" y="1393920"/>
              <a:ext cx="1672920" cy="451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16160" y="2133720"/>
            <a:ext cx="1672920" cy="459000"/>
            <a:chOff x="2216160" y="2133720"/>
            <a:chExt cx="1672920" cy="459000"/>
          </a:xfrm>
        </p:grpSpPr>
        <p:sp>
          <p:nvSpPr>
            <p:cNvPr id="249" name=""/>
            <p:cNvSpPr/>
            <p:nvPr/>
          </p:nvSpPr>
          <p:spPr>
            <a:xfrm>
              <a:off x="2216160" y="2133720"/>
              <a:ext cx="167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4. Is there data to fulfill the Ass 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16160" y="2133720"/>
              <a:ext cx="1672920" cy="432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216160" y="2781360"/>
            <a:ext cx="1728360" cy="503280"/>
            <a:chOff x="2216160" y="2781360"/>
            <a:chExt cx="1728360" cy="503280"/>
          </a:xfrm>
        </p:grpSpPr>
        <p:sp>
          <p:nvSpPr>
            <p:cNvPr id="252" name=""/>
            <p:cNvSpPr/>
            <p:nvPr/>
          </p:nvSpPr>
          <p:spPr>
            <a:xfrm>
              <a:off x="2216160" y="2781360"/>
              <a:ext cx="1728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Arial"/>
                </a:rPr>
                <a:t>5. Classify parameters/ index in acc with Ass 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16160" y="2781360"/>
              <a:ext cx="1728360" cy="503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16160" y="3500280"/>
            <a:ext cx="1584000" cy="476280"/>
            <a:chOff x="2216160" y="3500280"/>
            <a:chExt cx="1584000" cy="476280"/>
          </a:xfrm>
        </p:grpSpPr>
        <p:sp>
          <p:nvSpPr>
            <p:cNvPr id="255" name=""/>
            <p:cNvSpPr/>
            <p:nvPr/>
          </p:nvSpPr>
          <p:spPr>
            <a:xfrm>
              <a:off x="2216160" y="3500280"/>
              <a:ext cx="158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6. Is the result reasonabl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6160" y="3500280"/>
              <a:ext cx="1584000" cy="476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216160" y="4221000"/>
            <a:ext cx="1672920" cy="459000"/>
            <a:chOff x="2216160" y="4221000"/>
            <a:chExt cx="1672920" cy="459000"/>
          </a:xfrm>
        </p:grpSpPr>
        <p:sp>
          <p:nvSpPr>
            <p:cNvPr id="258" name=""/>
            <p:cNvSpPr/>
            <p:nvPr/>
          </p:nvSpPr>
          <p:spPr>
            <a:xfrm>
              <a:off x="2216160" y="4221000"/>
              <a:ext cx="167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8. Sum of parameters to Q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16160" y="4221000"/>
              <a:ext cx="1672920" cy="412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216160" y="4869000"/>
            <a:ext cx="1672920" cy="477720"/>
            <a:chOff x="2216160" y="4869000"/>
            <a:chExt cx="1672920" cy="477720"/>
          </a:xfrm>
        </p:grpSpPr>
        <p:sp>
          <p:nvSpPr>
            <p:cNvPr id="261" name=""/>
            <p:cNvSpPr/>
            <p:nvPr/>
          </p:nvSpPr>
          <p:spPr>
            <a:xfrm>
              <a:off x="2216160" y="4869000"/>
              <a:ext cx="167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Arial"/>
                </a:rPr>
                <a:t>9. Summarizing of QE  to ecological stat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16160" y="4869000"/>
              <a:ext cx="1672920" cy="477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632480" y="2924280"/>
            <a:ext cx="1688760" cy="459000"/>
            <a:chOff x="4632480" y="2924280"/>
            <a:chExt cx="1688760" cy="459000"/>
          </a:xfrm>
        </p:grpSpPr>
        <p:sp>
          <p:nvSpPr>
            <p:cNvPr id="264" name=""/>
            <p:cNvSpPr/>
            <p:nvPr/>
          </p:nvSpPr>
          <p:spPr>
            <a:xfrm>
              <a:off x="4632480" y="2924280"/>
              <a:ext cx="168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7. Assessment of reasonabl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2480" y="2924280"/>
              <a:ext cx="1688760" cy="450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16160" y="5589720"/>
            <a:ext cx="1672920" cy="641520"/>
            <a:chOff x="2216160" y="5589720"/>
            <a:chExt cx="1672920" cy="641520"/>
          </a:xfrm>
        </p:grpSpPr>
        <p:sp>
          <p:nvSpPr>
            <p:cNvPr id="267" name=""/>
            <p:cNvSpPr/>
            <p:nvPr/>
          </p:nvSpPr>
          <p:spPr>
            <a:xfrm>
              <a:off x="2216160" y="5589720"/>
              <a:ext cx="167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0. Checking procedure for phys-chem parame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16160" y="5589720"/>
              <a:ext cx="1672920" cy="630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592520" y="3632040"/>
            <a:ext cx="1712520" cy="459000"/>
            <a:chOff x="4592520" y="3632040"/>
            <a:chExt cx="1712520" cy="459000"/>
          </a:xfrm>
        </p:grpSpPr>
        <p:sp>
          <p:nvSpPr>
            <p:cNvPr id="270" name=""/>
            <p:cNvSpPr/>
            <p:nvPr/>
          </p:nvSpPr>
          <p:spPr>
            <a:xfrm>
              <a:off x="4592520" y="3632040"/>
              <a:ext cx="171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7a. Due to shortage in the data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2520" y="3632040"/>
              <a:ext cx="1712520" cy="432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665600" y="4869000"/>
            <a:ext cx="1672920" cy="496800"/>
            <a:chOff x="4665600" y="4869000"/>
            <a:chExt cx="1672920" cy="496800"/>
          </a:xfrm>
        </p:grpSpPr>
        <p:sp>
          <p:nvSpPr>
            <p:cNvPr id="273" name=""/>
            <p:cNvSpPr/>
            <p:nvPr/>
          </p:nvSpPr>
          <p:spPr>
            <a:xfrm>
              <a:off x="4665600" y="4869000"/>
              <a:ext cx="167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7c. Due to natural circumstanc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65600" y="4869000"/>
              <a:ext cx="1672920" cy="49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665600" y="4221000"/>
            <a:ext cx="1709280" cy="459000"/>
            <a:chOff x="4665600" y="4221000"/>
            <a:chExt cx="1709280" cy="459000"/>
          </a:xfrm>
        </p:grpSpPr>
        <p:sp>
          <p:nvSpPr>
            <p:cNvPr id="276" name=""/>
            <p:cNvSpPr/>
            <p:nvPr/>
          </p:nvSpPr>
          <p:spPr>
            <a:xfrm>
              <a:off x="4665600" y="4221000"/>
              <a:ext cx="170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7b. Due to shortage in monitor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65600" y="4221000"/>
              <a:ext cx="1709280" cy="448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665600" y="5589720"/>
            <a:ext cx="1672920" cy="648720"/>
            <a:chOff x="4665600" y="5589720"/>
            <a:chExt cx="1672920" cy="648720"/>
          </a:xfrm>
        </p:grpSpPr>
        <p:sp>
          <p:nvSpPr>
            <p:cNvPr id="279" name=""/>
            <p:cNvSpPr/>
            <p:nvPr/>
          </p:nvSpPr>
          <p:spPr>
            <a:xfrm>
              <a:off x="4665600" y="5589720"/>
              <a:ext cx="1672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Arial"/>
                </a:rPr>
                <a:t>7d. Is the result of any of the parameters close to a class boundary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65600" y="5589720"/>
              <a:ext cx="1672920" cy="64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954840" y="4516560"/>
            <a:ext cx="1669680" cy="295200"/>
            <a:chOff x="6954840" y="4516560"/>
            <a:chExt cx="1669680" cy="295200"/>
          </a:xfrm>
        </p:grpSpPr>
        <p:sp>
          <p:nvSpPr>
            <p:cNvPr id="282" name=""/>
            <p:cNvSpPr/>
            <p:nvPr/>
          </p:nvSpPr>
          <p:spPr>
            <a:xfrm>
              <a:off x="6954840" y="4516560"/>
              <a:ext cx="166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See the 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54840" y="4516560"/>
              <a:ext cx="1669680" cy="295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65600" y="1341360"/>
            <a:ext cx="1833120" cy="641520"/>
            <a:chOff x="4665600" y="1341360"/>
            <a:chExt cx="1833120" cy="641520"/>
          </a:xfrm>
        </p:grpSpPr>
        <p:sp>
          <p:nvSpPr>
            <p:cNvPr id="285" name=""/>
            <p:cNvSpPr/>
            <p:nvPr/>
          </p:nvSpPr>
          <p:spPr>
            <a:xfrm>
              <a:off x="4665600" y="1341360"/>
              <a:ext cx="1833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Expert judgement needed for the missing Q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65600" y="1341360"/>
              <a:ext cx="1833120" cy="580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665600" y="2133720"/>
            <a:ext cx="1760400" cy="431640"/>
            <a:chOff x="4665600" y="2133720"/>
            <a:chExt cx="1760400" cy="431640"/>
          </a:xfrm>
        </p:grpSpPr>
        <p:sp>
          <p:nvSpPr>
            <p:cNvPr id="288" name=""/>
            <p:cNvSpPr/>
            <p:nvPr/>
          </p:nvSpPr>
          <p:spPr>
            <a:xfrm>
              <a:off x="4665600" y="2133720"/>
              <a:ext cx="17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Expert jud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5600" y="2133720"/>
              <a:ext cx="1760400" cy="431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" name=""/>
          <p:cNvCxnSpPr>
            <a:stCxn id="241" idx="2"/>
            <a:endCxn id="244" idx="0"/>
          </p:cNvCxnSpPr>
          <p:nvPr/>
        </p:nvCxnSpPr>
        <p:spPr>
          <a:xfrm>
            <a:off x="3053880" y="628200"/>
            <a:ext cx="108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44" idx="2"/>
            <a:endCxn id="247" idx="0"/>
          </p:cNvCxnSpPr>
          <p:nvPr/>
        </p:nvCxnSpPr>
        <p:spPr>
          <a:xfrm>
            <a:off x="3052440" y="1158480"/>
            <a:ext cx="108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47" idx="2"/>
            <a:endCxn id="250" idx="0"/>
          </p:cNvCxnSpPr>
          <p:nvPr/>
        </p:nvCxnSpPr>
        <p:spPr>
          <a:xfrm>
            <a:off x="3052440" y="1844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50" idx="2"/>
            <a:endCxn id="253" idx="0"/>
          </p:cNvCxnSpPr>
          <p:nvPr/>
        </p:nvCxnSpPr>
        <p:spPr>
          <a:xfrm>
            <a:off x="3052440" y="2565360"/>
            <a:ext cx="29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53" idx="2"/>
          </p:cNvCxnSpPr>
          <p:nvPr/>
        </p:nvCxnSpPr>
        <p:spPr>
          <a:xfrm>
            <a:off x="3080880" y="3284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56" idx="2"/>
          </p:cNvCxnSpPr>
          <p:nvPr/>
        </p:nvCxnSpPr>
        <p:spPr>
          <a:xfrm>
            <a:off x="3008160" y="3976200"/>
            <a:ext cx="453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47" idx="3"/>
            <a:endCxn id="286" idx="1"/>
          </p:cNvCxnSpPr>
          <p:nvPr/>
        </p:nvCxnSpPr>
        <p:spPr>
          <a:xfrm>
            <a:off x="3889440" y="1618920"/>
            <a:ext cx="7768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50" idx="3"/>
            <a:endCxn id="289" idx="1"/>
          </p:cNvCxnSpPr>
          <p:nvPr/>
        </p:nvCxnSpPr>
        <p:spPr>
          <a:xfrm>
            <a:off x="3889440" y="2349000"/>
            <a:ext cx="77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65" idx="2"/>
            <a:endCxn id="271" idx="0"/>
          </p:cNvCxnSpPr>
          <p:nvPr/>
        </p:nvCxnSpPr>
        <p:spPr>
          <a:xfrm flipH="1">
            <a:off x="5449320" y="3375000"/>
            <a:ext cx="2772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71" idx="2"/>
            <a:endCxn id="277" idx="0"/>
          </p:cNvCxnSpPr>
          <p:nvPr/>
        </p:nvCxnSpPr>
        <p:spPr>
          <a:xfrm>
            <a:off x="5450040" y="4065480"/>
            <a:ext cx="7200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77" idx="2"/>
            <a:endCxn id="274" idx="0"/>
          </p:cNvCxnSpPr>
          <p:nvPr/>
        </p:nvCxnSpPr>
        <p:spPr>
          <a:xfrm flipH="1">
            <a:off x="5501520" y="4670280"/>
            <a:ext cx="1980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74" idx="2"/>
            <a:endCxn id="280" idx="0"/>
          </p:cNvCxnSpPr>
          <p:nvPr/>
        </p:nvCxnSpPr>
        <p:spPr>
          <a:xfrm>
            <a:off x="5501880" y="536580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80" idx="1"/>
            <a:endCxn id="259" idx="3"/>
          </p:cNvCxnSpPr>
          <p:nvPr/>
        </p:nvCxnSpPr>
        <p:spPr>
          <a:xfrm rot="10800000">
            <a:off x="3888720" y="4426920"/>
            <a:ext cx="776880" cy="1488240"/>
          </a:xfrm>
          <a:prstGeom prst="bentConnector3">
            <a:avLst>
              <a:gd name="adj1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56" idx="3"/>
            <a:endCxn id="265" idx="1"/>
          </p:cNvCxnSpPr>
          <p:nvPr/>
        </p:nvCxnSpPr>
        <p:spPr>
          <a:xfrm flipV="1">
            <a:off x="3800160" y="3149280"/>
            <a:ext cx="832680" cy="5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59" idx="2"/>
            <a:endCxn id="262" idx="0"/>
          </p:cNvCxnSpPr>
          <p:nvPr/>
        </p:nvCxnSpPr>
        <p:spPr>
          <a:xfrm>
            <a:off x="3052440" y="4633560"/>
            <a:ext cx="108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62" idx="2"/>
            <a:endCxn id="268" idx="0"/>
          </p:cNvCxnSpPr>
          <p:nvPr/>
        </p:nvCxnSpPr>
        <p:spPr>
          <a:xfrm>
            <a:off x="3052440" y="5346360"/>
            <a:ext cx="108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71" idx="3"/>
            <a:endCxn id="283" idx="0"/>
          </p:cNvCxnSpPr>
          <p:nvPr/>
        </p:nvCxnSpPr>
        <p:spPr>
          <a:xfrm>
            <a:off x="6305400" y="3849840"/>
            <a:ext cx="1485360" cy="667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77" idx="3"/>
            <a:endCxn id="283" idx="1"/>
          </p:cNvCxnSpPr>
          <p:nvPr/>
        </p:nvCxnSpPr>
        <p:spPr>
          <a:xfrm>
            <a:off x="6375240" y="4446720"/>
            <a:ext cx="580320" cy="218160"/>
          </a:xfrm>
          <a:prstGeom prst="bentConnector3">
            <a:avLst>
              <a:gd name="adj1" fmla="val 498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74" idx="3"/>
            <a:endCxn id="283" idx="1"/>
          </p:cNvCxnSpPr>
          <p:nvPr/>
        </p:nvCxnSpPr>
        <p:spPr>
          <a:xfrm flipV="1">
            <a:off x="6338520" y="4663440"/>
            <a:ext cx="616680" cy="45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80" idx="3"/>
            <a:endCxn id="283" idx="2"/>
          </p:cNvCxnSpPr>
          <p:nvPr/>
        </p:nvCxnSpPr>
        <p:spPr>
          <a:xfrm flipV="1">
            <a:off x="6338520" y="4811040"/>
            <a:ext cx="1451880" cy="110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24520" y="333360"/>
            <a:ext cx="3744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Checklist </a:t>
            </a:r>
            <a:br>
              <a:rPr sz="2200"/>
            </a:b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classification of statu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0C3-C432-4CBA-92F7-0671C080990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9B72E-461F-4F5D-A476-C9D9AD3221D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08160" y="260280"/>
            <a:ext cx="835344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§§</a:t>
            </a:r>
            <a:br>
              <a:rPr sz="4000"/>
            </a:b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sv-SE" sz="2600" spc="-1" strike="noStrike">
                <a:solidFill>
                  <a:srgbClr val="0066ff"/>
                </a:solidFill>
                <a:latin typeface="Arial"/>
              </a:rPr>
              <a:t>2 kap. 7 §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600"/>
            </a:b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Expert judg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20520" y="1915920"/>
            <a:ext cx="74847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f Assessment method is missing for that QE in th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f the waterbody is not representativ for th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f data for an assessment acceptable to AS-method is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How: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based on availabl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essure and impac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Grouping of water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ocumentation! Justify, how an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183-0B14-4F26-91F6-3D7F3C829B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D0415-68E8-472C-A81E-446B9E9B416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08160" y="549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§§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sv-SE" sz="2600" spc="-1" strike="noStrike">
                <a:solidFill>
                  <a:srgbClr val="0066ff"/>
                </a:solidFill>
                <a:latin typeface="Arial"/>
              </a:rPr>
              <a:t>2 kap. 8 - 11 §</a:t>
            </a:r>
            <a:br>
              <a:rPr sz="2600"/>
            </a:br>
            <a:r>
              <a:rPr b="1" lang="sv-SE" sz="2600" spc="-1" strike="noStrike">
                <a:solidFill>
                  <a:srgbClr val="0066ff"/>
                </a:solidFill>
                <a:latin typeface="Arial"/>
              </a:rPr>
              <a:t>Extended examin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20880" y="2320560"/>
            <a:ext cx="82087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312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66ff"/>
                </a:solidFill>
                <a:latin typeface="Arial"/>
              </a:rPr>
              <a:t>2 kap § 8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: a judgement shall be done if the result is reasonable or if the uncertainty is very high  - find the cause, possibly disregard from the result for the parameter when classifying – use expert judgement inste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12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66ff"/>
                </a:solidFill>
                <a:latin typeface="Arial"/>
              </a:rPr>
              <a:t>2 kap § 11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: After the checking procedure the water authorities MAY adjust the class boundary for G/M (phys-che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DDA-55AA-42B2-AA3D-E1E9CA7729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D0D71-E9FC-4CA2-BBF4-C2E08853828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08160" y="404280"/>
            <a:ext cx="835344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800" spc="-1" strike="noStrike">
                <a:solidFill>
                  <a:srgbClr val="0066ff"/>
                </a:solidFill>
                <a:latin typeface="Arial"/>
              </a:rPr>
              <a:t>§§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sv-SE" sz="2600" spc="-1" strike="noStrike">
                <a:solidFill>
                  <a:srgbClr val="0066ff"/>
                </a:solidFill>
                <a:latin typeface="Arial"/>
              </a:rPr>
              <a:t>2 kap. 8 § </a:t>
            </a:r>
            <a:br>
              <a:rPr sz="2600"/>
            </a:b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Assessment of reasonableness -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on parameter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ssessment of reasonableness</a:t>
            </a:r>
            <a:r>
              <a:rPr b="0" lang="sv-SE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be 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s the result reasonab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oes the result have a very high uncertaint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o the uncertainty of the result play a significant role in the classific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nvestigate the cause and if relevant exclude the result of that parameter – use expert judgement inst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Motivate and docum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450-2ED9-497A-BDB0-4466A4D54B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E3E0F-0CCF-4204-B41F-1D708471B0A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08160" y="333360"/>
            <a:ext cx="8353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sv-SE" sz="4200" spc="-1" strike="noStrike">
                <a:solidFill>
                  <a:srgbClr val="0066ff"/>
                </a:solidFill>
                <a:latin typeface="Arial"/>
              </a:rPr>
              <a:t>AR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sv-SE" sz="2400" spc="-1" strike="noStrike">
                <a:solidFill>
                  <a:srgbClr val="000000"/>
                </a:solidFill>
                <a:latin typeface="Arial"/>
              </a:rPr>
              <a:t>General advice to </a:t>
            </a:r>
            <a:r>
              <a:rPr b="1" i="1" lang="sv-SE" sz="2400" spc="-1" strike="noStrike">
                <a:solidFill>
                  <a:srgbClr val="0066ff"/>
                </a:solidFill>
                <a:latin typeface="Arial"/>
              </a:rPr>
              <a:t>2 kap. 8 § </a:t>
            </a:r>
            <a:br>
              <a:rPr sz="2400"/>
            </a:br>
            <a:r>
              <a:rPr b="1" i="1" lang="sv-SE" sz="2400" spc="-1" strike="noStrike">
                <a:solidFill>
                  <a:srgbClr val="000000"/>
                </a:solidFill>
                <a:latin typeface="Arial"/>
              </a:rPr>
              <a:t>Assessment of reasonableness  -  </a:t>
            </a:r>
            <a:r>
              <a:rPr b="1" i="1" lang="sv-SE" sz="2000" spc="-1" strike="noStrike">
                <a:solidFill>
                  <a:srgbClr val="000000"/>
                </a:solidFill>
                <a:latin typeface="Arial"/>
              </a:rPr>
              <a:t>on parameter level</a:t>
            </a:r>
            <a:r>
              <a:rPr b="1" i="1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07800" y="1773360"/>
            <a:ext cx="77058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660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n what ca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6600" indent="-15660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Considerable devian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6600" indent="-15660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Too littl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6600" indent="-15660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Results differ compared to the Water authority previous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6600" indent="-15660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Results opposite to pressur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6600" indent="-15660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VERY close to the border of G/M or H/G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– the confidence interval is on both sides of the EQ-b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6600" indent="-156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the cause? – lack of data, defects in monitoring or natural caus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820-005F-4981-8CC6-8ADADE5E8B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4AB0A-BC10-4096-AD15-816083056B9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08160" y="333000"/>
            <a:ext cx="835344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5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5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5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5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5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5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5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sv-SE" sz="45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sv-SE" sz="4500" spc="-1" strike="noStrike">
                <a:solidFill>
                  <a:srgbClr val="0066ff"/>
                </a:solidFill>
                <a:latin typeface="Arial"/>
              </a:rPr>
              <a:t>AR</a:t>
            </a: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i="1" lang="sv-SE" sz="2800" spc="-1" strike="noStrike">
                <a:solidFill>
                  <a:srgbClr val="000000"/>
                </a:solidFill>
                <a:latin typeface="Arial"/>
              </a:rPr>
              <a:t>General Advice </a:t>
            </a:r>
            <a:r>
              <a:rPr b="1" i="1" lang="sv-SE" sz="2800" spc="-1" strike="noStrike">
                <a:solidFill>
                  <a:srgbClr val="0066ff"/>
                </a:solidFill>
                <a:latin typeface="Arial"/>
              </a:rPr>
              <a:t>2 kap. 8 §</a:t>
            </a: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 (cont.)</a:t>
            </a:r>
            <a:br>
              <a:rPr sz="2800"/>
            </a:br>
            <a:r>
              <a:rPr b="1" i="1" lang="sv-SE" sz="2600" spc="-1" strike="noStrike">
                <a:solidFill>
                  <a:srgbClr val="000000"/>
                </a:solidFill>
                <a:latin typeface="Arial"/>
              </a:rPr>
              <a:t>Assessment of reasonableness </a:t>
            </a:r>
            <a:r>
              <a:rPr b="1" i="1" lang="sv-SE" sz="2000" spc="-1" strike="noStrike">
                <a:solidFill>
                  <a:srgbClr val="000000"/>
                </a:solidFill>
                <a:latin typeface="Arial"/>
              </a:rPr>
              <a:t>– on parameter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To improve the investig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Pressure today and in the pa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Look at trends for relevant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Complementary monitoring or monitoring of other parameters should be conside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To avoid assessments based on false 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C01-3297-40D1-8773-E1C07C6279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6BF98-9DF5-4DCC-8419-88D8E2667E1B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16:01Z</dcterms:created>
  <dc:creator>Joakim Dahl</dc:creator>
  <dc:description>Tom mall för PowerPoint presentation 2005-02-15</dc:description>
  <dc:language>en-US</dc:language>
  <cp:lastModifiedBy>VIAL Isabelle</cp:lastModifiedBy>
  <dcterms:modified xsi:type="dcterms:W3CDTF">2007-05-31T12:57:22Z</dcterms:modified>
  <cp:revision>145</cp:revision>
  <dc:subject/>
  <dc:title>Bild 1</dc:title>
</cp:coreProperties>
</file>