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6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7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C2FA-DF3D-4373-A11C-61976749A2DC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Based on the assessmentt of the biological quality elements the monitoringsites were selected – as an indicator for undisturbed conditions with organic and nutrient pollution monitoring sites with saprobic index border high to good and borde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111320" y="4717800"/>
            <a:ext cx="4572000" cy="446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he future work will be to define some biologically based Reg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19960"/>
            <a:ext cx="8382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1996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1996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1996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1996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1996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81996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6040" y="381996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819960"/>
            <a:ext cx="8382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819960"/>
            <a:ext cx="8382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81996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6040" y="381996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81996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5160" y="381996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9440" y="381996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D5266-B823-4060-9AEC-BBB2025D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F5031-C4D5-4A3A-AB47-D075ACFA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FC6C6-5D42-4550-A37D-3A262610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7F192-6100-41B1-B1FF-56DC7DDB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EA87B-A16B-47F6-AC68-B6C31F5D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7825B-6309-4F60-9A45-3F12D1F9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381996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29C30-0053-4E25-BF0D-918509A6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6040" y="381996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29E0E-4BA3-4960-A780-505EDAFA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0880" y="3819960"/>
            <a:ext cx="8382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76F61-251B-4000-8D38-85A8783E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880" y="3819960"/>
            <a:ext cx="8382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30476-2762-4BF8-8D9B-B9A1AA35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880" y="381996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6040" y="381996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B1972-812D-4F5F-93B2-8ED1250D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80880" y="381996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15160" y="381996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49440" y="3819960"/>
            <a:ext cx="2698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6CA9D-00B7-4E91-A8B7-ABBDE71A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1996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1996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19960"/>
            <a:ext cx="8382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9215280" y="3809520"/>
            <a:ext cx="0" cy="3048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740800" y="6453360"/>
            <a:ext cx="8017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fld id="{516B9844-B563-4EA0-9308-B3E087BCDE9F}" type="slidenum">
              <a:rPr b="1" lang="de-DE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75480" y="257040"/>
            <a:ext cx="1254240" cy="95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179280" y="6453000"/>
            <a:ext cx="856296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CIS-WS 11-12-June 2007,Paris        Type specific assessment of general physico-chemical parameters in Austria/K.Deut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18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0172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2076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207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207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257040"/>
            <a:ext cx="7961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21608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25280" y="6527880"/>
            <a:ext cx="687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B FR21 Book"/>
              </a:rPr>
              <a:t>Seite </a:t>
            </a:r>
            <a:fld id="{2CA4BFAB-9B17-495F-9B2E-7782BCB7500F}" type="slidenum">
              <a:rPr b="0" lang="de-DE" sz="800" spc="-1" strike="noStrike">
                <a:solidFill>
                  <a:srgbClr val="000000"/>
                </a:solidFill>
                <a:latin typeface="B FR21 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8240" y="6705720"/>
            <a:ext cx="8839080" cy="1440"/>
          </a:xfrm>
          <a:prstGeom prst="line">
            <a:avLst/>
          </a:prstGeom>
          <a:ln w="6480">
            <a:solidFill>
              <a:srgbClr val="008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48480" y="6527880"/>
            <a:ext cx="5587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fld id="{4A9DBFEC-9C11-4975-9571-D38F4C730701}" type="datetime">
              <a:rPr b="0" lang="de-DE" sz="800" spc="-1" strike="noStrike">
                <a:solidFill>
                  <a:srgbClr val="000000"/>
                </a:solidFill>
                <a:latin typeface="B FR21 Book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242120" y="260280"/>
            <a:ext cx="1587600" cy="121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456000"/>
            <a:ext cx="4605480" cy="344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2320" y="478476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to Pulk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2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49760" y="472428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to Gebirgsb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3059280" cy="3422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156360" y="3429000"/>
            <a:ext cx="2990880" cy="3473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059280" y="3429000"/>
            <a:ext cx="3097080" cy="3473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82680" algn="ctr"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573120" algn="ctr"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92160" algn="ctr"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921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921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8F08-D5E5-431A-908D-3DC4AB9C61C4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2360" y="765000"/>
            <a:ext cx="7199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cc33"/>
                </a:solidFill>
                <a:latin typeface="Arial"/>
              </a:rPr>
              <a:t>General chemical and physico-chemical elements – </a:t>
            </a:r>
            <a:br>
              <a:rPr sz="3200"/>
            </a:br>
            <a:r>
              <a:rPr b="1" lang="de-DE" sz="3200" spc="-1" strike="noStrike">
                <a:solidFill>
                  <a:srgbClr val="33cc33"/>
                </a:solidFill>
                <a:latin typeface="Arial"/>
              </a:rPr>
              <a:t>Type-specific assessment of rivers in Austria</a:t>
            </a:r>
            <a:br>
              <a:rPr sz="3200"/>
            </a:br>
            <a:endParaRPr b="0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71640" y="2421000"/>
            <a:ext cx="589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cc33"/>
                </a:solidFill>
                <a:latin typeface="Arial"/>
              </a:rPr>
              <a:t>Karin De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cc33"/>
                </a:solidFill>
                <a:latin typeface="Arial"/>
              </a:rPr>
              <a:t>BMLFUW VII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cc33"/>
                </a:solidFill>
                <a:latin typeface="Arial"/>
              </a:rPr>
              <a:t>karin.deutsch@lebensministerium.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cc33"/>
                </a:solidFill>
                <a:latin typeface="Arial"/>
              </a:rPr>
              <a:t>Data base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75042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Monitoring data of 240 monitoring sites including reference sites for high and good stat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2003 – 200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Makroinvertebrate, Phytobenth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Chemistry monthl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476360" y="4653000"/>
            <a:ext cx="6121440" cy="10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07552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  <a:ea typeface="Arial"/>
              </a:rPr>
              <a:t>Physico chemical quality elements – selection of parameters</a:t>
            </a:r>
            <a:endParaRPr b="1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0920" y="1628640"/>
          <a:ext cx="8497800" cy="4307040"/>
        </p:xfrm>
        <a:graphic>
          <a:graphicData uri="http://schemas.openxmlformats.org/drawingml/2006/table">
            <a:tbl>
              <a:tblPr/>
              <a:tblGrid>
                <a:gridCol w="2631960"/>
                <a:gridCol w="2265480"/>
                <a:gridCol w="3600360"/>
              </a:tblGrid>
              <a:tr h="87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 chemical and physico-chemical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/good based 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xygenation 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D5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Oxygen satur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roinvertebrate – Saprobic 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trient 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3-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roinvertebrate – Saprobic 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luble reactive phosp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thobenthos – Trophic 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in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roinvertebrate – Saprobic index, F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ification 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h (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78/659/E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cid Neutralising Capac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rmal 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874872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cc33"/>
                </a:solidFill>
                <a:latin typeface="Arial"/>
              </a:rPr>
              <a:t>Oxygenation conditions – BOD5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80880" y="1413000"/>
          <a:ext cx="7647120" cy="1068120"/>
        </p:xfrm>
        <a:graphic>
          <a:graphicData uri="http://schemas.openxmlformats.org/drawingml/2006/table">
            <a:tbl>
              <a:tblPr/>
              <a:tblGrid>
                <a:gridCol w="2368800"/>
                <a:gridCol w="2038320"/>
                <a:gridCol w="324000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 chemical and physico-chemical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/good based 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xygenation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D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roinvertebrate – Saprobic 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457200" y="2637000"/>
            <a:ext cx="41148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19200" indent="-260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valuation BOD/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19200" indent="-260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 each bioregion and high/good selection of monitoring sites which lie  within the range boundary - 0,125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19200" indent="-26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cus of the definition of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114800" cy="32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cc33"/>
                </a:solidFill>
                <a:latin typeface="Arial"/>
                <a:ea typeface="Arial"/>
              </a:rPr>
              <a:t>Selection of relevant sites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68360" y="1360440"/>
          <a:ext cx="8218440" cy="1639800"/>
        </p:xfrm>
        <a:graphic>
          <a:graphicData uri="http://schemas.openxmlformats.org/drawingml/2006/table">
            <a:tbl>
              <a:tblPr/>
              <a:tblGrid>
                <a:gridCol w="1514520"/>
                <a:gridCol w="1676160"/>
                <a:gridCol w="1675080"/>
                <a:gridCol w="1676160"/>
                <a:gridCol w="16765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re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/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obser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used for standard deter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W 3983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üdal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/2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– not within the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W 46996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üdal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/2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- 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468360" y="3808440"/>
            <a:ext cx="821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26920" y="3132000"/>
            <a:ext cx="3391200" cy="3119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332748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4762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33cc33"/>
                </a:solidFill>
                <a:latin typeface="Arial"/>
              </a:rPr>
              <a:t>BOD – 90 percentile</a:t>
            </a:r>
            <a:endParaRPr b="1" lang="en-US" sz="36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OD mg/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al data not available for all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2349360"/>
            <a:ext cx="821844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cc33"/>
                </a:solidFill>
                <a:latin typeface="Arial"/>
              </a:rPr>
              <a:t>Clusteranalysis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895400" y="2216160"/>
            <a:ext cx="5353200" cy="30002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63480" y="128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3440" y="1403280"/>
            <a:ext cx="798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4032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usteranalysis identifies similar bio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464080"/>
            <a:ext cx="67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tjudg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42176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33cc33"/>
                </a:solidFill>
                <a:latin typeface="Arial"/>
              </a:rPr>
              <a:t>BOD – Proposal quality standard</a:t>
            </a:r>
            <a:endParaRPr b="1" lang="en-US" sz="36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507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roposal quality standard 2007 - values under discussion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OD/mg/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ompliance checking-monthly data, 1 or 2years - 90 percenti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821844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cc33"/>
                </a:solidFill>
                <a:latin typeface="Arial"/>
              </a:rPr>
              <a:t>Nutrients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80880" y="1413000"/>
          <a:ext cx="8382240" cy="1493640"/>
        </p:xfrm>
        <a:graphic>
          <a:graphicData uri="http://schemas.openxmlformats.org/drawingml/2006/table">
            <a:tbl>
              <a:tblPr/>
              <a:tblGrid>
                <a:gridCol w="2425680"/>
                <a:gridCol w="2341800"/>
                <a:gridCol w="361476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 chemical and physico-chemical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/good based 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trient 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4-P (SR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tobenthos – Trophic index (T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3-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roinvertebrate – Saprobic 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533520" y="2906640"/>
            <a:ext cx="822960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ytobenthos - Trophic index - Definition high and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each bioregion selection of monitoring sites within the range boundary - 0,125 TI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cus of the definition of boundary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xeption NO3-N: no nitrogen limitation in austrian rivers, high status </a:t>
            </a: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saprobic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5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H4-N, NO2-N – QS based on toxic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cc33"/>
                </a:solidFill>
                <a:latin typeface="Arial"/>
              </a:rPr>
              <a:t>SRP or P(tot)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3399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hy SR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780000" y="50760"/>
            <a:ext cx="5364000" cy="33339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778200" y="3384720"/>
            <a:ext cx="5365800" cy="3336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00720" y="4437000"/>
            <a:ext cx="237636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95640" y="5405400"/>
            <a:ext cx="505080" cy="2174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00720" y="5622840"/>
            <a:ext cx="8632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64000" y="5619600"/>
            <a:ext cx="1513080" cy="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060640"/>
            <a:ext cx="3399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nterrelation SRP – TI 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high concentration strong indication for high TI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low concentrations don´t mean always low TI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Additional limitation factors – l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0675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cc33"/>
                </a:solidFill>
                <a:latin typeface="Arial"/>
              </a:rPr>
              <a:t>SRP – Proposal quality standard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roposal quality standard 2007 -values under discussio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RP/mg/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ompliance checking-monthly data, 1 or 2years - 90 percen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50840" y="3068640"/>
            <a:ext cx="8993160" cy="25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FD Annex V – Quality elements for the classification of ecological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ological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254160">
              <a:spcBef>
                <a:spcPts val="1100"/>
              </a:spcBef>
              <a:buClr>
                <a:srgbClr val="3333cc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ydromorphological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254160">
              <a:spcBef>
                <a:spcPts val="1100"/>
              </a:spcBef>
              <a:buClr>
                <a:srgbClr val="3333cc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hemical and physico-chemical elements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supporting the biological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7920" indent="-228600">
              <a:spcBef>
                <a:spcPts val="1100"/>
              </a:spcBef>
              <a:buClr>
                <a:srgbClr val="3333cc"/>
              </a:buClr>
              <a:buFont typeface="Wingdings" charset="2"/>
              <a:buChar char="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ner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7920" indent="0">
              <a:lnSpc>
                <a:spcPct val="5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hermal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7920" indent="0">
              <a:lnSpc>
                <a:spcPct val="5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xygen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7920" indent="0">
              <a:lnSpc>
                <a:spcPct val="5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ali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7920" indent="0">
              <a:lnSpc>
                <a:spcPct val="5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cidification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7920" indent="0">
              <a:lnSpc>
                <a:spcPct val="5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utrient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7920" indent="-228600">
              <a:spcBef>
                <a:spcPts val="1100"/>
              </a:spcBef>
              <a:buClr>
                <a:srgbClr val="3333cc"/>
              </a:buClr>
              <a:buFont typeface="Wingdings" charset="2"/>
              <a:buChar char="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pecific pollut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cc33"/>
                </a:solidFill>
                <a:latin typeface="Arial"/>
              </a:rPr>
              <a:t>Introduction/1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cc33"/>
                </a:solidFill>
                <a:latin typeface="Arial"/>
              </a:rPr>
              <a:t>NO3-N </a:t>
            </a:r>
            <a:r>
              <a:rPr b="1" lang="de-AT" sz="3200" spc="-1" strike="noStrike">
                <a:solidFill>
                  <a:srgbClr val="33cc33"/>
                </a:solidFill>
                <a:latin typeface="Arial"/>
              </a:rPr>
              <a:t>Proposal quality standard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7631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24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Proposal quality standard 2007 -values under discussion 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NO3-N/mg/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Compliance checking-monthly data, 1 or 2years - 90 percenti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High status – values based on 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Good status only differentation between si-reference no bioreg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3573360"/>
            <a:ext cx="82296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cc33"/>
                </a:solidFill>
                <a:latin typeface="Arial"/>
              </a:rPr>
              <a:t>Salinity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3428640"/>
            <a:ext cx="7931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24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High status based on saprobic index ?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Good status ?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662120"/>
          <a:ext cx="7854840" cy="1403280"/>
        </p:xfrm>
        <a:graphic>
          <a:graphicData uri="http://schemas.openxmlformats.org/drawingml/2006/table">
            <a:tbl>
              <a:tblPr/>
              <a:tblGrid>
                <a:gridCol w="2433600"/>
                <a:gridCol w="2363760"/>
                <a:gridCol w="30574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 chemical and physico-chemical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/good based 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in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roinvertebrate – Saprobic index, Fish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cc33"/>
                </a:solidFill>
                <a:latin typeface="Arial"/>
              </a:rPr>
              <a:t>Acidification, Thermal conditions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3957480"/>
            <a:ext cx="411480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Thermal condition –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spcBef>
                <a:spcPts val="476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Arial"/>
              </a:rPr>
              <a:t>High status based on demands of typespecific fishpopul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spcBef>
                <a:spcPts val="476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Arial"/>
              </a:rPr>
              <a:t>Good status – Fish Protection Directive (CD 78/659/EE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spcBef>
                <a:spcPts val="476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Arial"/>
              </a:rPr>
              <a:t>Qualitity standards - still ope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417680"/>
          <a:ext cx="8382240" cy="1446120"/>
        </p:xfrm>
        <a:graphic>
          <a:graphicData uri="http://schemas.openxmlformats.org/drawingml/2006/table">
            <a:tbl>
              <a:tblPr/>
              <a:tblGrid>
                <a:gridCol w="2597400"/>
                <a:gridCol w="2522520"/>
                <a:gridCol w="3262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 chemical and physico-chemical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/good based 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ification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h (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78/659/EE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cid Neutralising Capacit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rmal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495680" y="3807000"/>
            <a:ext cx="4002120" cy="2487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80880" y="3152880"/>
            <a:ext cx="83822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Acidification status – ph based on Fish Protection Directive (CD 78/659/E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cc33"/>
                </a:solidFill>
                <a:latin typeface="Arial"/>
              </a:rPr>
              <a:t>Ecological status of monitoring site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sessment of ecological status of monitoring sit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quires biological and chemical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hemical and physico-chemical elements: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6400" indent="-871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nder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36400" indent="-871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ompliance checking requires monthly data from 2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36400" indent="-871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0 percen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36400" indent="-871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very single parameter cou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ological qualitiy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Worst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876240" y="476280"/>
          <a:ext cx="7656480" cy="56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476280"/>
                    <a:ext cx="7656480" cy="56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351480" y="438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77080" y="1784520"/>
          <a:ext cx="1979640" cy="1096920"/>
        </p:xfrm>
        <a:graphic>
          <a:graphicData uri="http://schemas.openxmlformats.org/drawingml/2006/table">
            <a:tbl>
              <a:tblPr/>
              <a:tblGrid>
                <a:gridCol w="1355760"/>
                <a:gridCol w="62388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ormance TI - S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gae = S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332000" y="9079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33ccff"/>
                </a:solidFill>
                <a:latin typeface="Arial"/>
              </a:rPr>
              <a:t>Thank you for your atten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124000" y="4365720"/>
            <a:ext cx="66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6000" spc="-1" strike="noStrike">
                <a:solidFill>
                  <a:srgbClr val="ffff66"/>
                </a:solidFill>
                <a:latin typeface="Arial"/>
              </a:rPr>
              <a:t>Thank you for your atten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cc33"/>
                </a:solidFill>
                <a:latin typeface="Arial"/>
              </a:rPr>
              <a:t>Introduction/2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FD Annex V Tab. 1.2.1. Normative definition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hysico-chemical quality element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 u="sng">
                <a:solidFill>
                  <a:srgbClr val="000000"/>
                </a:solidFill>
                <a:uFillTx/>
                <a:latin typeface="Arial"/>
              </a:rPr>
              <a:t>High statu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… elements correspond totally or near totally to undisturbed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 u="sng">
                <a:solidFill>
                  <a:srgbClr val="000000"/>
                </a:solidFill>
                <a:uFillTx/>
                <a:latin typeface="Arial"/>
              </a:rPr>
              <a:t>Good statu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:  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… range established to ensure functioning of the type specific eco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nsure achievment of the values specified for the biological quality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cological Classification Guidance (ECOSTAT 11/2003)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cc33"/>
                </a:solidFill>
                <a:latin typeface="Arial"/>
              </a:rPr>
              <a:t>General </a:t>
            </a:r>
            <a:r>
              <a:rPr b="1" lang="en-GB" sz="3200" spc="-1" strike="noStrike">
                <a:solidFill>
                  <a:srgbClr val="33cc33"/>
                </a:solidFill>
                <a:latin typeface="Arial"/>
              </a:rPr>
              <a:t>approach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ulation of quality standards bas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isting monitoring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FD ty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ment of biological quality elements with WFD complian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roinvertebrates – saprobic index as indicator for organi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tobenthos – trophic index as indicator for nutrien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orbert Kreuz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stitute for Water Quality, Resources and Waste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chnical University Vi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flipV="1">
            <a:off x="3868560" y="6019560"/>
            <a:ext cx="84456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38760" y="5943240"/>
            <a:ext cx="63324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19810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523880"/>
            <a:ext cx="3429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6 Eco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590920"/>
            <a:ext cx="3429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abiotische Typ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3733920"/>
            <a:ext cx="3429000" cy="49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Biological r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952880"/>
            <a:ext cx="342900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15 bioreg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ith further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I / TI / 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42670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30481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733920" y="0"/>
            <a:ext cx="5410080" cy="3657600"/>
            <a:chOff x="3733920" y="0"/>
            <a:chExt cx="5410080" cy="365760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54100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809880" y="1752480"/>
              <a:ext cx="685800" cy="3049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09880" y="3048120"/>
            <a:ext cx="5334120" cy="3504960"/>
            <a:chOff x="3809880" y="3048120"/>
            <a:chExt cx="5334120" cy="350496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3809880" y="3048120"/>
              <a:ext cx="533412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809880" y="5562720"/>
              <a:ext cx="685800" cy="30456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80880" y="33336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208080"/>
            <a:ext cx="671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FD Annex II - Typ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03480" y="1413000"/>
            <a:ext cx="7483320" cy="5040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33cc33"/>
                </a:solidFill>
                <a:latin typeface="Arial"/>
              </a:rPr>
              <a:t>Typology Macroinvertebrates </a:t>
            </a:r>
            <a:br>
              <a:rPr sz="2400"/>
            </a:br>
            <a:r>
              <a:rPr b="1" lang="de-AT" sz="2400" spc="-1" strike="noStrike">
                <a:solidFill>
                  <a:srgbClr val="33cc33"/>
                </a:solidFill>
                <a:latin typeface="Arial"/>
              </a:rPr>
              <a:t>Saprobic index – reference condi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cc33"/>
                </a:solidFill>
                <a:latin typeface="Arial"/>
              </a:rPr>
              <a:t>Saprobic index high/good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071720" y="1700280"/>
            <a:ext cx="6848280" cy="41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33cc33"/>
                </a:solidFill>
                <a:latin typeface="Arial"/>
              </a:rPr>
              <a:t>Typology </a:t>
            </a:r>
            <a:r>
              <a:rPr b="1" lang="de-AT" sz="2800" spc="-1" strike="noStrike">
                <a:solidFill>
                  <a:srgbClr val="33cc33"/>
                </a:solidFill>
                <a:latin typeface="Arial"/>
                <a:ea typeface="Arial"/>
              </a:rPr>
              <a:t>Phytobenthos</a:t>
            </a:r>
            <a:br>
              <a:rPr sz="2800"/>
            </a:br>
            <a:r>
              <a:rPr b="1" lang="de-AT" sz="2800" spc="-1" strike="noStrike">
                <a:solidFill>
                  <a:srgbClr val="33cc33"/>
                </a:solidFill>
                <a:latin typeface="Arial"/>
                <a:ea typeface="Arial"/>
              </a:rPr>
              <a:t>Trophic index – reference condition</a:t>
            </a:r>
            <a:endParaRPr b="1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7760" y="2997360"/>
            <a:ext cx="3414600" cy="1552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492360" y="1484280"/>
            <a:ext cx="532764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cc33"/>
                </a:solidFill>
                <a:latin typeface="Arial"/>
              </a:rPr>
              <a:t>Trophic index high/good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457200" y="2311560"/>
            <a:ext cx="8229600" cy="216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0:09:29Z</dcterms:created>
  <dc:creator>Mochar</dc:creator>
  <dc:description/>
  <dc:language>en-US</dc:language>
  <cp:lastModifiedBy>Utilisateur</cp:lastModifiedBy>
  <dcterms:modified xsi:type="dcterms:W3CDTF">2007-06-11T07:15:31Z</dcterms:modified>
  <cp:revision>333</cp:revision>
  <dc:subject/>
  <dc:title>Kein Folientitel</dc:title>
</cp:coreProperties>
</file>