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078E-2CEA-4B6C-A567-39724703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A31A-6A2C-4383-8BB5-07C2703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45AE-7577-4D4D-93F8-1300C51B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42E7-220B-472C-81DF-ABC24850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ECCB-DD51-44E4-870E-8DC07ED9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2631-CD94-4DA0-97E3-0CD6266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E5C7-90A5-4729-93C2-B140EBF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D786-5FCE-4F07-BA84-2F8AD8A2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165C-15AE-4944-BE6C-F68EDCA2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0E6F-1D10-4DD2-8BE2-F1A1589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225D-01BA-448B-9AC2-962C80F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A39B-572E-4361-8DFE-F2D3C9CB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.pn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15462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4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61800" y="0"/>
          <a:ext cx="87822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1800" y="0"/>
                    <a:ext cx="8782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334200" y="14616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EAU ET MILIEUX AQUAT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0" y="1133640"/>
          <a:ext cx="1498680" cy="190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133640"/>
                    <a:ext cx="14986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-360" y="4266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1589-0587-465C-AC02-386205C44763}" type="slidenum"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logo%20MEDAD%20bloc%20marque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125424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133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15462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4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estion" descr=""/>
          <p:cNvPicPr/>
          <p:nvPr/>
        </p:nvPicPr>
        <p:blipFill>
          <a:blip r:embed="rId4"/>
          <a:stretch/>
        </p:blipFill>
        <p:spPr>
          <a:xfrm>
            <a:off x="6108840" y="609480"/>
            <a:ext cx="16254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mer" descr=""/>
          <p:cNvPicPr/>
          <p:nvPr/>
        </p:nvPicPr>
        <p:blipFill>
          <a:blip r:embed="rId5"/>
          <a:stretch/>
        </p:blipFill>
        <p:spPr>
          <a:xfrm>
            <a:off x="2971800" y="609480"/>
            <a:ext cx="151776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489560" y="609480"/>
          <a:ext cx="1619280" cy="107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89560" y="609480"/>
                    <a:ext cx="161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1800" y="0"/>
          <a:ext cx="878220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1800" y="0"/>
                    <a:ext cx="8782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375240" y="15552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EAU ET MILIEUX AQUAT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ivieres" descr=""/>
          <p:cNvPicPr/>
          <p:nvPr/>
        </p:nvPicPr>
        <p:blipFill>
          <a:blip r:embed="rId10"/>
          <a:stretch/>
        </p:blipFill>
        <p:spPr>
          <a:xfrm>
            <a:off x="7734240" y="609480"/>
            <a:ext cx="1409760" cy="107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609480"/>
          <a:ext cx="299736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609480"/>
                    <a:ext cx="2997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logo%20MEDAD%20bloc%20marque" descr=""/>
          <p:cNvPicPr/>
          <p:nvPr/>
        </p:nvPicPr>
        <p:blipFill>
          <a:blip r:embed="rId13"/>
          <a:stretch/>
        </p:blipFill>
        <p:spPr>
          <a:xfrm>
            <a:off x="152280" y="5257800"/>
            <a:ext cx="1254240" cy="1447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CIS workshop</a:t>
            </a: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11&amp;12 June 2007 </a:t>
            </a: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-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Paris</a:t>
            </a: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en-GB" sz="2400" spc="-1" strike="noStrike">
                <a:solidFill>
                  <a:srgbClr val="3c49a8"/>
                </a:solidFill>
                <a:latin typeface="Century Gothic"/>
              </a:rPr>
              <a:t>national classification systems for the assessment of ecological status </a:t>
            </a:r>
            <a:br>
              <a:rPr sz="2400"/>
            </a:br>
            <a:r>
              <a:rPr b="1" lang="en-GB" sz="2400" spc="-1" strike="noStrike">
                <a:solidFill>
                  <a:srgbClr val="3c49a8"/>
                </a:solidFill>
                <a:latin typeface="Century Gothic"/>
              </a:rPr>
              <a:t>of surface water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373356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50 participants from 18 countries + EC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11 presentations : 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DGENV, Austria, Estonia, Czech Republic, Germany, the Netherlands, Sweden, UK, France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3 sessions :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cological significance and combination of the biological quality element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role and place of the physico-chemical element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ffect of aggregation, uncertainty, confidence &amp; precis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IS workshop : assessment of the ecological statu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1-12 June, Par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394920"/>
            <a:ext cx="739152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General principles set in the guidance are valid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Differencies in implementing in practice the guid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Part of those differencies is coming from different levels of maturity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How to ensure the comparability of MS approach for classification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Focus on practical aspect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Selection of QE can influence the results of the classifica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 workshop : assessment of the ecological statu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-12 June, Par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Main conclus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Century Gothic"/>
              </a:rPr>
              <a:t>State of play : different approaches and methods within national classification systems (aggregation of data, combination of QE, automatic OOAO on BQE, use of expert judgement, place of chemistry…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Century Gothic"/>
              </a:rPr>
              <a:t>Therefore, despite the huge ongoing work in the frame of IC, we have no final guarantee of « comparable levels of ambition » between M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 workshop : assessment of the ecological statu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-12 June, Par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Possible follow-up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Need for common views about the classification : « complement » to the classification guidance (in the frame of ECOSTAT activity 4) 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If agreement, the complement could be based on practical case-studies, in 3 directions 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How to ensure comparability between MS whereas different QE can be used for the classification ?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How to manage risks of misclassification (combination of biological elements, checking procedure for chemistry) 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Century Gothic"/>
              </a:rPr>
              <a:t>How to better communicate about the results of the final assessment 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 workshop : assessment of the ecological statu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-12 June, Par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2:19:03Z</dcterms:created>
  <dc:creator>CICHY Franck</dc:creator>
  <dc:description/>
  <dc:language>en-US</dc:language>
  <cp:lastModifiedBy>Utilisateur</cp:lastModifiedBy>
  <dcterms:modified xsi:type="dcterms:W3CDTF">2007-06-12T12:48:33Z</dcterms:modified>
  <cp:revision>35</cp:revision>
  <dc:subject/>
  <dc:title>Présentation PowerPoint</dc:title>
</cp:coreProperties>
</file>