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86563" cy="9859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86000" cy="9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6474e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4444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9120" cy="369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4a4"/>
                </a:solidFill>
                <a:latin typeface="Arial Unicode MS"/>
              </a:rPr>
              <a:t>Click to move the slide</a:t>
            </a:r>
            <a:endParaRPr b="1" lang="en-US" sz="3200" spc="-1" strike="noStrike">
              <a:solidFill>
                <a:srgbClr val="0044a4"/>
              </a:solidFill>
              <a:latin typeface="Arial Unicode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05040" y="4682880"/>
            <a:ext cx="49752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936612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44440" y="936612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0796-0649-4DD3-8B32-0F8196D937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9120" cy="36972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05040" y="4682880"/>
            <a:ext cx="49752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S Though Dutch metrics for assessing macrophytes is at water body level, the intercalibration has been done assessing biological data at site level (also for Dutch sites 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9120" cy="36972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05040" y="4682880"/>
            <a:ext cx="49752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hosphate: calculate monthly averages first for all sites within a water body all toge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pper: calculate annual average per site, then aggregate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is presentation was not for showing you the best way for aggregating data, but to raise awareness that preprocessing does influence your assess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9120" cy="36972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05040" y="4682880"/>
            <a:ext cx="49752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cycle descibes the proces from specifying information needs and a monitoring strategy to collecting information through sampling and data-analysis up to utilisatioon of resulting information. The cycle was developed in the preparation of the Guidelines on water quality monitoring and assessment of transboundary rivers bij the UN/ECE Task Force on Monitoring and Assessment in 199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74A7-6436-4CA2-B293-41102E896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44a4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360" y="1904760"/>
            <a:ext cx="65530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133360" y="4173480"/>
            <a:ext cx="65530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6A23-9E71-4210-9C0A-FB917673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44a4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360" y="190476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91440" y="190476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33360" y="417348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91440" y="417348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E451-8F04-4C60-ACEF-980FB3E31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44a4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360" y="1904760"/>
            <a:ext cx="2109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9160" y="1904760"/>
            <a:ext cx="2109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4960" y="1904760"/>
            <a:ext cx="2109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133360" y="4173480"/>
            <a:ext cx="2109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49160" y="4173480"/>
            <a:ext cx="2109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4960" y="4173480"/>
            <a:ext cx="2109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1983-704E-4057-9CF0-C05C71DF9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44a4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133360" y="1904760"/>
            <a:ext cx="6553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44a4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133360" y="1904760"/>
            <a:ext cx="6553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44a4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133360" y="1904760"/>
            <a:ext cx="3197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491440" y="1904760"/>
            <a:ext cx="3197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44a4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6553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44a4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33360" y="190476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491440" y="1904760"/>
            <a:ext cx="3197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133360" y="417348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44a4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133360" y="1904760"/>
            <a:ext cx="6553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7C14-1AE2-4F95-AFBC-EDA24FB9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44a4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33360" y="1904760"/>
            <a:ext cx="3197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91440" y="190476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491440" y="417348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44a4"/>
              </a:solidFill>
              <a:latin typeface="Arial Unicode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33360" y="190476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491440" y="190476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133360" y="4173480"/>
            <a:ext cx="65530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44a4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33360" y="1904760"/>
            <a:ext cx="65530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133360" y="4173480"/>
            <a:ext cx="65530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44a4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190476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91440" y="190476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133360" y="417348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491440" y="417348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44a4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1904760"/>
            <a:ext cx="2109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49160" y="1904760"/>
            <a:ext cx="2109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64960" y="1904760"/>
            <a:ext cx="2109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133360" y="4173480"/>
            <a:ext cx="2109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49160" y="4173480"/>
            <a:ext cx="2109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64960" y="4173480"/>
            <a:ext cx="2109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44a4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133360" y="1904760"/>
            <a:ext cx="6553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B227-1B35-4C34-893F-2825362E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44a4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33360" y="1904760"/>
            <a:ext cx="3197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91440" y="1904760"/>
            <a:ext cx="3197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2FDB-5DF4-422D-A4AE-BC3F61A2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44a4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1E30-D5D1-432D-8ABC-AE047326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6553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1434-6E02-42F3-81A5-9D8D3608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44a4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33360" y="190476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91440" y="1904760"/>
            <a:ext cx="3197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133360" y="417348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23F8-5C85-40E6-A7FA-8F724C8F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44a4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1904760"/>
            <a:ext cx="3197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91440" y="190476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91440" y="417348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50BD-A054-4514-8460-66F56670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44a4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360" y="190476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91440" y="190476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360" y="4173480"/>
            <a:ext cx="65530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8F32-F13C-4C74-85AB-7BC0290A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4a4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0044a4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33360" y="1904760"/>
            <a:ext cx="6553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a4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474e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  <a:p>
            <a:pPr lvl="1" marL="819000" indent="-285480">
              <a:spcBef>
                <a:spcPts val="601"/>
              </a:spcBef>
              <a:buClr>
                <a:srgbClr val="0044a4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474e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  <a:p>
            <a:pPr lvl="2" marL="1238400" indent="-228600">
              <a:spcBef>
                <a:spcPts val="601"/>
              </a:spcBef>
              <a:buClr>
                <a:srgbClr val="0044a4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474e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  <a:p>
            <a:pPr lvl="3" marL="1657440" indent="-228600">
              <a:spcBef>
                <a:spcPts val="601"/>
              </a:spcBef>
              <a:buClr>
                <a:srgbClr val="0044a4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474e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  <a:p>
            <a:pPr lvl="4" marL="2076480" indent="-228600">
              <a:spcBef>
                <a:spcPts val="601"/>
              </a:spcBef>
              <a:buClr>
                <a:srgbClr val="0044a4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474e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  <a:p>
            <a:pPr lvl="5" marL="2076480" indent="-228600">
              <a:spcBef>
                <a:spcPts val="601"/>
              </a:spcBef>
              <a:buClr>
                <a:srgbClr val="16474e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474e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  <a:p>
            <a:pPr lvl="6" marL="2076480" indent="-228600">
              <a:spcBef>
                <a:spcPts val="601"/>
              </a:spcBef>
              <a:buClr>
                <a:srgbClr val="16474e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474e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543440" y="38052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44a4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44a4"/>
                </a:solidFill>
                <a:latin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133360" y="151920"/>
            <a:ext cx="65530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a4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a4"/>
                </a:solidFill>
                <a:latin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86440" y="151920"/>
            <a:ext cx="3049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a4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3BA1-7AC9-4042-B6C1-52172E118098}" type="slidenum">
              <a:rPr b="0" lang="en-US" sz="1200" spc="-1" strike="noStrike">
                <a:solidFill>
                  <a:srgbClr val="0044a4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16761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4a4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0044a4"/>
              </a:solidFill>
              <a:latin typeface="Arial Unicode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133360" y="5409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0044a4"/>
                </a:solidFill>
                <a:latin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4a4"/>
                </a:solidFill>
                <a:latin typeface="Arial Unicode MS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33360" y="5028840"/>
            <a:ext cx="64767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44a4"/>
                </a:solidFill>
                <a:latin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4a4"/>
                </a:solidFill>
                <a:latin typeface="Arial Unicode MS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474e"/>
                </a:solidFill>
                <a:latin typeface="Arial Unicode MS"/>
              </a:rPr>
              <a:t>Second Outline Level</a:t>
            </a:r>
            <a:endParaRPr b="0" lang="en-US" sz="1800" spc="-1" strike="noStrike">
              <a:solidFill>
                <a:srgbClr val="16474e"/>
              </a:solidFill>
              <a:latin typeface="Arial Unicode MS"/>
            </a:endParaRPr>
          </a:p>
          <a:p>
            <a:pPr lvl="2" marL="914400" indent="95400" algn="ctr">
              <a:spcBef>
                <a:spcPts val="451"/>
              </a:spcBef>
              <a:buClr>
                <a:srgbClr val="0044a4"/>
              </a:buClr>
              <a:buFont typeface="Arial Unicode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474e"/>
                </a:solidFill>
                <a:latin typeface="Arial Unicode MS"/>
              </a:rPr>
              <a:t>Third Outline Level</a:t>
            </a:r>
            <a:endParaRPr b="0" lang="en-US" sz="1800" spc="-1" strike="noStrike">
              <a:solidFill>
                <a:srgbClr val="16474e"/>
              </a:solidFill>
              <a:latin typeface="Arial Unicode MS"/>
            </a:endParaRPr>
          </a:p>
          <a:p>
            <a:pPr lvl="3" marL="1371600" indent="57240" algn="ctr">
              <a:spcBef>
                <a:spcPts val="451"/>
              </a:spcBef>
              <a:buClr>
                <a:srgbClr val="0044a4"/>
              </a:buClr>
              <a:buFont typeface="Arial Unicode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474e"/>
                </a:solidFill>
                <a:latin typeface="Arial Unicode MS"/>
              </a:rPr>
              <a:t>Fourth Outline Level</a:t>
            </a:r>
            <a:endParaRPr b="0" lang="en-US" sz="1800" spc="-1" strike="noStrike">
              <a:solidFill>
                <a:srgbClr val="16474e"/>
              </a:solidFill>
              <a:latin typeface="Arial Unicode MS"/>
            </a:endParaRPr>
          </a:p>
          <a:p>
            <a:pPr lvl="4" marL="1828800" indent="19080" algn="ctr">
              <a:spcBef>
                <a:spcPts val="451"/>
              </a:spcBef>
              <a:buClr>
                <a:srgbClr val="0044a4"/>
              </a:buClr>
              <a:buFont typeface="Arial Unicode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474e"/>
                </a:solidFill>
                <a:latin typeface="Arial Unicode MS"/>
              </a:rPr>
              <a:t>Fifth Outline Level</a:t>
            </a:r>
            <a:endParaRPr b="0" lang="en-US" sz="1800" spc="-1" strike="noStrike">
              <a:solidFill>
                <a:srgbClr val="16474e"/>
              </a:solidFill>
              <a:latin typeface="Arial Unicode MS"/>
            </a:endParaRPr>
          </a:p>
          <a:p>
            <a:pPr lvl="5" marL="1828800" indent="19080">
              <a:spcBef>
                <a:spcPts val="451"/>
              </a:spcBef>
              <a:buClr>
                <a:srgbClr val="16474e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474e"/>
                </a:solidFill>
                <a:latin typeface="Arial Unicode MS"/>
              </a:rPr>
              <a:t>Sixth Outline Level</a:t>
            </a:r>
            <a:endParaRPr b="0" lang="en-US" sz="1800" spc="-1" strike="noStrike">
              <a:solidFill>
                <a:srgbClr val="16474e"/>
              </a:solidFill>
              <a:latin typeface="Arial Unicode MS"/>
            </a:endParaRPr>
          </a:p>
          <a:p>
            <a:pPr lvl="6" marL="1828800" indent="19080">
              <a:spcBef>
                <a:spcPts val="451"/>
              </a:spcBef>
              <a:buClr>
                <a:srgbClr val="16474e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474e"/>
                </a:solidFill>
                <a:latin typeface="Arial Unicode MS"/>
              </a:rPr>
              <a:t>Seventh Outline Level</a:t>
            </a:r>
            <a:endParaRPr b="0" lang="en-US" sz="1800" spc="-1" strike="noStrike">
              <a:solidFill>
                <a:srgbClr val="16474e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0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1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16761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4a4"/>
                </a:solidFill>
                <a:latin typeface="Arial Unicode MS"/>
              </a:rPr>
              <a:t>EFFECT OF AGGREGATION METHODS ON ECOLOGICAL ASSESSMENT</a:t>
            </a:r>
            <a:endParaRPr b="1" lang="en-US" sz="2800" spc="-1" strike="noStrike">
              <a:solidFill>
                <a:srgbClr val="0044a4"/>
              </a:solidFill>
              <a:latin typeface="Arial Unicode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048120"/>
            <a:ext cx="6629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 Unicode MS"/>
              </a:rPr>
              <a:t>Paul Latour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 Unicode MS"/>
              </a:rPr>
              <a:t>Ministry of Transport, Public Works and Water Management</a:t>
            </a:r>
            <a:r>
              <a:rPr b="0" lang="nl-NL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2" name=""/>
          <p:cNvSpPr/>
          <p:nvPr/>
        </p:nvSpPr>
        <p:spPr>
          <a:xfrm>
            <a:off x="2050920" y="5300640"/>
            <a:ext cx="662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IS WORKSHOP ON NATIONAL CLASSIFICATION SYSTEMS FOR THE ASSESSMENT OF THE ECOLOGICAL STATUS OF SURFACE WATERS</a:t>
            </a:r>
            <a:endParaRPr b="0" lang="en-US" sz="1600" spc="-1" strike="noStrike">
              <a:solidFill>
                <a:srgbClr val="16474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Paris, 11-12 June 2007</a:t>
            </a:r>
            <a:endParaRPr b="0" lang="en-US" sz="1600" spc="-1" strike="noStrike">
              <a:solidFill>
                <a:srgbClr val="16474e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60627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44a4"/>
                </a:solidFill>
                <a:latin typeface="Arial Unicode MS"/>
              </a:rPr>
              <a:t>Temporal and spatial aggregation in one step (physico-chemistry)</a:t>
            </a:r>
            <a:endParaRPr b="1" lang="en-US" sz="2800" spc="-1" strike="noStrike">
              <a:solidFill>
                <a:srgbClr val="0044a4"/>
              </a:solidFill>
              <a:latin typeface="Arial Unicode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10724" t="0" r="3428" b="0"/>
          <a:stretch/>
        </p:blipFill>
        <p:spPr>
          <a:xfrm>
            <a:off x="179280" y="1484280"/>
            <a:ext cx="3456000" cy="53737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788000" y="1904760"/>
            <a:ext cx="3898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74e"/>
                </a:solidFill>
                <a:latin typeface="Arial Unicode MS"/>
              </a:rPr>
              <a:t>9 out of 20 possibilities in case study </a:t>
            </a: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361476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44a4"/>
                </a:solidFill>
                <a:latin typeface="Arial Unicode MS"/>
              </a:rPr>
              <a:t>Water bodies in province of Flevoland</a:t>
            </a:r>
            <a:endParaRPr b="1" lang="en-US" sz="2800" spc="-1" strike="noStrike">
              <a:solidFill>
                <a:srgbClr val="0044a4"/>
              </a:solidFill>
              <a:latin typeface="Arial Unicode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396072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74e"/>
                </a:solidFill>
                <a:latin typeface="Arial Unicode MS"/>
              </a:rPr>
              <a:t>Water body types: mainly small canals and very shallow lakes </a:t>
            </a: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467240" y="0"/>
            <a:ext cx="46767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3" name=""/>
          <p:cNvGrpSpPr/>
          <p:nvPr/>
        </p:nvGrpSpPr>
        <p:grpSpPr>
          <a:xfrm>
            <a:off x="4642920" y="6021360"/>
            <a:ext cx="721080" cy="503280"/>
            <a:chOff x="4642920" y="6021360"/>
            <a:chExt cx="721080" cy="503280"/>
          </a:xfrm>
        </p:grpSpPr>
        <p:sp>
          <p:nvSpPr>
            <p:cNvPr id="184" name=""/>
            <p:cNvSpPr/>
            <p:nvPr/>
          </p:nvSpPr>
          <p:spPr>
            <a:xfrm>
              <a:off x="5003640" y="6021360"/>
              <a:ext cx="360360" cy="358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6474e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642920" y="6308640"/>
              <a:ext cx="36036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6474e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41198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44a4"/>
                </a:solidFill>
                <a:latin typeface="Arial Unicode MS"/>
              </a:rPr>
              <a:t>Monitoring sites WFD</a:t>
            </a:r>
            <a:endParaRPr b="1" lang="en-US" sz="3200" spc="-1" strike="noStrike">
              <a:solidFill>
                <a:srgbClr val="0044a4"/>
              </a:solidFill>
              <a:latin typeface="Arial Unicode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302000" y="0"/>
            <a:ext cx="484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4642920" y="5950080"/>
            <a:ext cx="721080" cy="503280"/>
            <a:chOff x="4642920" y="5950080"/>
            <a:chExt cx="721080" cy="503280"/>
          </a:xfrm>
        </p:grpSpPr>
        <p:sp>
          <p:nvSpPr>
            <p:cNvPr id="189" name=""/>
            <p:cNvSpPr/>
            <p:nvPr/>
          </p:nvSpPr>
          <p:spPr>
            <a:xfrm>
              <a:off x="5003640" y="5950080"/>
              <a:ext cx="360360" cy="358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6474e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642920" y="6237360"/>
              <a:ext cx="36036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6474e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50920" y="2060640"/>
            <a:ext cx="3960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74e"/>
                </a:solidFill>
                <a:latin typeface="Arial Unicode MS"/>
              </a:rPr>
              <a:t>WFD-sites assumed to be representative for underlying monitoring network </a:t>
            </a:r>
            <a:endParaRPr b="0" lang="en-US" sz="2400" spc="-1" strike="noStrike">
              <a:solidFill>
                <a:srgbClr val="16474e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44a4"/>
                </a:solidFill>
                <a:latin typeface="Arial Unicode MS"/>
              </a:rPr>
              <a:t>Results from 9 scenario’s for aggregating physico-chemical data</a:t>
            </a:r>
            <a:endParaRPr b="1" lang="en-US" sz="3200" spc="-1" strike="noStrike">
              <a:solidFill>
                <a:srgbClr val="0044a4"/>
              </a:solidFill>
              <a:latin typeface="Arial Unicode MS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39640" y="1773360"/>
          <a:ext cx="3200400" cy="4564080"/>
        </p:xfrm>
        <a:graphic>
          <a:graphicData uri="http://schemas.openxmlformats.org/drawingml/2006/table">
            <a:tbl>
              <a:tblPr/>
              <a:tblGrid>
                <a:gridCol w="863640"/>
                <a:gridCol w="736560"/>
                <a:gridCol w="800280"/>
                <a:gridCol w="7999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18720">
                      <a:solidFill>
                        <a:srgbClr val="16474e"/>
                      </a:solidFill>
                    </a:lnR>
                    <a:lnT w="1368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COPPER (ug/l)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1368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Scenario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1872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WFD-site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0532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WFD-site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0524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WFD-site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BUV95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1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18720">
                      <a:solidFill>
                        <a:srgbClr val="16474e"/>
                      </a:solidFill>
                    </a:lnR>
                    <a:lnT w="1368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1.53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1368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1.29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1368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1.75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1368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2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1872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1.63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1.36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1.82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3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1872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1.53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1.29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1.75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4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1872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1.60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1.76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2.02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5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1872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1.74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1.87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2.02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6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1872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1.59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1.56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1.79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7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1872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2.02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2.00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1.94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8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1872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1.74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1.69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1.83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9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1872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1.67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1.61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1.86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minimum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18720">
                      <a:solidFill>
                        <a:srgbClr val="16474e"/>
                      </a:solidFill>
                    </a:lnR>
                    <a:lnT w="1368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1.53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1368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1.29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1368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1.75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1368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maximum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1872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2.02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2.00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2.02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deviation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1872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49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71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27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1872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1.67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1.60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1.86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3780000" y="1785960"/>
          <a:ext cx="2336760" cy="4548240"/>
        </p:xfrm>
        <a:graphic>
          <a:graphicData uri="http://schemas.openxmlformats.org/drawingml/2006/table">
            <a:tbl>
              <a:tblPr/>
              <a:tblGrid>
                <a:gridCol w="736560"/>
                <a:gridCol w="799920"/>
                <a:gridCol w="800280"/>
              </a:tblGrid>
              <a:tr h="276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PHOSPHATE (mg/l)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1368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WFD-site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0532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WFD-site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0524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WFD-site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BUV95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23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1368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19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1368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19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1368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24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15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18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23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19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19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22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16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17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26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18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16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22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16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16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16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12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13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22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15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16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22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15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16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16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1368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12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1368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13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1368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26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19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19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10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07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16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22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16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17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300720" y="1773360"/>
            <a:ext cx="25192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6474e"/>
                </a:solidFill>
                <a:latin typeface="Arial Unicode MS"/>
              </a:rPr>
              <a:t>Objectives: </a:t>
            </a:r>
            <a:endParaRPr b="0" lang="en-US" sz="1800" spc="-1" strike="noStrike">
              <a:solidFill>
                <a:srgbClr val="16474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6474e"/>
                </a:solidFill>
                <a:latin typeface="Arial Unicode MS"/>
              </a:rPr>
              <a:t>Copper: 1.5 ug/l</a:t>
            </a:r>
            <a:endParaRPr b="0" lang="en-US" sz="1800" spc="-1" strike="noStrike">
              <a:solidFill>
                <a:srgbClr val="16474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6474e"/>
                </a:solidFill>
                <a:latin typeface="Arial Unicode MS"/>
              </a:rPr>
              <a:t>Phosphate: 0.15 mgP/l </a:t>
            </a:r>
            <a:endParaRPr b="0" lang="en-US" sz="1800" spc="-1" strike="noStrike">
              <a:solidFill>
                <a:srgbClr val="16474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474e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00720" y="4076640"/>
            <a:ext cx="25923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6474e"/>
                </a:solidFill>
                <a:latin typeface="Arial Unicode MS"/>
              </a:rPr>
              <a:t>No conclusion possible which scenario is best</a:t>
            </a:r>
            <a:endParaRPr b="0" lang="en-US" sz="1800" spc="-1" strike="noStrike">
              <a:solidFill>
                <a:srgbClr val="16474e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474e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6474e"/>
                </a:solidFill>
                <a:latin typeface="Arial Unicode MS"/>
              </a:rPr>
              <a:t>Data not equally distributed over sites and years</a:t>
            </a:r>
            <a:endParaRPr b="0" lang="en-US" sz="1800" spc="-1" strike="noStrike">
              <a:solidFill>
                <a:srgbClr val="16474e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80000" y="4365720"/>
            <a:ext cx="576360" cy="35856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6474e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1280" y="3284640"/>
            <a:ext cx="576360" cy="35856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6474e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80000" y="3284640"/>
            <a:ext cx="576360" cy="3585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6474e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11280" y="4365720"/>
            <a:ext cx="576360" cy="3585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6474e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00720" y="2924280"/>
            <a:ext cx="2519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6474e"/>
                </a:solidFill>
                <a:latin typeface="Arial Unicode MS"/>
              </a:rPr>
              <a:t>Compliance depending on aggregation method !</a:t>
            </a:r>
            <a:endParaRPr b="0" lang="en-US" sz="1800" spc="-1" strike="noStrike">
              <a:solidFill>
                <a:srgbClr val="16474e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404640"/>
            <a:ext cx="757584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44a4"/>
                </a:solidFill>
                <a:latin typeface="Arial Unicode MS"/>
              </a:rPr>
              <a:t>Consequence of unequal data-distibution: Effect of variation in time of monitoring results</a:t>
            </a:r>
            <a:endParaRPr b="1" lang="en-US" sz="2800" spc="-1" strike="noStrike">
              <a:solidFill>
                <a:srgbClr val="0044a4"/>
              </a:solidFill>
              <a:latin typeface="Arial Unicode MS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84360" y="2133720"/>
          <a:ext cx="3240000" cy="3697200"/>
        </p:xfrm>
        <a:graphic>
          <a:graphicData uri="http://schemas.openxmlformats.org/drawingml/2006/table">
            <a:tbl>
              <a:tblPr/>
              <a:tblGrid>
                <a:gridCol w="500040"/>
                <a:gridCol w="687240"/>
                <a:gridCol w="690480"/>
                <a:gridCol w="870120"/>
                <a:gridCol w="492120"/>
              </a:tblGrid>
              <a:tr h="46260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1368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Site A</a:t>
                      </a:r>
                      <a:endParaRPr b="0" lang="en-US" sz="1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1368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Site B </a:t>
                      </a:r>
                      <a:endParaRPr b="0" lang="en-US" sz="1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1368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1368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1368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0376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Jan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9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9.0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3292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Febr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8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8.0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314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Mar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6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6.0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3472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Apr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4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1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2.5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3292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May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1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1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1.0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June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0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3436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July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1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2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1.5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Aug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2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2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2.0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3292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Sept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3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3.0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3292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Oct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6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6.0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Nov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8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8.0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3292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Dec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9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9.0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3472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4.8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1.2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4.7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3112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3.0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4284720" y="2205000"/>
            <a:ext cx="41781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6474e"/>
                </a:solidFill>
                <a:latin typeface="Arial Unicode MS"/>
              </a:rPr>
              <a:t>If variation in time of data is high: spatial aggregation first</a:t>
            </a:r>
            <a:endParaRPr b="0" lang="en-US" sz="1800" spc="-1" strike="noStrike">
              <a:solidFill>
                <a:srgbClr val="16474e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16000" y="1557360"/>
            <a:ext cx="2519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16474e"/>
                </a:solidFill>
                <a:latin typeface="Arial Unicode MS"/>
              </a:rPr>
              <a:t>Site B: little data in period with high concentrations </a:t>
            </a:r>
            <a:endParaRPr b="0" lang="en-US" sz="1400" spc="-1" strike="noStrike">
              <a:solidFill>
                <a:srgbClr val="16474e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00360" y="5516640"/>
            <a:ext cx="576360" cy="3585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6474e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0" y="5229360"/>
            <a:ext cx="576360" cy="35856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6474e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 rot="10800000">
            <a:off x="3203640" y="4149360"/>
            <a:ext cx="287280" cy="1297080"/>
          </a:xfrm>
          <a:custGeom>
            <a:avLst/>
            <a:gdLst>
              <a:gd name="textAreaLeft" fmla="*/ 360 w 287280"/>
              <a:gd name="textAreaRight" fmla="*/ 288000 w 28728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6741" stAng="10800000" swAng="5400000"/>
                <a:lnTo>
                  <a:pt x="12427" y="5419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6739"/>
                </a:lnTo>
                <a:lnTo>
                  <a:pt x="12427" y="6739"/>
                </a:lnTo>
                <a:arcTo wR="11107" hR="5421" stAng="16200000" swAng="-5400000"/>
                <a:lnTo>
                  <a:pt x="1320" y="21600"/>
                </a:lnTo>
                <a:close/>
              </a:path>
            </a:pathLst>
          </a:custGeom>
          <a:solidFill>
            <a:srgbClr val="0044a4"/>
          </a:solidFill>
          <a:ln w="12600">
            <a:solidFill>
              <a:srgbClr val="164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6474e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 rot="16200000">
            <a:off x="2253600" y="4737600"/>
            <a:ext cx="315720" cy="1297080"/>
          </a:xfrm>
          <a:custGeom>
            <a:avLst/>
            <a:gdLst>
              <a:gd name="textAreaLeft" fmla="*/ -360 w 315720"/>
              <a:gd name="textAreaRight" fmla="*/ 315720 w 315720"/>
              <a:gd name="textAreaTop" fmla="*/ -360 h 1297080"/>
              <a:gd name="textAreaBottom" fmla="*/ 129708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6741" stAng="10800000" swAng="5400000"/>
                <a:lnTo>
                  <a:pt x="12427" y="5419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6739"/>
                </a:lnTo>
                <a:lnTo>
                  <a:pt x="12427" y="6739"/>
                </a:lnTo>
                <a:arcTo wR="11107" hR="5421" stAng="16200000" swAng="-5400000"/>
                <a:lnTo>
                  <a:pt x="1320" y="21600"/>
                </a:lnTo>
                <a:close/>
              </a:path>
            </a:pathLst>
          </a:custGeom>
          <a:solidFill>
            <a:srgbClr val="0044a4"/>
          </a:solidFill>
          <a:ln w="12600">
            <a:solidFill>
              <a:srgbClr val="164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6474e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333360"/>
            <a:ext cx="757584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44a4"/>
                </a:solidFill>
                <a:latin typeface="Arial Unicode MS"/>
              </a:rPr>
              <a:t>Consequence of unequal data-distibution: Effect of spatial variation in monitoring results</a:t>
            </a:r>
            <a:endParaRPr b="1" lang="en-US" sz="2800" spc="-1" strike="noStrike">
              <a:solidFill>
                <a:srgbClr val="0044a4"/>
              </a:solidFill>
              <a:latin typeface="Arial Unicode MS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684360" y="2133720"/>
          <a:ext cx="3240000" cy="3697200"/>
        </p:xfrm>
        <a:graphic>
          <a:graphicData uri="http://schemas.openxmlformats.org/drawingml/2006/table">
            <a:tbl>
              <a:tblPr/>
              <a:tblGrid>
                <a:gridCol w="500040"/>
                <a:gridCol w="687240"/>
                <a:gridCol w="690480"/>
                <a:gridCol w="870120"/>
                <a:gridCol w="492120"/>
              </a:tblGrid>
              <a:tr h="46260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1368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Site A</a:t>
                      </a:r>
                      <a:endParaRPr b="0" lang="en-US" sz="1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1368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Site B </a:t>
                      </a:r>
                      <a:endParaRPr b="0" lang="en-US" sz="1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1368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1368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1368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0376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Jan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3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3.0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3292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Febr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4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4.0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314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Mar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3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3.0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3472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Apr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3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8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5.5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3292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May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4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9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6.5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June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5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9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7.0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3436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July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4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8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6.0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Aug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3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8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5.5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3292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Sept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3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3.0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3292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Oct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4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4.0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Nov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3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3.0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3292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Dec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3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3.0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3472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3.5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8.4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4.5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3112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6.0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4284720" y="2133720"/>
            <a:ext cx="35272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6474e"/>
                </a:solidFill>
                <a:latin typeface="Arial Unicode MS"/>
              </a:rPr>
              <a:t>If spatial variation of data is high: temporal aggregation first</a:t>
            </a:r>
            <a:endParaRPr b="0" lang="en-US" sz="1800" spc="-1" strike="noStrike">
              <a:solidFill>
                <a:srgbClr val="16474e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16000" y="1628640"/>
            <a:ext cx="223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16474e"/>
                </a:solidFill>
                <a:latin typeface="Arial Unicode MS"/>
              </a:rPr>
              <a:t>less data from site with </a:t>
            </a:r>
            <a:endParaRPr b="0" lang="en-US" sz="1400" spc="-1" strike="noStrike">
              <a:solidFill>
                <a:srgbClr val="16474e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16474e"/>
                </a:solidFill>
                <a:latin typeface="Arial Unicode MS"/>
              </a:rPr>
              <a:t>higher concentrations </a:t>
            </a:r>
            <a:endParaRPr b="0" lang="en-US" sz="1400" spc="-1" strike="noStrike">
              <a:solidFill>
                <a:srgbClr val="16474e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19640" y="5229360"/>
            <a:ext cx="576000" cy="3585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6474e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00360" y="5516640"/>
            <a:ext cx="576360" cy="35856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6474e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rot="10800000">
            <a:off x="3203640" y="4149360"/>
            <a:ext cx="287280" cy="1297080"/>
          </a:xfrm>
          <a:custGeom>
            <a:avLst/>
            <a:gdLst>
              <a:gd name="textAreaLeft" fmla="*/ 360 w 287280"/>
              <a:gd name="textAreaRight" fmla="*/ 288000 w 28728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6741" stAng="10800000" swAng="5400000"/>
                <a:lnTo>
                  <a:pt x="12427" y="5419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6739"/>
                </a:lnTo>
                <a:lnTo>
                  <a:pt x="12427" y="6739"/>
                </a:lnTo>
                <a:arcTo wR="11107" hR="5421" stAng="16200000" swAng="-5400000"/>
                <a:lnTo>
                  <a:pt x="1320" y="21600"/>
                </a:lnTo>
                <a:close/>
              </a:path>
            </a:pathLst>
          </a:custGeom>
          <a:solidFill>
            <a:srgbClr val="0044a4"/>
          </a:solidFill>
          <a:ln w="12600">
            <a:solidFill>
              <a:srgbClr val="164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6474e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 rot="16200000">
            <a:off x="2253600" y="4737600"/>
            <a:ext cx="315720" cy="1297080"/>
          </a:xfrm>
          <a:custGeom>
            <a:avLst/>
            <a:gdLst>
              <a:gd name="textAreaLeft" fmla="*/ -360 w 315720"/>
              <a:gd name="textAreaRight" fmla="*/ 315720 w 315720"/>
              <a:gd name="textAreaTop" fmla="*/ -360 h 1297080"/>
              <a:gd name="textAreaBottom" fmla="*/ 129708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6741" stAng="10800000" swAng="5400000"/>
                <a:lnTo>
                  <a:pt x="12427" y="5419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6739"/>
                </a:lnTo>
                <a:lnTo>
                  <a:pt x="12427" y="6739"/>
                </a:lnTo>
                <a:arcTo wR="11107" hR="5421" stAng="16200000" swAng="-5400000"/>
                <a:lnTo>
                  <a:pt x="1320" y="21600"/>
                </a:lnTo>
                <a:close/>
              </a:path>
            </a:pathLst>
          </a:custGeom>
          <a:solidFill>
            <a:srgbClr val="0044a4"/>
          </a:solidFill>
          <a:ln w="12600">
            <a:solidFill>
              <a:srgbClr val="164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6474e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44a4"/>
                </a:solidFill>
                <a:latin typeface="Arial Unicode MS"/>
              </a:rPr>
              <a:t>Calculate EQR first, then temporal and/or spatial aggregation (biology)</a:t>
            </a:r>
            <a:endParaRPr b="1" lang="en-US" sz="3200" spc="-1" strike="noStrike">
              <a:solidFill>
                <a:srgbClr val="0044a4"/>
              </a:solidFill>
              <a:latin typeface="Arial Unicode MS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4084560" cy="5445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rcRect l="3319" t="49427" r="89343" b="40981"/>
          <a:stretch/>
        </p:blipFill>
        <p:spPr>
          <a:xfrm>
            <a:off x="5219640" y="2133720"/>
            <a:ext cx="720720" cy="568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rcRect l="2764" t="36094" r="78339" b="51766"/>
          <a:stretch/>
        </p:blipFill>
        <p:spPr>
          <a:xfrm>
            <a:off x="4932360" y="3645000"/>
            <a:ext cx="1225440" cy="4762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084720" y="1989000"/>
            <a:ext cx="28800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6474e"/>
                </a:solidFill>
                <a:latin typeface="Arial Unicode MS"/>
              </a:rPr>
              <a:t>Table with monitoring data of one site</a:t>
            </a:r>
            <a:endParaRPr b="0" lang="en-US" sz="1800" spc="-1" strike="noStrike">
              <a:solidFill>
                <a:srgbClr val="16474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6474e"/>
                </a:solidFill>
                <a:latin typeface="Arial Unicode MS"/>
              </a:rPr>
              <a:t>Column = year</a:t>
            </a:r>
            <a:endParaRPr b="0" lang="en-US" sz="1800" spc="-1" strike="noStrike">
              <a:solidFill>
                <a:srgbClr val="16474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6474e"/>
                </a:solidFill>
                <a:latin typeface="Arial Unicode MS"/>
              </a:rPr>
              <a:t>Row = species</a:t>
            </a:r>
            <a:endParaRPr b="0" lang="en-US" sz="1800" spc="-1" strike="noStrike">
              <a:solidFill>
                <a:srgbClr val="16474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474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6474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6474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6474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6474e"/>
                </a:solidFill>
                <a:latin typeface="Arial Unicode MS"/>
              </a:rPr>
              <a:t>	</a:t>
            </a:r>
            <a:r>
              <a:rPr b="0" lang="nl-NL" sz="1800" spc="-1" strike="noStrike">
                <a:solidFill>
                  <a:srgbClr val="16474e"/>
                </a:solidFill>
                <a:latin typeface="Arial Unicode MS"/>
              </a:rPr>
              <a:t>water body</a:t>
            </a:r>
            <a:endParaRPr b="0" lang="en-US" sz="1800" spc="-1" strike="noStrike">
              <a:solidFill>
                <a:srgbClr val="16474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474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474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474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6474e"/>
                </a:solidFill>
                <a:latin typeface="Arial Unicode MS"/>
              </a:rPr>
              <a:t>	</a:t>
            </a:r>
            <a:r>
              <a:rPr b="0" lang="nl-NL" sz="1800" spc="-1" strike="noStrike">
                <a:solidFill>
                  <a:srgbClr val="16474e"/>
                </a:solidFill>
                <a:latin typeface="Arial Unicode MS"/>
              </a:rPr>
              <a:t>(sub) basin</a:t>
            </a:r>
            <a:endParaRPr b="0" lang="en-US" sz="1800" spc="-1" strike="noStrike">
              <a:solidFill>
                <a:srgbClr val="16474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474e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4"/>
          <a:srcRect l="2791" t="12322" r="78142" b="63652"/>
          <a:stretch/>
        </p:blipFill>
        <p:spPr>
          <a:xfrm>
            <a:off x="4932360" y="4581360"/>
            <a:ext cx="1222200" cy="930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44a4"/>
                </a:solidFill>
                <a:latin typeface="Arial Unicode MS"/>
              </a:rPr>
              <a:t>Temporal or spatial combination of data, then calculate EQR (biology)</a:t>
            </a:r>
            <a:endParaRPr b="1" lang="en-US" sz="3200" spc="-1" strike="noStrike">
              <a:solidFill>
                <a:srgbClr val="0044a4"/>
              </a:solidFill>
              <a:latin typeface="Arial Unicode MS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4084560" cy="5445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rcRect l="3094" t="76456" r="89110" b="10635"/>
          <a:stretch/>
        </p:blipFill>
        <p:spPr>
          <a:xfrm>
            <a:off x="4716360" y="1916280"/>
            <a:ext cx="719280" cy="718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5580000" y="1916280"/>
            <a:ext cx="287964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6474e"/>
                </a:solidFill>
                <a:latin typeface="Arial Unicode MS"/>
              </a:rPr>
              <a:t>Table with combined / aggregated species list</a:t>
            </a:r>
            <a:endParaRPr b="0" lang="en-US" sz="1800" spc="-1" strike="noStrike">
              <a:solidFill>
                <a:srgbClr val="16474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6474e"/>
                </a:solidFill>
                <a:latin typeface="Arial Unicode MS"/>
              </a:rPr>
              <a:t>Column = year</a:t>
            </a:r>
            <a:endParaRPr b="0" lang="en-US" sz="1800" spc="-1" strike="noStrike">
              <a:solidFill>
                <a:srgbClr val="16474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6474e"/>
                </a:solidFill>
                <a:latin typeface="Arial Unicode MS"/>
              </a:rPr>
              <a:t>Row = species</a:t>
            </a:r>
            <a:endParaRPr b="0" lang="en-US" sz="1800" spc="-1" strike="noStrike">
              <a:solidFill>
                <a:srgbClr val="16474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474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6474e"/>
                </a:solidFill>
                <a:latin typeface="Arial Unicode MS"/>
              </a:rPr>
              <a:t>Combined / aggregated species list for several years (‘temporal aggegation’)</a:t>
            </a:r>
            <a:endParaRPr b="0" lang="en-US" sz="1800" spc="-1" strike="noStrike">
              <a:solidFill>
                <a:srgbClr val="16474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474e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3"/>
          <a:srcRect l="1886" t="77624" r="88264" b="7033"/>
          <a:stretch/>
        </p:blipFill>
        <p:spPr>
          <a:xfrm>
            <a:off x="4716360" y="3284640"/>
            <a:ext cx="755640" cy="720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44a4"/>
                </a:solidFill>
                <a:latin typeface="Arial Unicode MS"/>
              </a:rPr>
              <a:t>Results from 5 scenario’s for aggregating biological data</a:t>
            </a:r>
            <a:endParaRPr b="1" lang="en-US" sz="3200" spc="-1" strike="noStrike">
              <a:solidFill>
                <a:srgbClr val="0044a4"/>
              </a:solidFill>
              <a:latin typeface="Arial Unicode MS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539640" y="1773360"/>
          <a:ext cx="4896000" cy="3967200"/>
        </p:xfrm>
        <a:graphic>
          <a:graphicData uri="http://schemas.openxmlformats.org/drawingml/2006/table">
            <a:tbl>
              <a:tblPr/>
              <a:tblGrid>
                <a:gridCol w="1320840"/>
                <a:gridCol w="1127160"/>
                <a:gridCol w="1224000"/>
                <a:gridCol w="122400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Scenario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18720">
                      <a:solidFill>
                        <a:srgbClr val="16474e"/>
                      </a:solidFill>
                    </a:lnR>
                    <a:lnT w="1368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Large ditches </a:t>
                      </a:r>
                      <a:r>
                        <a:rPr b="1" i="1" lang="nl-NL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(tochten)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1368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Small canals </a:t>
                      </a:r>
                      <a:r>
                        <a:rPr b="1" i="1" lang="nl-NL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(vaarten)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1368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Lakes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1368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80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Macrophytes                                               EQR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1368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1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18720">
                      <a:solidFill>
                        <a:srgbClr val="16474e"/>
                      </a:solidFill>
                    </a:lnR>
                    <a:lnT w="1368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014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1368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067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1368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059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1368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2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1872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013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078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-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3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1872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136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077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039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4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1872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478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293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038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5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1872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573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203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-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81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Macro-invertebrates                                     EQR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1368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1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18720">
                      <a:solidFill>
                        <a:srgbClr val="16474e"/>
                      </a:solidFill>
                    </a:lnR>
                    <a:lnT w="1368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420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1368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366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1368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390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1368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2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1872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415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356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390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3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1872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419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366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390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4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1872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504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416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390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5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1872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520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414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0.390</a:t>
                      </a:r>
                      <a:endParaRPr b="0" lang="en-US" sz="12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>
            <a:off x="5580000" y="1773360"/>
            <a:ext cx="3384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6474e"/>
                </a:solidFill>
                <a:latin typeface="Arial Unicode MS"/>
              </a:rPr>
              <a:t>Dutch metric for assessing macrophytes: at the level of water body (scenario 1,2 and 3 not permitted)</a:t>
            </a:r>
            <a:endParaRPr b="0" lang="en-US" sz="1800" spc="-1" strike="noStrike">
              <a:solidFill>
                <a:srgbClr val="16474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474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474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474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474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6474e"/>
                </a:solidFill>
                <a:latin typeface="Arial Unicode MS"/>
              </a:rPr>
              <a:t>Dutch metric for assessing macro-invertebrates is validated according to scenario 1/2/3 (EQR at site level)</a:t>
            </a:r>
            <a:endParaRPr b="0" lang="en-US" sz="1800" spc="-1" strike="noStrike">
              <a:solidFill>
                <a:srgbClr val="16474e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44a4"/>
                </a:solidFill>
                <a:latin typeface="Arial Unicode MS"/>
              </a:rPr>
              <a:t>Conclusion</a:t>
            </a:r>
            <a:endParaRPr b="1" lang="en-US" sz="3200" spc="-1" strike="noStrike">
              <a:solidFill>
                <a:srgbClr val="0044a4"/>
              </a:solidFill>
              <a:latin typeface="Arial Unicode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727236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spcBef>
                <a:spcPts val="1349"/>
              </a:spcBef>
              <a:buClr>
                <a:srgbClr val="0044a4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74e"/>
                </a:solidFill>
                <a:latin typeface="Arial Unicode MS"/>
              </a:rPr>
              <a:t>If monitoring frequency at all sites is similar: no difference in order of aggregation (temporal/spatial)</a:t>
            </a: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  <a:p>
            <a:pPr marL="332640" indent="-332640">
              <a:spcBef>
                <a:spcPts val="1349"/>
              </a:spcBef>
              <a:buClr>
                <a:srgbClr val="0044a4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74e"/>
                </a:solidFill>
                <a:latin typeface="Arial Unicode MS"/>
              </a:rPr>
              <a:t>If temporal variation of data is high: spatial aggregation first (e.g. phosphate, phytoplankton)</a:t>
            </a: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  <a:p>
            <a:pPr marL="332640" indent="-332640">
              <a:spcBef>
                <a:spcPts val="1349"/>
              </a:spcBef>
              <a:buClr>
                <a:srgbClr val="0044a4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74e"/>
                </a:solidFill>
                <a:latin typeface="Arial Unicode MS"/>
              </a:rPr>
              <a:t>If spatial variation of data is high: temporal aggregation first (e.g. copper)</a:t>
            </a: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  <a:p>
            <a:pPr marL="332640" indent="-332640">
              <a:spcBef>
                <a:spcPts val="1349"/>
              </a:spcBef>
              <a:buClr>
                <a:srgbClr val="0044a4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74e"/>
                </a:solidFill>
                <a:latin typeface="Arial Unicode MS"/>
              </a:rPr>
              <a:t>Biological quality elements: summing up lists of species per site before calculating EQR highly influences outcome of assessment (but: may differ per national metric)</a:t>
            </a: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44a4"/>
              </a:solidFill>
              <a:latin typeface="Arial Unicode MS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79280" y="189000"/>
            <a:ext cx="8640720" cy="6264360"/>
            <a:chOff x="179280" y="189000"/>
            <a:chExt cx="8640720" cy="6264360"/>
          </a:xfrm>
        </p:grpSpPr>
        <p:sp>
          <p:nvSpPr>
            <p:cNvPr id="95" name=""/>
            <p:cNvSpPr/>
            <p:nvPr/>
          </p:nvSpPr>
          <p:spPr>
            <a:xfrm>
              <a:off x="1108080" y="1843200"/>
              <a:ext cx="7607160" cy="41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44a4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6474e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44a4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6474e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44a4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6474e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44a4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6474e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44a4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6474e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099120" y="1920960"/>
              <a:ext cx="2149560" cy="72396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333399"/>
              </a:solidFill>
              <a:miter/>
            </a:ln>
            <a:effectLst>
              <a:outerShdw dist="107932" dir="81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6474e"/>
                  </a:solidFill>
                  <a:latin typeface="Arial"/>
                </a:rPr>
                <a:t>INFORMATION</a:t>
              </a:r>
              <a:endParaRPr b="0" lang="en-US" sz="1600" spc="-1" strike="noStrike">
                <a:solidFill>
                  <a:srgbClr val="16474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6474e"/>
                  </a:solidFill>
                  <a:latin typeface="Arial"/>
                </a:rPr>
                <a:t>NEEDS</a:t>
              </a:r>
              <a:endParaRPr b="0" lang="en-US" sz="1600" spc="-1" strike="noStrike">
                <a:solidFill>
                  <a:srgbClr val="16474e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111720" y="4213080"/>
              <a:ext cx="2148120" cy="72576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333399"/>
              </a:solidFill>
              <a:miter/>
            </a:ln>
            <a:effectLst>
              <a:outerShdw dist="107932" dir="81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6474e"/>
                  </a:solidFill>
                  <a:latin typeface="Arial"/>
                </a:rPr>
                <a:t>MONITORING STRATEGY AND DESIGN</a:t>
              </a:r>
              <a:endParaRPr b="0" lang="en-US" sz="1600" spc="-1" strike="noStrike">
                <a:solidFill>
                  <a:srgbClr val="16474e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92360" y="5734080"/>
              <a:ext cx="2213280" cy="71928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333399"/>
              </a:solidFill>
              <a:miter/>
            </a:ln>
            <a:effectLst>
              <a:outerShdw dist="107932" dir="81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82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600" spc="-1" strike="noStrike">
                  <a:solidFill>
                    <a:srgbClr val="16474e"/>
                  </a:solidFill>
                  <a:latin typeface="Arial"/>
                </a:rPr>
                <a:t>DATA COLLECTION/</a:t>
              </a:r>
              <a:endParaRPr b="0" lang="en-US" sz="1600" spc="-1" strike="noStrike">
                <a:solidFill>
                  <a:srgbClr val="16474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600" spc="-1" strike="noStrike">
                  <a:solidFill>
                    <a:srgbClr val="16474e"/>
                  </a:solidFill>
                  <a:latin typeface="Arial"/>
                </a:rPr>
                <a:t>STORAGE</a:t>
              </a:r>
              <a:endParaRPr b="0" lang="en-US" sz="1600" spc="-1" strike="noStrike">
                <a:solidFill>
                  <a:srgbClr val="16474e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71640" y="4221000"/>
              <a:ext cx="2147760" cy="62568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333399"/>
              </a:solidFill>
              <a:miter/>
            </a:ln>
            <a:effectLst>
              <a:outerShdw dist="107932" dir="81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6474e"/>
                  </a:solidFill>
                  <a:latin typeface="Arial"/>
                </a:rPr>
                <a:t>DATA ANALYSIS</a:t>
              </a:r>
              <a:endParaRPr b="0" lang="en-US" sz="1600" spc="-1" strike="noStrike">
                <a:solidFill>
                  <a:srgbClr val="16474e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66960" y="1844640"/>
              <a:ext cx="2151000" cy="90792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333399"/>
              </a:solidFill>
              <a:miter/>
            </a:ln>
            <a:effectLst>
              <a:outerShdw dist="107932" dir="81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6474e"/>
                  </a:solidFill>
                  <a:latin typeface="Arial"/>
                </a:rPr>
                <a:t>INFORMATION</a:t>
              </a:r>
              <a:endParaRPr b="0" lang="en-US" sz="1600" spc="-1" strike="noStrike">
                <a:solidFill>
                  <a:srgbClr val="16474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6474e"/>
                  </a:solidFill>
                  <a:latin typeface="Arial"/>
                </a:rPr>
                <a:t>UTILISATION AND REPORTING</a:t>
              </a:r>
              <a:endParaRPr b="0" lang="en-US" sz="1600" spc="-1" strike="noStrike">
                <a:solidFill>
                  <a:srgbClr val="16474e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19440" y="189000"/>
              <a:ext cx="2148120" cy="72540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333399"/>
              </a:solidFill>
              <a:miter/>
            </a:ln>
            <a:effectLst>
              <a:outerShdw dist="107932" dir="81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6474e"/>
                  </a:solidFill>
                  <a:latin typeface="Arial"/>
                </a:rPr>
                <a:t>WATER MANAGEMENT</a:t>
              </a:r>
              <a:endParaRPr b="0" lang="en-US" sz="1600" spc="-1" strike="noStrike">
                <a:solidFill>
                  <a:srgbClr val="16474e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803920" y="614520"/>
              <a:ext cx="1359000" cy="1296720"/>
            </a:xfrm>
            <a:custGeom>
              <a:avLst/>
              <a:gdLst/>
              <a:ahLst/>
              <a:rect l="l" t="t" r="r" b="b"/>
              <a:pathLst>
                <a:path w="873" h="810">
                  <a:moveTo>
                    <a:pt x="0" y="0"/>
                  </a:moveTo>
                  <a:cubicBezTo>
                    <a:pt x="111" y="36"/>
                    <a:pt x="337" y="171"/>
                    <a:pt x="483" y="306"/>
                  </a:cubicBezTo>
                  <a:cubicBezTo>
                    <a:pt x="627" y="450"/>
                    <a:pt x="834" y="711"/>
                    <a:pt x="873" y="810"/>
                  </a:cubicBezTo>
                </a:path>
              </a:pathLst>
            </a:custGeom>
            <a:noFill/>
            <a:ln w="31680">
              <a:solidFill>
                <a:srgbClr val="333399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6474e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394400" y="2712960"/>
              <a:ext cx="147960" cy="1497240"/>
            </a:xfrm>
            <a:custGeom>
              <a:avLst/>
              <a:gdLst/>
              <a:ahLst/>
              <a:rect l="l" t="t" r="r" b="b"/>
              <a:pathLst>
                <a:path w="96" h="936">
                  <a:moveTo>
                    <a:pt x="48" y="0"/>
                  </a:moveTo>
                  <a:cubicBezTo>
                    <a:pt x="60" y="45"/>
                    <a:pt x="96" y="261"/>
                    <a:pt x="90" y="423"/>
                  </a:cubicBezTo>
                  <a:cubicBezTo>
                    <a:pt x="84" y="585"/>
                    <a:pt x="48" y="813"/>
                    <a:pt x="0" y="936"/>
                  </a:cubicBezTo>
                </a:path>
              </a:pathLst>
            </a:custGeom>
            <a:noFill/>
            <a:ln w="31680">
              <a:solidFill>
                <a:srgbClr val="333399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6474e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64320" y="5016600"/>
              <a:ext cx="1244520" cy="1041480"/>
            </a:xfrm>
            <a:custGeom>
              <a:avLst/>
              <a:gdLst/>
              <a:ahLst/>
              <a:rect l="l" t="t" r="r" b="b"/>
              <a:pathLst>
                <a:path w="801" h="651">
                  <a:moveTo>
                    <a:pt x="801" y="0"/>
                  </a:moveTo>
                  <a:cubicBezTo>
                    <a:pt x="741" y="96"/>
                    <a:pt x="678" y="183"/>
                    <a:pt x="540" y="321"/>
                  </a:cubicBezTo>
                  <a:cubicBezTo>
                    <a:pt x="402" y="459"/>
                    <a:pt x="147" y="600"/>
                    <a:pt x="0" y="651"/>
                  </a:cubicBezTo>
                </a:path>
              </a:pathLst>
            </a:custGeom>
            <a:noFill/>
            <a:ln w="31680">
              <a:solidFill>
                <a:srgbClr val="333399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6474e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16160" y="4997520"/>
              <a:ext cx="1136520" cy="1017360"/>
            </a:xfrm>
            <a:custGeom>
              <a:avLst/>
              <a:gdLst/>
              <a:ahLst/>
              <a:rect l="l" t="t" r="r" b="b"/>
              <a:pathLst>
                <a:path w="732" h="636">
                  <a:moveTo>
                    <a:pt x="732" y="636"/>
                  </a:moveTo>
                  <a:cubicBezTo>
                    <a:pt x="640" y="608"/>
                    <a:pt x="405" y="458"/>
                    <a:pt x="284" y="354"/>
                  </a:cubicBezTo>
                  <a:cubicBezTo>
                    <a:pt x="165" y="243"/>
                    <a:pt x="32" y="76"/>
                    <a:pt x="0" y="0"/>
                  </a:cubicBezTo>
                </a:path>
              </a:pathLst>
            </a:custGeom>
            <a:noFill/>
            <a:ln w="31680">
              <a:solidFill>
                <a:srgbClr val="333399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6474e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82640" y="2852640"/>
              <a:ext cx="73080" cy="1297080"/>
            </a:xfrm>
            <a:custGeom>
              <a:avLst/>
              <a:gdLst/>
              <a:ahLst/>
              <a:rect l="l" t="t" r="r" b="b"/>
              <a:pathLst>
                <a:path w="82" h="897">
                  <a:moveTo>
                    <a:pt x="82" y="897"/>
                  </a:moveTo>
                  <a:cubicBezTo>
                    <a:pt x="70" y="852"/>
                    <a:pt x="12" y="675"/>
                    <a:pt x="6" y="513"/>
                  </a:cubicBezTo>
                  <a:cubicBezTo>
                    <a:pt x="0" y="351"/>
                    <a:pt x="15" y="132"/>
                    <a:pt x="48" y="0"/>
                  </a:cubicBezTo>
                </a:path>
              </a:pathLst>
            </a:custGeom>
            <a:noFill/>
            <a:ln w="31680">
              <a:solidFill>
                <a:srgbClr val="333399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6474e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68480" y="561960"/>
              <a:ext cx="1538280" cy="1282680"/>
            </a:xfrm>
            <a:custGeom>
              <a:avLst/>
              <a:gdLst/>
              <a:ahLst/>
              <a:rect l="l" t="t" r="r" b="b"/>
              <a:pathLst>
                <a:path w="960" h="864">
                  <a:moveTo>
                    <a:pt x="0" y="864"/>
                  </a:moveTo>
                  <a:cubicBezTo>
                    <a:pt x="30" y="753"/>
                    <a:pt x="234" y="465"/>
                    <a:pt x="387" y="333"/>
                  </a:cubicBezTo>
                  <a:cubicBezTo>
                    <a:pt x="540" y="201"/>
                    <a:pt x="861" y="39"/>
                    <a:pt x="960" y="0"/>
                  </a:cubicBezTo>
                </a:path>
              </a:pathLst>
            </a:custGeom>
            <a:noFill/>
            <a:ln w="31680">
              <a:solidFill>
                <a:srgbClr val="333399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6474e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829480" y="981000"/>
              <a:ext cx="104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 Unicode MS"/>
                </a:rPr>
                <a:t> 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 Unicode MS"/>
                </a:rPr>
                <a:t>WFD</a:t>
              </a:r>
              <a:endParaRPr b="0" lang="en-US" sz="1800" spc="-1" strike="noStrike">
                <a:solidFill>
                  <a:srgbClr val="16474e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77200" y="1557360"/>
              <a:ext cx="13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99"/>
                  </a:solidFill>
                  <a:latin typeface="Arial Unicode MS"/>
                </a:rPr>
                <a:t>WFD-format</a:t>
              </a:r>
              <a:endParaRPr b="0" lang="en-US" sz="1800" spc="-1" strike="noStrike">
                <a:solidFill>
                  <a:srgbClr val="16474e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51680" y="2700360"/>
              <a:ext cx="2058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99"/>
                  </a:solidFill>
                  <a:latin typeface="Arial Unicode MS"/>
                </a:rPr>
                <a:t>Annual water quality questionnaire</a:t>
              </a:r>
              <a:endParaRPr b="0" lang="en-US" sz="1800" spc="-1" strike="noStrike">
                <a:solidFill>
                  <a:srgbClr val="16474e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71880" y="5013360"/>
              <a:ext cx="175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99"/>
                  </a:solidFill>
                  <a:latin typeface="Arial Unicode MS"/>
                </a:rPr>
                <a:t>Database-structures</a:t>
              </a:r>
              <a:endParaRPr b="0" lang="en-US" sz="1800" spc="-1" strike="noStrike">
                <a:solidFill>
                  <a:srgbClr val="16474e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618240" y="5516640"/>
              <a:ext cx="1833480" cy="83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99"/>
                  </a:solidFill>
                  <a:latin typeface="Arial Unicode MS"/>
                </a:rPr>
                <a:t>AQUO data standardized format</a:t>
              </a:r>
              <a:endParaRPr b="0" lang="en-US" sz="1800" spc="-1" strike="noStrike">
                <a:solidFill>
                  <a:srgbClr val="16474e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08720" y="3492360"/>
              <a:ext cx="2165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99"/>
                  </a:solidFill>
                  <a:latin typeface="Arial Unicode MS"/>
                </a:rPr>
                <a:t>Monitoring programs, guidelines</a:t>
              </a:r>
              <a:endParaRPr b="0" lang="en-US" sz="1800" spc="-1" strike="noStrike">
                <a:solidFill>
                  <a:srgbClr val="16474e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52440" y="5445000"/>
              <a:ext cx="171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99"/>
                  </a:solidFill>
                  <a:latin typeface="Arial Unicode MS"/>
                </a:rPr>
                <a:t>Assessment systems</a:t>
              </a:r>
              <a:endParaRPr b="0" lang="en-US" sz="1800" spc="-1" strike="noStrike">
                <a:solidFill>
                  <a:srgbClr val="16474e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9280" y="620640"/>
              <a:ext cx="3219480" cy="11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99"/>
                  </a:solidFill>
                  <a:latin typeface="Arial Unicode MS"/>
                </a:rPr>
                <a:t>Annual report to Parliament</a:t>
              </a:r>
              <a:endParaRPr b="0" lang="en-US" sz="1800" spc="-1" strike="noStrike">
                <a:solidFill>
                  <a:srgbClr val="16474e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99"/>
                  </a:solidFill>
                  <a:latin typeface="Arial Unicode MS"/>
                </a:rPr>
                <a:t>WFD reporting </a:t>
              </a:r>
              <a:endParaRPr b="0" lang="en-US" sz="1800" spc="-1" strike="noStrike">
                <a:solidFill>
                  <a:srgbClr val="16474e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99"/>
                  </a:solidFill>
                  <a:latin typeface="Arial Unicode MS"/>
                </a:rPr>
                <a:t>Regional and thematic reports</a:t>
              </a:r>
              <a:endParaRPr b="0" lang="en-US" sz="1800" spc="-1" strike="noStrike">
                <a:solidFill>
                  <a:srgbClr val="16474e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8200" y="3213000"/>
              <a:ext cx="1563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99"/>
                  </a:solidFill>
                  <a:latin typeface="Arial Unicode MS"/>
                </a:rPr>
                <a:t>WFD-geo portal</a:t>
              </a:r>
              <a:endParaRPr b="0" lang="en-US" sz="1800" spc="-1" strike="noStrike">
                <a:solidFill>
                  <a:srgbClr val="16474e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98760" y="3141720"/>
              <a:ext cx="223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99"/>
                  </a:solidFill>
                  <a:latin typeface="Arial Unicode MS"/>
                </a:rPr>
                <a:t>THE MONITORING CYCLE</a:t>
              </a:r>
              <a:endParaRPr b="0" lang="en-US" sz="1800" spc="-1" strike="noStrike">
                <a:solidFill>
                  <a:srgbClr val="16474e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659640" y="5493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99"/>
                </a:solidFill>
                <a:latin typeface="Arial Unicode MS"/>
              </a:rPr>
              <a:t>National water       policy</a:t>
            </a:r>
            <a:endParaRPr b="0" lang="en-US" sz="1800" spc="-1" strike="noStrike">
              <a:solidFill>
                <a:srgbClr val="16474e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5631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44a4"/>
                </a:solidFill>
                <a:latin typeface="Arial Unicode MS"/>
              </a:rPr>
              <a:t>Data analysis, assessment and reporting</a:t>
            </a:r>
            <a:endParaRPr b="1" lang="en-US" sz="3200" spc="-1" strike="noStrike">
              <a:solidFill>
                <a:srgbClr val="0044a4"/>
              </a:solidFill>
              <a:latin typeface="Arial Unicode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7201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a4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74e"/>
                </a:solidFill>
                <a:latin typeface="Arial Unicode MS"/>
              </a:rPr>
              <a:t>Standard format for data storage / data exchange</a:t>
            </a: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44a4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74e"/>
                </a:solidFill>
                <a:latin typeface="Arial Unicode MS"/>
              </a:rPr>
              <a:t>Harmonised metrics / objectives (e.g. intercalibration) </a:t>
            </a: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44a4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74e"/>
                </a:solidFill>
                <a:latin typeface="Arial Unicode MS"/>
              </a:rPr>
              <a:t>Standard assessment tools </a:t>
            </a: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44a4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74e"/>
                </a:solidFill>
                <a:latin typeface="Arial Unicode MS"/>
              </a:rPr>
              <a:t>Harmonisation of calculation methods in ‘preprocessing’ of monitoring data ?</a:t>
            </a: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74e"/>
                </a:solidFill>
                <a:latin typeface="Arial Unicode MS"/>
              </a:rPr>
              <a:t>Does aggregation method influence </a:t>
            </a: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74e"/>
                </a:solidFill>
                <a:latin typeface="Arial Unicode MS"/>
              </a:rPr>
              <a:t>assessment result?</a:t>
            </a: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67640" y="2781360"/>
            <a:ext cx="1260360" cy="1017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667640" y="1341360"/>
            <a:ext cx="1224000" cy="8492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7524720" y="2276640"/>
            <a:ext cx="1428840" cy="447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5834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44a4"/>
                </a:solidFill>
                <a:latin typeface="Arial Unicode MS"/>
              </a:rPr>
              <a:t>Examples of how indicative parameters may be combined to estimate the condition of the biological elements</a:t>
            </a:r>
            <a:endParaRPr b="1" lang="en-US" sz="2800" spc="-1" strike="noStrike">
              <a:solidFill>
                <a:srgbClr val="0044a4"/>
              </a:solidFill>
              <a:latin typeface="Arial Unicode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5229000"/>
            <a:ext cx="1657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6474e"/>
                </a:solidFill>
                <a:latin typeface="Arial Unicode MS"/>
              </a:rPr>
              <a:t>Averaging: </a:t>
            </a:r>
            <a:endParaRPr b="0" lang="en-US" sz="1800" spc="-1" strike="noStrike">
              <a:solidFill>
                <a:srgbClr val="16474e"/>
              </a:solidFill>
              <a:latin typeface="Arial Unicode MS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6474e"/>
                </a:solidFill>
                <a:latin typeface="Arial Unicode MS"/>
              </a:rPr>
              <a:t>how and what ?</a:t>
            </a:r>
            <a:endParaRPr b="0" lang="en-US" sz="1800" spc="-1" strike="noStrike">
              <a:solidFill>
                <a:srgbClr val="16474e"/>
              </a:solidFill>
              <a:latin typeface="Arial Unicode MS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4478" t="0" r="0" b="0"/>
          <a:stretch/>
        </p:blipFill>
        <p:spPr>
          <a:xfrm>
            <a:off x="2268360" y="1628640"/>
            <a:ext cx="6696360" cy="46292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72000" y="5589720"/>
            <a:ext cx="1584360" cy="57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6474e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5" idx="3"/>
            <a:endCxn id="127" idx="3"/>
          </p:cNvCxnSpPr>
          <p:nvPr/>
        </p:nvCxnSpPr>
        <p:spPr>
          <a:xfrm>
            <a:off x="1908000" y="5661000"/>
            <a:ext cx="2896560" cy="435600"/>
          </a:xfrm>
          <a:prstGeom prst="curvedConnector5">
            <a:avLst>
              <a:gd name="adj1" fmla="val 8266"/>
              <a:gd name="adj2" fmla="val 104549"/>
              <a:gd name="adj3" fmla="val 8266"/>
            </a:avLst>
          </a:prstGeom>
          <a:ln w="28440">
            <a:solidFill>
              <a:srgbClr val="ff0000"/>
            </a:solidFill>
            <a:miter/>
          </a:ln>
        </p:spPr>
      </p:cxn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6207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44a4"/>
                </a:solidFill>
                <a:latin typeface="Arial Unicode MS"/>
              </a:rPr>
              <a:t>Temporal aggregation of monitoring data</a:t>
            </a:r>
            <a:endParaRPr b="1" lang="en-US" sz="3200" spc="-1" strike="noStrike">
              <a:solidFill>
                <a:srgbClr val="0044a4"/>
              </a:solidFill>
              <a:latin typeface="Arial Unicode MS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724360" y="1484280"/>
          <a:ext cx="3200400" cy="4933800"/>
        </p:xfrm>
        <a:graphic>
          <a:graphicData uri="http://schemas.openxmlformats.org/drawingml/2006/table">
            <a:tbl>
              <a:tblPr/>
              <a:tblGrid>
                <a:gridCol w="1065240"/>
                <a:gridCol w="1069920"/>
                <a:gridCol w="1065240"/>
              </a:tblGrid>
              <a:tr h="20376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16474e"/>
                          </a:solidFill>
                          <a:latin typeface="Arial"/>
                        </a:rPr>
                        <a:t>year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1368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16474e"/>
                          </a:solidFill>
                          <a:latin typeface="Arial"/>
                        </a:rPr>
                        <a:t>month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1368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16474e"/>
                          </a:solidFill>
                          <a:latin typeface="Arial"/>
                        </a:rPr>
                        <a:t>value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1368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76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2000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Jan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8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Febr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8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March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8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|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8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>
                      <a:noFill/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|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>
                      <a:noFill/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>
                      <a:noFill/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8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Oct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8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Nov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8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Dec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76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2001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Jan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8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Febr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8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March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8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|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8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|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8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Oct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8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Nov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8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Dec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76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2002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Jan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8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Febr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8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March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8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|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8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>
                      <a:noFill/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|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>
                      <a:noFill/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>
                      <a:noFill/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8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Oct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8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Nov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8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Dec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8640">
                <a:tc gridSpan="2">
                  <a:txBody>
                    <a:bodyPr lIns="90000" rIns="90000" tIns="18000" bIns="1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AVERAGE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8383680" y="1785960"/>
            <a:ext cx="0" cy="43927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6474e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95280" y="2133720"/>
          <a:ext cx="4248000" cy="3308400"/>
        </p:xfrm>
        <a:graphic>
          <a:graphicData uri="http://schemas.openxmlformats.org/drawingml/2006/table">
            <a:tbl>
              <a:tblPr/>
              <a:tblGrid>
                <a:gridCol w="596880"/>
                <a:gridCol w="819000"/>
                <a:gridCol w="819360"/>
                <a:gridCol w="745920"/>
                <a:gridCol w="1266840"/>
              </a:tblGrid>
              <a:tr h="224640">
                <a:tc>
                  <a:txBody>
                    <a:bodyPr lIns="54000" rIns="54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1368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54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2000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1368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54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2001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1368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54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2002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1368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1368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0680"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Jan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monthly average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Febr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monthly average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2120"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Mar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monthly average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2480"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Apr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monthly average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2120"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May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monthly average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920"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June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monthly average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0680"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July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monthly average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2120"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Aug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monthly average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2480"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Sept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monthly average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560"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Oct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monthly average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0680"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Nov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monthly average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2480"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Dec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monthly average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576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9520">
                <a:tc>
                  <a:txBody>
                    <a:bodyPr lIns="54000" rIns="54000" tIns="0" bIns="54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54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annual average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54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annual average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54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annual average</a:t>
                      </a:r>
                      <a:endParaRPr b="0" lang="en-US" sz="11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16474e"/>
                      </a:solidFill>
                    </a:lnL>
                    <a:lnR w="576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54000" tIns="72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6474e"/>
                          </a:solidFill>
                          <a:latin typeface="Arial Unicode MS"/>
                        </a:rPr>
                        <a:t>AVERAGE</a:t>
                      </a:r>
                      <a:endParaRPr b="0" lang="en-US" sz="1000" spc="-1" strike="noStrike">
                        <a:solidFill>
                          <a:srgbClr val="16474e"/>
                        </a:solidFill>
                        <a:latin typeface="Arial"/>
                      </a:endParaRPr>
                    </a:p>
                  </a:txBody>
                  <a:tcPr anchor="t" marL="90000" marR="54000">
                    <a:lnL w="5760">
                      <a:solidFill>
                        <a:srgbClr val="16474e"/>
                      </a:solidFill>
                    </a:lnL>
                    <a:lnR w="13680">
                      <a:solidFill>
                        <a:srgbClr val="16474e"/>
                      </a:solidFill>
                    </a:lnR>
                    <a:lnT w="5760">
                      <a:solidFill>
                        <a:srgbClr val="16474e"/>
                      </a:solidFill>
                    </a:lnT>
                    <a:lnB w="13680">
                      <a:solidFill>
                        <a:srgbClr val="16474e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1332000" y="2459160"/>
            <a:ext cx="1800000" cy="0"/>
          </a:xfrm>
          <a:prstGeom prst="line">
            <a:avLst/>
          </a:prstGeom>
          <a:ln w="38160">
            <a:solidFill>
              <a:srgbClr val="0044a4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6474e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32000" y="2708280"/>
            <a:ext cx="1800000" cy="0"/>
          </a:xfrm>
          <a:prstGeom prst="line">
            <a:avLst/>
          </a:prstGeom>
          <a:ln w="38160">
            <a:solidFill>
              <a:srgbClr val="0044a4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6474e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2000" y="2924280"/>
            <a:ext cx="1800000" cy="0"/>
          </a:xfrm>
          <a:prstGeom prst="line">
            <a:avLst/>
          </a:prstGeom>
          <a:ln w="38160">
            <a:solidFill>
              <a:srgbClr val="0044a4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6474e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16560" y="2517840"/>
            <a:ext cx="0" cy="2449440"/>
          </a:xfrm>
          <a:prstGeom prst="line">
            <a:avLst/>
          </a:prstGeom>
          <a:ln w="38160">
            <a:solidFill>
              <a:srgbClr val="0044a4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6474e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15880" y="2517840"/>
            <a:ext cx="0" cy="2449440"/>
          </a:xfrm>
          <a:prstGeom prst="line">
            <a:avLst/>
          </a:prstGeom>
          <a:ln w="38160">
            <a:solidFill>
              <a:srgbClr val="34be52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6474e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95640" y="2517840"/>
            <a:ext cx="0" cy="2449440"/>
          </a:xfrm>
          <a:prstGeom prst="line">
            <a:avLst/>
          </a:prstGeom>
          <a:ln w="38160">
            <a:solidFill>
              <a:srgbClr val="34be52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6474e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75040" y="2517840"/>
            <a:ext cx="0" cy="2449440"/>
          </a:xfrm>
          <a:prstGeom prst="line">
            <a:avLst/>
          </a:prstGeom>
          <a:ln w="38160">
            <a:solidFill>
              <a:srgbClr val="34be52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6474e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42920" y="5386320"/>
            <a:ext cx="2305080" cy="0"/>
          </a:xfrm>
          <a:prstGeom prst="line">
            <a:avLst/>
          </a:prstGeom>
          <a:ln w="38160">
            <a:solidFill>
              <a:srgbClr val="34be52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6474e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58467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44a4"/>
                </a:solidFill>
                <a:latin typeface="Arial Unicode MS"/>
              </a:rPr>
              <a:t>Spatial aggregation of monitoring data</a:t>
            </a:r>
            <a:endParaRPr b="1" lang="en-US" sz="3200" spc="-1" strike="noStrike">
              <a:solidFill>
                <a:srgbClr val="0044a4"/>
              </a:solidFill>
              <a:latin typeface="Arial Unicode M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15286" t="11979" r="18609" b="24821"/>
          <a:stretch/>
        </p:blipFill>
        <p:spPr>
          <a:xfrm>
            <a:off x="468360" y="2276640"/>
            <a:ext cx="3527280" cy="3346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rcRect l="15612" t="11883" r="18441" b="27094"/>
          <a:stretch/>
        </p:blipFill>
        <p:spPr>
          <a:xfrm>
            <a:off x="5148360" y="2276640"/>
            <a:ext cx="3530520" cy="334476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539640" y="5661000"/>
            <a:ext cx="4319640" cy="819000"/>
            <a:chOff x="539640" y="5661000"/>
            <a:chExt cx="4319640" cy="819000"/>
          </a:xfrm>
        </p:grpSpPr>
        <p:sp>
          <p:nvSpPr>
            <p:cNvPr id="145" name=""/>
            <p:cNvSpPr/>
            <p:nvPr/>
          </p:nvSpPr>
          <p:spPr>
            <a:xfrm>
              <a:off x="539640" y="5661000"/>
              <a:ext cx="431964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 baseline="-25000">
                  <a:solidFill>
                    <a:srgbClr val="16474e"/>
                  </a:solidFill>
                  <a:latin typeface="Arial"/>
                  <a:ea typeface="Arial"/>
                </a:rPr>
                <a:t>	</a:t>
              </a:r>
              <a:r>
                <a:rPr b="0" lang="nl-NL" sz="1800" spc="-1" strike="noStrike">
                  <a:solidFill>
                    <a:srgbClr val="16474e"/>
                  </a:solidFill>
                  <a:latin typeface="Arial"/>
                  <a:ea typeface="Arial"/>
                </a:rPr>
                <a:t>(sub)sites within subbasin</a:t>
              </a:r>
              <a:endParaRPr b="0" lang="en-US" sz="1800" spc="-1" strike="noStrike">
                <a:solidFill>
                  <a:srgbClr val="16474e"/>
                </a:solidFill>
                <a:latin typeface="Arial"/>
              </a:endParaRPr>
            </a:p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 baseline="-25000">
                  <a:solidFill>
                    <a:srgbClr val="16474e"/>
                  </a:solidFill>
                  <a:latin typeface="Arial"/>
                  <a:ea typeface="Arial"/>
                </a:rPr>
                <a:t>º</a:t>
              </a:r>
              <a:r>
                <a:rPr b="1" lang="en-US" sz="1800" spc="-1" strike="noStrike">
                  <a:solidFill>
                    <a:srgbClr val="16474e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16474e"/>
                  </a:solidFill>
                  <a:latin typeface="Arial"/>
                  <a:ea typeface="Arial"/>
                </a:rPr>
                <a:t>representative (WFD) site for a basin</a:t>
              </a:r>
              <a:endParaRPr b="0" lang="en-US" sz="1800" spc="-1" strike="noStrike">
                <a:solidFill>
                  <a:srgbClr val="16474e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0520" y="5734080"/>
              <a:ext cx="142920" cy="144360"/>
            </a:xfrm>
            <a:prstGeom prst="ellipse">
              <a:avLst/>
            </a:prstGeom>
            <a:solidFill>
              <a:srgbClr val="16474e"/>
            </a:solidFill>
            <a:ln w="12600">
              <a:solidFill>
                <a:srgbClr val="164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6474e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44a4"/>
                </a:solidFill>
                <a:latin typeface="Arial Unicode MS"/>
              </a:rPr>
              <a:t>Scenarios for aggregation</a:t>
            </a:r>
            <a:endParaRPr b="1" lang="en-US" sz="3200" spc="-1" strike="noStrike">
              <a:solidFill>
                <a:srgbClr val="0044a4"/>
              </a:solidFill>
              <a:latin typeface="Arial Unicode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7280" y="1915920"/>
            <a:ext cx="676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a4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74e"/>
                </a:solidFill>
                <a:latin typeface="Arial Unicode MS"/>
              </a:rPr>
              <a:t>Temporal aggregation in two (     ) or one (     ) calculation(s)</a:t>
            </a: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44a4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74e"/>
                </a:solidFill>
                <a:latin typeface="Arial Unicode MS"/>
              </a:rPr>
              <a:t>Spatial aggregation: two alternatives (     )</a:t>
            </a: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44a4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74e"/>
                </a:solidFill>
                <a:latin typeface="Arial Unicode MS"/>
              </a:rPr>
              <a:t>Temporal and spatial aggregation in different order</a:t>
            </a:r>
            <a:endParaRPr b="0" lang="en-US" sz="2400" spc="-1" strike="noStrike">
              <a:solidFill>
                <a:srgbClr val="16474e"/>
              </a:solidFill>
              <a:latin typeface="Arial Unicode MS"/>
            </a:endParaRPr>
          </a:p>
        </p:txBody>
      </p:sp>
      <p:sp>
        <p:nvSpPr>
          <p:cNvPr id="149" name=""/>
          <p:cNvSpPr/>
          <p:nvPr/>
        </p:nvSpPr>
        <p:spPr>
          <a:xfrm>
            <a:off x="5651640" y="2205000"/>
            <a:ext cx="360360" cy="0"/>
          </a:xfrm>
          <a:prstGeom prst="line">
            <a:avLst/>
          </a:prstGeom>
          <a:ln w="38160">
            <a:solidFill>
              <a:srgbClr val="34be52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6474e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08720" y="2133720"/>
            <a:ext cx="36036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6474e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2997360"/>
            <a:ext cx="36036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6474e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6659640" y="2852640"/>
            <a:ext cx="358200" cy="0"/>
            <a:chOff x="6659640" y="2852640"/>
            <a:chExt cx="358200" cy="0"/>
          </a:xfrm>
        </p:grpSpPr>
        <p:sp>
          <p:nvSpPr>
            <p:cNvPr id="153" name=""/>
            <p:cNvSpPr/>
            <p:nvPr/>
          </p:nvSpPr>
          <p:spPr>
            <a:xfrm>
              <a:off x="6802200" y="2852640"/>
              <a:ext cx="21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6474e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659640" y="2852640"/>
              <a:ext cx="1440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6474e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651640" y="2035080"/>
            <a:ext cx="360360" cy="0"/>
          </a:xfrm>
          <a:prstGeom prst="line">
            <a:avLst/>
          </a:prstGeom>
          <a:ln w="38160">
            <a:solidFill>
              <a:srgbClr val="0044a4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6474e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4097520" cy="5445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60627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44a4"/>
                </a:solidFill>
                <a:latin typeface="Arial Unicode MS"/>
              </a:rPr>
              <a:t>First temporal aggregation, </a:t>
            </a:r>
            <a:br>
              <a:rPr sz="3200"/>
            </a:br>
            <a:r>
              <a:rPr b="1" lang="nl-NL" sz="3200" spc="-1" strike="noStrike">
                <a:solidFill>
                  <a:srgbClr val="0044a4"/>
                </a:solidFill>
                <a:latin typeface="Arial Unicode MS"/>
              </a:rPr>
              <a:t>then spatial (physico-chemistry)</a:t>
            </a:r>
            <a:endParaRPr b="1" lang="en-US" sz="3200" spc="-1" strike="noStrike">
              <a:solidFill>
                <a:srgbClr val="0044a4"/>
              </a:solidFill>
              <a:latin typeface="Arial Unicode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rcRect l="3319" t="49427" r="89343" b="40981"/>
          <a:stretch/>
        </p:blipFill>
        <p:spPr>
          <a:xfrm>
            <a:off x="5292720" y="2276640"/>
            <a:ext cx="720720" cy="568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156360" y="2131920"/>
            <a:ext cx="287964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6474e"/>
                </a:solidFill>
                <a:latin typeface="Arial Unicode MS"/>
              </a:rPr>
              <a:t>Table with monitoring data of one site</a:t>
            </a:r>
            <a:endParaRPr b="0" lang="en-US" sz="1800" spc="-1" strike="noStrike">
              <a:solidFill>
                <a:srgbClr val="16474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6474e"/>
                </a:solidFill>
                <a:latin typeface="Arial Unicode MS"/>
              </a:rPr>
              <a:t>Column = year</a:t>
            </a:r>
            <a:endParaRPr b="0" lang="en-US" sz="1800" spc="-1" strike="noStrike">
              <a:solidFill>
                <a:srgbClr val="16474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6474e"/>
                </a:solidFill>
                <a:latin typeface="Arial Unicode MS"/>
              </a:rPr>
              <a:t>Row = month</a:t>
            </a:r>
            <a:endParaRPr b="0" lang="en-US" sz="1800" spc="-1" strike="noStrike">
              <a:solidFill>
                <a:srgbClr val="16474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474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6474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6474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6474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6474e"/>
                </a:solidFill>
                <a:latin typeface="Arial Unicode MS"/>
              </a:rPr>
              <a:t>	</a:t>
            </a:r>
            <a:r>
              <a:rPr b="0" lang="nl-NL" sz="1800" spc="-1" strike="noStrike">
                <a:solidFill>
                  <a:srgbClr val="16474e"/>
                </a:solidFill>
                <a:latin typeface="Arial Unicode MS"/>
              </a:rPr>
              <a:t>water body</a:t>
            </a:r>
            <a:endParaRPr b="0" lang="en-US" sz="1800" spc="-1" strike="noStrike">
              <a:solidFill>
                <a:srgbClr val="16474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474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474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474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6474e"/>
                </a:solidFill>
                <a:latin typeface="Arial Unicode MS"/>
              </a:rPr>
              <a:t>	</a:t>
            </a:r>
            <a:r>
              <a:rPr b="0" lang="nl-NL" sz="1800" spc="-1" strike="noStrike">
                <a:solidFill>
                  <a:srgbClr val="16474e"/>
                </a:solidFill>
                <a:latin typeface="Arial Unicode MS"/>
              </a:rPr>
              <a:t>(sub) basin</a:t>
            </a:r>
            <a:endParaRPr b="0" lang="en-US" sz="1800" spc="-1" strike="noStrike">
              <a:solidFill>
                <a:srgbClr val="16474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474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rcRect l="2764" t="36094" r="78339" b="51766"/>
          <a:stretch/>
        </p:blipFill>
        <p:spPr>
          <a:xfrm>
            <a:off x="5076720" y="3789360"/>
            <a:ext cx="1225800" cy="476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rcRect l="2791" t="12322" r="78142" b="63652"/>
          <a:stretch/>
        </p:blipFill>
        <p:spPr>
          <a:xfrm>
            <a:off x="5076720" y="4581360"/>
            <a:ext cx="1222560" cy="9306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68360" y="2924280"/>
            <a:ext cx="0" cy="504720"/>
          </a:xfrm>
          <a:prstGeom prst="line">
            <a:avLst/>
          </a:prstGeom>
          <a:ln w="38160">
            <a:solidFill>
              <a:srgbClr val="34be52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6474e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4221000"/>
            <a:ext cx="468360" cy="0"/>
          </a:xfrm>
          <a:prstGeom prst="line">
            <a:avLst/>
          </a:prstGeom>
          <a:ln w="38160">
            <a:solidFill>
              <a:srgbClr val="34be52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6474e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4941720"/>
            <a:ext cx="0" cy="505080"/>
          </a:xfrm>
          <a:prstGeom prst="line">
            <a:avLst/>
          </a:prstGeom>
          <a:ln w="38160">
            <a:solidFill>
              <a:srgbClr val="ece6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6474e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595008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6474e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95640" y="3213000"/>
            <a:ext cx="0" cy="50508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6474e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95640" y="5229360"/>
            <a:ext cx="0" cy="5047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6474e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6712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44a4"/>
                </a:solidFill>
                <a:latin typeface="Arial Unicode MS"/>
              </a:rPr>
              <a:t>First spatial aggregation, </a:t>
            </a:r>
            <a:br>
              <a:rPr sz="3200"/>
            </a:br>
            <a:r>
              <a:rPr b="1" lang="nl-NL" sz="3200" spc="-1" strike="noStrike">
                <a:solidFill>
                  <a:srgbClr val="0044a4"/>
                </a:solidFill>
                <a:latin typeface="Arial Unicode MS"/>
              </a:rPr>
              <a:t>then temporal  (physico- chemistry)</a:t>
            </a:r>
            <a:endParaRPr b="1" lang="en-US" sz="3200" spc="-1" strike="noStrike">
              <a:solidFill>
                <a:srgbClr val="0044a4"/>
              </a:solidFill>
              <a:latin typeface="Arial Unicode MS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0" y="1413000"/>
            <a:ext cx="5835600" cy="5445000"/>
            <a:chOff x="0" y="1413000"/>
            <a:chExt cx="5835600" cy="5445000"/>
          </a:xfrm>
        </p:grpSpPr>
        <p:pic>
          <p:nvPicPr>
            <p:cNvPr id="170" name="" descr=""/>
            <p:cNvPicPr/>
            <p:nvPr/>
          </p:nvPicPr>
          <p:blipFill>
            <a:blip r:embed="rId1"/>
            <a:srcRect l="54861" t="0" r="5318" b="0"/>
            <a:stretch/>
          </p:blipFill>
          <p:spPr>
            <a:xfrm>
              <a:off x="4211640" y="1420920"/>
              <a:ext cx="1623960" cy="543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2"/>
            <a:srcRect l="8824" t="0" r="51538" b="0"/>
            <a:stretch/>
          </p:blipFill>
          <p:spPr>
            <a:xfrm>
              <a:off x="0" y="1413000"/>
              <a:ext cx="1619280" cy="544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3"/>
            <a:srcRect l="54646" t="0" r="8357" b="0"/>
            <a:stretch/>
          </p:blipFill>
          <p:spPr>
            <a:xfrm>
              <a:off x="1476360" y="1413000"/>
              <a:ext cx="1511280" cy="544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4"/>
            <a:srcRect l="14215" t="0" r="50441" b="0"/>
            <a:stretch/>
          </p:blipFill>
          <p:spPr>
            <a:xfrm>
              <a:off x="2916360" y="1420920"/>
              <a:ext cx="1441440" cy="5437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4" name="" descr=""/>
          <p:cNvPicPr/>
          <p:nvPr/>
        </p:nvPicPr>
        <p:blipFill>
          <a:blip r:embed="rId5"/>
          <a:srcRect l="3094" t="62635" r="89362" b="26098"/>
          <a:stretch/>
        </p:blipFill>
        <p:spPr>
          <a:xfrm>
            <a:off x="6012000" y="1628640"/>
            <a:ext cx="718920" cy="648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rcRect l="3094" t="76456" r="89110" b="10635"/>
          <a:stretch/>
        </p:blipFill>
        <p:spPr>
          <a:xfrm>
            <a:off x="6012000" y="3357720"/>
            <a:ext cx="718920" cy="7189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084720" y="2276640"/>
            <a:ext cx="288000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6474e"/>
                </a:solidFill>
                <a:latin typeface="Arial Unicode MS"/>
              </a:rPr>
              <a:t>Table with monitoring data, average values of several sites</a:t>
            </a:r>
            <a:endParaRPr b="0" lang="en-US" sz="1800" spc="-1" strike="noStrike">
              <a:solidFill>
                <a:srgbClr val="16474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474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474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474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474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474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6474e"/>
                </a:solidFill>
                <a:latin typeface="Arial Unicode MS"/>
              </a:rPr>
              <a:t>Table combining monitoring data of several sites</a:t>
            </a:r>
            <a:endParaRPr b="0" lang="en-US" sz="1800" spc="-1" strike="noStrike">
              <a:solidFill>
                <a:srgbClr val="16474e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2T09:13:40Z</dcterms:created>
  <dc:creator>Latour</dc:creator>
  <dc:description/>
  <dc:language>en-US</dc:language>
  <cp:lastModifiedBy>Utilisateur</cp:lastModifiedBy>
  <dcterms:modified xsi:type="dcterms:W3CDTF">2007-06-11T08:51:47Z</dcterms:modified>
  <cp:revision>89</cp:revision>
  <dc:subject/>
  <dc:title>Environmental objectives WFD</dc:title>
</cp:coreProperties>
</file>