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9E9-5CB3-44D9-9A74-40EB3A18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F42-F90D-44A5-B580-528B62C2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174-F6A6-48AD-BE3F-2D8A7564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149-CD8F-4ABD-AAB9-67675174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C99-7344-46AB-B6E3-F97A8C7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27F-9448-4C01-9177-1183FA98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4B5-3844-4AAE-A3A1-C365790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354-9E4F-4A28-8DC7-9EBB059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6D7-E968-48C9-AC84-A3AD9CE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FCA-1E3D-4C90-9012-018BE97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61B-238C-409D-9DBA-30F9EBBF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828-56AD-4E2F-8F87-62B727E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110A-E479-4BFA-AA5E-C3074F36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920" y="1438200"/>
            <a:ext cx="890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cological classification in Germany using the example of  the german river assessment system with benthic invertebrates (PERLO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4560" y="394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in Meier &amp; Daniel Hering (University of  Duisburg-Ess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51664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08840"/>
            <a:ext cx="9144000" cy="763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67680" y="115920"/>
            <a:ext cx="17636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8560" y="3057480"/>
            <a:ext cx="7704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98560" y="41148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8560" y="1978200"/>
            <a:ext cx="770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of the module „General Degradation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of PERL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8560" y="1438200"/>
            <a:ext cx="770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8560" y="464832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3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0" y="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module „General Degrad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lection of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71720" y="4419720"/>
            <a:ext cx="6195960" cy="1008720"/>
            <a:chOff x="2871720" y="4419720"/>
            <a:chExt cx="6195960" cy="1008720"/>
          </a:xfrm>
        </p:grpSpPr>
        <p:sp>
          <p:nvSpPr>
            <p:cNvPr id="238" name=""/>
            <p:cNvSpPr/>
            <p:nvPr/>
          </p:nvSpPr>
          <p:spPr>
            <a:xfrm>
              <a:off x="5829120" y="4419720"/>
              <a:ext cx="323856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Selection of parameter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which indicate the effects of degrad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1720" y="4876920"/>
              <a:ext cx="2879640" cy="228600"/>
            </a:xfrm>
            <a:prstGeom prst="rightArrow">
              <a:avLst>
                <a:gd name="adj1" fmla="val 50000"/>
                <a:gd name="adj2" fmla="val 12830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008760" y="2451240"/>
            <a:ext cx="2008080" cy="1902960"/>
            <a:chOff x="6008760" y="2451240"/>
            <a:chExt cx="2008080" cy="1902960"/>
          </a:xfrm>
        </p:grpSpPr>
        <p:sp>
          <p:nvSpPr>
            <p:cNvPr id="241" name=""/>
            <p:cNvSpPr/>
            <p:nvPr/>
          </p:nvSpPr>
          <p:spPr>
            <a:xfrm>
              <a:off x="6008760" y="3187440"/>
              <a:ext cx="200808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Correlation ana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8160" y="3670200"/>
              <a:ext cx="304200" cy="684000"/>
            </a:xfrm>
            <a:prstGeom prst="upArrow">
              <a:avLst>
                <a:gd name="adj1" fmla="val 50000"/>
                <a:gd name="adj2" fmla="val 5621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8160" y="2451240"/>
              <a:ext cx="304200" cy="684000"/>
            </a:xfrm>
            <a:prstGeom prst="downArrow">
              <a:avLst>
                <a:gd name="adj1" fmla="val 50000"/>
                <a:gd name="adj2" fmla="val 5621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89120" y="1503360"/>
            <a:ext cx="12459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atab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axa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000" y="2276640"/>
            <a:ext cx="2783880" cy="3380400"/>
            <a:chOff x="36000" y="2276640"/>
            <a:chExt cx="2783880" cy="3380400"/>
          </a:xfrm>
        </p:grpSpPr>
        <p:sp>
          <p:nvSpPr>
            <p:cNvPr id="246" name=""/>
            <p:cNvSpPr/>
            <p:nvPr/>
          </p:nvSpPr>
          <p:spPr>
            <a:xfrm>
              <a:off x="36000" y="4343400"/>
              <a:ext cx="2783880" cy="131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Databas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biotic sit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land use in the catch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- hydromorphological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5280" y="2276640"/>
              <a:ext cx="228600" cy="1979280"/>
            </a:xfrm>
            <a:prstGeom prst="downArrow">
              <a:avLst>
                <a:gd name="adj1" fmla="val 59370"/>
                <a:gd name="adj2" fmla="val 7876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664000" y="1343160"/>
            <a:ext cx="5143680" cy="1008720"/>
            <a:chOff x="2664000" y="1343160"/>
            <a:chExt cx="5143680" cy="1008720"/>
          </a:xfrm>
        </p:grpSpPr>
        <p:sp>
          <p:nvSpPr>
            <p:cNvPr id="249" name=""/>
            <p:cNvSpPr/>
            <p:nvPr/>
          </p:nvSpPr>
          <p:spPr>
            <a:xfrm>
              <a:off x="6041880" y="1343160"/>
              <a:ext cx="176580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Calc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of  ca. 80 metr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with each taxa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4000" y="1700280"/>
              <a:ext cx="2879640" cy="228600"/>
            </a:xfrm>
            <a:prstGeom prst="rightArrow">
              <a:avLst>
                <a:gd name="adj1" fmla="val 50000"/>
                <a:gd name="adj2" fmla="val 12830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5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lection of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392120"/>
            <a:ext cx="1943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alc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f  ca. 80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ith every tax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4419720"/>
            <a:ext cx="2303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election of paramet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hich indicate the effects of degra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3187800"/>
            <a:ext cx="2087640" cy="38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Correlation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0" y="3657600"/>
            <a:ext cx="304560" cy="684360"/>
          </a:xfrm>
          <a:prstGeom prst="upArrow">
            <a:avLst>
              <a:gd name="adj1" fmla="val 50000"/>
              <a:gd name="adj2" fmla="val 561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2438280"/>
            <a:ext cx="304560" cy="684360"/>
          </a:xfrm>
          <a:prstGeom prst="downArrow">
            <a:avLst>
              <a:gd name="adj1" fmla="val 50000"/>
              <a:gd name="adj2" fmla="val 561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122640" y="3060720"/>
            <a:ext cx="2722680" cy="672840"/>
            <a:chOff x="3122640" y="3060720"/>
            <a:chExt cx="2722680" cy="672840"/>
          </a:xfrm>
        </p:grpSpPr>
        <p:sp>
          <p:nvSpPr>
            <p:cNvPr id="261" name=""/>
            <p:cNvSpPr/>
            <p:nvPr/>
          </p:nvSpPr>
          <p:spPr>
            <a:xfrm>
              <a:off x="4116240" y="3060720"/>
              <a:ext cx="1729080" cy="67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Selection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candidate metr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22640" y="3289320"/>
              <a:ext cx="539640" cy="228600"/>
            </a:xfrm>
            <a:prstGeom prst="rightArrow">
              <a:avLst>
                <a:gd name="adj1" fmla="val 50000"/>
                <a:gd name="adj2" fmla="val 590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0" y="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module „General Degrad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lection of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1392120"/>
            <a:ext cx="1943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alc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f  ca. 80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ith every tax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4419720"/>
            <a:ext cx="2303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election of paramet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hich indicate the effects of degra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3187800"/>
            <a:ext cx="2087640" cy="38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Correlation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3657600"/>
            <a:ext cx="304560" cy="684360"/>
          </a:xfrm>
          <a:prstGeom prst="upArrow">
            <a:avLst>
              <a:gd name="adj1" fmla="val 50000"/>
              <a:gd name="adj2" fmla="val 561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438280"/>
            <a:ext cx="304560" cy="684360"/>
          </a:xfrm>
          <a:prstGeom prst="downArrow">
            <a:avLst>
              <a:gd name="adj1" fmla="val 50000"/>
              <a:gd name="adj2" fmla="val 561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122640" y="3060720"/>
            <a:ext cx="2722680" cy="672840"/>
            <a:chOff x="3122640" y="3060720"/>
            <a:chExt cx="2722680" cy="672840"/>
          </a:xfrm>
        </p:grpSpPr>
        <p:sp>
          <p:nvSpPr>
            <p:cNvPr id="274" name=""/>
            <p:cNvSpPr/>
            <p:nvPr/>
          </p:nvSpPr>
          <p:spPr>
            <a:xfrm>
              <a:off x="4116240" y="3060720"/>
              <a:ext cx="1729080" cy="67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Selection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candidate metr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2640" y="3289320"/>
              <a:ext cx="539640" cy="228600"/>
            </a:xfrm>
            <a:prstGeom prst="rightArrow">
              <a:avLst>
                <a:gd name="adj1" fmla="val 50000"/>
                <a:gd name="adj2" fmla="val 590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19920" y="3048120"/>
            <a:ext cx="2490840" cy="672840"/>
            <a:chOff x="6019920" y="3048120"/>
            <a:chExt cx="2490840" cy="672840"/>
          </a:xfrm>
        </p:grpSpPr>
        <p:sp>
          <p:nvSpPr>
            <p:cNvPr id="277" name=""/>
            <p:cNvSpPr/>
            <p:nvPr/>
          </p:nvSpPr>
          <p:spPr>
            <a:xfrm>
              <a:off x="7243560" y="3048120"/>
              <a:ext cx="1267200" cy="67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Selection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core metr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3276720"/>
              <a:ext cx="539640" cy="228600"/>
            </a:xfrm>
            <a:prstGeom prst="rightArrow">
              <a:avLst>
                <a:gd name="adj1" fmla="val 50000"/>
                <a:gd name="adj2" fmla="val 590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module „General Degrad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8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358920" y="539640"/>
            <a:ext cx="627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tion of the Qualit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7985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culation of the metric resul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23385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 of each result into a value between 0 and 1 (sc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287964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culation of the Multimetric Index as the weighted mean of the   scores: Fauna-Index accounts for 50% of the final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3718080"/>
            <a:ext cx="838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 of the Multimetric Index into a Quality Clas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. high &gt; 0.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. good &gt; 0.6-0.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. moderate &gt; 0.4-0.6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. poor &gt; 0.2-0.4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. bad &lt;=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module „General Degrad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9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PERL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5680" y="3917880"/>
            <a:ext cx="897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ax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27200" y="2868480"/>
            <a:ext cx="2567520" cy="2533320"/>
            <a:chOff x="1627200" y="2868480"/>
            <a:chExt cx="2567520" cy="2533320"/>
          </a:xfrm>
        </p:grpSpPr>
        <p:sp>
          <p:nvSpPr>
            <p:cNvPr id="295" name=""/>
            <p:cNvSpPr/>
            <p:nvPr/>
          </p:nvSpPr>
          <p:spPr>
            <a:xfrm>
              <a:off x="2102760" y="2868480"/>
              <a:ext cx="2091960" cy="2533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abou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organic pol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abou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cidifi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abou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general degrad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27200" y="4135320"/>
              <a:ext cx="43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659640" y="3097080"/>
            <a:ext cx="2165760" cy="2016360"/>
            <a:chOff x="6659640" y="3097080"/>
            <a:chExt cx="2165760" cy="2016360"/>
          </a:xfrm>
        </p:grpSpPr>
        <p:sp>
          <p:nvSpPr>
            <p:cNvPr id="298" name=""/>
            <p:cNvSpPr/>
            <p:nvPr/>
          </p:nvSpPr>
          <p:spPr>
            <a:xfrm>
              <a:off x="7419240" y="3808440"/>
              <a:ext cx="140616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Ec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Quality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9640" y="3097080"/>
              <a:ext cx="433440" cy="79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59640" y="4394160"/>
              <a:ext cx="433440" cy="7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59640" y="4105080"/>
              <a:ext cx="43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500720" y="1428840"/>
            <a:ext cx="2666880" cy="5193000"/>
            <a:chOff x="4500720" y="1428840"/>
            <a:chExt cx="2666880" cy="5193000"/>
          </a:xfrm>
        </p:grpSpPr>
        <p:grpSp>
          <p:nvGrpSpPr>
            <p:cNvPr id="303" name=""/>
            <p:cNvGrpSpPr/>
            <p:nvPr/>
          </p:nvGrpSpPr>
          <p:grpSpPr>
            <a:xfrm>
              <a:off x="4814640" y="1428840"/>
              <a:ext cx="2072880" cy="5193000"/>
              <a:chOff x="4814640" y="1428840"/>
              <a:chExt cx="2072880" cy="5193000"/>
            </a:xfrm>
          </p:grpSpPr>
          <p:sp>
            <p:nvSpPr>
              <p:cNvPr id="304" name=""/>
              <p:cNvSpPr/>
              <p:nvPr/>
            </p:nvSpPr>
            <p:spPr>
              <a:xfrm>
                <a:off x="4854960" y="1428840"/>
                <a:ext cx="203256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Narrow"/>
                  </a:rPr>
                  <a:t>Reference condi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14640" y="6222960"/>
                <a:ext cx="173232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Narrow"/>
                  </a:rPr>
                  <a:t>          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 Narrow"/>
                  </a:rPr>
                  <a:t>Meas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5381400">
                <a:off x="5791680" y="5166720"/>
                <a:ext cx="389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Arial Narrow"/>
                  </a:rPr>
                  <a:t>}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11960" y="1903320"/>
                <a:ext cx="0" cy="79236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7600" y="1903320"/>
                <a:ext cx="0" cy="180036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4880" y="1903320"/>
                <a:ext cx="0" cy="287964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500720" y="2130480"/>
              <a:ext cx="2666880" cy="3970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346640" y="2946240"/>
            <a:ext cx="1878480" cy="2304000"/>
            <a:chOff x="4346640" y="2946240"/>
            <a:chExt cx="1878480" cy="2304000"/>
          </a:xfrm>
        </p:grpSpPr>
        <p:sp>
          <p:nvSpPr>
            <p:cNvPr id="312" name=""/>
            <p:cNvSpPr/>
            <p:nvPr/>
          </p:nvSpPr>
          <p:spPr>
            <a:xfrm>
              <a:off x="5512680" y="4851360"/>
              <a:ext cx="7124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8080" y="314172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6640" y="4091040"/>
              <a:ext cx="79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9240" y="501480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2680" y="2946240"/>
              <a:ext cx="7124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2680" y="3936960"/>
              <a:ext cx="7124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58920" y="539640"/>
            <a:ext cx="649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tion of the Ecological Qualit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2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ment PERL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920" y="539640"/>
            <a:ext cx="649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tion of the Ecological Qualit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177336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cological Quality Class is calculated from the results of the individual mod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25909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Module “Organic Pollution” = “high” or “good”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ation of the modules by the worst case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9640" y="3429000"/>
            <a:ext cx="83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Module “Organic Pollution” = “moderate”, “poor” or “bad”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c pollution is likely to affect the module “general degradation” too; in these cases the result of the module “general degradation” might be corrected by additional criteria; afterwards, the end result is calculated by the worst case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2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98560" y="251784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98560" y="34290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98560" y="403848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3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0" y="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 +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920" y="404640"/>
            <a:ext cx="649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ols for 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1197000"/>
            <a:ext cx="8388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bsite [http://www.fliessgewaesserbewertung.d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nual f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ftware ASTERICS (AQEM/STAR Ecological River Classification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763640" y="3156120"/>
            <a:ext cx="56167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4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8560" y="251784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8560" y="34290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98560" y="403848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251784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8560" y="34290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8560" y="403848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920" y="539640"/>
            <a:ext cx="657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dication potential of organism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1397160"/>
            <a:ext cx="160020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dro-morp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1397160"/>
            <a:ext cx="152388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i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1397160"/>
            <a:ext cx="174780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troph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1397160"/>
            <a:ext cx="152388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ic pol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1397160"/>
            <a:ext cx="6324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5500800"/>
            <a:ext cx="6324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1397160"/>
            <a:ext cx="0" cy="4103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72400" y="1397160"/>
            <a:ext cx="0" cy="4103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224964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139716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139716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139716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2209680"/>
            <a:ext cx="752760" cy="327672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34400" y="2209680"/>
            <a:ext cx="752400" cy="327672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9120" y="5600880"/>
            <a:ext cx="122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tch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42800" y="5573880"/>
            <a:ext cx="1419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ate war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552680" y="2492280"/>
            <a:ext cx="1387440" cy="3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447920" y="5500800"/>
            <a:ext cx="6324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224964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135240" y="2492280"/>
            <a:ext cx="1387440" cy="362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4719600" y="2492280"/>
            <a:ext cx="1387440" cy="362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3063960" y="3213000"/>
            <a:ext cx="155088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1552680" y="4149720"/>
            <a:ext cx="1395360" cy="447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6161040" y="4797360"/>
            <a:ext cx="1511280" cy="627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4719600" y="4149720"/>
            <a:ext cx="1395360" cy="4478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9"/>
          <a:stretch/>
        </p:blipFill>
        <p:spPr>
          <a:xfrm>
            <a:off x="6232680" y="4149720"/>
            <a:ext cx="1395360" cy="4478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726680" y="1560600"/>
            <a:ext cx="149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arly war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44640" y="1560600"/>
            <a:ext cx="1454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abitat pa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38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920" y="539640"/>
            <a:ext cx="657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dication potential of organism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33520" y="1393920"/>
          <a:ext cx="8305560" cy="4930560"/>
        </p:xfrm>
        <a:graphic>
          <a:graphicData uri="http://schemas.openxmlformats.org/drawingml/2006/table">
            <a:tbl>
              <a:tblPr/>
              <a:tblGrid>
                <a:gridCol w="1734840"/>
                <a:gridCol w="1587600"/>
                <a:gridCol w="1660680"/>
                <a:gridCol w="1662120"/>
                <a:gridCol w="1660320"/>
              </a:tblGrid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trophication 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-morph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12720" y="2565360"/>
            <a:ext cx="1511280" cy="393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84360" y="3546360"/>
            <a:ext cx="1172880" cy="46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11280" y="4500720"/>
            <a:ext cx="1457280" cy="466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55640" y="5543640"/>
            <a:ext cx="1306440" cy="539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2379600" y="2670120"/>
            <a:ext cx="1255680" cy="327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2833560" y="3716280"/>
            <a:ext cx="298440" cy="1191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2398680" y="4587840"/>
            <a:ext cx="878040" cy="2811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2727360" y="5813280"/>
            <a:ext cx="331920" cy="136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tretch/>
        </p:blipFill>
        <p:spPr>
          <a:xfrm>
            <a:off x="4489560" y="3716280"/>
            <a:ext cx="298440" cy="1191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1"/>
          <a:stretch/>
        </p:blipFill>
        <p:spPr>
          <a:xfrm>
            <a:off x="4125960" y="4587840"/>
            <a:ext cx="877680" cy="2811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4162320" y="5686560"/>
            <a:ext cx="986040" cy="406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3"/>
          <a:stretch/>
        </p:blipFill>
        <p:spPr>
          <a:xfrm>
            <a:off x="5973840" y="2727360"/>
            <a:ext cx="758880" cy="196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5940360" y="3573360"/>
            <a:ext cx="885960" cy="3542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5854680" y="4587840"/>
            <a:ext cx="878040" cy="281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5891040" y="5686560"/>
            <a:ext cx="986040" cy="406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7524720" y="2660760"/>
            <a:ext cx="1008000" cy="263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7574040" y="3546360"/>
            <a:ext cx="885600" cy="3542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7510320" y="4587840"/>
            <a:ext cx="878040" cy="281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7840800" y="5805360"/>
            <a:ext cx="331560" cy="136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631836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ing et al., Hydrobiologia (2006) 566:109-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1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8920" y="727200"/>
            <a:ext cx="726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1773360"/>
            <a:ext cx="83883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organism groups indicate different stress types on different s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ne-out all-out prin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be used on the quality element level (according to 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FD CIS Guidance document No. 13 "Overall approach to the classification of ecological status and ecological potential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561080" cy="594684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1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6356520"/>
            <a:ext cx="51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FD CIS Guidance document No. 13 "Overall approach to the classification of ecological status and ecological potential" (Fig. 3, p. 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2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98560" y="251784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98560" y="34290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98560" y="403848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3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"/>
          <p:cNvSpPr/>
          <p:nvPr/>
        </p:nvSpPr>
        <p:spPr>
          <a:xfrm>
            <a:off x="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co-chemic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920" y="539640"/>
            <a:ext cx="726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fferentiation between background and orientation valu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1341360"/>
            <a:ext cx="838836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valu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between high and go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rientation valu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between good and moderate status/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.. are not binding only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he level or range for a physico-chemical quality element has been exceeded in a significant number of water bodies in the type as a result of anthropogenic alterations where the monitoring results for the biological quality elements are better than moderate status/potentia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he biological methods being used in the monitoring are sensitive to the effects of anthropogenic changes in the condition of the physico-chemical quality element on the values for the biological quality elements and the functioning of the ecosystem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no delay before the biological effects of the range or level being exceeded are reflected in the biological monitoring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3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"/>
          <p:cNvSpPr/>
          <p:nvPr/>
        </p:nvSpPr>
        <p:spPr>
          <a:xfrm>
            <a:off x="358920" y="380880"/>
            <a:ext cx="726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values for river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raft from March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6680" y="1071720"/>
          <a:ext cx="8740800" cy="551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680" y="1071720"/>
                    <a:ext cx="8740800" cy="55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co-chemic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48000" y="630864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 temp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479520" y="333360"/>
            <a:ext cx="726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ientation values for river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raft from March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0" y="1125360"/>
          <a:ext cx="8937720" cy="5496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893772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co-chemic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48000" y="6453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 temp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5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"/>
          <p:cNvSpPr/>
          <p:nvPr/>
        </p:nvSpPr>
        <p:spPr>
          <a:xfrm>
            <a:off x="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177336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 the classification according to WFD CIS Guidance document No. 13 "Overall approach to the classification of ecological status and ecological potential“ works well i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"/>
          <p:cNvSpPr/>
          <p:nvPr/>
        </p:nvSpPr>
        <p:spPr>
          <a:xfrm>
            <a:off x="358920" y="380880"/>
            <a:ext cx="726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r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river-assessment.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fliessgewaesserbewertu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58920" y="539640"/>
            <a:ext cx="162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251784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Implementation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8560" y="34290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Combination of the biological qualit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98560" y="197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560" y="143820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560" y="4038480"/>
            <a:ext cx="770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08080"/>
                </a:solidFill>
                <a:latin typeface="Arial"/>
              </a:rPr>
              <a:t>Role of physico-chemic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614600" y="1770120"/>
            <a:ext cx="7278480" cy="1010880"/>
            <a:chOff x="1614600" y="1770120"/>
            <a:chExt cx="7278480" cy="1010880"/>
          </a:xfrm>
        </p:grpSpPr>
        <p:sp>
          <p:nvSpPr>
            <p:cNvPr id="71" name=""/>
            <p:cNvSpPr/>
            <p:nvPr/>
          </p:nvSpPr>
          <p:spPr>
            <a:xfrm>
              <a:off x="5076720" y="1770120"/>
              <a:ext cx="3816360" cy="398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Microhabitat: sand (Psam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endCxn id="71" idx="1"/>
            </p:cNvCxnSpPr>
            <p:nvPr/>
          </p:nvCxnSpPr>
          <p:spPr>
            <a:xfrm flipH="1" rot="10800000">
              <a:off x="1631520" y="1972440"/>
              <a:ext cx="3432960" cy="808920"/>
            </a:xfrm>
            <a:prstGeom prst="bentConnector3">
              <a:avLst>
                <a:gd name="adj1" fmla="val -503"/>
              </a:avLst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200400" cy="192888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84360" y="971640"/>
            <a:ext cx="8208720" cy="1735920"/>
            <a:chOff x="684360" y="971640"/>
            <a:chExt cx="8208720" cy="1735920"/>
          </a:xfrm>
        </p:grpSpPr>
        <p:sp>
          <p:nvSpPr>
            <p:cNvPr id="75" name=""/>
            <p:cNvSpPr/>
            <p:nvPr/>
          </p:nvSpPr>
          <p:spPr>
            <a:xfrm>
              <a:off x="5076720" y="971640"/>
              <a:ext cx="3816360" cy="398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Locomotion type: borro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endCxn id="75" idx="1"/>
            </p:cNvCxnSpPr>
            <p:nvPr/>
          </p:nvCxnSpPr>
          <p:spPr>
            <a:xfrm flipV="1">
              <a:off x="684360" y="1173960"/>
              <a:ext cx="4380480" cy="1533960"/>
            </a:xfrm>
            <a:prstGeom prst="bentConnector3">
              <a:avLst>
                <a:gd name="adj1" fmla="val 501"/>
              </a:avLst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77" name=""/>
          <p:cNvGrpSpPr/>
          <p:nvPr/>
        </p:nvGrpSpPr>
        <p:grpSpPr>
          <a:xfrm>
            <a:off x="1834200" y="4149720"/>
            <a:ext cx="7058880" cy="703800"/>
            <a:chOff x="1834200" y="4149720"/>
            <a:chExt cx="7058880" cy="703800"/>
          </a:xfrm>
        </p:grpSpPr>
        <p:sp>
          <p:nvSpPr>
            <p:cNvPr id="78" name=""/>
            <p:cNvSpPr/>
            <p:nvPr/>
          </p:nvSpPr>
          <p:spPr>
            <a:xfrm>
              <a:off x="5076720" y="4149720"/>
              <a:ext cx="3816360" cy="703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Demands of the adult: landmarks for swar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/>
            <p:nvPr/>
          </p:nvCxnSpPr>
          <p:spPr>
            <a:xfrm flipH="1" rot="16200000">
              <a:off x="3354120" y="2835720"/>
              <a:ext cx="173880" cy="3213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755640" y="4365360"/>
            <a:ext cx="8137440" cy="1656720"/>
            <a:chOff x="755640" y="4365360"/>
            <a:chExt cx="8137440" cy="1656720"/>
          </a:xfrm>
        </p:grpSpPr>
        <p:sp>
          <p:nvSpPr>
            <p:cNvPr id="81" name=""/>
            <p:cNvSpPr/>
            <p:nvPr/>
          </p:nvSpPr>
          <p:spPr>
            <a:xfrm>
              <a:off x="5076720" y="5318280"/>
              <a:ext cx="3816360" cy="703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Reaction to stress: high oxygen demand, acid-intole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endCxn id="81" idx="1"/>
            </p:cNvCxnSpPr>
            <p:nvPr/>
          </p:nvCxnSpPr>
          <p:spPr>
            <a:xfrm>
              <a:off x="755640" y="4365360"/>
              <a:ext cx="4308840" cy="1445040"/>
            </a:xfrm>
            <a:prstGeom prst="bentConnector3">
              <a:avLst>
                <a:gd name="adj1" fmla="val 33"/>
              </a:avLst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3492360" y="2421000"/>
            <a:ext cx="5400720" cy="703800"/>
            <a:chOff x="3492360" y="2421000"/>
            <a:chExt cx="5400720" cy="703800"/>
          </a:xfrm>
        </p:grpSpPr>
        <p:sp>
          <p:nvSpPr>
            <p:cNvPr id="84" name=""/>
            <p:cNvSpPr/>
            <p:nvPr/>
          </p:nvSpPr>
          <p:spPr>
            <a:xfrm>
              <a:off x="5076720" y="2421000"/>
              <a:ext cx="3816360" cy="703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Habitat: lowland and mountain rivers which are hydromorphologically di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2360" y="2852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492360" y="3500280"/>
            <a:ext cx="5400720" cy="398880"/>
            <a:chOff x="3492360" y="3500280"/>
            <a:chExt cx="5400720" cy="398880"/>
          </a:xfrm>
        </p:grpSpPr>
        <p:sp>
          <p:nvSpPr>
            <p:cNvPr id="87" name=""/>
            <p:cNvSpPr/>
            <p:nvPr/>
          </p:nvSpPr>
          <p:spPr>
            <a:xfrm>
              <a:off x="5076720" y="3500280"/>
              <a:ext cx="3816360" cy="398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Feeding type: active filter fee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2360" y="37162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631836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Ephemer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ic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üller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430440"/>
            <a:ext cx="2447640" cy="719280"/>
          </a:xfrm>
          <a:custGeom>
            <a:avLst/>
            <a:gdLst/>
            <a:ahLst/>
            <a:rect l="l" t="t" r="r" b="b"/>
            <a:pathLst>
              <a:path w="2677" h="491">
                <a:moveTo>
                  <a:pt x="0" y="408"/>
                </a:moveTo>
                <a:cubicBezTo>
                  <a:pt x="144" y="234"/>
                  <a:pt x="288" y="60"/>
                  <a:pt x="454" y="45"/>
                </a:cubicBezTo>
                <a:cubicBezTo>
                  <a:pt x="620" y="30"/>
                  <a:pt x="839" y="287"/>
                  <a:pt x="998" y="317"/>
                </a:cubicBezTo>
                <a:cubicBezTo>
                  <a:pt x="1157" y="347"/>
                  <a:pt x="1248" y="203"/>
                  <a:pt x="1407" y="226"/>
                </a:cubicBezTo>
                <a:cubicBezTo>
                  <a:pt x="1566" y="249"/>
                  <a:pt x="1739" y="491"/>
                  <a:pt x="1951" y="453"/>
                </a:cubicBezTo>
                <a:cubicBezTo>
                  <a:pt x="2163" y="415"/>
                  <a:pt x="2533" y="91"/>
                  <a:pt x="2677" y="0"/>
                </a:cubicBezTo>
              </a:path>
            </a:pathLst>
          </a:custGeom>
          <a:noFill/>
          <a:ln w="190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48000" y="2949480"/>
            <a:ext cx="1008000" cy="26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2824200"/>
            <a:ext cx="1152360" cy="460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03640" y="4292640"/>
            <a:ext cx="1106280" cy="35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88000" y="4221000"/>
            <a:ext cx="1224000" cy="5083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08000" y="3357720"/>
            <a:ext cx="2590920" cy="703800"/>
            <a:chOff x="108000" y="3357720"/>
            <a:chExt cx="2590920" cy="703800"/>
          </a:xfrm>
        </p:grpSpPr>
        <p:sp>
          <p:nvSpPr>
            <p:cNvPr id="100" name=""/>
            <p:cNvSpPr/>
            <p:nvPr/>
          </p:nvSpPr>
          <p:spPr>
            <a:xfrm>
              <a:off x="108000" y="3357720"/>
              <a:ext cx="158256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ganic pol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92360" y="3716280"/>
              <a:ext cx="10065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515280" y="3213000"/>
            <a:ext cx="2593800" cy="1008720"/>
            <a:chOff x="6515280" y="3213000"/>
            <a:chExt cx="2593800" cy="1008720"/>
          </a:xfrm>
        </p:grpSpPr>
        <p:sp>
          <p:nvSpPr>
            <p:cNvPr id="103" name=""/>
            <p:cNvSpPr/>
            <p:nvPr/>
          </p:nvSpPr>
          <p:spPr>
            <a:xfrm>
              <a:off x="7236000" y="3213000"/>
              <a:ext cx="187308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-morphological degrad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515280" y="3716280"/>
              <a:ext cx="720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71640" y="2492280"/>
            <a:ext cx="3672000" cy="26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5440" y="1438200"/>
            <a:ext cx="2951280" cy="1414440"/>
            <a:chOff x="325440" y="1438200"/>
            <a:chExt cx="2951280" cy="1414440"/>
          </a:xfrm>
        </p:grpSpPr>
        <p:sp>
          <p:nvSpPr>
            <p:cNvPr id="107" name=""/>
            <p:cNvSpPr/>
            <p:nvPr/>
          </p:nvSpPr>
          <p:spPr>
            <a:xfrm>
              <a:off x="2195640" y="1773360"/>
              <a:ext cx="1081080" cy="1079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5440" y="1438200"/>
              <a:ext cx="19429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utroph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66920" y="1438200"/>
            <a:ext cx="2953080" cy="1343160"/>
            <a:chOff x="5866920" y="1438200"/>
            <a:chExt cx="2953080" cy="1343160"/>
          </a:xfrm>
        </p:grpSpPr>
        <p:sp>
          <p:nvSpPr>
            <p:cNvPr id="110" name=""/>
            <p:cNvSpPr/>
            <p:nvPr/>
          </p:nvSpPr>
          <p:spPr>
            <a:xfrm flipH="1">
              <a:off x="5866920" y="1773360"/>
              <a:ext cx="1081080" cy="1008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7080" y="1438200"/>
              <a:ext cx="19429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and 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5440" y="4795560"/>
            <a:ext cx="3022560" cy="1264320"/>
            <a:chOff x="325440" y="4795560"/>
            <a:chExt cx="3022560" cy="1264320"/>
          </a:xfrm>
        </p:grpSpPr>
        <p:sp>
          <p:nvSpPr>
            <p:cNvPr id="113" name=""/>
            <p:cNvSpPr/>
            <p:nvPr/>
          </p:nvSpPr>
          <p:spPr>
            <a:xfrm flipV="1">
              <a:off x="2050920" y="4795560"/>
              <a:ext cx="1297080" cy="1081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440" y="5661000"/>
              <a:ext cx="19429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cid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40360" y="4724280"/>
            <a:ext cx="2879640" cy="1496160"/>
            <a:chOff x="5940360" y="4724280"/>
            <a:chExt cx="2879640" cy="1496160"/>
          </a:xfrm>
        </p:grpSpPr>
        <p:sp>
          <p:nvSpPr>
            <p:cNvPr id="116" name=""/>
            <p:cNvSpPr/>
            <p:nvPr/>
          </p:nvSpPr>
          <p:spPr>
            <a:xfrm flipH="1" flipV="1">
              <a:off x="5940360" y="4724280"/>
              <a:ext cx="1008000" cy="865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7080" y="5516640"/>
              <a:ext cx="194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icrohabitat degrad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8920" y="539640"/>
            <a:ext cx="543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rms of impairment („stressors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430440"/>
            <a:ext cx="2447640" cy="719280"/>
          </a:xfrm>
          <a:custGeom>
            <a:avLst/>
            <a:gdLst/>
            <a:ahLst/>
            <a:rect l="l" t="t" r="r" b="b"/>
            <a:pathLst>
              <a:path w="2677" h="491">
                <a:moveTo>
                  <a:pt x="0" y="408"/>
                </a:moveTo>
                <a:cubicBezTo>
                  <a:pt x="144" y="234"/>
                  <a:pt x="288" y="60"/>
                  <a:pt x="454" y="45"/>
                </a:cubicBezTo>
                <a:cubicBezTo>
                  <a:pt x="620" y="30"/>
                  <a:pt x="839" y="287"/>
                  <a:pt x="998" y="317"/>
                </a:cubicBezTo>
                <a:cubicBezTo>
                  <a:pt x="1157" y="347"/>
                  <a:pt x="1248" y="203"/>
                  <a:pt x="1407" y="226"/>
                </a:cubicBezTo>
                <a:cubicBezTo>
                  <a:pt x="1566" y="249"/>
                  <a:pt x="1739" y="491"/>
                  <a:pt x="1951" y="453"/>
                </a:cubicBezTo>
                <a:cubicBezTo>
                  <a:pt x="2163" y="415"/>
                  <a:pt x="2533" y="91"/>
                  <a:pt x="2677" y="0"/>
                </a:cubicBezTo>
              </a:path>
            </a:pathLst>
          </a:custGeom>
          <a:noFill/>
          <a:ln w="190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1106640" cy="35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8000" y="3357720"/>
            <a:ext cx="15825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c 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3213000"/>
            <a:ext cx="18730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-morphological 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050920" y="4795560"/>
            <a:ext cx="1297080" cy="10810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773360"/>
            <a:ext cx="1081080" cy="107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1773360"/>
            <a:ext cx="108108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940360" y="4724280"/>
            <a:ext cx="1008000" cy="865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3716280"/>
            <a:ext cx="1006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515280" y="371628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2492280"/>
            <a:ext cx="3672000" cy="26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5440" y="1438200"/>
            <a:ext cx="1942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troph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1438200"/>
            <a:ext cx="1942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5440" y="5661000"/>
            <a:ext cx="1942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i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516640"/>
            <a:ext cx="1942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habitat 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539640"/>
            <a:ext cx="543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rms of impairment („stressors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680" y="3600360"/>
            <a:ext cx="897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ax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27200" y="2550960"/>
            <a:ext cx="2449080" cy="2533320"/>
            <a:chOff x="1627200" y="2550960"/>
            <a:chExt cx="2449080" cy="2533320"/>
          </a:xfrm>
        </p:grpSpPr>
        <p:sp>
          <p:nvSpPr>
            <p:cNvPr id="145" name=""/>
            <p:cNvSpPr/>
            <p:nvPr/>
          </p:nvSpPr>
          <p:spPr>
            <a:xfrm>
              <a:off x="2100240" y="2550960"/>
              <a:ext cx="1976040" cy="2533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th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saprobic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cidic stat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other stresso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27200" y="3817800"/>
              <a:ext cx="43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659640" y="2779560"/>
            <a:ext cx="2026440" cy="2016360"/>
            <a:chOff x="6659640" y="2779560"/>
            <a:chExt cx="2026440" cy="2016360"/>
          </a:xfrm>
        </p:grpSpPr>
        <p:sp>
          <p:nvSpPr>
            <p:cNvPr id="148" name=""/>
            <p:cNvSpPr/>
            <p:nvPr/>
          </p:nvSpPr>
          <p:spPr>
            <a:xfrm>
              <a:off x="7558920" y="3490920"/>
              <a:ext cx="112716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Ec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9640" y="2779560"/>
              <a:ext cx="433440" cy="79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659640" y="4076640"/>
              <a:ext cx="433440" cy="7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3787560"/>
              <a:ext cx="43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00720" y="1111320"/>
            <a:ext cx="2666880" cy="5193000"/>
            <a:chOff x="4500720" y="1111320"/>
            <a:chExt cx="2666880" cy="5193000"/>
          </a:xfrm>
        </p:grpSpPr>
        <p:grpSp>
          <p:nvGrpSpPr>
            <p:cNvPr id="153" name=""/>
            <p:cNvGrpSpPr/>
            <p:nvPr/>
          </p:nvGrpSpPr>
          <p:grpSpPr>
            <a:xfrm>
              <a:off x="4854960" y="1111320"/>
              <a:ext cx="2032560" cy="5193000"/>
              <a:chOff x="4854960" y="1111320"/>
              <a:chExt cx="2032560" cy="5193000"/>
            </a:xfrm>
          </p:grpSpPr>
          <p:sp>
            <p:nvSpPr>
              <p:cNvPr id="154" name=""/>
              <p:cNvSpPr/>
              <p:nvPr/>
            </p:nvSpPr>
            <p:spPr>
              <a:xfrm>
                <a:off x="4854960" y="1111320"/>
                <a:ext cx="203256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Narrow"/>
                  </a:rPr>
                  <a:t>Reference condi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31800" y="5905440"/>
                <a:ext cx="159336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Narrow"/>
                  </a:rPr>
                  <a:t>Need for 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381400">
                <a:off x="5791680" y="4849200"/>
                <a:ext cx="389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Arial Narrow"/>
                  </a:rPr>
                  <a:t>}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11960" y="1585800"/>
                <a:ext cx="0" cy="79236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27600" y="1585800"/>
                <a:ext cx="0" cy="180036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4880" y="1585800"/>
                <a:ext cx="0" cy="287964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500720" y="1812960"/>
              <a:ext cx="2666880" cy="3970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46640" y="2408400"/>
            <a:ext cx="2247120" cy="2740320"/>
            <a:chOff x="4346640" y="2408400"/>
            <a:chExt cx="2247120" cy="2740320"/>
          </a:xfrm>
        </p:grpSpPr>
        <p:sp>
          <p:nvSpPr>
            <p:cNvPr id="162" name=""/>
            <p:cNvSpPr/>
            <p:nvPr/>
          </p:nvSpPr>
          <p:spPr>
            <a:xfrm>
              <a:off x="5217120" y="4444920"/>
              <a:ext cx="131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8080" y="282420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6640" y="3773520"/>
              <a:ext cx="79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9240" y="469728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23600" y="2408400"/>
              <a:ext cx="131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80840" y="3454200"/>
              <a:ext cx="131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ressor-specific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ressor-specific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680" y="3714840"/>
            <a:ext cx="897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 Narrow"/>
              </a:rPr>
              <a:t>Tax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27200" y="2665440"/>
            <a:ext cx="2449080" cy="2517840"/>
            <a:chOff x="1627200" y="2665440"/>
            <a:chExt cx="2449080" cy="2517840"/>
          </a:xfrm>
        </p:grpSpPr>
        <p:sp>
          <p:nvSpPr>
            <p:cNvPr id="176" name=""/>
            <p:cNvSpPr/>
            <p:nvPr/>
          </p:nvSpPr>
          <p:spPr>
            <a:xfrm>
              <a:off x="2100240" y="2665440"/>
              <a:ext cx="1976040" cy="251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Information on th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saprobic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Information on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acidic status</a:t>
              </a:r>
              <a:r>
                <a:rPr b="0" lang="en-GB" sz="19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Information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other stressors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7200" y="3931920"/>
              <a:ext cx="43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659640" y="2894040"/>
            <a:ext cx="2026440" cy="2015280"/>
            <a:chOff x="6659640" y="2894040"/>
            <a:chExt cx="2026440" cy="2015280"/>
          </a:xfrm>
        </p:grpSpPr>
        <p:sp>
          <p:nvSpPr>
            <p:cNvPr id="179" name=""/>
            <p:cNvSpPr/>
            <p:nvPr/>
          </p:nvSpPr>
          <p:spPr>
            <a:xfrm>
              <a:off x="7558920" y="3605040"/>
              <a:ext cx="1127160" cy="688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Ec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 Narrow"/>
                </a:rPr>
                <a:t>statu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9640" y="2894040"/>
              <a:ext cx="433440" cy="79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59640" y="4190400"/>
              <a:ext cx="433440" cy="7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59640" y="3901680"/>
              <a:ext cx="43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851720" y="1225440"/>
            <a:ext cx="2032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 Narrow"/>
              </a:rPr>
              <a:t>Reference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33240" y="5762520"/>
            <a:ext cx="1547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Arial Narrow"/>
              </a:rPr>
              <a:t>Need for </a:t>
            </a:r>
            <a:r>
              <a:rPr b="0" lang="en-GB" sz="2000" spc="-1" strike="noStrike">
                <a:solidFill>
                  <a:srgbClr val="808080"/>
                </a:solidFill>
                <a:latin typeface="Arial Narro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381400">
            <a:off x="5789160" y="4963680"/>
            <a:ext cx="38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1700280"/>
            <a:ext cx="0" cy="792000"/>
          </a:xfrm>
          <a:prstGeom prst="line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1700280"/>
            <a:ext cx="0" cy="1800000"/>
          </a:xfrm>
          <a:prstGeom prst="line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0" cy="2879640"/>
          </a:xfrm>
          <a:prstGeom prst="line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346640" y="2541600"/>
            <a:ext cx="2217960" cy="2740320"/>
            <a:chOff x="4346640" y="2541600"/>
            <a:chExt cx="2217960" cy="2740320"/>
          </a:xfrm>
        </p:grpSpPr>
        <p:sp>
          <p:nvSpPr>
            <p:cNvPr id="190" name=""/>
            <p:cNvSpPr/>
            <p:nvPr/>
          </p:nvSpPr>
          <p:spPr>
            <a:xfrm>
              <a:off x="5217120" y="4578120"/>
              <a:ext cx="131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8080" y="295740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46640" y="3906720"/>
              <a:ext cx="79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59240" y="4830480"/>
              <a:ext cx="79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23600" y="2541600"/>
              <a:ext cx="131292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 Narrow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07840" y="3600360"/>
              <a:ext cx="1256760" cy="67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 Narrow"/>
                </a:rPr>
                <a:t>Assess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 Narrow"/>
                </a:rPr>
                <a:t>formul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78200" y="2286000"/>
            <a:ext cx="5257800" cy="1079640"/>
            <a:chOff x="2878200" y="2286000"/>
            <a:chExt cx="5257800" cy="1079640"/>
          </a:xfrm>
        </p:grpSpPr>
        <p:sp>
          <p:nvSpPr>
            <p:cNvPr id="197" name=""/>
            <p:cNvSpPr/>
            <p:nvPr/>
          </p:nvSpPr>
          <p:spPr>
            <a:xfrm>
              <a:off x="2878200" y="2286000"/>
              <a:ext cx="5257800" cy="1079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1240" y="2479680"/>
              <a:ext cx="4376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3300"/>
                  </a:solidFill>
                  <a:latin typeface="Arial Narrow"/>
                </a:rPr>
                <a:t>Modul “Organic Pollution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878200" y="3429000"/>
            <a:ext cx="5257800" cy="1079640"/>
            <a:chOff x="2878200" y="3429000"/>
            <a:chExt cx="5257800" cy="1079640"/>
          </a:xfrm>
        </p:grpSpPr>
        <p:sp>
          <p:nvSpPr>
            <p:cNvPr id="200" name=""/>
            <p:cNvSpPr/>
            <p:nvPr/>
          </p:nvSpPr>
          <p:spPr>
            <a:xfrm>
              <a:off x="2878200" y="3429000"/>
              <a:ext cx="5257800" cy="1079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69200" y="3692520"/>
              <a:ext cx="3597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3300"/>
                  </a:solidFill>
                  <a:latin typeface="Arial Narrow"/>
                </a:rPr>
                <a:t>Modul “Acidification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78200" y="4551480"/>
            <a:ext cx="5257800" cy="1079280"/>
            <a:chOff x="2878200" y="4551480"/>
            <a:chExt cx="5257800" cy="1079280"/>
          </a:xfrm>
        </p:grpSpPr>
        <p:sp>
          <p:nvSpPr>
            <p:cNvPr id="203" name=""/>
            <p:cNvSpPr/>
            <p:nvPr/>
          </p:nvSpPr>
          <p:spPr>
            <a:xfrm>
              <a:off x="2878200" y="4551480"/>
              <a:ext cx="5257800" cy="1079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0840" y="4815000"/>
              <a:ext cx="4877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3300"/>
                  </a:solidFill>
                  <a:latin typeface="Arial Narrow"/>
                </a:rPr>
                <a:t>Modul “General Degradation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54120"/>
            <a:chOff x="0" y="0"/>
            <a:chExt cx="9144000" cy="654120"/>
          </a:xfrm>
        </p:grpSpPr>
        <p:sp>
          <p:nvSpPr>
            <p:cNvPr id="20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267680" y="115920"/>
              <a:ext cx="1763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>
            <a:off x="0" y="0"/>
            <a:ext cx="162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39640"/>
            <a:ext cx="489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ressor-specific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56000" y="1557360"/>
            <a:ext cx="4248360" cy="703800"/>
            <a:chOff x="4356000" y="1557360"/>
            <a:chExt cx="4248360" cy="703800"/>
          </a:xfrm>
        </p:grpSpPr>
        <p:sp>
          <p:nvSpPr>
            <p:cNvPr id="211" name=""/>
            <p:cNvSpPr/>
            <p:nvPr/>
          </p:nvSpPr>
          <p:spPr>
            <a:xfrm>
              <a:off x="5554800" y="1557360"/>
              <a:ext cx="304956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German Standard DIN 38410 (199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56000" y="1916280"/>
              <a:ext cx="93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56000" y="2362320"/>
            <a:ext cx="4248360" cy="1008720"/>
            <a:chOff x="4356000" y="2362320"/>
            <a:chExt cx="4248360" cy="1008720"/>
          </a:xfrm>
        </p:grpSpPr>
        <p:sp>
          <p:nvSpPr>
            <p:cNvPr id="214" name=""/>
            <p:cNvSpPr/>
            <p:nvPr/>
          </p:nvSpPr>
          <p:spPr>
            <a:xfrm>
              <a:off x="5557680" y="2362320"/>
              <a:ext cx="304668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cid quality class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ccording to Braukmann &amp; Biss (200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56000" y="2748240"/>
              <a:ext cx="93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356000" y="3552840"/>
            <a:ext cx="4248360" cy="1923480"/>
            <a:chOff x="4356000" y="3552840"/>
            <a:chExt cx="4248360" cy="1923480"/>
          </a:xfrm>
        </p:grpSpPr>
        <p:sp>
          <p:nvSpPr>
            <p:cNvPr id="217" name=""/>
            <p:cNvSpPr/>
            <p:nvPr/>
          </p:nvSpPr>
          <p:spPr>
            <a:xfrm>
              <a:off x="5564160" y="3552840"/>
              <a:ext cx="3040200" cy="192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Stream type specific assessment - formul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Metric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Metric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Metric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89360"/>
              <a:ext cx="93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5680" y="2665440"/>
            <a:ext cx="897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ax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27200" y="1616040"/>
            <a:ext cx="2449080" cy="2533320"/>
            <a:chOff x="1627200" y="1616040"/>
            <a:chExt cx="2449080" cy="2533320"/>
          </a:xfrm>
        </p:grpSpPr>
        <p:sp>
          <p:nvSpPr>
            <p:cNvPr id="221" name=""/>
            <p:cNvSpPr/>
            <p:nvPr/>
          </p:nvSpPr>
          <p:spPr>
            <a:xfrm>
              <a:off x="2100240" y="1616040"/>
              <a:ext cx="1976040" cy="2533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th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saprobic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acidic stat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Information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other stressors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27200" y="2882880"/>
              <a:ext cx="432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04:14Z</dcterms:created>
  <dc:creator> </dc:creator>
  <dc:description/>
  <dc:language>en-US</dc:language>
  <cp:lastModifiedBy>VIAL Isabelle</cp:lastModifiedBy>
  <dcterms:modified xsi:type="dcterms:W3CDTF">2007-06-01T07:00:34Z</dcterms:modified>
  <cp:revision>83</cp:revision>
  <dc:subject/>
  <dc:title>PowerPoint-Präsentation</dc:title>
</cp:coreProperties>
</file>