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1103652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7400" y="6030360"/>
            <a:ext cx="1103652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40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264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160" y="280620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40560" y="280620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7400" y="603036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9160" y="603036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40560" y="603036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77760" y="1587240"/>
            <a:ext cx="110491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7740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264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7400" y="6030360"/>
            <a:ext cx="1103652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1103652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77400" y="6030360"/>
            <a:ext cx="1103652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7740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264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9160" y="280620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40560" y="280620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77400" y="603036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709160" y="603036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440560" y="6030360"/>
            <a:ext cx="355356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7760" y="1587240"/>
            <a:ext cx="110491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740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2640" y="603036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2640" y="2806200"/>
            <a:ext cx="538560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7400" y="6030360"/>
            <a:ext cx="11036520" cy="294408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79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marL="504720" indent="-49824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204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665360" indent="-35892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2314440" indent="-35712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965320" indent="-35856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965320" indent="-358560">
              <a:spcBef>
                <a:spcPts val="901"/>
              </a:spcBef>
              <a:buClr>
                <a:srgbClr val="000000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965320" indent="-358560">
              <a:spcBef>
                <a:spcPts val="901"/>
              </a:spcBef>
              <a:buClr>
                <a:srgbClr val="000000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4038120"/>
            <a:ext cx="8991720" cy="111780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IS Workshop on National Classification Systems for the Assessment of the Ecological Status of Surface Waters</a:t>
            </a:r>
            <a:br>
              <a:rPr sz="48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ris, 11-12 June 2007</a:t>
            </a:r>
            <a:endParaRPr b="1" lang="en-US" sz="32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1400" y="5727240"/>
            <a:ext cx="90043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254160" tIns="50760" bIns="50760" anchor="t">
            <a:normAutofit fontScale="41000"/>
          </a:bodyPr>
          <a:p>
            <a:pPr marL="23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Nutrients and their role in classification of ecological status in transitional and coastal wa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3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ve Jowett, Chair UK Marine Task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1104876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Nutrients in Transitional Waters Decision Tree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8960" y="3048120"/>
            <a:ext cx="3093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Types TW2, TW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Turbidity “mediu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8720" y="3048120"/>
            <a:ext cx="2410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Is Winter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829800" y="3200400"/>
            <a:ext cx="199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ヒラギノ明朝 Pro W3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44240" y="5105520"/>
            <a:ext cx="2610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Is Winter 99%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53480" y="5334120"/>
            <a:ext cx="199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ヒラギノ明朝 Pro W3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701028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ヒラギノ明朝 Pro W3"/>
              </a:rPr>
              <a:t>MOD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581280"/>
            <a:ext cx="15238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3505320"/>
            <a:ext cx="15238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40384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58200" y="5638680"/>
            <a:ext cx="12193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6095880"/>
            <a:ext cx="0" cy="838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528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65280" y="29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27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5240" y="6248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928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Classification: Face Value or Confidence in Class?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3962520"/>
          <a:ext cx="12347640" cy="433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962520"/>
                    <a:ext cx="12347640" cy="43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597600" y="294012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We have a cho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8000" y="8350200"/>
            <a:ext cx="95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What is the “rule”? Is there a European consens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Questions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 fontScale="96000"/>
          </a:bodyPr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Is that it? If the nutrients assessment gives moderate status is that then the ecological status i.e. “one out all out”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What if the biological quality elements are all at least “good”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Can we “override” the chemistry with the biology i.e. use a “weight of evidence” approach before downgrading to moderate statu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Normative definition for nutrients at good status says </a:t>
            </a: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“Nutrient concentrations do not exceed the levels established so as to ensure the functioning of the ecosystem and the achievement of the values specified above for the biological quality elements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1104876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Chlorophyll assessments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5124240" cy="6629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629400" y="2743200"/>
            <a:ext cx="512460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Opportunistic algae - BAD!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11963520" cy="655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1104876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Opportunistic algae - not too bad!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11353680" cy="6572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1104876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Nutrients in Coastal Waters</a:t>
            </a:r>
            <a:br>
              <a:rPr sz="4800"/>
            </a:b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Decision Tree - “Weight of Evidence”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3124080"/>
            <a:ext cx="2341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Coastal Wa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All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8720" y="3048120"/>
            <a:ext cx="2410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Is Winter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829800" y="3200400"/>
            <a:ext cx="199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  <a:ea typeface="ヒラギノ明朝 Pro W3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5040" y="4572000"/>
            <a:ext cx="2410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Is Winter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753480" y="4724280"/>
            <a:ext cx="199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ヒラギノ明朝 Pro W3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647712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ヒラギノ明朝 Pro W3"/>
              </a:rPr>
              <a:t>MOD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3581280"/>
            <a:ext cx="15238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3505320"/>
            <a:ext cx="15238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58200" y="5029200"/>
            <a:ext cx="12193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5562720"/>
            <a:ext cx="0" cy="8380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5280" y="441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765280" y="29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27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5240" y="57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9280" y="4038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7467480"/>
            <a:ext cx="419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Are all biological elements at least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2920" y="4038480"/>
            <a:ext cx="0" cy="533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7086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91920" y="7696080"/>
            <a:ext cx="199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ヒラギノ明朝 Pro W3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296280" y="7924680"/>
            <a:ext cx="12193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679680" y="731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883908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ヒラギノ明朝 Pro W3"/>
              </a:rPr>
              <a:t>MOD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8458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9280" y="8381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Summary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 fontScale="96000"/>
          </a:bodyPr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Are nutrients decisive in classifying ecological status i.e. strict “one out all out” approach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Can we use biological evidence to “override” the chemistry i.e. the “weight of evidence” approach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Is the latter compliant with the normative definition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Adoption of the latter does NOT mean we don’t take action to reduce nutrient levels through programmes of measur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We do have choices in both compliance statistics and the abo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84200" indent="-478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We DO need a European consensu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4343400"/>
            <a:ext cx="1191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THANK YOU FOR YOUR ATTEN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7400" y="1119240"/>
            <a:ext cx="3276360" cy="5827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90880" y="2988000"/>
            <a:ext cx="248508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General condi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Physico-chemical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elements (by typ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06280" y="1092240"/>
            <a:ext cx="1334880" cy="3668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7400" y="7180200"/>
            <a:ext cx="3276360" cy="1887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1080" y="2878200"/>
            <a:ext cx="1444680" cy="52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1080" y="4032360"/>
            <a:ext cx="1444680" cy="52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L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186520"/>
            <a:ext cx="1444680" cy="52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rans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1080" y="6337440"/>
            <a:ext cx="1444680" cy="52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a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5840" y="1898640"/>
            <a:ext cx="3351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5840" y="2111400"/>
            <a:ext cx="335160" cy="210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5840" y="2322360"/>
            <a:ext cx="33516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5840" y="2530440"/>
            <a:ext cx="3351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5840" y="2743200"/>
            <a:ext cx="3351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83120" y="1898640"/>
            <a:ext cx="328680" cy="212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83120" y="2111400"/>
            <a:ext cx="328680" cy="21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83120" y="2322360"/>
            <a:ext cx="32868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3120" y="2530440"/>
            <a:ext cx="32868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83120" y="2743200"/>
            <a:ext cx="32868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5720" y="1898640"/>
            <a:ext cx="334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35720" y="2111400"/>
            <a:ext cx="334800" cy="210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35720" y="2322360"/>
            <a:ext cx="3348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35720" y="2530440"/>
            <a:ext cx="334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35720" y="2743200"/>
            <a:ext cx="334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2640" y="1157400"/>
            <a:ext cx="29422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Ecological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Biological quality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240" y="7599240"/>
            <a:ext cx="144144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3240" y="7967520"/>
            <a:ext cx="1441440" cy="365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7840" y="7184880"/>
            <a:ext cx="1271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hem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9640" y="8470800"/>
            <a:ext cx="2375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Compliance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European Annex X EQS &amp; DSD Li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7560" y="5121720"/>
            <a:ext cx="35092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pecific pollutants (Annex VIII EQ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45520" y="1084320"/>
            <a:ext cx="1328760" cy="5973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10840" y="1193040"/>
            <a:ext cx="721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Bi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19400" y="3255840"/>
            <a:ext cx="898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cond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35960" y="5386320"/>
            <a:ext cx="869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ollu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02720" y="1546200"/>
            <a:ext cx="334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02720" y="1839960"/>
            <a:ext cx="334800" cy="293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02720" y="2133720"/>
            <a:ext cx="3348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802720" y="2427120"/>
            <a:ext cx="33480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02720" y="2722680"/>
            <a:ext cx="33480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1136880"/>
            <a:ext cx="117144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s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2360" y="1638360"/>
            <a:ext cx="979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360" y="5722920"/>
            <a:ext cx="14745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/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4680" y="2158920"/>
            <a:ext cx="155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54680" y="6037200"/>
            <a:ext cx="155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4200" y="7885080"/>
            <a:ext cx="14745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/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54680" y="8238960"/>
            <a:ext cx="446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71160" y="1652760"/>
            <a:ext cx="1003320" cy="587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71160" y="2239920"/>
            <a:ext cx="1003320" cy="587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71160" y="2827440"/>
            <a:ext cx="1003320" cy="583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71160" y="3411360"/>
            <a:ext cx="1003320" cy="587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171160" y="3998880"/>
            <a:ext cx="1003320" cy="588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32040" y="57240"/>
            <a:ext cx="9372600" cy="40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Surface Water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60320" y="533520"/>
            <a:ext cx="23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02760" y="1135080"/>
            <a:ext cx="1146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E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30040" y="7188120"/>
            <a:ext cx="1333440" cy="1887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98160" y="7711920"/>
            <a:ext cx="1000080" cy="590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98160" y="8302680"/>
            <a:ext cx="100008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060640" y="7192800"/>
            <a:ext cx="1271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hem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76080" y="4812480"/>
            <a:ext cx="2074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NB for high status hydr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phological conditions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achieve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3480" y="3555000"/>
            <a:ext cx="190332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ment and monitorin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8560" y="4870440"/>
            <a:ext cx="13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36640" y="3089160"/>
            <a:ext cx="331920" cy="3562560"/>
          </a:xfrm>
          <a:custGeom>
            <a:avLst/>
            <a:gdLst>
              <a:gd name="textAreaLeft" fmla="*/ 0 w 331920"/>
              <a:gd name="textAreaRight" fmla="*/ 119880 w 331920"/>
              <a:gd name="textAreaTop" fmla="*/ 92880 h 3562560"/>
              <a:gd name="textAreaBottom" fmla="*/ 3469680 h 356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74"/>
                </a:lnTo>
                <a:cubicBezTo>
                  <a:pt x="10800" y="9874"/>
                  <a:pt x="16200" y="10774"/>
                  <a:pt x="21600" y="10774"/>
                </a:cubicBezTo>
                <a:cubicBezTo>
                  <a:pt x="16200" y="10774"/>
                  <a:pt x="10800" y="11674"/>
                  <a:pt x="10800" y="125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60320" y="3946680"/>
            <a:ext cx="979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359240"/>
            <a:ext cx="156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7240"/>
            <a:ext cx="3632040" cy="407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Characte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7440" y="1601640"/>
            <a:ext cx="1185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45480" y="216684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5480" y="433548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5480" y="650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0078920" y="4659120"/>
            <a:ext cx="0" cy="18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078920" y="465948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792360" y="3805200"/>
            <a:ext cx="979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9480" y="5527800"/>
            <a:ext cx="65700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9480" y="6394320"/>
            <a:ext cx="6570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59480" y="5961240"/>
            <a:ext cx="657000" cy="417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69160" y="5743440"/>
            <a:ext cx="65736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69160" y="6610320"/>
            <a:ext cx="65736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69160" y="6176880"/>
            <a:ext cx="657360" cy="417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6600" bIns="666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27800" y="487692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27800" y="466416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27800" y="444348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27800" y="4226040"/>
            <a:ext cx="333360" cy="212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27800" y="401004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59480" y="4010040"/>
            <a:ext cx="334800" cy="212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59480" y="4226040"/>
            <a:ext cx="334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9480" y="4443480"/>
            <a:ext cx="334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59480" y="4664160"/>
            <a:ext cx="334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59480" y="4876920"/>
            <a:ext cx="33480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78960" y="379260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78960" y="4010040"/>
            <a:ext cx="333360" cy="212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78960" y="422604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78960" y="444348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78960" y="4664160"/>
            <a:ext cx="33336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Nutrients in UK Trac Classification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7400" y="2806200"/>
            <a:ext cx="11036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177840" tIns="50760" bIns="50760" anchor="t">
            <a:normAutofit/>
          </a:bodyPr>
          <a:p>
            <a:pPr marL="504720" indent="-49824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he UK has developed environmental standards for Dissolved Inorganic Nitrogen (DIN) in transitional and coastal wate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04720" indent="-49824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hese standards define the H/G and G/M boundaries for DIN measured over the winter perio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04720" indent="-49824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We have tried to ensure that these criteria are aligned with existing criteria used in e.g. marine conventions (OSPAR) wherever possi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04720" indent="-49824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hese standards/thresholds can be used for both classification of ecological status and for setting objectives and programmes of measur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Nutrients, WFD and OSPAR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3429000"/>
          <a:ext cx="13716000" cy="5369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429000"/>
                    <a:ext cx="13716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7760" y="15872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Nutrients and Salinity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5800" y="2971800"/>
            <a:ext cx="11963520" cy="6248520"/>
            <a:chOff x="685800" y="2971800"/>
            <a:chExt cx="11963520" cy="6248520"/>
          </a:xfrm>
        </p:grpSpPr>
        <p:graphicFrame>
          <p:nvGraphicFramePr>
            <p:cNvPr id="176" name=""/>
            <p:cNvGraphicFramePr/>
            <p:nvPr/>
          </p:nvGraphicFramePr>
          <p:xfrm>
            <a:off x="685800" y="2971800"/>
            <a:ext cx="11963520" cy="624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2971800"/>
                      <a:ext cx="11963520" cy="624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2443320" y="5428440"/>
              <a:ext cx="289116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3600" y="1218960"/>
            <a:ext cx="1228068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Generic Nutrient Standards/Thresholds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04920" y="3352680"/>
          <a:ext cx="13334760" cy="549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352680"/>
                    <a:ext cx="13334760" cy="54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Chlorophyll and Light Climate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2819520"/>
          <a:ext cx="10058400" cy="636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819520"/>
                    <a:ext cx="100584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1104912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Generic Nutrient Standards/Thresholds plus Turbidity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05120" y="2666880"/>
          <a:ext cx="10362960" cy="739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10362960" cy="73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1104876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Nutrients in Coastal Waters</a:t>
            </a:r>
            <a:br>
              <a:rPr sz="4800"/>
            </a:br>
            <a:r>
              <a:rPr b="1" lang="en-GB" sz="4800" spc="-1" strike="noStrike">
                <a:solidFill>
                  <a:srgbClr val="004796"/>
                </a:solidFill>
                <a:latin typeface="Arial"/>
              </a:rPr>
              <a:t>Decision Tree</a:t>
            </a:r>
            <a:endParaRPr b="1" lang="en-US" sz="4800" spc="-1" strike="noStrike">
              <a:solidFill>
                <a:srgbClr val="00479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3124080"/>
            <a:ext cx="2341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Coastal Wa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All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8720" y="3048120"/>
            <a:ext cx="2410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Is Winter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29800" y="3200400"/>
            <a:ext cx="199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  <a:ea typeface="ヒラギノ明朝 Pro W3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5040" y="5105520"/>
            <a:ext cx="2410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Is Winter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753480" y="5334120"/>
            <a:ext cx="199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ヒラギノ明朝 Pro W3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701028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ヒラギノ明朝 Pro W3"/>
              </a:rPr>
              <a:t>MOD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581280"/>
            <a:ext cx="15238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29600" y="3505320"/>
            <a:ext cx="15238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40384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5638680"/>
            <a:ext cx="12193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6095880"/>
            <a:ext cx="0" cy="838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6528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65280" y="29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27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5240" y="6248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928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ヒラギノ明朝 Pro W3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Emmerson</dc:creator>
  <dc:description/>
  <dc:language>en-US</dc:language>
  <cp:lastModifiedBy>DJowett</cp:lastModifiedBy>
  <dcterms:modified xsi:type="dcterms:W3CDTF">2007-05-23T13:08:49Z</dcterms:modified>
  <cp:revision>19</cp:revision>
  <dc:subject/>
  <dc:title>PowerPoint Presentation</dc:title>
</cp:coreProperties>
</file>