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7BB9-6677-447E-82BF-B8D61925F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911F-5F2C-4E31-B4E2-0122276F1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1646-913C-4CC5-87E4-530FF38D3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2006-857A-4848-A8AE-99C6FCA09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2618-A3CF-4D83-A711-0303B7596C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E547-FB51-4BB2-A87D-A9C280252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158F-F516-4E0C-8ABD-B40B93339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AD86-273E-4342-B32C-38AB860D3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FDAA-02EE-497C-8E26-76D90F2EC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5328-53D5-4F35-AEDD-892D32B16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35C2-C9C0-4F0E-97C1-D4D1C1666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EFC7-6169-4887-944D-3C68EEB87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C42-69E9-4DAC-9ADC-FDA73A5E67C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3244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324480"/>
            <a:ext cx="20574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Jorge RODRIGUEZ ROM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16680" y="152280"/>
            <a:ext cx="1076400" cy="9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380880" y="304920"/>
          <a:ext cx="102240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04920"/>
                    <a:ext cx="10224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324000" y="1125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U Water Framework Dir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2565360"/>
            <a:ext cx="8136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ne-out all-out princ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8960" y="4289400"/>
            <a:ext cx="4781520" cy="15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Verdana"/>
              </a:rPr>
              <a:t>Workshop on monitoring and classification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Verdana"/>
              </a:rPr>
              <a:t>Paris, 11-12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4d4d4d"/>
                </a:solidFill>
                <a:latin typeface="Verdana"/>
              </a:rPr>
              <a:t>Jorge Rodriguez Rom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Verdana"/>
              </a:rPr>
              <a:t>European Commission, DG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Verdana"/>
              </a:rPr>
              <a:t>Unit D.2 – Water and Marine, WFD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400536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85D7-7DE4-4A0E-B08D-1A7822FD5E2D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Why do we need the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one-out all-out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424160"/>
            <a:ext cx="843588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FD addresses all pressures and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iological quality elements respond differently to the various pres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one biological quality element is failing due to an impact this should be add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nex V section 1.4.2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“For surface water categories, the ecological status classification for the body of water shall be represented by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he lower of the values for the biological and physico-chemical monitoring results for the relevant quality element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classified in accordance with the first column of the table set out below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high-good-moderate-poor-bad]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6E7E-38E8-4E5D-8F9A-AD73D8860F31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9000" y="1806480"/>
            <a:ext cx="2050560" cy="398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Macroinverteb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1520" y="2509920"/>
            <a:ext cx="1529640" cy="398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Phytobenth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7920" y="3228840"/>
            <a:ext cx="1430280" cy="398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Macroph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6920" y="3922560"/>
            <a:ext cx="596880" cy="398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F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44520" y="4664160"/>
            <a:ext cx="1473120" cy="3218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Arial"/>
              </a:rPr>
              <a:t>Physico-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62520" y="5311800"/>
            <a:ext cx="1501920" cy="3218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Arial"/>
              </a:rPr>
              <a:t>Hydromorp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9400" y="3355920"/>
            <a:ext cx="606600" cy="0"/>
          </a:xfrm>
          <a:prstGeom prst="line">
            <a:avLst/>
          </a:prstGeom>
          <a:ln w="442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869080" y="2421000"/>
            <a:ext cx="647640" cy="1871280"/>
            <a:chOff x="5869080" y="2421000"/>
            <a:chExt cx="647640" cy="1871280"/>
          </a:xfrm>
        </p:grpSpPr>
        <p:sp>
          <p:nvSpPr>
            <p:cNvPr id="62" name=""/>
            <p:cNvSpPr/>
            <p:nvPr/>
          </p:nvSpPr>
          <p:spPr>
            <a:xfrm>
              <a:off x="5869080" y="2421000"/>
              <a:ext cx="647640" cy="374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9080" y="2795040"/>
              <a:ext cx="647640" cy="3740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o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9080" y="3169440"/>
              <a:ext cx="647640" cy="37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e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9080" y="3543840"/>
              <a:ext cx="647640" cy="37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9080" y="3918240"/>
              <a:ext cx="647640" cy="374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" name=""/>
          <p:cNvCxnSpPr>
            <a:stCxn id="54" idx="3"/>
            <a:endCxn id="68" idx="1"/>
          </p:cNvCxnSpPr>
          <p:nvPr/>
        </p:nvCxnSpPr>
        <p:spPr>
          <a:xfrm>
            <a:off x="2968560" y="2011320"/>
            <a:ext cx="883440" cy="13708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5" idx="3"/>
            <a:endCxn id="68" idx="1"/>
          </p:cNvCxnSpPr>
          <p:nvPr/>
        </p:nvCxnSpPr>
        <p:spPr>
          <a:xfrm>
            <a:off x="2449440" y="2714760"/>
            <a:ext cx="1402560" cy="6674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6" idx="3"/>
            <a:endCxn id="68" idx="1"/>
          </p:cNvCxnSpPr>
          <p:nvPr/>
        </p:nvCxnSpPr>
        <p:spPr>
          <a:xfrm flipV="1">
            <a:off x="2346480" y="3380760"/>
            <a:ext cx="1505520" cy="529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3"/>
            <a:endCxn id="68" idx="1"/>
          </p:cNvCxnSpPr>
          <p:nvPr/>
        </p:nvCxnSpPr>
        <p:spPr>
          <a:xfrm flipV="1">
            <a:off x="1520640" y="3381120"/>
            <a:ext cx="2331000" cy="7466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8" idx="3"/>
            <a:endCxn id="68" idx="1"/>
          </p:cNvCxnSpPr>
          <p:nvPr/>
        </p:nvCxnSpPr>
        <p:spPr>
          <a:xfrm flipV="1">
            <a:off x="2720880" y="3380760"/>
            <a:ext cx="1131120" cy="1448280"/>
          </a:xfrm>
          <a:prstGeom prst="straightConnector1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9" idx="3"/>
            <a:endCxn id="68" idx="1"/>
          </p:cNvCxnSpPr>
          <p:nvPr/>
        </p:nvCxnSpPr>
        <p:spPr>
          <a:xfrm flipV="1">
            <a:off x="2771280" y="3380760"/>
            <a:ext cx="1080360" cy="2096280"/>
          </a:xfrm>
          <a:prstGeom prst="straightConnector1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51280" y="2563920"/>
            <a:ext cx="1289160" cy="163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9520" y="1699560"/>
            <a:ext cx="5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735120" y="2902320"/>
            <a:ext cx="201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Inter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9520" y="2293200"/>
            <a:ext cx="5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40" y="2994840"/>
            <a:ext cx="45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440" y="3715560"/>
            <a:ext cx="45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3355920"/>
            <a:ext cx="606600" cy="0"/>
          </a:xfrm>
          <a:prstGeom prst="line">
            <a:avLst/>
          </a:prstGeom>
          <a:ln w="442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305840" y="2708280"/>
            <a:ext cx="1587240" cy="1293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769160" y="2311560"/>
            <a:ext cx="637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51400" y="1989000"/>
            <a:ext cx="16668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8560" y="2003400"/>
            <a:ext cx="15796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35280" y="4508640"/>
            <a:ext cx="518472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mbination rules shou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nsure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comparability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(need to have common princi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e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transparent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(what does each colour me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354400" y="3213000"/>
            <a:ext cx="96840" cy="43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460600" y="2492280"/>
            <a:ext cx="96840" cy="43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978280" y="1805040"/>
            <a:ext cx="91800" cy="404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33600" y="3917880"/>
            <a:ext cx="10152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738520" y="4653000"/>
            <a:ext cx="8100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790720" y="5305320"/>
            <a:ext cx="8100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A414-9F83-46A5-8868-27FACC0C7AB1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Principles of combination rules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in the Classification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69440" cy="532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48360" y="4365720"/>
            <a:ext cx="503280" cy="165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89800" y="2708280"/>
            <a:ext cx="503280" cy="165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65600" y="3616200"/>
            <a:ext cx="115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7776-9A4C-4D56-AD5D-D006D4AB70C3}" type="slidenum">
              <a:t>4</a:t>
            </a:fld>
          </a:p>
        </p:txBody>
      </p:sp>
    </p:spTree>
  </p:cSld>
  <p:transition spd="med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Confidence and precision of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24160"/>
            <a:ext cx="843588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y assessment method produces false positives and false 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reliability of the resulting classification will depend on the reliability of the individual results used in the combination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FD requires to estimate confidence and precision of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minimum confidence and precision is needed to use the results for classification (for any combination rule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re is plenty of guidance on how to improve confidence and precision in the ECOSTAT Classification Gu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7F60-CF45-4C0C-985B-DE0AF0D09BE4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Improving confidence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in unclear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424160"/>
            <a:ext cx="843588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rease monitoring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 additional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prove robustness of the methods (selection of sampling sites, sampling method, taxonomic level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ake account of local spatial and tempor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ake account of pressure/impact analysis and carry out detailed ad-hoc surveys if necessary (e.g. field surve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 investigative monitoring where 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1AD1-827A-4E8C-BEF2-572D5509D26A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Conclusion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one-out all-out principle is a key element in the WFD as it ensures that all pressures and impacts ar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is should be recalled when developing combination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 transparen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ranslate one-out all-out in a set of operational rules that respect the principles and suit your assessment metho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velop clear minimum confidence and precision criteria for results to be taken into 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plain how you reduce and manage the risks of false positives or false neg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plain under which circumstances you may disregard certain results (certain quality elements in certain types, certain natural circumstances, 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CD21-DFDB-44D2-B54D-4FE1B2048C7B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Conclusions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munic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re is a need to find a way to present the classification results in a comparable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 efficient and flexible in monitoring programmes (adaptive management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ocus monitoring efforts on non-clear cut cases, reduce spending in clear “high or good” or “less than good”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 ad hoc pressure/impact analysis and/or investigative monitoring to increase confidence and certainty in unclear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6264-1A10-4FEC-A895-76F1C8D0CFEE}" type="slidenum">
              <a:t>8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8:34:07Z</dcterms:created>
  <dc:creator>DG Env</dc:creator>
  <dc:description/>
  <dc:language>en-US</dc:language>
  <cp:lastModifiedBy>Utilisateur</cp:lastModifiedBy>
  <cp:lastPrinted>2003-03-03T08:23:23Z</cp:lastPrinted>
  <dcterms:modified xsi:type="dcterms:W3CDTF">2007-06-11T08:48:23Z</dcterms:modified>
  <cp:revision>409</cp:revision>
  <dc:subject/>
  <dc:title>Amendment of the COM Proposal on the list of priority substances including the identification of priority hazardous substances </dc:title>
</cp:coreProperties>
</file>